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4D1-46A0-4C5E-A7A2-0B1313D9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FCC-A0B9-4F10-8E0B-BF965622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64C-A7ED-4C89-B6C3-7BBF602A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F7B-226D-48BD-B8B3-7646F187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4D71-B82F-459B-A20E-ADF368A12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D519-4172-4CD2-96F6-796572B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9B58-696D-4B48-92CE-CE20E056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8E05-4BD4-4466-95B6-B17713F9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956-A215-48ED-AAFB-62D3D97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B6E4-D0ED-4600-844B-236DD46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6446-4170-4F8F-8D7C-7519A1A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C6C7-286C-4350-B641-2DF2CB8B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C48F-CBB1-4A83-A432-9A8F5A24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B2F-4DAA-4551-B9E6-D3E47205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6746-E026-4629-BC72-8704FB2F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8BF4-84FB-465E-97B5-2290E70B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86F7-0EB6-440D-B34B-1CC0D099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96F-D517-4E7B-A54E-C390C927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EBF-C3B3-41A2-A334-9A22D972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261-0FC6-4ECB-B2E7-3DE10E38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9798-CB68-46AD-BE5E-EBF2A7D9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859-6D46-4B2E-93F4-5368E402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014-56BB-4FC4-BFD3-1F4AF50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AEA-6932-4675-BF45-F43B87CA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94EE-3F34-4F4E-BF52-7A82647052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FDE9-07AF-477C-B50B-50B797683ECD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ima.cs.berkeley.ed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niversity of Berkeley, 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aima.cs.berkeley.ed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DEE0-DD14-427A-9BFE-8BC0E2C1A0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DAB6-9A18-4B91-AA62-EC3B54AA6C8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0EEE-FADF-48AA-9AFE-4BEBA0F2D0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88EB-9800-49E2-A238-91DB37BAE8A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6092-746C-437E-A86E-1437E572A73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5628-B7F3-43C7-BB6F-8663D216CA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29D6-1F15-44C8-B8A9-AEBD783D79D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80DC-B2C0-4BD9-9048-D1DE552D69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6F62-52BF-400C-B4BF-3A7F6489CF2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15A7-E09E-474A-BC2C-C46DFD769F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CC16-A978-4470-ABF1-B18B5EFB7B9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EE97-668F-4FBD-AA06-BBEECD7AF6E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CC17-C0FC-4125-8175-9ADA37FE8E3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C66C-FDBB-4890-A4A7-7EF513E7A73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C380-D84B-4EA1-B4CB-8A8F337C0BC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7D71-9525-425A-AB05-FEE6DE392A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8671-43EF-43E8-9586-757693AF9FC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0E9-3858-4180-99B9-3103CFED065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B27F-BFE6-44CE-8D79-F3F01543352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00B-3916-4B28-B4E0-F8EB60119B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A301-A4CF-422B-B501-160E3C28096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5783-010B-4F8E-A107-A264C88E6C2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79A0-17D6-40AB-B5FD-A0E63525B5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D85-C7F5-47A8-9240-26145A03E7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6F8-3DCB-4512-8035-525312E2187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13D3-591C-489F-BE13-9190191C08A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8ED3-9B8D-4355-81A6-53A34B8972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5E0A-CCF4-4F92-8DFC-4825157DB3F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0965-30DC-4576-BA64-76487022D96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ACCA-35B9-46F1-B15A-294618ADA63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5A33-317C-4B41-B2FA-3FB0F8F9B5F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971-8CA7-4A69-81C0-1FC0575CE25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08FF-4B07-4603-93F8-D63588005E6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AA0C-E52B-4EF5-9B0A-5A9EC94583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8537-7887-4993-BD63-B37C79D0AEF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432C-1AF9-47F8-9E37-D7D39D97799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FE58-DF32-49F4-A1CF-CFC973A2ECD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9986-969D-4336-8BE7-E71C8BCD833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94EA-AA12-4B14-9E55-AD66FA7B724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1CC8-20A5-4E2A-AB06-0717EF6364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3141-2478-4BB6-BE61-EDB6960DF34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C21-8C8A-4957-A73F-0A1B738954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47ED-3FB4-4B09-8C79-C5E9C0517E6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C42-5359-4D98-80EA-5426B382AEE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C4EF-6F7B-42AC-8192-4B6837B078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D53-F01D-46AC-A679-D69A00CC2A0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98D-2BFA-4DC6-8E32-02C7C90B58A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CA0-CDC4-4CF3-AFB6-247D7D88E2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AAC-3D80-4412-91CC-133E2CE6995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5714-8A1C-4D09-97FA-F2D1784E821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5832-A788-47E0-85C6-EDBD23E7791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1F84-4282-4E8A-B353-95EC92A089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E910-A3CD-4575-A65F-8EA9F7A2696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618-E33A-4C14-88AD-79C2CA3286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57C5-AED7-45B4-B689-6DD780241C0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D9B3-4243-453A-A680-307DC959E98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822E-B01B-4909-BD16-067A2D11EEE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0F2A-5E9F-40C9-972D-867AE844526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A08-DB50-4DDA-9D10-1784EE3EB46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987-EE14-4F32-97E8-D019D6CF99D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237D-5CB5-4F77-9D1C-0EB369885C1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73A0-A02E-421A-9E56-623D4B6A583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E4D5-01B2-4480-8E13-6820C6C4D58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85D0-04BC-42B8-801F-89D6743A658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76D5-63FF-4E18-91E2-EEBD19A9533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7113-FBF6-4CF9-8072-B82DFBEA452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44A6-5431-4F49-B0D3-67CBEB4CDF7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F3A6-D127-406E-BB98-ED0371E3C6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F298-CE5E-4FB9-9C8D-276BE814AB5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60DE-D85A-4693-8B63-3EA3963BF39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916D-8542-45D3-B0E3-FB4E79A16BB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B99C-6505-4912-8E5E-618BDBEB10F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E067-F46A-45F5-A91E-2012600B328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A8F9-6718-457C-B33F-62236617934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Basit</cp:lastModifiedBy>
  <dcterms:modified xsi:type="dcterms:W3CDTF">2010-09-11T06:34:23Z</dcterms:modified>
  <cp:revision>96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