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6C3-C41C-432A-BDFE-85D1EC4F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2BD-09BA-421E-8598-A20ED38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759-B80C-4C96-8F17-81F9429E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067-5C44-40A0-9B83-48094CEF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7419-D779-4775-8364-722CE853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B434-3B8F-48AF-AF8F-AD5F6568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CC61-66F8-4A47-B917-FA2AC95A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DA6C-AC37-4560-88FE-8DB0584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BFDB-2E96-435C-B962-9E7154C3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DF6F-DB29-4A52-AEAA-7EEF40C5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45FA-D156-4ED2-9529-8E59B4A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7D4-D169-4649-A827-EE21C3E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2E45-D9BD-4C31-BFB1-AD63B355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3174-46E9-42FD-A079-CA1A015F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4E85-0855-473C-BEE1-E0107EE0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D4C0-6AF0-46AE-876D-644C853A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3A33-16B5-4DAC-8D9A-D693BE56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6FC-AF2A-40D5-A2C8-AB62563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E24-EB86-47D0-8743-17A29868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B13-3578-4CE3-BC9A-108D720A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79E-FF2A-43AF-9AE0-2549414D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6C4-09B5-4727-A55E-4208433F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F2C-8C42-465F-A932-8A81336A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0B6-605B-4799-AF3E-5261D332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4BAD-4AA5-427E-8837-47F690FFF1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5A62-450D-44BD-B93F-A7F93733D08F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ima.cs.berkeley.ed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niversity of Berkeley, 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http://www.aima.cs.berkeley.ed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E63-7F59-42BE-8A68-6ACD20E0F09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B09-6C89-4C2F-9CD7-515B64E3BC4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6080-1FCF-4F35-88C4-B505D24999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1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7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3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6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9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26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29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1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87DA-FABE-4001-8BB3-E8B691E0F8E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52" name="Oval 6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55" name="Oval 10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58" name="Oval 13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61" name="Oval 16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18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64" name="Oval 19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7" name="Oval 22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24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70" name="Oval 25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Line 27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77" name="Oval 32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3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80" name="Oval 35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36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Line 37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8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3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4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Line 129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3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9A3-8AE7-45DA-8502-765C6163BDE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0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0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1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1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1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1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2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2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3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85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EEEE-1DD8-48B8-8C18-D73CFC24606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5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5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6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6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6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7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7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8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8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85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A01-2E52-41B3-A884-50010701DA6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0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1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1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1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2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2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2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3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3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85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A5E-345F-476F-B153-841FB9E0B5A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6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6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6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6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7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7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7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8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8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86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1D9F-F904-4F7A-9345-B7D748B8096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12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15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18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21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24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27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30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37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40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86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347B-8809-430D-8685-8D803533FF2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6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6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7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7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7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7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8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8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9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86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826-40C7-4C19-BCE5-820878A8F21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1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1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2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2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2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3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3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4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4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86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FE3F-B06C-480F-80F8-38A150B9930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6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7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7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7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8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8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8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9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9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9F86-0498-428B-9546-12773E57F02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1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Text Box 42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476-CEE0-4F78-B12D-73ADB0557A5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5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28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1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4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6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5210-EB68-461F-931B-EB74A309076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4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52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55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58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61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3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66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69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1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EEB-8EBE-4642-8564-17BF7124447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9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9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9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9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1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02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4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05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7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12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15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7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5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36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8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4394-83AA-476C-8B5E-60AE736B81A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43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46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49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52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55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7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58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0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4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65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68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89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1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FCC-8B5B-4316-A248-246B888E592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97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00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03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5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06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09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12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4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15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1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22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25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7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9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Oval 86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9186-2419-4FD5-A4FC-665951E33E7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F2EA-D95B-4808-8C68-44B8F83ABAA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4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5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5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5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6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6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6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7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7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7CD-FB0E-475F-A28F-FAB52F24C90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9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2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200-5009-4C2B-9416-6EA78FA3DAB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1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7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2D8A-AE36-4A2A-9455-FB0207F8244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2D31-50E3-4398-B5AE-5525F1A6B84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6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6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88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0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05D7-F556-41B2-AFA7-BD66794C428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9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9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0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0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7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08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0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24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27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9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43A-3E9D-438C-A1F0-9CA5C54AB74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7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38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0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41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3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44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6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47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50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2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5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66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8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69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1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FD0-9E3C-477B-A2CF-D27BF62F484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8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8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8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8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9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9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9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20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20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 Box 5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51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8492-9B32-4413-B02F-B4F8CB8F571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AB1F-8CD3-4769-954F-2800E6846B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11" name="Group 38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2" name="Oval 39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Text Box 40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41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5" name="Oval 42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43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44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8" name="Oval 45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46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47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21" name="Oval 48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49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50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4" name="Oval 51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52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7" name="Oval 54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55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56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30" name="Oval 57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58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9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3" name="Oval 60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Text Box 61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62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6" name="Oval 63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64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65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9" name="Oval 66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67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68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2" name="Oval 69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Text Box 70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71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5" name="Oval 72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Text Box 73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7" name="Oval 74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87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61" name="Oval 88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Text Box 89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90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4" name="Oval 91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92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" name="Line 93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94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95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Oval 96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7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E870-172A-4C47-8015-397D5282CFB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0AB6-1E9F-4543-A25C-00E4D92929B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7" name="Group 6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38" name="Oval 7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Text Box 8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41" name="Oval 10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44" name="Oval 13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6" name="Group 15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47" name="Oval 16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9" name="Group 18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50" name="Oval 19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2" name="Group 24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53" name="Oval 25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7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56" name="Oval 28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Text Box 29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8" name="Group 30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59" name="Oval 31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1" name="Group 33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62" name="Oval 34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Text Box 35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4" name="Group 36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65" name="Oval 37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Text Box 38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Group 39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68" name="Oval 40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Text Box 41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0" name="Oval 42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Text Box 43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4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45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46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47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Line 51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3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2" name="Group 55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83" name="Oval 56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Text Box 57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5" name="Group 58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86" name="Oval 59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Text Box 60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8" name="Line 61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62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63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1" name="Group 73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92" name="Line 64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65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Line 66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3FC-D456-477B-B4AA-626F5B5E46D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2" name="Group 86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303" name="Group 3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304" name="Oval 4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5" name="Text Box 5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6" name="Group 6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307" name="Oval 7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8" name="Text Box 8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9" name="Group 9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310" name="Oval 10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2" name="Group 12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313" name="Oval 13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4" name="Text Box 14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5" name="Group 15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316" name="Oval 16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7" name="Text Box 17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8" name="Group 18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319" name="Oval 19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0" name="Text Box 20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21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322" name="Oval 22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3" name="Text Box 23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4" name="Line 24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Line 25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Text Box 26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8" name="Group 28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329" name="Oval 29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0" name="Text Box 30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1" name="Group 31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332" name="Oval 32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3" name="Text Box 33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4" name="Line 34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Line 35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Line 36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Text Box 37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Line 38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Line 39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Line 40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Line 41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Text Box 42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Text Box 43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Text Box 44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Text Box 45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46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Text Box 47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Text Box 48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Text Box 85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A98B-93AB-4680-A867-16D392A15A9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5" name="Text Box 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8822-7E01-45C8-A1E2-69EDE623D27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6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6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6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0" name="Line 1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Text Box 2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8E8-014E-4C27-8A53-B2E171E9750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8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9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0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2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B5E3-18AB-45BC-87A2-F1AA6E221B2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0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3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5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6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8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2" name="Group 37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53" name="Oval 38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Text Box 39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5" name="Line 40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FAAF-B7DC-4C4B-B8ED-CDDA6640F82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6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6" name="Group 12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67" name="Oval 13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Text Box 14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9" name="Group 15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0" name="Oval 16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Text Box 17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2" name="Group 18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3" name="Oval 19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Text Box 20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5" name="Group 21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76" name="Oval 22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Text Box 23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8" name="Line 24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0" name="Group 28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1" name="Oval 29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Text Box 30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Group 31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84" name="Oval 32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33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6" name="Line 34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35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36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37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38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39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40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Text Box 4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Text Box 44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45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47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85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86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87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88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89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0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1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4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5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DC38-083B-4B07-B79B-13F4A232B8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1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1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1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1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2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4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25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30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2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33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5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6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57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9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810E-675D-412C-A7F0-32A11B040AE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6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6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6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7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7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8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79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1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84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6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87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0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11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3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357-5A88-4DB7-8090-C433EC2019C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F8F4-6102-4CD3-9C54-124203620C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7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18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0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21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3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24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27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630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633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5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7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638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641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3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4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65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7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A05A-80BA-430D-BA23-B2DB1F5B06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7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7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8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8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8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8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9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9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70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E26-E8E9-406A-B3A9-5FD281FC06D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2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7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223C-26BC-4D67-8E34-A0018346B4D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3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3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3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4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8D9B-1369-4D48-A4D0-ADED6B3AB5D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5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58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61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64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67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72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4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CD99-B9D0-4F0B-96BE-61897DC8ECC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9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9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9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9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0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0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0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0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4" name="Group 54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825" name="Oval 55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Text Box 56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7" name="Line 57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58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Text Box 59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D65-A12A-4AF7-8D42-D7ACD991E75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3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3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4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5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2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53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5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3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4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6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25D-9B00-45DF-ABA8-2BAE87CEBF0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0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3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1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4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6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8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9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7FC5-4EFB-4CD3-8279-AF8DA38F6F8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4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0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1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2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3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4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4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5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6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7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9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80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1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2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0C09-2E86-4B2B-9AE3-84BE1C38715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8543-BD48-4520-9777-BFE445B4DA0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6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7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9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90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2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3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5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6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8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9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1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4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6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7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9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7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8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2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3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4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5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8DFB-66DB-413D-A46C-654FA5269C4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204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204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204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204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205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57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9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60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1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2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0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81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5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86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7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8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2D60-01DF-4DF0-8B8F-1065B8B61D8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94AD-0AB2-4A78-8877-08668DDDD2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9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10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10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1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1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1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2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2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Text Box 87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48A2-3D26-4332-98AD-28C1584084C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62FA-5313-49E4-8A37-01F52720D14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4" name="Group 4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155" name="Group 5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156" name="Oval 6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Oval 7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Oval 8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Line 9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Line 10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Line 11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62" name="Text Box 12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Text Box 13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Text Box 14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Text Box 15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6" name="Text Box 16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409A-40D8-4C76-8973-BAF1BFD6F84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3022-830C-477F-9A13-8053E93FFB1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2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73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4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5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6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8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9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1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3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84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5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7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8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9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0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1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2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3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94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95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05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6" name="Text Box 37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294-6F11-4F31-887B-E40D446275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8F43-9947-4259-89AA-FDE3E1AA54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0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1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2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3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8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2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5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6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7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8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9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0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1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2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3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5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6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47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48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9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0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1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2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3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4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5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6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57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0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1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3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4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5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6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7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8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2" name="Text Box 68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B849-9F7F-4C6C-8490-536617921A3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5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76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8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9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4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5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6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87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9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0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1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2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3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4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5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6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97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98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9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0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1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2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3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4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8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9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10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11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2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13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4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5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6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7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8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9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0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1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22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3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4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25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26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27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28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9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0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1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2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3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4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5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6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7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8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39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40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1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2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3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4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5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6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7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8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9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0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1" name="Text Box 8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FE09-D296-493E-96AF-220467A577F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19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0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3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4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5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6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7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8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0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31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32" name="Rectangle 82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3" name="Rectangle 83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4" name="Rectangle 84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5" name="Rectangle 85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6" name="Rectangle 86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7" name="Rectangle 87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8" name="Rectangle 88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9" name="Rectangle 89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0" name="Rectangle 90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1" name="Text Box 91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42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3" name="Text Box 95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72A-000C-42F2-AB32-C58CE95FBC4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5" name="Group 2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446" name="Group 3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447" name="Text Box 4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8" name="Rectangle 5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9" name="Rectangle 6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0" name="Rectangle 7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1" name="Rectangle 8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2" name="Rectangle 9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3" name="Rectangle 10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4" name="Rectangle 11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5" name="Rectangle 12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6" name="Rectangle 13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7" name="Line 14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59" name="Group 16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60" name="Rectangle 17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18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19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3" name="Rectangle 20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Rectangle 21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2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3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4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8" name="Rectangle 25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9" name="Text Box 26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0" name="Group 27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71" name="Rectangle 28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Rectangle 29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3" name="Rectangle 30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4" name="Rectangle 31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5" name="Rectangle 32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Rectangle 33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Rectangle 34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8" name="Rectangle 35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Rectangle 36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0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81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82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83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84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5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6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7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8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9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0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1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2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93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94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5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96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97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8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99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0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1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2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3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4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5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6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7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08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9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510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511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2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3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4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5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6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7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8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9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0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1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2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523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524" name="Text Box 82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5" name="Rectangle 83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6" name="Rectangle 84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7" name="Rectangle 85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8" name="Rectangle 86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9" name="Rectangle 87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0" name="Rectangle 88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1" name="Rectangle 89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2" name="Rectangle 90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3" name="Rectangle 91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34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5" name="Group 93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536" name="Group 94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537" name="Rectangle 95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8" name="Rectangle 96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9" name="Rectangle 97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0" name="Rectangle 98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1" name="Rectangle 99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2" name="Rectangle 100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3" name="Rectangle 101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4" name="Rectangle 102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5" name="Rectangle 103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6" name="Text Box 104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7" name="Line 105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8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B36-D41D-4462-8F62-8A56432A0DC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52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4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5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6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7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8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9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1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2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63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4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5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6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7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8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9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0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1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2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73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74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5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6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7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8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9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0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1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2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3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4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5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3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C1C-DEFB-43AE-BA72-B5E04540BE8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9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0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1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1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2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40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1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2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3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4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5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6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7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8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9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0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1" name="Text Box 6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D30-1332-4012-8E94-0E00517442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1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0" name="Text Box 8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E65-FF9F-4F2B-ACB0-C98772BA4E0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33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34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5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6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7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8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9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4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45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6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7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8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4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55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56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7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8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9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0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1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2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3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4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5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6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68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69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0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71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2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3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4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5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6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7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8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9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80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1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2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83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84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85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86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7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8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9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0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1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2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4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95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6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97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98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9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2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3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4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5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6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7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8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9" name="Group 80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810" name="Rectangle 81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1" name="Rectangle 82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2" name="Rectangle 83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3" name="Rectangle 84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4" name="Rectangle 85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5" name="Rectangle 86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6" name="Rectangle 87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7" name="Rectangle 88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8" name="Text Box 89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9" name="Rectangle 90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91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Text Box 9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771-A8C4-402A-9797-C0B4E4D267A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2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2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3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4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4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5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5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6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6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6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7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7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7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7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8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8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8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9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0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01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02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3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4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5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6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7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8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9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0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1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12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3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14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15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6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7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8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9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0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1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2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3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4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5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6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B884-3403-4906-8414-26D653F6017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2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3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4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5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5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6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96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96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6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96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7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7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80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81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82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3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4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5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6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7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8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9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0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91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2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93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94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5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6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7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8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9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0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1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2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3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04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5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06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07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8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9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0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1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2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3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4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5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6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7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8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19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20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1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2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3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4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5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6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7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8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9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30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1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32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33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4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5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6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7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8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9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0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1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2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3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4" name="Text Box 11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2FD8-088D-4A9F-832C-41DA758F29A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8puzzle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960-276A-4563-9AAC-9033AEAC26F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47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3048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9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0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1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2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3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4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5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6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7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8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3059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0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1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2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3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4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5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6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7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8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3069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3070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1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2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3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4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5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6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7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8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9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0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1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82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83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4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85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6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7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8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9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0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1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2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3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94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5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6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97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98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99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100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1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2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3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4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5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6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7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8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109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0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111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112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3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4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5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6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7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8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9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0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1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2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3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124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125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6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7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8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9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0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1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2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3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4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35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6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137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138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9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0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1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2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3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4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5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6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7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48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9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150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151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2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3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4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5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6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7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8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9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0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61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2" name="Line 119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Text Box 12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4D6-C4AF-4210-94EA-EE3FD3D7C21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61B-F55D-4559-A022-B8850B55422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A101-1DCE-4CD3-B678-B3CF416A420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Basit</cp:lastModifiedBy>
  <dcterms:modified xsi:type="dcterms:W3CDTF">2010-09-11T06:34:23Z</dcterms:modified>
  <cp:revision>96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