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F5D-A143-492A-B22E-9F05163F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B2D-5B20-4EC2-9F67-A4E5966E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4A9-720A-42E1-A50B-D706C236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933-CE72-475E-8916-7812D7AF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F23B-C109-4519-A2AA-D6606F3D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20F8-591F-4656-8D9F-2A2D1B9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A724-8399-4342-A5B4-2BB8D291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A2D8-ECA1-4D98-85CE-DB0019D8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FF72-715E-4D95-A2A2-581CC004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E3E1-6823-4FE1-9F84-9C5373BA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0690-7B84-4722-B20F-65C73B2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F742-F6FC-4298-B49F-376D6849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D057-2DCF-4A12-B50D-A8635095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675E-86F0-4AF2-8A81-78CC68A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CD28-77AB-492C-B237-89D62B79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A04D-3565-44DD-AA02-6724C897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9056-8AF8-4F90-8BD2-C426CAEB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EE8-F9DE-4F5E-9F91-CA978F77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867-702E-42B8-8611-1502C460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502-F7D2-490F-A123-576C2C36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598-4626-4EA3-B266-AEF60EEF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4AC8-2811-4D3F-820B-0DA2E3BA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05A-8751-4FDB-9DC4-7CE06DC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CB8-63F0-4E73-A88A-2546EFE3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7467-C87F-4219-A8CD-B9A935E2FA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6D03-5FF6-4FD6-80CD-8691612EED92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nching_factor" TargetMode="External"/><Relationship Id="rId2" Type="http://schemas.openxmlformats.org/officeDocument/2006/relationships/hyperlink" Target="http://en.wikipedia.org/wiki/Branching_factor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faculty.ksu.edu.sa/YAloh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B946-4655-4DB6-91FD-4F723FC01A6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ditional 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dy Best 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s the successor node with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”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n) = 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the one that is nearest to the final state among all possible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*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first search using an “admissible” heuristic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akes into account the current c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returns the optimal solu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F395-0F71-4768-9033-9060CEC2D02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mplementation of Best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ST-FIRST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al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olution sequence, o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uing-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a function that sorts nodes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al-f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uing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 =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67EE-4744-4034-B883-396421436CC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1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04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07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3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6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9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26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29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1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F4BE-E9BE-4007-B8A1-5F4B5DE3470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52" name="Oval 6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4" name="Group 9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55" name="Oval 10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58" name="Oval 13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4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15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61" name="Oval 16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Text Box 17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3" name="Group 18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64" name="Oval 19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21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67" name="Oval 22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24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70" name="Oval 25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26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2" name="Line 27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28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9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77" name="Oval 32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Text Box 33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Group 34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80" name="Oval 35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36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Line 37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8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9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3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44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47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Line 129"/>
          <p:cNvSpPr/>
          <p:nvPr/>
        </p:nvSpPr>
        <p:spPr>
          <a:xfrm flipH="1">
            <a:off x="2057040" y="2286000"/>
            <a:ext cx="228600" cy="3581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3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CF82-BC47-4248-97E9-4076868C7F2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0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0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1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1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1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1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2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2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3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Line 85"/>
          <p:cNvSpPr/>
          <p:nvPr/>
        </p:nvSpPr>
        <p:spPr>
          <a:xfrm flipH="1">
            <a:off x="2133720" y="2895480"/>
            <a:ext cx="1218960" cy="2971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E891-1168-4B2B-9305-F74D9C797D3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5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5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6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6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6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7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7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8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8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Line 85"/>
          <p:cNvSpPr/>
          <p:nvPr/>
        </p:nvSpPr>
        <p:spPr>
          <a:xfrm>
            <a:off x="1295280" y="2971800"/>
            <a:ext cx="838440" cy="2895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BF49-BB96-40E3-B789-A04359B42D3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0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1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1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1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2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2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2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3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3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Line 85"/>
          <p:cNvSpPr/>
          <p:nvPr/>
        </p:nvSpPr>
        <p:spPr>
          <a:xfrm>
            <a:off x="762120" y="3809880"/>
            <a:ext cx="1295280" cy="2057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621F-EE12-4180-BC57-977A020B209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6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6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6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6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7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7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7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8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8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86"/>
          <p:cNvSpPr/>
          <p:nvPr/>
        </p:nvSpPr>
        <p:spPr>
          <a:xfrm flipH="1">
            <a:off x="2133360" y="3505320"/>
            <a:ext cx="228600" cy="23619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nformed (Heuristic) 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E57F-5E9E-4621-A2F0-B9DA299257B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12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15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18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21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24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6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27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9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30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2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6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37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40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86"/>
          <p:cNvSpPr/>
          <p:nvPr/>
        </p:nvSpPr>
        <p:spPr>
          <a:xfrm flipH="1">
            <a:off x="2133720" y="4343400"/>
            <a:ext cx="9144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9068-2AD3-41A4-9794-4BC4103D35C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6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6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7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7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7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7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8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8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9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Line 86"/>
          <p:cNvSpPr/>
          <p:nvPr/>
        </p:nvSpPr>
        <p:spPr>
          <a:xfrm>
            <a:off x="1676520" y="4419720"/>
            <a:ext cx="4572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EBF7-620D-4A9E-B1A6-B8275ADD29B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1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1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2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2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2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3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3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4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4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Line 86"/>
          <p:cNvSpPr/>
          <p:nvPr/>
        </p:nvSpPr>
        <p:spPr>
          <a:xfrm>
            <a:off x="1447920" y="518148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483D-1A73-40B0-86EA-10580C7741E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6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7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7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7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8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8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8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9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9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6CD7-EE6F-4400-B029-CF52E04BB6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1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1" name="Text Box 42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0473-198F-4E89-95C0-6AF01606AF4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25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7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28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0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31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34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6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FAFC-BF00-4479-BCA4-99A161632FB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4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4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1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52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4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55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58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0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61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3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5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66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69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1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3CFB-9681-4227-BA11-FE64FD13989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8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9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9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9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9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1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02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4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05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7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12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4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15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7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5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36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8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FAB5-8105-44AF-9C5B-C984EA9D1CB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42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843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5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846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8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849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1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852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55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7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58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0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4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65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68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0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89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1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Text Box 54"/>
          <p:cNvSpPr/>
          <p:nvPr/>
        </p:nvSpPr>
        <p:spPr>
          <a:xfrm>
            <a:off x="152280" y="6078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th cost(A-E-F-I) = 253 + 178 + 0 =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F-I) = 140 + 99 + 211 =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3D87-943A-4040-95DC-D43637C4043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Optimal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96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897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00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2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03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5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06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09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1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12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4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15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1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22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4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25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7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ext Box 49"/>
          <p:cNvSpPr/>
          <p:nvPr/>
        </p:nvSpPr>
        <p:spPr>
          <a:xfrm>
            <a:off x="3657600" y="5943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G-H-I) =140+80+97+101=</a:t>
            </a:r>
            <a:r>
              <a:rPr b="1" lang="en-US" sz="1800" spc="-1" strike="noStrike">
                <a:solidFill>
                  <a:srgbClr val="f466e0"/>
                </a:solidFill>
                <a:latin typeface="Tahoma"/>
              </a:rPr>
              <a:t>41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Oval 86"/>
          <p:cNvSpPr/>
          <p:nvPr/>
        </p:nvSpPr>
        <p:spPr>
          <a:xfrm>
            <a:off x="7924680" y="624852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ABB4-B3BC-47AE-B204-8310373627E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22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orporating knowledge into searching, one can have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a preference) on the search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 bias, one is forced to look everywhere to find the answer.  Hence, the complexity of uninformed search is intra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145120" y="28144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609588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verywher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52DB-A01A-46A7-B0C5-89DFEC048CB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Complet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4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94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5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5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5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6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6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6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7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7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6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D100-2D9E-486B-93E9-33886E68D70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9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2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230B-C3B1-4B1F-B694-12960CC9033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0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1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1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7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7EDE-321A-4328-93BB-315686D0ECE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3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3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3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3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4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C533-2C9E-439F-97AC-292C4121376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6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6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6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6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7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7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88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0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75FB-6F13-4E48-B262-5CF832C8DAB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9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9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0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0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7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08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0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3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24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6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27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9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A338-F575-4C6D-BED2-B15492FCC43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7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138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0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141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3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44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6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47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9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50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2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5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66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8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69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0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1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F53D-8158-4AD0-AED6-F7893162D0B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ime and Space Complexity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18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18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18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18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19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19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19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20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20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Text Box 5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Text Box 51"/>
          <p:cNvSpPr/>
          <p:nvPr/>
        </p:nvSpPr>
        <p:spPr>
          <a:xfrm>
            <a:off x="3733920" y="2133720"/>
            <a:ext cx="518148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not opti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incomplet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ithout systematic checking of repeated st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worst case, the Time and Space Complexity of Greedy Search are both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b is the branching factor and m the maximum path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* Sear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=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E61B-6FB5-43CD-9B94-0CC3AF858F9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dy Search minimizes a heuristic h(n) which is an estimated cost from a node n to the goal state. Greedy Search is efficient but it is not optimal nor comple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st Search minimizes the cost g(n) from the initial state to n. UCS is optimal and complete but not 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trate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bine Greedy Search and UCS to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hm which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te and opt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A917-83AA-425C-96AE-BFCA70B2DCF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knowledge, one can search the state space as if he was given “hints” when exploring a ma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 information in search = 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dramatic speed up in efficienc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7"/>
          <p:cNvGrpSpPr/>
          <p:nvPr/>
        </p:nvGrpSpPr>
        <p:grpSpPr>
          <a:xfrm>
            <a:off x="2133720" y="3962520"/>
            <a:ext cx="5333400" cy="2702520"/>
            <a:chOff x="2133720" y="3962520"/>
            <a:chExt cx="5333400" cy="2702520"/>
          </a:xfrm>
        </p:grpSpPr>
        <p:grpSp>
          <p:nvGrpSpPr>
            <p:cNvPr id="111" name="Group 38"/>
            <p:cNvGrpSpPr/>
            <p:nvPr/>
          </p:nvGrpSpPr>
          <p:grpSpPr>
            <a:xfrm>
              <a:off x="4537800" y="3962520"/>
              <a:ext cx="525600" cy="368280"/>
              <a:chOff x="4537800" y="3962520"/>
              <a:chExt cx="525600" cy="368280"/>
            </a:xfrm>
          </p:grpSpPr>
          <p:sp>
            <p:nvSpPr>
              <p:cNvPr id="112" name="Oval 39"/>
              <p:cNvSpPr/>
              <p:nvPr/>
            </p:nvSpPr>
            <p:spPr>
              <a:xfrm>
                <a:off x="4537800" y="396252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Text Box 40"/>
              <p:cNvSpPr/>
              <p:nvPr/>
            </p:nvSpPr>
            <p:spPr>
              <a:xfrm>
                <a:off x="4687920" y="396252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41"/>
            <p:cNvGrpSpPr/>
            <p:nvPr/>
          </p:nvGrpSpPr>
          <p:grpSpPr>
            <a:xfrm>
              <a:off x="2809800" y="4487760"/>
              <a:ext cx="525600" cy="368280"/>
              <a:chOff x="2809800" y="4487760"/>
              <a:chExt cx="525600" cy="368280"/>
            </a:xfrm>
          </p:grpSpPr>
          <p:sp>
            <p:nvSpPr>
              <p:cNvPr id="115" name="Oval 42"/>
              <p:cNvSpPr/>
              <p:nvPr/>
            </p:nvSpPr>
            <p:spPr>
              <a:xfrm>
                <a:off x="28098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43"/>
              <p:cNvSpPr/>
              <p:nvPr/>
            </p:nvSpPr>
            <p:spPr>
              <a:xfrm>
                <a:off x="29599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44"/>
            <p:cNvGrpSpPr/>
            <p:nvPr/>
          </p:nvGrpSpPr>
          <p:grpSpPr>
            <a:xfrm>
              <a:off x="4086720" y="4487760"/>
              <a:ext cx="525600" cy="368280"/>
              <a:chOff x="4086720" y="4487760"/>
              <a:chExt cx="525600" cy="368280"/>
            </a:xfrm>
          </p:grpSpPr>
          <p:sp>
            <p:nvSpPr>
              <p:cNvPr id="118" name="Oval 45"/>
              <p:cNvSpPr/>
              <p:nvPr/>
            </p:nvSpPr>
            <p:spPr>
              <a:xfrm>
                <a:off x="40867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46"/>
              <p:cNvSpPr/>
              <p:nvPr/>
            </p:nvSpPr>
            <p:spPr>
              <a:xfrm>
                <a:off x="42368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47"/>
            <p:cNvGrpSpPr/>
            <p:nvPr/>
          </p:nvGrpSpPr>
          <p:grpSpPr>
            <a:xfrm>
              <a:off x="6941520" y="4487760"/>
              <a:ext cx="525600" cy="368280"/>
              <a:chOff x="6941520" y="4487760"/>
              <a:chExt cx="525600" cy="368280"/>
            </a:xfrm>
          </p:grpSpPr>
          <p:sp>
            <p:nvSpPr>
              <p:cNvPr id="121" name="Oval 48"/>
              <p:cNvSpPr/>
              <p:nvPr/>
            </p:nvSpPr>
            <p:spPr>
              <a:xfrm>
                <a:off x="69415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49"/>
              <p:cNvSpPr/>
              <p:nvPr/>
            </p:nvSpPr>
            <p:spPr>
              <a:xfrm>
                <a:off x="70916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50"/>
            <p:cNvGrpSpPr/>
            <p:nvPr/>
          </p:nvGrpSpPr>
          <p:grpSpPr>
            <a:xfrm>
              <a:off x="5364000" y="4487760"/>
              <a:ext cx="525600" cy="368280"/>
              <a:chOff x="5364000" y="4487760"/>
              <a:chExt cx="525600" cy="368280"/>
            </a:xfrm>
          </p:grpSpPr>
          <p:sp>
            <p:nvSpPr>
              <p:cNvPr id="124" name="Oval 51"/>
              <p:cNvSpPr/>
              <p:nvPr/>
            </p:nvSpPr>
            <p:spPr>
              <a:xfrm>
                <a:off x="53640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52"/>
              <p:cNvSpPr/>
              <p:nvPr/>
            </p:nvSpPr>
            <p:spPr>
              <a:xfrm>
                <a:off x="55141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53"/>
            <p:cNvGrpSpPr/>
            <p:nvPr/>
          </p:nvGrpSpPr>
          <p:grpSpPr>
            <a:xfrm>
              <a:off x="2133720" y="5013000"/>
              <a:ext cx="525600" cy="368280"/>
              <a:chOff x="2133720" y="5013000"/>
              <a:chExt cx="525600" cy="368280"/>
            </a:xfrm>
          </p:grpSpPr>
          <p:sp>
            <p:nvSpPr>
              <p:cNvPr id="127" name="Oval 54"/>
              <p:cNvSpPr/>
              <p:nvPr/>
            </p:nvSpPr>
            <p:spPr>
              <a:xfrm>
                <a:off x="213372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55"/>
              <p:cNvSpPr/>
              <p:nvPr/>
            </p:nvSpPr>
            <p:spPr>
              <a:xfrm>
                <a:off x="228384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56"/>
            <p:cNvGrpSpPr/>
            <p:nvPr/>
          </p:nvGrpSpPr>
          <p:grpSpPr>
            <a:xfrm>
              <a:off x="3335760" y="5013000"/>
              <a:ext cx="525600" cy="368280"/>
              <a:chOff x="3335760" y="5013000"/>
              <a:chExt cx="525600" cy="368280"/>
            </a:xfrm>
          </p:grpSpPr>
          <p:sp>
            <p:nvSpPr>
              <p:cNvPr id="130" name="Oval 57"/>
              <p:cNvSpPr/>
              <p:nvPr/>
            </p:nvSpPr>
            <p:spPr>
              <a:xfrm>
                <a:off x="33357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58"/>
              <p:cNvSpPr/>
              <p:nvPr/>
            </p:nvSpPr>
            <p:spPr>
              <a:xfrm>
                <a:off x="34858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59"/>
            <p:cNvGrpSpPr/>
            <p:nvPr/>
          </p:nvGrpSpPr>
          <p:grpSpPr>
            <a:xfrm>
              <a:off x="4462560" y="5013000"/>
              <a:ext cx="525600" cy="368280"/>
              <a:chOff x="4462560" y="5013000"/>
              <a:chExt cx="525600" cy="368280"/>
            </a:xfrm>
          </p:grpSpPr>
          <p:sp>
            <p:nvSpPr>
              <p:cNvPr id="133" name="Oval 60"/>
              <p:cNvSpPr/>
              <p:nvPr/>
            </p:nvSpPr>
            <p:spPr>
              <a:xfrm>
                <a:off x="44625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Text Box 61"/>
              <p:cNvSpPr/>
              <p:nvPr/>
            </p:nvSpPr>
            <p:spPr>
              <a:xfrm>
                <a:off x="46126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5" name="Group 62"/>
            <p:cNvGrpSpPr/>
            <p:nvPr/>
          </p:nvGrpSpPr>
          <p:grpSpPr>
            <a:xfrm>
              <a:off x="5213880" y="5013000"/>
              <a:ext cx="525600" cy="368280"/>
              <a:chOff x="5213880" y="5013000"/>
              <a:chExt cx="525600" cy="368280"/>
            </a:xfrm>
          </p:grpSpPr>
          <p:sp>
            <p:nvSpPr>
              <p:cNvPr id="136" name="Oval 63"/>
              <p:cNvSpPr/>
              <p:nvPr/>
            </p:nvSpPr>
            <p:spPr>
              <a:xfrm>
                <a:off x="521388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Text Box 64"/>
              <p:cNvSpPr/>
              <p:nvPr/>
            </p:nvSpPr>
            <p:spPr>
              <a:xfrm>
                <a:off x="536400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8" name="Group 65"/>
            <p:cNvGrpSpPr/>
            <p:nvPr/>
          </p:nvGrpSpPr>
          <p:grpSpPr>
            <a:xfrm>
              <a:off x="6190200" y="5013000"/>
              <a:ext cx="525600" cy="368280"/>
              <a:chOff x="6190200" y="5013000"/>
              <a:chExt cx="525600" cy="368280"/>
            </a:xfrm>
          </p:grpSpPr>
          <p:sp>
            <p:nvSpPr>
              <p:cNvPr id="139" name="Oval 66"/>
              <p:cNvSpPr/>
              <p:nvPr/>
            </p:nvSpPr>
            <p:spPr>
              <a:xfrm>
                <a:off x="619020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67"/>
              <p:cNvSpPr/>
              <p:nvPr/>
            </p:nvSpPr>
            <p:spPr>
              <a:xfrm>
                <a:off x="634032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1" name="Group 68"/>
            <p:cNvGrpSpPr/>
            <p:nvPr/>
          </p:nvGrpSpPr>
          <p:grpSpPr>
            <a:xfrm>
              <a:off x="2809800" y="5654880"/>
              <a:ext cx="525600" cy="368280"/>
              <a:chOff x="2809800" y="5654880"/>
              <a:chExt cx="525600" cy="368280"/>
            </a:xfrm>
          </p:grpSpPr>
          <p:sp>
            <p:nvSpPr>
              <p:cNvPr id="142" name="Oval 69"/>
              <p:cNvSpPr/>
              <p:nvPr/>
            </p:nvSpPr>
            <p:spPr>
              <a:xfrm>
                <a:off x="280980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Text Box 70"/>
              <p:cNvSpPr/>
              <p:nvPr/>
            </p:nvSpPr>
            <p:spPr>
              <a:xfrm>
                <a:off x="295992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4" name="Group 71"/>
            <p:cNvGrpSpPr/>
            <p:nvPr/>
          </p:nvGrpSpPr>
          <p:grpSpPr>
            <a:xfrm>
              <a:off x="3786480" y="5654880"/>
              <a:ext cx="525600" cy="368280"/>
              <a:chOff x="3786480" y="5654880"/>
              <a:chExt cx="525600" cy="368280"/>
            </a:xfrm>
          </p:grpSpPr>
          <p:sp>
            <p:nvSpPr>
              <p:cNvPr id="145" name="Oval 72"/>
              <p:cNvSpPr/>
              <p:nvPr/>
            </p:nvSpPr>
            <p:spPr>
              <a:xfrm>
                <a:off x="378648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Text Box 73"/>
              <p:cNvSpPr/>
              <p:nvPr/>
            </p:nvSpPr>
            <p:spPr>
              <a:xfrm>
                <a:off x="393660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7" name="Oval 74"/>
            <p:cNvSpPr/>
            <p:nvPr/>
          </p:nvSpPr>
          <p:spPr>
            <a:xfrm>
              <a:off x="3786480" y="6296760"/>
              <a:ext cx="525600" cy="2919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75"/>
            <p:cNvSpPr/>
            <p:nvPr/>
          </p:nvSpPr>
          <p:spPr>
            <a:xfrm>
              <a:off x="3936600" y="6296760"/>
              <a:ext cx="3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H="1">
              <a:off x="3185280" y="4254120"/>
              <a:ext cx="15775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H="1">
              <a:off x="4462560" y="4254120"/>
              <a:ext cx="3002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78"/>
            <p:cNvSpPr/>
            <p:nvPr/>
          </p:nvSpPr>
          <p:spPr>
            <a:xfrm>
              <a:off x="4763160" y="4254120"/>
              <a:ext cx="750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>
              <a:off x="4763160" y="4254120"/>
              <a:ext cx="2403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80"/>
            <p:cNvSpPr/>
            <p:nvPr/>
          </p:nvSpPr>
          <p:spPr>
            <a:xfrm flipH="1">
              <a:off x="2433600" y="4779360"/>
              <a:ext cx="6008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81"/>
            <p:cNvSpPr/>
            <p:nvPr/>
          </p:nvSpPr>
          <p:spPr>
            <a:xfrm>
              <a:off x="3035160" y="4779360"/>
              <a:ext cx="5256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82"/>
            <p:cNvSpPr/>
            <p:nvPr/>
          </p:nvSpPr>
          <p:spPr>
            <a:xfrm>
              <a:off x="4462560" y="4779360"/>
              <a:ext cx="1501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83"/>
            <p:cNvSpPr/>
            <p:nvPr/>
          </p:nvSpPr>
          <p:spPr>
            <a:xfrm flipH="1">
              <a:off x="5439240" y="477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84"/>
            <p:cNvSpPr/>
            <p:nvPr/>
          </p:nvSpPr>
          <p:spPr>
            <a:xfrm>
              <a:off x="5664600" y="4779360"/>
              <a:ext cx="67608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85"/>
            <p:cNvSpPr/>
            <p:nvPr/>
          </p:nvSpPr>
          <p:spPr>
            <a:xfrm flipH="1">
              <a:off x="3110040" y="5304600"/>
              <a:ext cx="52560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86"/>
            <p:cNvSpPr/>
            <p:nvPr/>
          </p:nvSpPr>
          <p:spPr>
            <a:xfrm>
              <a:off x="3636000" y="5304600"/>
              <a:ext cx="3754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" name="Group 87"/>
            <p:cNvGrpSpPr/>
            <p:nvPr/>
          </p:nvGrpSpPr>
          <p:grpSpPr>
            <a:xfrm>
              <a:off x="5288760" y="5654880"/>
              <a:ext cx="525600" cy="368280"/>
              <a:chOff x="5288760" y="5654880"/>
              <a:chExt cx="525600" cy="368280"/>
            </a:xfrm>
          </p:grpSpPr>
          <p:sp>
            <p:nvSpPr>
              <p:cNvPr id="161" name="Oval 88"/>
              <p:cNvSpPr/>
              <p:nvPr/>
            </p:nvSpPr>
            <p:spPr>
              <a:xfrm>
                <a:off x="528876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Text Box 89"/>
              <p:cNvSpPr/>
              <p:nvPr/>
            </p:nvSpPr>
            <p:spPr>
              <a:xfrm>
                <a:off x="543888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90"/>
            <p:cNvGrpSpPr/>
            <p:nvPr/>
          </p:nvGrpSpPr>
          <p:grpSpPr>
            <a:xfrm>
              <a:off x="6415560" y="5596560"/>
              <a:ext cx="525600" cy="368280"/>
              <a:chOff x="6415560" y="5596560"/>
              <a:chExt cx="525600" cy="368280"/>
            </a:xfrm>
          </p:grpSpPr>
          <p:sp>
            <p:nvSpPr>
              <p:cNvPr id="164" name="Oval 91"/>
              <p:cNvSpPr/>
              <p:nvPr/>
            </p:nvSpPr>
            <p:spPr>
              <a:xfrm>
                <a:off x="6415560" y="5596560"/>
                <a:ext cx="525600" cy="291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Text Box 92"/>
              <p:cNvSpPr/>
              <p:nvPr/>
            </p:nvSpPr>
            <p:spPr>
              <a:xfrm>
                <a:off x="6565680" y="55965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6" name="Line 93"/>
            <p:cNvSpPr/>
            <p:nvPr/>
          </p:nvSpPr>
          <p:spPr>
            <a:xfrm>
              <a:off x="5514120" y="530460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94"/>
            <p:cNvSpPr/>
            <p:nvPr/>
          </p:nvSpPr>
          <p:spPr>
            <a:xfrm>
              <a:off x="6566040" y="5304600"/>
              <a:ext cx="7488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95"/>
            <p:cNvSpPr/>
            <p:nvPr/>
          </p:nvSpPr>
          <p:spPr>
            <a:xfrm flipH="1">
              <a:off x="4011840" y="594684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Oval 96"/>
          <p:cNvSpPr/>
          <p:nvPr/>
        </p:nvSpPr>
        <p:spPr>
          <a:xfrm>
            <a:off x="2057400" y="3886200"/>
            <a:ext cx="2514600" cy="297180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7"/>
          <p:cNvSpPr/>
          <p:nvPr/>
        </p:nvSpPr>
        <p:spPr>
          <a:xfrm>
            <a:off x="304920" y="4724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only in this subtre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5652-5B38-4FFE-B068-BB16158868A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 uses a heuristic function which combines g(n) and h(n): 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exact cost to reach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initial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stimation of the remaining cost to reach the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C984-8A9F-4E49-BE9F-F756E75EDB0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37" name="Group 6"/>
          <p:cNvGrpSpPr/>
          <p:nvPr/>
        </p:nvGrpSpPr>
        <p:grpSpPr>
          <a:xfrm>
            <a:off x="4915080" y="2057400"/>
            <a:ext cx="609120" cy="474480"/>
            <a:chOff x="4915080" y="2057400"/>
            <a:chExt cx="609120" cy="474480"/>
          </a:xfrm>
        </p:grpSpPr>
        <p:sp>
          <p:nvSpPr>
            <p:cNvPr id="1238" name="Oval 7"/>
            <p:cNvSpPr/>
            <p:nvPr/>
          </p:nvSpPr>
          <p:spPr>
            <a:xfrm>
              <a:off x="4915080" y="2057400"/>
              <a:ext cx="60912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9" name="Text Box 8"/>
            <p:cNvSpPr/>
            <p:nvPr/>
          </p:nvSpPr>
          <p:spPr>
            <a:xfrm>
              <a:off x="5088960" y="2057400"/>
              <a:ext cx="435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0" name="Group 9"/>
          <p:cNvGrpSpPr/>
          <p:nvPr/>
        </p:nvGrpSpPr>
        <p:grpSpPr>
          <a:xfrm>
            <a:off x="2916360" y="2911320"/>
            <a:ext cx="607680" cy="473040"/>
            <a:chOff x="2916360" y="2911320"/>
            <a:chExt cx="607680" cy="473040"/>
          </a:xfrm>
        </p:grpSpPr>
        <p:sp>
          <p:nvSpPr>
            <p:cNvPr id="1241" name="Oval 10"/>
            <p:cNvSpPr/>
            <p:nvPr/>
          </p:nvSpPr>
          <p:spPr>
            <a:xfrm>
              <a:off x="29163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2" name="Text Box 11"/>
            <p:cNvSpPr/>
            <p:nvPr/>
          </p:nvSpPr>
          <p:spPr>
            <a:xfrm>
              <a:off x="30898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3" name="Group 12"/>
          <p:cNvGrpSpPr/>
          <p:nvPr/>
        </p:nvGrpSpPr>
        <p:grpSpPr>
          <a:xfrm>
            <a:off x="4394160" y="2911320"/>
            <a:ext cx="607680" cy="473040"/>
            <a:chOff x="4394160" y="2911320"/>
            <a:chExt cx="607680" cy="473040"/>
          </a:xfrm>
        </p:grpSpPr>
        <p:sp>
          <p:nvSpPr>
            <p:cNvPr id="1244" name="Oval 13"/>
            <p:cNvSpPr/>
            <p:nvPr/>
          </p:nvSpPr>
          <p:spPr>
            <a:xfrm>
              <a:off x="43941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45676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6" name="Group 15"/>
          <p:cNvGrpSpPr/>
          <p:nvPr/>
        </p:nvGrpSpPr>
        <p:grpSpPr>
          <a:xfrm>
            <a:off x="7697880" y="2911320"/>
            <a:ext cx="607680" cy="473040"/>
            <a:chOff x="7697880" y="2911320"/>
            <a:chExt cx="607680" cy="473040"/>
          </a:xfrm>
        </p:grpSpPr>
        <p:sp>
          <p:nvSpPr>
            <p:cNvPr id="1247" name="Oval 16"/>
            <p:cNvSpPr/>
            <p:nvPr/>
          </p:nvSpPr>
          <p:spPr>
            <a:xfrm>
              <a:off x="769788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787140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9" name="Group 18"/>
          <p:cNvGrpSpPr/>
          <p:nvPr/>
        </p:nvGrpSpPr>
        <p:grpSpPr>
          <a:xfrm>
            <a:off x="5872320" y="2911320"/>
            <a:ext cx="607320" cy="473040"/>
            <a:chOff x="5872320" y="2911320"/>
            <a:chExt cx="607320" cy="473040"/>
          </a:xfrm>
        </p:grpSpPr>
        <p:sp>
          <p:nvSpPr>
            <p:cNvPr id="1250" name="Oval 19"/>
            <p:cNvSpPr/>
            <p:nvPr/>
          </p:nvSpPr>
          <p:spPr>
            <a:xfrm>
              <a:off x="5872320" y="2911320"/>
              <a:ext cx="60732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1" name="Text Box 20"/>
            <p:cNvSpPr/>
            <p:nvPr/>
          </p:nvSpPr>
          <p:spPr>
            <a:xfrm>
              <a:off x="6045840" y="2911320"/>
              <a:ext cx="43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2" name="Group 24"/>
          <p:cNvGrpSpPr/>
          <p:nvPr/>
        </p:nvGrpSpPr>
        <p:grpSpPr>
          <a:xfrm>
            <a:off x="3524400" y="3763800"/>
            <a:ext cx="607680" cy="474480"/>
            <a:chOff x="3524400" y="3763800"/>
            <a:chExt cx="607680" cy="474480"/>
          </a:xfrm>
        </p:grpSpPr>
        <p:sp>
          <p:nvSpPr>
            <p:cNvPr id="1253" name="Oval 25"/>
            <p:cNvSpPr/>
            <p:nvPr/>
          </p:nvSpPr>
          <p:spPr>
            <a:xfrm>
              <a:off x="3524400" y="3763800"/>
              <a:ext cx="607680" cy="4744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6"/>
            <p:cNvSpPr/>
            <p:nvPr/>
          </p:nvSpPr>
          <p:spPr>
            <a:xfrm>
              <a:off x="3697920" y="3763800"/>
              <a:ext cx="4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7"/>
          <p:cNvGrpSpPr/>
          <p:nvPr/>
        </p:nvGrpSpPr>
        <p:grpSpPr>
          <a:xfrm>
            <a:off x="4829040" y="3763800"/>
            <a:ext cx="607680" cy="474480"/>
            <a:chOff x="4829040" y="3763800"/>
            <a:chExt cx="607680" cy="474480"/>
          </a:xfrm>
        </p:grpSpPr>
        <p:sp>
          <p:nvSpPr>
            <p:cNvPr id="1256" name="Oval 28"/>
            <p:cNvSpPr/>
            <p:nvPr/>
          </p:nvSpPr>
          <p:spPr>
            <a:xfrm>
              <a:off x="482904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Text Box 29"/>
            <p:cNvSpPr/>
            <p:nvPr/>
          </p:nvSpPr>
          <p:spPr>
            <a:xfrm>
              <a:off x="500256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8" name="Group 30"/>
          <p:cNvGrpSpPr/>
          <p:nvPr/>
        </p:nvGrpSpPr>
        <p:grpSpPr>
          <a:xfrm>
            <a:off x="5697360" y="3763800"/>
            <a:ext cx="609480" cy="474480"/>
            <a:chOff x="5697360" y="3763800"/>
            <a:chExt cx="609480" cy="474480"/>
          </a:xfrm>
        </p:grpSpPr>
        <p:sp>
          <p:nvSpPr>
            <p:cNvPr id="1259" name="Oval 31"/>
            <p:cNvSpPr/>
            <p:nvPr/>
          </p:nvSpPr>
          <p:spPr>
            <a:xfrm>
              <a:off x="5697360" y="3763800"/>
              <a:ext cx="6094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0" name="Text Box 32"/>
            <p:cNvSpPr/>
            <p:nvPr/>
          </p:nvSpPr>
          <p:spPr>
            <a:xfrm>
              <a:off x="5871240" y="3763800"/>
              <a:ext cx="43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1" name="Group 33"/>
          <p:cNvGrpSpPr/>
          <p:nvPr/>
        </p:nvGrpSpPr>
        <p:grpSpPr>
          <a:xfrm>
            <a:off x="6827760" y="3763800"/>
            <a:ext cx="607680" cy="474480"/>
            <a:chOff x="6827760" y="3763800"/>
            <a:chExt cx="607680" cy="474480"/>
          </a:xfrm>
        </p:grpSpPr>
        <p:sp>
          <p:nvSpPr>
            <p:cNvPr id="1262" name="Oval 34"/>
            <p:cNvSpPr/>
            <p:nvPr/>
          </p:nvSpPr>
          <p:spPr>
            <a:xfrm>
              <a:off x="682776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3" name="Text Box 35"/>
            <p:cNvSpPr/>
            <p:nvPr/>
          </p:nvSpPr>
          <p:spPr>
            <a:xfrm>
              <a:off x="700128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4" name="Group 36"/>
          <p:cNvGrpSpPr/>
          <p:nvPr/>
        </p:nvGrpSpPr>
        <p:grpSpPr>
          <a:xfrm>
            <a:off x="2916360" y="4807080"/>
            <a:ext cx="607680" cy="474120"/>
            <a:chOff x="2916360" y="4807080"/>
            <a:chExt cx="607680" cy="474120"/>
          </a:xfrm>
        </p:grpSpPr>
        <p:sp>
          <p:nvSpPr>
            <p:cNvPr id="1265" name="Oval 37"/>
            <p:cNvSpPr/>
            <p:nvPr/>
          </p:nvSpPr>
          <p:spPr>
            <a:xfrm>
              <a:off x="291636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6" name="Text Box 38"/>
            <p:cNvSpPr/>
            <p:nvPr/>
          </p:nvSpPr>
          <p:spPr>
            <a:xfrm>
              <a:off x="308988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7" name="Group 39"/>
          <p:cNvGrpSpPr/>
          <p:nvPr/>
        </p:nvGrpSpPr>
        <p:grpSpPr>
          <a:xfrm>
            <a:off x="4046400" y="4807080"/>
            <a:ext cx="607680" cy="474120"/>
            <a:chOff x="4046400" y="4807080"/>
            <a:chExt cx="607680" cy="474120"/>
          </a:xfrm>
        </p:grpSpPr>
        <p:sp>
          <p:nvSpPr>
            <p:cNvPr id="1268" name="Oval 40"/>
            <p:cNvSpPr/>
            <p:nvPr/>
          </p:nvSpPr>
          <p:spPr>
            <a:xfrm>
              <a:off x="404640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Text Box 41"/>
            <p:cNvSpPr/>
            <p:nvPr/>
          </p:nvSpPr>
          <p:spPr>
            <a:xfrm>
              <a:off x="421992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0" name="Oval 42"/>
          <p:cNvSpPr/>
          <p:nvPr/>
        </p:nvSpPr>
        <p:spPr>
          <a:xfrm>
            <a:off x="4046400" y="5850000"/>
            <a:ext cx="608040" cy="474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Text Box 43"/>
          <p:cNvSpPr/>
          <p:nvPr/>
        </p:nvSpPr>
        <p:spPr>
          <a:xfrm>
            <a:off x="4219560" y="5850000"/>
            <a:ext cx="4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Line 44"/>
          <p:cNvSpPr/>
          <p:nvPr/>
        </p:nvSpPr>
        <p:spPr>
          <a:xfrm flipH="1">
            <a:off x="3350880" y="2532240"/>
            <a:ext cx="18255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Line 45"/>
          <p:cNvSpPr/>
          <p:nvPr/>
        </p:nvSpPr>
        <p:spPr>
          <a:xfrm flipH="1">
            <a:off x="4829040" y="2532240"/>
            <a:ext cx="3477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Line 46"/>
          <p:cNvSpPr/>
          <p:nvPr/>
        </p:nvSpPr>
        <p:spPr>
          <a:xfrm>
            <a:off x="5176800" y="2532240"/>
            <a:ext cx="8683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Line 47"/>
          <p:cNvSpPr/>
          <p:nvPr/>
        </p:nvSpPr>
        <p:spPr>
          <a:xfrm>
            <a:off x="5176800" y="2532240"/>
            <a:ext cx="27813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Line 49"/>
          <p:cNvSpPr/>
          <p:nvPr/>
        </p:nvSpPr>
        <p:spPr>
          <a:xfrm>
            <a:off x="3176640" y="3384720"/>
            <a:ext cx="6080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Line 50"/>
          <p:cNvSpPr/>
          <p:nvPr/>
        </p:nvSpPr>
        <p:spPr>
          <a:xfrm>
            <a:off x="4829040" y="3384720"/>
            <a:ext cx="1731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Line 51"/>
          <p:cNvSpPr/>
          <p:nvPr/>
        </p:nvSpPr>
        <p:spPr>
          <a:xfrm flipH="1">
            <a:off x="5957640" y="3384720"/>
            <a:ext cx="2617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Line 52"/>
          <p:cNvSpPr/>
          <p:nvPr/>
        </p:nvSpPr>
        <p:spPr>
          <a:xfrm>
            <a:off x="6219720" y="3384720"/>
            <a:ext cx="782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Line 53"/>
          <p:cNvSpPr/>
          <p:nvPr/>
        </p:nvSpPr>
        <p:spPr>
          <a:xfrm flipH="1">
            <a:off x="3263400" y="4238640"/>
            <a:ext cx="6080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54"/>
          <p:cNvSpPr/>
          <p:nvPr/>
        </p:nvSpPr>
        <p:spPr>
          <a:xfrm>
            <a:off x="3871800" y="4238640"/>
            <a:ext cx="4352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2" name="Group 55"/>
          <p:cNvGrpSpPr/>
          <p:nvPr/>
        </p:nvGrpSpPr>
        <p:grpSpPr>
          <a:xfrm>
            <a:off x="5784840" y="4807080"/>
            <a:ext cx="607680" cy="474120"/>
            <a:chOff x="5784840" y="4807080"/>
            <a:chExt cx="607680" cy="474120"/>
          </a:xfrm>
        </p:grpSpPr>
        <p:sp>
          <p:nvSpPr>
            <p:cNvPr id="1283" name="Oval 56"/>
            <p:cNvSpPr/>
            <p:nvPr/>
          </p:nvSpPr>
          <p:spPr>
            <a:xfrm>
              <a:off x="578484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4" name="Text Box 57"/>
            <p:cNvSpPr/>
            <p:nvPr/>
          </p:nvSpPr>
          <p:spPr>
            <a:xfrm>
              <a:off x="595836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5" name="Group 58"/>
          <p:cNvGrpSpPr/>
          <p:nvPr/>
        </p:nvGrpSpPr>
        <p:grpSpPr>
          <a:xfrm>
            <a:off x="7088040" y="4713120"/>
            <a:ext cx="609480" cy="473040"/>
            <a:chOff x="7088040" y="4713120"/>
            <a:chExt cx="609480" cy="473040"/>
          </a:xfrm>
        </p:grpSpPr>
        <p:sp>
          <p:nvSpPr>
            <p:cNvPr id="1286" name="Oval 59"/>
            <p:cNvSpPr/>
            <p:nvPr/>
          </p:nvSpPr>
          <p:spPr>
            <a:xfrm>
              <a:off x="7088040" y="4713120"/>
              <a:ext cx="6094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7" name="Text Box 60"/>
            <p:cNvSpPr/>
            <p:nvPr/>
          </p:nvSpPr>
          <p:spPr>
            <a:xfrm>
              <a:off x="7261920" y="4713120"/>
              <a:ext cx="43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8" name="Line 61"/>
          <p:cNvSpPr/>
          <p:nvPr/>
        </p:nvSpPr>
        <p:spPr>
          <a:xfrm>
            <a:off x="6045120" y="4238640"/>
            <a:ext cx="874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Line 62"/>
          <p:cNvSpPr/>
          <p:nvPr/>
        </p:nvSpPr>
        <p:spPr>
          <a:xfrm>
            <a:off x="7262640" y="4238640"/>
            <a:ext cx="874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Line 63"/>
          <p:cNvSpPr/>
          <p:nvPr/>
        </p:nvSpPr>
        <p:spPr>
          <a:xfrm flipH="1">
            <a:off x="4307040" y="5281560"/>
            <a:ext cx="871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1" name="Group 73"/>
          <p:cNvGrpSpPr/>
          <p:nvPr/>
        </p:nvGrpSpPr>
        <p:grpSpPr>
          <a:xfrm>
            <a:off x="3504960" y="2666880"/>
            <a:ext cx="1447560" cy="990720"/>
            <a:chOff x="3504960" y="2666880"/>
            <a:chExt cx="1447560" cy="990720"/>
          </a:xfrm>
        </p:grpSpPr>
        <p:sp>
          <p:nvSpPr>
            <p:cNvPr id="1292" name="Line 64"/>
            <p:cNvSpPr/>
            <p:nvPr/>
          </p:nvSpPr>
          <p:spPr>
            <a:xfrm flipH="1">
              <a:off x="3504960" y="2666880"/>
              <a:ext cx="144756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Line 65"/>
            <p:cNvSpPr/>
            <p:nvPr/>
          </p:nvSpPr>
          <p:spPr>
            <a:xfrm>
              <a:off x="3505320" y="2971800"/>
              <a:ext cx="45684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4" name="Line 66"/>
          <p:cNvSpPr/>
          <p:nvPr/>
        </p:nvSpPr>
        <p:spPr>
          <a:xfrm>
            <a:off x="3809880" y="4419720"/>
            <a:ext cx="152640" cy="15238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Text Box 69"/>
          <p:cNvSpPr/>
          <p:nvPr/>
        </p:nvSpPr>
        <p:spPr>
          <a:xfrm>
            <a:off x="365760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Text Box 70"/>
          <p:cNvSpPr/>
          <p:nvPr/>
        </p:nvSpPr>
        <p:spPr>
          <a:xfrm>
            <a:off x="3276720" y="52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Text Box 72"/>
          <p:cNvSpPr/>
          <p:nvPr/>
        </p:nvSpPr>
        <p:spPr>
          <a:xfrm>
            <a:off x="1066680" y="3733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 = 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054E-2811-4FF3-BB42-A3F54D8BB76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2" name="Group 86"/>
          <p:cNvGrpSpPr/>
          <p:nvPr/>
        </p:nvGrpSpPr>
        <p:grpSpPr>
          <a:xfrm>
            <a:off x="380880" y="1828800"/>
            <a:ext cx="3429000" cy="4559400"/>
            <a:chOff x="380880" y="1828800"/>
            <a:chExt cx="3429000" cy="4559400"/>
          </a:xfrm>
        </p:grpSpPr>
        <p:grpSp>
          <p:nvGrpSpPr>
            <p:cNvPr id="1303" name="Group 3"/>
            <p:cNvGrpSpPr/>
            <p:nvPr/>
          </p:nvGrpSpPr>
          <p:grpSpPr>
            <a:xfrm>
              <a:off x="2133720" y="1981080"/>
              <a:ext cx="457200" cy="457200"/>
              <a:chOff x="2133720" y="1981080"/>
              <a:chExt cx="457200" cy="457200"/>
            </a:xfrm>
          </p:grpSpPr>
          <p:sp>
            <p:nvSpPr>
              <p:cNvPr id="1304" name="Oval 4"/>
              <p:cNvSpPr/>
              <p:nvPr/>
            </p:nvSpPr>
            <p:spPr>
              <a:xfrm>
                <a:off x="2133720" y="1981080"/>
                <a:ext cx="457200" cy="457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5" name="Text Box 5"/>
              <p:cNvSpPr/>
              <p:nvPr/>
            </p:nvSpPr>
            <p:spPr>
              <a:xfrm>
                <a:off x="2209680" y="2057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6" name="Group 6"/>
            <p:cNvGrpSpPr/>
            <p:nvPr/>
          </p:nvGrpSpPr>
          <p:grpSpPr>
            <a:xfrm>
              <a:off x="3200400" y="2514600"/>
              <a:ext cx="457200" cy="457200"/>
              <a:chOff x="3200400" y="2514600"/>
              <a:chExt cx="457200" cy="457200"/>
            </a:xfrm>
          </p:grpSpPr>
          <p:sp>
            <p:nvSpPr>
              <p:cNvPr id="1307" name="Oval 7"/>
              <p:cNvSpPr/>
              <p:nvPr/>
            </p:nvSpPr>
            <p:spPr>
              <a:xfrm>
                <a:off x="3200400" y="25146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8" name="Text Box 8"/>
              <p:cNvSpPr/>
              <p:nvPr/>
            </p:nvSpPr>
            <p:spPr>
              <a:xfrm>
                <a:off x="3276360" y="2590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9" name="Group 9"/>
            <p:cNvGrpSpPr/>
            <p:nvPr/>
          </p:nvGrpSpPr>
          <p:grpSpPr>
            <a:xfrm>
              <a:off x="533520" y="3429000"/>
              <a:ext cx="457200" cy="457200"/>
              <a:chOff x="533520" y="3429000"/>
              <a:chExt cx="457200" cy="457200"/>
            </a:xfrm>
          </p:grpSpPr>
          <p:sp>
            <p:nvSpPr>
              <p:cNvPr id="1310" name="Oval 10"/>
              <p:cNvSpPr/>
              <p:nvPr/>
            </p:nvSpPr>
            <p:spPr>
              <a:xfrm>
                <a:off x="533520" y="34290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1" name="Text Box 11"/>
              <p:cNvSpPr/>
              <p:nvPr/>
            </p:nvSpPr>
            <p:spPr>
              <a:xfrm>
                <a:off x="609480" y="3505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2" name="Group 12"/>
            <p:cNvGrpSpPr/>
            <p:nvPr/>
          </p:nvGrpSpPr>
          <p:grpSpPr>
            <a:xfrm>
              <a:off x="1066680" y="2666880"/>
              <a:ext cx="457200" cy="457200"/>
              <a:chOff x="1066680" y="2666880"/>
              <a:chExt cx="457200" cy="457200"/>
            </a:xfrm>
          </p:grpSpPr>
          <p:sp>
            <p:nvSpPr>
              <p:cNvPr id="1313" name="Oval 13"/>
              <p:cNvSpPr/>
              <p:nvPr/>
            </p:nvSpPr>
            <p:spPr>
              <a:xfrm>
                <a:off x="1066680" y="2666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4" name="Text Box 14"/>
              <p:cNvSpPr/>
              <p:nvPr/>
            </p:nvSpPr>
            <p:spPr>
              <a:xfrm>
                <a:off x="1142640" y="2743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5" name="Group 15"/>
            <p:cNvGrpSpPr/>
            <p:nvPr/>
          </p:nvGrpSpPr>
          <p:grpSpPr>
            <a:xfrm>
              <a:off x="2209680" y="3124080"/>
              <a:ext cx="457200" cy="457200"/>
              <a:chOff x="2209680" y="3124080"/>
              <a:chExt cx="457200" cy="457200"/>
            </a:xfrm>
          </p:grpSpPr>
          <p:sp>
            <p:nvSpPr>
              <p:cNvPr id="1316" name="Oval 16"/>
              <p:cNvSpPr/>
              <p:nvPr/>
            </p:nvSpPr>
            <p:spPr>
              <a:xfrm>
                <a:off x="2209680" y="31240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7" name="Text Box 17"/>
              <p:cNvSpPr/>
              <p:nvPr/>
            </p:nvSpPr>
            <p:spPr>
              <a:xfrm>
                <a:off x="2285640" y="3200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8" name="Group 18"/>
            <p:cNvGrpSpPr/>
            <p:nvPr/>
          </p:nvGrpSpPr>
          <p:grpSpPr>
            <a:xfrm>
              <a:off x="2895480" y="4038480"/>
              <a:ext cx="457200" cy="457200"/>
              <a:chOff x="2895480" y="4038480"/>
              <a:chExt cx="457200" cy="457200"/>
            </a:xfrm>
          </p:grpSpPr>
          <p:sp>
            <p:nvSpPr>
              <p:cNvPr id="1319" name="Oval 19"/>
              <p:cNvSpPr/>
              <p:nvPr/>
            </p:nvSpPr>
            <p:spPr>
              <a:xfrm>
                <a:off x="289548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0" name="Text Box 20"/>
              <p:cNvSpPr/>
              <p:nvPr/>
            </p:nvSpPr>
            <p:spPr>
              <a:xfrm>
                <a:off x="297144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1" name="Group 21"/>
            <p:cNvGrpSpPr/>
            <p:nvPr/>
          </p:nvGrpSpPr>
          <p:grpSpPr>
            <a:xfrm>
              <a:off x="1905120" y="5715000"/>
              <a:ext cx="457200" cy="457200"/>
              <a:chOff x="1905120" y="5715000"/>
              <a:chExt cx="457200" cy="457200"/>
            </a:xfrm>
          </p:grpSpPr>
          <p:sp>
            <p:nvSpPr>
              <p:cNvPr id="1322" name="Oval 22"/>
              <p:cNvSpPr/>
              <p:nvPr/>
            </p:nvSpPr>
            <p:spPr>
              <a:xfrm>
                <a:off x="1905120" y="571500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3" name="Text Box 23"/>
              <p:cNvSpPr/>
              <p:nvPr/>
            </p:nvSpPr>
            <p:spPr>
              <a:xfrm>
                <a:off x="1981080" y="5791320"/>
                <a:ext cx="304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4" name="Line 24"/>
            <p:cNvSpPr/>
            <p:nvPr/>
          </p:nvSpPr>
          <p:spPr>
            <a:xfrm>
              <a:off x="2438280" y="35812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Line 25"/>
            <p:cNvSpPr/>
            <p:nvPr/>
          </p:nvSpPr>
          <p:spPr>
            <a:xfrm flipH="1">
              <a:off x="2133360" y="4495680"/>
              <a:ext cx="9903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Text Box 26"/>
            <p:cNvSpPr/>
            <p:nvPr/>
          </p:nvSpPr>
          <p:spPr>
            <a:xfrm>
              <a:off x="266688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Text Box 27"/>
            <p:cNvSpPr/>
            <p:nvPr/>
          </p:nvSpPr>
          <p:spPr>
            <a:xfrm>
              <a:off x="2666880" y="5105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2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28" name="Group 28"/>
            <p:cNvGrpSpPr/>
            <p:nvPr/>
          </p:nvGrpSpPr>
          <p:grpSpPr>
            <a:xfrm>
              <a:off x="1371600" y="4038480"/>
              <a:ext cx="457200" cy="457200"/>
              <a:chOff x="1371600" y="4038480"/>
              <a:chExt cx="457200" cy="457200"/>
            </a:xfrm>
          </p:grpSpPr>
          <p:sp>
            <p:nvSpPr>
              <p:cNvPr id="1329" name="Oval 29"/>
              <p:cNvSpPr/>
              <p:nvPr/>
            </p:nvSpPr>
            <p:spPr>
              <a:xfrm>
                <a:off x="137160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0" name="Text Box 30"/>
              <p:cNvSpPr/>
              <p:nvPr/>
            </p:nvSpPr>
            <p:spPr>
              <a:xfrm>
                <a:off x="144756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31" name="Group 31"/>
            <p:cNvGrpSpPr/>
            <p:nvPr/>
          </p:nvGrpSpPr>
          <p:grpSpPr>
            <a:xfrm>
              <a:off x="1143000" y="4952880"/>
              <a:ext cx="457200" cy="457200"/>
              <a:chOff x="1143000" y="4952880"/>
              <a:chExt cx="457200" cy="457200"/>
            </a:xfrm>
          </p:grpSpPr>
          <p:sp>
            <p:nvSpPr>
              <p:cNvPr id="1332" name="Oval 32"/>
              <p:cNvSpPr/>
              <p:nvPr/>
            </p:nvSpPr>
            <p:spPr>
              <a:xfrm>
                <a:off x="1143000" y="4952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3" name="Text Box 33"/>
              <p:cNvSpPr/>
              <p:nvPr/>
            </p:nvSpPr>
            <p:spPr>
              <a:xfrm>
                <a:off x="1218960" y="5029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34" name="Line 34"/>
            <p:cNvSpPr/>
            <p:nvPr/>
          </p:nvSpPr>
          <p:spPr>
            <a:xfrm flipH="1">
              <a:off x="1523880" y="3581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Line 35"/>
            <p:cNvSpPr/>
            <p:nvPr/>
          </p:nvSpPr>
          <p:spPr>
            <a:xfrm flipH="1">
              <a:off x="1371240" y="4495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6" name="Line 36"/>
            <p:cNvSpPr/>
            <p:nvPr/>
          </p:nvSpPr>
          <p:spPr>
            <a:xfrm>
              <a:off x="1371600" y="54100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Text Box 37"/>
            <p:cNvSpPr/>
            <p:nvPr/>
          </p:nvSpPr>
          <p:spPr>
            <a:xfrm>
              <a:off x="160020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8" name="Line 38"/>
            <p:cNvSpPr/>
            <p:nvPr/>
          </p:nvSpPr>
          <p:spPr>
            <a:xfrm>
              <a:off x="2362320" y="24382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9" name="Line 39"/>
            <p:cNvSpPr/>
            <p:nvPr/>
          </p:nvSpPr>
          <p:spPr>
            <a:xfrm>
              <a:off x="2362320" y="2438280"/>
              <a:ext cx="75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Line 40"/>
            <p:cNvSpPr/>
            <p:nvPr/>
          </p:nvSpPr>
          <p:spPr>
            <a:xfrm flipH="1">
              <a:off x="1295280" y="243828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Line 41"/>
            <p:cNvSpPr/>
            <p:nvPr/>
          </p:nvSpPr>
          <p:spPr>
            <a:xfrm flipH="1">
              <a:off x="761760" y="312408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Text Box 42"/>
            <p:cNvSpPr/>
            <p:nvPr/>
          </p:nvSpPr>
          <p:spPr>
            <a:xfrm>
              <a:off x="259092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Text Box 43"/>
            <p:cNvSpPr/>
            <p:nvPr/>
          </p:nvSpPr>
          <p:spPr>
            <a:xfrm>
              <a:off x="2438280" y="6019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4" name="Text Box 44"/>
            <p:cNvSpPr/>
            <p:nvPr/>
          </p:nvSpPr>
          <p:spPr>
            <a:xfrm>
              <a:off x="990720" y="4572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Text Box 45"/>
            <p:cNvSpPr/>
            <p:nvPr/>
          </p:nvSpPr>
          <p:spPr>
            <a:xfrm>
              <a:off x="12952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46"/>
            <p:cNvSpPr/>
            <p:nvPr/>
          </p:nvSpPr>
          <p:spPr>
            <a:xfrm>
              <a:off x="2819520" y="2133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7" name="Text Box 47"/>
            <p:cNvSpPr/>
            <p:nvPr/>
          </p:nvSpPr>
          <p:spPr>
            <a:xfrm>
              <a:off x="13716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8" name="Text Box 48"/>
            <p:cNvSpPr/>
            <p:nvPr/>
          </p:nvSpPr>
          <p:spPr>
            <a:xfrm>
              <a:off x="38088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Text Box 85"/>
            <p:cNvSpPr/>
            <p:nvPr/>
          </p:nvSpPr>
          <p:spPr>
            <a:xfrm>
              <a:off x="2362320" y="2681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5F3C-4DDF-461D-9108-770980BF51C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5" name="Text Box 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8AD6-568A-4E17-95DF-DF8DAA4CBDF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6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6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6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0" name="Line 1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Line 1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Line 1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Text Box 1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Text Box 1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Text Box 2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Text Box 2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Text Box 2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ED06-3403-41A3-98A8-04E2A1FD823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8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8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8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9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9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0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2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1A89-1BFB-43F5-88A4-29C34CD6B65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1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1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2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2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2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0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31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3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5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36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8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2" name="Group 37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453" name="Oval 38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Text Box 39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55" name="Line 40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6376-258B-4C51-A1CB-C7125B5A681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6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6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6" name="Group 12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67" name="Oval 13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8" name="Text Box 14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9" name="Group 15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70" name="Oval 16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1" name="Text Box 17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2" name="Group 18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73" name="Oval 19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4" name="Text Box 20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5" name="Group 21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76" name="Oval 22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Text Box 23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8" name="Line 24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0" name="Group 28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81" name="Oval 29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Text Box 30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3" name="Group 31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84" name="Oval 32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33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6" name="Line 34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Line 35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Line 36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Text Box 37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Line 38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39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40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Text Box 4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Text Box 44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45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Text Box 46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Text Box 47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Text Box 85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Text Box 86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Text Box 87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Text Box 88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Text Box 89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Text Box 90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Text Box 91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Text Box 94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Text Box 95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06BF-91DC-4608-83AC-8A23977A823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0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1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1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1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1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2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4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25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30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1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2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33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5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6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57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9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458-485A-4EE2-8E18-5F0C9505B36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6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6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6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7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7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7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8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79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1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3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84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6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87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9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0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11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2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3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63A2-7E36-4309-9A4A-B490E391031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More formally, why heuristic functions work?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search problem where there are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 at each node and a dep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goal node, a naive search algorithm would have to, in the worst case, search arou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before finding a solution (Exponential Time Complex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 improve the efficiency of search algorithms by reduc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fecti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ranch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(ideally) a low constant b* such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&lt; b* &lt;&lt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AE6D-CCCD-4A43-A9B1-5AE1C87F5AD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7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18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0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621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3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624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6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627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9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630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2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633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5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7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638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9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0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641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3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4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65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7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with f() not Admi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) overestimates the cost to reach the goal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13AF-0729-4739-8F5B-2A6EA834B00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not admissible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7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67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67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68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68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68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68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69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69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70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H-I) Overestim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67B9-AFF0-4005-8823-83B21DEB702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2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2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7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4FA5-0B09-4BA8-A17F-DDC0B30BEDB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3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3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3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3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4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4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C61D-31BF-4041-AA5C-7DF1E270D7B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5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7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58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9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0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61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3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64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6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67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9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72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4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0422-D587-4755-9034-09D168F288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9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9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9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9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0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0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0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0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4" name="Group 54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825" name="Oval 55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6" name="Text Box 56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7" name="Line 57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Text Box 58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Text Box 59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0899-C886-400E-9966-65CD984AD9C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3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3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3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3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4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4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5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2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53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4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55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3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74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5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6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EF51-5C97-4F22-8500-FA00357D13E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8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8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8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9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9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9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9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00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01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3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1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22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3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4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6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27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8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9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3D3B-AD1B-4DC6-BE7B-18FEBF198ED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3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3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3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4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4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4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8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0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951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2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3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54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4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75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6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7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9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80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1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2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01DE-E0BB-40D2-8390-65602FC6BAE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E4FF-5ABB-4D6D-93DE-FEDC2D3AFEA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86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87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8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9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90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1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2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93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4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5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96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7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8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99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1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3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04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6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07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9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1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4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7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28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2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33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4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5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526A-8444-4CA1-A292-FC25E309161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3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204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204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204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204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205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6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57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8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9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60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1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2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0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81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5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86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7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8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4"/>
          <p:cNvSpPr/>
          <p:nvPr/>
        </p:nvSpPr>
        <p:spPr>
          <a:xfrm>
            <a:off x="190512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not optimal 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* with systematic checking for repeated stat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5311-FD19-4BE5-AC5A-BC51785B2AB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Search queue Q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Place the start state s in Q with f  value h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If Q is empty, return fail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Take node n from Q with lowest 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Keep Q sorted by f  values and pick the first el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If n is a goal node, stop and return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Generate successors of node 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For each successor n’ of n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Compute f(n’) = g(n) + cost(n,n’) + h(n’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If n’ is new (never generated before), add n’ to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If node n’ is already in Q with a higher f value, replace it with current f(n’) and place it in sorted order in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Go back to step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168B-73F2-4DBE-A486-C749023F865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9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10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10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1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1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1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2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12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12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Text Box 87"/>
          <p:cNvSpPr/>
          <p:nvPr/>
        </p:nvSpPr>
        <p:spPr>
          <a:xfrm>
            <a:off x="3809880" y="168444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complete except if there is an infinity of nodes with f &lt; f(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optimal if heurist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dmi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mplexity depends on the quality of heuristic but is still exponent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ace complexity, A* keeps all nodes in memory. A* has worst case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 complexity, but an iterative deepening version is possible (IDA*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A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5A6C-16E3-43A1-989A-B88A3872808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Deepening A*:IDA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) = g(N) + h(N) with admissible and consistent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teration is depth-first with cutoff on the value of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xpanded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FA4-1313-4825-A2D3-B78050BF0F9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istent Heuristi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missible heuristic h is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atisfies the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monotone restri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f for every node N and every successor N’ of 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(N)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 c(N,N’) + h(N’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istent heuristic is admi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4" name="Group 4"/>
          <p:cNvGrpSpPr/>
          <p:nvPr/>
        </p:nvGrpSpPr>
        <p:grpSpPr>
          <a:xfrm>
            <a:off x="6863040" y="3200400"/>
            <a:ext cx="1773720" cy="2133360"/>
            <a:chOff x="6863040" y="3200400"/>
            <a:chExt cx="1773720" cy="2133360"/>
          </a:xfrm>
        </p:grpSpPr>
        <p:grpSp>
          <p:nvGrpSpPr>
            <p:cNvPr id="2155" name="Group 5"/>
            <p:cNvGrpSpPr/>
            <p:nvPr/>
          </p:nvGrpSpPr>
          <p:grpSpPr>
            <a:xfrm>
              <a:off x="7467480" y="3352680"/>
              <a:ext cx="762120" cy="1981080"/>
              <a:chOff x="7467480" y="3352680"/>
              <a:chExt cx="762120" cy="1981080"/>
            </a:xfrm>
          </p:grpSpPr>
          <p:sp>
            <p:nvSpPr>
              <p:cNvPr id="2156" name="Oval 6"/>
              <p:cNvSpPr/>
              <p:nvPr/>
            </p:nvSpPr>
            <p:spPr>
              <a:xfrm>
                <a:off x="7772400" y="3352680"/>
                <a:ext cx="15228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7" name="Oval 7"/>
              <p:cNvSpPr/>
              <p:nvPr/>
            </p:nvSpPr>
            <p:spPr>
              <a:xfrm>
                <a:off x="7467480" y="4267080"/>
                <a:ext cx="15264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8" name="Oval 8"/>
              <p:cNvSpPr/>
              <p:nvPr/>
            </p:nvSpPr>
            <p:spPr>
              <a:xfrm>
                <a:off x="8077320" y="5181480"/>
                <a:ext cx="152280" cy="1522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9" name="Line 9"/>
              <p:cNvSpPr/>
              <p:nvPr/>
            </p:nvSpPr>
            <p:spPr>
              <a:xfrm flipH="1">
                <a:off x="7543440" y="3504960"/>
                <a:ext cx="3049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0" name="Line 10"/>
              <p:cNvSpPr/>
              <p:nvPr/>
            </p:nvSpPr>
            <p:spPr>
              <a:xfrm>
                <a:off x="7543800" y="441936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Line 11"/>
              <p:cNvSpPr/>
              <p:nvPr/>
            </p:nvSpPr>
            <p:spPr>
              <a:xfrm>
                <a:off x="7848720" y="3504960"/>
                <a:ext cx="3045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62" name="Text Box 12"/>
            <p:cNvSpPr/>
            <p:nvPr/>
          </p:nvSpPr>
          <p:spPr>
            <a:xfrm>
              <a:off x="7455240" y="32004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3" name="Text Box 13"/>
            <p:cNvSpPr/>
            <p:nvPr/>
          </p:nvSpPr>
          <p:spPr>
            <a:xfrm>
              <a:off x="7080120" y="41148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Text Box 14"/>
            <p:cNvSpPr/>
            <p:nvPr/>
          </p:nvSpPr>
          <p:spPr>
            <a:xfrm>
              <a:off x="8003520" y="4114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Text Box 15"/>
            <p:cNvSpPr/>
            <p:nvPr/>
          </p:nvSpPr>
          <p:spPr>
            <a:xfrm>
              <a:off x="7169400" y="464796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6" name="Text Box 16"/>
            <p:cNvSpPr/>
            <p:nvPr/>
          </p:nvSpPr>
          <p:spPr>
            <a:xfrm>
              <a:off x="6863040" y="365760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c(N,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DDC3-B068-4C7C-8608-AE134E2CF15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DA*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iteration, we determine 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“f-cost limit”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g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+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wher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start n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expand nodes using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pth-first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backtrack whenever f(n) for an expanded node n exceeds the cut-of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search does not succeed, determine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owest f-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nodes that were visited but not expan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f-value as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limit value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o another depth-first 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is procedure until a goal node is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EDE7-3776-45C3-B5AC-FD12DCB5EC4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72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73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4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5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6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8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9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1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2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3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84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5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7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8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9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0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1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2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3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94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95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6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7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8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9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0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1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2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3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4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05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6" name="Text Box 37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2E73-A2EF-4D67-A9F9-259DEBB96A5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-Qu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number of queens under attack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“predictive-ness” (a.k.a. accuracy) of a rule dis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80D5-B10D-4BA4-A9DE-840ECF8350A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10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11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2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3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4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8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9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1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22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3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5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6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7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8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9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0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1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32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33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4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5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6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7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8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9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0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1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2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3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4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245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246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47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248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9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0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1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2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3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4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5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6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257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260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261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2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3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4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5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6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7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8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9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71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72" name="Text Box 68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3FC9-2253-4545-8A79-8B3E56BE2A9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5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76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7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8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9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0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1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2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3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4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5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6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87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8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9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0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1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2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3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4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5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6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97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98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9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0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1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2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3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4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5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08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9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10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11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2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13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4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5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6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7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8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9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0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1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22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3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4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325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326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27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328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9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0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1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2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3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4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5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6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37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8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339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340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1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2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3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4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5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6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7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8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9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50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1" name="Text Box 8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485D-69DF-49CC-AE75-33849D68D60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3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3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4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419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0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1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3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4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5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6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7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8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30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431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432" name="Rectangle 82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3" name="Rectangle 83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4" name="Rectangle 84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5" name="Rectangle 85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6" name="Rectangle 86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7" name="Rectangle 87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8" name="Rectangle 88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9" name="Rectangle 89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0" name="Rectangle 90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1" name="Text Box 91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42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3" name="Text Box 95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0235-F771-44B5-B719-2CFEF82A474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45" name="Group 2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446" name="Group 3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447" name="Text Box 4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8" name="Rectangle 5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9" name="Rectangle 6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0" name="Rectangle 7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1" name="Rectangle 8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2" name="Rectangle 9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3" name="Rectangle 10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4" name="Rectangle 11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5" name="Rectangle 12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6" name="Rectangle 13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57" name="Line 14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59" name="Group 16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460" name="Rectangle 17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1" name="Rectangle 18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2" name="Rectangle 19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3" name="Rectangle 20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4" name="Rectangle 21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Rectangle 22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6" name="Rectangle 23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7" name="Rectangle 24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8" name="Rectangle 25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9" name="Text Box 26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0" name="Group 27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71" name="Rectangle 28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Rectangle 29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3" name="Rectangle 30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4" name="Rectangle 31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5" name="Rectangle 32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6" name="Rectangle 33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Rectangle 34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8" name="Rectangle 35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9" name="Rectangle 36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0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481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482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83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484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5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6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7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8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9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0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1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2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93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94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5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96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97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98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99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0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1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2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3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4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5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6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7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508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9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510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511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2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3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4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5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6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7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8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9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0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1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2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523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524" name="Text Box 82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5" name="Rectangle 83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6" name="Rectangle 84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7" name="Rectangle 85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8" name="Rectangle 86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9" name="Rectangle 87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0" name="Rectangle 88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1" name="Rectangle 89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2" name="Rectangle 90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3" name="Rectangle 91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34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5" name="Group 93"/>
          <p:cNvGrpSpPr/>
          <p:nvPr/>
        </p:nvGrpSpPr>
        <p:grpSpPr>
          <a:xfrm>
            <a:off x="1828800" y="2133720"/>
            <a:ext cx="1219320" cy="1752120"/>
            <a:chOff x="1828800" y="2133720"/>
            <a:chExt cx="1219320" cy="1752120"/>
          </a:xfrm>
        </p:grpSpPr>
        <p:grpSp>
          <p:nvGrpSpPr>
            <p:cNvPr id="2536" name="Group 94"/>
            <p:cNvGrpSpPr/>
            <p:nvPr/>
          </p:nvGrpSpPr>
          <p:grpSpPr>
            <a:xfrm>
              <a:off x="2590920" y="2133720"/>
              <a:ext cx="457200" cy="779760"/>
              <a:chOff x="2590920" y="2133720"/>
              <a:chExt cx="457200" cy="779760"/>
            </a:xfrm>
          </p:grpSpPr>
          <p:sp>
            <p:nvSpPr>
              <p:cNvPr id="2537" name="Rectangle 95"/>
              <p:cNvSpPr/>
              <p:nvPr/>
            </p:nvSpPr>
            <p:spPr>
              <a:xfrm>
                <a:off x="2590920" y="21337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8" name="Rectangle 96"/>
              <p:cNvSpPr/>
              <p:nvPr/>
            </p:nvSpPr>
            <p:spPr>
              <a:xfrm>
                <a:off x="274320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9" name="Rectangle 97"/>
              <p:cNvSpPr/>
              <p:nvPr/>
            </p:nvSpPr>
            <p:spPr>
              <a:xfrm>
                <a:off x="25909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0" name="Rectangle 98"/>
              <p:cNvSpPr/>
              <p:nvPr/>
            </p:nvSpPr>
            <p:spPr>
              <a:xfrm>
                <a:off x="2743200" y="22860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1" name="Rectangle 99"/>
              <p:cNvSpPr/>
              <p:nvPr/>
            </p:nvSpPr>
            <p:spPr>
              <a:xfrm>
                <a:off x="2895480" y="22860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2" name="Rectangle 100"/>
              <p:cNvSpPr/>
              <p:nvPr/>
            </p:nvSpPr>
            <p:spPr>
              <a:xfrm>
                <a:off x="2743200" y="24382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3" name="Rectangle 101"/>
              <p:cNvSpPr/>
              <p:nvPr/>
            </p:nvSpPr>
            <p:spPr>
              <a:xfrm>
                <a:off x="25909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4" name="Rectangle 102"/>
              <p:cNvSpPr/>
              <p:nvPr/>
            </p:nvSpPr>
            <p:spPr>
              <a:xfrm>
                <a:off x="2895480" y="24382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5" name="Rectangle 103"/>
              <p:cNvSpPr/>
              <p:nvPr/>
            </p:nvSpPr>
            <p:spPr>
              <a:xfrm>
                <a:off x="2895480" y="21337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6" name="Text Box 104"/>
              <p:cNvSpPr/>
              <p:nvPr/>
            </p:nvSpPr>
            <p:spPr>
              <a:xfrm>
                <a:off x="266472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7" name="Line 105"/>
            <p:cNvSpPr/>
            <p:nvPr/>
          </p:nvSpPr>
          <p:spPr>
            <a:xfrm flipV="1">
              <a:off x="1828800" y="2361960"/>
              <a:ext cx="762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8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F677-1BDE-4952-8824-F0410315A2F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51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52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3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4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5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6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7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8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9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0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1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2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63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4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5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6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7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8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9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0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1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2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73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74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5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6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7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8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9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0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1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2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3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84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5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3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B1B-5583-45FE-87CD-8FD980E5A3D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8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9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0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1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1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2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2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2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2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2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2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3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63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640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1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2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3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4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5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6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7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8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9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50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1" name="Text Box 6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62BC-FD30-45ED-9B73-E02DEA6801D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6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1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0" name="Text Box 8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3B1B-3BCE-4A09-A2BB-3B0213F751A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33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734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5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6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7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8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9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0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44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745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6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7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8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9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4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755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756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7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8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9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0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1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2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3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4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5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66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768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69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70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71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2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3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4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5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6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7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8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9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80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1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2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83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84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85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86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7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8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9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0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1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2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3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4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95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6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97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98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9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0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2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3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4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5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6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7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8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9" name="Group 80"/>
          <p:cNvGrpSpPr/>
          <p:nvPr/>
        </p:nvGrpSpPr>
        <p:grpSpPr>
          <a:xfrm>
            <a:off x="5029200" y="4648320"/>
            <a:ext cx="457200" cy="778320"/>
            <a:chOff x="5029200" y="4648320"/>
            <a:chExt cx="457200" cy="778320"/>
          </a:xfrm>
        </p:grpSpPr>
        <p:sp>
          <p:nvSpPr>
            <p:cNvPr id="2810" name="Rectangle 81"/>
            <p:cNvSpPr/>
            <p:nvPr/>
          </p:nvSpPr>
          <p:spPr>
            <a:xfrm>
              <a:off x="5029200" y="464832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1" name="Rectangle 82"/>
            <p:cNvSpPr/>
            <p:nvPr/>
          </p:nvSpPr>
          <p:spPr>
            <a:xfrm>
              <a:off x="5181480" y="4800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2" name="Rectangle 83"/>
            <p:cNvSpPr/>
            <p:nvPr/>
          </p:nvSpPr>
          <p:spPr>
            <a:xfrm>
              <a:off x="5029200" y="4800600"/>
              <a:ext cx="15228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3" name="Rectangle 84"/>
            <p:cNvSpPr/>
            <p:nvPr/>
          </p:nvSpPr>
          <p:spPr>
            <a:xfrm>
              <a:off x="5334120" y="4800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4" name="Rectangle 85"/>
            <p:cNvSpPr/>
            <p:nvPr/>
          </p:nvSpPr>
          <p:spPr>
            <a:xfrm>
              <a:off x="5029200" y="4952880"/>
              <a:ext cx="15228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5" name="Rectangle 86"/>
            <p:cNvSpPr/>
            <p:nvPr/>
          </p:nvSpPr>
          <p:spPr>
            <a:xfrm>
              <a:off x="5334120" y="4648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6" name="Rectangle 87"/>
            <p:cNvSpPr/>
            <p:nvPr/>
          </p:nvSpPr>
          <p:spPr>
            <a:xfrm>
              <a:off x="5334120" y="495288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7" name="Rectangle 88"/>
            <p:cNvSpPr/>
            <p:nvPr/>
          </p:nvSpPr>
          <p:spPr>
            <a:xfrm>
              <a:off x="5181480" y="4648320"/>
              <a:ext cx="1526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8" name="Text Box 89"/>
            <p:cNvSpPr/>
            <p:nvPr/>
          </p:nvSpPr>
          <p:spPr>
            <a:xfrm>
              <a:off x="5115960" y="502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19" name="Rectangle 90"/>
          <p:cNvSpPr/>
          <p:nvPr/>
        </p:nvSpPr>
        <p:spPr>
          <a:xfrm>
            <a:off x="5181480" y="4952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Line 91"/>
          <p:cNvSpPr/>
          <p:nvPr/>
        </p:nvSpPr>
        <p:spPr>
          <a:xfrm>
            <a:off x="4267080" y="4343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Text Box 9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FD7-D1E1-4EF6-8064-6ED13747C92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2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82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3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83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4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84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84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5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85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86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6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86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7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7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7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87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87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7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87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8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8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88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88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9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0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901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902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3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4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5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6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7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8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9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0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1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12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13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914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915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6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7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8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9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0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1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2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3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4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25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6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16C7-133B-480B-9295-637D333A492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2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93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4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94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5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95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95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6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96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96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6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96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7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97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980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81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982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3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4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5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6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7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8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9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0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91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92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993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994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5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6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7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8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9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0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1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2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3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04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5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006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007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8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9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0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1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2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3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4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5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6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17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8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019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020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1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2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3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4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5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6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7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8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9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30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31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032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033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4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5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6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7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8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9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0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1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2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43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44" name="Text Box 11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4E4F-9B3D-4A11-A046-7E0EBEED6DD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2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Cost to the Goal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better than 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the estimated cost of getting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low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be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closer to the goal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8puzzle"/>
          <p:cNvPicPr/>
          <p:nvPr/>
        </p:nvPicPr>
        <p:blipFill>
          <a:blip r:embed="rId1"/>
          <a:stretch/>
        </p:blipFill>
        <p:spPr>
          <a:xfrm>
            <a:off x="5145120" y="4089240"/>
            <a:ext cx="3809880" cy="193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304920" y="4191120"/>
            <a:ext cx="44956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–Puzz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misplaced tiles (squares with numb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of the distances of the tiles from their goal pos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عنصر نائب لرقم الشريحة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5617-6B29-4C26-BC13-5660A5F6A6E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47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3048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9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0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1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2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3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4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5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6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7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58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3059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0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1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2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3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4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5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6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7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8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3069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3070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1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2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3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4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5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6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7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8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9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0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1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3082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3083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4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3085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6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7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8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9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0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1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2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3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094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5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96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3097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3098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99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3100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1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2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3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4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5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6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7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8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109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10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3111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3112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3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4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5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6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7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8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9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0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1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22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3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124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125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6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7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8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9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0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1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2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3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4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35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6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137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138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9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0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1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2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3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4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5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6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7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48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9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150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151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2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3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4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5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6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7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8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9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0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61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2" name="Line 119"/>
          <p:cNvSpPr/>
          <p:nvPr/>
        </p:nvSpPr>
        <p:spPr>
          <a:xfrm>
            <a:off x="6705720" y="39625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3" name="Text Box 12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D5DF-2928-482D-9FE3-DC7C3A10BC4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Searc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small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o other available techniques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not worth the effort to develop a more efficient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large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other available technique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heu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917-4BD6-4B93-903C-65D3589D2E1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ust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n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 led to the idea of using domain specific knowledge in a search so that one can intelligently explore only the relevant part of the search space that has a good chance of containing the goal state. These new techniques are called informed (heuristic) search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heuristics improve the performance of informed search algorithms, they are still time consuming especially for large size insta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67E8-4E14-46F2-B6E4-F91F1AD9B85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Approach 3: </a:t>
            </a:r>
            <a:r>
              <a:rPr b="0" i="1" lang="en-US" sz="3000" spc="-1" strike="noStrike">
                <a:solidFill>
                  <a:srgbClr val="333399"/>
                </a:solidFill>
                <a:latin typeface="Tahoma"/>
              </a:rPr>
              <a:t>f 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measures the total cost of the solution path (Admissible Heuristic Functions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euristic function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 = g(n) + 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dmissible if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verestimates the cost to reach the goal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ble heuristics are “optimistic”: “the cost is not that much …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exact cost to reac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initial stat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ever over-estimate the true cost to reach the goal state throug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Theorem: A search is optimal if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is admissibl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.e. The search using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 returns an optimal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Given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&gt; 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1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for all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n,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it’s always more </a:t>
            </a:r>
            <a:r>
              <a:rPr b="0" lang="en-US" sz="2300" spc="-1" strike="noStrike" u="sng">
                <a:solidFill>
                  <a:srgbClr val="971103"/>
                </a:solidFill>
                <a:uFillTx/>
                <a:latin typeface="Times New Roman"/>
              </a:rPr>
              <a:t>efficient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to use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s more realistic than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(more informed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, though both are optim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Dean Ship</cp:lastModifiedBy>
  <dcterms:modified xsi:type="dcterms:W3CDTF">2012-02-12T05:30:37Z</dcterms:modified>
  <cp:revision>95</cp:revision>
  <dc:subject/>
  <dc:title>Artificial Intelligence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