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3FF-DE30-4F97-B705-48DEA4D7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4D9-80A0-479E-9780-EDE6E98F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4A5-2955-4ABF-B1FE-317C550A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B6D-8B85-4206-B855-3F9216C6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E7F1-F88E-4F48-A618-EAF9C46E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856-34AE-4E44-812B-26F8BAED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055-5961-433C-99DD-AA41A34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31C-20D7-468A-8DE6-EA83FCF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6310-1F37-4075-9152-7FC893F6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DED2-99A0-4D35-9217-4062E3F8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B7F-0646-4246-8105-538AE1C4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52F-E715-4567-89E4-565382C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1EDF-A63A-4A8C-8827-DC965E0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03C-BC8E-435C-835C-8CC099F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752-7D03-4F9F-A9D4-6C9F3C27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0BD-FC85-47B6-9E6B-565CCE3B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7A4-87F9-4AD7-A152-EFC75BA9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BC0-844D-409F-9639-CF87C52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7EC-3D30-4AA1-A0CE-40EB28BF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B1C-9019-4208-90C1-F5DA0D2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092-D4C5-4019-AFB6-9F0A0AC9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F93-7CD8-44E6-9ACC-76E36F5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C99-541F-4A5D-8077-AE882C0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615-5870-4C59-8FF1-E7A114A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640-2349-4E4A-A216-20C3362822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5AC-590E-4BB4-860E-2E82AF7D39AA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5C9-8B57-4672-BB7B-2BB0D83D8AC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913-F64D-4543-A075-D76EBCD66E4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064-58E5-468A-B439-06B566D64D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64E-E8F0-4EBD-BB06-E63CC02E20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1CC-CA1E-4736-BC17-C09771B6A9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AC4-18A2-4E17-88DE-B32E4653FA7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B1A-B611-455A-AB38-E65D5F83A37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26EC-41B4-4726-BCAF-0814FAF0BC4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C550-B2AB-42F0-BB67-711B63E1207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7F6D-F69B-403C-9C8F-34FD4A866AC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0142-C222-4F98-846E-B4FE382E558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DC6-B902-4E24-82AA-4942F696D4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E82-4339-466A-8933-9B6B2440EB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031-FC84-4E07-8F3D-92458699100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A90-4C3C-4AEE-9069-7BEC09F861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F322-6BF9-4DA7-9CD6-BF245B7ADBE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72A-6F75-4FC7-B8A1-71C4ED93CF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5311-CC98-4CFD-85E5-2AC200E60B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861D-BFE0-4577-8DED-6C54AD1B80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A8E-01AC-4FFC-8FFB-76AC376A733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2E9-B7F3-4AAE-98E6-6C188A91A46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317-B0A5-403D-BF0A-73CFB6A6A5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2BE-5628-4493-980A-DAB2C9FC739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3AE-1C1B-4FBD-A007-54B4B86BB0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471F-DE0A-41F0-81F8-C779D1243E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54C-C973-4D04-A8B6-BC0F4BEE38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87B-7726-4570-9F02-06562A3942C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C286-4C2D-44DE-9792-2601E482121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908-758A-4ABC-BF29-A0E706B678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621-E9CD-498E-84C4-77FFD50139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1D7-14F7-4B7C-9F29-8F313686090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9B0-DF7A-4DA3-93FD-9B2FD6F2962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37E-42FF-448C-A8C9-F416608EB8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F3CA-7407-4C76-AE18-A1F80A0092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949-EEC6-49A6-85CB-57A9F4874F8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1F8-953B-4096-B41C-7E0C407358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193-E954-4233-BE4E-01B040E115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302E-56DF-4FC5-BEE5-C4184DE8926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CEE-F29E-46F2-8849-9ACCE8FCED5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B00-41B8-4E53-9C18-B9CAE70E4A6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35A-026F-4085-8443-506C76BC9D1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39F5-248E-4C19-8A2D-5A7C920DB0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A5FD-2461-4873-9701-F73C68F68D1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C4B-485D-4C4E-931E-07B541C4A88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EE6D-ACB2-4F1E-B0BB-95F3D72012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455B-522C-43AD-A91B-BFCF047E3E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568-1C28-476C-A66A-8AF828DF70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009-0509-4EE0-B7D3-5976E4CB7A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913-B0D3-4B6E-81BA-3BA96AE9046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B48-C6E8-466A-838E-60965EB88D6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BAC-E0E7-41EE-AF04-49229291E88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4F0-E672-476E-9836-CE2714C4E6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DA8-4FDA-472B-9256-B37CAC3DB12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A26-E21C-4056-8EB1-ED3521E31B9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F80-8CB2-4408-A41A-8CE085D3226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88F-E622-43F6-A291-2DCF5A17CAA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2CFA-C2BA-43E8-B94A-B9FE9F55EA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573-51EE-43CD-9CAE-ACF6C0C388C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878-F0E0-4256-9767-E57F1883108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E3E-8AE3-4FA1-A7FF-4D0181B8AF4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A72-1A66-4614-8ACC-64303A5A8A7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EC0-2045-47E4-AAD4-38D150A6A4A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1CEB-C290-4B53-81DD-3501ABC364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3D5-CDC5-444F-915E-64BC6D2066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369-6481-41ED-87ED-746681F93F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FC9-6BB4-4BB5-8590-80B01BDBAEA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F06-F66C-4153-91AB-7926DC0BA3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3BBE-6B29-4A75-B69A-4A8310EEA17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6FA-8C37-4272-93AF-49A703653E0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E72D-0DA2-4CD8-B550-0B258444E5A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E16-7A60-4BF8-A62A-DE101F113F5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105F-0A7A-4922-BB84-2069618E6E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A2B-0307-45E5-A019-1018B26FB9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C3A-6C4B-48A7-87EF-444A81F6921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Dean Ship</cp:lastModifiedBy>
  <dcterms:modified xsi:type="dcterms:W3CDTF">2012-02-12T05:30:37Z</dcterms:modified>
  <cp:revision>95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