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3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2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0D2-572F-4B08-9A90-644E16DF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233-0AD4-4FED-80D1-C5C521D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7FB-86F1-4530-A0C0-B2F74F86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031-8CE7-4A08-96E5-ED683415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EE26-651D-4533-9132-A26972A5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3D44-460A-462B-8DD6-78BF0EB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8372-2FD5-4F2B-843F-3AD200F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5F8-9A30-46F3-BBF0-187A7146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144D-4ADC-48E5-9D05-78058A07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64F4-425E-407B-BD7C-4EF38743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82D5-E73D-4532-9D5D-C73654C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DF5-189D-47BE-95DB-F037EC01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B0D-9BBD-45D1-9498-050A02C2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1B46-0F23-47BB-A091-5CB5E93E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CD1-02EC-473C-B43D-361F19E4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D69-401E-4F6A-B2D1-5ADCCACF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DA7-8B65-422E-9435-D9C675D3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93D-1423-4211-AC6C-5DE7011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7B7-B262-405F-8B0C-75A20049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09B-DE56-4D6D-A3BB-7F281A06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C2A-56C1-4381-8DC6-EE1849BC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4BF-3AE4-4227-A26D-63ED1191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3D6-40AD-4D24-890F-DFD7F49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185-2823-4915-8166-B3B9137C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864E-DC00-4AF9-9B14-BD33D6AECD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F9DB-06EB-4534-8497-FF120D413687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C7DB-86B4-4711-8005-7D0FBEC8E3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878760" y="56102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43B-73AE-4A19-982A-69BB8EABE8B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Oval 9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Oval 11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12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Oval 14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Oval 15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Oval 16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Oval 17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E3A-DE8F-436A-8B39-41EDB369C18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Oval 7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Oval 8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Oval 9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Oval 10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Oval 11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Oval 12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Oval 13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72E-9E04-480E-AD73-547DD27F0F7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Oval 7"/>
          <p:cNvSpPr/>
          <p:nvPr/>
        </p:nvSpPr>
        <p:spPr>
          <a:xfrm>
            <a:off x="44197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Oval 10"/>
          <p:cNvSpPr/>
          <p:nvPr/>
        </p:nvSpPr>
        <p:spPr>
          <a:xfrm>
            <a:off x="457200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Oval 12"/>
          <p:cNvSpPr/>
          <p:nvPr/>
        </p:nvSpPr>
        <p:spPr>
          <a:xfrm>
            <a:off x="4724280" y="5105520"/>
            <a:ext cx="15264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Oval 13"/>
          <p:cNvSpPr/>
          <p:nvPr/>
        </p:nvSpPr>
        <p:spPr>
          <a:xfrm>
            <a:off x="48769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Line 14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Line 15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8237-BBFD-4842-B20D-DED950E961D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80880" y="20268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 introduced in the US in the 70s by John Hol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 emulate ideas from genetics and natural selection and can search potentially large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we can apply Genetic Algorithm to a problem, we need to 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is an individual represen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What is the fitness func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are individuals selec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do individuals reprodu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28ED-B785-48CB-9323-A6E6D78D01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4264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presentation of states (solu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ach state or individual is represented as a string over a finite alphabet. It is also called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hromosom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hich Contains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ge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Text Box 5"/>
          <p:cNvSpPr/>
          <p:nvPr/>
        </p:nvSpPr>
        <p:spPr>
          <a:xfrm>
            <a:off x="5562720" y="419112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00101111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68580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ution: 60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Line 7"/>
          <p:cNvSpPr/>
          <p:nvPr/>
        </p:nvSpPr>
        <p:spPr>
          <a:xfrm>
            <a:off x="3200400" y="4572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Text Box 8"/>
          <p:cNvSpPr/>
          <p:nvPr/>
        </p:nvSpPr>
        <p:spPr>
          <a:xfrm>
            <a:off x="3505320" y="4724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Text Box 9"/>
          <p:cNvSpPr/>
          <p:nvPr/>
        </p:nvSpPr>
        <p:spPr>
          <a:xfrm>
            <a:off x="6248520" y="502920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Line 10"/>
          <p:cNvSpPr/>
          <p:nvPr/>
        </p:nvSpPr>
        <p:spPr>
          <a:xfrm>
            <a:off x="6477120" y="3886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61722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Line 12"/>
          <p:cNvSpPr/>
          <p:nvPr/>
        </p:nvSpPr>
        <p:spPr>
          <a:xfrm flipH="1">
            <a:off x="624816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700C-E725-47DD-ADA1-87536838C35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tness Fun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ach state is rated by the evaluation function called fitness function. Fitness function should return higher values for better stat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Fitness(X) should be greater than Fitness(Y) !!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[Fitness(x) = 1/Cost(x)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Group 18"/>
          <p:cNvGrpSpPr/>
          <p:nvPr/>
        </p:nvGrpSpPr>
        <p:grpSpPr>
          <a:xfrm>
            <a:off x="1676520" y="3352680"/>
            <a:ext cx="5790960" cy="3492720"/>
            <a:chOff x="1676520" y="3352680"/>
            <a:chExt cx="5790960" cy="3492720"/>
          </a:xfrm>
        </p:grpSpPr>
        <p:sp>
          <p:nvSpPr>
            <p:cNvPr id="972" name="Line 5"/>
            <p:cNvSpPr/>
            <p:nvPr/>
          </p:nvSpPr>
          <p:spPr>
            <a:xfrm>
              <a:off x="2438280" y="38098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6"/>
            <p:cNvSpPr/>
            <p:nvPr/>
          </p:nvSpPr>
          <p:spPr>
            <a:xfrm>
              <a:off x="2438280" y="6400800"/>
              <a:ext cx="40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Line 8"/>
            <p:cNvSpPr/>
            <p:nvPr/>
          </p:nvSpPr>
          <p:spPr>
            <a:xfrm>
              <a:off x="2971800" y="4952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>
              <a:off x="6019920" y="4038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Line 10"/>
            <p:cNvSpPr/>
            <p:nvPr/>
          </p:nvSpPr>
          <p:spPr>
            <a:xfrm flipH="1">
              <a:off x="243828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 flipH="1">
              <a:off x="2437920" y="40384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12"/>
            <p:cNvSpPr/>
            <p:nvPr/>
          </p:nvSpPr>
          <p:spPr>
            <a:xfrm>
              <a:off x="16765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Text Box 13"/>
            <p:cNvSpPr/>
            <p:nvPr/>
          </p:nvSpPr>
          <p:spPr>
            <a:xfrm>
              <a:off x="6553080" y="6172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Text Box 14"/>
            <p:cNvSpPr/>
            <p:nvPr/>
          </p:nvSpPr>
          <p:spPr>
            <a:xfrm>
              <a:off x="28195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Text Box 15"/>
            <p:cNvSpPr/>
            <p:nvPr/>
          </p:nvSpPr>
          <p:spPr>
            <a:xfrm>
              <a:off x="57913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Freeform 17"/>
            <p:cNvSpPr/>
            <p:nvPr/>
          </p:nvSpPr>
          <p:spPr>
            <a:xfrm>
              <a:off x="2743200" y="3352680"/>
              <a:ext cx="3594240" cy="3073680"/>
            </a:xfrm>
            <a:custGeom>
              <a:avLst/>
              <a:gdLst>
                <a:gd name="textAreaLeft" fmla="*/ 0 w 3594240"/>
                <a:gd name="textAreaRight" fmla="*/ 3594600 w 3594240"/>
                <a:gd name="textAreaTop" fmla="*/ 0 h 3073680"/>
                <a:gd name="textAreaBottom" fmla="*/ 3074040 h 3073680"/>
              </a:gdLst>
              <a:ahLst/>
              <a:rect l="textAreaLeft" t="textAreaTop" r="textAreaRight" b="textAreaBottom"/>
              <a:pathLst>
                <a:path w="2312" h="1936">
                  <a:moveTo>
                    <a:pt x="0" y="528"/>
                  </a:moveTo>
                  <a:cubicBezTo>
                    <a:pt x="144" y="1068"/>
                    <a:pt x="288" y="1608"/>
                    <a:pt x="432" y="1680"/>
                  </a:cubicBezTo>
                  <a:cubicBezTo>
                    <a:pt x="576" y="1752"/>
                    <a:pt x="712" y="936"/>
                    <a:pt x="864" y="960"/>
                  </a:cubicBezTo>
                  <a:cubicBezTo>
                    <a:pt x="1016" y="984"/>
                    <a:pt x="1128" y="1936"/>
                    <a:pt x="1344" y="1824"/>
                  </a:cubicBezTo>
                  <a:cubicBezTo>
                    <a:pt x="1560" y="1712"/>
                    <a:pt x="2008" y="576"/>
                    <a:pt x="2160" y="288"/>
                  </a:cubicBezTo>
                  <a:cubicBezTo>
                    <a:pt x="2312" y="0"/>
                    <a:pt x="2284" y="48"/>
                    <a:pt x="2256" y="9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42DE-9B53-47E1-9438-CEA76791BAD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e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240" y="1752120"/>
            <a:ext cx="742788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are individuals selected 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ulette Wheel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6" name="Group 44"/>
          <p:cNvGrpSpPr/>
          <p:nvPr/>
        </p:nvGrpSpPr>
        <p:grpSpPr>
          <a:xfrm>
            <a:off x="304920" y="3276720"/>
            <a:ext cx="8610480" cy="3073320"/>
            <a:chOff x="304920" y="3276720"/>
            <a:chExt cx="8610480" cy="3073320"/>
          </a:xfrm>
        </p:grpSpPr>
        <p:sp>
          <p:nvSpPr>
            <p:cNvPr id="987" name="Line 9"/>
            <p:cNvSpPr/>
            <p:nvPr/>
          </p:nvSpPr>
          <p:spPr>
            <a:xfrm>
              <a:off x="685800" y="373392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0"/>
            <p:cNvSpPr/>
            <p:nvPr/>
          </p:nvSpPr>
          <p:spPr>
            <a:xfrm>
              <a:off x="685800" y="426744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1"/>
            <p:cNvSpPr/>
            <p:nvPr/>
          </p:nvSpPr>
          <p:spPr>
            <a:xfrm>
              <a:off x="685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2"/>
            <p:cNvSpPr/>
            <p:nvPr/>
          </p:nvSpPr>
          <p:spPr>
            <a:xfrm>
              <a:off x="11430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3"/>
            <p:cNvSpPr/>
            <p:nvPr/>
          </p:nvSpPr>
          <p:spPr>
            <a:xfrm>
              <a:off x="22100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>
              <a:off x="35053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5"/>
            <p:cNvSpPr/>
            <p:nvPr/>
          </p:nvSpPr>
          <p:spPr>
            <a:xfrm>
              <a:off x="4038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6"/>
            <p:cNvSpPr/>
            <p:nvPr/>
          </p:nvSpPr>
          <p:spPr>
            <a:xfrm>
              <a:off x="5257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7"/>
            <p:cNvSpPr/>
            <p:nvPr/>
          </p:nvSpPr>
          <p:spPr>
            <a:xfrm>
              <a:off x="71629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"/>
            <p:cNvSpPr/>
            <p:nvPr/>
          </p:nvSpPr>
          <p:spPr>
            <a:xfrm>
              <a:off x="76964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9"/>
            <p:cNvSpPr/>
            <p:nvPr/>
          </p:nvSpPr>
          <p:spPr>
            <a:xfrm>
              <a:off x="8610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Text Box 20"/>
            <p:cNvSpPr/>
            <p:nvPr/>
          </p:nvSpPr>
          <p:spPr>
            <a:xfrm>
              <a:off x="762120" y="3810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Text Box 21"/>
            <p:cNvSpPr/>
            <p:nvPr/>
          </p:nvSpPr>
          <p:spPr>
            <a:xfrm>
              <a:off x="1219320" y="3810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22"/>
            <p:cNvSpPr/>
            <p:nvPr/>
          </p:nvSpPr>
          <p:spPr>
            <a:xfrm>
              <a:off x="22100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23"/>
            <p:cNvSpPr/>
            <p:nvPr/>
          </p:nvSpPr>
          <p:spPr>
            <a:xfrm>
              <a:off x="35053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Text Box 24"/>
            <p:cNvSpPr/>
            <p:nvPr/>
          </p:nvSpPr>
          <p:spPr>
            <a:xfrm>
              <a:off x="40388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Text Box 25"/>
            <p:cNvSpPr/>
            <p:nvPr/>
          </p:nvSpPr>
          <p:spPr>
            <a:xfrm>
              <a:off x="5257800" y="38102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Text Box 26"/>
            <p:cNvSpPr/>
            <p:nvPr/>
          </p:nvSpPr>
          <p:spPr>
            <a:xfrm>
              <a:off x="71629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Text Box 27"/>
            <p:cNvSpPr/>
            <p:nvPr/>
          </p:nvSpPr>
          <p:spPr>
            <a:xfrm>
              <a:off x="7772400" y="3810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28"/>
            <p:cNvSpPr/>
            <p:nvPr/>
          </p:nvSpPr>
          <p:spPr>
            <a:xfrm flipV="1">
              <a:off x="68580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29"/>
            <p:cNvSpPr/>
            <p:nvPr/>
          </p:nvSpPr>
          <p:spPr>
            <a:xfrm flipV="1">
              <a:off x="86108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Text Box 30"/>
            <p:cNvSpPr/>
            <p:nvPr/>
          </p:nvSpPr>
          <p:spPr>
            <a:xfrm>
              <a:off x="30492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Text Box 31"/>
            <p:cNvSpPr/>
            <p:nvPr/>
          </p:nvSpPr>
          <p:spPr>
            <a:xfrm>
              <a:off x="830592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32"/>
            <p:cNvSpPr/>
            <p:nvPr/>
          </p:nvSpPr>
          <p:spPr>
            <a:xfrm>
              <a:off x="12193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Text Box 33"/>
            <p:cNvSpPr/>
            <p:nvPr/>
          </p:nvSpPr>
          <p:spPr>
            <a:xfrm>
              <a:off x="685800" y="3276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Text Box 34"/>
            <p:cNvSpPr/>
            <p:nvPr/>
          </p:nvSpPr>
          <p:spPr>
            <a:xfrm>
              <a:off x="2210040" y="327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35"/>
            <p:cNvSpPr/>
            <p:nvPr/>
          </p:nvSpPr>
          <p:spPr>
            <a:xfrm>
              <a:off x="35053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Text Box 36"/>
            <p:cNvSpPr/>
            <p:nvPr/>
          </p:nvSpPr>
          <p:spPr>
            <a:xfrm>
              <a:off x="40388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Text Box 37"/>
            <p:cNvSpPr/>
            <p:nvPr/>
          </p:nvSpPr>
          <p:spPr>
            <a:xfrm>
              <a:off x="52578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38"/>
            <p:cNvSpPr/>
            <p:nvPr/>
          </p:nvSpPr>
          <p:spPr>
            <a:xfrm>
              <a:off x="71629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Text Box 39"/>
            <p:cNvSpPr/>
            <p:nvPr/>
          </p:nvSpPr>
          <p:spPr>
            <a:xfrm>
              <a:off x="76964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40"/>
            <p:cNvSpPr/>
            <p:nvPr/>
          </p:nvSpPr>
          <p:spPr>
            <a:xfrm flipV="1">
              <a:off x="38102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41"/>
            <p:cNvSpPr/>
            <p:nvPr/>
          </p:nvSpPr>
          <p:spPr>
            <a:xfrm flipV="1">
              <a:off x="601992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Text Box 42"/>
            <p:cNvSpPr/>
            <p:nvPr/>
          </p:nvSpPr>
          <p:spPr>
            <a:xfrm>
              <a:off x="1905120" y="5334120"/>
              <a:ext cx="2133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nd[0..18] = 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romosome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Text Box 43"/>
            <p:cNvSpPr/>
            <p:nvPr/>
          </p:nvSpPr>
          <p:spPr>
            <a:xfrm>
              <a:off x="4114800" y="5334120"/>
              <a:ext cx="228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nd[0..18] = 12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romosome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9FE0-DD68-4719-B5C6-E79CB77B20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oss-Over and M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do individuals reproduc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5" name="Picture 4" descr=""/>
          <p:cNvPicPr/>
          <p:nvPr/>
        </p:nvPicPr>
        <p:blipFill>
          <a:blip r:embed="rId1"/>
          <a:stretch/>
        </p:blipFill>
        <p:spPr>
          <a:xfrm>
            <a:off x="914400" y="3219480"/>
            <a:ext cx="7696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28E-94ED-4865-ACF3-74AFA7C5A68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Crossover - Recombin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677880" y="2496960"/>
            <a:ext cx="7620120" cy="3491640"/>
            <a:chOff x="677880" y="2496960"/>
            <a:chExt cx="7620120" cy="3491640"/>
          </a:xfrm>
        </p:grpSpPr>
        <p:sp>
          <p:nvSpPr>
            <p:cNvPr id="1029" name="Text Box 7"/>
            <p:cNvSpPr/>
            <p:nvPr/>
          </p:nvSpPr>
          <p:spPr>
            <a:xfrm>
              <a:off x="923760" y="28004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cf01"/>
                  </a:solidFill>
                  <a:latin typeface="Times New Roman"/>
                </a:rPr>
                <a:t>101000000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Text Box 8"/>
            <p:cNvSpPr/>
            <p:nvPr/>
          </p:nvSpPr>
          <p:spPr>
            <a:xfrm>
              <a:off x="923760" y="34862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66"/>
                  </a:solidFill>
                  <a:latin typeface="Times New Roman"/>
                </a:rPr>
                <a:t>100101111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9"/>
            <p:cNvSpPr/>
            <p:nvPr/>
          </p:nvSpPr>
          <p:spPr>
            <a:xfrm>
              <a:off x="1581120" y="249696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Text Box 10"/>
            <p:cNvSpPr/>
            <p:nvPr/>
          </p:nvSpPr>
          <p:spPr>
            <a:xfrm>
              <a:off x="677880" y="4361040"/>
              <a:ext cx="179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rossover single point - rando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Text Box 11"/>
            <p:cNvSpPr/>
            <p:nvPr/>
          </p:nvSpPr>
          <p:spPr>
            <a:xfrm>
              <a:off x="6240600" y="27972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cf01"/>
                  </a:solidFill>
                  <a:latin typeface="Times New Roman"/>
                </a:rPr>
                <a:t>101</a:t>
              </a:r>
              <a:r>
                <a:rPr b="0" lang="en-GB" sz="2800" spc="-1" strike="noStrike">
                  <a:solidFill>
                    <a:srgbClr val="ff6666"/>
                  </a:solidFill>
                  <a:latin typeface="Times New Roman"/>
                </a:rPr>
                <a:t>101111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12"/>
            <p:cNvSpPr/>
            <p:nvPr/>
          </p:nvSpPr>
          <p:spPr>
            <a:xfrm>
              <a:off x="6240600" y="34830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66"/>
                  </a:solidFill>
                  <a:latin typeface="Times New Roman"/>
                </a:rPr>
                <a:t>101</a:t>
              </a:r>
              <a:r>
                <a:rPr b="0" lang="en-GB" sz="2800" spc="-1" strike="noStrike">
                  <a:solidFill>
                    <a:srgbClr val="ffcf01"/>
                  </a:solidFill>
                  <a:latin typeface="Times New Roman"/>
                </a:rPr>
                <a:t>000000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Text Box 13"/>
            <p:cNvSpPr/>
            <p:nvPr/>
          </p:nvSpPr>
          <p:spPr>
            <a:xfrm>
              <a:off x="3147840" y="2822400"/>
              <a:ext cx="15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arent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Text Box 14"/>
            <p:cNvSpPr/>
            <p:nvPr/>
          </p:nvSpPr>
          <p:spPr>
            <a:xfrm>
              <a:off x="3133800" y="3584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arent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5"/>
            <p:cNvSpPr/>
            <p:nvPr/>
          </p:nvSpPr>
          <p:spPr>
            <a:xfrm>
              <a:off x="4529160" y="285120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fspring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Text Box 16"/>
            <p:cNvSpPr/>
            <p:nvPr/>
          </p:nvSpPr>
          <p:spPr>
            <a:xfrm>
              <a:off x="4541760" y="358128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fspring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Text Box 17"/>
            <p:cNvSpPr/>
            <p:nvPr/>
          </p:nvSpPr>
          <p:spPr>
            <a:xfrm>
              <a:off x="3117960" y="4797360"/>
              <a:ext cx="515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ith some high probability 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crossover ra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apply crossover to the parents. 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ypical values are 0.8 to 0.9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C31-8491-4289-AD8E-B3DE0A1AA37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3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4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871560" y="561024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nnect in a different way  (there is only one valid new w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6"/>
          <p:cNvSpPr/>
          <p:nvPr/>
        </p:nvSpPr>
        <p:spPr>
          <a:xfrm flipH="1">
            <a:off x="2627280" y="371628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7"/>
          <p:cNvSpPr/>
          <p:nvPr/>
        </p:nvSpPr>
        <p:spPr>
          <a:xfrm flipV="1">
            <a:off x="1403280" y="3068640"/>
            <a:ext cx="4176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CFB1-D24D-43E7-ABC9-56D0F6190B6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Mut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2049480" y="20350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11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Text Box 17"/>
          <p:cNvSpPr/>
          <p:nvPr/>
        </p:nvSpPr>
        <p:spPr>
          <a:xfrm>
            <a:off x="2049480" y="27208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1</a:t>
            </a: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338040" y="2089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351000" y="28195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Text Box 20"/>
          <p:cNvSpPr/>
          <p:nvPr/>
        </p:nvSpPr>
        <p:spPr>
          <a:xfrm>
            <a:off x="6496200" y="20192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Text Box 21"/>
          <p:cNvSpPr/>
          <p:nvPr/>
        </p:nvSpPr>
        <p:spPr>
          <a:xfrm>
            <a:off x="6496200" y="27050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Text Box 22"/>
          <p:cNvSpPr/>
          <p:nvPr/>
        </p:nvSpPr>
        <p:spPr>
          <a:xfrm>
            <a:off x="4784760" y="20732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797360" y="28036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Line 24"/>
          <p:cNvSpPr/>
          <p:nvPr/>
        </p:nvSpPr>
        <p:spPr>
          <a:xfrm>
            <a:off x="7605720" y="117144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746280" y="486900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some small probability (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utation r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flip each bit in the offspring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ypical values between 0.1 and 0.00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7099200" y="7761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946080" y="3556080"/>
            <a:ext cx="29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inal offsp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Line 28"/>
          <p:cNvSpPr/>
          <p:nvPr/>
        </p:nvSpPr>
        <p:spPr>
          <a:xfrm flipH="1">
            <a:off x="7097400" y="1200240"/>
            <a:ext cx="366840" cy="15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6008760" y="3600360"/>
            <a:ext cx="25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tated offsp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C6C-3950-4FC0-8B7F-AB874C7059A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 is an iterative process and can be describe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initial population of “solutions” (think:  chromosom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fitness of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for evolution of new (and potentially better) solution pop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via “crossover,”  “mutatio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 when “optimality” criteria are satisfi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333E-3C1B-45BD-9B95-6C01C015A8B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nitialize population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vidual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  For each Individu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ute its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  While max fitness &lt; threshold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  Return the Individual with highest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8859-84BA-4F17-A8DA-41BDAE63228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(1-r)p members of P and add them to Ps. The probability of selecting a member is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(hi) = Fitness (hi) /  Σj Fitness (h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over: select rp/2 pairs of hypotheses from P according to P(h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pair (h1,h2) produce two offspring by applying the Crossover operator. Add all offspring to P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ate: Choose mp members of Ps with uniform probability. Invert  one bit in the representation random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P with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: for each h compute its fit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FA52-7109-4888-BC66-D88EF80BAB2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ochastic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arch: Genetic Algorithm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7" name="Picture 3" descr=""/>
          <p:cNvPicPr/>
          <p:nvPr/>
        </p:nvPicPr>
        <p:blipFill>
          <a:blip r:embed="rId1"/>
          <a:stretch/>
        </p:blipFill>
        <p:spPr>
          <a:xfrm>
            <a:off x="533520" y="187488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C116-B3D4-456B-B5F7-B15C32B7E73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Oval 8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CC1-0151-41D3-A9D7-248EDBF5A19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Oval 8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Oval 10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Oval 11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Oval 12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Line 13"/>
          <p:cNvSpPr/>
          <p:nvPr/>
        </p:nvSpPr>
        <p:spPr>
          <a:xfrm>
            <a:off x="2895480" y="31240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Line 14"/>
          <p:cNvSpPr/>
          <p:nvPr/>
        </p:nvSpPr>
        <p:spPr>
          <a:xfrm flipH="1" flipV="1">
            <a:off x="5638320" y="2437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Text Box 15"/>
          <p:cNvSpPr/>
          <p:nvPr/>
        </p:nvSpPr>
        <p:spPr>
          <a:xfrm>
            <a:off x="5715000" y="2316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16"/>
          <p:cNvSpPr/>
          <p:nvPr/>
        </p:nvSpPr>
        <p:spPr>
          <a:xfrm>
            <a:off x="312408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ross-O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438-54BA-489B-AE2E-1B03CF96A2A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Oval 8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Oval 10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Oval 11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Oval 12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B7EB-B7D5-4020-84E8-C5C7DD486C2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Oval 11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Oval 12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2793-F793-45D3-967C-F42B2E44F20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Oval 6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Oval 7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Oval 8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Oval 9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Line 10"/>
          <p:cNvSpPr/>
          <p:nvPr/>
        </p:nvSpPr>
        <p:spPr>
          <a:xfrm flipH="1">
            <a:off x="3428640" y="358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Oval 11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Oval 12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Oval 13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Oval 14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Line 15"/>
          <p:cNvSpPr/>
          <p:nvPr/>
        </p:nvSpPr>
        <p:spPr>
          <a:xfrm flipV="1">
            <a:off x="6324480" y="2971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Line 16"/>
          <p:cNvSpPr/>
          <p:nvPr/>
        </p:nvSpPr>
        <p:spPr>
          <a:xfrm flipV="1">
            <a:off x="41911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C88A-D004-4014-BC7A-A7D255DFEBB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Oval 6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Oval 7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Oval 8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Oval 9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Oval 11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Oval 12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Oval 13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Oval 14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E3E0-CEF1-4419-A4FF-93AB7A1D9BD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Oval 8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Oval 11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Oval 12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Oval 13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977-1FDF-4D8C-A53B-004DE6ED896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Oval 7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Oval 9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FED-9E96-4945-BF98-2C5052453B1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Oval 6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Oval 7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Oval 9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Line 10"/>
          <p:cNvSpPr/>
          <p:nvPr/>
        </p:nvSpPr>
        <p:spPr>
          <a:xfrm flipV="1">
            <a:off x="4495680" y="365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Oval 11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Oval 12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Oval 13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Line 14"/>
          <p:cNvSpPr/>
          <p:nvPr/>
        </p:nvSpPr>
        <p:spPr>
          <a:xfrm flipH="1">
            <a:off x="3429000" y="41911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Line 15"/>
          <p:cNvSpPr/>
          <p:nvPr/>
        </p:nvSpPr>
        <p:spPr>
          <a:xfrm>
            <a:off x="4038480" y="3657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Oval 1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Oval 17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468C-886D-43B5-A4CB-4AB295B2A1B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Oval 6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Oval 7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9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Oval 11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Oval 12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Oval 13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Oval 1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Oval 17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3B85-CC89-40B8-9CED-207187BD721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Oval 10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Oval 11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Oval 12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C810-8FC8-465B-9E64-C1758EEB37A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Oval 7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154-D12F-4714-B99C-CF1FFE75646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Oval 7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Line 10"/>
          <p:cNvSpPr/>
          <p:nvPr/>
        </p:nvSpPr>
        <p:spPr>
          <a:xfrm flipV="1">
            <a:off x="4572000" y="44193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1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Oval 12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Oval 14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Line 15"/>
          <p:cNvSpPr/>
          <p:nvPr/>
        </p:nvSpPr>
        <p:spPr>
          <a:xfrm flipH="1" flipV="1">
            <a:off x="274284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Line 16"/>
          <p:cNvSpPr/>
          <p:nvPr/>
        </p:nvSpPr>
        <p:spPr>
          <a:xfrm>
            <a:off x="4495680" y="3886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Oval 17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011-3E3A-4973-B658-4A99B68240B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Oval 7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Oval 11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Oval 12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Oval 13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Oval 14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Oval 17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2DBA-9CEB-48DD-AA45-D21BFFDC1A7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Oval 10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Oval 11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EF7F-32A8-43A2-ACDF-7CA09E33F60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arch algorithms we have seen so far keep track of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in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f the search space, and 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fin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problems, one doesn’t care about a solution path but only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entation of the final goal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8-queen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earch algorithms operate on a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tate – 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d move to one of it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ighboring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path needs not be mainta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the search is “local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45F3-A281-4ECE-B651-73D87B8C91A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Oval 6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Oval 7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Oval 8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Oval 9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Oval 10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Oval 11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Oval 12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Line 13"/>
          <p:cNvSpPr/>
          <p:nvPr/>
        </p:nvSpPr>
        <p:spPr>
          <a:xfrm>
            <a:off x="457200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Line 14"/>
          <p:cNvSpPr/>
          <p:nvPr/>
        </p:nvSpPr>
        <p:spPr>
          <a:xfrm>
            <a:off x="45720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Oval 15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Oval 16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Line 17"/>
          <p:cNvSpPr/>
          <p:nvPr/>
        </p:nvSpPr>
        <p:spPr>
          <a:xfrm flipV="1">
            <a:off x="5105520" y="38862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77AA-D837-4D81-B28E-9104388BC56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Oval 6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Oval 8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Oval 9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Oval 10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Oval 11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Oval 12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Oval 15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Oval 16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812-2B10-4EC3-B345-91E263D96D6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Oval 8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Oval 9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Oval 11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Oval 12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281-9AC4-4E7B-AEF4-6EBD2A7FFAA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Oval 6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Oval 7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8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Oval 9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Line 10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Line 11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: 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2743-103A-47C3-93C7-1B54984E5C5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685800" y="2362320"/>
            <a:ext cx="373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enetic programming (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ming of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y Means of Simulated Ev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w to Program a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thout Explicitly Telling It What to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enetic Programming is Genetic Algorithms where solutions are programs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8" name="Picture 5" descr=""/>
          <p:cNvPicPr/>
          <p:nvPr/>
        </p:nvPicPr>
        <p:blipFill>
          <a:blip r:embed="rId1"/>
          <a:stretch/>
        </p:blipFill>
        <p:spPr>
          <a:xfrm>
            <a:off x="5649840" y="2943360"/>
            <a:ext cx="2800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865-6E26-448E-96AD-3335CAF1195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n the chromosome encodes an entire program or function itself this is called genetic programming (G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order to make this work,encoding is often done in the form of a tree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ossover entials swaping subtrees between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254-0001-4816-99B7-3E0F472D6D1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4" name="Picture 5" descr=""/>
          <p:cNvPicPr/>
          <p:nvPr/>
        </p:nvPicPr>
        <p:blipFill>
          <a:blip r:embed="rId1"/>
          <a:stretch/>
        </p:blipFill>
        <p:spPr>
          <a:xfrm>
            <a:off x="825480" y="2081160"/>
            <a:ext cx="7373880" cy="282564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6"/>
          <p:cNvSpPr/>
          <p:nvPr/>
        </p:nvSpPr>
        <p:spPr>
          <a:xfrm>
            <a:off x="1241280" y="523548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possible to evolve whole programs like this but only small ones. Large programs with complex functions present big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6B67-6654-4BCA-8644-D9B9D393FE7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295280" y="182880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9" name="Group 9"/>
          <p:cNvGrpSpPr/>
          <p:nvPr/>
        </p:nvGrpSpPr>
        <p:grpSpPr>
          <a:xfrm>
            <a:off x="2819520" y="2438280"/>
            <a:ext cx="3961800" cy="3885840"/>
            <a:chOff x="2819520" y="2438280"/>
            <a:chExt cx="3961800" cy="3885840"/>
          </a:xfrm>
        </p:grpSpPr>
        <p:pic>
          <p:nvPicPr>
            <p:cNvPr id="1320" name="Picture 5" descr=""/>
            <p:cNvPicPr/>
            <p:nvPr/>
          </p:nvPicPr>
          <p:blipFill>
            <a:blip r:embed="rId1"/>
            <a:stretch/>
          </p:blipFill>
          <p:spPr>
            <a:xfrm>
              <a:off x="2819520" y="2438280"/>
              <a:ext cx="3961800" cy="38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Picture 7" descr=""/>
            <p:cNvPicPr/>
            <p:nvPr/>
          </p:nvPicPr>
          <p:blipFill>
            <a:blip r:embed="rId2"/>
            <a:stretch/>
          </p:blipFill>
          <p:spPr>
            <a:xfrm>
              <a:off x="2843640" y="5870880"/>
              <a:ext cx="660240" cy="25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2" name="Rectangle 10"/>
          <p:cNvSpPr/>
          <p:nvPr/>
        </p:nvSpPr>
        <p:spPr>
          <a:xfrm>
            <a:off x="5335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Text Box 11"/>
          <p:cNvSpPr/>
          <p:nvPr/>
        </p:nvSpPr>
        <p:spPr>
          <a:xfrm>
            <a:off x="990720" y="2590920"/>
            <a:ext cx="1676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d Spi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Rectangle 12"/>
          <p:cNvSpPr/>
          <p:nvPr/>
        </p:nvSpPr>
        <p:spPr>
          <a:xfrm>
            <a:off x="533520" y="33670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Text Box 13"/>
          <p:cNvSpPr/>
          <p:nvPr/>
        </p:nvSpPr>
        <p:spPr>
          <a:xfrm>
            <a:off x="990720" y="3290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lue Spi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25D-AFC6-4AB9-A4A9-57497E8F73E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1295280" y="1828800"/>
            <a:ext cx="643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9" name="Picture 7" descr=""/>
          <p:cNvPicPr/>
          <p:nvPr/>
        </p:nvPicPr>
        <p:blipFill>
          <a:blip r:embed="rId1"/>
          <a:stretch/>
        </p:blipFill>
        <p:spPr>
          <a:xfrm>
            <a:off x="1676520" y="2340000"/>
            <a:ext cx="59436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AD3A-F601-41BD-A7EC-A73977397C3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4" descr="4queens-sequence"/>
          <p:cNvPicPr/>
          <p:nvPr/>
        </p:nvPicPr>
        <p:blipFill>
          <a:blip r:embed="rId1"/>
          <a:stretch/>
        </p:blipFill>
        <p:spPr>
          <a:xfrm>
            <a:off x="1143000" y="3898800"/>
            <a:ext cx="7238880" cy="18050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1295280" y="205740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N Queens on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×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ard with no two queens on the same row, column, or diag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371600" y="58672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itial state … Improve it … using local transformations  (perturbatio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, PSO, QGA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9B5-32B6-4BB1-AE4A-D31637B82A4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ything to be Learnt from Ant Coloni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airly simple units generate complicated global behavio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 ant colony expresses a complex collective behavior provid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lligent solutions to problem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uch a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rrying large i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ming brid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 the shortest routes from the nest to a food 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rioritizing food sources based on their distance and ease of acce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If we knew how an ant colony works, we might understand more about how all such systems work, from brains to ecosystems.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Gordon, 199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5" name="Picture 4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3810240" cy="20574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5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92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506C-9ADE-4132-9CDB-F2145121251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9" name="Picture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2296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7597-6656-4CB9-9361-251C5062BA7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2" name="Picture 8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579920" cy="417816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10"/>
          <p:cNvSpPr/>
          <p:nvPr/>
        </p:nvSpPr>
        <p:spPr>
          <a:xfrm>
            <a:off x="1371600" y="1828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s get to find the shortest path after few minutes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908C-1E6D-47EC-8282-481981A0A9A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 Colony Optimiz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410440" cy="367056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8"/>
          <p:cNvSpPr/>
          <p:nvPr/>
        </p:nvSpPr>
        <p:spPr>
          <a:xfrm>
            <a:off x="990720" y="182880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Each artificial ant is a probabilistic mechanism that constructs a solution to the problem, usin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tificial pheromone de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Heuristic information: pheromone trails, already visited cities memory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F4B-E389-4257-A135-7D9F2C984F7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SP Solved using AC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0" name="Group 6"/>
          <p:cNvGrpSpPr/>
          <p:nvPr/>
        </p:nvGrpSpPr>
        <p:grpSpPr>
          <a:xfrm>
            <a:off x="1401840" y="1260360"/>
            <a:ext cx="7056360" cy="5369040"/>
            <a:chOff x="1401840" y="1260360"/>
            <a:chExt cx="7056360" cy="5369040"/>
          </a:xfrm>
        </p:grpSpPr>
        <p:pic>
          <p:nvPicPr>
            <p:cNvPr id="1351" name="Picture 7" descr=""/>
            <p:cNvPicPr/>
            <p:nvPr/>
          </p:nvPicPr>
          <p:blipFill>
            <a:blip r:embed="rId1"/>
            <a:stretch/>
          </p:blipFill>
          <p:spPr>
            <a:xfrm>
              <a:off x="1401840" y="1279440"/>
              <a:ext cx="233820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Picture 8" descr=""/>
            <p:cNvPicPr/>
            <p:nvPr/>
          </p:nvPicPr>
          <p:blipFill>
            <a:blip r:embed="rId2"/>
            <a:srcRect l="0" t="1890" r="0" b="0"/>
            <a:stretch/>
          </p:blipFill>
          <p:spPr>
            <a:xfrm>
              <a:off x="3714840" y="1260360"/>
              <a:ext cx="2431800" cy="27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9" descr=""/>
            <p:cNvPicPr/>
            <p:nvPr/>
          </p:nvPicPr>
          <p:blipFill>
            <a:blip r:embed="rId3"/>
            <a:stretch/>
          </p:blipFill>
          <p:spPr>
            <a:xfrm>
              <a:off x="6081840" y="1279440"/>
              <a:ext cx="226836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10" descr=""/>
            <p:cNvPicPr/>
            <p:nvPr/>
          </p:nvPicPr>
          <p:blipFill>
            <a:blip r:embed="rId4"/>
            <a:stretch/>
          </p:blipFill>
          <p:spPr>
            <a:xfrm>
              <a:off x="1401840" y="3711600"/>
              <a:ext cx="2307960" cy="27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Picture 11" descr=""/>
            <p:cNvPicPr/>
            <p:nvPr/>
          </p:nvPicPr>
          <p:blipFill>
            <a:blip r:embed="rId5"/>
            <a:stretch/>
          </p:blipFill>
          <p:spPr>
            <a:xfrm>
              <a:off x="3714840" y="3711600"/>
              <a:ext cx="23875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Picture 12" descr=""/>
            <p:cNvPicPr/>
            <p:nvPr/>
          </p:nvPicPr>
          <p:blipFill>
            <a:blip r:embed="rId6"/>
            <a:stretch/>
          </p:blipFill>
          <p:spPr>
            <a:xfrm>
              <a:off x="6027840" y="3655800"/>
              <a:ext cx="2430360" cy="297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E91D-012B-4944-AF5E-087AEB830E4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80880" y="18745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cal search methods keep small number of nodes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uitable for problems where the solution is the goal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elf and not the p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ill climbing, simulated annealing and local beam search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local search algorith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ochastic algorithms represent another class of methods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ed search. Genetic algorithms are a kind of stochastic hill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bing search in which a large population of states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ed. New states are generated by mutation and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over which combines pairs of states from the population.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7B7A-622E-4C81-9301-549E6C3607F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844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Basic idea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cal search algorithms operate o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 – current state – and move to one of its neighboring st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ep a single "current" state, try to improv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lution path needs not be main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the search is “local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little mem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pplicable in searching large/infinite search space. They fi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asonable 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c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007F-3A29-44D4-A7D5-9C5C392E16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 for optimization Proble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ocal search algorithms are very useful for optimization proble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ystematic search doesn’t wor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owever, can start with a suboptimal solution and improve 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oal: find a state such that the objective function is optimiz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84480" cy="30844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2"/>
          <p:cNvSpPr/>
          <p:nvPr/>
        </p:nvSpPr>
        <p:spPr>
          <a:xfrm>
            <a:off x="5715000" y="533412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imize the numb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atta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l Climb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C3CE-A963-4EFF-89C1-8174D33652D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: State Spa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hill-climbing-picture"/>
          <p:cNvPicPr/>
          <p:nvPr/>
        </p:nvPicPr>
        <p:blipFill>
          <a:blip r:embed="rId1"/>
          <a:stretch/>
        </p:blipFill>
        <p:spPr>
          <a:xfrm>
            <a:off x="1994040" y="3124080"/>
            <a:ext cx="5626080" cy="3149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609480" y="19810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 space landsc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raph of states associated with their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A884-47BB-464B-8B62-2D8BB5B0375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cf01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467480" cy="20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Hill climbing search algorithm (also known as greedy local search) uses a loop that continually moves in the direction of increasing values (that is uphil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teminates when it reaches a peak where no neighbor has a higher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219320" y="182880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Like climbing Everest in thick fog with amnesia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3200400" y="2209680"/>
            <a:ext cx="3657600" cy="2133360"/>
            <a:chOff x="3200400" y="2209680"/>
            <a:chExt cx="3657600" cy="2133360"/>
          </a:xfrm>
        </p:grpSpPr>
        <p:pic>
          <p:nvPicPr>
            <p:cNvPr id="222" name="Picture 6" descr="hill"/>
            <p:cNvPicPr/>
            <p:nvPr/>
          </p:nvPicPr>
          <p:blipFill>
            <a:blip r:embed="rId1"/>
            <a:stretch/>
          </p:blipFill>
          <p:spPr>
            <a:xfrm>
              <a:off x="3200400" y="2209680"/>
              <a:ext cx="3657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9"/>
            <p:cNvSpPr/>
            <p:nvPr/>
          </p:nvSpPr>
          <p:spPr>
            <a:xfrm>
              <a:off x="3276720" y="3553200"/>
              <a:ext cx="761760" cy="5526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336"/>
                  </a:moveTo>
                  <a:cubicBezTo>
                    <a:pt x="64" y="268"/>
                    <a:pt x="128" y="200"/>
                    <a:pt x="192" y="144"/>
                  </a:cubicBezTo>
                  <a:cubicBezTo>
                    <a:pt x="256" y="88"/>
                    <a:pt x="352" y="24"/>
                    <a:pt x="38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Local Search for</a:t>
            </a:r>
            <a:br>
              <a:rPr sz="3200"/>
            </a:b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mization Probl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DC6-387B-467D-BE7E-7F6A7E3B2F9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cf01"/>
                </a:solidFill>
                <a:latin typeface="Tahoma"/>
              </a:rPr>
              <a:t>Steepest Ascent Vers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99"/>
                </a:solidFill>
                <a:latin typeface="Tahoma"/>
              </a:rPr>
              <a:t>Steepest asc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Functio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Hill climbing (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)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retur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state that is a local maxim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nput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probl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cal variable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                        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Make-Node (initial-state [problem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a highest-valued successor of cur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f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≤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the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return state [curren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1340-D1DD-466A-B294-E795DE839F7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ll Climbing: Neighborh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580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ider the 8-queen proble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tate contains 8 queens on the boa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neighborhood of a state is all states generated by moving a single queen to another square in the same column (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*7 = 56 next state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bjective function h(s) = number of queens that attack each other in state 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4" descr="8queens-heuristic"/>
          <p:cNvPicPr/>
          <p:nvPr/>
        </p:nvPicPr>
        <p:blipFill>
          <a:blip r:embed="rId1"/>
          <a:stretch/>
        </p:blipFill>
        <p:spPr>
          <a:xfrm>
            <a:off x="2362320" y="3778200"/>
            <a:ext cx="5486400" cy="2317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362320" y="61722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(s) = 17 best next is 1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(s)=1 [local minima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FE0-D7B8-4E9A-B1DC-4D820FB5AC3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f01"/>
                </a:solidFill>
                <a:latin typeface="Tahoma"/>
              </a:rPr>
              <a:t>Hill Climbing Drawback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9472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Local maxima/minima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arch can get stuck on a local maximum/minimum and not find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5" descr="8queens-local-minimum"/>
          <p:cNvPicPr/>
          <p:nvPr/>
        </p:nvPicPr>
        <p:blipFill>
          <a:blip r:embed="rId1"/>
          <a:stretch/>
        </p:blipFill>
        <p:spPr>
          <a:xfrm>
            <a:off x="6267600" y="291456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6400800" y="5486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al minim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Object 12"/>
          <p:cNvGraphicFramePr/>
          <p:nvPr/>
        </p:nvGraphicFramePr>
        <p:xfrm>
          <a:off x="304920" y="3124080"/>
          <a:ext cx="594360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124080"/>
                    <a:ext cx="59436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 Box 13"/>
          <p:cNvSpPr/>
          <p:nvPr/>
        </p:nvSpPr>
        <p:spPr>
          <a:xfrm>
            <a:off x="1295280" y="5867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C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Random rest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Good for Only few local max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1C01-C052-40BA-B8BE-D9A2CC0A60E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C36-E473-47A7-8288-15C720F0E07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9B25-F21D-45EC-9457-367BACC90A5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ACBE-5B7A-4159-8EEC-14E5C4D6BC8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8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E4E-E2B8-44C1-82B5-1A15031A2C6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8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CF3D-E5B1-490D-899A-FD4C48783D4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tochastic hill climbing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31E0-1B35-4A40-A169-12CB0E4340A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E181-6038-4554-8301-1DAEBD7AC12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Idea: escape local maxima by allowing some "bad" moves bu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adually decre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i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Take some uphill steps to escape the local min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nstead of picking the best move, it picks a random m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f the move improves the situation, it is executed. Otherwise, move with some probability less than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nalogy with the annealing proce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ing liquid to gradually cool until it free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heuristic value is the energy, 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e parameter, T, controls speed of converg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46AB-154C-411D-B7F6-EDEC0D72421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Basic inspiration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: What is anneal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n mettallurgy, annealing is the physical process used to temper or harden metals or glass by heating them to a high temperature and then gradually cooling them, thus allowing the material to coalesce into a low energy cristalline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f01"/>
                </a:solidFill>
                <a:latin typeface="Tahoma"/>
              </a:rPr>
              <a:t>Heating then slowly cooling a substance to obtain a strong cristalline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Key idea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Simulated Annealing combines Hill Climbing with a random walk in some way that yields both efficiency and complete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sed to solve VLSI layout problems in the early 19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ADC0-2E8E-4FA6-B814-9A41EF73D9F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2" name="Picture 8" descr="image004"/>
          <p:cNvPicPr/>
          <p:nvPr/>
        </p:nvPicPr>
        <p:blipFill>
          <a:blip r:embed="rId1"/>
          <a:stretch/>
        </p:blipFill>
        <p:spPr>
          <a:xfrm>
            <a:off x="1371600" y="1828800"/>
            <a:ext cx="6562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0A02-898D-4048-A0A5-09B5C4C20BD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447920" y="1789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0C7-D941-4DF6-ABF1-823DE39A40F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Temperature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Used to determine the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High T : large chan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 T : small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Cooling Schedu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Determines rate at which the temperature T is lowe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ers T slowly enough, the algorithm will find a global opt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In the beginning, aggressive for searching alternatives, become conservative when time goes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D82C-66CF-487A-9F4F-13E4D8672C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9"/>
          <p:cNvSpPr/>
          <p:nvPr/>
        </p:nvSpPr>
        <p:spPr>
          <a:xfrm flipH="1">
            <a:off x="2819160" y="2590920"/>
            <a:ext cx="106668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9E76-4156-4EB0-A6A9-5BF0F43CE1A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Oval 6"/>
          <p:cNvSpPr/>
          <p:nvPr/>
        </p:nvSpPr>
        <p:spPr>
          <a:xfrm>
            <a:off x="281952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9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6AF7-4A1B-4950-8080-D51302D875B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2743200" y="3124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9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E67-AF97-40E4-ABBC-E163DB5125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28954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3048120" y="2590920"/>
            <a:ext cx="83808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6D85-9BB6-4965-A4EA-6925008B9DC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29718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9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13BB-CC2A-4D68-B2C2-1FAA7D41789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piece values, board orientations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veling Salesman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length of a tour (sum of distances between visited cit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A36C-803A-4D3C-B40D-82E478CB7E5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Oval 6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9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1F04-AEF8-439F-A0B8-7853D903BE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D63-DBCE-46D9-988E-81783500DC8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3505320" y="3886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0AB-8FE3-42C9-95B6-BF4C6C6A1B7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3809880" y="34290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B089-CB58-46C3-BA0C-9177A8E689F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35812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D313-370E-479B-B0DD-B4AE1B86BB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DFFC-548F-4FB3-A265-6F7BDF3C6B8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038-50D7-4B00-B976-CAFF50308A2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41911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528-ACB4-4B54-81FD-6B438A88BAD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4518-EB6E-48BF-9709-0AB3765E7D6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Oval 6"/>
          <p:cNvSpPr/>
          <p:nvPr/>
        </p:nvSpPr>
        <p:spPr>
          <a:xfrm>
            <a:off x="441972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74A-E46E-4FD9-8D4B-180F2A665A0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4278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traversing all cities o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54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3AE4-B13F-4E2C-939C-8EAA83CC444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Oval 6"/>
          <p:cNvSpPr/>
          <p:nvPr/>
        </p:nvSpPr>
        <p:spPr>
          <a:xfrm>
            <a:off x="4419720" y="44197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9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1F20-0EBD-4DC9-9757-D53E545DC65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3886200" y="2590920"/>
            <a:ext cx="533520" cy="2361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576-3F91-45C7-9601-AC6455EED86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Oval 6"/>
          <p:cNvSpPr/>
          <p:nvPr/>
        </p:nvSpPr>
        <p:spPr>
          <a:xfrm>
            <a:off x="4572000" y="5029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6909-F55D-4F65-97CC-968B882F62A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6628-7237-4C09-AC2B-EF399040AA5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8860-66BB-491E-9C6F-70F87EA383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4724280" y="50292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5EB-CA4C-4A58-8A45-6783212D921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97E-6381-417D-94AB-862F864FC1B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Oval 6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12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ill climbing with small memo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5154-CF39-4D04-ACDD-DB32F20E537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u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basic concept of Tabu Search as described by Glover (1986) is "a meta-heuristic superimposed on another heuristi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overall approach is to avoid entrainment in cycles by forbidding or penalizing moves which take the solution, in the next iteration, to points in the solution space previously visited ( hence "tabu"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Tabu search is fairly new, Glover attributes it's origin to about 1977 (see Glover, 1977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0D0-FA93-4BA1-834F-F94E5DC1FB6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: Exhaustive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enerate and Test) 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all tou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bout (n-1)!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 = 36 the number is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6573983193072464833325668761600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Viable Approach 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34120" y="1940040"/>
            <a:ext cx="35049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DC91-09A6-4140-A0A6-CA6C083007A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AB3F-464E-4390-B1AE-6463053C11C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9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88EF-D5DB-4D2F-8037-281CB5FD5B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8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val 9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AC3A-87BD-45C8-9614-7BDA037D18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8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96E-E323-44BD-8910-B80ADCB30DA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9D67-9540-47FA-A857-AE87FFE34FA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9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AB4-46E7-4B65-8E79-149CC797573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Oval 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Oval 9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6563-1EC6-424D-9E4C-C065ED11DDB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Oval 9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1C7C-DFBC-4418-BE03-686A3F4458D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Oval 6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635E-C624-4BB8-8ABC-FA05FD6D57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Oval 6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Oval 9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0426-D09B-4E91-87F0-0BE08B8F19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olution: Start from an initial solution and improve using local transform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 10"/>
          <p:cNvGrpSpPr/>
          <p:nvPr/>
        </p:nvGrpSpPr>
        <p:grpSpPr>
          <a:xfrm>
            <a:off x="533520" y="2884320"/>
            <a:ext cx="8229600" cy="3440160"/>
            <a:chOff x="533520" y="2884320"/>
            <a:chExt cx="8229600" cy="3440160"/>
          </a:xfrm>
        </p:grpSpPr>
        <p:pic>
          <p:nvPicPr>
            <p:cNvPr id="120" name="Picture 7" descr=""/>
            <p:cNvPicPr/>
            <p:nvPr/>
          </p:nvPicPr>
          <p:blipFill>
            <a:blip r:embed="rId1"/>
            <a:stretch/>
          </p:blipFill>
          <p:spPr>
            <a:xfrm>
              <a:off x="533520" y="3304800"/>
              <a:ext cx="426744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"/>
            <p:cNvPicPr/>
            <p:nvPr/>
          </p:nvPicPr>
          <p:blipFill>
            <a:blip r:embed="rId2"/>
            <a:stretch/>
          </p:blipFill>
          <p:spPr>
            <a:xfrm>
              <a:off x="4953240" y="2884320"/>
              <a:ext cx="3809880" cy="30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9" descr=""/>
            <p:cNvPicPr/>
            <p:nvPr/>
          </p:nvPicPr>
          <p:blipFill>
            <a:blip r:embed="rId3"/>
            <a:stretch/>
          </p:blipFill>
          <p:spPr>
            <a:xfrm>
              <a:off x="6324840" y="5972040"/>
              <a:ext cx="1619280" cy="3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171-05D1-44E0-8C0C-FB858209EE5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Oval 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Oval 9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DFE-43BF-4F39-A6E5-9ABA7318AB5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Oval 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8"/>
          <p:cNvSpPr/>
          <p:nvPr/>
        </p:nvSpPr>
        <p:spPr>
          <a:xfrm>
            <a:off x="3886200" y="2362320"/>
            <a:ext cx="609480" cy="2209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DAC0-0582-47A3-9B01-E2FAC60F97C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E071-D3F7-4367-8747-A1C7CB177A9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Oval 6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Oval 9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28F5-569D-48BE-A2A6-D8FA43ABB83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Oval 6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Oval 9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CA1F-187C-4957-B3DC-82ABB3C4AB6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Oval 6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6AE-9190-4F41-8829-AA02FDB8D3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val 6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B121-A3CB-45C4-BE5A-7E9032EE7C7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Oval 6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632-A0D0-41FD-A4B4-94D33C08BDD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Oval 6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Oval 9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92CB-D00E-4DF9-933E-4F4D5EEDDBC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Oval 6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Oval 9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BF99-4C9F-4828-A3BD-ECA7232506E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5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8A2-EF03-48F5-9831-B6719BCA97B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Oval 6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Oval 9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383B-7574-40D0-B437-F4C5C985372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2BFF-D630-482E-8053-ED098A24B74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Oval 9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Line 11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Line 12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tion Based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, Genetic Algorithms &amp; Genetic Programm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D76D-67BF-4D6B-80D9-ABDA0180F7C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like Hill Climbing, Local Beam Search keeps trac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of 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tes rather than just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starts with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ly generated st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t each step, all the successors of all the states are genera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f any one is a goal, the algorithm halts, otherwise it selects the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est successors from the complete list and repea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BS≠ running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 restarts in parallel instead of sequ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rawback: less diversity. → Stochastic Beam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7FC-6D59-425E-96CC-3CF78BC9F85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dea: keep k states instead of just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gins with k randomly generated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 each step all the successors of all k states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f one is a goal, we stop, otherwise select k best successors from complete list and rep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A9E1-6EC4-4EB5-8667-0B11CD5FB5D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Line 5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Line 6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Freeform 7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Oval 10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Oval 11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Text Box 12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13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BF7F-DB2E-49B8-AD0C-8D5CEC9F44C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Oval 7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Oval 8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Oval 11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Oval 12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Oval 13"/>
          <p:cNvSpPr/>
          <p:nvPr/>
        </p:nvSpPr>
        <p:spPr>
          <a:xfrm>
            <a:off x="5105520" y="32767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Line 14"/>
          <p:cNvSpPr/>
          <p:nvPr/>
        </p:nvSpPr>
        <p:spPr>
          <a:xfrm>
            <a:off x="2514600" y="3200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Line 15"/>
          <p:cNvSpPr/>
          <p:nvPr/>
        </p:nvSpPr>
        <p:spPr>
          <a:xfrm>
            <a:off x="4495680" y="37339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Line 16"/>
          <p:cNvSpPr/>
          <p:nvPr/>
        </p:nvSpPr>
        <p:spPr>
          <a:xfrm>
            <a:off x="50292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Line 17"/>
          <p:cNvSpPr/>
          <p:nvPr/>
        </p:nvSpPr>
        <p:spPr>
          <a:xfrm flipH="1">
            <a:off x="6171840" y="3429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86C7-1464-42EA-961D-830760AA8E7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Oval 11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Oval 12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A7D-B87E-492B-A8D2-9B8F254121D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5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9C3-2966-4131-9E0C-A48BCF10F5C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Oval 7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Oval 8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Oval 9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1E85-1E42-4D10-B276-AE3A7B4875D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Oval 7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305F-C42F-4357-A526-B10EFCB2625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Oval 7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8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Oval 9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Oval 10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Oval 11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Oval 12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Oval 13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54E1-D94E-45C5-B154-1264414D916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Oval 8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Oval 10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Oval 11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BBF0-2D73-49D1-9FB9-31F2DA119CD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Oval 7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3299-3F5F-4B48-8154-911727FCE15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Oval 7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Oval 9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Oval 11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5631-39EE-4B7A-B919-30D795E279F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D5D4-C48C-4DD1-8F14-4187F88CDD8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Oval 14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Oval 15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Oval 16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Oval 17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8AA4-F239-4DEE-82FA-59CDA99FB23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Oval 6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Oval 7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Oval 8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Oval 9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Oval 12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Oval 13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00CE-0E8B-420C-BDD8-88D0B947370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Oval 9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Oval 11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Oval 12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Dean Ship</cp:lastModifiedBy>
  <dcterms:modified xsi:type="dcterms:W3CDTF">2012-02-12T05:31:20Z</dcterms:modified>
  <cp:revision>90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