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07E-7D95-4FF0-B28E-8EFD3958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7E5-B777-4CD4-ABDC-F653973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243-6BC1-4B39-A04D-DA559E76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939-BCD1-48CF-B000-57E2650D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6F96-367A-4CDC-B061-53EB30AD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CB16-CAF6-496F-8DE1-F42720E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F32F-450A-4F52-B361-F1CA0BA0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C70-B331-44E3-9B35-EAC5FDD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19B5-EC02-4255-85ED-F8BD847A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3F24-335D-4170-841B-2C2C4DB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01EE-6D57-4F0F-AEA8-A74AF64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353-ACD7-4B8F-9BAE-5A3D6759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0924-1ABD-4A5D-A6AB-59DC075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1D2-A953-4BD8-8729-2BE0930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CD3D-8B64-4368-B223-4201C1E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1EB0-306D-47F9-AB3B-C6970ADD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39D9-E3F3-497A-B70D-452560F9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27B-8A38-4225-BBAB-0B86B76A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D17-F0E7-4EC9-ADBB-5C04C97D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F1A-57A6-4A3B-9FD2-FADEADB1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4B3-D3AD-46DF-9EB6-C53AAC88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3DD-D996-42ED-ABFD-190724F3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B33-48BD-46FD-83C4-796D15C9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9DB-7AD1-4D5B-A815-1725346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AB0-DAB5-4FDF-9A1C-8D2E0F7F6E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629B-57EC-47C0-8720-E11E8FD5E6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086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Maintaining Information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E19F-5E51-4AFC-8F08-5A57D9D35D3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trolling Maintenance Reques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ype of 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ure 18-9 shows a flowchart for a request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BC2-5F83-41CE-8B12-F08E82E2C1F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lowchart of how to control maintenance requests (Adapted from Pressman, 199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9DB-72EF-47FC-9F0F-B2DA1371AAA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figuration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of assuring that only authorized changes are made to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line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modules that have been tested, documented, and approved to be included in the most recently created version of a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librar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erson responsible for controlling the checking out and checking in of baseline modules when a system is being developed or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rout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delines that list the instructions to construct an executable system from the baseline sourc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669-3BC5-4EE5-AD2B-D50714C1029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ole of CASE and Automated Development Tools in Mainten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hasis on coding and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are implemented by coding and testing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ation is done after maintenance is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documentation current is often neglected due to time-consuming nature of ta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with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hasis is on design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are implemented in design documen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is regenerated using code gene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ation is updated during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5AF-3505-4121-9A93-82B4A38E3D2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site Mainten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 X 7 X 36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ure of continuous availability makes maintenance challen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es under maintenance can be lo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 and time stam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for broken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 Va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es should be processed by a code validation routine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DF9-77D0-498D-AF00-DDE7E77688A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site Mainten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considerations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reg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tent significantly changes, site may need to be re-registered with search eng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E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 is important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 indications of future changes to the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221-60F1-4335-9F83-77F6333EC0B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ing effectivenes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711-0CE8-4D53-B67C-15742D2B9C7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ing maintenance req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 of CASE and Automated Development Tools in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site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C3D-B6D6-4C1C-AC0F-B00D970E14D7}" type="slidenum">
              <a:t>17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and contrast four types of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several factors that influence the cost of maintaining an informatio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maintenance management issues including alternative organizational structures, quality measurement, processes for handling change requests and configuration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the role of CASE when maintaining informa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A1D-577A-4895-8705-D007C4405697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cess of Maintaining Inform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of returning to the beginning of the SDLC and repeating development steps focusing on system change until the change is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jor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taining maintenance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orming requests in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ing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ing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B1B-A9A7-425E-8331-020019F4593D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cess of Maintaining Inform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ables and Out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a new version of the software and new versions of all design documents created or modified during the maintenance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B23-ECB4-4D6E-9AF9-A26495F58EC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repair flaws in its design, coding, or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evolve its functionality to changing business needs or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add new features or to improv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avoid possible future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8F2-04E9-4DDB-B7EF-84088D526C9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Cost of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rganizations allocate eighty percent of information systems budget to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that influence system maintain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de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ustomers for a give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ystem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enance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-structure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954-DA67-46FA-BB98-DC5BBA73160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naging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working in maintenance has surpassed number working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possible organizational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enance group consists of different personnel than development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also maintain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enance personnel work within the functional business un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18-4 presents the advantages and disadvantages to each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85F-9A5C-4E5C-904C-A89F2B739D4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naging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of 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enance work is often viewed negatively by IS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s have historically have rewarded people involved in new development better than maintenance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s often rotate personnel in and out of maintenance roles in order to lessen negative feelings about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6F3-CACE-4E18-9F5E-2715B31523A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asures of Effectiv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between each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 time between failures (MTB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easurement of error occurrences that can be tracked over time to indicate the quality of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F67-B8EA-4612-B519-2E2D767DD5A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Staff Member</cp:lastModifiedBy>
  <cp:lastPrinted>2009-04-22T19:24:48Z</cp:lastPrinted>
  <dcterms:modified xsi:type="dcterms:W3CDTF">2005-02-12T06:57:41Z</dcterms:modified>
  <cp:revision>121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10799224</vt:r8>
  </property>
  <property fmtid="{D5CDD505-2E9C-101B-9397-08002B2CF9AE}" pid="3" name="_AuthorEmail">
    <vt:lpwstr>Dardiry@ccis.ksu.edu.sa</vt:lpwstr>
  </property>
  <property fmtid="{D5CDD505-2E9C-101B-9397-08002B2CF9AE}" pid="4" name="_AuthorEmailDisplayName">
    <vt:lpwstr>Samir ElDardiry, PhD.</vt:lpwstr>
  </property>
  <property fmtid="{D5CDD505-2E9C-101B-9397-08002B2CF9AE}" pid="5" name="_EmailSubject">
    <vt:lpwstr>samir2</vt:lpwstr>
  </property>
</Properties>
</file>