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FFB-8939-482A-AD75-46F8F7E4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AC5-19E8-4E63-8E88-E55EA2D4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D68-0B4A-4E4D-84DD-422228C4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865-1079-4853-9DA3-AF275B2A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C07-03D9-48A8-9115-9F1277A0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15E-B3D6-42D8-913F-3DAF1229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66E-393A-4CDD-A751-6DE2D500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40B7-CE7B-4ABC-8599-CD8935DE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90A6-2173-4ECE-9F02-29FC3D1F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6091-358F-4FF3-811A-81517AD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1765-3DA1-46B1-BBAD-F2B0614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558-8081-49AA-B452-FD11D712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B04B-AF2A-4760-9446-0ADDC9A3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DE1D-189B-4C85-A965-C88078F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B1A6-0DB2-4A5F-BD0F-F419C5AB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1B20-CD2F-4767-B412-B5DC3608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114-B016-44E4-B658-29AAB2AA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C79-9842-46DE-B8BD-9E1275B2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E05-F5E7-439C-8C94-700785D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F95-CAE8-4A1B-A34B-0EF6A8DB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CC7-E73F-4826-9032-D4B74748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EBD-D01A-4591-8C76-464B216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305-4C91-4260-8FD5-8D6C53C9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324-E115-4E18-A8C8-5637246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2471-B091-42B2-82E6-FDF6684588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CF30-9444-404D-A74B-23D807CEF5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086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aintaining Information Syste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83B3-6A96-4083-9765-6EDDE8DA357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trolling Maintenance Reque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f re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ure 18-9 shows a flowchart for a request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508-8666-423A-A216-70C6A16206F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lowchart of how to control maintenance requests (Adapted from Pressman, 199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85B-2165-410E-BDEC-031B4D4C51C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figuration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assuring that only authorized changes are made to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line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modules that have been tested, documented, and approved to be included in the most recently created version of a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librari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erson responsible for controlling the checking out and checking in of baseline modules when a system is being developed or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rout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delines that list the instructions to construct an executable system from the baseline sourc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EDD-E36D-4ED3-8D55-F28DAB1E934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ole of CASE and Automated Development Tools in Mainten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systems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s on coding and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are implemented by coding and testing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ation is done after maintenance is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documentation current is often neglected due to time-consuming nature of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with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s is on design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are implemented in design documen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is regenerated using code gene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ation is updated during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D28-580C-4E4E-942F-6019906859D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site Mainten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 X 7 X 36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ure of continuous availability makes maintenance challen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es under maintenance can be lock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 and time stam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for broken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Vali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es should be processed by a code validation routine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900-679A-47DC-975A-A2050100FF1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site Mainten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considerations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regis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tent significantly changes, site may need to be re-registered with search eng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E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 is important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 indications of future changes to the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0DA-2F44-495D-8D86-554469F91C4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ing effectivenes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F3F-AEEB-43C8-8A61-6AA575C9FC8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ling maintenance requ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le of CASE and Automated Development Tools in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site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BE6-93F6-49A7-867F-AD32B2375E4C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and contrast four types of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several factors that influence the cost of maintaining an inform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maintenance management issues including alternative organizational structures, quality measurement, processes for handling change requests and configuration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a2212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the role of CASE when maintaining informa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531-1E5A-49B7-BF75-4B5427604513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cess of Maintaining Inform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of returning to the beginning of the SDLC and repeating development steps focusing on system change until the change is implemen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jor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taining maintenance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orming requests in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ing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ing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5F6-0692-447F-8B96-98B2FBDC6F0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cess of Maintaining Inform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ables and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a new version of the software and new versions of all design documents created or modified during the maintenance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879-9E64-4BD1-8EDA-3FF38C913A5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repair flaws in its design, coding, or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evolve its functionality to changing business needs or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add new features or to improv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-474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made to a system to avoid possible futur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8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6D7-2D4C-4F26-AD26-0F2A89751C3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Cost of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rganizations allocate eighty percent of information systems budget to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that influence system maintain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de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ustomers for a give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ystem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enance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-structure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AC4-E16F-44F7-B1F8-C44C1FA3335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naging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working in maintenance has surpassed number working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possible organizational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 group consists of different personnel than development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also maintain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enance personnel work within the functional business un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18-4 presents the advantages and disadvantages to each appr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E04-C2DA-4E83-854E-9BEE4924175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anaging Mainten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of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enance work is often viewed negatively by IS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s have historically have rewarded people involved in new development better than maintenance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s often rotate personnel in and out of maintenance roles in order to lessen negative feelings about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165-1E22-4266-9951-06415138045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ducting System Maintena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asures of Effectiv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between each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 time between failures (MTB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easurement of error occurrences that can be tracked over time to indicate the quality of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2EA-C545-4DD0-A75D-1278DCB11B3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Staff Member</cp:lastModifiedBy>
  <cp:lastPrinted>2009-04-22T19:24:48Z</cp:lastPrinted>
  <dcterms:modified xsi:type="dcterms:W3CDTF">2005-02-12T06:57:41Z</dcterms:modified>
  <cp:revision>121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10799224</vt:r8>
  </property>
  <property fmtid="{D5CDD505-2E9C-101B-9397-08002B2CF9AE}" pid="3" name="_AuthorEmail">
    <vt:lpwstr>Dardiry@ccis.ksu.edu.sa</vt:lpwstr>
  </property>
  <property fmtid="{D5CDD505-2E9C-101B-9397-08002B2CF9AE}" pid="4" name="_AuthorEmailDisplayName">
    <vt:lpwstr>Samir ElDardiry, PhD.</vt:lpwstr>
  </property>
  <property fmtid="{D5CDD505-2E9C-101B-9397-08002B2CF9AE}" pid="5" name="_EmailSubject">
    <vt:lpwstr>samir2</vt:lpwstr>
  </property>
</Properties>
</file>