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4D1-58E1-48A3-A35B-B024A787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533-6DF5-4190-9DD6-48835E59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935-EB0B-4481-B355-112BEC80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297-6675-4155-A4AC-6623963C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9426-6859-4687-8BF3-52891B0C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F15-E636-44C5-AB63-19AEE9AF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342-EF3A-4F24-8671-394DC489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A48-62C2-47DF-BCC0-68DAF6EE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1A6-F71F-411F-AEA2-AA0FE423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6E1-1AE7-4BFD-AEA6-FC1BA109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6A9-F9D1-456B-A9AD-5994FF74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3A3-B3E9-401D-B3EF-AAF2FC9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D936-C596-4198-ACDA-A39D3432F3C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ا هية النظ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ثا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3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موارد النظام 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هي تمثل الموارد كل الوسائل والإمكانات المتاحة للنظام لإنجاز الأنشطة اللازمة بتحقيق أهداف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نقسم النظم حسب حاجتها من الموارد إلى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نظم مغلقه : تتوفر كل الموارد التي يحتاجها النظم مرة واحدة و فترة زمنية مع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نظم مفتوحه: تسمح بتدفات إضافية من الموا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4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مكونات النظام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شمل مكونات النظام كلا من مهمة النظام 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ظائفه وأنشطته التي يجب انجازها لتحقيق أهداف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5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ضبط النظام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يرى (تشرشمان) أن أي نظام ينطبق على نشاطين أساسيين هما التخطيط و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تخطيط للعناصر الأساسية (الأهداف، البيئة، الموارد، و المكونات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رقابة و المتابع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دعم عمليات الرقابة بالتغذية العكس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لامح </a:t>
            </a: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مدخلات النظام ما هي إلا مخرجات نظام آخ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حدود النظام لا تمثل عزل تام ل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حدود النظام غير ثابتة و قابلة للتغ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علومات المرتدة تدعم وظيفة الرقابة ب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وجود علاقات تربط 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مدخل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التتابعية: هي مخرجات نظم أخرى و تسمى بالمدخلات محددة المس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العشوائية: احتمال استخدام مخرجات نظام آخر كمدخلات للنظام بناءا على معيار اختي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عن طريق التغذية العكسية: إعادة استخدام مخرجات من النظام كمدخ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عمليات التحوي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عمل العمليات التحويلية على تحويل المدخلات إلى 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يمكن أن تكون العمليات التحويلية في شكل آلة أو إنسان أو مه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عمليات يمكن أن تكو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مخرج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هي ناتج العمليات التحويل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مكن أن تكون بشكل منتجات أو خدمات أو معلومات أو طاقة أو غير ذل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رتبطة بالهد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تصنيف المخرج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تكون مدخلات لأنظمة 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يتم إعادة استخدامها في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لا تستخدم داخل أي 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علاق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ربط مكونات النظام بعضه ببع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ربط النظام بالبيئ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صنف العلاق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كافلية: تربط المكونات لأداء وظائفها و يمكن أن تكون أحادية القطب أو ثنائ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عاونية (التفاعلية):  يكون مخرج العمل التعاوني أكبر من مجموع مخرج كل مكون على حد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حويطية (الازدواجية): يمكن أن تحل محل علاقات أخرى لتقليل احتمالات الفش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خصائ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خصائص تميز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خصائص مصاح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عناصر تعريف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خصائص النظم (تابع للساب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داخل النظ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نظم المتطابقة أو المتماث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أقلم النظ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خصائص السلوكية أو الوظيفية ل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هي عبارة الخصائص التتابعية لمكون أو أكثر من النظام خلال فترة زم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حدود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حدود النظام قد تختلف حسب سبب الدراس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حد الحدود 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نهاية الفصل الثا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درج التعقد في النظام تتوقف على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عدد الأجزاء المكونة ل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خصائص هذه المكون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عدد التفاعلات المحتملة بين المكو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درجة التنظيم التي يتميز بها النظام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ناهج دراسة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هج النظام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s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هج التحليل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tical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داخل دراسة النظ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23"/>
          <p:cNvGrpSpPr/>
          <p:nvPr/>
        </p:nvGrpSpPr>
        <p:grpSpPr>
          <a:xfrm>
            <a:off x="457200" y="1600200"/>
            <a:ext cx="8229240" cy="4525560"/>
            <a:chOff x="457200" y="1600200"/>
            <a:chExt cx="8229240" cy="4525560"/>
          </a:xfrm>
        </p:grpSpPr>
        <p:sp>
          <p:nvSpPr>
            <p:cNvPr id="51" name="Text Box 24"/>
            <p:cNvSpPr/>
            <p:nvPr/>
          </p:nvSpPr>
          <p:spPr>
            <a:xfrm>
              <a:off x="3566160" y="1600200"/>
              <a:ext cx="329184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منهج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5"/>
            <p:cNvSpPr/>
            <p:nvPr/>
          </p:nvSpPr>
          <p:spPr>
            <a:xfrm>
              <a:off x="5394960" y="252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النظرية العامة ل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6"/>
            <p:cNvSpPr/>
            <p:nvPr/>
          </p:nvSpPr>
          <p:spPr>
            <a:xfrm>
              <a:off x="4663440" y="396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بحوث العملي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7"/>
            <p:cNvSpPr/>
            <p:nvPr/>
          </p:nvSpPr>
          <p:spPr>
            <a:xfrm>
              <a:off x="1554480" y="252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مداخل خاصة ل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8"/>
            <p:cNvSpPr/>
            <p:nvPr/>
          </p:nvSpPr>
          <p:spPr>
            <a:xfrm>
              <a:off x="822960" y="396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ديناميكية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9"/>
            <p:cNvSpPr/>
            <p:nvPr/>
          </p:nvSpPr>
          <p:spPr>
            <a:xfrm>
              <a:off x="5760720" y="5303160"/>
              <a:ext cx="2194560" cy="82260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تحليل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31"/>
            <p:cNvSpPr/>
            <p:nvPr/>
          </p:nvSpPr>
          <p:spPr>
            <a:xfrm>
              <a:off x="457200" y="5303160"/>
              <a:ext cx="2194560" cy="82260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هندسة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2"/>
            <p:cNvSpPr/>
            <p:nvPr/>
          </p:nvSpPr>
          <p:spPr>
            <a:xfrm>
              <a:off x="5029200" y="2217240"/>
              <a:ext cx="0" cy="10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3"/>
            <p:cNvSpPr/>
            <p:nvPr/>
          </p:nvSpPr>
          <p:spPr>
            <a:xfrm flipH="1">
              <a:off x="3383280" y="2320200"/>
              <a:ext cx="329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4"/>
            <p:cNvSpPr/>
            <p:nvPr/>
          </p:nvSpPr>
          <p:spPr>
            <a:xfrm>
              <a:off x="6675120" y="23202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5"/>
            <p:cNvSpPr/>
            <p:nvPr/>
          </p:nvSpPr>
          <p:spPr>
            <a:xfrm>
              <a:off x="3383280" y="23202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6"/>
            <p:cNvSpPr/>
            <p:nvPr/>
          </p:nvSpPr>
          <p:spPr>
            <a:xfrm>
              <a:off x="4541400" y="3108960"/>
              <a:ext cx="2133720" cy="85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7"/>
            <p:cNvSpPr/>
            <p:nvPr/>
          </p:nvSpPr>
          <p:spPr>
            <a:xfrm flipH="1">
              <a:off x="2468880" y="3177360"/>
              <a:ext cx="1340640" cy="78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8"/>
            <p:cNvSpPr/>
            <p:nvPr/>
          </p:nvSpPr>
          <p:spPr>
            <a:xfrm>
              <a:off x="4297680" y="3114360"/>
              <a:ext cx="0" cy="18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9"/>
            <p:cNvSpPr/>
            <p:nvPr/>
          </p:nvSpPr>
          <p:spPr>
            <a:xfrm flipH="1">
              <a:off x="1371240" y="4994640"/>
              <a:ext cx="566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0"/>
            <p:cNvSpPr/>
            <p:nvPr/>
          </p:nvSpPr>
          <p:spPr>
            <a:xfrm>
              <a:off x="1371600" y="499464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41"/>
            <p:cNvSpPr/>
            <p:nvPr/>
          </p:nvSpPr>
          <p:spPr>
            <a:xfrm>
              <a:off x="7040880" y="499464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  <a:cs typeface="PT Bold Heading"/>
              </a:rPr>
              <a:t>تعريف النظام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مجموعة من المكونات التي ترتبط ببعضها البعض وبي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ا علاقات تفاعلية تمكنها من تكوين كل متكامل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 لإنجاز هدف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مربع نص 1"/>
          <p:cNvSpPr/>
          <p:nvPr/>
        </p:nvSpPr>
        <p:spPr>
          <a:xfrm>
            <a:off x="1857240" y="642960"/>
            <a:ext cx="564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خصائص تعريف ال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شكل بيضاوي 2"/>
          <p:cNvSpPr/>
          <p:nvPr/>
        </p:nvSpPr>
        <p:spPr>
          <a:xfrm>
            <a:off x="2000160" y="3214800"/>
            <a:ext cx="1785960" cy="121428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ضب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شكل بيضاوي 3"/>
          <p:cNvSpPr/>
          <p:nvPr/>
        </p:nvSpPr>
        <p:spPr>
          <a:xfrm>
            <a:off x="2786040" y="4786200"/>
            <a:ext cx="171468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a452a"/>
                </a:solidFill>
                <a:latin typeface="Calibri"/>
                <a:cs typeface="Akhbar MT"/>
              </a:rPr>
              <a:t>المك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شكل بيضاوي 4"/>
          <p:cNvSpPr/>
          <p:nvPr/>
        </p:nvSpPr>
        <p:spPr>
          <a:xfrm>
            <a:off x="4857840" y="4786200"/>
            <a:ext cx="171432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شكل بيضاوي 5"/>
          <p:cNvSpPr/>
          <p:nvPr/>
        </p:nvSpPr>
        <p:spPr>
          <a:xfrm>
            <a:off x="5572080" y="3286080"/>
            <a:ext cx="164304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a452a"/>
                </a:solidFill>
                <a:latin typeface="Calibri"/>
                <a:cs typeface="Akhbar MT"/>
              </a:rPr>
              <a:t>البيئ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شكل بيضاوي 6"/>
          <p:cNvSpPr/>
          <p:nvPr/>
        </p:nvSpPr>
        <p:spPr>
          <a:xfrm>
            <a:off x="3786120" y="2214720"/>
            <a:ext cx="1714680" cy="128556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a452a"/>
                </a:solidFill>
                <a:latin typeface="Calibri"/>
                <a:ea typeface="Akhbar MT"/>
              </a:rPr>
              <a:t>1</a:t>
            </a:r>
            <a:r>
              <a:rPr b="1" lang="ar-SA" sz="4000" spc="-1" strike="noStrike">
                <a:solidFill>
                  <a:srgbClr val="4a452a"/>
                </a:solidFill>
                <a:latin typeface="Calibri"/>
                <a:cs typeface="Akhbar MT"/>
              </a:rPr>
              <a:t>ـ أهداف النظام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ea typeface="Akhbar MT"/>
              </a:rPr>
              <a:t> المقصود بالأهداف تلك النهايات التي يتجه إليها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هد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يعرف إجرائيا</a:t>
            </a:r>
            <a:r>
              <a:rPr b="1" lang="en-US" sz="2800" spc="-1" strike="noStrike">
                <a:solidFill>
                  <a:srgbClr val="7f7f7f"/>
                </a:solidFill>
                <a:latin typeface="Calibri"/>
                <a:ea typeface="Akhbar MT"/>
              </a:rPr>
              <a:t> </a:t>
            </a:r>
            <a:r>
              <a:rPr b="1" lang="ar-JO" sz="2800" spc="-1" strike="noStrike">
                <a:solidFill>
                  <a:srgbClr val="7f7f7f"/>
                </a:solidFill>
                <a:latin typeface="Calibri"/>
                <a:ea typeface="Akhbar MT"/>
              </a:rPr>
              <a:t> ”واضح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7f7f7f"/>
                </a:solidFill>
                <a:latin typeface="Calibri"/>
                <a:cs typeface="Akhbar MT"/>
              </a:rPr>
              <a:t>قابل للقي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. بيئة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يقصد به كل ما هو خارج حدود النظام المع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ـ </a:t>
            </a: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خصائص الأساسية التي تميز البيئ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أن البيئة تمثل كل ما يقع خارج نطاق تحكم النظ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أن البيئة يجب أن تشمل كل العناصر التي تحدد ولو جزئيا طريقة أداء النظ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08:27:40Z</dcterms:created>
  <dc:creator>Dr.Kharma</dc:creator>
  <dc:description/>
  <dc:language>en-US</dc:language>
  <cp:lastModifiedBy>mashael</cp:lastModifiedBy>
  <dcterms:modified xsi:type="dcterms:W3CDTF">2012-09-13T08:42:02Z</dcterms:modified>
  <cp:revision>112</cp:revision>
  <dc:subject/>
  <dc:title>ما هية النظم</dc:title>
</cp:coreProperties>
</file>