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8693-C2AE-4935-BDD3-3349B08FD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D24E-4788-49C6-B48F-7AD1F0F5E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operations typically performed by a CPU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reading of programs and input fi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Its activates input unit to read program and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Controls the transmission of program &amp; data files from disk to main mem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process data according to instructions in a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ata can be processed arithmetically- number can be added, subtracted, multiplied and di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Logical tests can be performed on data. E.g., compari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ata can be transmitted or copied from one area of primary storag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creation of outp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F682-B8F8-4E32-89A7-4CEE57BAB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0556-F813-42BC-825E-C771BFB09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For every instruction, a processor repeats a set of four basic opera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Fetch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obtaining a program instruction or data item from mem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Decod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translating the instruction into signals the computer can exec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Execut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carrying out the comma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Stor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, if necessary. Means writing the result to </a:t>
            </a:r>
            <a:r>
              <a:rPr b="0" i="1" lang="en-US" sz="12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9CC0-4A54-401B-BCDB-73AEDB1E2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1AEC-E8B1-433E-83C4-12437CB17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A344-DF99-4D6B-8AB7-F84E4E099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F2A1-59A1-494A-93BD-F2FF483BC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FB89-1C7D-4845-A72F-7449A2789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9612-4F2C-448F-A3AB-58C4B1459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E372-5CEC-4A10-AA14-FB13984DE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550B-FD3F-4A49-9CB7-F5EA89419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CFC8-4D80-4AA4-98FD-AF18E6F98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C61B-688D-4A78-A02C-7B56B2C3F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69C7-8998-4414-860B-9D3B9825F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1F2E-F475-4BA9-8246-03BC3F53D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2C0B-777F-4B18-821F-5BD5E3C40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E7B8-CCF0-4D65-8652-E0EB84CEB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8934-CEBB-4D1F-AB92-F24295697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9F21-9629-46AC-AD89-7F540AA92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Many electronic components attach to the motherboard, others are built into it. Ex: adapter cards, a processor chip and a memory mod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193C-27E1-4E5A-908A-B4B4363FF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d94439"/>
                </a:solidFill>
                <a:latin typeface="Times New Roman"/>
              </a:rPr>
              <a:t>dual-core process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a single chip that contains tw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arate 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d94439"/>
                </a:solidFill>
                <a:latin typeface="Times New Roman"/>
              </a:rPr>
              <a:t>multi-core process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a chip with two or mor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arate 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ach processor on a dual-core/multi-core chip generall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uns at a slower clock speed, but increase overall perform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7B11-0FE3-4021-9552-4B5491981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AB80-1CA8-40EE-A874-B0A5542E0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84EA-0313-490F-870F-8558E279C1E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99084D-3B6C-4BB4-8E05-B70E6DD2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0EA0A1-8D53-4174-BE47-23E909EA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5BF2A9-84E1-42B4-BCC7-B766C18A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2D604C-52F9-499D-A0FA-BE870FC6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B36B91-0376-4A26-B952-C49EF2FC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A2AE06-A1BD-43F4-AFC3-072BCCA9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9382FE-9B72-419E-9ADE-427948C9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96FEB7-5C11-4C43-99A0-E4A0AB02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6388D2-CBCD-4CC6-81B3-E2875B6D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EBBC40-5ADC-4A60-A634-6156F7EB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66BF-55FB-4CAB-9AF7-8E51220E3BF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31B25B-B99A-43E5-BC1B-725C7828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84415E-077C-4316-9B5D-4B1782A4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A99997-47C4-4382-A2AA-4326CD54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3622DD-8CDC-452B-98F1-05BB11C0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CAFA00-A814-400F-8545-8A2B7257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7E7D4B-F7EB-421F-B6DE-4F0DB1B3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033D08-FD5F-460A-ACAF-F23F7217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043E95-E047-486F-BE65-B3C47A40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66CED9-BFAC-4799-AD1E-5C649E31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5C771D-6F0C-435D-81CE-5302C8BE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5803-5492-4315-A862-368CA39F9DF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24C146-433C-45F4-891A-5AE19D81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320286-FD32-4729-BAF5-B718B8AD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167D77-7515-438A-ABB4-38A100F0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6B1264-125A-4CD5-9681-99F67259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C6813F-0F0A-44A8-B175-0A81E05B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489CEC-37CA-49F6-ABFE-496F0F69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A40026-7785-47F4-BED2-61CC4FA4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3C81B6-4A09-468E-9BD4-BE3669B2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FA8B82-4314-405A-BFBD-FCB2C030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5B5C64-A3E1-4F4B-BA34-4DF682C8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DF2BAC-1A03-4AFA-B464-DBB87C13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DAC7A6-34D1-4D56-B664-682F8A79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C47A9A-9327-43D2-A160-14740569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EAD65E-294D-45BE-91B3-94DF83E4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6B96DD-EBC5-4194-BC80-AC66153B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21F706-8495-421E-ADB4-ABF434C9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132813-D3BB-4107-AEEA-9E0D39BF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274E56-4C65-4968-AC2A-A558E29C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168CB0-69E0-4AA1-809F-777F7B0C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DEED31-7BDC-45C6-96B8-EE30C1FE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26CDAF-3F2B-4C84-B791-4144CBEC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060B06-2729-45E1-A024-3CC44D47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293AC2-A96C-4888-BB04-78BBEFE4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DD087F-2436-4272-9A7C-16D5C806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EF5EFC-A45F-47C7-88DF-2621B72A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876C7F-9A6D-42C8-B5B7-EF040924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0F5745-E2A3-421D-9022-E848374F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DF0988-FD9B-43DE-9F4F-1C1B6550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8492E5-9DD2-402C-9D6E-CF7B406B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708FBE-5F85-4E72-BA08-481EA37A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A8C0DE-95F9-4CAB-8BCE-5F0AADD2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F60B98-85B7-470F-9381-ED3FEA5E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26C5EE-C825-4C7E-A676-948B7572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5C17FE-F243-4796-87FB-0BA5F3D9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0EDE3C-64C6-49AF-BEDE-6496110E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84EEEE-6028-433D-9230-446A1E17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8E9711-D887-4631-9EEA-C97B7926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2063-1B22-41E8-AA6F-EBBD1519F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49EC5-AA5D-4E3D-986D-7CD0345061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B4C7D-E364-4F3A-9CD9-BA900761B7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4E110-10A4-4F23-9765-2D6FC2B708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9ADC7-9363-4E3B-83D9-6FCDF0CA20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7F2A8-FC88-48F4-B884-615CB71D81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6C97-C721-4A9F-88F6-35BAD8E7BC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A5C7D-5539-4A89-B5E0-01AC5E8EC1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17E72-118F-4F3E-9D8C-B79F1FF59C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C1B54-F578-4CBB-95FD-C9BD84327E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427C1-9783-41E5-910E-25AA2BD682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86F0E-A3B9-4448-9F5E-A4B086FC9F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8BF73-1631-4723-832F-EEF92E1213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A0E02-27D1-4D0C-B8B5-973684AB6D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65762F-BC36-4CCD-AB24-73ED0CBE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4AFFB0-FEA1-45CB-9A07-05A28157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3CD06C-2E18-4C39-9459-258597D9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AD16-0EC3-47EA-B497-4E0949EA6B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654DA2-CA12-4282-B614-34AEA489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148341-F06F-4838-A3BF-243DFF54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DCE7AE-3A25-4929-97D7-73CD5963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7C0331-E1B4-4495-BFDD-2BDBB52B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BF0DA1-7EF8-4036-A9BC-2A5760C2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CEE2B5-4482-4C24-A981-3384BB1C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CFE9B5-EFE3-473D-9625-C1B708DA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5BF506-1942-4098-A9B3-40E893E8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9A6498-566C-4E30-860C-9192DBCA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9B129-02DC-4176-A02F-78455C9A7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956D-107C-4D5B-8FFF-0BE3AE31A6B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CFA1F-E950-4D2F-9F92-7D360B25B97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5B4B6-171A-4B88-A40C-F5A1D68DC26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CC896-67DE-404B-A73D-8341A33EAC0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66647-0611-4340-AC8A-77024885779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07C98-719B-457D-8ECF-B92A8B2F9C3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AACC4-D980-4472-8058-0D2B8DFB430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2996B-EA36-406A-ACB3-31992887B17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011C8-0270-492C-ABC6-29A3B6C712C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CED69-C9CA-4C79-8F46-14DC7A4CF6A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1CFA5-01E0-44EB-A683-82E0F4142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26A6-EDE9-4A7B-83BE-604179974EF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DAC31-AC51-4250-821D-3BCC1F6F742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E200BE-7ED4-4336-A2E6-600669C5346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C2B62B-ABBF-4F9F-8F5B-C0A4C4C32EF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70E8A6-30EE-45A2-BF34-EE8DFC3EE15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B66BBB-4E12-4B18-A3CB-71D82EA0391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B4DC8D-9D3B-487B-8A6E-EF15584729B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3D1C7E-544C-4512-A5B5-B5293C3F307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585A5C-90F3-4C5A-AA5D-B0F8558DE83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4591E9-17C1-410C-B8DE-1C45ABB69E2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1EF1A0-85E6-4C6C-AA6D-BA924740E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4F7A-90CC-46F4-9277-4431AA8F5E0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063DA0-4028-4550-82B8-4DE746EF85C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431BB1-B8B3-44B9-AFC4-21594731D1A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CDC89D-5512-4DC8-B8B1-8A2A25D23B0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4E0FD-68C5-4B8E-B377-995CE8CE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58EA9A-A46C-46B4-AF53-C967DFA2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D6851D-1F41-4121-A42C-C662CD9E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179E49-F634-4370-AA51-D5657932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91A6B-3DEF-419E-A9B9-7327E41E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D426CC-5C74-43EB-922C-32C74883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38718-BE49-4613-B9D2-94D6135B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3B73-BC0B-4D69-813F-94098894356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AEA42-1725-4AFF-8D68-E4C5E062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83BB6E-5B5E-412C-95D3-1E47476C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DA776-750E-4A03-8E3E-23459491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E721DA-A30A-47BB-91F7-84C23C82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4F933-529E-4A8B-B425-0015BB50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43F494-4C4F-4912-8041-93906AD2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68E09A-6D18-4B18-99A8-9191D52D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08983C-DCAE-45BA-9D2F-D9CAF702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AEBCE6-EA57-4C12-BAA9-844E0ED6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F8363F-01C6-4347-9504-527AFD33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B216-D44D-4BD7-A15F-C737B827418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22A27-D194-4F3F-ACF0-FF0CDAB2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47A636-2417-46DA-A8A9-459AF806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5F257-8A4B-4CE4-8BA6-06DC761C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00D7D-8713-472A-B861-96146D9A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630B08-3AEF-44B4-AD55-3819254B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9086E-82C2-4512-BF10-7CCBD78C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E51716-D13B-4F89-B3F5-CEF1594F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36708B-66F8-4712-BB98-46E7CEF4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C30CB4-0972-4E2E-9C48-8100541E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7DF4F8-14B3-4BBC-B0E3-1805BD48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B5D2-382C-4F1C-A145-AF6A9F473E18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981080" y="6370560"/>
            <a:ext cx="47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0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2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3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C903-3059-42AE-9CBE-DEA88995210F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4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5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6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C77B-BE00-4CF3-BBA4-98343898F921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9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8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29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D814-E998-4FEC-B982-CCF196D90072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53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0"/>
          </p:nvPr>
        </p:nvSpPr>
        <p:spPr>
          <a:xfrm>
            <a:off x="196848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1"/>
          </p:nvPr>
        </p:nvSpPr>
        <p:spPr>
          <a:xfrm>
            <a:off x="1981080" y="6370560"/>
            <a:ext cx="47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2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32C0-A854-452D-9ADB-A8077969E111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5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4"/>
          <a:stretch/>
        </p:blipFill>
        <p:spPr>
          <a:xfrm>
            <a:off x="5105520" y="3203640"/>
            <a:ext cx="4038480" cy="365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23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Title 1"/>
          <p:cNvSpPr/>
          <p:nvPr/>
        </p:nvSpPr>
        <p:spPr>
          <a:xfrm>
            <a:off x="1219320" y="548640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Your Interactive Guide to the Digital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0" y="426708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scover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uters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91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3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1AC4-0B30-416E-A2B4-E285E0CB8146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135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6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7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AD8E-90BE-4369-B865-914D657219ED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180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8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9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613D-734F-44C0-BF52-4488878A3DC9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224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0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1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23B4-A510-4802-8A36-D07AB787AC8F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26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3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4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3821-0B16-4C6B-9F4F-71D0E65AEFE6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1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6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7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AA39-38C9-4D92-87DD-52130CEE8742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5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19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0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F67D-4405-48A9-B4B6-88C3E46E35C8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ual-core processor is a single chip that contains tw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ate process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ulti-core processor is a chip with two or mo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ate process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processor on a dual-core/multi-core chip general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s at a slower clock speed, but increase overall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37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302C-E262-444A-9EAF-F9DCEDDCDCB3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40" name="Content Placeholder 6" descr="Fig4-04.gif"/>
          <p:cNvPicPr/>
          <p:nvPr/>
        </p:nvPicPr>
        <p:blipFill>
          <a:blip r:embed="rId1"/>
          <a:stretch/>
        </p:blipFill>
        <p:spPr>
          <a:xfrm>
            <a:off x="1066680" y="1600200"/>
            <a:ext cx="6705720" cy="4648320"/>
          </a:xfrm>
          <a:prstGeom prst="rect">
            <a:avLst/>
          </a:prstGeom>
          <a:ln w="0">
            <a:noFill/>
          </a:ln>
        </p:spPr>
      </p:pic>
      <p:sp>
        <p:nvSpPr>
          <p:cNvPr id="641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47B3-A33D-43D7-98B9-0608F33F1F0D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PU operations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921240" indent="-496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 operations typically performed by a CPU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21240" indent="-496080">
              <a:lnSpc>
                <a:spcPct val="100000"/>
              </a:lnSpc>
              <a:buClr>
                <a:srgbClr val="604a7b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reading of programs and input fi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75480" indent="-425160">
              <a:lnSpc>
                <a:spcPct val="100000"/>
              </a:lnSpc>
              <a:buClr>
                <a:srgbClr val="604a7b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ts activates input unit to read program and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75480" indent="-425160">
              <a:lnSpc>
                <a:spcPct val="100000"/>
              </a:lnSpc>
              <a:buClr>
                <a:srgbClr val="604a7b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ontrols the transmission of program &amp; data files from disk to main memo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21240" indent="-496080">
              <a:lnSpc>
                <a:spcPct val="100000"/>
              </a:lnSpc>
              <a:buClr>
                <a:srgbClr val="604a7b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process data according to instructions in a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75480" indent="-425160">
              <a:lnSpc>
                <a:spcPct val="100000"/>
              </a:lnSpc>
              <a:buClr>
                <a:srgbClr val="604a7b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Data can be processed arithmetically- number can be added, subtracted, multiplied and di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75480" indent="-425160">
              <a:lnSpc>
                <a:spcPct val="100000"/>
              </a:lnSpc>
              <a:buClr>
                <a:srgbClr val="604a7b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Logical tests can be performed on data. E.g., comparis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75480" indent="-425160">
              <a:lnSpc>
                <a:spcPct val="100000"/>
              </a:lnSpc>
              <a:buClr>
                <a:srgbClr val="604a7b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Data can be transmitted or copied from one area of primary storage to ano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21240" indent="-496080">
              <a:lnSpc>
                <a:spcPct val="100000"/>
              </a:lnSpc>
              <a:buClr>
                <a:srgbClr val="604a7b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creation of outp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47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F6C7-18F3-4B47-B02B-3CFAD3563BCF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a52439"/>
                </a:solidFill>
                <a:latin typeface="Calibri"/>
              </a:rPr>
              <a:t>control unit</a:t>
            </a:r>
            <a:r>
              <a:rPr b="0" lang="en-US" sz="30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 component of the processor that directs and coordinates most of the operations in the compu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ndles the transmission of data into and out of the CPU and supervises its overall oper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s interprets each instruction issued by a program &amp; then initiates the appropriate action to carry out the instru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a52439"/>
                </a:solidFill>
                <a:latin typeface="Calibri"/>
              </a:rPr>
              <a:t>arithmetic logic unit</a:t>
            </a:r>
            <a:r>
              <a:rPr b="0" lang="en-US" sz="30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LU) performs arithmetic, comparison, and other oper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E2D0-222C-41C4-80C4-2D4587A8AFCB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instruction, a processor repeats a set of four basic operations, which comprise a machin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B9EC-0A0D-4469-8931-44B9456A902C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9" name="Picture 7" descr="CFig4-05.gif"/>
          <p:cNvPicPr/>
          <p:nvPr/>
        </p:nvPicPr>
        <p:blipFill>
          <a:blip r:embed="rId1"/>
          <a:stretch/>
        </p:blipFill>
        <p:spPr>
          <a:xfrm>
            <a:off x="1981080" y="2666880"/>
            <a:ext cx="588168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4a7b"/>
                </a:solidFill>
                <a:latin typeface="Tw Cen MT Condensed"/>
              </a:rPr>
              <a:t>For every instruction, a processor repeats a set of four basic operations:</a:t>
            </a:r>
            <a:br>
              <a:rPr sz="3600"/>
            </a:br>
            <a:endParaRPr b="1" lang="en-US" sz="36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buClr>
                <a:srgbClr val="604a7b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Fetching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process of obtaining a program instruction or data item from memo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604a7b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Decoding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process of translating the instruction into signals the computer can execu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604a7b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Executing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process of carrying out the comma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604a7b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Storing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, if necessary. Means writing the result to </a:t>
            </a:r>
            <a:r>
              <a:rPr b="0" i="1" lang="en-US" sz="28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63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AE78-C65A-4F89-987D-5A6C8FB56FF0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66" name="Content Placeholder 9" descr=""/>
          <p:cNvPicPr/>
          <p:nvPr/>
        </p:nvPicPr>
        <p:blipFill>
          <a:blip r:embed="rId1"/>
          <a:stretch/>
        </p:blipFill>
        <p:spPr>
          <a:xfrm>
            <a:off x="12600" y="1603440"/>
            <a:ext cx="9058320" cy="4645080"/>
          </a:xfrm>
          <a:prstGeom prst="rect">
            <a:avLst/>
          </a:prstGeom>
          <a:ln w="0">
            <a:noFill/>
          </a:ln>
        </p:spPr>
      </p:pic>
      <p:sp>
        <p:nvSpPr>
          <p:cNvPr id="667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A844-A3D4-45BA-AE22-CA36795C1A3B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gisters are special storage areas in the CP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ir function is to hold instructions, data values, memory addresses of both the instructions and da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re are 4 basic types of it: 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CU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AL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Instruction register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ld instruction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Address register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ld address of( data , next instruction 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Storage register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ore data retrieved from main memory prior to processing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Accumula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ore the results of arithmetic &amp; logic opera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3C5C-0BBF-43CB-8DA2-0A3563FFD3F1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System</a:t>
            </a:r>
            <a:r>
              <a:rPr b="0" lang="en-US" sz="32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clock</a:t>
            </a:r>
            <a:r>
              <a:rPr b="0" lang="en-US" sz="3200" spc="-1" strike="noStrike">
                <a:solidFill>
                  <a:srgbClr val="a5243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generates regular electronic pulses , or ticks, that control the timing of all computer operations ( i.e. set operating pace of components of system un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e of system  clock is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clock speed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lock speeds are  in the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gigahert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GHz) range (1 GHz = 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llion ticks of system clock per secon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lnSpc>
                <a:spcPct val="90000"/>
              </a:lnSpc>
              <a:buClr>
                <a:srgbClr val="604a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 Condensed"/>
              </a:rPr>
              <a:t>Processing actions occur at each “tick” of the electronic cloc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lnSpc>
                <a:spcPct val="90000"/>
              </a:lnSpc>
              <a:buClr>
                <a:srgbClr val="604a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lnSpc>
                <a:spcPct val="90000"/>
              </a:lnSpc>
              <a:buClr>
                <a:srgbClr val="604a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 Condensed"/>
              </a:rPr>
              <a:t>The Speed of the clock determines the speed at which the CPU can process da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lnSpc>
                <a:spcPct val="90000"/>
              </a:lnSpc>
              <a:buClr>
                <a:srgbClr val="604a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 Condensed"/>
              </a:rPr>
              <a:t>The faster  the clock speed, the more instruction the processor can execute per second (hertz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F3E5-4802-47B4-85FD-90B72E032E81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urrent personal computers support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pipel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or begins fetching a second instruction before it completes the machine cycle for the first instr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1" name="Content Placeholder 8" descr="Fig4-06.gif"/>
          <p:cNvPicPr/>
          <p:nvPr/>
        </p:nvPicPr>
        <p:blipFill>
          <a:blip r:embed="rId1"/>
          <a:stretch/>
        </p:blipFill>
        <p:spPr>
          <a:xfrm>
            <a:off x="4648320" y="2436840"/>
            <a:ext cx="4038480" cy="2852640"/>
          </a:xfrm>
          <a:prstGeom prst="rect">
            <a:avLst/>
          </a:prstGeom>
          <a:ln w="0">
            <a:noFill/>
          </a:ln>
        </p:spPr>
      </p:pic>
      <p:sp>
        <p:nvSpPr>
          <p:cNvPr id="68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619D-71CD-4407-AE48-93725C891B8B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5 – 2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Objectives Overview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590" name="Content Placeholder 6" descr=""/>
          <p:cNvPicPr/>
          <p:nvPr/>
        </p:nvPicPr>
        <p:blipFill>
          <a:blip r:embed="rId1"/>
          <a:stretch/>
        </p:blipFill>
        <p:spPr>
          <a:xfrm>
            <a:off x="42840" y="1603440"/>
            <a:ext cx="9124920" cy="4645080"/>
          </a:xfrm>
          <a:prstGeom prst="rect">
            <a:avLst/>
          </a:prstGeom>
          <a:ln w="0">
            <a:noFill/>
          </a:ln>
        </p:spPr>
      </p:pic>
      <p:sp>
        <p:nvSpPr>
          <p:cNvPr id="591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427F-10DE-498E-8A09-613297AF218D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e Page 209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 Detailed Objectiv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llel processing uses multiple processors simultaneously to execute a single program or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sively parallel processing involves hundreds or thousands of proces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CD5F-0F4E-44DD-857C-663191672814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0" name="Picture 9" descr="Fig4-11.gif"/>
          <p:cNvPicPr/>
          <p:nvPr/>
        </p:nvPicPr>
        <p:blipFill>
          <a:blip r:embed="rId1"/>
          <a:stretch/>
        </p:blipFill>
        <p:spPr>
          <a:xfrm>
            <a:off x="2819520" y="2971800"/>
            <a:ext cx="3743280" cy="333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leading manufacturers of personal computer processor chips are Intel and A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 Condensed"/>
              </a:rPr>
              <a:t>They often identify their processor chip by a model name or model numb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 Condensed"/>
              </a:rPr>
              <a:t>Other leading processor chip manufactur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604a7b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 Condensed"/>
              </a:rPr>
              <a:t>Transm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604a7b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 Condensed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604a7b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 Condensed"/>
              </a:rPr>
              <a:t>Motorol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84040" indent="-284040">
              <a:lnSpc>
                <a:spcPct val="100000"/>
              </a:lnSpc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 Condensed"/>
              </a:rPr>
              <a:t>IBM processor had a   different design from the Intel-style process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86BA-CE7A-4E53-9D00-C2FBD0C1ED72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6 – 21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Content Placeholder 6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88620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151920" y="1600200"/>
            <a:ext cx="2667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how you plan to use a new computer before selecting a proces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FF3F-B205-471D-80DA-29C2BB7DC28B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6248520" cy="548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cessor chip generates heat that could cause the chip to burn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 additional coo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t s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cooling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Content Placeholder 9" descr="CFig4-09.gif"/>
          <p:cNvPicPr/>
          <p:nvPr/>
        </p:nvPicPr>
        <p:blipFill>
          <a:blip r:embed="rId1"/>
          <a:stretch/>
        </p:blipFill>
        <p:spPr>
          <a:xfrm>
            <a:off x="5181480" y="1752480"/>
            <a:ext cx="2895840" cy="1925640"/>
          </a:xfrm>
          <a:prstGeom prst="rect">
            <a:avLst/>
          </a:prstGeom>
          <a:ln w="0">
            <a:noFill/>
          </a:ln>
        </p:spPr>
      </p:pic>
      <p:sp>
        <p:nvSpPr>
          <p:cNvPr id="706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3634-3D57-4EA9-AAAF-C5BA5AE037A3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9 - 2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s 4-9 – 4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10" descr="Fig4-10.gif"/>
          <p:cNvPicPr/>
          <p:nvPr/>
        </p:nvPicPr>
        <p:blipFill>
          <a:blip r:embed="rId2"/>
          <a:stretch/>
        </p:blipFill>
        <p:spPr>
          <a:xfrm>
            <a:off x="5181480" y="3809880"/>
            <a:ext cx="2895840" cy="23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711" name="Content Placeholder 6" descr=""/>
          <p:cNvPicPr/>
          <p:nvPr/>
        </p:nvPicPr>
        <p:blipFill>
          <a:blip r:embed="rId1"/>
          <a:stretch/>
        </p:blipFill>
        <p:spPr>
          <a:xfrm>
            <a:off x="30240" y="1603440"/>
            <a:ext cx="9016920" cy="4645080"/>
          </a:xfrm>
          <a:prstGeom prst="rect">
            <a:avLst/>
          </a:prstGeom>
          <a:ln w="0">
            <a:noFill/>
          </a:ln>
        </p:spPr>
      </p:pic>
      <p:sp>
        <p:nvSpPr>
          <p:cNvPr id="71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437E-6DB9-430E-9B25-41BBF50A4A96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3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 computer circuit represents the 0 or the 1 electronically by the presence or absence of an electrical char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7" name="Content Placeholder 11" descr="Fig4-12.gif"/>
          <p:cNvPicPr/>
          <p:nvPr/>
        </p:nvPicPr>
        <p:blipFill>
          <a:blip r:embed="rId1"/>
          <a:stretch/>
        </p:blipFill>
        <p:spPr>
          <a:xfrm>
            <a:off x="457200" y="3255840"/>
            <a:ext cx="4040280" cy="258624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8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Eight bi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ouped together as a unit are called a </a:t>
            </a:r>
            <a:r>
              <a:rPr b="1" lang="en-US" sz="2200" spc="-1" strike="noStrike">
                <a:solidFill>
                  <a:srgbClr val="a52439"/>
                </a:solidFill>
                <a:latin typeface="Calibri"/>
              </a:rPr>
              <a:t>byt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 A byte represents a single character in the computer ( numbers, upper or lower case letters, or punctuation mark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Content Placeholder 12" descr="Fig4-13.gif"/>
          <p:cNvPicPr/>
          <p:nvPr/>
        </p:nvPicPr>
        <p:blipFill>
          <a:blip r:embed="rId2"/>
          <a:stretch/>
        </p:blipFill>
        <p:spPr>
          <a:xfrm>
            <a:off x="4724280" y="3581280"/>
            <a:ext cx="4191120" cy="2286000"/>
          </a:xfrm>
          <a:prstGeom prst="rect">
            <a:avLst/>
          </a:prstGeom>
          <a:ln w="0">
            <a:noFill/>
          </a:ln>
        </p:spPr>
      </p:pic>
      <p:sp>
        <p:nvSpPr>
          <p:cNvPr id="720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28E8-1E67-427C-9BB9-FDE4CC5C891A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s 4-12 – 4-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fferent combinations of 0s and 1s are defined by patterns called </a:t>
            </a:r>
            <a:r>
              <a:rPr b="0" lang="en-US" sz="2400" spc="-1" strike="noStrike">
                <a:solidFill>
                  <a:srgbClr val="a52439"/>
                </a:solidFill>
                <a:latin typeface="Calibri"/>
              </a:rPr>
              <a:t>a coding sche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two coding schemas used to represent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CII—American Standard Code for Information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[Personal Computers – PC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BCDIC—Extended Binary Coded Decimal Interchange C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[Mainframes, Mini-computer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ooter Placeholder 6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lide Number Placeholder 7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76C9-2DC3-48A1-8E89-B93B3689DFC2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8" name="Picture 2" descr=""/>
          <p:cNvPicPr/>
          <p:nvPr/>
        </p:nvPicPr>
        <p:blipFill>
          <a:blip r:embed="rId1"/>
          <a:stretch/>
        </p:blipFill>
        <p:spPr>
          <a:xfrm>
            <a:off x="2209680" y="4952880"/>
            <a:ext cx="4353120" cy="146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CII is the most widely used coding scheme to represent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Content Placeholder 13" descr="Fig4-14.gif"/>
          <p:cNvPicPr/>
          <p:nvPr/>
        </p:nvPicPr>
        <p:blipFill>
          <a:blip r:embed="rId1"/>
          <a:stretch/>
        </p:blipFill>
        <p:spPr>
          <a:xfrm>
            <a:off x="1523880" y="2658960"/>
            <a:ext cx="6248520" cy="4199040"/>
          </a:xfrm>
          <a:prstGeom prst="rect">
            <a:avLst/>
          </a:prstGeom>
          <a:ln w="0">
            <a:noFill/>
          </a:ln>
        </p:spPr>
      </p:pic>
      <p:sp>
        <p:nvSpPr>
          <p:cNvPr id="732" name="Footer Placeholder 6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7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5871-EDE2-4137-8313-1D6A759CFE48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36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3486-5B1A-48F3-8E3B-350518E1AAB4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Content Placeholder 3" descr=""/>
          <p:cNvPicPr/>
          <p:nvPr/>
        </p:nvPicPr>
        <p:blipFill>
          <a:blip r:embed="rId1"/>
          <a:srcRect l="0" t="0" r="3447" b="7965"/>
          <a:stretch/>
        </p:blipFill>
        <p:spPr>
          <a:xfrm>
            <a:off x="457200" y="1676520"/>
            <a:ext cx="8305920" cy="464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The System Uni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522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system unit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case that contains electronic components of the computer used to process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of metal or plastic to protects the internal components from dam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computers have a system unit. It is available in variety of shapes &amp; siz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3E6D-DFB6-4000-9F19-6B1E7FB5DD96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3"/>
          <p:cNvSpPr/>
          <p:nvPr/>
        </p:nvSpPr>
        <p:spPr>
          <a:xfrm>
            <a:off x="274320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5471-22BB-405D-A114-7256534FE4A8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6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The System Uni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side of the system unit on a desktop personal computer 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8871-68A4-4EF4-85DC-E2CD80F95368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Diagram 6" descr=""/>
          <p:cNvPicPr/>
          <p:nvPr/>
        </p:nvPicPr>
        <p:blipFill>
          <a:blip r:embed="rId1"/>
          <a:stretch/>
        </p:blipFill>
        <p:spPr>
          <a:xfrm>
            <a:off x="341280" y="2712960"/>
            <a:ext cx="2382840" cy="36640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9" descr=""/>
          <p:cNvPicPr/>
          <p:nvPr/>
        </p:nvPicPr>
        <p:blipFill>
          <a:blip r:embed="rId2"/>
          <a:stretch/>
        </p:blipFill>
        <p:spPr>
          <a:xfrm>
            <a:off x="2971800" y="2743200"/>
            <a:ext cx="54878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System unit components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842040" indent="-453240">
              <a:lnSpc>
                <a:spcPct val="90000"/>
              </a:lnSpc>
              <a:buClr>
                <a:srgbClr val="604a7b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Processor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interprets &amp; carries out the basic instructions that operate a compu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42040" indent="-453240">
              <a:lnSpc>
                <a:spcPct val="90000"/>
              </a:lnSpc>
              <a:buClr>
                <a:srgbClr val="604a7b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holds data waiting to be processed &amp; instruction waiting to be execu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42040" indent="-453240">
              <a:lnSpc>
                <a:spcPct val="90000"/>
              </a:lnSpc>
              <a:buClr>
                <a:srgbClr val="604a7b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rocessor &amp; Memory are connected to a circuit board called the 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motherboa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42040" indent="-453240">
              <a:lnSpc>
                <a:spcPct val="90000"/>
              </a:lnSpc>
              <a:buClr>
                <a:srgbClr val="604a7b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Adapter cards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are circuit boards that provide connections and functions not built into the motherboa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42040" indent="-453240">
              <a:lnSpc>
                <a:spcPct val="90000"/>
              </a:lnSpc>
              <a:buClr>
                <a:srgbClr val="604a7b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Devices outside the system unit often attach to the 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por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42040" indent="-453240">
              <a:lnSpc>
                <a:spcPct val="90000"/>
              </a:lnSpc>
              <a:buClr>
                <a:srgbClr val="604a7b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A drive bay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holds one or more disk dr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42040" indent="-453240">
              <a:lnSpc>
                <a:spcPct val="90000"/>
              </a:lnSpc>
              <a:buClr>
                <a:srgbClr val="604a7b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The Power supply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rovide the computer with the electri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1201-27CE-4573-ADF5-8DDF76A7CFFF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Motherboard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52280" y="1600200"/>
            <a:ext cx="4724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motherboa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main circuit board of the system un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ansion slots, processor chips, and memory sl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called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ystem 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BF4A-AFCF-4B83-89B5-8E69CF6F6A33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6" descr="CFig4-03.gif"/>
          <p:cNvPicPr/>
          <p:nvPr/>
        </p:nvPicPr>
        <p:blipFill>
          <a:blip r:embed="rId1"/>
          <a:stretch/>
        </p:blipFill>
        <p:spPr>
          <a:xfrm>
            <a:off x="5029200" y="1752480"/>
            <a:ext cx="388620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Motherboard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grpSp>
        <p:nvGrpSpPr>
          <p:cNvPr id="621" name="Group 21"/>
          <p:cNvGrpSpPr/>
          <p:nvPr/>
        </p:nvGrpSpPr>
        <p:grpSpPr>
          <a:xfrm>
            <a:off x="7846920" y="6402240"/>
            <a:ext cx="860400" cy="271440"/>
            <a:chOff x="7846920" y="6402240"/>
            <a:chExt cx="860400" cy="271440"/>
          </a:xfrm>
        </p:grpSpPr>
        <p:sp>
          <p:nvSpPr>
            <p:cNvPr id="622" name="AutoShape 22">
              <a:hlinkClick r:id="" action="ppaction://hlinkshowjump?jump=nextslide"/>
            </p:cNvPr>
            <p:cNvSpPr/>
            <p:nvPr/>
          </p:nvSpPr>
          <p:spPr>
            <a:xfrm>
              <a:off x="7873920" y="6402240"/>
              <a:ext cx="833400" cy="271440"/>
            </a:xfrm>
            <a:custGeom>
              <a:avLst/>
              <a:gdLst>
                <a:gd name="textAreaLeft" fmla="*/ 17280 w 833400"/>
                <a:gd name="textAreaRight" fmla="*/ 816120 w 833400"/>
                <a:gd name="textAreaTop" fmla="*/ 17280 h 271440"/>
                <a:gd name="textAreaBottom" fmla="*/ 254160 h 271440"/>
              </a:gdLst>
              <a:ahLst/>
              <a:rect l="textAreaLeft" t="textAreaTop" r="textAreaRight" b="textAreaBottom"/>
              <a:pathLst>
                <a:path w="66259" h="21600">
                  <a:moveTo>
                    <a:pt x="0" y="0"/>
                  </a:moveTo>
                  <a:lnTo>
                    <a:pt x="66259" y="0"/>
                  </a:lnTo>
                  <a:lnTo>
                    <a:pt x="66259" y="21600"/>
                  </a:lnTo>
                  <a:lnTo>
                    <a:pt x="0" y="21600"/>
                  </a:lnTo>
                  <a:close/>
                </a:path>
                <a:path fill="lightenLess" w="66259" h="21600">
                  <a:moveTo>
                    <a:pt x="0" y="0"/>
                  </a:moveTo>
                  <a:lnTo>
                    <a:pt x="66259" y="0"/>
                  </a:lnTo>
                  <a:lnTo>
                    <a:pt x="64859" y="1400"/>
                  </a:lnTo>
                  <a:lnTo>
                    <a:pt x="1400" y="1400"/>
                  </a:lnTo>
                  <a:close/>
                </a:path>
                <a:path fill="darken" w="66259" h="21600">
                  <a:moveTo>
                    <a:pt x="66259" y="0"/>
                  </a:moveTo>
                  <a:lnTo>
                    <a:pt x="66259" y="21600"/>
                  </a:lnTo>
                  <a:lnTo>
                    <a:pt x="64859" y="20200"/>
                  </a:lnTo>
                  <a:lnTo>
                    <a:pt x="64859" y="1400"/>
                  </a:lnTo>
                  <a:close/>
                </a:path>
                <a:path fill="darkenLess" w="66259" h="21600">
                  <a:moveTo>
                    <a:pt x="662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859" y="20200"/>
                  </a:lnTo>
                  <a:close/>
                </a:path>
                <a:path fill="lighten" w="662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66259" h="21600">
                  <a:moveTo>
                    <a:pt x="26123" y="3794"/>
                  </a:moveTo>
                  <a:lnTo>
                    <a:pt x="40136" y="10800"/>
                  </a:lnTo>
                  <a:lnTo>
                    <a:pt x="26123" y="17806"/>
                  </a:lnTo>
                  <a:close/>
                </a:path>
              </a:pathLst>
            </a:custGeom>
            <a:solidFill>
              <a:srgbClr val="ffb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Text Box 23"/>
            <p:cNvSpPr/>
            <p:nvPr/>
          </p:nvSpPr>
          <p:spPr>
            <a:xfrm>
              <a:off x="7846920" y="6407280"/>
              <a:ext cx="46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eece1"/>
                  </a:solidFill>
                  <a:latin typeface="Times New Roman"/>
                </a:rPr>
                <a:t>N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4" name="Rectangle 30"/>
          <p:cNvSpPr/>
          <p:nvPr/>
        </p:nvSpPr>
        <p:spPr>
          <a:xfrm>
            <a:off x="380880" y="1752480"/>
            <a:ext cx="778212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Most computers use integrated circuits  also called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MS PGothic"/>
              </a:rPr>
              <a:t>chip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, for their CPU and main memo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Memory chips are installed on memory module( card) that fit in a slot on the mother bo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What is a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  <a:ea typeface="MS PGothic"/>
              </a:rPr>
              <a:t>chi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Small piece of semi-conducting material on whic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integrated circuits (I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re etch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IC contain many microscopic pathways capable of carrying electrical cur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Each IC can contain millions of elements such as resistors, capacitors, transisto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176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Rectangle 37"/>
          <p:cNvSpPr/>
          <p:nvPr/>
        </p:nvSpPr>
        <p:spPr>
          <a:xfrm>
            <a:off x="304920" y="3000240"/>
            <a:ext cx="778176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02888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Picture 7" descr="04PHY011_ChipScaleClock2_HR"/>
          <p:cNvPicPr/>
          <p:nvPr/>
        </p:nvPicPr>
        <p:blipFill>
          <a:blip r:embed="rId1"/>
          <a:stretch/>
        </p:blipFill>
        <p:spPr>
          <a:xfrm rot="849600">
            <a:off x="7508520" y="2976480"/>
            <a:ext cx="1471680" cy="15130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" descr="r100004large"/>
          <p:cNvPicPr/>
          <p:nvPr/>
        </p:nvPicPr>
        <p:blipFill>
          <a:blip r:embed="rId2"/>
          <a:stretch/>
        </p:blipFill>
        <p:spPr>
          <a:xfrm rot="1036200">
            <a:off x="7735680" y="4644720"/>
            <a:ext cx="122220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process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lso called 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central processing uni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CP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interprets and carries out the basic instructions that operate a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rol uni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ithmetic logic unit (ALU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work together to perform processing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2C18-859F-4C68-AF90-4F23383D9D36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3" name="Diagram 6" descr=""/>
          <p:cNvPicPr/>
          <p:nvPr/>
        </p:nvPicPr>
        <p:blipFill>
          <a:blip r:embed="rId1"/>
          <a:stretch/>
        </p:blipFill>
        <p:spPr>
          <a:xfrm>
            <a:off x="109440" y="4346640"/>
            <a:ext cx="933948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7:11:12Z</dcterms:created>
  <dc:creator>steven</dc:creator>
  <dc:description/>
  <dc:language>en-US</dc:language>
  <cp:lastModifiedBy>safaa bassam</cp:lastModifiedBy>
  <dcterms:modified xsi:type="dcterms:W3CDTF">2016-01-19T07:26:34Z</dcterms:modified>
  <cp:revision>1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FB6436308CE4449AEA8207A63B4C9CB</vt:lpwstr>
  </property>
</Properties>
</file>