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094413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8D0C-F18C-4B28-AFEF-22D582572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5774E-8732-44E4-980F-77355A3A5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53E7-9A49-47B7-A1C4-5179D73E9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3479-89AE-4CCF-B36A-C2DB07679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84174-2047-4CA3-9DE2-9FCE6FCD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2EAE6-15E7-4CED-8766-CD990145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68FF4-7B64-45C7-8883-4DB6C630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6CD98-D07D-44AD-98F7-384202DD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1B01A-38A3-4381-9E0F-8C70E15F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37311-28B1-44D8-B2F3-3184A6CC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55CDD-A24C-4A88-BB67-0A3CF7F1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BB69-60F8-45D1-A3A7-FAF917876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9D433-C635-4E1E-9CF3-C954F3AA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5ED68-EB30-4BBC-9C94-49642C0D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53B5C-1707-4ABB-8410-2DAD591E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82C5D-6EB5-4D33-AF3C-FAB10F37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5568D-77BC-4CFE-9E46-040BE76F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1C456-9F41-4C10-94EB-B2E24D176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F70E0-497D-4699-A487-1E7F04FEB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2447-E337-41DC-BCCA-F4EF4C560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7726-A8B5-4255-A4B5-AF86C9F7E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DDA0-8798-42B2-8D01-22F3E7D7D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D9F8-412E-4439-9F41-754B8E55B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C42D-7F61-432D-A5DD-29AD6C469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089040"/>
            <a:chOff x="0" y="0"/>
            <a:chExt cx="9140760" cy="60890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5063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1988280"/>
              <a:ext cx="6392880" cy="4100760"/>
              <a:chOff x="2743200" y="1988280"/>
              <a:chExt cx="6392880" cy="410076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3731040"/>
                <a:ext cx="4575240" cy="23580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3769200"/>
                <a:ext cx="1998360" cy="114444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4721760"/>
                <a:ext cx="4522680" cy="1367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146760"/>
                <a:ext cx="4773600" cy="29422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269520"/>
                <a:ext cx="1981080" cy="7606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1988280"/>
                <a:ext cx="3645000" cy="20728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lick to edit the title text forma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476280" y="5554440"/>
            <a:ext cx="770256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vant Garde"/>
              </a:defRPr>
            </a:lvl1pPr>
          </a:lstStyle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vant Garde"/>
              </a:rPr>
              <a:t>These courseware materials are to be used in conjunction with </a:t>
            </a:r>
            <a:r>
              <a:rPr b="0" i="1" lang="en-US" sz="1000" spc="-1" strike="noStrike">
                <a:solidFill>
                  <a:srgbClr val="ffffff"/>
                </a:solidFill>
                <a:latin typeface="Avant Garde"/>
              </a:rPr>
              <a:t>Software Engineering: A Practitioner’s Approach,</a:t>
            </a:r>
            <a:r>
              <a:rPr b="0" lang="en-US" sz="1000" spc="-1" strike="noStrike">
                <a:solidFill>
                  <a:srgbClr val="ffffff"/>
                </a:solidFill>
                <a:latin typeface="Avant Garde"/>
              </a:rPr>
              <a:t> 6/e and are provided with permission by R.S. Pressman &amp; Associates, Inc., copyright © 1996, 2001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8238960" y="5554440"/>
            <a:ext cx="63216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0320-D333-45C8-83C1-47363A5745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0760" cy="6089040"/>
            <a:chOff x="0" y="0"/>
            <a:chExt cx="9140760" cy="608904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0760" cy="25063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743200" y="1988280"/>
              <a:ext cx="6392880" cy="4100760"/>
              <a:chOff x="2743200" y="1988280"/>
              <a:chExt cx="6392880" cy="410076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3731040"/>
                <a:ext cx="4575240" cy="23580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3769200"/>
                <a:ext cx="1998360" cy="114444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4721760"/>
                <a:ext cx="4522680" cy="1367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146760"/>
                <a:ext cx="4773600" cy="29422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269520"/>
                <a:ext cx="1981080" cy="7606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29280" y="1988280"/>
                <a:ext cx="3645000" cy="20728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ff07"/>
                </a:solidFill>
                <a:latin typeface="Palatino"/>
              </a:rPr>
              <a:t>Click to edit the title text format</a:t>
            </a:r>
            <a:endParaRPr b="1" lang="en-US" sz="48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456840" y="5554440"/>
            <a:ext cx="21337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555588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2720" y="55591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A177-FFCB-4393-AD98-B05955495D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66760" y="920520"/>
            <a:ext cx="5143680" cy="3160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oftware Project Sizing </a:t>
            </a:r>
            <a:br>
              <a:rPr sz="36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and </a:t>
            </a:r>
            <a:br>
              <a:rPr sz="36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ost Estimation</a:t>
            </a:r>
            <a:br>
              <a:rPr sz="3600"/>
            </a:b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FC73-5BB6-4F22-B69A-42DAD4840EA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cess Metrics Guidelin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Use common sense and organizational sensitivity when interpreting metrics data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Provide regular feedback to the individuals and teams who collect measures and metrics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Don’t use metrics to appraise individuals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Work with practitioners and teams to set clear goals and metrics that will be used to achieve them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Palatino"/>
              </a:rPr>
              <a:t>Never use metrics to threaten individuals or teams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Metrics data that indicate a problem area should not be considered “negative.” These data are merely an indicator for process improvement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Don’t obsess on a single metric to the exclusion of other important metrics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E9CD5-6E7C-42E8-A846-ABAC53DBA6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ject Metric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oftware project metrics are tactical, while software process metrics are strategic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hey are used by a project manager and a software team to adapt project workflow and technical activiti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Metrics collected from past projects are used as a basis for estimating effort and time of current software work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s a project proceeds, measures of effort and time are compared to original estimat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hese data are used to monitor and control progres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Project metrics can be consolidated to create process metrics that are public to the software organization as a whol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4E41-86DF-4D9A-B8F5-FA981C837B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oftware Measurement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irect measures of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oftware process, e.g., cost and effort applie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Product, e.g., lines of codes (LOC) produced, execution speed, and defects reported over some period of tim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ndirect measures of the product that include functionality, quality, complexity, efficiency, reliability, maintainability, and more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7D324-4687-4ABD-8262-6395C6A642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oftware Measurement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2217600"/>
            <a:ext cx="8229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ize-Oriented Metric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unction-Oriented Metric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2A36-6209-4C36-80C4-20BE500ED0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oftware Measurement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ize-Oriented Metric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00200" y="2232000"/>
          <a:ext cx="5878440" cy="3191040"/>
        </p:xfrm>
        <a:graphic>
          <a:graphicData uri="http://schemas.openxmlformats.org/drawingml/2006/table">
            <a:tbl>
              <a:tblPr/>
              <a:tblGrid>
                <a:gridCol w="3592440"/>
                <a:gridCol w="1143000"/>
                <a:gridCol w="1143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Projec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Projec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Lines of Code (LO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12,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27,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Person-Month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2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C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$168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$4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Pages of Documen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3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12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Errors (before releas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13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3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Defects (after releas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People Worked on The Proj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1461-E081-4F85-B48A-194B46A942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ize-Oriented Metrics: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Normalization: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rrors per KLOC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efects per KLOC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$ per KLOC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ages of Documentation per KLOC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Other measures: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rrors per person-month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KLOC per person-month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$ per page of documentation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FAB0-F5C7-4E81-BDCC-D6697B05C6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ff07"/>
                </a:solidFill>
                <a:latin typeface="Palatino"/>
              </a:rPr>
              <a:t>Function-Oriented </a:t>
            </a: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Metric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unction Point (FP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omputation of FP is based on the software information domain and complexity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P is programming language independen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Based on data that are to be known early in the evaluation of the projec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Requires some skill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bjective rather than objectiv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552FC-99F9-4A67-83D7-466A63B345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8560" y="1854360"/>
            <a:ext cx="5494320" cy="2554200"/>
          </a:xfrm>
          <a:prstGeom prst="rect">
            <a:avLst/>
          </a:prstGeom>
          <a:solidFill>
            <a:srgbClr val="96e3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omparing LOC and FP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812960" y="1452600"/>
          <a:ext cx="5487840" cy="39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1452600"/>
                    <a:ext cx="54878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855800" y="1940040"/>
          <a:ext cx="5487840" cy="16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5800" y="1940040"/>
                    <a:ext cx="548784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855800" y="2120760"/>
          <a:ext cx="5487840" cy="481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5800" y="2120760"/>
                    <a:ext cx="5487840" cy="4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841400" y="2654280"/>
          <a:ext cx="5488200" cy="160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41400" y="2654280"/>
                    <a:ext cx="548820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841400" y="2816280"/>
          <a:ext cx="5488200" cy="3189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41400" y="2816280"/>
                    <a:ext cx="548820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841400" y="3149640"/>
          <a:ext cx="5488200" cy="4809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41400" y="3149640"/>
                    <a:ext cx="54882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841400" y="3635280"/>
          <a:ext cx="5488200" cy="4809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41400" y="3635280"/>
                    <a:ext cx="54882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841400" y="4137120"/>
          <a:ext cx="5488200" cy="16020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1400" y="4137120"/>
                    <a:ext cx="548820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2966040" y="4557600"/>
            <a:ext cx="3705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presentative values developed by Q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723E-6367-465D-993A-11AD0950BE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57120" y="3052800"/>
            <a:ext cx="7391520" cy="1712880"/>
          </a:xfrm>
          <a:prstGeom prst="rect">
            <a:avLst/>
          </a:prstGeom>
          <a:solidFill>
            <a:srgbClr val="ad278d"/>
          </a:solidFill>
          <a:ln w="0">
            <a:noFill/>
          </a:ln>
          <a:effectLst>
            <a:outerShdw dist="63504" dir="3183908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ject Planning Task Set-I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stablish project scop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etermine feasibility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nalyze risk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efine required resourc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Determine require human resourc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Define reusable software resourc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Identify environmental resourc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8D09D-A2E3-4E3E-9E21-C9C654CA1F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1397160"/>
            <a:ext cx="7575480" cy="1839600"/>
          </a:xfrm>
          <a:prstGeom prst="rect">
            <a:avLst/>
          </a:prstGeom>
          <a:solidFill>
            <a:srgbClr val="ad278d"/>
          </a:solidFill>
          <a:ln w="0">
            <a:noFill/>
          </a:ln>
          <a:effectLst>
            <a:outerShdw dist="63504" dir="3183908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ject Planning Task Set-II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stimate cost and effor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Decompose the problem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Develop two or more estimates using size, function points, process tasks or use-cas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Reconcile the estimat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evelop a project schedul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Establish a meaningful task set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Define a task network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Use scheduling tools to develop a timeline chart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Define schedule tracking mechanisms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97ABA-8A17-497B-96A2-39380A7FF9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49160" y="244080"/>
            <a:ext cx="585468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A Good Manager Measur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0" name=""/>
          <p:cNvSpPr/>
          <p:nvPr/>
        </p:nvSpPr>
        <p:spPr>
          <a:xfrm>
            <a:off x="2387520" y="1405080"/>
            <a:ext cx="2730600" cy="1981080"/>
          </a:xfrm>
          <a:prstGeom prst="ellipse">
            <a:avLst/>
          </a:prstGeom>
          <a:solidFill>
            <a:srgbClr val="d7fa7e"/>
          </a:solidFill>
          <a:ln w="0">
            <a:noFill/>
          </a:ln>
          <a:effectLst>
            <a:outerShdw dist="53966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87520" y="1405080"/>
            <a:ext cx="2730600" cy="198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84680" y="3144960"/>
            <a:ext cx="2044800" cy="19810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53966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4680" y="3144960"/>
            <a:ext cx="2044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2120" y="2120760"/>
            <a:ext cx="216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080" y="3251160"/>
            <a:ext cx="1875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hat do 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34000" y="3556080"/>
            <a:ext cx="1383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use as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46600" y="3886200"/>
            <a:ext cx="1146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asi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81080" y="4191120"/>
            <a:ext cx="1477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•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z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720" y="4508640"/>
            <a:ext cx="210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•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unc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2840" y="1841400"/>
            <a:ext cx="23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met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73560" y="1257480"/>
            <a:ext cx="2519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 met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20920" y="1028880"/>
            <a:ext cx="1348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2960" y="3073320"/>
            <a:ext cx="131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45160" y="1279440"/>
            <a:ext cx="139608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584600" y="1480680"/>
            <a:ext cx="482760" cy="330120"/>
          </a:xfrm>
          <a:prstGeom prst="line">
            <a:avLst/>
          </a:prstGeom>
          <a:ln w="507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965840" y="2077560"/>
            <a:ext cx="685800" cy="127080"/>
          </a:xfrm>
          <a:prstGeom prst="line">
            <a:avLst/>
          </a:prstGeom>
          <a:ln w="507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58920" y="2357280"/>
            <a:ext cx="11174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2674800"/>
            <a:ext cx="2211480" cy="476280"/>
          </a:xfrm>
          <a:custGeom>
            <a:avLst/>
            <a:gdLst/>
            <a:ahLst/>
            <a:rect l="l" t="t" r="r" b="b"/>
            <a:pathLst>
              <a:path w="1393" h="300">
                <a:moveTo>
                  <a:pt x="0" y="0"/>
                </a:moveTo>
                <a:lnTo>
                  <a:pt x="1392" y="299"/>
                </a:lnTo>
                <a:lnTo>
                  <a:pt x="96" y="29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2674800"/>
            <a:ext cx="154080" cy="2440080"/>
          </a:xfrm>
          <a:custGeom>
            <a:avLst/>
            <a:gdLst/>
            <a:ahLst/>
            <a:rect l="l" t="t" r="r" b="b"/>
            <a:pathLst>
              <a:path w="97" h="1537">
                <a:moveTo>
                  <a:pt x="0" y="0"/>
                </a:moveTo>
                <a:lnTo>
                  <a:pt x="48" y="1536"/>
                </a:lnTo>
                <a:lnTo>
                  <a:pt x="96" y="29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03320" y="2502000"/>
            <a:ext cx="248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met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89520" y="2674800"/>
            <a:ext cx="571320" cy="38160"/>
          </a:xfrm>
          <a:prstGeom prst="line">
            <a:avLst/>
          </a:prstGeom>
          <a:ln w="507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DF840-18EE-441E-A13C-F17FD98FB50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Estimation</a:t>
            </a:r>
            <a:br>
              <a:rPr sz="3600"/>
            </a:br>
            <a:r>
              <a:rPr b="1" lang="en-US" sz="1400" spc="-1" strike="noStrike">
                <a:solidFill>
                  <a:srgbClr val="f3ff07"/>
                </a:solidFill>
                <a:latin typeface="Arial"/>
                <a:ea typeface="Arial"/>
              </a:rPr>
              <a:t>SWE 23.1</a:t>
            </a:r>
            <a:endParaRPr b="1" lang="en-US" sz="14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stimation is as much art as it is scienc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stimation of resources, cost, and schedule for a software engineering effort requires 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experience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access to good historical information (metrics)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the courage to commit to quantitative predictions when qualitative information is all that exists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stimation carries inherent risk and this risk leads to uncertainty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stimation risk is measured by the degree of uncertainty in the quantitative estimates established for resources, cost, and schedule. 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C076B-1D6F-49C9-A65D-57F8E6595D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ject Estimation</a:t>
            </a:r>
            <a:br>
              <a:rPr sz="3600"/>
            </a:br>
            <a:r>
              <a:rPr b="1" lang="en-US" sz="1400" spc="-1" strike="noStrike">
                <a:solidFill>
                  <a:srgbClr val="f3ff07"/>
                </a:solidFill>
                <a:latin typeface="Arial"/>
                <a:ea typeface="Arial"/>
              </a:rPr>
              <a:t>SWE 23.5</a:t>
            </a:r>
            <a:endParaRPr b="1" lang="en-US" sz="14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387520" y="1585800"/>
            <a:ext cx="6610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Software cost and effort estimation will never be an exact science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A large cost estimation error can make a difference between profit and loss.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To achieve reliable cost and effort estimates, a number of options 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are considered: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Delay estimates until late in the project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Base estimates on similar projects that has been completed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Use relatively simple decomposition techniques to generate cost and effort estimates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Use one or more empirical models for software cost and effort estimates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96720" y="1486080"/>
            <a:ext cx="1860840" cy="155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4F9A-4C4B-4535-9EAF-5C5CE3EF9B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Estimation Accuracy</a:t>
            </a:r>
            <a:br>
              <a:rPr sz="3600"/>
            </a:br>
            <a:r>
              <a:rPr b="1" lang="en-US" sz="1400" spc="-1" strike="noStrike">
                <a:solidFill>
                  <a:srgbClr val="f3ff07"/>
                </a:solidFill>
                <a:latin typeface="Palatino"/>
              </a:rPr>
              <a:t>SWE 23.6</a:t>
            </a:r>
            <a:endParaRPr b="1" lang="en-US" sz="14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redicated on …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the degree to which the planner has properly estimated the size of the product to be buil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he </a:t>
            </a: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ability to translate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the size estimate into human effort, calendar time, and dollars (a function of the availability of reliable software metrics from past projects)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he degree to which the project plan reflects the </a:t>
            </a: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abilities of the software team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he </a:t>
            </a: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stability of product requirements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and the environment that supports the software engineering effort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EE85C-6B40-405A-A034-5BD263C32C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82880" y="2152800"/>
            <a:ext cx="3111480" cy="1523880"/>
          </a:xfrm>
          <a:prstGeom prst="ellipse">
            <a:avLst/>
          </a:prstGeom>
          <a:solidFill>
            <a:srgbClr val="a886e0"/>
          </a:solidFill>
          <a:ln w="0">
            <a:noFill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31560" y="415440"/>
            <a:ext cx="6953400" cy="57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Functional Decomposition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93" name=""/>
          <p:cNvSpPr/>
          <p:nvPr/>
        </p:nvSpPr>
        <p:spPr>
          <a:xfrm>
            <a:off x="1536840" y="1747800"/>
            <a:ext cx="1638000" cy="22813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36840" y="1749600"/>
            <a:ext cx="1638000" cy="2277720"/>
          </a:xfrm>
          <a:prstGeom prst="rect">
            <a:avLst/>
          </a:prstGeom>
          <a:solidFill>
            <a:srgbClr val="d103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1703520"/>
            <a:ext cx="1638360" cy="2268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1704960"/>
            <a:ext cx="1638360" cy="2265480"/>
          </a:xfrm>
          <a:prstGeom prst="rect">
            <a:avLst/>
          </a:prstGeom>
          <a:solidFill>
            <a:srgbClr val="8c488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59000" y="1623960"/>
            <a:ext cx="1650960" cy="22813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59000" y="1625760"/>
            <a:ext cx="1650960" cy="2278080"/>
          </a:xfrm>
          <a:prstGeom prst="rect">
            <a:avLst/>
          </a:prstGeom>
          <a:solidFill>
            <a:srgbClr val="ad27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64200" y="278136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13520" y="328932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8680" y="328932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56440" y="328932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56320" y="385452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64280" y="420372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84840" y="456552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39000" y="385452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24800" y="418140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2760" y="3854520"/>
            <a:ext cx="7110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651280" y="2946240"/>
            <a:ext cx="749160" cy="27972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26360" y="2935440"/>
            <a:ext cx="0" cy="29052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26360" y="2946240"/>
            <a:ext cx="939600" cy="27972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130720" y="3465360"/>
            <a:ext cx="432000" cy="30168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3465360"/>
            <a:ext cx="25200" cy="65268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49760" y="3465360"/>
            <a:ext cx="648000" cy="103680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400440" y="3443400"/>
            <a:ext cx="88920" cy="33480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89720" y="3443400"/>
            <a:ext cx="546120" cy="68580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18240" y="3443400"/>
            <a:ext cx="0" cy="33480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98280" y="2060640"/>
            <a:ext cx="1809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tion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51960" y="2017800"/>
            <a:ext cx="12841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67000" y="2614680"/>
            <a:ext cx="2524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 a Grammatical “pars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F286-32C2-4349-9BEC-C059B62EBBE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01640" y="1927080"/>
            <a:ext cx="7696080" cy="1940040"/>
          </a:xfrm>
          <a:prstGeom prst="rect">
            <a:avLst/>
          </a:prstGeom>
          <a:solidFill>
            <a:srgbClr val="d1039b"/>
          </a:solidFill>
          <a:ln w="0">
            <a:noFill/>
          </a:ln>
          <a:effectLst>
            <a:outerShdw dist="53966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04720" y="604440"/>
            <a:ext cx="6453000" cy="2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onventional Methods:</a:t>
            </a:r>
            <a:br>
              <a:rPr sz="36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LOC/FP Approach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9560" y="2092320"/>
            <a:ext cx="7324920" cy="25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ompute LOC/FP using estimates of information domain valu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use historical data to build estimates for the projec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C8BA-CF18-459C-83E4-DD57A3EB534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Empirical Estimation Models: COCOMO-II</a:t>
            </a:r>
            <a:br>
              <a:rPr sz="3600"/>
            </a:br>
            <a:r>
              <a:rPr b="1" lang="en-US" sz="1400" spc="-1" strike="noStrike">
                <a:solidFill>
                  <a:srgbClr val="f3ff07"/>
                </a:solidFill>
                <a:latin typeface="Palatino"/>
              </a:rPr>
              <a:t>SWE 23.7</a:t>
            </a:r>
            <a:endParaRPr b="1" lang="en-US" sz="14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OCOMO II (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Palatino"/>
              </a:rPr>
              <a:t>CO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nstructiv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Palatino"/>
              </a:rPr>
              <a:t>CO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t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Palatino"/>
              </a:rPr>
              <a:t>MO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el) is actually a hierarchy of estimation models that address the following areas: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3ff07"/>
                </a:solidFill>
                <a:latin typeface="Palatino"/>
              </a:rPr>
              <a:t>Application composition model.</a:t>
            </a:r>
            <a:r>
              <a:rPr b="0" i="1" lang="en-US" sz="18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Used during the early stages of software engineering, when prototyping of user interfaces, consideration of software and system interaction, assessment of performance, and evaluation of technology maturity are paramount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19960" indent="-223920"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3ff07"/>
                </a:solidFill>
                <a:latin typeface="Palatino"/>
              </a:rPr>
              <a:t>Early design stage model.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 Used once requirements have been stabilized and basic software architecture has been established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3ff07"/>
                </a:solidFill>
                <a:latin typeface="Palatino"/>
              </a:rPr>
              <a:t>Post-architecture-stage model.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 Used during the construction of the software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21D1-BFA1-48FC-9D24-613F282A56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OCOMO-II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OCOMO-II application composition model uses object points; counts of the number of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creen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Report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Components likely required to build the applicatio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creens, reports and components are weighted according to 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806480" y="4141800"/>
          <a:ext cx="4996080" cy="1365120"/>
        </p:xfrm>
        <a:graphic>
          <a:graphicData uri="http://schemas.openxmlformats.org/drawingml/2006/table">
            <a:tbl>
              <a:tblPr/>
              <a:tblGrid>
                <a:gridCol w="1381320"/>
                <a:gridCol w="1649160"/>
                <a:gridCol w="1019160"/>
                <a:gridCol w="9464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Object ty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Complexity Weigh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Simp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Medi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Difficul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Scree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Re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3GL compon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8EE2-C59F-4C94-8C08-CDAADA969B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OCOMO-II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Once complexities are determined,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Object Point Count = Original number of object instanc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Weighting factor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NOP = (Object points) *[(100-% reuse)/100]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ROD = NOP / Person-Month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stimated Effort = NOP / PROD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F829-8604-43B9-A406-F6A285D4EF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998720" y="1768320"/>
            <a:ext cx="5022720" cy="900360"/>
          </a:xfrm>
          <a:prstGeom prst="rect">
            <a:avLst/>
          </a:prstGeom>
          <a:solidFill>
            <a:srgbClr val="ad278d"/>
          </a:solidFill>
          <a:ln w="0">
            <a:noFill/>
          </a:ln>
          <a:effectLst>
            <a:outerShdw dist="71785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he Software Equation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33" name=""/>
          <p:cNvSpPr/>
          <p:nvPr/>
        </p:nvSpPr>
        <p:spPr>
          <a:xfrm>
            <a:off x="642960" y="1181160"/>
            <a:ext cx="8034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 dynamic multivariabl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 = [LOC x 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Palatino"/>
              </a:rPr>
              <a:t>0.333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/P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Palatino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 x (1/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Palatino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whe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 = effort in person-months or person-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 = project duration in months or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B = “special skills facto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 = “productivity parameter”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alatino"/>
              </a:rPr>
              <a:t>(typical value 2000 for real-time software, 28000 for business application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972EA-C129-423B-9F38-DA15B7DA0C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61600" y="244440"/>
            <a:ext cx="62341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Why Do We Measure?</a:t>
            </a:r>
            <a:br>
              <a:rPr sz="36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WE 22, 22.1</a:t>
            </a:r>
            <a:endParaRPr b="1" lang="en-US" sz="14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31640" y="1495440"/>
            <a:ext cx="72198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o characterize, in an effort to gain an understanding of process, products, resources, and environment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o establish baselines for comparisons with future assessment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o evaluate status with respect to pla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o predict, by gaining understanding of relationships among processes and products, and building models of these relationship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o improve, by identifying roadblocks, root causes, inefficiencies, and other opportunities for improving product quality and process performanc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3A420-8BDA-438E-929A-D9945004AE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61600" y="244440"/>
            <a:ext cx="62341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ject Metrics and Software Project Manager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31640" y="1495440"/>
            <a:ext cx="72198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Project metrics help a software project manager i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ssessing the status of an ongoing projec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racking potential risk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uncovering problem areas before they go “critical,”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djusting work flow or tasks, 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valuating the project team’s ability to control quality of software work products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4DEF-2384-42EE-9804-FFABDA1372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oftware Process Improvemen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27" name=""/>
          <p:cNvSpPr/>
          <p:nvPr/>
        </p:nvSpPr>
        <p:spPr>
          <a:xfrm>
            <a:off x="3424320" y="2054160"/>
            <a:ext cx="2041560" cy="2125800"/>
          </a:xfrm>
          <a:prstGeom prst="cube">
            <a:avLst>
              <a:gd name="adj" fmla="val 25000"/>
            </a:avLst>
          </a:prstGeom>
          <a:solidFill>
            <a:srgbClr val="ad278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98720" y="2368440"/>
            <a:ext cx="1141200" cy="298440"/>
          </a:xfrm>
          <a:prstGeom prst="rightArrow">
            <a:avLst>
              <a:gd name="adj1" fmla="val 50000"/>
              <a:gd name="adj2" fmla="val 95597"/>
            </a:avLst>
          </a:prstGeom>
          <a:solidFill>
            <a:srgbClr val="96e3fe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8560" y="2030400"/>
            <a:ext cx="1805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s 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36880" y="3048120"/>
            <a:ext cx="1141200" cy="298440"/>
          </a:xfrm>
          <a:prstGeom prst="rightArrow">
            <a:avLst>
              <a:gd name="adj1" fmla="val 50000"/>
              <a:gd name="adj2" fmla="val 95597"/>
            </a:avLst>
          </a:prstGeom>
          <a:solidFill>
            <a:srgbClr val="96e3fe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2240" y="2717640"/>
            <a:ext cx="2276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ment go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31840" y="3714840"/>
            <a:ext cx="1141560" cy="298440"/>
          </a:xfrm>
          <a:prstGeom prst="rightArrow">
            <a:avLst>
              <a:gd name="adj1" fmla="val 50000"/>
              <a:gd name="adj2" fmla="val 95627"/>
            </a:avLst>
          </a:prstGeom>
          <a:solidFill>
            <a:srgbClr val="96e3fe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0080" y="3384720"/>
            <a:ext cx="1942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ff07"/>
                </a:solidFill>
                <a:latin typeface="Arial"/>
              </a:rPr>
              <a:t>Process metr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3086280"/>
            <a:ext cx="1141560" cy="298440"/>
          </a:xfrm>
          <a:prstGeom prst="rightArrow">
            <a:avLst>
              <a:gd name="adj1" fmla="val 50000"/>
              <a:gd name="adj2" fmla="val 95627"/>
            </a:avLst>
          </a:prstGeom>
          <a:solidFill>
            <a:srgbClr val="96e3fe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29840" y="2511360"/>
            <a:ext cx="2565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s improv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mmend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A8503-EE1D-4DF1-B09E-ED59F8BB00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oftware Process Improvemen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actors that influence software quality and organizational performanc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kills and motivation of peopl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Complexity of the produc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echnology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Development environment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Business condition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Customer characteristic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A2BD-3F03-4BAC-9A6E-34FA839BEC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cess Measuremen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We measure the efficacy of a software process indirectly. 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That is, we derive a set of metrics based on the outcomes that can be derived from the process. 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Outcomes include 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measures of errors uncovered before release of the software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defects delivered to and reported by end-users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work products delivered (productivity)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human effort expended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calendar time expended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schedule conformance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 </a:t>
            </a: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other measures.</a:t>
            </a:r>
            <a:r>
              <a:rPr b="0" lang="en-US" sz="1400" spc="-1" strike="noStrike">
                <a:solidFill>
                  <a:srgbClr val="ffffff"/>
                </a:solidFill>
                <a:latin typeface="Palatino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We also derive process metrics by measuring the characteristics of specific software engineering tasks. 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8026-B3B7-4AAF-8A1C-A1575AD4F9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5560" y="355320"/>
            <a:ext cx="7594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cess Metric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31760" y="1347480"/>
            <a:ext cx="7445520" cy="358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Quality-related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focus on quality of work products and deliverables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Productivity-related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Production of work-products related to effort expended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Statistical SQA data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error categorization &amp; analysis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Defect removal efficiency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propagation of errors from process activity to activity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Reuse data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The number of components produced and their degree of reusability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350A-F343-44E9-8F72-51CFEA7F0B1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cess Metric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rivate process metrics,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Private to the software project team but public to all team member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-2743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defects reported for major software function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-2743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rrors found during formal technical review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-2743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Line s of code or function points per component or functio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ublic process metric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Originally was private to individuals and team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-2743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Project level defect rates (not attributed to an individual)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-2743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ffor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-2743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Calendar times, and related data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A6A0D-12CA-4407-8AAD-52CC1D5815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00:57:40Z</dcterms:created>
  <dc:creator>Roger Pressman</dc:creator>
  <dc:description/>
  <dc:language>en-US</dc:language>
  <cp:lastModifiedBy>Staff Member</cp:lastModifiedBy>
  <dcterms:modified xsi:type="dcterms:W3CDTF">2005-02-27T06:23:13Z</dcterms:modified>
  <cp:revision>157</cp:revision>
  <dc:subject/>
  <dc:title>Transparency Masters for Software Engineering: A Practitioner's Approach, 4/e</dc:title>
</cp:coreProperties>
</file>