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094413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26BD-EA96-4A0B-A752-C99AE4104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099C7-B1B2-4BEA-B941-735271243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E5AB-8726-4372-8F2C-73976BE97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8280-D1B8-4CFA-A3C9-E463E0073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47AEB-BDDC-4C7B-AF95-5F034BF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AA871-C46E-46BF-933F-E81AC66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D53B6-E288-4250-9C07-188DE04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31E33-10FA-41BB-A8A4-D8486BB6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323C-46DF-45B2-88B6-3175B4CD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E0CE1-5389-40DD-A7D8-2EF1543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DA7F0-9A06-4364-8D8B-D177B6D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E793-2EFD-438F-B612-582B0FCC7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1B1D7-E328-4E45-9932-EFD97E2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5959-EAFA-461C-91AB-1D6AB81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0E86B-BE0C-4EAE-8F04-D81A75F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4DE7A-9547-4275-BC25-B5D63B59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42236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511080"/>
            <a:ext cx="264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6C20E-D53E-45BF-BD5A-B8F3E964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D7DD-0598-4E4A-8EE6-1A0F8D74C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7EFD-2053-48C6-85A8-D3899C6C3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77DD-CB19-4BF9-9ABD-1667D2500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E940-8155-495C-882F-D950C3A23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1A25-CD1D-47E4-913B-CDB57C93C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1108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7AE4-1097-45D2-99F1-D0C825B1F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2360"/>
            <a:ext cx="40158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11080"/>
            <a:ext cx="8229600" cy="19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A476-AAFF-4192-B282-A7189D9DE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476280" y="5554440"/>
            <a:ext cx="77025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vant Garde"/>
              </a:defRPr>
            </a:lvl1pPr>
          </a:lstStyle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These courseware materials are to be used in conjunction with </a:t>
            </a:r>
            <a:r>
              <a:rPr b="0" i="1" lang="en-US" sz="1000" spc="-1" strike="noStrike">
                <a:solidFill>
                  <a:srgbClr val="ffffff"/>
                </a:solidFill>
                <a:latin typeface="Avant Garde"/>
              </a:rPr>
              <a:t>Software Engineering: A Practitioner’s Approach,</a:t>
            </a:r>
            <a:r>
              <a:rPr b="0" lang="en-US" sz="1000" spc="-1" strike="noStrike">
                <a:solidFill>
                  <a:srgbClr val="ffffff"/>
                </a:solidFill>
                <a:latin typeface="Avant Garde"/>
              </a:rPr>
              <a:t> 6/e and are provided with permission by R.S. Pressman &amp; Associates, Inc., copyright © 1996, 2001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38960" y="5554440"/>
            <a:ext cx="63216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038-0A48-444F-AE78-AB504B99F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089040"/>
            <a:chOff x="0" y="0"/>
            <a:chExt cx="9140760" cy="608904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0760" cy="25063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743200" y="1988280"/>
              <a:ext cx="6392880" cy="4100760"/>
              <a:chOff x="2743200" y="1988280"/>
              <a:chExt cx="6392880" cy="410076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3731040"/>
                <a:ext cx="4575240" cy="23580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3769200"/>
                <a:ext cx="1998360" cy="114444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4721760"/>
                <a:ext cx="4522680" cy="1367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146760"/>
                <a:ext cx="4773600" cy="294228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269520"/>
                <a:ext cx="1981080" cy="7606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129280" y="1988280"/>
                <a:ext cx="3645000" cy="20728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ff07"/>
                </a:solidFill>
                <a:latin typeface="Palatino"/>
              </a:rPr>
              <a:t>Click to edit the title text format</a:t>
            </a:r>
            <a:endParaRPr b="1" lang="en-US" sz="48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555444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555588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55591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B5A-4B5A-4684-B398-D9051A5785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66760" y="920520"/>
            <a:ext cx="5143680" cy="3160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ject Sizing 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nd 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st Estimation</a:t>
            </a:r>
            <a:br>
              <a:rPr sz="3600"/>
            </a:b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DCE5-88FC-4051-849C-0A8AAE5C8B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 Guidelin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 common sense and organizational sensitivity when interpreting metrics data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ovide regular feedback to the individuals and teams who collect measures and metric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Don’t use metrics to appraise individual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ork with practitioners and teams to set clear goals and metrics that will be used to achieve them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Palatino"/>
              </a:rPr>
              <a:t>Never use metrics to threaten individuals or team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Metrics data that indicate a problem area should not be considered “negative.” These data are merely an indicator for process improvement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on’t obsess on a single metric to the exclusion of other important metrics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EACD-2FB3-43DA-9242-5F974942DE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oftware project metrics are tactical, while software process metrics are strategic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y are used by a project manager and a software team to adapt project workflow and technical activiti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Metrics collected from past projects are used as a basis for estimating effort and time of current software work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 a project proceeds, measures of effort and time are compared to original estimat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se data are used to monitor and control progres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metrics can be consolidated to create process metrics that are public to the software organization as a who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D849-F257-4D0E-9D23-A99CE525F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irect measures of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oftware process, e.g., cost and effort applie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duct, e.g., lines of codes (LOC) produced, execution speed, and defects reported over some period of tim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Indirect measures of the product that include functionality, quality, complexity, efficiency, reliability, maintainability, and more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F000-03E8-412E-A122-D02F0B8C2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2176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Size-Oriented Metric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unction-Oriented Metric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1B15-182E-4477-8353-CB3773593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Measurement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ize-Oriented Metric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232000"/>
          <a:ext cx="5878440" cy="3191040"/>
        </p:xfrm>
        <a:graphic>
          <a:graphicData uri="http://schemas.openxmlformats.org/drawingml/2006/table">
            <a:tbl>
              <a:tblPr/>
              <a:tblGrid>
                <a:gridCol w="3592440"/>
                <a:gridCol w="114300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roject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roject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Lines of Code (LO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2,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7,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erson-Mon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C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$168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$4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ages of Documen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2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Errors (before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Defects (after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People Worked on The Pro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3AD6-EB41-45F0-BE70-8351D16219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ize-Oriented Metrics: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ormalization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ects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$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ages of Documentation per KLOC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ther measure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rrors per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LOC per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$ per page of documenta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9209-FD41-4E60-B79B-B8DBFA7B80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ff07"/>
                </a:solidFill>
                <a:latin typeface="Palatino"/>
              </a:rPr>
              <a:t>Function-Oriented </a:t>
            </a: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unction Point (FP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utation of FP is based on the software information domain and complex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P is programming language independen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ased on data that are to be known early in the evaluation of the projec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quires some skill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ubjective rather than objectiv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B6E2-76A0-4D55-9636-15B14FA58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8560" y="1854360"/>
            <a:ext cx="5494320" cy="2554200"/>
          </a:xfrm>
          <a:prstGeom prst="rect">
            <a:avLst/>
          </a:prstGeom>
          <a:solidFill>
            <a:srgbClr val="96e3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mparing LOC and FP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12960" y="1452600"/>
          <a:ext cx="5487840" cy="39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1452600"/>
                    <a:ext cx="5487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55800" y="1940040"/>
          <a:ext cx="5487840" cy="16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1940040"/>
                    <a:ext cx="548784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855800" y="2120760"/>
          <a:ext cx="5487840" cy="48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5800" y="2120760"/>
                    <a:ext cx="548784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841400" y="2654280"/>
          <a:ext cx="5488200" cy="160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41400" y="2654280"/>
                    <a:ext cx="548820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841400" y="2816280"/>
          <a:ext cx="5488200" cy="318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1400" y="2816280"/>
                    <a:ext cx="54882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841400" y="3149640"/>
          <a:ext cx="5488200" cy="4809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41400" y="3149640"/>
                    <a:ext cx="5488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841400" y="3635280"/>
          <a:ext cx="5488200" cy="4809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1400" y="3635280"/>
                    <a:ext cx="5488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841400" y="4137120"/>
          <a:ext cx="5488200" cy="1602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1400" y="4137120"/>
                    <a:ext cx="548820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966040" y="4557600"/>
            <a:ext cx="370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resentative values developed by QS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EDFE-E93D-4A07-B765-0286C0F717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57120" y="3052800"/>
            <a:ext cx="7391520" cy="171288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63504" dir="3183908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Planning Task Set-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ablish project scop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termine feasibilit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nalyze risk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fine required resour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termine require human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ine reusable software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dentify environmental resourc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CAFA-8805-412F-900A-01E7E2021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1397160"/>
            <a:ext cx="7575480" cy="183960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63504" dir="3183908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Planning Task Set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imate cost and effor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compose the proble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velop two or more estimates using size, function points, process tasks or use-cas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concile the estimate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velop a project schedul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Establish a meaningful task set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a task network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 scheduling tools to develop a timeline chart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ine schedule tracking mechanism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1108-29A8-44F8-B6B1-8B97D10E5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9160" y="244080"/>
            <a:ext cx="5854680" cy="114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A Good Manager Measure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>
            <a:off x="2387520" y="1405080"/>
            <a:ext cx="2730600" cy="1981080"/>
          </a:xfrm>
          <a:prstGeom prst="ellipse">
            <a:avLst/>
          </a:prstGeom>
          <a:solidFill>
            <a:srgbClr val="d7fa7e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7520" y="1405080"/>
            <a:ext cx="2730600" cy="198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4680" y="3144960"/>
            <a:ext cx="2044800" cy="19810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4680" y="3144960"/>
            <a:ext cx="2044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2120" y="2120760"/>
            <a:ext cx="21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080" y="3251160"/>
            <a:ext cx="1875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hat do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34000" y="3556080"/>
            <a:ext cx="1383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se a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6600" y="3886200"/>
            <a:ext cx="114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a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1080" y="4191120"/>
            <a:ext cx="1477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•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z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720" y="4508640"/>
            <a:ext cx="210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•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2840" y="1841400"/>
            <a:ext cx="23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73560" y="1257480"/>
            <a:ext cx="251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920" y="1028880"/>
            <a:ext cx="1348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2960" y="3073320"/>
            <a:ext cx="131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5160" y="1279440"/>
            <a:ext cx="1396080" cy="99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584600" y="1480680"/>
            <a:ext cx="482760" cy="33012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965840" y="2077560"/>
            <a:ext cx="685800" cy="12708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58920" y="2357280"/>
            <a:ext cx="11174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674800"/>
            <a:ext cx="2211480" cy="476280"/>
          </a:xfrm>
          <a:custGeom>
            <a:avLst/>
            <a:gdLst/>
            <a:ahLst/>
            <a:rect l="l" t="t" r="r" b="b"/>
            <a:pathLst>
              <a:path w="1393" h="300">
                <a:moveTo>
                  <a:pt x="0" y="0"/>
                </a:moveTo>
                <a:lnTo>
                  <a:pt x="1392" y="299"/>
                </a:lnTo>
                <a:lnTo>
                  <a:pt x="96" y="29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674800"/>
            <a:ext cx="154080" cy="2440080"/>
          </a:xfrm>
          <a:custGeom>
            <a:avLst/>
            <a:gdLst/>
            <a:ahLst/>
            <a:rect l="l" t="t" r="r" b="b"/>
            <a:pathLst>
              <a:path w="97" h="1537">
                <a:moveTo>
                  <a:pt x="0" y="0"/>
                </a:moveTo>
                <a:lnTo>
                  <a:pt x="48" y="1536"/>
                </a:lnTo>
                <a:lnTo>
                  <a:pt x="96" y="29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03320" y="2502000"/>
            <a:ext cx="248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89520" y="2674800"/>
            <a:ext cx="571320" cy="381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739E-B695-428C-A5D0-F1EBAACF7A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stimation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Arial"/>
                <a:ea typeface="Arial"/>
              </a:rPr>
              <a:t>SWE 23.1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is as much art as it is scienc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of resources, cost, and schedule for a software engineering effort requires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experience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access to good historical information (metrics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ff07"/>
                </a:solidFill>
                <a:latin typeface="Palatino"/>
              </a:rPr>
              <a:t>the courage to commit to quantitative predictions when qualitative information is all that exists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carries inherent risk and this risk leads to uncertainty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stimation risk is measured by the degree of uncertainty in the quantitative estimates established for resources, cost, and schedule.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F60E-A733-4C83-9188-29367B30B3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Estimation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Arial"/>
                <a:ea typeface="Arial"/>
              </a:rPr>
              <a:t>SWE 23.5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87520" y="1585800"/>
            <a:ext cx="6610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Software cost and effort estimation will never be an exact science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 large cost estimation error can make a difference between profit and loss.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o achieve reliable cost and effort estimates, a number of options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are considered: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Delay estimates until late in the project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Base estimates on similar projects that has been complet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Use relatively simple decomposition techniques to generate cost and effort estimat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Use one or more empirical models for software cost and effort estimat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6720" y="1486080"/>
            <a:ext cx="1860840" cy="15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1C90-83DC-4A53-9B11-0DEB3628E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stimation Accuracy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Palatino"/>
              </a:rPr>
              <a:t>SWE 23.6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edicated on …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the degree to which the planner has properly estimated the size of the product to be buil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bility to translate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the size estimate into human effort, calendar time, and dollars (a function of the availability of reliable software metrics from past projects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degree to which the project plan reflects 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abilities of the software team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he </a:t>
            </a:r>
            <a:r>
              <a:rPr b="0" lang="en-US" sz="2000" spc="-1" strike="noStrike">
                <a:solidFill>
                  <a:srgbClr val="f3ff07"/>
                </a:solidFill>
                <a:latin typeface="Palatino"/>
              </a:rPr>
              <a:t>stability of product requirements</a:t>
            </a: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 and the environment that supports the software engineering effort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C40D-C7FE-4399-BFF1-2BF52E7BD1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82880" y="2152800"/>
            <a:ext cx="3111480" cy="1523880"/>
          </a:xfrm>
          <a:prstGeom prst="ellipse">
            <a:avLst/>
          </a:prstGeom>
          <a:solidFill>
            <a:srgbClr val="a886e0"/>
          </a:solidFill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1560" y="415440"/>
            <a:ext cx="6953400" cy="57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Functional Decomposi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93" name=""/>
          <p:cNvSpPr/>
          <p:nvPr/>
        </p:nvSpPr>
        <p:spPr>
          <a:xfrm>
            <a:off x="1536840" y="1747800"/>
            <a:ext cx="1638000" cy="2281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36840" y="1749600"/>
            <a:ext cx="1638000" cy="2277720"/>
          </a:xfrm>
          <a:prstGeom prst="rect">
            <a:avLst/>
          </a:prstGeom>
          <a:solidFill>
            <a:srgbClr val="d103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1703520"/>
            <a:ext cx="1638360" cy="2268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704960"/>
            <a:ext cx="1638360" cy="2265480"/>
          </a:xfrm>
          <a:prstGeom prst="rect">
            <a:avLst/>
          </a:prstGeom>
          <a:solidFill>
            <a:srgbClr val="8c4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59000" y="1623960"/>
            <a:ext cx="1650960" cy="22813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59000" y="1625760"/>
            <a:ext cx="1650960" cy="2278080"/>
          </a:xfrm>
          <a:prstGeom prst="rect">
            <a:avLst/>
          </a:prstGeom>
          <a:solidFill>
            <a:srgbClr val="ad27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64200" y="278136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1352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868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6440" y="32893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6320" y="3854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64280" y="42037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84840" y="4565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39000" y="385452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24800" y="4181400"/>
            <a:ext cx="6984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2760" y="3854520"/>
            <a:ext cx="711000" cy="88920"/>
          </a:xfrm>
          <a:prstGeom prst="rect">
            <a:avLst/>
          </a:prstGeom>
          <a:solidFill>
            <a:srgbClr val="e5e5ff"/>
          </a:solidFill>
          <a:ln w="1260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651280" y="2946240"/>
            <a:ext cx="749160" cy="2797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6360" y="2935440"/>
            <a:ext cx="0" cy="2905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26360" y="2946240"/>
            <a:ext cx="939600" cy="27972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30720" y="3465360"/>
            <a:ext cx="432000" cy="301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3465360"/>
            <a:ext cx="25200" cy="65268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9760" y="3465360"/>
            <a:ext cx="648000" cy="1036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400440" y="3443400"/>
            <a:ext cx="88920" cy="334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89720" y="3443400"/>
            <a:ext cx="546120" cy="685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18240" y="3443400"/>
            <a:ext cx="0" cy="334800"/>
          </a:xfrm>
          <a:prstGeom prst="line">
            <a:avLst/>
          </a:prstGeom>
          <a:ln w="255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98280" y="2060640"/>
            <a:ext cx="1809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51960" y="2017800"/>
            <a:ext cx="1284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67000" y="2614680"/>
            <a:ext cx="2524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 a Grammatical “pars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32B4-CC81-4D5E-9F62-BDC237756B0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1640" y="1927080"/>
            <a:ext cx="7696080" cy="1940040"/>
          </a:xfrm>
          <a:prstGeom prst="rect">
            <a:avLst/>
          </a:prstGeom>
          <a:solidFill>
            <a:srgbClr val="d1039b"/>
          </a:solidFill>
          <a:ln w="0">
            <a:noFill/>
          </a:ln>
          <a:effectLst>
            <a:outerShdw dist="53966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4720" y="604440"/>
            <a:ext cx="6453000" cy="2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nventional Methods: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LOC/FP Approach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9560" y="2092320"/>
            <a:ext cx="732492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mpute LOC/FP using estimates of information domain valu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historical data to build estimates for the project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711C-191E-4A5C-AA3C-70D4F3530C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Empirical Estimation Models: COCOMO-II</a:t>
            </a:r>
            <a:br>
              <a:rPr sz="3600"/>
            </a:br>
            <a:r>
              <a:rPr b="1" lang="en-US" sz="1400" spc="-1" strike="noStrike">
                <a:solidFill>
                  <a:srgbClr val="f3ff07"/>
                </a:solidFill>
                <a:latin typeface="Palatino"/>
              </a:rPr>
              <a:t>SWE 23.7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COMO II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structi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"/>
              </a:rPr>
              <a:t>MO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el) is actually a hierarchy of estimation models that address the following areas: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Application composition model.</a:t>
            </a:r>
            <a:r>
              <a:rPr b="0" i="1" lang="en-US" sz="1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Used during the early stages of software engineering, when prototyping of user interfaces, consideration of software and system interaction, assessment of performance, and evaluation of technology maturity are paramount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Early design stage model.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Used once requirements have been stabilized and basic software architecture has been established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3ff07"/>
                </a:solidFill>
                <a:latin typeface="Palatino"/>
              </a:rPr>
              <a:t>Post-architecture-stage model.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Used during the construction of the software.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E15E-805A-4CBF-AA58-832E8258F7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COMO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OCOMO-II application composition model uses object points; counts of the number of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cree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omponents likely required to build the applic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creens, reports and components are weighted according to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806480" y="4141800"/>
          <a:ext cx="4996080" cy="1365120"/>
        </p:xfrm>
        <a:graphic>
          <a:graphicData uri="http://schemas.openxmlformats.org/drawingml/2006/table">
            <a:tbl>
              <a:tblPr/>
              <a:tblGrid>
                <a:gridCol w="1381320"/>
                <a:gridCol w="1649160"/>
                <a:gridCol w="1019160"/>
                <a:gridCol w="9464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Object ty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Complexity Weigh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Simp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Medi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Difficul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Scre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Re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3GL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Palatino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2B6A-B063-42CE-8194-F9A0B5540C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COCOMO-II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nce complexities are determined,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bject Point Count = Original number of object instance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Weighting facto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NOP = (Object points) *[(100-% reuse)/100]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OD = NOP / Person-Month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stimated Effort = NOP / PRO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64B2-0C6A-48D2-8F29-6450DBE937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98720" y="1768320"/>
            <a:ext cx="5022720" cy="900360"/>
          </a:xfrm>
          <a:prstGeom prst="rect">
            <a:avLst/>
          </a:prstGeom>
          <a:solidFill>
            <a:srgbClr val="ad278d"/>
          </a:solidFill>
          <a:ln w="0">
            <a:noFill/>
          </a:ln>
          <a:effectLst>
            <a:outerShdw dist="71785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The Software Equation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233" name=""/>
          <p:cNvSpPr/>
          <p:nvPr/>
        </p:nvSpPr>
        <p:spPr>
          <a:xfrm>
            <a:off x="642960" y="1181160"/>
            <a:ext cx="8034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 dynamic multivariabl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 = [LOC x 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0.33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/P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 x (1/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 = effort in person-months or person-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 = project duration in months or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 = “special skills fact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 = “productivity parameter”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Palatino"/>
              </a:rPr>
              <a:t>(typical value 2000 for real-time software, 28000 for business application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C86D-B014-4A3B-82C0-971AE42CEB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1600" y="244440"/>
            <a:ext cx="6234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Why Do We Measure?</a:t>
            </a:r>
            <a:br>
              <a:rPr sz="3600"/>
            </a:b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WE 22, 22.1</a:t>
            </a:r>
            <a:endParaRPr b="1" lang="en-US" sz="14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495440"/>
            <a:ext cx="72198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characterize, in an effort to gain an understanding of process, products, resources, and environment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establish baselines for comparisons with future assess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evaluate status with respect to pla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predict, by gaining understanding of relationships among processes and products, and building models of these relationship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o improve, by identifying roadblocks, root causes, inefficiencies, and other opportunities for improving product quality and process performanc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6A0A-6E73-49B4-B538-DE34CF7AE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61600" y="244440"/>
            <a:ext cx="6234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ject Metrics and Software Project Manager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31640" y="1495440"/>
            <a:ext cx="72198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metrics help a software project manager i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ssessing the status of an ongoing projec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racking potential risk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uncovering problem areas before they go “critical,”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djusting work flow or tasks, 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valuating the project team’s ability to control quality of software work products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F57B-E9A4-429F-971F-CC5F89737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cess Improv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27" name=""/>
          <p:cNvSpPr/>
          <p:nvPr/>
        </p:nvSpPr>
        <p:spPr>
          <a:xfrm>
            <a:off x="3424320" y="2054160"/>
            <a:ext cx="2041560" cy="2125800"/>
          </a:xfrm>
          <a:prstGeom prst="cube">
            <a:avLst>
              <a:gd name="adj" fmla="val 25000"/>
            </a:avLst>
          </a:prstGeom>
          <a:solidFill>
            <a:srgbClr val="ad278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P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98720" y="2368440"/>
            <a:ext cx="1141200" cy="298440"/>
          </a:xfrm>
          <a:prstGeom prst="rightArrow">
            <a:avLst>
              <a:gd name="adj1" fmla="val 50000"/>
              <a:gd name="adj2" fmla="val 9559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8560" y="2030400"/>
            <a:ext cx="180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36880" y="3048120"/>
            <a:ext cx="1141200" cy="298440"/>
          </a:xfrm>
          <a:prstGeom prst="rightArrow">
            <a:avLst>
              <a:gd name="adj1" fmla="val 50000"/>
              <a:gd name="adj2" fmla="val 9559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240" y="2717640"/>
            <a:ext cx="2276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ment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31840" y="3714840"/>
            <a:ext cx="1141560" cy="298440"/>
          </a:xfrm>
          <a:prstGeom prst="rightArrow">
            <a:avLst>
              <a:gd name="adj1" fmla="val 50000"/>
              <a:gd name="adj2" fmla="val 9562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0080" y="3384720"/>
            <a:ext cx="1942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ff07"/>
                </a:solidFill>
                <a:latin typeface="Arial"/>
              </a:rPr>
              <a:t>Process metr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086280"/>
            <a:ext cx="1141560" cy="298440"/>
          </a:xfrm>
          <a:prstGeom prst="rightArrow">
            <a:avLst>
              <a:gd name="adj1" fmla="val 50000"/>
              <a:gd name="adj2" fmla="val 95627"/>
            </a:avLst>
          </a:prstGeom>
          <a:solidFill>
            <a:srgbClr val="96e3fe"/>
          </a:solidFill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29840" y="2511360"/>
            <a:ext cx="2565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67E8-4FAA-4E00-B96B-18C557C136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Software Process Improv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actors that influence software quality and organizational performance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kills and motivation of people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omplexity of the produc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velopment environment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Business condit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ustomer characteristic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79A7-0417-46C3-B361-47D4F90DA9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asurement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e measure the efficacy of a software process indirectly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hat is, we derive a set of metrics based on the outcomes that can be derived from the process.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Outcomes include 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measures of errors uncovered before release of the software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defects delivered to and reported by end-users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work products delivered (productivity)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human effort expended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calendar time expended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schedule conformance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 </a:t>
            </a:r>
            <a:r>
              <a:rPr b="0" lang="en-US" sz="1400" spc="-1" strike="noStrike">
                <a:solidFill>
                  <a:srgbClr val="f3ff07"/>
                </a:solidFill>
                <a:latin typeface="Palatino"/>
              </a:rPr>
              <a:t>other measures.</a:t>
            </a:r>
            <a:r>
              <a:rPr b="0" lang="en-US" sz="1400" spc="-1" strike="noStrike">
                <a:solidFill>
                  <a:srgbClr val="ffffff"/>
                </a:solidFill>
                <a:latin typeface="Palatino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e also derive process metrics by measuring the characteristics of specific software engineering tasks.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7300-DA0C-40ED-9B56-372118425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5560" y="355320"/>
            <a:ext cx="7594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1760" y="1347480"/>
            <a:ext cx="7445520" cy="35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Quality-relat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focus on quality of work products and deliverable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roductivity-related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Production of work-products related to effort expended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Statistical SQA data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error categorization &amp; analysis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Defect removal efficiency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propagation of errors from process activity to activit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Reuse data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"/>
              </a:rPr>
              <a:t>The number of components produced and their degree of reusability</a:t>
            </a:r>
            <a:endParaRPr b="0" lang="en-US" sz="16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661F-566D-444A-BB2E-B729C6F99A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ff07"/>
                </a:solidFill>
                <a:latin typeface="Palatino"/>
              </a:rPr>
              <a:t>Process Metrics</a:t>
            </a:r>
            <a:endParaRPr b="1" lang="en-US" sz="3600" spc="-1" strike="noStrike">
              <a:solidFill>
                <a:srgbClr val="f3ff07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2360"/>
            <a:ext cx="822960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rivate process metrics,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ivate to the software project team but public to all team member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defects reported for major software function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rrors found during formal technical review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ine s of code or function points per component or func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Public process metric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Originally was private to individuals and team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roject level defect rates (not attributed to an individual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Effort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13160" indent="-2743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Calendar times, and related data.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EB18-3B3F-455B-92D0-284DE9BABC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00:57:40Z</dcterms:created>
  <dc:creator>Roger Pressman</dc:creator>
  <dc:description/>
  <dc:language>en-US</dc:language>
  <cp:lastModifiedBy>Staff Member</cp:lastModifiedBy>
  <dcterms:modified xsi:type="dcterms:W3CDTF">2005-02-27T06:23:13Z</dcterms:modified>
  <cp:revision>157</cp:revision>
  <dc:subject/>
  <dc:title>Transparency Masters for Software Engineering: A Practitioner's Approach, 4/e</dc:title>
</cp:coreProperties>
</file>