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69120" cy="342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6DD3-CE63-4855-8DE3-1C6203C25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5BF7-3ECB-44DD-9DE2-BB3CF7B5B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77A0-FF42-48E8-AAB4-9703B561E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7E6E-E27F-4E5F-AA98-6AAC459AA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33C0-115E-4BE9-816D-9287B3DC3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CC63-48F5-4874-8797-3ECE21E12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2AFF-5281-4E8A-87B0-79C923F1A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F49A-F753-4478-B536-E8CEF1EA8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C22F-D172-4C0A-8016-5307B3667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DECC-BE2D-46E5-8A4E-14FB7E81A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CC37-F90D-4665-9A3A-2817D5F39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1E0A-2E8B-4F15-A664-67741C8C0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4909-7FA9-4D77-9875-EBCD0BB6A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686A-7AA5-435B-90E1-710430140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8947-5B2A-49C3-9AAE-FC80A2FE0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ACFC-EA08-4988-A2B1-C62118754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E337-909F-4D5A-AB05-2D2C52255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511A-3EE4-4E72-9916-4525130C1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9E7D-C58C-4D7C-8D9D-D0D25364A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77E9-1C00-4575-A734-D850063A1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075B-1227-463A-824F-3531DE2A1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3BE3-3F5E-4866-843F-EAB787222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7577-7DF7-4A96-B37B-BCF5DC44B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4260-B98A-4FC0-B311-CE4D215A1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1A1A-1660-4345-B282-2E6339C11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7FEF-6899-4795-A759-09A8B6097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CE84-CF24-4718-AF0A-D6DA6E3D2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FA82-3034-4B39-880F-B87D7A594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86EA-467C-441F-93BB-C0749E0C8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2FBD-FF33-460E-AE59-AFDECAD1E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C636-9D2C-4C7D-A8B6-97DDDDBB1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1537-DBFD-4984-86D5-88FAAD850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43FF-63BD-46A3-8432-901184E23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49E0-F823-4419-BD1C-9F18BB95A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37DA-FDDB-418C-B5B6-BFD57F782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D7FC-F37D-43DE-87CD-BCBC58B45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87A0-1953-4A88-9F99-DEA7DBB84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6D3E-8230-4B12-AA9A-C6C96E758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FB34-F95E-4C68-B041-9DDA2B9E8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47E7-3EDF-484E-979E-59782AAF6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3EDE-A4DE-4DFC-8D90-EB1B67C26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65D6-1E00-4D16-8D6F-DB8826FE5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209F-AC08-47CD-AEF8-23C7641A3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475B-2E54-4111-995D-9C8EB35D1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5083-60F0-4780-8152-9B61EC070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7736-EA7A-4398-9417-778E8FEFA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45C8-AABE-4379-AD75-1ED776AA4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1826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652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826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1652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8106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4382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1826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8106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4382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150560" y="250560"/>
            <a:ext cx="7792920" cy="484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1652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826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826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826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1652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8106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4382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826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8106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4382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150560" y="250560"/>
            <a:ext cx="7792920" cy="484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826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652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73188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73188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15416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15416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08108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623880"/>
            <a:ext cx="31680" cy="1052640"/>
          </a:xfrm>
          <a:prstGeom prst="rect">
            <a:avLst/>
          </a:prstGeom>
          <a:solidFill>
            <a:srgbClr val="ee84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414440"/>
            <a:ext cx="8226360" cy="31680"/>
          </a:xfrm>
          <a:prstGeom prst="rect">
            <a:avLst/>
          </a:prstGeom>
          <a:solidFill>
            <a:srgbClr val="ee84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228600" y="6172200"/>
            <a:ext cx="609480" cy="336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0" name="Text Box 12"/>
          <p:cNvSpPr/>
          <p:nvPr/>
        </p:nvSpPr>
        <p:spPr>
          <a:xfrm>
            <a:off x="228600" y="6172200"/>
            <a:ext cx="609480" cy="336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609480" y="6342120"/>
            <a:ext cx="8526240" cy="315360"/>
            <a:chOff x="609480" y="6342120"/>
            <a:chExt cx="8526240" cy="315360"/>
          </a:xfrm>
        </p:grpSpPr>
        <p:sp>
          <p:nvSpPr>
            <p:cNvPr id="12" name="Freeform 14"/>
            <p:cNvSpPr/>
            <p:nvPr/>
          </p:nvSpPr>
          <p:spPr>
            <a:xfrm>
              <a:off x="609480" y="6580080"/>
              <a:ext cx="8526240" cy="77400"/>
            </a:xfrm>
            <a:custGeom>
              <a:avLst/>
              <a:gdLst>
                <a:gd name="textAreaLeft" fmla="*/ 0 w 8526240"/>
                <a:gd name="textAreaRight" fmla="*/ 8526600 w 8526240"/>
                <a:gd name="textAreaTop" fmla="*/ 0 h 77400"/>
                <a:gd name="textAreaBottom" fmla="*/ 77400 h 77400"/>
              </a:gdLst>
              <a:ahLst/>
              <a:rect l="textAreaLeft" t="textAreaTop" r="textAreaRight" b="textAreaBottom"/>
              <a:pathLst>
                <a:path w="5226" h="49">
                  <a:moveTo>
                    <a:pt x="0" y="48"/>
                  </a:moveTo>
                  <a:lnTo>
                    <a:pt x="5225" y="48"/>
                  </a:lnTo>
                  <a:lnTo>
                    <a:pt x="522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solidFill>
              <a:srgbClr val="ee8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800" spc="-1" strike="noStrike">
                <a:solidFill>
                  <a:srgbClr val="cc33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648360" y="6460920"/>
              <a:ext cx="366840" cy="774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77400"/>
                <a:gd name="textAreaBottom" fmla="*/ 77400 h 77400"/>
              </a:gdLst>
              <a:ahLst/>
              <a:rect l="textAreaLeft" t="textAreaTop" r="textAreaRight" b="textAreaBottom"/>
              <a:pathLst>
                <a:path w="225" h="49">
                  <a:moveTo>
                    <a:pt x="0" y="48"/>
                  </a:moveTo>
                  <a:lnTo>
                    <a:pt x="224" y="48"/>
                  </a:lnTo>
                  <a:lnTo>
                    <a:pt x="224" y="0"/>
                  </a:lnTo>
                  <a:lnTo>
                    <a:pt x="0" y="0"/>
                  </a:lnTo>
                  <a:lnTo>
                    <a:pt x="0" y="48"/>
                  </a:lnTo>
                </a:path>
              </a:pathLst>
            </a:custGeom>
            <a:solidFill>
              <a:srgbClr val="ee8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800" spc="-1" strike="noStrike">
                <a:solidFill>
                  <a:srgbClr val="cc33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664920" y="6342120"/>
              <a:ext cx="8470800" cy="80640"/>
            </a:xfrm>
            <a:custGeom>
              <a:avLst/>
              <a:gdLst>
                <a:gd name="textAreaLeft" fmla="*/ 0 w 8470800"/>
                <a:gd name="textAreaRight" fmla="*/ 8471160 w 847080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192" h="51">
                  <a:moveTo>
                    <a:pt x="0" y="50"/>
                  </a:moveTo>
                  <a:lnTo>
                    <a:pt x="5191" y="48"/>
                  </a:lnTo>
                  <a:lnTo>
                    <a:pt x="5191" y="0"/>
                  </a:lnTo>
                  <a:lnTo>
                    <a:pt x="12" y="0"/>
                  </a:lnTo>
                  <a:lnTo>
                    <a:pt x="0" y="50"/>
                  </a:lnTo>
                </a:path>
              </a:pathLst>
            </a:custGeom>
            <a:solidFill>
              <a:srgbClr val="ee8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800" spc="-1" strike="noStrike">
                <a:solidFill>
                  <a:srgbClr val="cc3300"/>
                </a:solidFill>
                <a:latin typeface="Tahoma"/>
              </a:endParaRPr>
            </a:p>
          </p:txBody>
        </p:sp>
      </p:grpSp>
      <p:sp>
        <p:nvSpPr>
          <p:cNvPr id="15" name="Freeform 17"/>
          <p:cNvSpPr/>
          <p:nvPr/>
        </p:nvSpPr>
        <p:spPr>
          <a:xfrm>
            <a:off x="6553080" y="6467400"/>
            <a:ext cx="2578320" cy="74520"/>
          </a:xfrm>
          <a:custGeom>
            <a:avLst/>
            <a:gdLst>
              <a:gd name="textAreaLeft" fmla="*/ 0 w 2578320"/>
              <a:gd name="textAreaRight" fmla="*/ 2578680 w 257832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3716" h="51">
                <a:moveTo>
                  <a:pt x="0" y="50"/>
                </a:moveTo>
                <a:lnTo>
                  <a:pt x="3715" y="48"/>
                </a:lnTo>
                <a:lnTo>
                  <a:pt x="3715" y="0"/>
                </a:lnTo>
                <a:lnTo>
                  <a:pt x="8" y="0"/>
                </a:lnTo>
                <a:lnTo>
                  <a:pt x="0" y="50"/>
                </a:lnTo>
              </a:path>
            </a:pathLst>
          </a:custGeom>
          <a:solidFill>
            <a:srgbClr val="ee84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6" name="Text Box 19"/>
          <p:cNvSpPr/>
          <p:nvPr/>
        </p:nvSpPr>
        <p:spPr>
          <a:xfrm>
            <a:off x="838080" y="635472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cc"/>
                </a:solidFill>
                <a:latin typeface="Arial"/>
              </a:rPr>
              <a:t>Copyright © 2011 Pearson Education, Inc. Publishing as Prentice Hall</a:t>
            </a:r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7" name="Text Box 20"/>
          <p:cNvSpPr/>
          <p:nvPr/>
        </p:nvSpPr>
        <p:spPr>
          <a:xfrm>
            <a:off x="-170280" y="6356520"/>
            <a:ext cx="1095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e8411"/>
                </a:solidFill>
                <a:latin typeface="Tahoma"/>
              </a:rPr>
              <a:t>2-</a:t>
            </a:r>
            <a:fld id="{D68F3F02-4518-4856-AEB3-F04D3704A500}" type="slidenum">
              <a:rPr b="1" lang="en-US" sz="1200" spc="-1" strike="noStrike">
                <a:solidFill>
                  <a:srgbClr val="ee8411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1026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5" name="Group 1027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6" name="Rectangle 1028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cc3300"/>
                  </a:solidFill>
                  <a:latin typeface="Tahoma"/>
                </a:endParaRPr>
              </a:p>
            </p:txBody>
          </p:sp>
          <p:sp>
            <p:nvSpPr>
              <p:cNvPr id="57" name="Rectangle 1029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cc3300"/>
                  </a:solidFill>
                  <a:latin typeface="Tahoma"/>
                </a:endParaRPr>
              </a:p>
            </p:txBody>
          </p:sp>
        </p:grpSp>
        <p:grpSp>
          <p:nvGrpSpPr>
            <p:cNvPr id="58" name="Group 1030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9" name="Rectangle 1031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cc3300"/>
                  </a:solidFill>
                  <a:latin typeface="Tahoma"/>
                </a:endParaRPr>
              </a:p>
            </p:txBody>
          </p:sp>
          <p:sp>
            <p:nvSpPr>
              <p:cNvPr id="60" name="Rectangle 1032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cc3300"/>
                  </a:solidFill>
                  <a:latin typeface="Tahoma"/>
                </a:endParaRPr>
              </a:p>
            </p:txBody>
          </p:sp>
        </p:grpSp>
        <p:sp>
          <p:nvSpPr>
            <p:cNvPr id="61" name="Rectangle 1033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cc3300"/>
                </a:solidFill>
                <a:latin typeface="Tahoma"/>
              </a:endParaRPr>
            </a:p>
          </p:txBody>
        </p:sp>
        <p:sp>
          <p:nvSpPr>
            <p:cNvPr id="62" name="Rectangle 1034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cc3300"/>
                </a:solidFill>
                <a:latin typeface="Tahoma"/>
              </a:endParaRPr>
            </a:p>
          </p:txBody>
        </p:sp>
        <p:sp>
          <p:nvSpPr>
            <p:cNvPr id="63" name="Rectangle 1035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cc3300"/>
                </a:solidFill>
                <a:latin typeface="Tahoma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85e08"/>
                </a:solidFill>
                <a:latin typeface="Tahoma"/>
              </a:rPr>
              <a:t>Decision Support and Business Intelligence Systems</a:t>
            </a:r>
            <a:br>
              <a:rPr sz="4800"/>
            </a:br>
            <a:r>
              <a:rPr b="1" lang="en-US" sz="4000" spc="-1" strike="noStrike">
                <a:solidFill>
                  <a:srgbClr val="f85e08"/>
                </a:solidFill>
                <a:latin typeface="Tahoma"/>
              </a:rPr>
              <a:t>(9</a:t>
            </a:r>
            <a:r>
              <a:rPr b="1" lang="en-US" sz="4000" spc="-1" strike="noStrike" baseline="30000">
                <a:solidFill>
                  <a:srgbClr val="f85e08"/>
                </a:solidFill>
                <a:latin typeface="Tahoma"/>
              </a:rPr>
              <a:t>th</a:t>
            </a:r>
            <a:r>
              <a:rPr b="1" lang="en-US" sz="4000" spc="-1" strike="noStrike">
                <a:solidFill>
                  <a:srgbClr val="f85e08"/>
                </a:solidFill>
                <a:latin typeface="Tahoma"/>
              </a:rPr>
              <a:t> Ed., Prentice Hall)</a:t>
            </a:r>
            <a:endParaRPr b="0" lang="en-US" sz="40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85800" y="36576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Chapter 3:</a:t>
            </a:r>
            <a:endParaRPr b="0" lang="en-US" sz="40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Decision Support Systems Concepts, Methodologies, and Technologies: An Overview</a:t>
            </a:r>
            <a:endParaRPr b="0" lang="en-US" sz="4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A Web-Based DSS Architecture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1565280" y="1523880"/>
            <a:ext cx="685476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SS Characteristics and Capabilitie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82600" y="1523520"/>
            <a:ext cx="7809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SS is not quite synonymous with BI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SS are generally built to solve a specific problem and include their own database(s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BI applications focus on reporting and identifying problems by scanning data stored in data warehouse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Both systems generally include analytical tools (BI called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business analytics systems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lthough some may run locally as a spreadsheet, both DSS and BI uses Web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SS Characteristics and Capabilitie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676520" y="1463760"/>
            <a:ext cx="624816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SS Characteristics and Capabilitie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Business analytic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Analytics</a:t>
            </a: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 is the science of analysis, Its refers to analysis data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Business analytics (BA) </a:t>
            </a: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is abroad category of applications and techniques for gathering ,storing , analyzing , and providing access to data to help enterprise users make better business and strategic decisions. See Ch6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Business analytics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mplies the use of models and data to improve an organization's performance and/or competitive postur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xample: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An analytic application used for credit scoring for a loan application might: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Automatically accept or deny the loan application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SS Characteristics and Capabilitie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182240" y="1523520"/>
            <a:ext cx="7961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Web analytics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ies using business analytics on real-time Web information to assist in decision making; often related to e-Commerc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Predictive analytics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scribes the business analytics method of forecasting problems and opportunities rather than simply reporting them as they occu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Components of DS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56236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Components of DS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82240" y="1447560"/>
            <a:ext cx="7961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Data Management Subsystem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Model Management Subsystem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User Interface Subsystem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Knowledgebase Management Subsystem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SS Components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ata Management Subsystem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3171960" y="1444680"/>
            <a:ext cx="5057640" cy="4879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228240" y="1980720"/>
            <a:ext cx="2971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SS database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BMS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ata directory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Query facility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atabase Management Subsystem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Databas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Is a collection of interrelated data, organized to meet the needs and structure of an organization.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The data are extracted from internal and external data sources.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ata Organizatio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A standalone database?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ata Extraction (ET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Importing of files, summarizing, standardization, filtration, and condensation of data.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Managed by DBMS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Database Management System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2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A database is created , accessed and updated by a DBMS </a:t>
            </a:r>
            <a:r>
              <a:rPr b="0" lang="en-US" sz="1100" spc="-1" strike="noStrike">
                <a:solidFill>
                  <a:srgbClr val="3333cc"/>
                </a:solidFill>
                <a:latin typeface="Tahoma"/>
              </a:rPr>
              <a:t>(technology insights 3.3)</a:t>
            </a:r>
            <a:endParaRPr b="0" lang="en-US" sz="11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Most DSS built with a standard commercial relational DBMS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Major vendors are (Oracle, IBM, Microsoft)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The Query Facility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atabase Management Subsystem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Key Data Issue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The Directory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Is a catalog of all the data in a database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2" marL="1097280" indent="-21924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It contains data definition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2" marL="1097280" indent="-21924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Its main functions is to answer questions about the availability of data items, their source and their exact meaning.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Key Data Issu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ata quality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A key issue in data management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oor quality data, leads to poor quality information leads to waste.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Garbage in/garbage out" (GIGO)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E.g., given inaccurate data in a CRM system, customers may be contacted many times.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ata quality clean up (e.g., validation and verification) tools for data cleansing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Learning Objective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8091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nderstand possible decision support system (DSS) configurations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nderstand the key differences and similarities between DSS and BI systems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cribe DSS characteristics and capabilities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nderstand the essential definition of DSS 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nderstand important DSS class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nderstand DSS components and how they integrate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atabase Management Subsystem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Key Data Issue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ata integration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reating a single version of the truth”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Scalability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Is ability of a system , network, or process to handle a growing a mount of work in a capable manner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E.g., increased size of database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ata Security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ata must be protected from unauthorized access through security measures such as ID and password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ata can be encrypted, in the case of unauthorized access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New tools developed to monitor database activity and provide audit trail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E.g., SQL Guard from Guardium,Inc. </a:t>
            </a:r>
            <a:endParaRPr b="0" lang="en-US" sz="1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10 Key Ingredients of Data (Information) Quality Management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514440" indent="-5144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ata quality is a business problem, not only a systems problem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514440" indent="-5144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ocus on information about customers and suppliers, not just data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514440" indent="-5144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ocus on all components of data: definition, content, and presentatio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514440" indent="-5144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mplement data/information quality management processes, not just software to handle them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514440" indent="-5144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easure data accuracy as well as validity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10 Key Ingredients of Data (Information) Quality Management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514440" indent="-5144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easure real costs (not just the percentage) of poor quality data/informatio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514440" indent="-5144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mphasize process improvement/preventive maintenance, not just data cleansing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514440" indent="-5144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mprove processes (and hence data quality) at the sour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514440" indent="-5144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ducate managers about the impacts of poor data quality and how to improve it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514440" indent="-5144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ctively transform the culture to one that values data quality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SS Components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Model Management Subsystem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2901960" y="1447920"/>
            <a:ext cx="6242040" cy="48765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152280" y="1828440"/>
            <a:ext cx="2895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odel base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BMS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odeling language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odel directory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odel execution, integration, and command processor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SS Components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Model Management Subsystem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1826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Model bas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ontains routine and special statistical, financial, forecasting ,management science and other quantitative models that provide the analysis capabilities in a DSS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odel Type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rategic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274760" indent="-44316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Used to support top managers’ strategic planning responsibilitie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2" marL="1274760" indent="-44316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otential applications include an e-commerce venture, developing corporate objectives, selecting a plant location, creating a noun routine capital budget, ..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actica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274760" indent="-44316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Used mainly by middle managers to assist in allocating and controlling the organization’s resource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2" marL="1274760" indent="-44316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E.g., sales promotion planning, web server selection routine capital budgeting.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SS Components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Model Management Subsystem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1447920"/>
            <a:ext cx="8497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Operationa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Used to support day to day working activates of the organization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E.g., e-commerce transaction acceptance (e.g., purchases), approval of personal loans, production scheduling, enventory control, maintenance planning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nalytic model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Used to perform analysis on data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They include statistical models, management science models, data mining algorithms, financial models and more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They can integrated with other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They can be classified by functional areas or by disciplin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odel building blocks and Routine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The model base can contain model building blocks and routines such as the functions and add- ins in excel.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SS Components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Model Management Subsystem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6840" y="1447920"/>
            <a:ext cx="8497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odel building blocks and Routine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Preprogrammed software elements that can be used to build computerized models. For example, a random-number generator can be employed in the construction of a simulation model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andom number generator routine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- regression analysi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model base can contain it in addition for such applications as data analysis or can be used as components of larger models.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SS Components 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Model Management Subsystem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182240" y="1523520"/>
            <a:ext cx="7961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odeling Tool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For semistructured and unstructured problems : Programming tools and languages used to customize models such as .Net Framwork, C++,Java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For samll and meduim sized DSS or less complex ones: Excel usually used.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MBMS has four main functions: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odel creation, using programming languages, DSS tools and/or subroutines, and other building blocks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Generation of new routines and reports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odel updating and changing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odel data manipulation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odel directory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odel execution, integration and command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SS Components 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Model Management Subsystem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odel directory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683280" indent="-26280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Its role is similar to that of database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683280" indent="-26280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It’s a catalog of all the models and other software in the model base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2" marL="1051560" indent="-21024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ontains definitions and its main function to answer questions about the availability and capabilities of the models.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odel execution, integration and command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683280" indent="-26280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Model execution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is the process of controlling the actual running of the model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683280" indent="-26280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Model integration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involves combining the operations of several  models when needed or integrating the DSS with other application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683280" indent="-26280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A model command processor is used to accept and interpret modeling instructions from the user interface component and route them to the model execution or model integration function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683280" indent="-26280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1" marL="683280" indent="-26280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SS Components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User Interface (Dialog) Subsystem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0880" y="1828440"/>
            <a:ext cx="3200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Interface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Application interface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User Interface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Graphical User Interface (GUI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SS User Interface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ortal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Graphical icon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ashboard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olor coding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Interfacing with PDAs, cell phones, etc.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3581280" y="1500120"/>
            <a:ext cx="495324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Learning Objective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240" y="1523880"/>
            <a:ext cx="7961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cribe the components and structure of each DSS compon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xplain Internet impacts on DSS (and vice versa)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xplain the unique role of the user in DSS versus management information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cribe DSS hardware and software platforms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ecome familiar with a DSS development language 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nderstand current DSS issues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920" y="250560"/>
            <a:ext cx="776448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SS Components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User Interface (Dialog) Subsystem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182240" y="1523520"/>
            <a:ext cx="7961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User Interfa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The term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User Interface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overs all aspects of communication between a user and the DSS or any MS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It includes H\W and S\W and all factors that deal with ease to use , accessibility, and human machine interaction.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User Interface Management System (UIMS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Software(Composed of several programs)  that managed the user interface subsystem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user Interface Process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See figure 3.7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SS User Interface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Access provided through Web browsers including ( Voice input, portable devices)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Web browsers provides a portal or dashboard toaccess the system.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920" y="250560"/>
            <a:ext cx="776448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SS Components 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Knowledgebase Management System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182240" y="1523520"/>
            <a:ext cx="7961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ncorporation of intelligence and expertis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Because  many semistructured and unstructured problems are so complex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Knowledge components: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xpert systems,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Knowledge management systems,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eural networks,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ntelligent agents,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uzzy logic,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ase-based reasoning systems, and so on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SS User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1826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One faced with a decision that an MSS is designed to support  is called :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anager, decision maker, problem solver, …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users differ greatly from each other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ifferent organizational positions they occupy; cognitive preferences/abilities; the ways of arriving at a decision (i.e., decision styles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User = Individual versus Group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anagers versus Staff Specialists [staff assistants, expert tool users, business (system) analysts, facilitators (in a GSS)]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SS Components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Future/current DSS Development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Hardware enhancement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maller, faster, cheaper, …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oftware/hardware advancement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ata warehousing, data mining, OLAP, Web technologies, integration and dissemination technologies (XML, Web services, SOA, grid computing, cloud computing, …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tegration of AI -&gt; smart system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SS Hardware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ypically, MSS run on standard hard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an be composed of mainframe computers with legacy DBMS, workstations, personal computers, or client/server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owadays, usually implemented as a distributed/integrated, loosely-coupled    Web-based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an be acquired fro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single vend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any vendors (best-of-breed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A DSS Modeling Language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Planners Lab (plannerslab.com)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2305080" y="1447920"/>
            <a:ext cx="6762600" cy="49053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75960" y="1752480"/>
            <a:ext cx="2361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Generating Assump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A DSS Modeling Language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Planners Lab (plannerslab.com)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5960" y="1752480"/>
            <a:ext cx="2361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reating a new model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68770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A DSS Modeling Language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Planners Lab (plannerslab.com)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038240" y="1600200"/>
            <a:ext cx="780084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A DSS Modeling Language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Planners Lab (plannerslab.com)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742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A DSS Modeling Language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Planners Lab (plannerslab.com)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731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Opening Vignette: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Decision Support System Cures for Health Care”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ompany background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Problem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Proposed solutio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Result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Answer and discuss the case question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A DSS Modeling Language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Planners Lab (plannerslab.com)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716292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A DSS Modeling Language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Planners Lab (plannerslab.com)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8962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A DSS Modeling Language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Planners Lab (plannerslab.com)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812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A DSS Modeling Language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Planners Lab (plannerslab.com)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91856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A DSS Modeling Language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Planners Lab (plannerslab.com)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1371600" y="1504800"/>
            <a:ext cx="723888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A DSS Modeling Language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Planners Lab (plannerslab.com)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601992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A DSS Modeling Language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Planners Lab (plannerslab.com)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731520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A DSS Modeling Language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Planners Lab (plannerslab.com)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626724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A DSS Modeling Language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Planners Lab (plannerslab.com)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380880" y="2066760"/>
            <a:ext cx="840744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SS Configuration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Many configurations exist; based o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agement-decision situation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pecific technologies used for supp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DSS have three basic component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ode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r interfa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(+ optional) Knowledg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SS Configuration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3578400" y="1676520"/>
            <a:ext cx="5413320" cy="43434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304920" y="1676160"/>
            <a:ext cx="3657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ach component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s several vari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anaged by a commercial of custom softwar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ypical types: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odel-oriented DS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ata-oriented DS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SS Description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826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early definition of DS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system intended to support managerial decision makers in semistructured and unstructured decision situ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eant to be adjuncts to decision makers (extending their capabilities but not replacing their judgment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imed at decisions that required judgment or at decisions that could not be completely supported by algorithm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would be computer based; operate interactively; and would have graphical output capabilities…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Overall Capabilities of DS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 DSS is typically built to support the solution of a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ertain problem (or to evaluate a specific opportunity)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SS is an approach (or methodology) for supporting decision making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uses an interactive, flexible, adaptable computer-based information system (CBI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eveloped (by end user) for supporting the solution to a specific nonstructured management problem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uses data, model and knowledge along with a friendly (often graphical; Web-based) user interfa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ncorporate the decision maker's own insight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upports all phases of decision making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an be used by a single user or by many peopl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Overall Capabilities of DS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Easy access to data/models/knowledg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oper management of organizational experiences and knowledge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Easy to use, adaptive and flexible GUI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imely, correct, concise, consistent support for decision making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upport for all who needs it, where  and when he/she needs it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See Table 3.2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or a complete list..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8T21:58:50Z</dcterms:created>
  <dc:creator>Dursun Delen</dc:creator>
  <dc:description/>
  <dc:language>en-US</dc:language>
  <cp:lastModifiedBy>hp</cp:lastModifiedBy>
  <cp:lastPrinted>2000-12-01T14:01:59Z</cp:lastPrinted>
  <dcterms:modified xsi:type="dcterms:W3CDTF">2013-03-12T19:08:11Z</dcterms:modified>
  <cp:revision>237</cp:revision>
  <dc:subject/>
  <dc:title>DSS Chapter 1</dc:title>
</cp:coreProperties>
</file>