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sldImg"/>
          </p:nvPr>
        </p:nvSpPr>
        <p:spPr>
          <a:xfrm>
            <a:off x="1144440" y="686880"/>
            <a:ext cx="4569120" cy="3426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9F6FF-6862-4478-A7D0-0DF5BA31F7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3C4CC-0FBB-46A9-A14D-52D853DA34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2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B1DCC-7CF4-460B-AA3A-3C456A7581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cc3300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E3631-70D5-40CB-875A-D1CB22DBF6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cc3300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7E970-53C5-4CA8-B51B-C766EAB8C4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cc3300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2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B8DED-15F8-4716-BEA7-840361C9A2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cc3300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2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810E3-E690-42CF-97CB-91F499B093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cc3300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2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2D11A-2F1D-44A9-9644-492FD4AF31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cc3300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2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FECBB-C397-46DE-BFD1-BE4E17B802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cc3300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2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32565-1D17-4A3C-9192-AE53604E6A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cc3300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2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928EF-9ED7-4CF5-B093-3340A0431E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cc3300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868E1-9C07-4B04-9BB2-5F832285BB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2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3441B-ECF9-45B7-B919-645D0F314D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cc3300"/>
              </a:solidFill>
              <a:latin typeface="Tahom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2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AC420-7E90-4AED-9332-0C5AFE4573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cc3300"/>
              </a:solidFill>
              <a:latin typeface="Tahom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2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3493A-EC0F-40A4-87E3-7D20CA86FE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cc3300"/>
              </a:solidFill>
              <a:latin typeface="Tahom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D1EFF-7DC4-4D8D-BCF1-7294CD9060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cc3300"/>
              </a:solidFill>
              <a:latin typeface="Tahom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2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F2A2E-4E36-4ED2-B1D6-CA100300C6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cc3300"/>
              </a:solidFill>
              <a:latin typeface="Tahom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B4D4A-2030-4C3A-9F05-26E2D6C1DD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cc3300"/>
              </a:solidFill>
              <a:latin typeface="Tahom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2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2555E-CB94-4731-8003-EF98185687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cc3300"/>
              </a:solidFill>
              <a:latin typeface="Tahom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28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71533-C22C-458D-BB35-AEF90FAA27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cc3300"/>
              </a:solidFill>
              <a:latin typeface="Tahoma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29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3E442-A309-4841-BE72-7A82A372C1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cc33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FDD5D-D104-48DE-B96B-D6DC644DEA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29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E9D04-2BF7-424B-B6AE-67557314BB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cc3300"/>
              </a:solidFill>
              <a:latin typeface="Tahoma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29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DB74E-5C4E-4F7B-B01A-CE18352BD0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cc3300"/>
              </a:solidFill>
              <a:latin typeface="Tahoma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30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EA5AE-8FCB-4F6C-A30A-2D56615110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cc3300"/>
              </a:solidFill>
              <a:latin typeface="Tahoma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30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DC3DB-685B-4107-A8D6-B3ACDFB8BD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cc3300"/>
              </a:solidFill>
              <a:latin typeface="Tahoma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30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9823D-EBB3-4D6F-AE15-7268718865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cc3300"/>
              </a:solidFill>
              <a:latin typeface="Tahoma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30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60EE1-C6DC-4AD6-965E-E187A246D7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cc3300"/>
              </a:solidFill>
              <a:latin typeface="Tahoma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31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2BA4B-AC54-4564-922A-51D2A938A4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cc3300"/>
              </a:solidFill>
              <a:latin typeface="Tahoma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3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20CE5-2633-46D9-BFFF-02B02BF0C2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cc3300"/>
              </a:solidFill>
              <a:latin typeface="Tahoma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31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D318B-2904-4DE6-B002-1D6E53C313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cc3300"/>
              </a:solidFill>
              <a:latin typeface="Tahoma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3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8090E-5ACB-4B0E-85DE-3EC4C3E9CD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cc33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A3DCC-02D5-4A8D-A1A5-25E29849AA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cc3300"/>
              </a:solidFill>
              <a:latin typeface="Tahoma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3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EE40D-527F-485A-950F-F5D19D18C6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cc3300"/>
              </a:solidFill>
              <a:latin typeface="Tahoma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3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C56BF-BD91-4CD9-852C-82F068E371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cc3300"/>
              </a:solidFill>
              <a:latin typeface="Tahoma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3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5CD84-DD33-4053-BAAA-CB1C6EBDA9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cc3300"/>
              </a:solidFill>
              <a:latin typeface="Tahoma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3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8B5F0-ED7C-49EA-B6B6-FE8422B8E7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cc3300"/>
              </a:solidFill>
              <a:latin typeface="Tahoma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3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B5A61-06FC-4713-8003-960BAB5C0E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cc3300"/>
              </a:solidFill>
              <a:latin typeface="Tahoma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33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72C7F-121D-4338-B747-15776C4C72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cc3300"/>
              </a:solidFill>
              <a:latin typeface="Tahoma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34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963E2-388E-405C-B28C-11EA117611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cc3300"/>
              </a:solidFill>
              <a:latin typeface="Tahoma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34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366C5-C87F-4E04-9329-F02C14A001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cc3300"/>
              </a:solidFill>
              <a:latin typeface="Tahoma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34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9B3F1-EF50-494E-B2D0-1C217904BD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cc3300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14379-FB0B-4E75-85D0-65D5720AF8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cc33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22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4C1BC-C969-44CB-B446-D2454A4B54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cc33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23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FDC4E-73C6-429A-938E-0ED38A8FE0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cc33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2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633E8-5BD8-4B88-B31C-7BD56378CB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cc33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2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52520-F056-4D37-8F00-C0A940F6DA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cc33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50560" y="250560"/>
            <a:ext cx="7792920" cy="10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82600" y="15235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182600" y="4030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50560" y="250560"/>
            <a:ext cx="7792920" cy="10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8260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51652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18260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516528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50560" y="250560"/>
            <a:ext cx="7792920" cy="10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8260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81060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43824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18260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81060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43824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250560"/>
            <a:ext cx="7792920" cy="10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826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250560"/>
            <a:ext cx="7792920" cy="10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50560"/>
            <a:ext cx="7792920" cy="10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8260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6528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50560" y="250560"/>
            <a:ext cx="7792920" cy="10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150560" y="250560"/>
            <a:ext cx="7792920" cy="484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250560"/>
            <a:ext cx="7792920" cy="10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8260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250560"/>
            <a:ext cx="7792920" cy="10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1826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250560"/>
            <a:ext cx="7792920" cy="10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16528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250560"/>
            <a:ext cx="7792920" cy="10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652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82600" y="4030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50560"/>
            <a:ext cx="7792920" cy="10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15235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82600" y="4030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50560" y="250560"/>
            <a:ext cx="7792920" cy="10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8260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1652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8260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516528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50560" y="250560"/>
            <a:ext cx="7792920" cy="10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8260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81060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43824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8260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81060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43824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50560" y="250560"/>
            <a:ext cx="7792920" cy="10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826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50560" y="250560"/>
            <a:ext cx="7792920" cy="10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8260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6528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50560"/>
            <a:ext cx="7792920" cy="10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150560" y="250560"/>
            <a:ext cx="7792920" cy="484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250560"/>
            <a:ext cx="7792920" cy="10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18260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250560"/>
            <a:ext cx="7792920" cy="10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16528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250560"/>
            <a:ext cx="7792920" cy="10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652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182600" y="4030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73188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73188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15416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15416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08108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623880"/>
            <a:ext cx="31680" cy="1052640"/>
          </a:xfrm>
          <a:prstGeom prst="rect">
            <a:avLst/>
          </a:prstGeom>
          <a:solidFill>
            <a:srgbClr val="ee84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414440"/>
            <a:ext cx="8226360" cy="31680"/>
          </a:xfrm>
          <a:prstGeom prst="rect">
            <a:avLst/>
          </a:prstGeom>
          <a:solidFill>
            <a:srgbClr val="ee84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50560"/>
            <a:ext cx="7792920" cy="10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Text Box 11"/>
          <p:cNvSpPr/>
          <p:nvPr/>
        </p:nvSpPr>
        <p:spPr>
          <a:xfrm>
            <a:off x="228600" y="6172200"/>
            <a:ext cx="609480" cy="3366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10" name="Text Box 12"/>
          <p:cNvSpPr/>
          <p:nvPr/>
        </p:nvSpPr>
        <p:spPr>
          <a:xfrm>
            <a:off x="228600" y="6172200"/>
            <a:ext cx="609480" cy="3366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3300"/>
              </a:solidFill>
              <a:latin typeface="Tahoma"/>
            </a:endParaRPr>
          </a:p>
        </p:txBody>
      </p:sp>
      <p:grpSp>
        <p:nvGrpSpPr>
          <p:cNvPr id="11" name="Group 13"/>
          <p:cNvGrpSpPr/>
          <p:nvPr/>
        </p:nvGrpSpPr>
        <p:grpSpPr>
          <a:xfrm>
            <a:off x="609480" y="6342120"/>
            <a:ext cx="8526240" cy="315360"/>
            <a:chOff x="609480" y="6342120"/>
            <a:chExt cx="8526240" cy="315360"/>
          </a:xfrm>
        </p:grpSpPr>
        <p:sp>
          <p:nvSpPr>
            <p:cNvPr id="12" name="Freeform 14"/>
            <p:cNvSpPr/>
            <p:nvPr/>
          </p:nvSpPr>
          <p:spPr>
            <a:xfrm>
              <a:off x="609480" y="6580080"/>
              <a:ext cx="8526240" cy="77400"/>
            </a:xfrm>
            <a:custGeom>
              <a:avLst/>
              <a:gdLst>
                <a:gd name="textAreaLeft" fmla="*/ 0 w 8526240"/>
                <a:gd name="textAreaRight" fmla="*/ 8526600 w 8526240"/>
                <a:gd name="textAreaTop" fmla="*/ 0 h 77400"/>
                <a:gd name="textAreaBottom" fmla="*/ 77400 h 77400"/>
              </a:gdLst>
              <a:ahLst/>
              <a:rect l="textAreaLeft" t="textAreaTop" r="textAreaRight" b="textAreaBottom"/>
              <a:pathLst>
                <a:path w="5226" h="49">
                  <a:moveTo>
                    <a:pt x="0" y="48"/>
                  </a:moveTo>
                  <a:lnTo>
                    <a:pt x="5225" y="48"/>
                  </a:lnTo>
                  <a:lnTo>
                    <a:pt x="522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solidFill>
              <a:srgbClr val="ee84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1" lang="en-US" sz="2800" spc="-1" strike="noStrike">
                <a:solidFill>
                  <a:srgbClr val="cc3300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648360" y="6460920"/>
              <a:ext cx="366840" cy="77400"/>
            </a:xfrm>
            <a:custGeom>
              <a:avLst/>
              <a:gdLst>
                <a:gd name="textAreaLeft" fmla="*/ 0 w 366840"/>
                <a:gd name="textAreaRight" fmla="*/ 367200 w 366840"/>
                <a:gd name="textAreaTop" fmla="*/ 0 h 77400"/>
                <a:gd name="textAreaBottom" fmla="*/ 77400 h 77400"/>
              </a:gdLst>
              <a:ahLst/>
              <a:rect l="textAreaLeft" t="textAreaTop" r="textAreaRight" b="textAreaBottom"/>
              <a:pathLst>
                <a:path w="225" h="49">
                  <a:moveTo>
                    <a:pt x="0" y="48"/>
                  </a:moveTo>
                  <a:lnTo>
                    <a:pt x="224" y="48"/>
                  </a:lnTo>
                  <a:lnTo>
                    <a:pt x="224" y="0"/>
                  </a:lnTo>
                  <a:lnTo>
                    <a:pt x="0" y="0"/>
                  </a:lnTo>
                  <a:lnTo>
                    <a:pt x="0" y="48"/>
                  </a:lnTo>
                </a:path>
              </a:pathLst>
            </a:custGeom>
            <a:solidFill>
              <a:srgbClr val="ee84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1" lang="en-US" sz="2800" spc="-1" strike="noStrike">
                <a:solidFill>
                  <a:srgbClr val="cc3300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664920" y="6342120"/>
              <a:ext cx="8470800" cy="80640"/>
            </a:xfrm>
            <a:custGeom>
              <a:avLst/>
              <a:gdLst>
                <a:gd name="textAreaLeft" fmla="*/ 0 w 8470800"/>
                <a:gd name="textAreaRight" fmla="*/ 8471160 w 847080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5192" h="51">
                  <a:moveTo>
                    <a:pt x="0" y="50"/>
                  </a:moveTo>
                  <a:lnTo>
                    <a:pt x="5191" y="48"/>
                  </a:lnTo>
                  <a:lnTo>
                    <a:pt x="5191" y="0"/>
                  </a:lnTo>
                  <a:lnTo>
                    <a:pt x="12" y="0"/>
                  </a:lnTo>
                  <a:lnTo>
                    <a:pt x="0" y="50"/>
                  </a:lnTo>
                </a:path>
              </a:pathLst>
            </a:custGeom>
            <a:solidFill>
              <a:srgbClr val="ee84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1" lang="en-US" sz="2800" spc="-1" strike="noStrike">
                <a:solidFill>
                  <a:srgbClr val="cc3300"/>
                </a:solidFill>
                <a:latin typeface="Tahoma"/>
              </a:endParaRPr>
            </a:p>
          </p:txBody>
        </p:sp>
      </p:grpSp>
      <p:sp>
        <p:nvSpPr>
          <p:cNvPr id="15" name="Freeform 17"/>
          <p:cNvSpPr/>
          <p:nvPr/>
        </p:nvSpPr>
        <p:spPr>
          <a:xfrm>
            <a:off x="6553080" y="6467400"/>
            <a:ext cx="2578320" cy="74520"/>
          </a:xfrm>
          <a:custGeom>
            <a:avLst/>
            <a:gdLst>
              <a:gd name="textAreaLeft" fmla="*/ 0 w 2578320"/>
              <a:gd name="textAreaRight" fmla="*/ 2578680 w 2578320"/>
              <a:gd name="textAreaTop" fmla="*/ 0 h 74520"/>
              <a:gd name="textAreaBottom" fmla="*/ 74880 h 74520"/>
            </a:gdLst>
            <a:ahLst/>
            <a:rect l="textAreaLeft" t="textAreaTop" r="textAreaRight" b="textAreaBottom"/>
            <a:pathLst>
              <a:path w="3716" h="51">
                <a:moveTo>
                  <a:pt x="0" y="50"/>
                </a:moveTo>
                <a:lnTo>
                  <a:pt x="3715" y="48"/>
                </a:lnTo>
                <a:lnTo>
                  <a:pt x="3715" y="0"/>
                </a:lnTo>
                <a:lnTo>
                  <a:pt x="8" y="0"/>
                </a:lnTo>
                <a:lnTo>
                  <a:pt x="0" y="50"/>
                </a:lnTo>
              </a:path>
            </a:pathLst>
          </a:custGeom>
          <a:solidFill>
            <a:srgbClr val="ee84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1" lang="en-US" sz="28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16" name="Text Box 19"/>
          <p:cNvSpPr/>
          <p:nvPr/>
        </p:nvSpPr>
        <p:spPr>
          <a:xfrm>
            <a:off x="838080" y="635472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en-US" sz="1200" spc="-1" strike="noStrike">
                <a:solidFill>
                  <a:srgbClr val="0000cc"/>
                </a:solidFill>
                <a:latin typeface="Arial"/>
              </a:rPr>
              <a:t>Copyright © 2011 Pearson Education, Inc. Publishing as Prentice Hall</a:t>
            </a:r>
            <a:endParaRPr b="1" lang="en-US" sz="12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17" name="Text Box 20"/>
          <p:cNvSpPr/>
          <p:nvPr/>
        </p:nvSpPr>
        <p:spPr>
          <a:xfrm>
            <a:off x="-170280" y="6356520"/>
            <a:ext cx="1095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e8411"/>
                </a:solidFill>
                <a:latin typeface="Tahoma"/>
              </a:rPr>
              <a:t>2-</a:t>
            </a:r>
            <a:fld id="{8630FE2C-51E7-4B55-89A5-776CAF95F03D}" type="slidenum">
              <a:rPr b="1" lang="en-US" sz="1200" spc="-1" strike="noStrike">
                <a:solidFill>
                  <a:srgbClr val="ee8411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cc33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1026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55" name="Group 1027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6" name="Rectangle 1028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cc3300"/>
                  </a:solidFill>
                  <a:latin typeface="Tahoma"/>
                </a:endParaRPr>
              </a:p>
            </p:txBody>
          </p:sp>
          <p:sp>
            <p:nvSpPr>
              <p:cNvPr id="57" name="Rectangle 1029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cc3300"/>
                  </a:solidFill>
                  <a:latin typeface="Tahoma"/>
                </a:endParaRPr>
              </a:p>
            </p:txBody>
          </p:sp>
        </p:grpSp>
        <p:grpSp>
          <p:nvGrpSpPr>
            <p:cNvPr id="58" name="Group 1030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9" name="Rectangle 1031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cc3300"/>
                  </a:solidFill>
                  <a:latin typeface="Tahoma"/>
                </a:endParaRPr>
              </a:p>
            </p:txBody>
          </p:sp>
          <p:sp>
            <p:nvSpPr>
              <p:cNvPr id="60" name="Rectangle 1032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cc3300"/>
                  </a:solidFill>
                  <a:latin typeface="Tahoma"/>
                </a:endParaRPr>
              </a:p>
            </p:txBody>
          </p:sp>
        </p:grpSp>
        <p:sp>
          <p:nvSpPr>
            <p:cNvPr id="61" name="Rectangle 1033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cc3300"/>
                </a:solidFill>
                <a:latin typeface="Tahoma"/>
              </a:endParaRPr>
            </a:p>
          </p:txBody>
        </p:sp>
        <p:sp>
          <p:nvSpPr>
            <p:cNvPr id="62" name="Rectangle 1034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cc3300"/>
                </a:solidFill>
                <a:latin typeface="Tahoma"/>
              </a:endParaRPr>
            </a:p>
          </p:txBody>
        </p:sp>
        <p:sp>
          <p:nvSpPr>
            <p:cNvPr id="63" name="Rectangle 1035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cc3300"/>
                </a:solidFill>
                <a:latin typeface="Tahoma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250560"/>
            <a:ext cx="7792920" cy="10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11826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560" y="838080"/>
            <a:ext cx="8458200" cy="198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br>
              <a:rPr sz="4800"/>
            </a:br>
            <a:r>
              <a:rPr b="1" lang="en-US" sz="4800" spc="-1" strike="noStrike">
                <a:solidFill>
                  <a:srgbClr val="f85e08"/>
                </a:solidFill>
                <a:latin typeface="Tahoma"/>
              </a:rPr>
              <a:t>Decision Support and Business Intelligence Systems</a:t>
            </a:r>
            <a:br>
              <a:rPr sz="4800"/>
            </a:br>
            <a:r>
              <a:rPr b="1" lang="en-US" sz="4000" spc="-1" strike="noStrike">
                <a:solidFill>
                  <a:srgbClr val="f85e08"/>
                </a:solidFill>
                <a:latin typeface="Tahoma"/>
              </a:rPr>
              <a:t>(9</a:t>
            </a:r>
            <a:r>
              <a:rPr b="1" lang="en-US" sz="4000" spc="-1" strike="noStrike" baseline="30000">
                <a:solidFill>
                  <a:srgbClr val="f85e08"/>
                </a:solidFill>
                <a:latin typeface="Tahoma"/>
              </a:rPr>
              <a:t>th</a:t>
            </a:r>
            <a:r>
              <a:rPr b="1" lang="en-US" sz="4000" spc="-1" strike="noStrike">
                <a:solidFill>
                  <a:srgbClr val="f85e08"/>
                </a:solidFill>
                <a:latin typeface="Tahoma"/>
              </a:rPr>
              <a:t> Ed., Prentice Hall)</a:t>
            </a:r>
            <a:endParaRPr b="0" lang="en-US" sz="40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685800" y="3657600"/>
            <a:ext cx="784872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ahoma"/>
              </a:rPr>
              <a:t>Chapter 3:</a:t>
            </a:r>
            <a:endParaRPr b="0" lang="en-US" sz="40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ahoma"/>
              </a:rPr>
              <a:t>Decision Support Systems Concepts, Methodologies, and Technologies: An Overview</a:t>
            </a:r>
            <a:endParaRPr b="0" lang="en-US" sz="4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250560"/>
            <a:ext cx="7792920" cy="104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ahoma"/>
              </a:rPr>
              <a:t>A Web-Based DSS Architecture</a:t>
            </a:r>
            <a:endParaRPr b="0" lang="en-US" sz="3600" spc="-1" strike="noStrike">
              <a:solidFill>
                <a:srgbClr val="cc3300"/>
              </a:solidFill>
              <a:latin typeface="Tahoma"/>
            </a:endParaRPr>
          </a:p>
        </p:txBody>
      </p:sp>
      <p:pic>
        <p:nvPicPr>
          <p:cNvPr id="129" name="Picture 3" descr=""/>
          <p:cNvPicPr/>
          <p:nvPr/>
        </p:nvPicPr>
        <p:blipFill>
          <a:blip r:embed="rId1"/>
          <a:stretch/>
        </p:blipFill>
        <p:spPr>
          <a:xfrm>
            <a:off x="1565280" y="1523880"/>
            <a:ext cx="6854760" cy="46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250560"/>
            <a:ext cx="7792920" cy="104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ahoma"/>
              </a:rPr>
              <a:t>DSS Characteristics and Capabilities</a:t>
            </a:r>
            <a:endParaRPr b="0" lang="en-US" sz="36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1182600" y="1523520"/>
            <a:ext cx="7809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DSS is not quite synonymous with BI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DSS are generally built to solve a specific problem and include their own database(s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BI applications focus on reporting and identifying problems by scanning data stored in data warehouse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Both systems generally include analytical tools (BI called </a:t>
            </a:r>
            <a:r>
              <a:rPr b="0" lang="en-US" sz="2000" spc="-1" strike="noStrike">
                <a:solidFill>
                  <a:srgbClr val="ff3300"/>
                </a:solidFill>
                <a:latin typeface="Tahoma"/>
              </a:rPr>
              <a:t>business analytics systems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Although some may run locally as a spreadsheet, both DSS and BI uses Web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250560"/>
            <a:ext cx="7792920" cy="104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ahoma"/>
              </a:rPr>
              <a:t>DSS Characteristics and Capabilities</a:t>
            </a:r>
            <a:endParaRPr b="0" lang="en-US" sz="3600" spc="-1" strike="noStrike">
              <a:solidFill>
                <a:srgbClr val="cc3300"/>
              </a:solidFill>
              <a:latin typeface="Tahoma"/>
            </a:endParaRPr>
          </a:p>
        </p:txBody>
      </p:sp>
      <p:pic>
        <p:nvPicPr>
          <p:cNvPr id="133" name="Picture 2" descr=""/>
          <p:cNvPicPr/>
          <p:nvPr/>
        </p:nvPicPr>
        <p:blipFill>
          <a:blip r:embed="rId1"/>
          <a:stretch/>
        </p:blipFill>
        <p:spPr>
          <a:xfrm>
            <a:off x="1676520" y="1463760"/>
            <a:ext cx="6248160" cy="488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250560"/>
            <a:ext cx="7792920" cy="104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ahoma"/>
              </a:rPr>
              <a:t>DSS Characteristics and Capabilities</a:t>
            </a:r>
            <a:endParaRPr b="0" lang="en-US" sz="36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1826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ahoma"/>
              </a:rPr>
              <a:t>Business analytic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ahoma"/>
              </a:rPr>
              <a:t>Analytics</a:t>
            </a:r>
            <a:r>
              <a:rPr b="0" lang="en-US" sz="2000" spc="-1" strike="noStrike">
                <a:solidFill>
                  <a:srgbClr val="0000cc"/>
                </a:solidFill>
                <a:latin typeface="Tahoma"/>
              </a:rPr>
              <a:t> is the science of analysis, Its refers to analysis data.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ahoma"/>
              </a:rPr>
              <a:t>Business analytics (BA) </a:t>
            </a:r>
            <a:r>
              <a:rPr b="0" lang="en-US" sz="2000" spc="-1" strike="noStrike">
                <a:solidFill>
                  <a:srgbClr val="0000cc"/>
                </a:solidFill>
                <a:latin typeface="Tahoma"/>
              </a:rPr>
              <a:t>is abroad category of applications and techniques for gathering ,storing , analyzing , and providing access to data to help enterprise users make better business and strategic decisions. See Ch6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ahoma"/>
              </a:rPr>
              <a:t>Business analytics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implies the use of models and data to improve an organization's performance and/or competitive postur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Example: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Tahoma"/>
              </a:rPr>
              <a:t>An analytic application used for credit scoring for a loan application might: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Tahoma"/>
              </a:rPr>
              <a:t>Automatically accept or deny the loan application</a:t>
            </a:r>
            <a:endParaRPr b="0" lang="en-US" sz="16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50560"/>
            <a:ext cx="7792920" cy="104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ahoma"/>
              </a:rPr>
              <a:t>DSS Characteristics and Capabilities</a:t>
            </a:r>
            <a:endParaRPr b="0" lang="en-US" sz="36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1182240" y="1523520"/>
            <a:ext cx="7961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Web analytics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ies using business analytics on real-time Web information to assist in decision making; often related to e-Commerc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Predictive analytics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scribes the business analytics method of forecasting problems and opportunities rather than simply reporting them as they occu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50560"/>
            <a:ext cx="7792920" cy="104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ahoma"/>
              </a:rPr>
              <a:t>Components of DSS</a:t>
            </a:r>
            <a:endParaRPr b="0" lang="en-US" sz="3600" spc="-1" strike="noStrike">
              <a:solidFill>
                <a:srgbClr val="cc3300"/>
              </a:solidFill>
              <a:latin typeface="Tahoma"/>
            </a:endParaRPr>
          </a:p>
        </p:txBody>
      </p:sp>
      <p:pic>
        <p:nvPicPr>
          <p:cNvPr id="139" name="Picture 2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562360" cy="49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250560"/>
            <a:ext cx="7792920" cy="104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ahoma"/>
              </a:rPr>
              <a:t>Components of DSS</a:t>
            </a:r>
            <a:endParaRPr b="0" lang="en-US" sz="36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182240" y="1447560"/>
            <a:ext cx="7961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Data Management Subsystem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Model Management Subsystem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User Interface Subsystem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Knowledgebase Management Subsystem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250560"/>
            <a:ext cx="7792920" cy="104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ahoma"/>
              </a:rPr>
              <a:t>DSS Components</a:t>
            </a:r>
            <a:br>
              <a:rPr sz="3600"/>
            </a:br>
            <a:r>
              <a:rPr b="0" lang="en-US" sz="3600" spc="-1" strike="noStrike">
                <a:solidFill>
                  <a:srgbClr val="cc3300"/>
                </a:solidFill>
                <a:latin typeface="Tahoma"/>
              </a:rPr>
              <a:t>Data Management Subsystem</a:t>
            </a:r>
            <a:endParaRPr b="0" lang="en-US" sz="3600" spc="-1" strike="noStrike">
              <a:solidFill>
                <a:srgbClr val="cc3300"/>
              </a:solidFill>
              <a:latin typeface="Tahoma"/>
            </a:endParaRPr>
          </a:p>
        </p:txBody>
      </p:sp>
      <p:pic>
        <p:nvPicPr>
          <p:cNvPr id="143" name="Picture 2" descr=""/>
          <p:cNvPicPr/>
          <p:nvPr/>
        </p:nvPicPr>
        <p:blipFill>
          <a:blip r:embed="rId1"/>
          <a:stretch/>
        </p:blipFill>
        <p:spPr>
          <a:xfrm>
            <a:off x="3171960" y="1444680"/>
            <a:ext cx="5057640" cy="48798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 txBox="1"/>
          <p:nvPr/>
        </p:nvSpPr>
        <p:spPr>
          <a:xfrm>
            <a:off x="228240" y="1980720"/>
            <a:ext cx="2971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SS database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BMS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ata directory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Query facility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50560" y="250560"/>
            <a:ext cx="7792920" cy="104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cc3300"/>
                </a:solidFill>
                <a:latin typeface="Tahoma"/>
              </a:rPr>
              <a:t>Database Management Subsystem</a:t>
            </a:r>
            <a:endParaRPr b="0" lang="en-US" sz="36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11826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Databas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ahoma"/>
              </a:rPr>
              <a:t>Is a collection of interrelated data, organized to meet the needs and structure of an organization.</a:t>
            </a:r>
            <a:endParaRPr b="0" lang="en-US" sz="16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ahoma"/>
              </a:rPr>
              <a:t>The data are extracted from internal and external data sources.</a:t>
            </a:r>
            <a:endParaRPr b="0" lang="en-US" sz="16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Data Organization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ahoma"/>
              </a:rPr>
              <a:t>A standalone database?</a:t>
            </a:r>
            <a:endParaRPr b="0" lang="en-US" sz="16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Data Extraction (ET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ahoma"/>
              </a:rPr>
              <a:t>Importing of files, summarizing, standardization, filtration, and condensation of data.</a:t>
            </a:r>
            <a:endParaRPr b="0" lang="en-US" sz="16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ahoma"/>
              </a:rPr>
              <a:t>Managed by DBMS</a:t>
            </a:r>
            <a:endParaRPr b="0" lang="en-US" sz="16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Database Management System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27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ahoma"/>
              </a:rPr>
              <a:t>A database is created , accessed and updated by a DBMS </a:t>
            </a:r>
            <a:r>
              <a:rPr b="0" lang="en-US" sz="1100" spc="-1" strike="noStrike">
                <a:solidFill>
                  <a:srgbClr val="3333cc"/>
                </a:solidFill>
                <a:latin typeface="Tahoma"/>
              </a:rPr>
              <a:t>(technology insights 3.3)</a:t>
            </a:r>
            <a:endParaRPr b="0" lang="en-US" sz="11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ahoma"/>
              </a:rPr>
              <a:t>Most DSS built with a standard commercial relational DBMS</a:t>
            </a:r>
            <a:endParaRPr b="0" lang="en-US" sz="16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ahoma"/>
              </a:rPr>
              <a:t>Major vendors are (Oracle, IBM, Microsoft)</a:t>
            </a:r>
            <a:endParaRPr b="0" lang="en-US" sz="16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ahoma"/>
              </a:rPr>
              <a:t>The Query Facility</a:t>
            </a:r>
            <a:endParaRPr b="0" lang="en-US" sz="16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50560"/>
            <a:ext cx="7792920" cy="104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ahoma"/>
              </a:rPr>
              <a:t>Database Management Subsystem</a:t>
            </a:r>
            <a:br>
              <a:rPr sz="3600"/>
            </a:br>
            <a:r>
              <a:rPr b="0" lang="en-US" sz="3600" spc="-1" strike="noStrike">
                <a:solidFill>
                  <a:srgbClr val="cc3300"/>
                </a:solidFill>
                <a:latin typeface="Tahoma"/>
              </a:rPr>
              <a:t>Key Data Issues</a:t>
            </a:r>
            <a:endParaRPr b="0" lang="en-US" sz="36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1826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The Directory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lvl="1" marL="713160" indent="-27432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Is a catalog of all the data in a database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lvl="2" marL="1097280" indent="-21924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It contains data definitions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lvl="2" marL="1097280" indent="-21924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Its main functions is to answer questions about the availability of data items, their source and their exact meaning.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Key Data Issu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29040" indent="-32904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Data quality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lvl="1" marL="713160" indent="-27432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A key issue in data management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lvl="1" marL="713160" indent="-27432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Poor quality data, leads to poor quality information leads to waste.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lvl="1" marL="713160" indent="-27432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Garbage in/garbage out" (GIGO)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lvl="1" marL="713160" indent="-27432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E.g., given inaccurate data in a CRM system, customers may be contacted many times.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lvl="1" marL="713160" indent="-27432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Data quality clean up (e.g., validation and verification) tools for data cleansing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50560"/>
            <a:ext cx="7792920" cy="104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ahoma"/>
              </a:rPr>
              <a:t>Learning Objectives</a:t>
            </a:r>
            <a:endParaRPr b="0" lang="en-US" sz="36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1523880"/>
            <a:ext cx="780912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nderstand possible decision support system (DSS) configurations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nderstand the key differences and similarities between DSS and BI systems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cribe DSS characteristics and capabilities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nderstand the essential definition of DSS 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nderstand important DSS class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nderstand DSS components and how they integrate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50560" y="250560"/>
            <a:ext cx="7792920" cy="104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ahoma"/>
              </a:rPr>
              <a:t>Database Management Subsystem</a:t>
            </a:r>
            <a:br>
              <a:rPr sz="3600"/>
            </a:br>
            <a:r>
              <a:rPr b="0" lang="en-US" sz="3600" spc="-1" strike="noStrike">
                <a:solidFill>
                  <a:srgbClr val="cc3300"/>
                </a:solidFill>
                <a:latin typeface="Tahoma"/>
              </a:rPr>
              <a:t>Key Data Issues</a:t>
            </a:r>
            <a:endParaRPr b="0" lang="en-US" sz="36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11826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Data integration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Creating a single version of the truth”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Scalability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Is ability of a system , network, or process to handle a growing a mount of work in a capable manner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E.g., increased size of database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Data Security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Data must be protected from unauthorized access through security measures such as ID and password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Data can be encrypted, in the case of unauthorized access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New tools developed to monitor database activity and provide audit trail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lvl="2" marL="1143000" indent="-228600">
              <a:spcBef>
                <a:spcPts val="34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ahoma"/>
              </a:rPr>
              <a:t>E.g., SQL Guard from Guardium,Inc. </a:t>
            </a:r>
            <a:endParaRPr b="0" lang="en-US" sz="1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50560" y="250560"/>
            <a:ext cx="7792920" cy="104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ahoma"/>
              </a:rPr>
              <a:t>10 Key Ingredients of Data (Information) Quality Management</a:t>
            </a:r>
            <a:endParaRPr b="0" lang="en-US" sz="36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1826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499"/>
              </a:spcBef>
              <a:buClr>
                <a:srgbClr val="3333cc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514440" indent="-514440">
              <a:spcBef>
                <a:spcPts val="499"/>
              </a:spcBef>
              <a:buClr>
                <a:srgbClr val="3333cc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Data quality is a business problem, not only a systems problem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514440" indent="-514440">
              <a:spcBef>
                <a:spcPts val="499"/>
              </a:spcBef>
              <a:buClr>
                <a:srgbClr val="3333cc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Focus on information about customers and suppliers, not just data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514440" indent="-514440">
              <a:spcBef>
                <a:spcPts val="499"/>
              </a:spcBef>
              <a:buClr>
                <a:srgbClr val="3333cc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Focus on all components of data: definition, content, and presentation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514440" indent="-514440">
              <a:spcBef>
                <a:spcPts val="499"/>
              </a:spcBef>
              <a:buClr>
                <a:srgbClr val="3333cc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Implement data/information quality management processes, not just software to handle them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514440" indent="-514440">
              <a:spcBef>
                <a:spcPts val="499"/>
              </a:spcBef>
              <a:buClr>
                <a:srgbClr val="3333cc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Measure data accuracy as well as validity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50560" y="250560"/>
            <a:ext cx="7792920" cy="104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ahoma"/>
              </a:rPr>
              <a:t>10 Key Ingredients of Data (Information) Quality Management</a:t>
            </a:r>
            <a:endParaRPr b="0" lang="en-US" sz="36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11826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499"/>
              </a:spcBef>
              <a:buClr>
                <a:srgbClr val="3333cc"/>
              </a:buClr>
              <a:buSzPct val="80000"/>
              <a:buFont typeface="Tahom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514440" indent="-514440">
              <a:spcBef>
                <a:spcPts val="499"/>
              </a:spcBef>
              <a:buClr>
                <a:srgbClr val="3333cc"/>
              </a:buClr>
              <a:buSzPct val="80000"/>
              <a:buFont typeface="Tahom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Measure real costs (not just the percentage) of poor quality data/information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514440" indent="-514440">
              <a:spcBef>
                <a:spcPts val="499"/>
              </a:spcBef>
              <a:buClr>
                <a:srgbClr val="3333cc"/>
              </a:buClr>
              <a:buSzPct val="80000"/>
              <a:buFont typeface="Tahom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Emphasize process improvement/preventive maintenance, not just data cleansing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514440" indent="-514440">
              <a:spcBef>
                <a:spcPts val="499"/>
              </a:spcBef>
              <a:buClr>
                <a:srgbClr val="3333cc"/>
              </a:buClr>
              <a:buSzPct val="80000"/>
              <a:buFont typeface="Tahom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Improve processes (and hence data quality) at the sour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514440" indent="-514440">
              <a:spcBef>
                <a:spcPts val="499"/>
              </a:spcBef>
              <a:buClr>
                <a:srgbClr val="3333cc"/>
              </a:buClr>
              <a:buSzPct val="80000"/>
              <a:buFont typeface="Tahom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Educate managers about the impacts of poor data quality and how to improve it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514440" indent="-514440">
              <a:spcBef>
                <a:spcPts val="499"/>
              </a:spcBef>
              <a:buClr>
                <a:srgbClr val="3333cc"/>
              </a:buClr>
              <a:buSzPct val="80000"/>
              <a:buFont typeface="Tahom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Actively transform the culture to one that values data quality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50560" y="250560"/>
            <a:ext cx="7792920" cy="104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ahoma"/>
              </a:rPr>
              <a:t>DSS Components</a:t>
            </a:r>
            <a:br>
              <a:rPr sz="3600"/>
            </a:br>
            <a:r>
              <a:rPr b="0" lang="en-US" sz="3600" spc="-1" strike="noStrike">
                <a:solidFill>
                  <a:srgbClr val="cc3300"/>
                </a:solidFill>
                <a:latin typeface="Tahoma"/>
              </a:rPr>
              <a:t>Model Management Subsystem</a:t>
            </a:r>
            <a:endParaRPr b="0" lang="en-US" sz="3600" spc="-1" strike="noStrike">
              <a:solidFill>
                <a:srgbClr val="cc3300"/>
              </a:solidFill>
              <a:latin typeface="Tahoma"/>
            </a:endParaRPr>
          </a:p>
        </p:txBody>
      </p:sp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2901960" y="1447920"/>
            <a:ext cx="6242040" cy="487656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 txBox="1"/>
          <p:nvPr/>
        </p:nvSpPr>
        <p:spPr>
          <a:xfrm>
            <a:off x="152280" y="1828440"/>
            <a:ext cx="28958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Model base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MBMS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Modeling language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Model directory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Model execution, integration, and command processor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50560" y="250560"/>
            <a:ext cx="7792920" cy="104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ahoma"/>
              </a:rPr>
              <a:t>DSS Components</a:t>
            </a:r>
            <a:br>
              <a:rPr sz="3600"/>
            </a:br>
            <a:r>
              <a:rPr b="0" lang="en-US" sz="3600" spc="-1" strike="noStrike">
                <a:solidFill>
                  <a:srgbClr val="cc3300"/>
                </a:solidFill>
                <a:latin typeface="Tahoma"/>
              </a:rPr>
              <a:t>Model Management Subsystem</a:t>
            </a:r>
            <a:endParaRPr b="0" lang="en-US" sz="36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1182600" y="13716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Model bas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20720" indent="-27720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Contains routine and special statistical, financial, forecasting ,management science and other quantitative models that provide the analysis capabilities in a DSS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32640" indent="-33264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Model Type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trategic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2" marL="1274760" indent="-44316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Used to support top managers’ strategic planning responsibilities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lvl="2" marL="1274760" indent="-44316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Potential applications include an e-commerce venture, developing corporate objectives, selecting a plant location, creating a noun routine capital budget, ..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actical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2" marL="1274760" indent="-44316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Used mainly by middle managers to assist in allocating and controlling the organization’s resources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lvl="2" marL="1274760" indent="-44316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E.g., sales promotion planning, web server selection routine capital budgeting.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50560" y="250560"/>
            <a:ext cx="7792920" cy="104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ahoma"/>
              </a:rPr>
              <a:t>DSS Components</a:t>
            </a:r>
            <a:br>
              <a:rPr sz="3600"/>
            </a:br>
            <a:r>
              <a:rPr b="0" lang="en-US" sz="3600" spc="-1" strike="noStrike">
                <a:solidFill>
                  <a:srgbClr val="cc3300"/>
                </a:solidFill>
                <a:latin typeface="Tahoma"/>
              </a:rPr>
              <a:t>Model Management Subsystem</a:t>
            </a:r>
            <a:endParaRPr b="0" lang="en-US" sz="36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56840" y="1447920"/>
            <a:ext cx="84978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Operational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Used to support day to day working activates of the organization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E.g., e-commerce transaction acceptance (e.g., purchases), approval of personal loans, production scheduling, enventory control, maintenance planning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Analytic model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Used to perform analysis on data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They include statistical models, management science models, data mining algorithms, financial models and more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They can integrated with others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They can be classified by functional areas or by disciplin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Model building blocks and Routine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cc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The model base can contain model building blocks and routines such as the functions and add- ins in excel.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50560"/>
            <a:ext cx="7792920" cy="104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ahoma"/>
              </a:rPr>
              <a:t>DSS Components</a:t>
            </a:r>
            <a:br>
              <a:rPr sz="3600"/>
            </a:br>
            <a:r>
              <a:rPr b="0" lang="en-US" sz="3600" spc="-1" strike="noStrike">
                <a:solidFill>
                  <a:srgbClr val="cc3300"/>
                </a:solidFill>
                <a:latin typeface="Tahoma"/>
              </a:rPr>
              <a:t>Model Management Subsystem</a:t>
            </a:r>
            <a:endParaRPr b="0" lang="en-US" sz="36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56840" y="1447920"/>
            <a:ext cx="84978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Model building blocks and Routine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Preprogrammed software elements that can be used to build computerized models. For example, a random-number generator can be employed in the construction of a simulation model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random number generator routine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- regression analysi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model base can contain it in addition for such applications as data analysis or can be used as components of larger models.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50560" y="250560"/>
            <a:ext cx="7792920" cy="104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ahoma"/>
              </a:rPr>
              <a:t>DSS Components </a:t>
            </a:r>
            <a:br>
              <a:rPr sz="3600"/>
            </a:br>
            <a:r>
              <a:rPr b="0" lang="en-US" sz="3600" spc="-1" strike="noStrike">
                <a:solidFill>
                  <a:srgbClr val="cc3300"/>
                </a:solidFill>
                <a:latin typeface="Tahoma"/>
              </a:rPr>
              <a:t>Model Management Subsystem</a:t>
            </a:r>
            <a:endParaRPr b="0" lang="en-US" sz="36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1182240" y="1523520"/>
            <a:ext cx="7961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Modeling Tool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For semistructured and unstructured problems : Programming tools and languages used to customize models such as .Net Framwork, C++,Java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For samll and meduim sized DSS or less complex ones: Excel usually used.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MBMS has four main functions: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Model creation, using programming languages, DSS tools and/or subroutines, and other building blocks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Generation of new routines and reports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Model updating and changing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Model data manipulation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Model directory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Model execution, integration and command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50560" y="250560"/>
            <a:ext cx="7792920" cy="104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ahoma"/>
              </a:rPr>
              <a:t>DSS Components </a:t>
            </a:r>
            <a:br>
              <a:rPr sz="3600"/>
            </a:br>
            <a:r>
              <a:rPr b="0" lang="en-US" sz="3600" spc="-1" strike="noStrike">
                <a:solidFill>
                  <a:srgbClr val="cc3300"/>
                </a:solidFill>
                <a:latin typeface="Tahoma"/>
              </a:rPr>
              <a:t>Model Management Subsystem</a:t>
            </a:r>
            <a:endParaRPr b="0" lang="en-US" sz="36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11826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Model directory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683280" indent="-26280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Its role is similar to that of database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lvl="1" marL="683280" indent="-26280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It’s a catalog of all the models and other software in the model base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lvl="2" marL="1051560" indent="-21024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Contains definitions and its main function to answer questions about the availability and capabilities of the models.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15360" indent="-31536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15360" indent="-31536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Model execution, integration and command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683280" indent="-26280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Model execution </a:t>
            </a: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is the process of controlling the actual running of the model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lvl="1" marL="683280" indent="-26280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Model integration </a:t>
            </a: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involves combining the operations of several  models when needed or integrating the DSS with other applications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lvl="1" marL="683280" indent="-26280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A model command processor is used to accept and interpret modeling instructions from the user interface component and route them to the model execution or model integration functions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lvl="1" marL="683280" indent="-262800"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cc"/>
              </a:solidFill>
              <a:latin typeface="Tahoma"/>
            </a:endParaRPr>
          </a:p>
          <a:p>
            <a:pPr lvl="1" marL="683280" indent="-262800"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cc"/>
              </a:solidFill>
              <a:latin typeface="Tahoma"/>
            </a:endParaRPr>
          </a:p>
          <a:p>
            <a:pPr marL="315360" indent="-31536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15360" indent="-31536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50560" y="250560"/>
            <a:ext cx="7792920" cy="104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ahoma"/>
              </a:rPr>
              <a:t>DSS Components</a:t>
            </a:r>
            <a:br>
              <a:rPr sz="3600"/>
            </a:br>
            <a:r>
              <a:rPr b="0" lang="en-US" sz="3600" spc="-1" strike="noStrike">
                <a:solidFill>
                  <a:srgbClr val="cc3300"/>
                </a:solidFill>
                <a:latin typeface="Tahoma"/>
              </a:rPr>
              <a:t>User Interface (Dialog) Subsystem</a:t>
            </a:r>
            <a:endParaRPr b="0" lang="en-US" sz="36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80880" y="1828440"/>
            <a:ext cx="3200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Interface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Application interface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User Interface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Graphical User Interface (GUI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DSS User Interface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Portal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Graphical icons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Dashboard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Color coding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Interfacing with PDAs, cell phones, etc.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</p:txBody>
      </p:sp>
      <p:pic>
        <p:nvPicPr>
          <p:cNvPr id="170" name="Picture 2" descr=""/>
          <p:cNvPicPr/>
          <p:nvPr/>
        </p:nvPicPr>
        <p:blipFill>
          <a:blip r:embed="rId1"/>
          <a:stretch/>
        </p:blipFill>
        <p:spPr>
          <a:xfrm>
            <a:off x="3581280" y="1500120"/>
            <a:ext cx="4953240" cy="48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50560"/>
            <a:ext cx="7792920" cy="104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ahoma"/>
              </a:rPr>
              <a:t>Learning Objectives</a:t>
            </a:r>
            <a:endParaRPr b="0" lang="en-US" sz="36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240" y="1523880"/>
            <a:ext cx="79614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cribe the components and structure of each DSS compon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xplain Internet impacts on DSS (and vice versa)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xplain the unique role of the user in DSS versus management information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cribe DSS hardware and software platforms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ecome familiar with a DSS development language 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nderstand current DSS issues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920" y="250560"/>
            <a:ext cx="7764480" cy="104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ahoma"/>
              </a:rPr>
              <a:t>DSS Components</a:t>
            </a:r>
            <a:br>
              <a:rPr sz="3600"/>
            </a:br>
            <a:r>
              <a:rPr b="0" lang="en-US" sz="3600" spc="-1" strike="noStrike">
                <a:solidFill>
                  <a:srgbClr val="cc3300"/>
                </a:solidFill>
                <a:latin typeface="Tahoma"/>
              </a:rPr>
              <a:t>User Interface (Dialog) Subsystem</a:t>
            </a:r>
            <a:endParaRPr b="0" lang="en-US" sz="36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182240" y="1523520"/>
            <a:ext cx="7961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User Interfa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The term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User Interface </a:t>
            </a: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covers all aspects of communication between a user and the DSS or any MSS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It includes H\W and S\W and all factors that deal with ease to use , accessibility, and human machine interaction.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User Interface Management System (UIMS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Software(Composed of several programs)  that managed the user interface subsystem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user Interface Process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See figure 3.7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DSS User Interface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ahoma"/>
              </a:rPr>
              <a:t>Access provided through Web browsers including ( Voice input, portable devices)</a:t>
            </a:r>
            <a:endParaRPr b="0" lang="en-US" sz="16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ahoma"/>
              </a:rPr>
              <a:t>Web browsers provides a portal or dashboard toaccess the system.</a:t>
            </a:r>
            <a:endParaRPr b="0" lang="en-US" sz="16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920" y="250560"/>
            <a:ext cx="7764480" cy="104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ahoma"/>
              </a:rPr>
              <a:t>DSS Components </a:t>
            </a:r>
            <a:br>
              <a:rPr sz="3600"/>
            </a:br>
            <a:r>
              <a:rPr b="0" lang="en-US" sz="3600" spc="-1" strike="noStrike">
                <a:solidFill>
                  <a:srgbClr val="cc3300"/>
                </a:solidFill>
                <a:latin typeface="Tahoma"/>
              </a:rPr>
              <a:t>Knowledgebase Management System</a:t>
            </a:r>
            <a:endParaRPr b="0" lang="en-US" sz="36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1182240" y="1523520"/>
            <a:ext cx="7961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Incorporation of intelligence and expertis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ahoma"/>
              </a:rPr>
              <a:t>Because  many semistructured and unstructured problems are so complex</a:t>
            </a:r>
            <a:endParaRPr b="0" lang="en-US" sz="16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Knowledge components: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Expert systems,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Knowledge management systems,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Neural networks,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Intelligent agents,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Fuzzy logic,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ase-based reasoning systems, and so on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50560" y="250560"/>
            <a:ext cx="7792920" cy="104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ahoma"/>
              </a:rPr>
              <a:t>DSS User</a:t>
            </a:r>
            <a:endParaRPr b="0" lang="en-US" sz="36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182600" y="14475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One faced with a decision that an MSS is designed to support  is called :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Manager, decision maker, problem solver, …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users differ greatly from each other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Different organizational positions they occupy; cognitive preferences/abilities; the ways of arriving at a decision (i.e., decision styles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User = Individual versus Group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Managers versus Staff Specialists [staff assistants, expert tool users, business (system) analysts, facilitators (in a GSS)]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50560" y="250560"/>
            <a:ext cx="7792920" cy="104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ahoma"/>
              </a:rPr>
              <a:t>DSS Components</a:t>
            </a:r>
            <a:br>
              <a:rPr sz="3600"/>
            </a:br>
            <a:r>
              <a:rPr b="0" lang="en-US" sz="3600" spc="-1" strike="noStrike">
                <a:solidFill>
                  <a:srgbClr val="cc3300"/>
                </a:solidFill>
                <a:latin typeface="Tahoma"/>
              </a:rPr>
              <a:t>Future/current DSS Developments</a:t>
            </a:r>
            <a:endParaRPr b="0" lang="en-US" sz="36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11826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Hardware enhancements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maller, faster, cheaper, …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oftware/hardware advancements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ata warehousing, data mining, OLAP, Web technologies, integration and dissemination technologies (XML, Web services, SOA, grid computing, cloud computing, …)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tegration of AI -&gt; smart systems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50560" y="250560"/>
            <a:ext cx="7792920" cy="104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ahoma"/>
              </a:rPr>
              <a:t>DSS Hardware</a:t>
            </a:r>
            <a:endParaRPr b="0" lang="en-US" sz="36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1826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ypically, MSS run on standard hard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an be composed of mainframe computers with legacy DBMS, workstations, personal computers, or client/server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owadays, usually implemented as a distributed/integrated, loosely-coupled    Web-based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an be acquired fro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single vend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Many vendors (best-of-breed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50560" y="250560"/>
            <a:ext cx="7792920" cy="104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ahoma"/>
              </a:rPr>
              <a:t>A DSS Modeling Language</a:t>
            </a:r>
            <a:br>
              <a:rPr sz="3600"/>
            </a:br>
            <a:r>
              <a:rPr b="0" lang="en-US" sz="3600" spc="-1" strike="noStrike">
                <a:solidFill>
                  <a:srgbClr val="cc3300"/>
                </a:solidFill>
                <a:latin typeface="Tahoma"/>
              </a:rPr>
              <a:t>Planners Lab (plannerslab.com)</a:t>
            </a:r>
            <a:endParaRPr b="0" lang="en-US" sz="3600" spc="-1" strike="noStrike">
              <a:solidFill>
                <a:srgbClr val="cc3300"/>
              </a:solidFill>
              <a:latin typeface="Tahoma"/>
            </a:endParaRPr>
          </a:p>
        </p:txBody>
      </p:sp>
      <p:pic>
        <p:nvPicPr>
          <p:cNvPr id="182" name="Picture 2" descr=""/>
          <p:cNvPicPr/>
          <p:nvPr/>
        </p:nvPicPr>
        <p:blipFill>
          <a:blip r:embed="rId1"/>
          <a:stretch/>
        </p:blipFill>
        <p:spPr>
          <a:xfrm>
            <a:off x="2305080" y="1447920"/>
            <a:ext cx="6762600" cy="490536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 txBox="1"/>
          <p:nvPr/>
        </p:nvSpPr>
        <p:spPr>
          <a:xfrm>
            <a:off x="75960" y="1752480"/>
            <a:ext cx="23619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Generating Assump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50560" y="250560"/>
            <a:ext cx="7792920" cy="104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ahoma"/>
              </a:rPr>
              <a:t>A DSS Modeling Language</a:t>
            </a:r>
            <a:br>
              <a:rPr sz="3600"/>
            </a:br>
            <a:r>
              <a:rPr b="0" lang="en-US" sz="3600" spc="-1" strike="noStrike">
                <a:solidFill>
                  <a:srgbClr val="cc3300"/>
                </a:solidFill>
                <a:latin typeface="Tahoma"/>
              </a:rPr>
              <a:t>Planners Lab (plannerslab.com)</a:t>
            </a:r>
            <a:endParaRPr b="0" lang="en-US" sz="36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5960" y="1752480"/>
            <a:ext cx="23619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Creating a new model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pic>
        <p:nvPicPr>
          <p:cNvPr id="186" name="Picture 2" descr=""/>
          <p:cNvPicPr/>
          <p:nvPr/>
        </p:nvPicPr>
        <p:blipFill>
          <a:blip r:embed="rId1"/>
          <a:stretch/>
        </p:blipFill>
        <p:spPr>
          <a:xfrm>
            <a:off x="2209680" y="1676520"/>
            <a:ext cx="687708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50560" y="250560"/>
            <a:ext cx="7792920" cy="104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ahoma"/>
              </a:rPr>
              <a:t>A DSS Modeling Language</a:t>
            </a:r>
            <a:br>
              <a:rPr sz="3600"/>
            </a:br>
            <a:r>
              <a:rPr b="0" lang="en-US" sz="3600" spc="-1" strike="noStrike">
                <a:solidFill>
                  <a:srgbClr val="cc3300"/>
                </a:solidFill>
                <a:latin typeface="Tahoma"/>
              </a:rPr>
              <a:t>Planners Lab (plannerslab.com)</a:t>
            </a:r>
            <a:endParaRPr b="0" lang="en-US" sz="3600" spc="-1" strike="noStrike">
              <a:solidFill>
                <a:srgbClr val="cc3300"/>
              </a:solidFill>
              <a:latin typeface="Tahoma"/>
            </a:endParaRPr>
          </a:p>
        </p:txBody>
      </p:sp>
      <p:pic>
        <p:nvPicPr>
          <p:cNvPr id="188" name="Picture 2" descr=""/>
          <p:cNvPicPr/>
          <p:nvPr/>
        </p:nvPicPr>
        <p:blipFill>
          <a:blip r:embed="rId1"/>
          <a:stretch/>
        </p:blipFill>
        <p:spPr>
          <a:xfrm>
            <a:off x="1038240" y="1600200"/>
            <a:ext cx="7800840" cy="46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50560"/>
            <a:ext cx="7792920" cy="104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ahoma"/>
              </a:rPr>
              <a:t>A DSS Modeling Language</a:t>
            </a:r>
            <a:br>
              <a:rPr sz="3600"/>
            </a:br>
            <a:r>
              <a:rPr b="0" lang="en-US" sz="3600" spc="-1" strike="noStrike">
                <a:solidFill>
                  <a:srgbClr val="cc3300"/>
                </a:solidFill>
                <a:latin typeface="Tahoma"/>
              </a:rPr>
              <a:t>Planners Lab (plannerslab.com)</a:t>
            </a:r>
            <a:endParaRPr b="0" lang="en-US" sz="3600" spc="-1" strike="noStrike">
              <a:solidFill>
                <a:srgbClr val="cc3300"/>
              </a:solidFill>
              <a:latin typeface="Tahoma"/>
            </a:endParaRPr>
          </a:p>
        </p:txBody>
      </p:sp>
      <p:pic>
        <p:nvPicPr>
          <p:cNvPr id="190" name="Picture 2" descr=""/>
          <p:cNvPicPr/>
          <p:nvPr/>
        </p:nvPicPr>
        <p:blipFill>
          <a:blip r:embed="rId1"/>
          <a:stretch/>
        </p:blipFill>
        <p:spPr>
          <a:xfrm>
            <a:off x="1066680" y="1600200"/>
            <a:ext cx="77425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50560" y="250560"/>
            <a:ext cx="7792920" cy="104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ahoma"/>
              </a:rPr>
              <a:t>A DSS Modeling Language</a:t>
            </a:r>
            <a:br>
              <a:rPr sz="3600"/>
            </a:br>
            <a:r>
              <a:rPr b="0" lang="en-US" sz="3600" spc="-1" strike="noStrike">
                <a:solidFill>
                  <a:srgbClr val="cc3300"/>
                </a:solidFill>
                <a:latin typeface="Tahoma"/>
              </a:rPr>
              <a:t>Planners Lab (plannerslab.com)</a:t>
            </a:r>
            <a:endParaRPr b="0" lang="en-US" sz="3600" spc="-1" strike="noStrike">
              <a:solidFill>
                <a:srgbClr val="cc3300"/>
              </a:solidFill>
              <a:latin typeface="Tahoma"/>
            </a:endParaRPr>
          </a:p>
        </p:txBody>
      </p:sp>
      <p:pic>
        <p:nvPicPr>
          <p:cNvPr id="192" name="Picture 2" descr=""/>
          <p:cNvPicPr/>
          <p:nvPr/>
        </p:nvPicPr>
        <p:blipFill>
          <a:blip r:embed="rId1"/>
          <a:stretch/>
        </p:blipFill>
        <p:spPr>
          <a:xfrm>
            <a:off x="1143000" y="1600200"/>
            <a:ext cx="7731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50560"/>
            <a:ext cx="7792920" cy="104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ahoma"/>
              </a:rPr>
              <a:t>Opening Vignette:</a:t>
            </a:r>
            <a:endParaRPr b="0" lang="en-US" sz="36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11826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Decision Support System Cures for Health Care”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ompany background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Problem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Proposed solutio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Results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Answer and discuss the case questions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50560" y="250560"/>
            <a:ext cx="7792920" cy="104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ahoma"/>
              </a:rPr>
              <a:t>A DSS Modeling Language</a:t>
            </a:r>
            <a:br>
              <a:rPr sz="3600"/>
            </a:br>
            <a:r>
              <a:rPr b="0" lang="en-US" sz="3600" spc="-1" strike="noStrike">
                <a:solidFill>
                  <a:srgbClr val="cc3300"/>
                </a:solidFill>
                <a:latin typeface="Tahoma"/>
              </a:rPr>
              <a:t>Planners Lab (plannerslab.com)</a:t>
            </a:r>
            <a:endParaRPr b="0" lang="en-US" sz="3600" spc="-1" strike="noStrike">
              <a:solidFill>
                <a:srgbClr val="cc3300"/>
              </a:solidFill>
              <a:latin typeface="Tahoma"/>
            </a:endParaRPr>
          </a:p>
        </p:txBody>
      </p:sp>
      <p:pic>
        <p:nvPicPr>
          <p:cNvPr id="194" name="Picture 2" descr=""/>
          <p:cNvPicPr/>
          <p:nvPr/>
        </p:nvPicPr>
        <p:blipFill>
          <a:blip r:embed="rId1"/>
          <a:stretch/>
        </p:blipFill>
        <p:spPr>
          <a:xfrm>
            <a:off x="1295280" y="1523880"/>
            <a:ext cx="7162920" cy="47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50560"/>
            <a:ext cx="7792920" cy="104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ahoma"/>
              </a:rPr>
              <a:t>A DSS Modeling Language</a:t>
            </a:r>
            <a:br>
              <a:rPr sz="3600"/>
            </a:br>
            <a:r>
              <a:rPr b="0" lang="en-US" sz="3600" spc="-1" strike="noStrike">
                <a:solidFill>
                  <a:srgbClr val="cc3300"/>
                </a:solidFill>
                <a:latin typeface="Tahoma"/>
              </a:rPr>
              <a:t>Planners Lab (plannerslab.com)</a:t>
            </a:r>
            <a:endParaRPr b="0" lang="en-US" sz="3600" spc="-1" strike="noStrike">
              <a:solidFill>
                <a:srgbClr val="cc3300"/>
              </a:solidFill>
              <a:latin typeface="Tahoma"/>
            </a:endParaRPr>
          </a:p>
        </p:txBody>
      </p:sp>
      <p:pic>
        <p:nvPicPr>
          <p:cNvPr id="196" name="Picture 2" descr=""/>
          <p:cNvPicPr/>
          <p:nvPr/>
        </p:nvPicPr>
        <p:blipFill>
          <a:blip r:embed="rId1"/>
          <a:stretch/>
        </p:blipFill>
        <p:spPr>
          <a:xfrm>
            <a:off x="1066680" y="1523880"/>
            <a:ext cx="789624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150560" y="250560"/>
            <a:ext cx="7792920" cy="104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ahoma"/>
              </a:rPr>
              <a:t>A DSS Modeling Language</a:t>
            </a:r>
            <a:br>
              <a:rPr sz="3600"/>
            </a:br>
            <a:r>
              <a:rPr b="0" lang="en-US" sz="3600" spc="-1" strike="noStrike">
                <a:solidFill>
                  <a:srgbClr val="cc3300"/>
                </a:solidFill>
                <a:latin typeface="Tahoma"/>
              </a:rPr>
              <a:t>Planners Lab (plannerslab.com)</a:t>
            </a:r>
            <a:endParaRPr b="0" lang="en-US" sz="3600" spc="-1" strike="noStrike">
              <a:solidFill>
                <a:srgbClr val="cc3300"/>
              </a:solidFill>
              <a:latin typeface="Tahoma"/>
            </a:endParaRPr>
          </a:p>
        </p:txBody>
      </p:sp>
      <p:pic>
        <p:nvPicPr>
          <p:cNvPr id="198" name="Picture 2" descr=""/>
          <p:cNvPicPr/>
          <p:nvPr/>
        </p:nvPicPr>
        <p:blipFill>
          <a:blip r:embed="rId1"/>
          <a:stretch/>
        </p:blipFill>
        <p:spPr>
          <a:xfrm>
            <a:off x="1143000" y="1600200"/>
            <a:ext cx="781200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150560" y="250560"/>
            <a:ext cx="7792920" cy="104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ahoma"/>
              </a:rPr>
              <a:t>A DSS Modeling Language</a:t>
            </a:r>
            <a:br>
              <a:rPr sz="3600"/>
            </a:br>
            <a:r>
              <a:rPr b="0" lang="en-US" sz="3600" spc="-1" strike="noStrike">
                <a:solidFill>
                  <a:srgbClr val="cc3300"/>
                </a:solidFill>
                <a:latin typeface="Tahoma"/>
              </a:rPr>
              <a:t>Planners Lab (plannerslab.com)</a:t>
            </a:r>
            <a:endParaRPr b="0" lang="en-US" sz="3600" spc="-1" strike="noStrike">
              <a:solidFill>
                <a:srgbClr val="cc3300"/>
              </a:solidFill>
              <a:latin typeface="Tahoma"/>
            </a:endParaRPr>
          </a:p>
        </p:txBody>
      </p:sp>
      <p:pic>
        <p:nvPicPr>
          <p:cNvPr id="200" name="Picture 2" descr=""/>
          <p:cNvPicPr/>
          <p:nvPr/>
        </p:nvPicPr>
        <p:blipFill>
          <a:blip r:embed="rId1"/>
          <a:stretch/>
        </p:blipFill>
        <p:spPr>
          <a:xfrm>
            <a:off x="1066680" y="1523880"/>
            <a:ext cx="7918560" cy="47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50560"/>
            <a:ext cx="7792920" cy="104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ahoma"/>
              </a:rPr>
              <a:t>A DSS Modeling Language</a:t>
            </a:r>
            <a:br>
              <a:rPr sz="3600"/>
            </a:br>
            <a:r>
              <a:rPr b="0" lang="en-US" sz="3600" spc="-1" strike="noStrike">
                <a:solidFill>
                  <a:srgbClr val="cc3300"/>
                </a:solidFill>
                <a:latin typeface="Tahoma"/>
              </a:rPr>
              <a:t>Planners Lab (plannerslab.com)</a:t>
            </a:r>
            <a:endParaRPr b="0" lang="en-US" sz="3600" spc="-1" strike="noStrike">
              <a:solidFill>
                <a:srgbClr val="cc3300"/>
              </a:solidFill>
              <a:latin typeface="Tahoma"/>
            </a:endParaRPr>
          </a:p>
        </p:txBody>
      </p:sp>
      <p:pic>
        <p:nvPicPr>
          <p:cNvPr id="202" name="Picture 2" descr=""/>
          <p:cNvPicPr/>
          <p:nvPr/>
        </p:nvPicPr>
        <p:blipFill>
          <a:blip r:embed="rId1"/>
          <a:stretch/>
        </p:blipFill>
        <p:spPr>
          <a:xfrm>
            <a:off x="1371600" y="1504800"/>
            <a:ext cx="7238880" cy="48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50560" y="250560"/>
            <a:ext cx="7792920" cy="104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ahoma"/>
              </a:rPr>
              <a:t>A DSS Modeling Language</a:t>
            </a:r>
            <a:br>
              <a:rPr sz="3600"/>
            </a:br>
            <a:r>
              <a:rPr b="0" lang="en-US" sz="3600" spc="-1" strike="noStrike">
                <a:solidFill>
                  <a:srgbClr val="cc3300"/>
                </a:solidFill>
                <a:latin typeface="Tahoma"/>
              </a:rPr>
              <a:t>Planners Lab (plannerslab.com)</a:t>
            </a:r>
            <a:endParaRPr b="0" lang="en-US" sz="3600" spc="-1" strike="noStrike">
              <a:solidFill>
                <a:srgbClr val="cc3300"/>
              </a:solidFill>
              <a:latin typeface="Tahoma"/>
            </a:endParaRPr>
          </a:p>
        </p:txBody>
      </p:sp>
      <p:pic>
        <p:nvPicPr>
          <p:cNvPr id="204" name="Picture 2" descr=""/>
          <p:cNvPicPr/>
          <p:nvPr/>
        </p:nvPicPr>
        <p:blipFill>
          <a:blip r:embed="rId1"/>
          <a:stretch/>
        </p:blipFill>
        <p:spPr>
          <a:xfrm>
            <a:off x="1752480" y="1600200"/>
            <a:ext cx="6019920" cy="467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150560" y="250560"/>
            <a:ext cx="7792920" cy="104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ahoma"/>
              </a:rPr>
              <a:t>A DSS Modeling Language</a:t>
            </a:r>
            <a:br>
              <a:rPr sz="3600"/>
            </a:br>
            <a:r>
              <a:rPr b="0" lang="en-US" sz="3600" spc="-1" strike="noStrike">
                <a:solidFill>
                  <a:srgbClr val="cc3300"/>
                </a:solidFill>
                <a:latin typeface="Tahoma"/>
              </a:rPr>
              <a:t>Planners Lab (plannerslab.com)</a:t>
            </a:r>
            <a:endParaRPr b="0" lang="en-US" sz="3600" spc="-1" strike="noStrike">
              <a:solidFill>
                <a:srgbClr val="cc3300"/>
              </a:solidFill>
              <a:latin typeface="Tahoma"/>
            </a:endParaRPr>
          </a:p>
        </p:txBody>
      </p:sp>
      <p:pic>
        <p:nvPicPr>
          <p:cNvPr id="206" name="Picture 2" descr=""/>
          <p:cNvPicPr/>
          <p:nvPr/>
        </p:nvPicPr>
        <p:blipFill>
          <a:blip r:embed="rId1"/>
          <a:stretch/>
        </p:blipFill>
        <p:spPr>
          <a:xfrm>
            <a:off x="1371600" y="1447920"/>
            <a:ext cx="7315200" cy="488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50560"/>
            <a:ext cx="7792920" cy="104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ahoma"/>
              </a:rPr>
              <a:t>A DSS Modeling Language</a:t>
            </a:r>
            <a:br>
              <a:rPr sz="3600"/>
            </a:br>
            <a:r>
              <a:rPr b="0" lang="en-US" sz="3600" spc="-1" strike="noStrike">
                <a:solidFill>
                  <a:srgbClr val="cc3300"/>
                </a:solidFill>
                <a:latin typeface="Tahoma"/>
              </a:rPr>
              <a:t>Planners Lab (plannerslab.com)</a:t>
            </a:r>
            <a:endParaRPr b="0" lang="en-US" sz="3600" spc="-1" strike="noStrike">
              <a:solidFill>
                <a:srgbClr val="cc3300"/>
              </a:solidFill>
              <a:latin typeface="Tahoma"/>
            </a:endParaRPr>
          </a:p>
        </p:txBody>
      </p:sp>
      <p:pic>
        <p:nvPicPr>
          <p:cNvPr id="208" name="Picture 2" descr=""/>
          <p:cNvPicPr/>
          <p:nvPr/>
        </p:nvPicPr>
        <p:blipFill>
          <a:blip r:embed="rId1"/>
          <a:stretch/>
        </p:blipFill>
        <p:spPr>
          <a:xfrm>
            <a:off x="1676520" y="1523880"/>
            <a:ext cx="6267240" cy="477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150560" y="250560"/>
            <a:ext cx="7792920" cy="104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ahoma"/>
              </a:rPr>
              <a:t>A DSS Modeling Language</a:t>
            </a:r>
            <a:br>
              <a:rPr sz="3600"/>
            </a:br>
            <a:r>
              <a:rPr b="0" lang="en-US" sz="3600" spc="-1" strike="noStrike">
                <a:solidFill>
                  <a:srgbClr val="cc3300"/>
                </a:solidFill>
                <a:latin typeface="Tahoma"/>
              </a:rPr>
              <a:t>Planners Lab (plannerslab.com)</a:t>
            </a:r>
            <a:endParaRPr b="0" lang="en-US" sz="3600" spc="-1" strike="noStrike">
              <a:solidFill>
                <a:srgbClr val="cc3300"/>
              </a:solidFill>
              <a:latin typeface="Tahoma"/>
            </a:endParaRPr>
          </a:p>
        </p:txBody>
      </p:sp>
      <p:pic>
        <p:nvPicPr>
          <p:cNvPr id="210" name="Picture 2" descr=""/>
          <p:cNvPicPr/>
          <p:nvPr/>
        </p:nvPicPr>
        <p:blipFill>
          <a:blip r:embed="rId1"/>
          <a:stretch/>
        </p:blipFill>
        <p:spPr>
          <a:xfrm>
            <a:off x="380880" y="2066760"/>
            <a:ext cx="8407440" cy="25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50560"/>
            <a:ext cx="7792920" cy="104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ahoma"/>
              </a:rPr>
              <a:t>DSS Configurations</a:t>
            </a:r>
            <a:endParaRPr b="0" lang="en-US" sz="36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1826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Many configurations exist; based o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agement-decision situation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pecific technologies used for supp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DSS have three basic components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ata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ode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r interfa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(+ optional) Knowledg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250560"/>
            <a:ext cx="7792920" cy="104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ahoma"/>
              </a:rPr>
              <a:t>DSS Configurations</a:t>
            </a:r>
            <a:endParaRPr b="0" lang="en-US" sz="3600" spc="-1" strike="noStrike">
              <a:solidFill>
                <a:srgbClr val="cc3300"/>
              </a:solidFill>
              <a:latin typeface="Tahoma"/>
            </a:endParaRPr>
          </a:p>
        </p:txBody>
      </p:sp>
      <p:pic>
        <p:nvPicPr>
          <p:cNvPr id="120" name="Picture 2" descr=""/>
          <p:cNvPicPr/>
          <p:nvPr/>
        </p:nvPicPr>
        <p:blipFill>
          <a:blip r:embed="rId1"/>
          <a:stretch/>
        </p:blipFill>
        <p:spPr>
          <a:xfrm>
            <a:off x="3578400" y="1676520"/>
            <a:ext cx="5413320" cy="43434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 txBox="1"/>
          <p:nvPr/>
        </p:nvSpPr>
        <p:spPr>
          <a:xfrm>
            <a:off x="304920" y="1676160"/>
            <a:ext cx="3657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ach component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has several vari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Managed by a commercial of custom softwar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ypical types: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Model-oriented DS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ata-oriented DS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250560"/>
            <a:ext cx="7792920" cy="104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ahoma"/>
              </a:rPr>
              <a:t>DSS Description</a:t>
            </a:r>
            <a:endParaRPr b="0" lang="en-US" sz="36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182600" y="14475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early definition of DS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system intended to support managerial decision makers in semistructured and unstructured decision situ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meant to be adjuncts to decision makers (extending their capabilities but not replacing their judgment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imed at decisions that required judgment or at decisions that could not be completely supported by algorithm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would be computer based; operate interactively; and would have graphical output capabilities…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50560"/>
            <a:ext cx="7792920" cy="104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ahoma"/>
              </a:rPr>
              <a:t>Overall Capabilities of DSS</a:t>
            </a:r>
            <a:endParaRPr b="0" lang="en-US" sz="36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11826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A DSS is typically built to support the solution of a</a:t>
            </a:r>
            <a:r>
              <a:rPr b="0" lang="en-US" sz="2000" spc="-1" strike="noStrike" u="sng">
                <a:solidFill>
                  <a:srgbClr val="3333cc"/>
                </a:solidFill>
                <a:uFillTx/>
                <a:latin typeface="Tahoma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ertain problem (or to evaluate a specific opportunity).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2640" indent="-33264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DSS is an approach (or methodology) for supporting decision making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uses an interactive, flexible, adaptable computer-based information system (CBI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developed (by end user) for supporting the solution to a specific nonstructured management problem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uses data, model and knowledge along with a friendly (often graphical; Web-based) user interfa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incorporate the decision maker's own insight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upports all phases of decision making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an be used by a single user or by many peopl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250560"/>
            <a:ext cx="7792920" cy="104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ahoma"/>
              </a:rPr>
              <a:t>Overall Capabilities of DSS</a:t>
            </a:r>
            <a:endParaRPr b="0" lang="en-US" sz="36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11826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Easy access to data/models/knowledg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Proper management of organizational experiences and knowledge 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Easy to use, adaptive and flexible GUI 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imely, correct, concise, consistent support for decision making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upport for all who needs it, where  and when he/she needs it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- </a:t>
            </a: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See Table 3.2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for a complete list...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18T21:58:50Z</dcterms:created>
  <dc:creator>Dursun Delen</dc:creator>
  <dc:description/>
  <dc:language>en-US</dc:language>
  <cp:lastModifiedBy>hp</cp:lastModifiedBy>
  <cp:lastPrinted>2000-12-01T14:01:59Z</cp:lastPrinted>
  <dcterms:modified xsi:type="dcterms:W3CDTF">2013-03-12T19:08:11Z</dcterms:modified>
  <cp:revision>237</cp:revision>
  <dc:subject/>
  <dc:title>DSS Chapter 1</dc:title>
</cp:coreProperties>
</file>