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E92-0EC3-45D2-8F02-D8B89624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E7E-7FD0-41D8-94A0-28569A9A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318-66DF-483B-BECF-F629F2ED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0C8F-9A31-4E5A-B6E6-218D1AE0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7E0-CEAB-4E77-B130-4A21F96D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91B-CC81-443B-80CD-87C94B74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CAC-7199-4071-B23A-1749761A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AAC-BC59-4787-B027-D123716F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260-39D2-459F-B67B-31B19562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C6F-A000-45A0-ADB5-F8401DB4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A6E-84F7-4504-84BE-928ACB3D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F5B-6331-4616-8276-C9C07F33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1E3A-19B4-48FF-952B-6B9D98C59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4: Mathematical Expec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4.1 Mean of a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4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. The mean (or expected value) of X is deno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E(X)) and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181160" y="2706840"/>
                <a:ext cx="49910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76320" y="41911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ading Assig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463536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xample 3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ipment of 8 similar microcomputers to a retail outlet contains 3 that are defective and 5 are non-defective. If a school makes a random purchase of 2 of these computers, find the expected number of defective computers purcha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76320" y="152280"/>
            <a:ext cx="8839080" cy="1922040"/>
            <a:chOff x="76320" y="152280"/>
            <a:chExt cx="8839080" cy="1922040"/>
          </a:xfrm>
        </p:grpSpPr>
        <p:sp>
          <p:nvSpPr>
            <p:cNvPr id="130" name=""/>
            <p:cNvSpPr/>
            <p:nvPr/>
          </p:nvSpPr>
          <p:spPr>
            <a:xfrm>
              <a:off x="76320" y="152280"/>
              <a:ext cx="883908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f(0) + (1) f(1) +(2) f(2) + (3) f(3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(0.51) +  (1) (0.38)  +(2) (0.10) + (3) (0.01) = 0.61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52280" y="457200"/>
                  <a:ext cx="167652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76320" y="1722600"/>
            <a:ext cx="8839080" cy="2699640"/>
            <a:chOff x="76320" y="1722600"/>
            <a:chExt cx="8839080" cy="2699640"/>
          </a:xfrm>
        </p:grpSpPr>
        <p:sp>
          <p:nvSpPr>
            <p:cNvPr id="133" name=""/>
            <p:cNvSpPr/>
            <p:nvPr/>
          </p:nvSpPr>
          <p:spPr>
            <a:xfrm>
              <a:off x="76320" y="17226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1. First metho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33520" y="2116440"/>
                  <a:ext cx="32004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295280" y="2637000"/>
                  <a:ext cx="2060640" cy="6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76320" y="3322800"/>
              <a:ext cx="8839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(0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)+(1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1)+(2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2)+ (3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3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51)+(0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38)+(1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10)+ (2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0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.497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6320" y="4368960"/>
            <a:ext cx="8915400" cy="2184120"/>
            <a:chOff x="76320" y="4368960"/>
            <a:chExt cx="8915400" cy="2184120"/>
          </a:xfrm>
        </p:grpSpPr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533520" y="4719600"/>
                  <a:ext cx="28954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533520" y="5100840"/>
                  <a:ext cx="198108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76320" y="5207040"/>
              <a:ext cx="89154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0) + (1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1) +(2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2) + (3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3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(0.51) +  (1) (0.38)  +(4) (0.10) + (9) (0.01) = 0.8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00" y="4368960"/>
              <a:ext cx="252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3300"/>
                  </a:solidFill>
                  <a:latin typeface="Arial"/>
                </a:rPr>
                <a:t>2. Second method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533520" y="6121440"/>
                  <a:ext cx="2895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>
              <a:off x="3352680" y="6121440"/>
              <a:ext cx="3733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87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497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76320" y="152280"/>
            <a:ext cx="8839080" cy="2517120"/>
            <a:chOff x="76320" y="152280"/>
            <a:chExt cx="8839080" cy="2517120"/>
          </a:xfrm>
        </p:grpSpPr>
        <p:sp>
          <p:nvSpPr>
            <p:cNvPr id="145" name=""/>
            <p:cNvSpPr/>
            <p:nvPr/>
          </p:nvSpPr>
          <p:spPr>
            <a:xfrm>
              <a:off x="76320" y="15228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10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continuous random variable with the following pd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1371600" y="1193760"/>
                  <a:ext cx="32004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"/>
            <p:cNvSpPr/>
            <p:nvPr/>
          </p:nvSpPr>
          <p:spPr>
            <a:xfrm>
              <a:off x="76320" y="22096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the mean and the variance of 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6320" y="2778120"/>
            <a:ext cx="8229600" cy="2479680"/>
            <a:chOff x="76320" y="2778120"/>
            <a:chExt cx="8229600" cy="2479680"/>
          </a:xfrm>
        </p:grpSpPr>
        <p:sp>
          <p:nvSpPr>
            <p:cNvPr id="149" name=""/>
            <p:cNvSpPr/>
            <p:nvPr/>
          </p:nvSpPr>
          <p:spPr>
            <a:xfrm>
              <a:off x="76320" y="2778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5200" y="3311640"/>
              <a:ext cx="990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3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03640"/>
              <a:ext cx="99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/6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609480" y="3083040"/>
              <a:ext cx="6705720" cy="2174760"/>
              <a:chOff x="609480" y="3083040"/>
              <a:chExt cx="6705720" cy="2174760"/>
            </a:xfrm>
          </p:grpSpPr>
          <p:pic>
            <p:nvPicPr>
              <p:cNvPr id="1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3083040"/>
                <a:ext cx="2719440" cy="8254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3352680" y="3083040"/>
                    <a:ext cx="1981440" cy="83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5" name=""/>
                  <p:cNvSpPr txBox="1"/>
                  <p:nvPr/>
                </p:nvSpPr>
                <p:spPr>
                  <a:xfrm>
                    <a:off x="5351400" y="3095640"/>
                    <a:ext cx="1963800" cy="81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pic>
            <p:nvPicPr>
              <p:cNvPr id="1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9480" y="3921120"/>
                <a:ext cx="2514600" cy="812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57" name=""/>
                  <p:cNvSpPr txBox="1"/>
                  <p:nvPr/>
                </p:nvSpPr>
                <p:spPr>
                  <a:xfrm>
                    <a:off x="3124080" y="3938760"/>
                    <a:ext cx="1970280" cy="78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8" name=""/>
                  <p:cNvSpPr txBox="1"/>
                  <p:nvPr/>
                </p:nvSpPr>
                <p:spPr>
                  <a:xfrm>
                    <a:off x="5105520" y="3921120"/>
                    <a:ext cx="2057400" cy="80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"/>
                  <p:cNvSpPr txBox="1"/>
                  <p:nvPr/>
                </p:nvSpPr>
                <p:spPr>
                  <a:xfrm>
                    <a:off x="609480" y="4759200"/>
                    <a:ext cx="3733920" cy="49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0" name=""/>
              <p:cNvSpPr/>
              <p:nvPr/>
            </p:nvSpPr>
            <p:spPr>
              <a:xfrm>
                <a:off x="4343400" y="4789440"/>
                <a:ext cx="28195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7/6 –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5/3)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/8 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6320" y="152280"/>
            <a:ext cx="8915400" cy="3423960"/>
            <a:chOff x="76320" y="152280"/>
            <a:chExt cx="8915400" cy="3423960"/>
          </a:xfrm>
        </p:grpSpPr>
        <p:sp>
          <p:nvSpPr>
            <p:cNvPr id="162" name=""/>
            <p:cNvSpPr/>
            <p:nvPr/>
          </p:nvSpPr>
          <p:spPr>
            <a:xfrm>
              <a:off x="76320" y="152280"/>
              <a:ext cx="89154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3 Means and Variances of Linear Combinations of Random Variabl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 the random variable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523880" y="1841400"/>
                  <a:ext cx="525780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76320" y="2619000"/>
              <a:ext cx="88390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called a linear combination of the random variables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…,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6320" y="3429000"/>
            <a:ext cx="8839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 is a random variable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E(X), and if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b are consta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a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) = a E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±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rollary 1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b) = 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=0 in Theorem 4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rollary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(aX) = a E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=0 in Theorem 4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6320" y="152280"/>
            <a:ext cx="8915400" cy="2669760"/>
            <a:chOff x="76320" y="152280"/>
            <a:chExt cx="8915400" cy="2669760"/>
          </a:xfrm>
        </p:grpSpPr>
        <p:sp>
          <p:nvSpPr>
            <p:cNvPr id="167" name=""/>
            <p:cNvSpPr/>
            <p:nvPr/>
          </p:nvSpPr>
          <p:spPr>
            <a:xfrm>
              <a:off x="76320" y="15228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1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random variable with the following probability density fun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995480" y="1082520"/>
                  <a:ext cx="3110040" cy="129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76320" y="236232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E(4X+3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6320" y="2895480"/>
            <a:ext cx="8991360" cy="3429000"/>
            <a:chOff x="76320" y="2895480"/>
            <a:chExt cx="8991360" cy="34290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52280" y="3124080"/>
              <a:ext cx="281952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6320" y="2895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2971800" y="3124080"/>
                  <a:ext cx="175248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]</m:t>
                          </m:r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4724280" y="3124080"/>
                  <a:ext cx="16002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324480" y="3124080"/>
                  <a:ext cx="205740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8381880" y="330660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4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320" y="4038480"/>
              <a:ext cx="586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4X+3) = 4 E(X)+3 = 4(5/4) + 3=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other 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380880" y="4727160"/>
                  <a:ext cx="303372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[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"/>
            <p:cNvSpPr/>
            <p:nvPr/>
          </p:nvSpPr>
          <p:spPr>
            <a:xfrm>
              <a:off x="3505320" y="493704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g(X) = 4X+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320" y="57085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4X+3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600200" y="5479920"/>
                  <a:ext cx="22096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886200" y="5489280"/>
                  <a:ext cx="328284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]</m:t>
                          </m:r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⋯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76320" y="155520"/>
            <a:ext cx="8839080" cy="2587680"/>
            <a:chOff x="76320" y="155520"/>
            <a:chExt cx="8839080" cy="2587680"/>
          </a:xfrm>
        </p:grpSpPr>
        <p:sp>
          <p:nvSpPr>
            <p:cNvPr id="184" name=""/>
            <p:cNvSpPr/>
            <p:nvPr/>
          </p:nvSpPr>
          <p:spPr>
            <a:xfrm>
              <a:off x="76320" y="155520"/>
              <a:ext cx="8839080" cy="20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… 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…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048120" y="1976400"/>
                  <a:ext cx="295740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6" name=""/>
          <p:cNvSpPr/>
          <p:nvPr/>
        </p:nvSpPr>
        <p:spPr>
          <a:xfrm>
            <a:off x="76320" y="2666880"/>
            <a:ext cx="8762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, and Y are random variable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 Y) = E(X) ± E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6320" y="3875040"/>
            <a:ext cx="8915400" cy="2297160"/>
            <a:chOff x="76320" y="3875040"/>
            <a:chExt cx="8915400" cy="2297160"/>
          </a:xfrm>
        </p:grpSpPr>
        <p:sp>
          <p:nvSpPr>
            <p:cNvPr id="188" name=""/>
            <p:cNvSpPr/>
            <p:nvPr/>
          </p:nvSpPr>
          <p:spPr>
            <a:xfrm>
              <a:off x="76320" y="3875040"/>
              <a:ext cx="891540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9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 is a random variable with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if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b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a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Var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5410080" y="4253040"/>
                  <a:ext cx="182880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648240" y="5700960"/>
                  <a:ext cx="183816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76320" y="284040"/>
            <a:ext cx="8839080" cy="3830760"/>
            <a:chOff x="76320" y="284040"/>
            <a:chExt cx="8839080" cy="3830760"/>
          </a:xfrm>
        </p:grpSpPr>
        <p:sp>
          <p:nvSpPr>
            <p:cNvPr id="192" name=""/>
            <p:cNvSpPr/>
            <p:nvPr/>
          </p:nvSpPr>
          <p:spPr>
            <a:xfrm>
              <a:off x="76320" y="284040"/>
              <a:ext cx="8839080" cy="26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…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    Var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    Var 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…+      Var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209680" y="1731960"/>
                  <a:ext cx="3859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3886200" y="1808280"/>
                  <a:ext cx="3859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6048360" y="1808280"/>
                  <a:ext cx="4287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2819520" y="2489040"/>
                  <a:ext cx="34909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ar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676520" y="3554280"/>
                  <a:ext cx="701028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…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…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"/>
            <p:cNvSpPr/>
            <p:nvPr/>
          </p:nvSpPr>
          <p:spPr>
            <a:xfrm>
              <a:off x="4285800" y="317988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28600" y="42544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, and Y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aX+bY)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a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)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) = Var(X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307800"/>
            <a:ext cx="876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, and Y be two independent random variables such that E(X)=2, Var(X)=4, E(Y)=7, and Var(Y)=1.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 E(3X+7) and Var(3X+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 E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 and Var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20" y="251784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E(3X+7) = 3E(X)+7 = 3(2)+7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3X+7)= 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4) =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E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= 5E(X) + 2E(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= (5)(2) + (2)(7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=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= Var(5X+2Y)=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(25)(4)+(4)(1) = 1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029200" y="942840"/>
            <a:ext cx="3990960" cy="347688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76320" y="228600"/>
            <a:ext cx="5181480" cy="4876920"/>
            <a:chOff x="76320" y="228600"/>
            <a:chExt cx="5181480" cy="4876920"/>
          </a:xfrm>
        </p:grpSpPr>
        <p:sp>
          <p:nvSpPr>
            <p:cNvPr id="204" name=""/>
            <p:cNvSpPr/>
            <p:nvPr/>
          </p:nvSpPr>
          <p:spPr>
            <a:xfrm>
              <a:off x="76320" y="228600"/>
              <a:ext cx="518148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4 Chebyshev's 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Suppose that X is any random variable with mean 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variance Var(X)=      and standard devia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Chebyshev's Theorem gives a conservative estimate of the probability  that the random variable X assumes a value within k standard deviations (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of its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ich is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548080" y="1295280"/>
                  <a:ext cx="42372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711600" y="4267080"/>
                  <a:ext cx="47952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76320" y="228600"/>
            <a:ext cx="8915400" cy="1969920"/>
            <a:chOff x="76320" y="228600"/>
            <a:chExt cx="8915400" cy="1969920"/>
          </a:xfrm>
        </p:grpSpPr>
        <p:sp>
          <p:nvSpPr>
            <p:cNvPr id="208" name=""/>
            <p:cNvSpPr/>
            <p:nvPr/>
          </p:nvSpPr>
          <p:spPr>
            <a:xfrm>
              <a:off x="76320" y="228600"/>
              <a:ext cx="89154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11:(Chebyshev's Theore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random variable with mean 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for k&gt;1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7724880" y="1447920"/>
                  <a:ext cx="42840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3990960" y="1447920"/>
                  <a:ext cx="42876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2266920"/>
            <a:ext cx="3605040" cy="1390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6320" y="38131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having an unknown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8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9 (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). Find the following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&lt;X&lt; 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|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76320" y="368280"/>
            <a:ext cx="8839080" cy="5426640"/>
            <a:chOff x="76320" y="368280"/>
            <a:chExt cx="8839080" cy="5426640"/>
          </a:xfrm>
        </p:grpSpPr>
        <p:sp>
          <p:nvSpPr>
            <p:cNvPr id="214" name=""/>
            <p:cNvSpPr/>
            <p:nvPr/>
          </p:nvSpPr>
          <p:spPr>
            <a:xfrm>
              <a:off x="76320" y="368280"/>
              <a:ext cx="8839080" cy="41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a) P(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4 &lt;X&lt; 20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 &lt;X&lt; 20)=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4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(3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+ k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+ 3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k=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k=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505320" y="1066680"/>
                  <a:ext cx="40932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28600" y="3765240"/>
                  <a:ext cx="25812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>
              <a:off x="76320" y="46036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&lt;X&lt; 20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, and hence,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&lt;X&lt; 20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(approximate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3962520" y="4527360"/>
                  <a:ext cx="3808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8458200" y="4527360"/>
                  <a:ext cx="3808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76920" y="735120"/>
            <a:ext cx="3886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752480" y="1720800"/>
          <a:ext cx="3810240" cy="1326960"/>
        </p:xfrm>
        <a:graphic>
          <a:graphicData uri="http://schemas.openxmlformats.org/drawingml/2006/table">
            <a:tbl>
              <a:tblPr/>
              <a:tblGrid>
                <a:gridCol w="1752840"/>
                <a:gridCol w="685800"/>
                <a:gridCol w="685800"/>
                <a:gridCol w="68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p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57600" y="2228760"/>
            <a:ext cx="357120" cy="68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352760" y="2276640"/>
                <a:ext cx="3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038560" y="2276640"/>
                <a:ext cx="3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52280" y="120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= the number of defective computers purch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3.3, we found that the probability distribu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09480" y="3425760"/>
                <a:ext cx="468648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6320" y="171360"/>
            <a:ext cx="6781680" cy="5624640"/>
            <a:chOff x="76320" y="171360"/>
            <a:chExt cx="6781680" cy="5624640"/>
          </a:xfrm>
        </p:grpSpPr>
        <p:sp>
          <p:nvSpPr>
            <p:cNvPr id="222" name=""/>
            <p:cNvSpPr/>
            <p:nvPr/>
          </p:nvSpPr>
          <p:spPr>
            <a:xfrm>
              <a:off x="76320" y="171360"/>
              <a:ext cx="6248160" cy="28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b) P(|X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6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= 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=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=3k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=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665440" y="1235160"/>
                  <a:ext cx="3826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51000" y="2514600"/>
                  <a:ext cx="233676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76320" y="3416400"/>
              <a:ext cx="6781680" cy="23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(approximate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713560" y="3392640"/>
                  <a:ext cx="23004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5648400" y="3924360"/>
                  <a:ext cx="2300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5029200" y="4421160"/>
                  <a:ext cx="2300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581280" y="4952880"/>
                  <a:ext cx="230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131920" y="3429000"/>
                  <a:ext cx="2304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34120" y="692280"/>
            <a:ext cx="35049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76320" y="152280"/>
            <a:ext cx="8076960" cy="5865840"/>
            <a:chOff x="76320" y="152280"/>
            <a:chExt cx="8076960" cy="5865840"/>
          </a:xfrm>
        </p:grpSpPr>
        <p:sp>
          <p:nvSpPr>
            <p:cNvPr id="234" name=""/>
            <p:cNvSpPr/>
            <p:nvPr/>
          </p:nvSpPr>
          <p:spPr>
            <a:xfrm>
              <a:off x="76320" y="152280"/>
              <a:ext cx="8076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Another solution for part (b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| &lt; 6) =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 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 &lt;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 +8&lt;X &lt; 6+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(2&lt;X &lt; 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&lt;X &lt;14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(3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k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6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k=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351000" y="2514600"/>
                  <a:ext cx="233676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36" name=""/>
            <p:cNvGrpSpPr/>
            <p:nvPr/>
          </p:nvGrpSpPr>
          <p:grpSpPr>
            <a:xfrm>
              <a:off x="76320" y="3355920"/>
              <a:ext cx="6933960" cy="2662200"/>
              <a:chOff x="76320" y="3355920"/>
              <a:chExt cx="6933960" cy="2662200"/>
            </a:xfrm>
          </p:grpSpPr>
          <p:sp>
            <p:nvSpPr>
              <p:cNvPr id="237" name=""/>
              <p:cNvSpPr/>
              <p:nvPr/>
            </p:nvSpPr>
            <p:spPr>
              <a:xfrm>
                <a:off x="76320" y="3355920"/>
                <a:ext cx="6933960" cy="25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2&lt;X &lt; 14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refore,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(approximately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8" name=""/>
                  <p:cNvSpPr txBox="1"/>
                  <p:nvPr/>
                </p:nvSpPr>
                <p:spPr>
                  <a:xfrm>
                    <a:off x="2131920" y="3355920"/>
                    <a:ext cx="230400" cy="60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6018120" y="3887640"/>
                    <a:ext cx="23040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4800600" y="3355920"/>
                    <a:ext cx="230040" cy="60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1" name=""/>
                  <p:cNvSpPr txBox="1"/>
                  <p:nvPr/>
                </p:nvSpPr>
                <p:spPr>
                  <a:xfrm>
                    <a:off x="5562720" y="4419720"/>
                    <a:ext cx="23004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2" name=""/>
                  <p:cNvSpPr txBox="1"/>
                  <p:nvPr/>
                </p:nvSpPr>
                <p:spPr>
                  <a:xfrm>
                    <a:off x="5103720" y="4954680"/>
                    <a:ext cx="23040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3579840" y="5410080"/>
                    <a:ext cx="23004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6320" y="152280"/>
            <a:ext cx="8915400" cy="3340080"/>
            <a:chOff x="76320" y="152280"/>
            <a:chExt cx="8915400" cy="3340080"/>
          </a:xfrm>
        </p:grpSpPr>
        <p:sp>
          <p:nvSpPr>
            <p:cNvPr id="53" name=""/>
            <p:cNvSpPr/>
            <p:nvPr/>
          </p:nvSpPr>
          <p:spPr>
            <a:xfrm>
              <a:off x="76320" y="15228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expected value of the number of defective computers purchased is the mean (or the expected value) of X, which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895320" y="882720"/>
                  <a:ext cx="25336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76320" y="152388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f(0) + (1) f(1) +(2) f(2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917640" y="1905120"/>
                  <a:ext cx="319716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914400" y="2666880"/>
                  <a:ext cx="288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4343400" y="2819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omputers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320" y="3552840"/>
            <a:ext cx="8915400" cy="2942640"/>
            <a:chOff x="76320" y="3552840"/>
            <a:chExt cx="8915400" cy="2942640"/>
          </a:xfrm>
        </p:grpSpPr>
        <p:sp>
          <p:nvSpPr>
            <p:cNvPr id="60" name=""/>
            <p:cNvSpPr/>
            <p:nvPr/>
          </p:nvSpPr>
          <p:spPr>
            <a:xfrm>
              <a:off x="76320" y="355284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continuous random variable that represents the life (in hours) of a certain electronic device. The pdf of X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143000" y="4648320"/>
                  <a:ext cx="32767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>
              <a:off x="76320" y="603576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the expected life of this type of devic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1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460440"/>
            <a:ext cx="6933960" cy="5114880"/>
            <a:chOff x="533520" y="460440"/>
            <a:chExt cx="6933960" cy="5114880"/>
          </a:xfrm>
        </p:grpSpPr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533520" y="460440"/>
                  <a:ext cx="3138480" cy="91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905120" y="1314360"/>
                  <a:ext cx="1904760" cy="104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00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905120" y="2359080"/>
                  <a:ext cx="2498760" cy="106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905120" y="3429000"/>
                  <a:ext cx="327636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70" name=""/>
            <p:cNvGrpSpPr/>
            <p:nvPr/>
          </p:nvGrpSpPr>
          <p:grpSpPr>
            <a:xfrm>
              <a:off x="1905120" y="4495680"/>
              <a:ext cx="5562360" cy="1079640"/>
              <a:chOff x="1905120" y="4495680"/>
              <a:chExt cx="5562360" cy="1079640"/>
            </a:xfrm>
          </p:grpSpPr>
          <mc:AlternateContent>
            <mc:Choice xmlns:a14="http://schemas.microsoft.com/office/drawing/2010/main" Requires="a14">
              <p:sp>
                <p:nvSpPr>
                  <p:cNvPr id="71" name=""/>
                  <p:cNvSpPr txBox="1"/>
                  <p:nvPr/>
                </p:nvSpPr>
                <p:spPr>
                  <a:xfrm>
                    <a:off x="1905120" y="4495680"/>
                    <a:ext cx="4151160" cy="107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00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" name=""/>
              <p:cNvSpPr/>
              <p:nvPr/>
            </p:nvSpPr>
            <p:spPr>
              <a:xfrm>
                <a:off x="6172200" y="48006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hour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57800" y="736560"/>
            <a:ext cx="3657600" cy="2730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320" y="5638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we expect that this type of electronic devices to last, on average, 200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320" y="152280"/>
            <a:ext cx="89154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4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, and let g(X) be a function of the random variable X. The mean (or expected value) of the random variable g(X) is deno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g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E[g(X)]) and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066680" y="2057400"/>
                <a:ext cx="58104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76320" y="335268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discrete random variable with the following probability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819520" y="4540320"/>
          <a:ext cx="2743200" cy="13269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657600" y="5048280"/>
                <a:ext cx="357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352760" y="5095800"/>
                <a:ext cx="3384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038560" y="5095800"/>
                <a:ext cx="3384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6320" y="59594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E[g(X)], where g(X)=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8600" y="704880"/>
            <a:ext cx="7543800" cy="3562200"/>
            <a:chOff x="228600" y="704880"/>
            <a:chExt cx="7543800" cy="3562200"/>
          </a:xfrm>
        </p:grpSpPr>
        <p:sp>
          <p:nvSpPr>
            <p:cNvPr id="84" name=""/>
            <p:cNvSpPr/>
            <p:nvPr/>
          </p:nvSpPr>
          <p:spPr>
            <a:xfrm>
              <a:off x="228600" y="704880"/>
              <a:ext cx="518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(X)=(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04560" y="1420920"/>
              <a:ext cx="7467840" cy="2846160"/>
              <a:chOff x="304560" y="1420920"/>
              <a:chExt cx="7467840" cy="2846160"/>
            </a:xfrm>
          </p:grpSpPr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304560" y="1420920"/>
                    <a:ext cx="5334120" cy="73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380880" y="2152800"/>
                <a:ext cx="7391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(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f(0) +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f(1) +(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f(2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1166760" y="2610000"/>
                <a:ext cx="4242600" cy="838080"/>
                <a:chOff x="1166760" y="2610000"/>
                <a:chExt cx="4242600" cy="8380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9" name=""/>
                    <p:cNvSpPr txBox="1"/>
                    <p:nvPr/>
                  </p:nvSpPr>
                  <p:spPr>
                    <a:xfrm>
                      <a:off x="2209680" y="2610000"/>
                      <a:ext cx="435960" cy="838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90" name=""/>
                <p:cNvSpPr/>
                <p:nvPr/>
              </p:nvSpPr>
              <p:spPr>
                <a:xfrm>
                  <a:off x="1166760" y="2762280"/>
                  <a:ext cx="1019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= 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)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" name=""/>
                <p:cNvGrpSpPr/>
                <p:nvPr/>
              </p:nvGrpSpPr>
              <p:grpSpPr>
                <a:xfrm>
                  <a:off x="2749680" y="2685960"/>
                  <a:ext cx="1409040" cy="720720"/>
                  <a:chOff x="2749680" y="2685960"/>
                  <a:chExt cx="1409040" cy="7207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2749680" y="2779560"/>
                    <a:ext cx="1002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 (0)</a:t>
                    </a:r>
                    <a:r>
                      <a:rPr b="0" lang="en-US" sz="24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93" name=""/>
                      <p:cNvSpPr txBox="1"/>
                      <p:nvPr/>
                    </p:nvSpPr>
                    <p:spPr>
                      <a:xfrm>
                        <a:off x="3744360" y="2685960"/>
                        <a:ext cx="414360" cy="7207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4147200" y="2685960"/>
                  <a:ext cx="1262160" cy="722160"/>
                  <a:chOff x="4147200" y="2685960"/>
                  <a:chExt cx="1262160" cy="72216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147200" y="2781000"/>
                    <a:ext cx="916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(1)</a:t>
                    </a:r>
                    <a:r>
                      <a:rPr b="0" lang="en-US" sz="24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96" name=""/>
                      <p:cNvSpPr txBox="1"/>
                      <p:nvPr/>
                    </p:nvSpPr>
                    <p:spPr>
                      <a:xfrm>
                        <a:off x="4996800" y="2685960"/>
                        <a:ext cx="412560" cy="7221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mc:AlternateContent>
            <mc:Choice xmlns:a14="http://schemas.microsoft.com/office/drawing/2010/main" Requires="a14">
              <p:sp>
                <p:nvSpPr>
                  <p:cNvPr id="97" name=""/>
                  <p:cNvSpPr txBox="1"/>
                  <p:nvPr/>
                </p:nvSpPr>
                <p:spPr>
                  <a:xfrm>
                    <a:off x="1143000" y="3402000"/>
                    <a:ext cx="259056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52280" y="162000"/>
            <a:ext cx="4800600" cy="1057320"/>
            <a:chOff x="152280" y="162000"/>
            <a:chExt cx="4800600" cy="1057320"/>
          </a:xfrm>
        </p:grpSpPr>
        <p:sp>
          <p:nvSpPr>
            <p:cNvPr id="99" name=""/>
            <p:cNvSpPr/>
            <p:nvPr/>
          </p:nvSpPr>
          <p:spPr>
            <a:xfrm>
              <a:off x="152280" y="162000"/>
              <a:ext cx="480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Example 4.3, fi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178080" y="488880"/>
                  <a:ext cx="56376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152280" y="1189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3520" y="1622520"/>
            <a:ext cx="7391160" cy="4625640"/>
            <a:chOff x="533520" y="1622520"/>
            <a:chExt cx="7391160" cy="462564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533520" y="1622520"/>
                  <a:ext cx="2895480" cy="11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533520" y="2801880"/>
                  <a:ext cx="119520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558720" y="3627360"/>
                  <a:ext cx="104148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600200" y="3627360"/>
                  <a:ext cx="54100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[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</m:e>
                      </m:nary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1600200" y="4465440"/>
                  <a:ext cx="37339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00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334120" y="4465440"/>
                  <a:ext cx="259056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000</m:t>
                          </m:r>
                        </m:num>
                        <m:den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600200" y="5379840"/>
                  <a:ext cx="434340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00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00000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67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76320" y="228600"/>
            <a:ext cx="8915400" cy="1371600"/>
            <a:chOff x="76320" y="228600"/>
            <a:chExt cx="8915400" cy="1371600"/>
          </a:xfrm>
        </p:grpSpPr>
        <p:sp>
          <p:nvSpPr>
            <p:cNvPr id="111" name=""/>
            <p:cNvSpPr/>
            <p:nvPr/>
          </p:nvSpPr>
          <p:spPr>
            <a:xfrm>
              <a:off x="76320" y="228600"/>
              <a:ext cx="8915400" cy="13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2 Variance (of a Random Variable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ost important measure of variability of a random variable X is called the variance of X and is denoted by Var(X)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7810560" y="1066680"/>
                  <a:ext cx="495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" name=""/>
          <p:cNvSpPr/>
          <p:nvPr/>
        </p:nvSpPr>
        <p:spPr>
          <a:xfrm>
            <a:off x="76320" y="16002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4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 and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 variance of X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85800" y="2724120"/>
                <a:ext cx="73915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76320" y="3933720"/>
            <a:ext cx="8839080" cy="1191240"/>
            <a:chOff x="76320" y="3933720"/>
            <a:chExt cx="8839080" cy="1191240"/>
          </a:xfrm>
        </p:grpSpPr>
        <p:sp>
          <p:nvSpPr>
            <p:cNvPr id="116" name=""/>
            <p:cNvSpPr/>
            <p:nvPr/>
          </p:nvSpPr>
          <p:spPr>
            <a:xfrm>
              <a:off x="76320" y="3933720"/>
              <a:ext cx="883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ositive square root of the variance of X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,is called the standard deviation of 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6248520" y="4267080"/>
                  <a:ext cx="13716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76320" y="5137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E[g(X)], where g(X)=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2280" y="76320"/>
            <a:ext cx="8305920" cy="2655720"/>
            <a:chOff x="152280" y="76320"/>
            <a:chExt cx="8305920" cy="2655720"/>
          </a:xfrm>
        </p:grpSpPr>
        <p:sp>
          <p:nvSpPr>
            <p:cNvPr id="120" name=""/>
            <p:cNvSpPr/>
            <p:nvPr/>
          </p:nvSpPr>
          <p:spPr>
            <a:xfrm>
              <a:off x="152280" y="7632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variance of the random variable  X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1295280" y="838440"/>
                  <a:ext cx="335304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295280" y="1295640"/>
                  <a:ext cx="4648320" cy="14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ll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</m:sub>
                                <m:sup/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screte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3" name=""/>
            <p:cNvSpPr/>
            <p:nvPr/>
          </p:nvSpPr>
          <p:spPr>
            <a:xfrm>
              <a:off x="228600" y="17528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52280" y="26668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discrete random variable with the following probability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28800" y="3886200"/>
          <a:ext cx="4495680" cy="1104840"/>
        </p:xfrm>
        <a:graphic>
          <a:graphicData uri="http://schemas.openxmlformats.org/drawingml/2006/table">
            <a:tbl>
              <a:tblPr/>
              <a:tblGrid>
                <a:gridCol w="898920"/>
                <a:gridCol w="899280"/>
                <a:gridCol w="898920"/>
                <a:gridCol w="899280"/>
                <a:gridCol w="8992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152280" y="5105520"/>
            <a:ext cx="4419720" cy="609480"/>
            <a:chOff x="152280" y="5105520"/>
            <a:chExt cx="4419720" cy="609480"/>
          </a:xfrm>
        </p:grpSpPr>
        <p:sp>
          <p:nvSpPr>
            <p:cNvPr id="127" name=""/>
            <p:cNvSpPr/>
            <p:nvPr/>
          </p:nvSpPr>
          <p:spPr>
            <a:xfrm>
              <a:off x="152280" y="5197320"/>
              <a:ext cx="441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057400" y="5105520"/>
                  <a:ext cx="568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20:52:19Z</dcterms:created>
  <dc:creator> </dc:creator>
  <dc:description/>
  <dc:language>en-US</dc:language>
  <cp:lastModifiedBy> </cp:lastModifiedBy>
  <dcterms:modified xsi:type="dcterms:W3CDTF">2004-06-20T22:04:17Z</dcterms:modified>
  <cp:revision>4</cp:revision>
  <dc:subject/>
  <dc:title>PowerPoint Presentation</dc:title>
</cp:coreProperties>
</file>