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B9F6-6DFA-4469-A9FA-372801014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E861-F2C1-4BBC-80C2-FF106A636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F5F9-D076-4196-9444-B1A34E55D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E31E-5127-4477-8049-46C631679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0BB84-63BB-467C-97CB-A95E991D0E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DA67F-1F10-4508-9D11-4AC5F5645A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68956-92AE-4098-97C7-1EEC93294E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A1690-9561-4A2B-8581-E7D5355DFB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D9D41-1F26-47CE-AE85-D496CE60CA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2FF73-2C60-4E06-8D29-5A82A41FB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A4B41-2DD1-4EA5-AD86-B3E8BF6C5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D305-7D8F-4C5B-BA27-754621E53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C698D-7AE5-4673-BBE7-770B0E6A99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E0ABB-6A8C-466D-9D02-26F14A079D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9E9DA-DCB6-4945-BCAB-9D681D2F3E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E6F6C-ACE7-46BF-9734-04BBD62992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36A9F-0442-48D3-839E-1336CCBBE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1DA7-D2AE-4625-B421-6EA8CD06B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E8B9-B471-4CBF-9A3A-F21F9084E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F96A-93D1-4DEE-BB85-79EC2E88E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FB97-3030-4AAA-BC29-55B751E25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2AAB-704D-4741-A66F-9618CC81C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0322-6AA0-4EEB-B56F-C7D59126C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C66A-F672-4285-9864-7B8A9F3B8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AB42E6B-9E76-41D8-8040-2AB3CBE560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407F7A1-5500-42A6-B1D1-E53FA284620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6CE4456F-3B2E-4D6A-B219-6D4ED3BC7E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alyzing and Forecast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me-Series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1319CBE-EE9D-483D-9BD8-F8A782E6D8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yclical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ng-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ve-lik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occur but may vary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easured peak to peak or trough to t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1976040" y="4267080"/>
            <a:ext cx="468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981080" y="6248520"/>
            <a:ext cx="547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295280" y="3809880"/>
            <a:ext cx="106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"/>
          <p:cNvSpPr/>
          <p:nvPr/>
        </p:nvSpPr>
        <p:spPr>
          <a:xfrm>
            <a:off x="1828800" y="54864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5"/>
          <p:cNvSpPr/>
          <p:nvPr/>
        </p:nvSpPr>
        <p:spPr>
          <a:xfrm>
            <a:off x="28954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6"/>
          <p:cNvSpPr/>
          <p:nvPr/>
        </p:nvSpPr>
        <p:spPr>
          <a:xfrm>
            <a:off x="5791320" y="54100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6934320" y="41911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8"/>
          <p:cNvSpPr/>
          <p:nvPr/>
        </p:nvSpPr>
        <p:spPr>
          <a:xfrm rot="225000">
            <a:off x="3351240" y="3962520"/>
            <a:ext cx="3735360" cy="390240"/>
          </a:xfrm>
          <a:custGeom>
            <a:avLst/>
            <a:gdLst/>
            <a:ahLst/>
            <a:rect l="l" t="t" r="r" b="b"/>
            <a:pathLst>
              <a:path w="1285" h="246">
                <a:moveTo>
                  <a:pt x="1284" y="54"/>
                </a:moveTo>
                <a:lnTo>
                  <a:pt x="1273" y="27"/>
                </a:lnTo>
                <a:lnTo>
                  <a:pt x="1247" y="9"/>
                </a:lnTo>
                <a:lnTo>
                  <a:pt x="1210" y="0"/>
                </a:lnTo>
                <a:lnTo>
                  <a:pt x="1167" y="0"/>
                </a:lnTo>
                <a:lnTo>
                  <a:pt x="727" y="62"/>
                </a:lnTo>
                <a:lnTo>
                  <a:pt x="684" y="62"/>
                </a:lnTo>
                <a:lnTo>
                  <a:pt x="647" y="54"/>
                </a:lnTo>
                <a:lnTo>
                  <a:pt x="621" y="36"/>
                </a:lnTo>
                <a:lnTo>
                  <a:pt x="610" y="9"/>
                </a:lnTo>
                <a:lnTo>
                  <a:pt x="605" y="40"/>
                </a:lnTo>
                <a:lnTo>
                  <a:pt x="589" y="67"/>
                </a:lnTo>
                <a:lnTo>
                  <a:pt x="557" y="85"/>
                </a:lnTo>
                <a:lnTo>
                  <a:pt x="514" y="98"/>
                </a:lnTo>
                <a:lnTo>
                  <a:pt x="95" y="156"/>
                </a:lnTo>
                <a:lnTo>
                  <a:pt x="53" y="169"/>
                </a:lnTo>
                <a:lnTo>
                  <a:pt x="26" y="187"/>
                </a:lnTo>
                <a:lnTo>
                  <a:pt x="5" y="214"/>
                </a:lnTo>
                <a:lnTo>
                  <a:pt x="0" y="245"/>
                </a:ln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4495680" y="3429000"/>
            <a:ext cx="1371600" cy="4546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3200400" y="46483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3962520" y="480060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3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4648320" y="51055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5029200" y="53341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6"/>
          <p:cNvSpPr/>
          <p:nvPr/>
        </p:nvSpPr>
        <p:spPr>
          <a:xfrm>
            <a:off x="5410080" y="5562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6019920" y="49528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8"/>
          <p:cNvSpPr/>
          <p:nvPr/>
        </p:nvSpPr>
        <p:spPr>
          <a:xfrm>
            <a:off x="6248520" y="44197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9"/>
          <p:cNvSpPr/>
          <p:nvPr/>
        </p:nvSpPr>
        <p:spPr>
          <a:xfrm>
            <a:off x="66294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1"/>
          <p:cNvSpPr/>
          <p:nvPr/>
        </p:nvSpPr>
        <p:spPr>
          <a:xfrm>
            <a:off x="2438280" y="48769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2"/>
          <p:cNvSpPr/>
          <p:nvPr/>
        </p:nvSpPr>
        <p:spPr>
          <a:xfrm>
            <a:off x="2209680" y="5257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3"/>
          <p:cNvSpPr/>
          <p:nvPr/>
        </p:nvSpPr>
        <p:spPr>
          <a:xfrm>
            <a:off x="73152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4"/>
          <p:cNvSpPr/>
          <p:nvPr/>
        </p:nvSpPr>
        <p:spPr>
          <a:xfrm>
            <a:off x="7696080" y="45720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6934320" y="6172200"/>
            <a:ext cx="106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>
            <a:off x="335268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7"/>
          <p:cNvSpPr/>
          <p:nvPr/>
        </p:nvSpPr>
        <p:spPr>
          <a:xfrm>
            <a:off x="708660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067EB14-DB67-418A-9361-48A9B2341F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andom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, random, “residual” fluc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random variat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s or unusu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” in th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4"/>
          <p:cNvGraphicFramePr/>
          <p:nvPr/>
        </p:nvGraphicFramePr>
        <p:xfrm>
          <a:off x="5791320" y="4267080"/>
          <a:ext cx="252720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4267080"/>
                    <a:ext cx="252720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7FFCBDE-0275-46CC-A5BA-86090B086D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numbers allow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numbers are reported relative to 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ase Perio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4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period index = 100 by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an individual item 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F37F665-F7D6-49A6-A7CB-6507B4B620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dex numbe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124080" y="2819520"/>
                <a:ext cx="243864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6"/>
          <p:cNvSpPr/>
          <p:nvPr/>
        </p:nvSpPr>
        <p:spPr>
          <a:xfrm>
            <a:off x="1676520" y="4343400"/>
            <a:ext cx="6781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dex number at time period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the time series at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the time series in the bas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0DD0B0F-5A52-4E95-9CC6-2D844628E16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 orders from 1995 to 200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4572000" y="2971800"/>
                <a:ext cx="4114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9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96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"/>
          <p:cNvGraphicFramePr/>
          <p:nvPr/>
        </p:nvGraphicFramePr>
        <p:xfrm>
          <a:off x="457200" y="1965240"/>
          <a:ext cx="3657600" cy="4206960"/>
        </p:xfrm>
        <a:graphic>
          <a:graphicData uri="http://schemas.openxmlformats.org/drawingml/2006/table">
            <a:tbl>
              <a:tblPr/>
              <a:tblGrid>
                <a:gridCol w="998640"/>
                <a:gridCol w="13636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(base year = 2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sp>
        <p:nvSpPr>
          <p:cNvPr id="254" name="Line 736"/>
          <p:cNvSpPr/>
          <p:nvPr/>
        </p:nvSpPr>
        <p:spPr>
          <a:xfrm>
            <a:off x="4114800" y="341316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737"/>
              <p:cNvSpPr txBox="1"/>
              <p:nvPr/>
            </p:nvSpPr>
            <p:spPr>
              <a:xfrm>
                <a:off x="4572000" y="4419720"/>
                <a:ext cx="4259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38"/>
              <p:cNvSpPr txBox="1"/>
              <p:nvPr/>
            </p:nvSpPr>
            <p:spPr>
              <a:xfrm>
                <a:off x="4572000" y="5562720"/>
                <a:ext cx="4259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Line 739"/>
          <p:cNvSpPr/>
          <p:nvPr/>
        </p:nvSpPr>
        <p:spPr>
          <a:xfrm>
            <a:off x="4114800" y="4861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40"/>
          <p:cNvSpPr/>
          <p:nvPr/>
        </p:nvSpPr>
        <p:spPr>
          <a:xfrm>
            <a:off x="4114800" y="600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45"/>
          <p:cNvSpPr/>
          <p:nvPr/>
        </p:nvSpPr>
        <p:spPr>
          <a:xfrm>
            <a:off x="45720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AF33943-6769-474B-A7D5-580BE10869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800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in 1996 were 90% of base year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in 2000 were 100% of base year orders (by definition, since 2000 is the base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in 2003 were 120% of base year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dex Numbers: Interpret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380880" y="2133720"/>
                <a:ext cx="4114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9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96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80880" y="3505320"/>
                <a:ext cx="42595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80880" y="4724280"/>
                <a:ext cx="42595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153D91F-0B31-489E-8C40-7FF56337EC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632448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ggregate Price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ggregate 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measure the rate of change from a base period for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oup of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429000" y="2590920"/>
            <a:ext cx="2133720" cy="825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295280" y="396252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weigh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5257800" y="3962520"/>
            <a:ext cx="20574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igh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894120" y="5638680"/>
            <a:ext cx="2195280" cy="4597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a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6484680" y="5638680"/>
            <a:ext cx="2416320" cy="4597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spey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2209680" y="373392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2209680" y="373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4952880" y="541008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4952880" y="5410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7696080" y="5410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86560A0-7C9D-4A42-B570-AE5531279F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nweighted Aggregate Price Inde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143000" y="16765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eighted aggregate price index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"/>
              <p:cNvSpPr txBox="1"/>
              <p:nvPr/>
            </p:nvSpPr>
            <p:spPr>
              <a:xfrm>
                <a:off x="2652840" y="2733840"/>
                <a:ext cx="33796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6"/>
          <p:cNvSpPr/>
          <p:nvPr/>
        </p:nvSpPr>
        <p:spPr>
          <a:xfrm>
            <a:off x="9907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nweighted aggregate price index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um of the prices for the group of items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um of the prices for the group of items in the bas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F69AC8B-6D6F-4B80-B24E-178771D12C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047760" y="5714640"/>
            <a:ext cx="5181480" cy="6858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expenses in 2004 were 18.8% higher in 2004 than in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8305920" cy="2895480"/>
        </p:xfrm>
        <a:graphic>
          <a:graphicData uri="http://schemas.openxmlformats.org/drawingml/2006/table">
            <a:tbl>
              <a:tblPr/>
              <a:tblGrid>
                <a:gridCol w="934920"/>
                <a:gridCol w="1884600"/>
                <a:gridCol w="1143000"/>
                <a:gridCol w="1371600"/>
                <a:gridCol w="1131840"/>
                <a:gridCol w="18399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obile Expens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Amounts ($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se pa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dex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001=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nweighted Aggregate Price Index Exampl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01"/>
              <p:cNvSpPr txBox="1"/>
              <p:nvPr/>
            </p:nvSpPr>
            <p:spPr>
              <a:xfrm>
                <a:off x="2727360" y="4572000"/>
                <a:ext cx="57294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04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01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6" name="Picture 306" descr="TN00554_[1]"/>
          <p:cNvPicPr/>
          <p:nvPr/>
        </p:nvPicPr>
        <p:blipFill>
          <a:blip r:embed="rId1"/>
          <a:stretch/>
        </p:blipFill>
        <p:spPr>
          <a:xfrm>
            <a:off x="152280" y="5167440"/>
            <a:ext cx="205920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BF22814-9C78-437D-8D44-77F3B1FDB6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Weighted Aggregate Price Index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85800" y="167652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sch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650880" y="2362320"/>
                <a:ext cx="37656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5"/>
          <p:cNvSpPr/>
          <p:nvPr/>
        </p:nvSpPr>
        <p:spPr>
          <a:xfrm>
            <a:off x="152280" y="4495680"/>
            <a:ext cx="8839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weighting percentage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weighting percentage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as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 algn="ctr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ice in time perio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 algn="ctr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ice in the bas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4834080" y="2362320"/>
                <a:ext cx="38512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7"/>
          <p:cNvSpPr/>
          <p:nvPr/>
        </p:nvSpPr>
        <p:spPr>
          <a:xfrm>
            <a:off x="4876920" y="16765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peyres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762120" y="4495680"/>
            <a:ext cx="35049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5029200" y="4495680"/>
            <a:ext cx="3581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2F28AA8-A918-49DF-B194-EA277F1A792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538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lement basic forecas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mponents present in a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basic ind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oothing-based forecasting models, including single and doub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rend-based forecasting models, including linear trend, nonlinear trend, and seasonally adjusted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822C5EBB-31B2-4533-BE61-8D9FC1505D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monly Used Index Numbe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Ind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 Jones Industrial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&amp;P 500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DAQ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BE530B9-CA9E-4B84-B337-4DBC4673746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flating a Time Ser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values can be adjusted to base year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niform comparison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lation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3048120" y="3733920"/>
                <a:ext cx="26589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6"/>
          <p:cNvSpPr/>
          <p:nvPr/>
        </p:nvSpPr>
        <p:spPr>
          <a:xfrm>
            <a:off x="1676520" y="4724280"/>
            <a:ext cx="62481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djusted time series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alue of the time series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ndex (such as CPI)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7"/>
              <p:cNvSpPr txBox="1"/>
              <p:nvPr/>
            </p:nvSpPr>
            <p:spPr>
              <a:xfrm>
                <a:off x="1981080" y="5181480"/>
                <a:ext cx="506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6FF54DE-FE83-4656-9C3C-CA9FC4F52B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flating a Time Seri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28440" y="152388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ovie made more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real term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438280" y="2590920"/>
          <a:ext cx="4411800" cy="2638440"/>
        </p:xfrm>
        <a:graphic>
          <a:graphicData uri="http://schemas.openxmlformats.org/drawingml/2006/table">
            <a:tbl>
              <a:tblPr/>
              <a:tblGrid>
                <a:gridCol w="1195560"/>
                <a:gridCol w="1838160"/>
                <a:gridCol w="1378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ross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 With the W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 W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</a:tbl>
          </a:graphicData>
        </a:graphic>
      </p:graphicFrame>
      <p:sp>
        <p:nvSpPr>
          <p:cNvPr id="323" name="Rectangle 41"/>
          <p:cNvSpPr/>
          <p:nvPr/>
        </p:nvSpPr>
        <p:spPr>
          <a:xfrm>
            <a:off x="1447920" y="56386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tal Gross $ = Total domestic gross ticket receipts in $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5" descr="EN00439_[1]"/>
          <p:cNvPicPr/>
          <p:nvPr/>
        </p:nvPicPr>
        <p:blipFill>
          <a:blip r:embed="rId1"/>
          <a:stretch/>
        </p:blipFill>
        <p:spPr>
          <a:xfrm>
            <a:off x="228600" y="4800600"/>
            <a:ext cx="12351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65F310E6-F3CC-41F7-AE11-1EC7B3BC9A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flating a Time Seri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4120" y="5028840"/>
            <a:ext cx="35812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TW made about twice as much as Star Wars, and about 4 times as much as Titanic when measured in equivalent dol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1143000" y="5029200"/>
                <a:ext cx="3986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WT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38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80880" y="2057400"/>
          <a:ext cx="8382240" cy="2638440"/>
        </p:xfrm>
        <a:graphic>
          <a:graphicData uri="http://schemas.openxmlformats.org/drawingml/2006/table">
            <a:tbl>
              <a:tblPr/>
              <a:tblGrid>
                <a:gridCol w="1195560"/>
                <a:gridCol w="1838160"/>
                <a:gridCol w="1378080"/>
                <a:gridCol w="2023920"/>
                <a:gridCol w="194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ro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se year = 19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adjusted to 1984 doll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 With the W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 W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</a:tbl>
          </a:graphicData>
        </a:graphic>
      </p:graphicFrame>
      <p:sp>
        <p:nvSpPr>
          <p:cNvPr id="332" name="Line 75"/>
          <p:cNvSpPr/>
          <p:nvPr/>
        </p:nvSpPr>
        <p:spPr>
          <a:xfrm>
            <a:off x="7772400" y="4724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98" descr="EN00439_[1]"/>
          <p:cNvPicPr/>
          <p:nvPr/>
        </p:nvPicPr>
        <p:blipFill>
          <a:blip r:embed="rId1"/>
          <a:stretch/>
        </p:blipFill>
        <p:spPr>
          <a:xfrm>
            <a:off x="76320" y="5257800"/>
            <a:ext cx="988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61B1C0D-BE3D-4C63-BA47-2D2A19561B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-Base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7000"/>
          </a:bodyPr>
          <a:p>
            <a:pPr marL="279000" indent="-279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 trend line using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66680" y="2514600"/>
          <a:ext cx="3200400" cy="373068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1066680"/>
              </a:tblGrid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9" name="Object 19"/>
              <p:cNvSpPr txBox="1"/>
              <p:nvPr/>
            </p:nvSpPr>
            <p:spPr>
              <a:xfrm>
                <a:off x="5181480" y="3657600"/>
                <a:ext cx="266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23"/>
          <p:cNvSpPr/>
          <p:nvPr/>
        </p:nvSpPr>
        <p:spPr>
          <a:xfrm>
            <a:off x="4572000" y="2362320"/>
            <a:ext cx="4343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ime 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independent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9734EE8-AE96-4D87-955A-3C757E4CEF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-Base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ar trend mode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3397320" y="3048120"/>
          <a:ext cx="5746680" cy="33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3048120"/>
                    <a:ext cx="574668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28600" y="2057400"/>
          <a:ext cx="3200400" cy="391320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10666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8" name="Object 45"/>
              <p:cNvSpPr txBox="1"/>
              <p:nvPr/>
            </p:nvSpPr>
            <p:spPr>
              <a:xfrm>
                <a:off x="4572000" y="2209680"/>
                <a:ext cx="3638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Text Box 46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4C93A7A-8E4B-4E69-92F3-7AC852756F2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-Base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28640" y="1523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for time period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4"/>
          <p:cNvGraphicFramePr/>
          <p:nvPr/>
        </p:nvGraphicFramePr>
        <p:xfrm>
          <a:off x="3276720" y="2971800"/>
          <a:ext cx="571500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57150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28600" y="2057400"/>
          <a:ext cx="2895480" cy="3657600"/>
        </p:xfrm>
        <a:graphic>
          <a:graphicData uri="http://schemas.openxmlformats.org/drawingml/2006/table">
            <a:tbl>
              <a:tblPr/>
              <a:tblGrid>
                <a:gridCol w="826920"/>
                <a:gridCol w="1103400"/>
                <a:gridCol w="965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57" name="Text Box 20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3"/>
          <p:cNvSpPr/>
          <p:nvPr/>
        </p:nvSpPr>
        <p:spPr>
          <a:xfrm>
            <a:off x="8096400" y="3746520"/>
            <a:ext cx="674640" cy="230040"/>
          </a:xfrm>
          <a:custGeom>
            <a:avLst/>
            <a:gdLst/>
            <a:ahLst/>
            <a:rect l="l" t="t" r="r" b="b"/>
            <a:pathLst>
              <a:path w="425" h="145">
                <a:moveTo>
                  <a:pt x="0" y="145"/>
                </a:moveTo>
                <a:lnTo>
                  <a:pt x="425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>
            <a:off x="868680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6"/>
          <p:cNvSpPr/>
          <p:nvPr/>
        </p:nvSpPr>
        <p:spPr>
          <a:xfrm>
            <a:off x="7467480" y="1752480"/>
            <a:ext cx="609840" cy="538200"/>
          </a:xfrm>
          <a:custGeom>
            <a:avLst/>
            <a:gdLst/>
            <a:ahLst/>
            <a:rect l="l" t="t" r="r" b="b"/>
            <a:pathLst>
              <a:path w="384" h="339">
                <a:moveTo>
                  <a:pt x="0" y="0"/>
                </a:moveTo>
                <a:lnTo>
                  <a:pt x="384" y="0"/>
                </a:lnTo>
                <a:lnTo>
                  <a:pt x="383" y="339"/>
                </a:ln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5638680" y="312408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9"/>
              <p:cNvSpPr txBox="1"/>
              <p:nvPr/>
            </p:nvSpPr>
            <p:spPr>
              <a:xfrm>
                <a:off x="4419720" y="2286000"/>
                <a:ext cx="39891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14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Freeform 28"/>
          <p:cNvSpPr/>
          <p:nvPr/>
        </p:nvSpPr>
        <p:spPr>
          <a:xfrm>
            <a:off x="4075200" y="3755880"/>
            <a:ext cx="4687920" cy="1806840"/>
          </a:xfrm>
          <a:custGeom>
            <a:avLst/>
            <a:gdLst/>
            <a:ahLst/>
            <a:rect l="l" t="t" r="r" b="b"/>
            <a:pathLst>
              <a:path w="2953" h="1138">
                <a:moveTo>
                  <a:pt x="2953" y="1138"/>
                </a:moveTo>
                <a:lnTo>
                  <a:pt x="2953" y="0"/>
                </a:lnTo>
                <a:lnTo>
                  <a:pt x="0" y="7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0"/>
          <p:cNvSpPr/>
          <p:nvPr/>
        </p:nvSpPr>
        <p:spPr>
          <a:xfrm>
            <a:off x="5029200" y="2819520"/>
            <a:ext cx="114300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76A6338-7FF3-4435-9F34-40AF6CD175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mparing Forecast Values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o Actual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recast 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s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fference between the actual value in time t and the forecast value in time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in time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3048120" y="4114800"/>
                <a:ext cx="29779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821DEDE-67CF-45C0-8D53-334FD954DA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2286000" y="4419720"/>
            <a:ext cx="5486400" cy="609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286000" y="2971800"/>
            <a:ext cx="4800600" cy="609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common Measures of Fi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fit are used to gauge how well the forecasts match the act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E   (mean squared err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qu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ce betwee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  (mean absolute dev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bsolute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ifference betwee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ensitive to extrem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46D7216-8998-4124-A1AC-A3BD15C744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SE vs. MAD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Squar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92200" y="2362320"/>
                <a:ext cx="369396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5"/>
              <p:cNvSpPr txBox="1"/>
              <p:nvPr/>
            </p:nvSpPr>
            <p:spPr>
              <a:xfrm>
                <a:off x="5181480" y="2362320"/>
                <a:ext cx="3581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Rectangle 6"/>
          <p:cNvSpPr/>
          <p:nvPr/>
        </p:nvSpPr>
        <p:spPr>
          <a:xfrm>
            <a:off x="2057400" y="4419720"/>
            <a:ext cx="5410080" cy="17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ual value at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edicted value at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 = Number of time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510552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bsolute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592A659-8CD2-435A-87EC-CAE07356FC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Importance of Forecasting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s forecast unemployment, interest rates, and expected revenues from income taxes for policy purpo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executives forecast demand, sales, and consumer preferences for strategic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ge administrators forecast enrollments to plan for facilities and for faculty recrui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l stores forecast demand to control inventory levels, hire employees and provid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A77053D1-5B2A-467A-B67E-F9F597DA72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"/>
          <p:cNvSpPr/>
          <p:nvPr/>
        </p:nvSpPr>
        <p:spPr>
          <a:xfrm>
            <a:off x="4800600" y="3352680"/>
            <a:ext cx="2166840" cy="1122480"/>
          </a:xfrm>
          <a:custGeom>
            <a:avLst/>
            <a:gdLst/>
            <a:ahLst/>
            <a:rect l="l" t="t" r="r" b="b"/>
            <a:pathLst>
              <a:path w="1566" h="852">
                <a:moveTo>
                  <a:pt x="0" y="486"/>
                </a:moveTo>
                <a:lnTo>
                  <a:pt x="318" y="64"/>
                </a:lnTo>
                <a:lnTo>
                  <a:pt x="626" y="852"/>
                </a:lnTo>
                <a:lnTo>
                  <a:pt x="952" y="424"/>
                </a:lnTo>
                <a:lnTo>
                  <a:pt x="1264" y="0"/>
                </a:lnTo>
                <a:lnTo>
                  <a:pt x="1566" y="592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uto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utocorrelation is correlation of the error terms (residuals)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62120" y="54100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es the regression assumption that residuals are random and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"/>
          <p:cNvGraphicFramePr/>
          <p:nvPr/>
        </p:nvGraphicFramePr>
        <p:xfrm>
          <a:off x="3429000" y="2362320"/>
          <a:ext cx="4648320" cy="297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464832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10"/>
          <p:cNvSpPr/>
          <p:nvPr/>
        </p:nvSpPr>
        <p:spPr>
          <a:xfrm>
            <a:off x="380880" y="342900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residuals show a cyclic pattern, no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6CC59AF-B035-4D7C-B7E5-738D8C7360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esting for Auto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urbin-Watson 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test for auto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2666880"/>
            <a:ext cx="6019560" cy="9500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  (residuals are not correl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 0    (autocorrelation is pres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2514600" y="3809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bin-Watson test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200400" y="4419720"/>
                <a:ext cx="251460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F74D458-27BC-4C8A-86D9-4702BAC459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esting for Positive Autocorre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85800" y="2743200"/>
            <a:ext cx="79246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Durbin-Watson test statistic =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Durbin-Watson Statistic can be found using PHStat or Minit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80880" y="4495680"/>
            <a:ext cx="4572000" cy="510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rule: 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d &lt;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219320" y="1600200"/>
            <a:ext cx="7162560" cy="11167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  (positive autocorrelation does not exi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0    (positive autocorrelation is pres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1"/>
          <p:cNvSpPr/>
          <p:nvPr/>
        </p:nvSpPr>
        <p:spPr>
          <a:xfrm>
            <a:off x="1600200" y="548640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16002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36576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58672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807732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792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5715000" y="5715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79246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429000" y="5715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2057400" y="5105520"/>
            <a:ext cx="10666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6172200" y="5105520"/>
            <a:ext cx="17524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685800" y="3657600"/>
            <a:ext cx="792468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values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Durbin-Wats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sample size n and number of independent variables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4038480" y="5105520"/>
            <a:ext cx="1371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279FF84-0912-4EB8-B5E7-56F67FEA41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7"/>
          <p:cNvSpPr/>
          <p:nvPr/>
        </p:nvSpPr>
        <p:spPr>
          <a:xfrm>
            <a:off x="3657600" y="47242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with  n = 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80880" y="2666880"/>
          <a:ext cx="3733920" cy="207324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</a:tblGrid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bin-Watson Calc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d Difference of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d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bin-Watson Stat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Object 69"/>
          <p:cNvGraphicFramePr/>
          <p:nvPr/>
        </p:nvGraphicFramePr>
        <p:xfrm>
          <a:off x="4038480" y="144792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44792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esting for Positive Autocorre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Text Box 71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2"/>
          <p:cNvSpPr/>
          <p:nvPr/>
        </p:nvSpPr>
        <p:spPr>
          <a:xfrm>
            <a:off x="30492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/PHStat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74"/>
              <p:cNvSpPr txBox="1"/>
              <p:nvPr/>
            </p:nvSpPr>
            <p:spPr>
              <a:xfrm>
                <a:off x="2286000" y="5029200"/>
                <a:ext cx="44337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5FE1423-74F2-4976-A6F8-EB95361AEAA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2971800" y="51055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837720" y="15998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n = 25 and there is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Durbin-Watson table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2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 = 1.00494 &lt; 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29, 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lude that significant positive autocorrelation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linear model is not the appropriate model to forecas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esting for Positive Autocorre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1143000" y="4267080"/>
            <a:ext cx="3276720" cy="946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1.00494 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>
            <a:off x="1600200" y="55627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>
            <a:off x="160020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>
            <a:off x="365760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>
            <a:off x="586728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807732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9"/>
          <p:cNvSpPr/>
          <p:nvPr/>
        </p:nvSpPr>
        <p:spPr>
          <a:xfrm>
            <a:off x="144792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0"/>
          <p:cNvSpPr/>
          <p:nvPr/>
        </p:nvSpPr>
        <p:spPr>
          <a:xfrm>
            <a:off x="5334120" y="586728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7924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3124080" y="586728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2057400" y="5597640"/>
            <a:ext cx="10666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6172200" y="5597640"/>
            <a:ext cx="175248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4038480" y="5597640"/>
            <a:ext cx="1371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A5237F9-5F69-4237-BBFC-E0B90523CC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nlinear Trend Foreca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linear regression model can be used when the time series exhibits a nonlinear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orm of a nonlinear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that of linear model to see if this is an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try other functional forms to get be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340000" y="3352680"/>
                <a:ext cx="39988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451F185-4344-4344-A3C6-EB968C8DF5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ultiplicative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-Series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fo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onsideration of season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value in time series is the product of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600200" y="4572000"/>
            <a:ext cx="66294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end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easonal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yclical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Irregular (random) valu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2133720" y="3581280"/>
                <a:ext cx="46479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7525F30-36A3-4407-81F1-2341937A0E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838080" y="5181480"/>
            <a:ext cx="7086600" cy="9144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atio-to-moving average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by removing the seasonal and irregular components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leaving the trend and cyclical components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is, we ne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ving a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Average:  averages of consec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EF2598E-A555-409B-A8AC-1F5A35B6703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arithmetic mean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dependent upon choice of L (length of period for comput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mooth out seasonal variation, L  should be equal to the number of s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quarterly data, L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nthly data, L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A7DAEBB2-3BEE-4D5C-AD56-C168502740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r-quarter moving 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22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ave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7"/>
              <p:cNvSpPr txBox="1"/>
              <p:nvPr/>
            </p:nvSpPr>
            <p:spPr>
              <a:xfrm>
                <a:off x="2362320" y="2743200"/>
                <a:ext cx="48466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ving averag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8"/>
              <p:cNvSpPr txBox="1"/>
              <p:nvPr/>
            </p:nvSpPr>
            <p:spPr>
              <a:xfrm>
                <a:off x="2395440" y="4572000"/>
                <a:ext cx="4919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ving averag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B88F2CB-5A9F-4838-905A-0007C9D421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600200" y="4267080"/>
            <a:ext cx="685800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600200" y="4800600"/>
            <a:ext cx="68580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-Series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data obtained at regular tim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intervals can be annually, quarterly, daily, hourl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 2000  2001  2002 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5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74.2   78.5   79.7   8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8329DAD-A2A9-473C-B9CB-AAFD50A52B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ason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57200" y="1828800"/>
          <a:ext cx="2057400" cy="440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1" name="Object 121"/>
          <p:cNvGraphicFramePr/>
          <p:nvPr/>
        </p:nvGraphicFramePr>
        <p:xfrm>
          <a:off x="2895480" y="1752480"/>
          <a:ext cx="589608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2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58960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534520" y="281916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7"/>
          <p:cNvSpPr/>
          <p:nvPr/>
        </p:nvSpPr>
        <p:spPr>
          <a:xfrm>
            <a:off x="8534520" y="4191120"/>
            <a:ext cx="457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D0991472-75BE-4846-AA39-042AC3F47F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123720" y="571464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oving average is for a consecutive block of 4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57200" y="2057400"/>
          <a:ext cx="2133720" cy="43894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3505320" y="1600200"/>
          <a:ext cx="2514600" cy="384012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Quarter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91" name="Rectangle 72"/>
          <p:cNvSpPr/>
          <p:nvPr/>
        </p:nvSpPr>
        <p:spPr>
          <a:xfrm>
            <a:off x="533520" y="2438280"/>
            <a:ext cx="2209680" cy="1371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3"/>
          <p:cNvSpPr/>
          <p:nvPr/>
        </p:nvSpPr>
        <p:spPr>
          <a:xfrm>
            <a:off x="685800" y="2819520"/>
            <a:ext cx="22096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4"/>
          <p:cNvSpPr/>
          <p:nvPr/>
        </p:nvSpPr>
        <p:spPr>
          <a:xfrm>
            <a:off x="838080" y="3200400"/>
            <a:ext cx="2210040" cy="1371600"/>
          </a:xfrm>
          <a:prstGeom prst="rect">
            <a:avLst/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5"/>
          <p:cNvSpPr/>
          <p:nvPr/>
        </p:nvSpPr>
        <p:spPr>
          <a:xfrm>
            <a:off x="2743200" y="266688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76"/>
          <p:cNvSpPr/>
          <p:nvPr/>
        </p:nvSpPr>
        <p:spPr>
          <a:xfrm>
            <a:off x="2895480" y="30481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7"/>
          <p:cNvSpPr/>
          <p:nvPr/>
        </p:nvSpPr>
        <p:spPr>
          <a:xfrm>
            <a:off x="3048120" y="3429000"/>
            <a:ext cx="106668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78"/>
              <p:cNvSpPr txBox="1"/>
              <p:nvPr/>
            </p:nvSpPr>
            <p:spPr>
              <a:xfrm>
                <a:off x="6629400" y="2362320"/>
                <a:ext cx="18241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Line 79"/>
          <p:cNvSpPr/>
          <p:nvPr/>
        </p:nvSpPr>
        <p:spPr>
          <a:xfrm>
            <a:off x="6019920" y="26668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0"/>
          <p:cNvSpPr/>
          <p:nvPr/>
        </p:nvSpPr>
        <p:spPr>
          <a:xfrm>
            <a:off x="4114800" y="2514600"/>
            <a:ext cx="19051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81"/>
              <p:cNvSpPr txBox="1"/>
              <p:nvPr/>
            </p:nvSpPr>
            <p:spPr>
              <a:xfrm>
                <a:off x="6324480" y="3200400"/>
                <a:ext cx="2667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Rectangle 82"/>
          <p:cNvSpPr/>
          <p:nvPr/>
        </p:nvSpPr>
        <p:spPr>
          <a:xfrm>
            <a:off x="6248520" y="2133720"/>
            <a:ext cx="2743200" cy="1981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3"/>
          <p:cNvSpPr/>
          <p:nvPr/>
        </p:nvSpPr>
        <p:spPr>
          <a:xfrm>
            <a:off x="266688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9F8522D-80F1-4996-BE54-0E929A5E70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entered Moving Averag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eriods of 2.5 or 3.5 don’t match the original quarters, so we average two consecutive moving averages to get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entered moving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447920" y="2590920"/>
          <a:ext cx="2514600" cy="384012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Quarter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4572000" y="2625840"/>
          <a:ext cx="2514600" cy="347508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09" name="Rectangle 130"/>
          <p:cNvSpPr/>
          <p:nvPr/>
        </p:nvSpPr>
        <p:spPr>
          <a:xfrm>
            <a:off x="1676520" y="3505320"/>
            <a:ext cx="24382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31"/>
          <p:cNvSpPr/>
          <p:nvPr/>
        </p:nvSpPr>
        <p:spPr>
          <a:xfrm>
            <a:off x="1828800" y="3886200"/>
            <a:ext cx="24382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32"/>
          <p:cNvSpPr/>
          <p:nvPr/>
        </p:nvSpPr>
        <p:spPr>
          <a:xfrm>
            <a:off x="4114800" y="3733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33"/>
          <p:cNvSpPr/>
          <p:nvPr/>
        </p:nvSpPr>
        <p:spPr>
          <a:xfrm>
            <a:off x="4267080" y="41148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5"/>
          <p:cNvSpPr/>
          <p:nvPr/>
        </p:nvSpPr>
        <p:spPr>
          <a:xfrm>
            <a:off x="39625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446AF0A9-E276-46F9-AEAF-40619EBDAC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Ratio-to-Moving Avera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estimate the 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actual sales value by the centered moving average for tha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-to-Moving Averag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4"/>
              <p:cNvSpPr txBox="1"/>
              <p:nvPr/>
            </p:nvSpPr>
            <p:spPr>
              <a:xfrm>
                <a:off x="2895480" y="4267080"/>
                <a:ext cx="332748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E74F2905-01CC-446C-9E85-7BD82D19CE8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533520" y="1600200"/>
          <a:ext cx="4952880" cy="495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447560"/>
                <a:gridCol w="14479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-to-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3" name="Rectangle 27"/>
          <p:cNvSpPr/>
          <p:nvPr/>
        </p:nvSpPr>
        <p:spPr>
          <a:xfrm>
            <a:off x="1828800" y="3276720"/>
            <a:ext cx="3352680" cy="304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181480" y="342900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41"/>
              <p:cNvSpPr txBox="1"/>
              <p:nvPr/>
            </p:nvSpPr>
            <p:spPr>
              <a:xfrm>
                <a:off x="6248520" y="2971800"/>
                <a:ext cx="2209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7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1A72FAD-B3D9-4C12-AA95-0775E26BE0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09480" y="1600200"/>
          <a:ext cx="4876920" cy="4956120"/>
        </p:xfrm>
        <a:graphic>
          <a:graphicData uri="http://schemas.openxmlformats.org/drawingml/2006/table">
            <a:tbl>
              <a:tblPr/>
              <a:tblGrid>
                <a:gridCol w="1067040"/>
                <a:gridCol w="914400"/>
                <a:gridCol w="1447560"/>
                <a:gridCol w="14479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-to-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30" name="Rectangle 177"/>
          <p:cNvSpPr/>
          <p:nvPr/>
        </p:nvSpPr>
        <p:spPr>
          <a:xfrm>
            <a:off x="4419720" y="3276720"/>
            <a:ext cx="761760" cy="304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8"/>
          <p:cNvSpPr/>
          <p:nvPr/>
        </p:nvSpPr>
        <p:spPr>
          <a:xfrm>
            <a:off x="4419720" y="4572000"/>
            <a:ext cx="761760" cy="304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79"/>
          <p:cNvSpPr/>
          <p:nvPr/>
        </p:nvSpPr>
        <p:spPr>
          <a:xfrm>
            <a:off x="4419720" y="5943600"/>
            <a:ext cx="761760" cy="304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87"/>
          <p:cNvSpPr/>
          <p:nvPr/>
        </p:nvSpPr>
        <p:spPr>
          <a:xfrm>
            <a:off x="5943600" y="2819520"/>
            <a:ext cx="2971800" cy="15570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ll of the Fall values to get Fall’s seasonal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9"/>
          <p:cNvSpPr/>
          <p:nvPr/>
        </p:nvSpPr>
        <p:spPr>
          <a:xfrm>
            <a:off x="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90"/>
          <p:cNvSpPr/>
          <p:nvPr/>
        </p:nvSpPr>
        <p:spPr>
          <a:xfrm>
            <a:off x="0" y="44798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1"/>
          <p:cNvSpPr/>
          <p:nvPr/>
        </p:nvSpPr>
        <p:spPr>
          <a:xfrm>
            <a:off x="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2"/>
          <p:cNvSpPr/>
          <p:nvPr/>
        </p:nvSpPr>
        <p:spPr>
          <a:xfrm>
            <a:off x="533520" y="34290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93"/>
          <p:cNvSpPr/>
          <p:nvPr/>
        </p:nvSpPr>
        <p:spPr>
          <a:xfrm>
            <a:off x="533520" y="47242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94"/>
          <p:cNvSpPr/>
          <p:nvPr/>
        </p:nvSpPr>
        <p:spPr>
          <a:xfrm>
            <a:off x="533520" y="601992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95"/>
          <p:cNvSpPr/>
          <p:nvPr/>
        </p:nvSpPr>
        <p:spPr>
          <a:xfrm>
            <a:off x="5943600" y="4648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for the other three seasons to get the other seasonal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96"/>
          <p:cNvSpPr/>
          <p:nvPr/>
        </p:nvSpPr>
        <p:spPr>
          <a:xfrm>
            <a:off x="5181480" y="34290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97"/>
          <p:cNvSpPr/>
          <p:nvPr/>
        </p:nvSpPr>
        <p:spPr>
          <a:xfrm flipV="1">
            <a:off x="5181480" y="36572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98"/>
          <p:cNvSpPr/>
          <p:nvPr/>
        </p:nvSpPr>
        <p:spPr>
          <a:xfrm flipV="1">
            <a:off x="5181480" y="3886200"/>
            <a:ext cx="7621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1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9FC6D0D1-B2F9-4D66-8D08-344CF3339EC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ing Seasonal Index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get these seasonal index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3520" y="2422440"/>
          <a:ext cx="3200400" cy="3530520"/>
        </p:xfrm>
        <a:graphic>
          <a:graphicData uri="http://schemas.openxmlformats.org/drawingml/2006/table">
            <a:tbl>
              <a:tblPr/>
              <a:tblGrid>
                <a:gridCol w="167616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al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50" name="Text Box 36"/>
          <p:cNvSpPr/>
          <p:nvPr/>
        </p:nvSpPr>
        <p:spPr>
          <a:xfrm>
            <a:off x="2286000" y="6004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000  -- four seasons, so must sum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7"/>
          <p:cNvSpPr/>
          <p:nvPr/>
        </p:nvSpPr>
        <p:spPr>
          <a:xfrm>
            <a:off x="3733920" y="348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8"/>
          <p:cNvSpPr/>
          <p:nvPr/>
        </p:nvSpPr>
        <p:spPr>
          <a:xfrm>
            <a:off x="3733920" y="4251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9"/>
          <p:cNvSpPr/>
          <p:nvPr/>
        </p:nvSpPr>
        <p:spPr>
          <a:xfrm>
            <a:off x="4419720" y="3108240"/>
            <a:ext cx="4267080" cy="703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sales average 82.5% of the annual average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0"/>
          <p:cNvSpPr/>
          <p:nvPr/>
        </p:nvSpPr>
        <p:spPr>
          <a:xfrm>
            <a:off x="4419720" y="3946680"/>
            <a:ext cx="4267080" cy="703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 sales are 31.0% higher than the annual average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1"/>
          <p:cNvSpPr/>
          <p:nvPr/>
        </p:nvSpPr>
        <p:spPr>
          <a:xfrm>
            <a:off x="4419720" y="4861080"/>
            <a:ext cx="83808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3"/>
          <p:cNvSpPr/>
          <p:nvPr/>
        </p:nvSpPr>
        <p:spPr>
          <a:xfrm>
            <a:off x="4419720" y="24382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12191C0-E0F8-4C2D-A031-7C6EE9D02A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easonaliz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is deseasonalized by dividing the observed value by its seasonal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2603520" y="2743200"/>
                <a:ext cx="33274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5"/>
          <p:cNvSpPr/>
          <p:nvPr/>
        </p:nvSpPr>
        <p:spPr>
          <a:xfrm>
            <a:off x="762120" y="457200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mooths the data by removing season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FB499518-0729-4AC5-9618-EBDE7DC220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easonaliz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33520" y="1600200"/>
          <a:ext cx="5410080" cy="46814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447560"/>
                <a:gridCol w="19051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al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asonalize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7" name="Object 32"/>
              <p:cNvSpPr txBox="1"/>
              <p:nvPr/>
            </p:nvSpPr>
            <p:spPr>
              <a:xfrm>
                <a:off x="6629400" y="2209680"/>
                <a:ext cx="1676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33"/>
          <p:cNvSpPr/>
          <p:nvPr/>
        </p:nvSpPr>
        <p:spPr>
          <a:xfrm>
            <a:off x="1752480" y="2286000"/>
            <a:ext cx="36576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4"/>
          <p:cNvSpPr/>
          <p:nvPr/>
        </p:nvSpPr>
        <p:spPr>
          <a:xfrm>
            <a:off x="5410080" y="25146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5"/>
          <p:cNvSpPr/>
          <p:nvPr/>
        </p:nvSpPr>
        <p:spPr>
          <a:xfrm>
            <a:off x="6629400" y="3124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6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87ED768-B890-404A-B490-22243C4C79E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nseasonalized vs. Seasonalized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75" name="Object 4"/>
          <p:cNvGraphicFramePr/>
          <p:nvPr/>
        </p:nvGraphicFramePr>
        <p:xfrm>
          <a:off x="838080" y="1581120"/>
          <a:ext cx="6681960" cy="45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81120"/>
                    <a:ext cx="668196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1346BD9B-16E3-4A7C-B584-E42038CDBB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 Series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tical axis measures the variable of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rizontal axis corresponds to the time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579840" y="3051000"/>
          <a:ext cx="529416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9840" y="3051000"/>
                    <a:ext cx="529416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5"/>
          <p:cNvSpPr/>
          <p:nvPr/>
        </p:nvSpPr>
        <p:spPr>
          <a:xfrm>
            <a:off x="1371600" y="1600200"/>
            <a:ext cx="7238880" cy="10688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me-series 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two-dimensional plot of time seri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2C8CCC85-EE0B-4C8D-A092-A897C7FB05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0"/>
          <p:cNvSpPr/>
          <p:nvPr/>
        </p:nvSpPr>
        <p:spPr>
          <a:xfrm>
            <a:off x="4343400" y="2971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1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orecasting Using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moothing Method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429000" y="182880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Smooth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371600" y="380988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486400" y="3809880"/>
            <a:ext cx="1828800" cy="1191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2286000" y="34290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22860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6400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2B39100-F66E-4E02-A369-45EDB054EB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ng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ing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decline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ent observation weighted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moothing and short term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36608BDB-DE16-4167-8511-24A3E6F1F3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ng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ighting facto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ly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from 0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more smoothing, larg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less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igh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o 0 for smoothing out unwanted cyclical and irregula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o 1 fo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4153F431-6F51-4F56-B0F2-86DB11E13F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Smoothing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990720" y="1523880"/>
            <a:ext cx="71625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exponential smooth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5"/>
              <p:cNvSpPr txBox="1"/>
              <p:nvPr/>
            </p:nvSpPr>
            <p:spPr>
              <a:xfrm>
                <a:off x="2179800" y="2133720"/>
                <a:ext cx="4593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6"/>
              <p:cNvSpPr txBox="1"/>
              <p:nvPr/>
            </p:nvSpPr>
            <p:spPr>
              <a:xfrm>
                <a:off x="2209680" y="3657600"/>
                <a:ext cx="45054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2" name="Rectangle 7"/>
          <p:cNvSpPr/>
          <p:nvPr/>
        </p:nvSpPr>
        <p:spPr>
          <a:xfrm>
            <a:off x="1523880" y="4724280"/>
            <a:ext cx="632484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orecast value for period t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ctual value for perio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orecast value for perio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lpha (smoothing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1372680" y="31240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1F2103D-13BE-455D-885F-8091EF4CE4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Smooth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use weigh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09480" y="2057400"/>
          <a:ext cx="6934320" cy="462744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447560"/>
                <a:gridCol w="32767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rter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y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 from prior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 for next period (F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+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8f8fc"/>
                    </a:solidFill>
                  </a:tcPr>
                </a:tc>
              </a:tr>
              <a:tr h="371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0)+(.8)(23)=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25)+(.8)(26.4)=26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27)+(.8)(26.12)=26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2)+(.8)(26.296)=27.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8)+(.8)(27.437)=31.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8)+(.8)(31.549)=31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3)+(.8)(31.840)=32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7)+(.8)(32.872)=33.6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50)+(.8)(33.697)=36.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9" name="Object 63"/>
              <p:cNvSpPr txBox="1"/>
              <p:nvPr/>
            </p:nvSpPr>
            <p:spPr>
              <a:xfrm>
                <a:off x="7696080" y="4495680"/>
                <a:ext cx="13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0" name="Text Box 105"/>
          <p:cNvSpPr/>
          <p:nvPr/>
        </p:nvSpPr>
        <p:spPr>
          <a:xfrm>
            <a:off x="7696080" y="2743200"/>
            <a:ext cx="14479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no prior information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6"/>
          <p:cNvSpPr/>
          <p:nvPr/>
        </p:nvSpPr>
        <p:spPr>
          <a:xfrm>
            <a:off x="609588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9BE8ACD8-7665-46C2-A8F9-4C3DE91A3D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les vs. Smoothed Sa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819520" cy="45720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fluctuations have been smoot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smoothed value in this case is generally a little low, since the trend is upward sloping and the weighting factor is only 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4"/>
          <p:cNvGraphicFramePr/>
          <p:nvPr/>
        </p:nvGraphicFramePr>
        <p:xfrm>
          <a:off x="3352680" y="2438280"/>
          <a:ext cx="5591160" cy="33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438280"/>
                    <a:ext cx="559116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58A20897-8525-4A54-9BD4-3868D91161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oub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uble exponential smoo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ometimes call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onential smoothing with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end exists, single exponential smoothing may need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smoothing 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ccount for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A055BC5-6E8A-4B5A-A8A1-F76A99F797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ouble Exponential Smoothing Model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609480" y="3657600"/>
            <a:ext cx="815364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actual value in time 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constant-process smoothing cons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trend-smoothing cons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smoothed constant-process value for period 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smoothed trend value for period 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forecast value for period t +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= current time peri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5"/>
              <p:cNvSpPr txBox="1"/>
              <p:nvPr/>
            </p:nvSpPr>
            <p:spPr>
              <a:xfrm>
                <a:off x="2133720" y="1600200"/>
                <a:ext cx="49528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6"/>
              <p:cNvSpPr txBox="1"/>
              <p:nvPr/>
            </p:nvSpPr>
            <p:spPr>
              <a:xfrm>
                <a:off x="2057400" y="2286000"/>
                <a:ext cx="5181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3352680" y="3124080"/>
                <a:ext cx="2122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3E093FA-34D7-4C80-9DC5-2A3099C812D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ouble Exponential Smooth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exponential smoothing is generally done by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oothing consta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moothing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m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oothing constan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moothing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0758E40E-2E19-4263-A7B3-883F0EA95A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onential Smoothing in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ols / data analysis 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smo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damping factor” is  (1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15-1"/>
          <p:cNvPicPr/>
          <p:nvPr/>
        </p:nvPicPr>
        <p:blipFill>
          <a:blip r:embed="rId1"/>
          <a:stretch/>
        </p:blipFill>
        <p:spPr>
          <a:xfrm>
            <a:off x="4800600" y="4191120"/>
            <a:ext cx="3800520" cy="2247840"/>
          </a:xfrm>
          <a:prstGeom prst="rect">
            <a:avLst/>
          </a:prstGeom>
          <a:ln w="0">
            <a:noFill/>
          </a:ln>
        </p:spPr>
      </p:pic>
      <p:sp>
        <p:nvSpPr>
          <p:cNvPr id="638" name="Freeform 7"/>
          <p:cNvSpPr/>
          <p:nvPr/>
        </p:nvSpPr>
        <p:spPr>
          <a:xfrm>
            <a:off x="2971800" y="4038480"/>
            <a:ext cx="1752480" cy="83844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0"/>
                </a:moveTo>
                <a:lnTo>
                  <a:pt x="0" y="432"/>
                </a:lnTo>
                <a:lnTo>
                  <a:pt x="1104" y="432"/>
                </a:ln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8"/>
          <p:cNvSpPr/>
          <p:nvPr/>
        </p:nvSpPr>
        <p:spPr>
          <a:xfrm>
            <a:off x="4724280" y="4724280"/>
            <a:ext cx="11430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8D3C564D-49FD-492E-AB08-1BC0B99CE5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ime-Series Compon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429000" y="1828800"/>
            <a:ext cx="2209680" cy="515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-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724280" y="2819520"/>
            <a:ext cx="190368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ic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934320" y="2819520"/>
            <a:ext cx="190476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04920" y="2819520"/>
            <a:ext cx="190476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2514600" y="2819520"/>
            <a:ext cx="1905120" cy="820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4572000" y="236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1295280" y="2590920"/>
            <a:ext cx="655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1295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342900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56386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8487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AF03984-61F4-4CC3-9173-AFBECBCEA5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importance of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component factors present in the time-serie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d and interpreted ind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least square trend fitting and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and nonlinear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smoothing of data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and double 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BD4DBFAB-B400-4D1C-B876-650B42E3FA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 rot="20940000">
            <a:off x="6783120" y="3827520"/>
            <a:ext cx="1904760" cy="39384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ward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run increase or decrease over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verall upward or downward mov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ken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1598760" y="4049640"/>
            <a:ext cx="0" cy="235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600200" y="6402240"/>
            <a:ext cx="547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09480" y="3813120"/>
            <a:ext cx="106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781680" y="63244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1600200" y="4262040"/>
            <a:ext cx="6000840" cy="1452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523880" y="4651200"/>
            <a:ext cx="1141560" cy="144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2828880" y="4737240"/>
            <a:ext cx="97956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3886200" y="4346640"/>
            <a:ext cx="1141560" cy="12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114880" y="4432320"/>
            <a:ext cx="979560" cy="9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6095880" y="3279600"/>
            <a:ext cx="1141560" cy="22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1446120" y="594504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2589120" y="449748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3732120" y="541188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4875120" y="419256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6018120" y="533556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7085160" y="312588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7D52C28D-F645-468E-ADC4-B3EE2F700A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914400" y="5791320"/>
            <a:ext cx="2743200" cy="39384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ward 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nd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 can be upward or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 can be linear or non-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914400" y="3581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914400" y="556272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5720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581280" y="5486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914400" y="3962520"/>
            <a:ext cx="2209680" cy="1523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990720" y="388620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1295280" y="4419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7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22860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1752480" y="46483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0"/>
          <p:cNvSpPr/>
          <p:nvPr/>
        </p:nvSpPr>
        <p:spPr>
          <a:xfrm>
            <a:off x="2971800" y="51814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5181480" y="5791320"/>
            <a:ext cx="2895840" cy="39384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ward non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181480" y="3581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181480" y="556272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472428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7848720" y="548640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7"/>
          <p:cNvSpPr/>
          <p:nvPr/>
        </p:nvSpPr>
        <p:spPr>
          <a:xfrm>
            <a:off x="5410080" y="51814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8"/>
          <p:cNvSpPr/>
          <p:nvPr/>
        </p:nvSpPr>
        <p:spPr>
          <a:xfrm>
            <a:off x="5562720" y="47242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9"/>
          <p:cNvSpPr/>
          <p:nvPr/>
        </p:nvSpPr>
        <p:spPr>
          <a:xfrm>
            <a:off x="6705720" y="41911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0"/>
          <p:cNvSpPr/>
          <p:nvPr/>
        </p:nvSpPr>
        <p:spPr>
          <a:xfrm>
            <a:off x="6248520" y="39625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1"/>
          <p:cNvSpPr/>
          <p:nvPr/>
        </p:nvSpPr>
        <p:spPr>
          <a:xfrm>
            <a:off x="6019920" y="44956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2"/>
          <p:cNvSpPr/>
          <p:nvPr/>
        </p:nvSpPr>
        <p:spPr>
          <a:xfrm>
            <a:off x="7086600" y="3809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3"/>
          <p:cNvSpPr/>
          <p:nvPr/>
        </p:nvSpPr>
        <p:spPr>
          <a:xfrm>
            <a:off x="7467480" y="4114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4"/>
          <p:cNvSpPr/>
          <p:nvPr/>
        </p:nvSpPr>
        <p:spPr>
          <a:xfrm>
            <a:off x="5486400" y="4038480"/>
            <a:ext cx="2286000" cy="1371600"/>
          </a:xfrm>
          <a:custGeom>
            <a:avLst/>
            <a:gdLst/>
            <a:ahLst/>
            <a:rect l="l" t="t" r="r" b="b"/>
            <a:pathLst>
              <a:path w="1440" h="864">
                <a:moveTo>
                  <a:pt x="0" y="864"/>
                </a:moveTo>
                <a:cubicBezTo>
                  <a:pt x="216" y="576"/>
                  <a:pt x="432" y="288"/>
                  <a:pt x="672" y="144"/>
                </a:cubicBezTo>
                <a:cubicBezTo>
                  <a:pt x="912" y="0"/>
                  <a:pt x="1176" y="0"/>
                  <a:pt x="144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7630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5-</a:t>
            </a:r>
            <a:fld id="{CEB01CDD-5485-48D4-99BC-C6145ABBE6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asonal Compon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hort-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ular wave-lik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withi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onthly or quart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1905120" y="3592440"/>
            <a:ext cx="0" cy="242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905120" y="6019920"/>
            <a:ext cx="556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915840" y="3430440"/>
            <a:ext cx="144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276720" y="6019920"/>
            <a:ext cx="449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(Quarter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1906560" y="4268520"/>
            <a:ext cx="1217520" cy="13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201840" y="4268880"/>
            <a:ext cx="1065240" cy="9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V="1">
            <a:off x="4272120" y="3962160"/>
            <a:ext cx="1060200" cy="121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5335560" y="3887640"/>
            <a:ext cx="106524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6478560" y="2972880"/>
            <a:ext cx="1065240" cy="205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1752480" y="5562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2971800" y="4114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40384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6324480" y="48769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7391520" y="28954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 rot="5400000">
            <a:off x="4647960" y="198108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667240" y="4724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810960" y="54975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4800960" y="44197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50680" y="54100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4191120" y="533376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5334120" y="41911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V="1">
            <a:off x="6477120" y="525744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user</cp:lastModifiedBy>
  <cp:lastPrinted>1998-11-22T23:37:53Z</cp:lastPrinted>
  <dcterms:modified xsi:type="dcterms:W3CDTF">2016-09-06T21:58:11Z</dcterms:modified>
  <cp:revision>84</cp:revision>
  <dc:subject>Chapter 15</dc:subject>
  <dc:title>Business Statistics: A Decision-Making Approach, 6th edition</dc:title>
</cp:coreProperties>
</file>