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C5CB-2543-44AA-B7A3-801B79B05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6502-09D5-441D-B063-2362B7CDC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218FB-DF4B-43EE-ADB7-CFF27EDD9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6488-096F-4932-A519-86A25CB2E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C184E-E24D-4E9F-A7BB-6B05203E0F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5917D-5291-46D7-B210-EEEA898B55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6E490-9D18-4A0D-A4D2-BEFEAE3480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83A65-7553-484D-B1B0-E1ECE172E4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07F78-197F-4575-B938-27E72BE00B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8A36E-9E1A-4966-8F42-082EBFD012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FBEC8-F212-47B0-8577-F845847DC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E54D-E8BE-4BFB-B64A-638DF04B5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AB715-170E-4CA4-8D02-49B71324D9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6E918-9697-41B7-A88B-9A2D87FC3D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F626C-97A2-4C4E-8006-8E6218459A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279C1-15F7-464B-ACC7-2FEAF96FA0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7988B-21EA-45F3-9260-FAB638BD7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3629-6DFA-498E-BB26-4C6E56FCB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2D26-F189-4044-8596-E75F4D051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A433-A1E5-4E3B-8595-B2F61E2A3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2EDA-E9F5-4FC5-AE67-27CA6735E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C9EB-DFBB-46D9-B25E-7F4EE8598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E605-05CA-476D-97F2-C5AA129E5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7CB4-E8FB-4E8E-B386-82B7964C6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70D25773-D74C-406F-AB71-D69E42AB5CE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DE2A2BB4-F263-4A22-B091-088FCA9C411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B39E081D-78C3-4774-83F3-2D0499F59EA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alyzing and Forecast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me-Series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C37E6138-9AC2-4BF0-8678-48DAD250319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yclical Compon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ng-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ve-lik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occur but may vary i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measured peak to peak or trough to t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 flipH="1">
            <a:off x="1976040" y="4267080"/>
            <a:ext cx="4680" cy="198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981080" y="6248520"/>
            <a:ext cx="547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295280" y="3809880"/>
            <a:ext cx="106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"/>
          <p:cNvSpPr/>
          <p:nvPr/>
        </p:nvSpPr>
        <p:spPr>
          <a:xfrm>
            <a:off x="1828800" y="54864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5"/>
          <p:cNvSpPr/>
          <p:nvPr/>
        </p:nvSpPr>
        <p:spPr>
          <a:xfrm>
            <a:off x="2895480" y="4952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6"/>
          <p:cNvSpPr/>
          <p:nvPr/>
        </p:nvSpPr>
        <p:spPr>
          <a:xfrm>
            <a:off x="5791320" y="54100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7"/>
          <p:cNvSpPr/>
          <p:nvPr/>
        </p:nvSpPr>
        <p:spPr>
          <a:xfrm>
            <a:off x="6934320" y="41911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8"/>
          <p:cNvSpPr/>
          <p:nvPr/>
        </p:nvSpPr>
        <p:spPr>
          <a:xfrm rot="225000">
            <a:off x="3351240" y="3962520"/>
            <a:ext cx="3735360" cy="390240"/>
          </a:xfrm>
          <a:custGeom>
            <a:avLst/>
            <a:gdLst/>
            <a:ahLst/>
            <a:rect l="l" t="t" r="r" b="b"/>
            <a:pathLst>
              <a:path w="1285" h="246">
                <a:moveTo>
                  <a:pt x="1284" y="54"/>
                </a:moveTo>
                <a:lnTo>
                  <a:pt x="1273" y="27"/>
                </a:lnTo>
                <a:lnTo>
                  <a:pt x="1247" y="9"/>
                </a:lnTo>
                <a:lnTo>
                  <a:pt x="1210" y="0"/>
                </a:lnTo>
                <a:lnTo>
                  <a:pt x="1167" y="0"/>
                </a:lnTo>
                <a:lnTo>
                  <a:pt x="727" y="62"/>
                </a:lnTo>
                <a:lnTo>
                  <a:pt x="684" y="62"/>
                </a:lnTo>
                <a:lnTo>
                  <a:pt x="647" y="54"/>
                </a:lnTo>
                <a:lnTo>
                  <a:pt x="621" y="36"/>
                </a:lnTo>
                <a:lnTo>
                  <a:pt x="610" y="9"/>
                </a:lnTo>
                <a:lnTo>
                  <a:pt x="605" y="40"/>
                </a:lnTo>
                <a:lnTo>
                  <a:pt x="589" y="67"/>
                </a:lnTo>
                <a:lnTo>
                  <a:pt x="557" y="85"/>
                </a:lnTo>
                <a:lnTo>
                  <a:pt x="514" y="98"/>
                </a:lnTo>
                <a:lnTo>
                  <a:pt x="95" y="156"/>
                </a:lnTo>
                <a:lnTo>
                  <a:pt x="53" y="169"/>
                </a:lnTo>
                <a:lnTo>
                  <a:pt x="26" y="187"/>
                </a:lnTo>
                <a:lnTo>
                  <a:pt x="5" y="214"/>
                </a:lnTo>
                <a:lnTo>
                  <a:pt x="0" y="245"/>
                </a:ln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4495680" y="3429000"/>
            <a:ext cx="1371600" cy="4546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3200400" y="46483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2"/>
          <p:cNvSpPr/>
          <p:nvPr/>
        </p:nvSpPr>
        <p:spPr>
          <a:xfrm>
            <a:off x="3962520" y="480060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3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4648320" y="51055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5"/>
          <p:cNvSpPr/>
          <p:nvPr/>
        </p:nvSpPr>
        <p:spPr>
          <a:xfrm>
            <a:off x="5029200" y="53341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6"/>
          <p:cNvSpPr/>
          <p:nvPr/>
        </p:nvSpPr>
        <p:spPr>
          <a:xfrm>
            <a:off x="5410080" y="55627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7"/>
          <p:cNvSpPr/>
          <p:nvPr/>
        </p:nvSpPr>
        <p:spPr>
          <a:xfrm>
            <a:off x="6019920" y="49528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8"/>
          <p:cNvSpPr/>
          <p:nvPr/>
        </p:nvSpPr>
        <p:spPr>
          <a:xfrm>
            <a:off x="6248520" y="44197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6629400" y="44956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1"/>
          <p:cNvSpPr/>
          <p:nvPr/>
        </p:nvSpPr>
        <p:spPr>
          <a:xfrm>
            <a:off x="2438280" y="48769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2"/>
          <p:cNvSpPr/>
          <p:nvPr/>
        </p:nvSpPr>
        <p:spPr>
          <a:xfrm>
            <a:off x="2209680" y="5257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3"/>
          <p:cNvSpPr/>
          <p:nvPr/>
        </p:nvSpPr>
        <p:spPr>
          <a:xfrm>
            <a:off x="7315200" y="44956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4"/>
          <p:cNvSpPr/>
          <p:nvPr/>
        </p:nvSpPr>
        <p:spPr>
          <a:xfrm>
            <a:off x="7696080" y="45720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6934320" y="6172200"/>
            <a:ext cx="106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6"/>
          <p:cNvSpPr/>
          <p:nvPr/>
        </p:nvSpPr>
        <p:spPr>
          <a:xfrm>
            <a:off x="3352680" y="4343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7"/>
          <p:cNvSpPr/>
          <p:nvPr/>
        </p:nvSpPr>
        <p:spPr>
          <a:xfrm>
            <a:off x="7086600" y="4343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5B3D5FC5-C6F5-4346-97F2-77D2B6119C9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andom Compon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le, random, “residual” fluc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random variation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s or unusu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” in the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4"/>
          <p:cNvGraphicFramePr/>
          <p:nvPr/>
        </p:nvGraphicFramePr>
        <p:xfrm>
          <a:off x="5791320" y="4267080"/>
          <a:ext cx="2527200" cy="12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4267080"/>
                    <a:ext cx="252720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8179AFA3-0408-4058-90E1-4E58E6D357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dex Number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 numbers allow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ison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 numbers are reported relative to 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ase Period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4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period index = 100 by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an individual item 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54541225-AA89-46C8-9030-662A1B0C5E8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dex Number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ndex numbe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124080" y="2819520"/>
                <a:ext cx="243864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6"/>
          <p:cNvSpPr/>
          <p:nvPr/>
        </p:nvSpPr>
        <p:spPr>
          <a:xfrm>
            <a:off x="1676520" y="4343400"/>
            <a:ext cx="6781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dex number at time period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alue of the time series at tim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alue of the time series in the bas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DA662F5D-EDCD-4CEB-AEBA-BE355984113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dex Number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 orders from 1995 to 200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4572000" y="2971800"/>
                <a:ext cx="41148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9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996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3" name=""/>
          <p:cNvGraphicFramePr/>
          <p:nvPr/>
        </p:nvGraphicFramePr>
        <p:xfrm>
          <a:off x="457200" y="1965240"/>
          <a:ext cx="3657600" cy="4206960"/>
        </p:xfrm>
        <a:graphic>
          <a:graphicData uri="http://schemas.openxmlformats.org/drawingml/2006/table">
            <a:tbl>
              <a:tblPr/>
              <a:tblGrid>
                <a:gridCol w="998640"/>
                <a:gridCol w="1363680"/>
                <a:gridCol w="1295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(base year = 2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</a:tbl>
          </a:graphicData>
        </a:graphic>
      </p:graphicFrame>
      <p:sp>
        <p:nvSpPr>
          <p:cNvPr id="254" name="Line 736"/>
          <p:cNvSpPr/>
          <p:nvPr/>
        </p:nvSpPr>
        <p:spPr>
          <a:xfrm>
            <a:off x="4114800" y="341316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737"/>
              <p:cNvSpPr txBox="1"/>
              <p:nvPr/>
            </p:nvSpPr>
            <p:spPr>
              <a:xfrm>
                <a:off x="4572000" y="4419720"/>
                <a:ext cx="4259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738"/>
              <p:cNvSpPr txBox="1"/>
              <p:nvPr/>
            </p:nvSpPr>
            <p:spPr>
              <a:xfrm>
                <a:off x="4572000" y="5562720"/>
                <a:ext cx="4259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Line 739"/>
          <p:cNvSpPr/>
          <p:nvPr/>
        </p:nvSpPr>
        <p:spPr>
          <a:xfrm>
            <a:off x="4114800" y="4861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40"/>
          <p:cNvSpPr/>
          <p:nvPr/>
        </p:nvSpPr>
        <p:spPr>
          <a:xfrm>
            <a:off x="4114800" y="6004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45"/>
          <p:cNvSpPr/>
          <p:nvPr/>
        </p:nvSpPr>
        <p:spPr>
          <a:xfrm>
            <a:off x="457200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D9DECE27-0410-4C32-A4A0-EE5F3628254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8006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in 1996 were 90% of base year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in 2000 were 100% of base year orders (by definition, since 2000 is the base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in 2003 were 120% of base year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dex Numbers: Interpret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380880" y="2133720"/>
                <a:ext cx="41148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9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996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380880" y="3505320"/>
                <a:ext cx="42595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380880" y="4724280"/>
                <a:ext cx="42595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D5E70581-BFD4-4C63-8510-A69F7D303FD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632448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ggregate Price Index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ggregate 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measure the rate of change from a base period for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roup of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429000" y="2590920"/>
            <a:ext cx="2133720" cy="825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rice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295280" y="3962520"/>
            <a:ext cx="1828800" cy="1191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weigh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ric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5257800" y="3962520"/>
            <a:ext cx="2057400" cy="1191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igh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rice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894120" y="5638680"/>
            <a:ext cx="2195280" cy="4597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as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6484680" y="5638680"/>
            <a:ext cx="2416320" cy="4597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spey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2209680" y="373392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2209680" y="373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4952880" y="541008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4952880" y="5410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7696080" y="5410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6DFA298B-1A3C-4380-B845-31A74FBE6D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Unweighted Aggregate Price Index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143000" y="16765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weighted aggregate price index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5"/>
              <p:cNvSpPr txBox="1"/>
              <p:nvPr/>
            </p:nvSpPr>
            <p:spPr>
              <a:xfrm>
                <a:off x="2652840" y="2733840"/>
                <a:ext cx="337968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6"/>
          <p:cNvSpPr/>
          <p:nvPr/>
        </p:nvSpPr>
        <p:spPr>
          <a:xfrm>
            <a:off x="9907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unweighted aggregate price index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um of the prices for the group of items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um of the prices for the group of items in the bas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83D6C6BA-000B-43E5-AD4E-D1B4EACD2A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047760" y="5714640"/>
            <a:ext cx="5181480" cy="6858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expenses in 2004 were 18.8% higher in 2004 than in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00200"/>
          <a:ext cx="8305920" cy="2895480"/>
        </p:xfrm>
        <a:graphic>
          <a:graphicData uri="http://schemas.openxmlformats.org/drawingml/2006/table">
            <a:tbl>
              <a:tblPr/>
              <a:tblGrid>
                <a:gridCol w="934920"/>
                <a:gridCol w="1884600"/>
                <a:gridCol w="1143000"/>
                <a:gridCol w="1371600"/>
                <a:gridCol w="1131840"/>
                <a:gridCol w="18399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obile Expens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Amounts ($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ase pa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dex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001=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</a:tbl>
          </a:graphicData>
        </a:graphic>
      </p:graphicFrame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Unweighted Aggregate Price Index Exampl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01"/>
              <p:cNvSpPr txBox="1"/>
              <p:nvPr/>
            </p:nvSpPr>
            <p:spPr>
              <a:xfrm>
                <a:off x="2727360" y="4572000"/>
                <a:ext cx="57294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04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01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6" name="Picture 306" descr="TN00554_[1]"/>
          <p:cNvPicPr/>
          <p:nvPr/>
        </p:nvPicPr>
        <p:blipFill>
          <a:blip r:embed="rId1"/>
          <a:stretch/>
        </p:blipFill>
        <p:spPr>
          <a:xfrm>
            <a:off x="152280" y="5167440"/>
            <a:ext cx="205920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89EB1E77-ED2F-4D32-95AA-01FE2AA5C72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Weighted Aggregate Price Index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85800" y="167652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sch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650880" y="2362320"/>
                <a:ext cx="37656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5"/>
          <p:cNvSpPr/>
          <p:nvPr/>
        </p:nvSpPr>
        <p:spPr>
          <a:xfrm>
            <a:off x="152280" y="4495680"/>
            <a:ext cx="8839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weighting percentage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weighting percentage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as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 algn="ctr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rice in time perio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 algn="ctr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rice in the bas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6"/>
              <p:cNvSpPr txBox="1"/>
              <p:nvPr/>
            </p:nvSpPr>
            <p:spPr>
              <a:xfrm>
                <a:off x="4834080" y="2362320"/>
                <a:ext cx="385128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Rectangle 7"/>
          <p:cNvSpPr/>
          <p:nvPr/>
        </p:nvSpPr>
        <p:spPr>
          <a:xfrm>
            <a:off x="4876920" y="16765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peyres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762120" y="4495680"/>
            <a:ext cx="35049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5029200" y="4495680"/>
            <a:ext cx="3581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9E8DF529-99E0-4DDD-ACEB-EFD62673EC2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538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implement basic forecast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omponents present in a 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interpret basic ind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oothing-based forecasting models, including single and double 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rend-based forecasting models, including linear trend, nonlinear trend, and seasonally adjusted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52A2E1EF-F2B2-451A-9A79-C55B5F16EE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monly Used Index Number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Market Ind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 Jones Industrial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&amp;P 500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DAQ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D1457D49-9094-401B-9E6E-83E4F382A57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flating a Time Ser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values can be adjusted to base year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uniform comparison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lation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5"/>
              <p:cNvSpPr txBox="1"/>
              <p:nvPr/>
            </p:nvSpPr>
            <p:spPr>
              <a:xfrm>
                <a:off x="3048120" y="3733920"/>
                <a:ext cx="265896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6"/>
          <p:cNvSpPr/>
          <p:nvPr/>
        </p:nvSpPr>
        <p:spPr>
          <a:xfrm>
            <a:off x="1676520" y="4724280"/>
            <a:ext cx="62481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djusted time series value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alue of the time series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ndex (such as CPI)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1981080" y="5181480"/>
                <a:ext cx="506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444DEF38-CE54-4380-B7A6-8D69C7F82A9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flating a Time Seri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828440" y="152388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ovie made more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real term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438280" y="2590920"/>
          <a:ext cx="4411800" cy="2638440"/>
        </p:xfrm>
        <a:graphic>
          <a:graphicData uri="http://schemas.openxmlformats.org/drawingml/2006/table">
            <a:tbl>
              <a:tblPr/>
              <a:tblGrid>
                <a:gridCol w="1195560"/>
                <a:gridCol w="1838160"/>
                <a:gridCol w="13780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ross 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 With the W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 W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</a:tbl>
          </a:graphicData>
        </a:graphic>
      </p:graphicFrame>
      <p:sp>
        <p:nvSpPr>
          <p:cNvPr id="323" name="Rectangle 41"/>
          <p:cNvSpPr/>
          <p:nvPr/>
        </p:nvSpPr>
        <p:spPr>
          <a:xfrm>
            <a:off x="1447920" y="56386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tal Gross $ = Total domestic gross ticket receipts in $mill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5" descr="EN00439_[1]"/>
          <p:cNvPicPr/>
          <p:nvPr/>
        </p:nvPicPr>
        <p:blipFill>
          <a:blip r:embed="rId1"/>
          <a:stretch/>
        </p:blipFill>
        <p:spPr>
          <a:xfrm>
            <a:off x="228600" y="4800600"/>
            <a:ext cx="12351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A76F4D01-7775-40BE-89C9-BC1130634A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flating a Time Seri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4120" y="5028840"/>
            <a:ext cx="35812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TW made about twice as much as Star Wars, and about 4 times as much as Titanic when measured in equivalent dol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1143000" y="5029200"/>
                <a:ext cx="3986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WT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38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80880" y="2057400"/>
          <a:ext cx="8382240" cy="2638440"/>
        </p:xfrm>
        <a:graphic>
          <a:graphicData uri="http://schemas.openxmlformats.org/drawingml/2006/table">
            <a:tbl>
              <a:tblPr/>
              <a:tblGrid>
                <a:gridCol w="1195560"/>
                <a:gridCol w="1838160"/>
                <a:gridCol w="1378080"/>
                <a:gridCol w="2023920"/>
                <a:gridCol w="19465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ro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se year = 19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adjusted to 1984 doll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 With the W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 W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</a:tbl>
          </a:graphicData>
        </a:graphic>
      </p:graphicFrame>
      <p:sp>
        <p:nvSpPr>
          <p:cNvPr id="332" name="Line 75"/>
          <p:cNvSpPr/>
          <p:nvPr/>
        </p:nvSpPr>
        <p:spPr>
          <a:xfrm>
            <a:off x="7772400" y="4724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98" descr="EN00439_[1]"/>
          <p:cNvPicPr/>
          <p:nvPr/>
        </p:nvPicPr>
        <p:blipFill>
          <a:blip r:embed="rId1"/>
          <a:stretch/>
        </p:blipFill>
        <p:spPr>
          <a:xfrm>
            <a:off x="76320" y="5257800"/>
            <a:ext cx="988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A5ED0061-82B9-4926-BB2E-20E98A48087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nd-Based Foreca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7000"/>
          </a:bodyPr>
          <a:p>
            <a:pPr marL="279000" indent="-279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a trend line using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066680" y="2514600"/>
          <a:ext cx="3200400" cy="3730680"/>
        </p:xfrm>
        <a:graphic>
          <a:graphicData uri="http://schemas.openxmlformats.org/drawingml/2006/table">
            <a:tbl>
              <a:tblPr/>
              <a:tblGrid>
                <a:gridCol w="914400"/>
                <a:gridCol w="1219320"/>
                <a:gridCol w="1066680"/>
              </a:tblGrid>
              <a:tr h="119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9" name="Object 19"/>
              <p:cNvSpPr txBox="1"/>
              <p:nvPr/>
            </p:nvSpPr>
            <p:spPr>
              <a:xfrm>
                <a:off x="5181480" y="3657600"/>
                <a:ext cx="266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23"/>
          <p:cNvSpPr/>
          <p:nvPr/>
        </p:nvSpPr>
        <p:spPr>
          <a:xfrm>
            <a:off x="4572000" y="2362320"/>
            <a:ext cx="4343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ime (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independent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7908F18-41F0-4D82-926D-08771BBF1A4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nd-Based Foreca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ar trend mode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3397320" y="3048120"/>
          <a:ext cx="5746680" cy="338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3048120"/>
                    <a:ext cx="574668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28600" y="2057400"/>
          <a:ext cx="3200400" cy="3913200"/>
        </p:xfrm>
        <a:graphic>
          <a:graphicData uri="http://schemas.openxmlformats.org/drawingml/2006/table">
            <a:tbl>
              <a:tblPr/>
              <a:tblGrid>
                <a:gridCol w="914400"/>
                <a:gridCol w="1219320"/>
                <a:gridCol w="106668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8" name="Object 45"/>
              <p:cNvSpPr txBox="1"/>
              <p:nvPr/>
            </p:nvSpPr>
            <p:spPr>
              <a:xfrm>
                <a:off x="4572000" y="2209680"/>
                <a:ext cx="36385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1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Text Box 46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17F716DB-FFFA-4B55-A1B8-398723E8EBE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nd-Based Foreca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28640" y="1523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for time period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3276720" y="2971800"/>
          <a:ext cx="5715000" cy="34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971800"/>
                    <a:ext cx="571500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228600" y="2057400"/>
          <a:ext cx="2895480" cy="3657600"/>
        </p:xfrm>
        <a:graphic>
          <a:graphicData uri="http://schemas.openxmlformats.org/drawingml/2006/table">
            <a:tbl>
              <a:tblPr/>
              <a:tblGrid>
                <a:gridCol w="826920"/>
                <a:gridCol w="1103400"/>
                <a:gridCol w="9651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57" name="Text Box 20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3"/>
          <p:cNvSpPr/>
          <p:nvPr/>
        </p:nvSpPr>
        <p:spPr>
          <a:xfrm>
            <a:off x="8096400" y="3746520"/>
            <a:ext cx="674640" cy="230040"/>
          </a:xfrm>
          <a:custGeom>
            <a:avLst/>
            <a:gdLst/>
            <a:ahLst/>
            <a:rect l="l" t="t" r="r" b="b"/>
            <a:pathLst>
              <a:path w="425" h="145">
                <a:moveTo>
                  <a:pt x="0" y="145"/>
                </a:moveTo>
                <a:lnTo>
                  <a:pt x="425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>
            <a:off x="8686800" y="3657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6"/>
          <p:cNvSpPr/>
          <p:nvPr/>
        </p:nvSpPr>
        <p:spPr>
          <a:xfrm>
            <a:off x="7467480" y="1752480"/>
            <a:ext cx="609840" cy="538200"/>
          </a:xfrm>
          <a:custGeom>
            <a:avLst/>
            <a:gdLst/>
            <a:ahLst/>
            <a:rect l="l" t="t" r="r" b="b"/>
            <a:pathLst>
              <a:path w="384" h="339">
                <a:moveTo>
                  <a:pt x="0" y="0"/>
                </a:moveTo>
                <a:lnTo>
                  <a:pt x="384" y="0"/>
                </a:lnTo>
                <a:lnTo>
                  <a:pt x="383" y="339"/>
                </a:lnTo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7"/>
          <p:cNvSpPr/>
          <p:nvPr/>
        </p:nvSpPr>
        <p:spPr>
          <a:xfrm>
            <a:off x="5638680" y="3124080"/>
            <a:ext cx="762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9"/>
              <p:cNvSpPr txBox="1"/>
              <p:nvPr/>
            </p:nvSpPr>
            <p:spPr>
              <a:xfrm>
                <a:off x="4419720" y="2286000"/>
                <a:ext cx="39891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14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3" name="Freeform 28"/>
          <p:cNvSpPr/>
          <p:nvPr/>
        </p:nvSpPr>
        <p:spPr>
          <a:xfrm>
            <a:off x="4075200" y="3755880"/>
            <a:ext cx="4687920" cy="1806840"/>
          </a:xfrm>
          <a:custGeom>
            <a:avLst/>
            <a:gdLst/>
            <a:ahLst/>
            <a:rect l="l" t="t" r="r" b="b"/>
            <a:pathLst>
              <a:path w="2953" h="1138">
                <a:moveTo>
                  <a:pt x="2953" y="1138"/>
                </a:moveTo>
                <a:lnTo>
                  <a:pt x="2953" y="0"/>
                </a:lnTo>
                <a:lnTo>
                  <a:pt x="0" y="7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0"/>
          <p:cNvSpPr/>
          <p:nvPr/>
        </p:nvSpPr>
        <p:spPr>
          <a:xfrm>
            <a:off x="5029200" y="2819520"/>
            <a:ext cx="1143000" cy="60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B0FBB01A-F5FD-41CC-A65E-9FD95C4F754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mparing Forecast Values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o Actual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ecast err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s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fference between the actual value in time t and the forecast value in time 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in time 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3048120" y="4114800"/>
                <a:ext cx="29779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E05D68EC-6EFB-45F7-A3EC-1243EF3025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2286000" y="4419720"/>
            <a:ext cx="5486400" cy="609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286000" y="2971800"/>
            <a:ext cx="4800600" cy="609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wo common Measures of Fi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fit are used to gauge how well the forecasts match the act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E   (mean squared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qua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ence between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   (mean absolute dev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bsolute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ifference between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sensitive to extrem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D15445B-F294-4492-AE0A-1A707DF3B7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SE vs. MAD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Squar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4"/>
              <p:cNvSpPr txBox="1"/>
              <p:nvPr/>
            </p:nvSpPr>
            <p:spPr>
              <a:xfrm>
                <a:off x="592200" y="2362320"/>
                <a:ext cx="369396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E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5"/>
              <p:cNvSpPr txBox="1"/>
              <p:nvPr/>
            </p:nvSpPr>
            <p:spPr>
              <a:xfrm>
                <a:off x="5181480" y="2362320"/>
                <a:ext cx="35816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Rectangle 6"/>
          <p:cNvSpPr/>
          <p:nvPr/>
        </p:nvSpPr>
        <p:spPr>
          <a:xfrm>
            <a:off x="2057400" y="4419720"/>
            <a:ext cx="5410080" cy="17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ual value at tim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edicted value at tim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 = Number of time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510552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AC10BABC-E923-43CE-B976-077E179B9C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he Importance of Forecasting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vernments forecast unemployment, interest rates, and expected revenues from income taxes for policy purpo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executives forecast demand, sales, and consumer preferences for strategic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ge administrators forecast enrollments to plan for facilities and for faculty recrui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ail stores forecast demand to control inventory levels, hire employees and provide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083373F9-93C9-4ABD-AC56-975AA2DD447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9"/>
          <p:cNvSpPr/>
          <p:nvPr/>
        </p:nvSpPr>
        <p:spPr>
          <a:xfrm>
            <a:off x="4800600" y="3352680"/>
            <a:ext cx="2166840" cy="1122480"/>
          </a:xfrm>
          <a:custGeom>
            <a:avLst/>
            <a:gdLst/>
            <a:ahLst/>
            <a:rect l="l" t="t" r="r" b="b"/>
            <a:pathLst>
              <a:path w="1566" h="852">
                <a:moveTo>
                  <a:pt x="0" y="486"/>
                </a:moveTo>
                <a:lnTo>
                  <a:pt x="318" y="64"/>
                </a:lnTo>
                <a:lnTo>
                  <a:pt x="626" y="852"/>
                </a:lnTo>
                <a:lnTo>
                  <a:pt x="952" y="424"/>
                </a:lnTo>
                <a:lnTo>
                  <a:pt x="1264" y="0"/>
                </a:lnTo>
                <a:lnTo>
                  <a:pt x="1566" y="592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uto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utocorrelation is correlation of the error terms (residuals)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62120" y="54100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ates the regression assumption that residuals are random and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"/>
          <p:cNvGraphicFramePr/>
          <p:nvPr/>
        </p:nvGraphicFramePr>
        <p:xfrm>
          <a:off x="3429000" y="2362320"/>
          <a:ext cx="4648320" cy="297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464832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10"/>
          <p:cNvSpPr/>
          <p:nvPr/>
        </p:nvSpPr>
        <p:spPr>
          <a:xfrm>
            <a:off x="380880" y="342900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, residuals show a cyclic pattern, no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641A1C1-94F4-48DC-B343-7E39A6C4B2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esting for Auto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urbin-Watson Stat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test for auto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2666880"/>
            <a:ext cx="6019560" cy="9500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  (residuals are not correl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 0    (autocorrelation is pres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2514600" y="3809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bin-Watson test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3200400" y="4419720"/>
                <a:ext cx="251460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D8F3FD6A-9141-47FE-9737-FE4FFD2C30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esting for Positive Autocorre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685800" y="2743200"/>
            <a:ext cx="79246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Durbin-Watson test statistic =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Durbin-Watson Statistic can be found using PHStat or Minit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80880" y="4495680"/>
            <a:ext cx="4572000" cy="510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rule: 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d &lt;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219320" y="1600200"/>
            <a:ext cx="7162560" cy="11167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  (positive autocorrelation does not exis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0    (positive autocorrelation is pres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1"/>
          <p:cNvSpPr/>
          <p:nvPr/>
        </p:nvSpPr>
        <p:spPr>
          <a:xfrm>
            <a:off x="1600200" y="548640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2"/>
          <p:cNvSpPr/>
          <p:nvPr/>
        </p:nvSpPr>
        <p:spPr>
          <a:xfrm>
            <a:off x="160020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"/>
          <p:cNvSpPr/>
          <p:nvPr/>
        </p:nvSpPr>
        <p:spPr>
          <a:xfrm>
            <a:off x="365760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586728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807732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792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5715000" y="5715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79246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3429000" y="5715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1"/>
          <p:cNvSpPr/>
          <p:nvPr/>
        </p:nvSpPr>
        <p:spPr>
          <a:xfrm>
            <a:off x="2057400" y="5105520"/>
            <a:ext cx="1066680" cy="37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6172200" y="5105520"/>
            <a:ext cx="1752480" cy="37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685800" y="3657600"/>
            <a:ext cx="792468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values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Durbin-Wats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sample size n and number of independent variables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4038480" y="5105520"/>
            <a:ext cx="1371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F31F4CC5-8A7D-4AFC-B027-454D957A521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7"/>
          <p:cNvSpPr/>
          <p:nvPr/>
        </p:nvSpPr>
        <p:spPr>
          <a:xfrm>
            <a:off x="3657600" y="472428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350496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with  n = 2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80880" y="2666880"/>
          <a:ext cx="3733920" cy="2073240"/>
        </p:xfrm>
        <a:graphic>
          <a:graphicData uri="http://schemas.openxmlformats.org/drawingml/2006/table">
            <a:tbl>
              <a:tblPr/>
              <a:tblGrid>
                <a:gridCol w="2362320"/>
                <a:gridCol w="1371600"/>
              </a:tblGrid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rbin-Watson Calcu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 of Squared Difference of 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6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 of Squared 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9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rbin-Watson Stat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4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5" name="Object 69"/>
          <p:cNvGraphicFramePr/>
          <p:nvPr/>
        </p:nvGraphicFramePr>
        <p:xfrm>
          <a:off x="4038480" y="1447920"/>
          <a:ext cx="487692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6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447920"/>
                    <a:ext cx="48769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esting for Positive Autocorre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Text Box 71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2"/>
          <p:cNvSpPr/>
          <p:nvPr/>
        </p:nvSpPr>
        <p:spPr>
          <a:xfrm>
            <a:off x="30492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/PHStat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74"/>
              <p:cNvSpPr txBox="1"/>
              <p:nvPr/>
            </p:nvSpPr>
            <p:spPr>
              <a:xfrm>
                <a:off x="2286000" y="5029200"/>
                <a:ext cx="44337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9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14320B86-CADE-406E-BFA1-5A4C822170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2971800" y="51055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837720" y="15998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n = 25 and there is one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Durbin-Watson table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1.29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1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 = 1.00494 &lt; 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1.29, 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lude that significant positive autocorrelation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the linear model is not the appropriate model to forecas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esting for Positive Autocorre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1143000" y="4267080"/>
            <a:ext cx="3276720" cy="9460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ci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1.00494 &lt;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4"/>
          <p:cNvSpPr/>
          <p:nvPr/>
        </p:nvSpPr>
        <p:spPr>
          <a:xfrm>
            <a:off x="1600200" y="556272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5"/>
          <p:cNvSpPr/>
          <p:nvPr/>
        </p:nvSpPr>
        <p:spPr>
          <a:xfrm>
            <a:off x="160020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6"/>
          <p:cNvSpPr/>
          <p:nvPr/>
        </p:nvSpPr>
        <p:spPr>
          <a:xfrm>
            <a:off x="365760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7"/>
          <p:cNvSpPr/>
          <p:nvPr/>
        </p:nvSpPr>
        <p:spPr>
          <a:xfrm>
            <a:off x="586728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807732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9"/>
          <p:cNvSpPr/>
          <p:nvPr/>
        </p:nvSpPr>
        <p:spPr>
          <a:xfrm>
            <a:off x="144792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0"/>
          <p:cNvSpPr/>
          <p:nvPr/>
        </p:nvSpPr>
        <p:spPr>
          <a:xfrm>
            <a:off x="5334120" y="586728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1"/>
          <p:cNvSpPr/>
          <p:nvPr/>
        </p:nvSpPr>
        <p:spPr>
          <a:xfrm>
            <a:off x="79246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2"/>
          <p:cNvSpPr/>
          <p:nvPr/>
        </p:nvSpPr>
        <p:spPr>
          <a:xfrm>
            <a:off x="3124080" y="5867280"/>
            <a:ext cx="114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3"/>
          <p:cNvSpPr/>
          <p:nvPr/>
        </p:nvSpPr>
        <p:spPr>
          <a:xfrm>
            <a:off x="2057400" y="5597640"/>
            <a:ext cx="1066680" cy="37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6172200" y="5597640"/>
            <a:ext cx="1752480" cy="37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4038480" y="5597640"/>
            <a:ext cx="1371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F1EB927E-FD80-4518-99F4-6F5EC4C1271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nlinear Trend Foreca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nlinear regression model can be used when the time series exhibits a nonlinear 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orm of a nonlinear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that of linear model to see if this is an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try other functional forms to get best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2340000" y="3352680"/>
                <a:ext cx="399888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FD53E628-ECBC-4E2A-B874-8FAED2878A1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ultiplicative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ime-Series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rimarily for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consideration of seasonal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value in time series is the product of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600200" y="4572000"/>
            <a:ext cx="66294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end value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easonal value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yclical value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Irregular (random) value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2133720" y="3581280"/>
                <a:ext cx="46479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76DE55AB-5497-465E-A1A0-795FEFAA2D8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838080" y="5181480"/>
            <a:ext cx="7086600" cy="9144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Seasonal Index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atio-to-moving average 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by removing the seasonal and irregular components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leaving the trend and cyclical components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this, we nee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ving a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Average:  averages of consec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B5A6B9B8-DC70-4721-8E87-5033C413A0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oving Averag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arithmetic mean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dependent upon choice of L (length of period for comput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mooth out seasonal variation, L  should be equal to the number of s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quarterly data, L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nthly data, L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DF0200D0-066B-43DC-B88A-C32D3ED74FC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oving Averag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ur-quarter moving a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224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ve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ave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7"/>
              <p:cNvSpPr txBox="1"/>
              <p:nvPr/>
            </p:nvSpPr>
            <p:spPr>
              <a:xfrm>
                <a:off x="2362320" y="2743200"/>
                <a:ext cx="48466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ving averag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8"/>
              <p:cNvSpPr txBox="1"/>
              <p:nvPr/>
            </p:nvSpPr>
            <p:spPr>
              <a:xfrm>
                <a:off x="2395440" y="4572000"/>
                <a:ext cx="49197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ving averag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59BD0D51-8590-4068-9FB8-D5DD2EF1ED9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600200" y="4267080"/>
            <a:ext cx="685800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600200" y="4800600"/>
            <a:ext cx="68580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ime-Series Dat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data obtained at regular tim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intervals can be annually, quarterly, daily, hourl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 2000  2001  2002 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5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74.2   78.5   79.7   8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3713469-4CD2-4397-8092-57064D1343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easonal Dat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57200" y="1828800"/>
          <a:ext cx="2057400" cy="44067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1" name="Object 121"/>
          <p:cNvGraphicFramePr/>
          <p:nvPr/>
        </p:nvGraphicFramePr>
        <p:xfrm>
          <a:off x="2895480" y="1752480"/>
          <a:ext cx="5896080" cy="36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2" name="Object 1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52480"/>
                    <a:ext cx="58960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534520" y="2819160"/>
            <a:ext cx="4572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27"/>
          <p:cNvSpPr/>
          <p:nvPr/>
        </p:nvSpPr>
        <p:spPr>
          <a:xfrm>
            <a:off x="8534520" y="4191120"/>
            <a:ext cx="457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899CDC7A-9D68-417F-AAA2-8F141CCEBCA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Moving Averag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123720" y="571464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oving average is for a consecutive block of 4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457200" y="2057400"/>
          <a:ext cx="2133720" cy="43894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3505320" y="1600200"/>
          <a:ext cx="2514600" cy="384012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Quarter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91" name="Rectangle 72"/>
          <p:cNvSpPr/>
          <p:nvPr/>
        </p:nvSpPr>
        <p:spPr>
          <a:xfrm>
            <a:off x="533520" y="2438280"/>
            <a:ext cx="2209680" cy="1371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3"/>
          <p:cNvSpPr/>
          <p:nvPr/>
        </p:nvSpPr>
        <p:spPr>
          <a:xfrm>
            <a:off x="685800" y="2819520"/>
            <a:ext cx="22096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4"/>
          <p:cNvSpPr/>
          <p:nvPr/>
        </p:nvSpPr>
        <p:spPr>
          <a:xfrm>
            <a:off x="838080" y="3200400"/>
            <a:ext cx="2210040" cy="1371600"/>
          </a:xfrm>
          <a:prstGeom prst="rect">
            <a:avLst/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75"/>
          <p:cNvSpPr/>
          <p:nvPr/>
        </p:nvSpPr>
        <p:spPr>
          <a:xfrm>
            <a:off x="2743200" y="266688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76"/>
          <p:cNvSpPr/>
          <p:nvPr/>
        </p:nvSpPr>
        <p:spPr>
          <a:xfrm>
            <a:off x="2895480" y="304812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7"/>
          <p:cNvSpPr/>
          <p:nvPr/>
        </p:nvSpPr>
        <p:spPr>
          <a:xfrm>
            <a:off x="3048120" y="3429000"/>
            <a:ext cx="106668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78"/>
              <p:cNvSpPr txBox="1"/>
              <p:nvPr/>
            </p:nvSpPr>
            <p:spPr>
              <a:xfrm>
                <a:off x="6629400" y="2362320"/>
                <a:ext cx="18241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8" name="Line 79"/>
          <p:cNvSpPr/>
          <p:nvPr/>
        </p:nvSpPr>
        <p:spPr>
          <a:xfrm>
            <a:off x="6019920" y="26668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80"/>
          <p:cNvSpPr/>
          <p:nvPr/>
        </p:nvSpPr>
        <p:spPr>
          <a:xfrm>
            <a:off x="4114800" y="2514600"/>
            <a:ext cx="190512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81"/>
              <p:cNvSpPr txBox="1"/>
              <p:nvPr/>
            </p:nvSpPr>
            <p:spPr>
              <a:xfrm>
                <a:off x="6324480" y="3200400"/>
                <a:ext cx="2667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1" name="Rectangle 82"/>
          <p:cNvSpPr/>
          <p:nvPr/>
        </p:nvSpPr>
        <p:spPr>
          <a:xfrm>
            <a:off x="6248520" y="2133720"/>
            <a:ext cx="2743200" cy="1981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3"/>
          <p:cNvSpPr/>
          <p:nvPr/>
        </p:nvSpPr>
        <p:spPr>
          <a:xfrm>
            <a:off x="2666880" y="4572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FC277A1-2E8D-48DE-A8FA-27573BBCFD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entered Moving Averag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eriods of 2.5 or 3.5 don’t match the original quarters, so we average two consecutive moving averages to get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entered moving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447920" y="2590920"/>
          <a:ext cx="2514600" cy="384012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Quarter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4572000" y="2625840"/>
          <a:ext cx="2514600" cy="347508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ed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ed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09" name="Rectangle 130"/>
          <p:cNvSpPr/>
          <p:nvPr/>
        </p:nvSpPr>
        <p:spPr>
          <a:xfrm>
            <a:off x="1676520" y="3505320"/>
            <a:ext cx="24382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31"/>
          <p:cNvSpPr/>
          <p:nvPr/>
        </p:nvSpPr>
        <p:spPr>
          <a:xfrm>
            <a:off x="1828800" y="3886200"/>
            <a:ext cx="24382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32"/>
          <p:cNvSpPr/>
          <p:nvPr/>
        </p:nvSpPr>
        <p:spPr>
          <a:xfrm>
            <a:off x="4114800" y="3733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33"/>
          <p:cNvSpPr/>
          <p:nvPr/>
        </p:nvSpPr>
        <p:spPr>
          <a:xfrm>
            <a:off x="4267080" y="411480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5"/>
          <p:cNvSpPr/>
          <p:nvPr/>
        </p:nvSpPr>
        <p:spPr>
          <a:xfrm>
            <a:off x="39625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1341B28B-1052-4046-8495-569BAAAB2C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alculating th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Ratio-to-Moving Averag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estimate the 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actual sales value by the centered moving average for tha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-to-Moving Averag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4"/>
              <p:cNvSpPr txBox="1"/>
              <p:nvPr/>
            </p:nvSpPr>
            <p:spPr>
              <a:xfrm>
                <a:off x="2895480" y="4267080"/>
                <a:ext cx="332748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FB4025EB-AC97-425D-A578-944E263882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Seasonal Index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533520" y="1600200"/>
          <a:ext cx="4952880" cy="495612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447560"/>
                <a:gridCol w="144792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ed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-to-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3" name="Rectangle 27"/>
          <p:cNvSpPr/>
          <p:nvPr/>
        </p:nvSpPr>
        <p:spPr>
          <a:xfrm>
            <a:off x="1828800" y="3276720"/>
            <a:ext cx="3352680" cy="304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8"/>
          <p:cNvSpPr/>
          <p:nvPr/>
        </p:nvSpPr>
        <p:spPr>
          <a:xfrm>
            <a:off x="5181480" y="342900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41"/>
              <p:cNvSpPr txBox="1"/>
              <p:nvPr/>
            </p:nvSpPr>
            <p:spPr>
              <a:xfrm>
                <a:off x="6248520" y="2971800"/>
                <a:ext cx="2209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7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A4319938-4BCC-46F1-A618-CB4B861DEDB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Seasonal Index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609480" y="1600200"/>
          <a:ext cx="4876920" cy="4956120"/>
        </p:xfrm>
        <a:graphic>
          <a:graphicData uri="http://schemas.openxmlformats.org/drawingml/2006/table">
            <a:tbl>
              <a:tblPr/>
              <a:tblGrid>
                <a:gridCol w="1067040"/>
                <a:gridCol w="914400"/>
                <a:gridCol w="1447560"/>
                <a:gridCol w="144792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ed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-to-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30" name="Rectangle 177"/>
          <p:cNvSpPr/>
          <p:nvPr/>
        </p:nvSpPr>
        <p:spPr>
          <a:xfrm>
            <a:off x="4419720" y="3276720"/>
            <a:ext cx="761760" cy="304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8"/>
          <p:cNvSpPr/>
          <p:nvPr/>
        </p:nvSpPr>
        <p:spPr>
          <a:xfrm>
            <a:off x="4419720" y="4572000"/>
            <a:ext cx="761760" cy="304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79"/>
          <p:cNvSpPr/>
          <p:nvPr/>
        </p:nvSpPr>
        <p:spPr>
          <a:xfrm>
            <a:off x="4419720" y="5943600"/>
            <a:ext cx="761760" cy="304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87"/>
          <p:cNvSpPr/>
          <p:nvPr/>
        </p:nvSpPr>
        <p:spPr>
          <a:xfrm>
            <a:off x="5943600" y="2819520"/>
            <a:ext cx="2971800" cy="15570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all of the Fall values to get Fall’s seasonal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89"/>
          <p:cNvSpPr/>
          <p:nvPr/>
        </p:nvSpPr>
        <p:spPr>
          <a:xfrm>
            <a:off x="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90"/>
          <p:cNvSpPr/>
          <p:nvPr/>
        </p:nvSpPr>
        <p:spPr>
          <a:xfrm>
            <a:off x="0" y="44798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1"/>
          <p:cNvSpPr/>
          <p:nvPr/>
        </p:nvSpPr>
        <p:spPr>
          <a:xfrm>
            <a:off x="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2"/>
          <p:cNvSpPr/>
          <p:nvPr/>
        </p:nvSpPr>
        <p:spPr>
          <a:xfrm>
            <a:off x="533520" y="34290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93"/>
          <p:cNvSpPr/>
          <p:nvPr/>
        </p:nvSpPr>
        <p:spPr>
          <a:xfrm>
            <a:off x="533520" y="47242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94"/>
          <p:cNvSpPr/>
          <p:nvPr/>
        </p:nvSpPr>
        <p:spPr>
          <a:xfrm>
            <a:off x="533520" y="601992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95"/>
          <p:cNvSpPr/>
          <p:nvPr/>
        </p:nvSpPr>
        <p:spPr>
          <a:xfrm>
            <a:off x="5943600" y="46483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same for the other three seasons to get the other seasonal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96"/>
          <p:cNvSpPr/>
          <p:nvPr/>
        </p:nvSpPr>
        <p:spPr>
          <a:xfrm>
            <a:off x="5181480" y="34290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97"/>
          <p:cNvSpPr/>
          <p:nvPr/>
        </p:nvSpPr>
        <p:spPr>
          <a:xfrm flipV="1">
            <a:off x="5181480" y="36572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98"/>
          <p:cNvSpPr/>
          <p:nvPr/>
        </p:nvSpPr>
        <p:spPr>
          <a:xfrm flipV="1">
            <a:off x="5181480" y="3886200"/>
            <a:ext cx="7621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10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8E5C715B-7CF1-4C0D-AB13-E6D0C21BCF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ing Seasonal Index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get these seasonal index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3520" y="2422440"/>
          <a:ext cx="3200400" cy="3530520"/>
        </p:xfrm>
        <a:graphic>
          <a:graphicData uri="http://schemas.openxmlformats.org/drawingml/2006/table">
            <a:tbl>
              <a:tblPr/>
              <a:tblGrid>
                <a:gridCol w="1676160"/>
                <a:gridCol w="1524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al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50" name="Text Box 36"/>
          <p:cNvSpPr/>
          <p:nvPr/>
        </p:nvSpPr>
        <p:spPr>
          <a:xfrm>
            <a:off x="2286000" y="6004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000  -- four seasons, so must sum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7"/>
          <p:cNvSpPr/>
          <p:nvPr/>
        </p:nvSpPr>
        <p:spPr>
          <a:xfrm>
            <a:off x="3733920" y="348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8"/>
          <p:cNvSpPr/>
          <p:nvPr/>
        </p:nvSpPr>
        <p:spPr>
          <a:xfrm>
            <a:off x="3733920" y="4251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9"/>
          <p:cNvSpPr/>
          <p:nvPr/>
        </p:nvSpPr>
        <p:spPr>
          <a:xfrm>
            <a:off x="4419720" y="3108240"/>
            <a:ext cx="4267080" cy="703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sales average 82.5% of the annual average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0"/>
          <p:cNvSpPr/>
          <p:nvPr/>
        </p:nvSpPr>
        <p:spPr>
          <a:xfrm>
            <a:off x="4419720" y="3946680"/>
            <a:ext cx="4267080" cy="703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 sales are 31.0% higher than the annual average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1"/>
          <p:cNvSpPr/>
          <p:nvPr/>
        </p:nvSpPr>
        <p:spPr>
          <a:xfrm>
            <a:off x="4419720" y="4861080"/>
            <a:ext cx="838080" cy="3988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3"/>
          <p:cNvSpPr/>
          <p:nvPr/>
        </p:nvSpPr>
        <p:spPr>
          <a:xfrm>
            <a:off x="4419720" y="24382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539A3854-DC7F-4005-A214-E935C1A56A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seasonaliz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a is deseasonalized by dividing the observed value by its seasonal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2603520" y="2743200"/>
                <a:ext cx="33274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5"/>
          <p:cNvSpPr/>
          <p:nvPr/>
        </p:nvSpPr>
        <p:spPr>
          <a:xfrm>
            <a:off x="762120" y="457200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mooths the data by removing seasonal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66300B3E-EC38-43DA-BE6A-456D720923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seasonaliz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533520" y="1600200"/>
          <a:ext cx="5410080" cy="46814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447560"/>
                <a:gridCol w="19051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al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asonalized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7" name="Object 32"/>
              <p:cNvSpPr txBox="1"/>
              <p:nvPr/>
            </p:nvSpPr>
            <p:spPr>
              <a:xfrm>
                <a:off x="6629400" y="2209680"/>
                <a:ext cx="167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Rectangle 33"/>
          <p:cNvSpPr/>
          <p:nvPr/>
        </p:nvSpPr>
        <p:spPr>
          <a:xfrm>
            <a:off x="1752480" y="2286000"/>
            <a:ext cx="365760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4"/>
          <p:cNvSpPr/>
          <p:nvPr/>
        </p:nvSpPr>
        <p:spPr>
          <a:xfrm>
            <a:off x="5410080" y="25146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5"/>
          <p:cNvSpPr/>
          <p:nvPr/>
        </p:nvSpPr>
        <p:spPr>
          <a:xfrm>
            <a:off x="6629400" y="3124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6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0B6EEBDF-56AF-4BE7-A0D7-049B917F781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nseasonalized vs. Seasonalized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75" name="Object 4"/>
          <p:cNvGraphicFramePr/>
          <p:nvPr/>
        </p:nvGraphicFramePr>
        <p:xfrm>
          <a:off x="838080" y="1581120"/>
          <a:ext cx="6681960" cy="459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81120"/>
                    <a:ext cx="668196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9E80048A-EA57-4676-8677-DD19B836A41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ime Series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tical axis measures the variable of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rizontal axis corresponds to the time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3579840" y="3051000"/>
          <a:ext cx="529416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9840" y="3051000"/>
                    <a:ext cx="529416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5"/>
          <p:cNvSpPr/>
          <p:nvPr/>
        </p:nvSpPr>
        <p:spPr>
          <a:xfrm>
            <a:off x="1371600" y="1600200"/>
            <a:ext cx="7238880" cy="10688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ime-series p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two-dimensional plot of time seri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DB47C5C-1CFF-4270-8765-B7C72DC4A02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0"/>
          <p:cNvSpPr/>
          <p:nvPr/>
        </p:nvSpPr>
        <p:spPr>
          <a:xfrm>
            <a:off x="4343400" y="2971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1696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orecasting Using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moothing Method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429000" y="1828800"/>
            <a:ext cx="1828800" cy="1191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Smooth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371600" y="3809880"/>
            <a:ext cx="1828800" cy="1191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486400" y="3809880"/>
            <a:ext cx="1828800" cy="1191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7"/>
          <p:cNvSpPr/>
          <p:nvPr/>
        </p:nvSpPr>
        <p:spPr>
          <a:xfrm>
            <a:off x="2286000" y="342900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22860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9"/>
          <p:cNvSpPr/>
          <p:nvPr/>
        </p:nvSpPr>
        <p:spPr>
          <a:xfrm>
            <a:off x="6400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C6B8952B-49D1-4367-A04A-B66B0750AA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ngle Exponential Smooth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weigh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ing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decline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cent observation weighted 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moothing and short term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4972AA3-C901-4769-9A90-E6B33AC457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ngle Exponential Smooth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ighting factor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ly cho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from 0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more smoothing, larg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less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igh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o 0 for smoothing out unwanted cyclical and irregula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o 1 for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010D26C9-FF09-4E2B-B731-2B0994A2E5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onential Smoothing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990720" y="1523880"/>
            <a:ext cx="716256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exponential smooth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5"/>
              <p:cNvSpPr txBox="1"/>
              <p:nvPr/>
            </p:nvSpPr>
            <p:spPr>
              <a:xfrm>
                <a:off x="2179800" y="2133720"/>
                <a:ext cx="4593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6"/>
              <p:cNvSpPr txBox="1"/>
              <p:nvPr/>
            </p:nvSpPr>
            <p:spPr>
              <a:xfrm>
                <a:off x="2209680" y="3657600"/>
                <a:ext cx="45054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2" name="Rectangle 7"/>
          <p:cNvSpPr/>
          <p:nvPr/>
        </p:nvSpPr>
        <p:spPr>
          <a:xfrm>
            <a:off x="1523880" y="4724280"/>
            <a:ext cx="632484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orecast value for period t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ctual value for perio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forecast value for perio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lpha (smoothing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1372680" y="31240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E6454AF4-D22F-441D-A3C6-76B123DE4F6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onential Smooth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use weigh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09480" y="2057400"/>
          <a:ext cx="6934320" cy="4627440"/>
        </p:xfrm>
        <a:graphic>
          <a:graphicData uri="http://schemas.openxmlformats.org/drawingml/2006/table">
            <a:tbl>
              <a:tblPr/>
              <a:tblGrid>
                <a:gridCol w="1143000"/>
                <a:gridCol w="1067040"/>
                <a:gridCol w="1447560"/>
                <a:gridCol w="32767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y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cast from prior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cast for next period (F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+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371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40)+(.8)(23)=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25)+(.8)(26.4)=26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27)+(.8)(26.12)=26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32)+(.8)(26.296)=27.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48)+(.8)(27.437)=31.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48)+(.8)(31.549)=31.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33)+(.8)(31.840)=32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37)+(.8)(32.872)=33.6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50)+(.8)(33.697)=36.9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09" name="Object 63"/>
              <p:cNvSpPr txBox="1"/>
              <p:nvPr/>
            </p:nvSpPr>
            <p:spPr>
              <a:xfrm>
                <a:off x="7696080" y="4495680"/>
                <a:ext cx="13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0" name="Text Box 105"/>
          <p:cNvSpPr/>
          <p:nvPr/>
        </p:nvSpPr>
        <p:spPr>
          <a:xfrm>
            <a:off x="7696080" y="2743200"/>
            <a:ext cx="14479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no prior information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06"/>
          <p:cNvSpPr/>
          <p:nvPr/>
        </p:nvSpPr>
        <p:spPr>
          <a:xfrm>
            <a:off x="6095880" y="3200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5104A069-AC81-46D1-B81B-D0A16695D1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ales vs. Smoothed Sa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819520" cy="45720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fluctuations have been smoot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smoothed value in this case is generally a little low, since the trend is upward sloping and the weighting factor is only 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Object 4"/>
          <p:cNvGraphicFramePr/>
          <p:nvPr/>
        </p:nvGraphicFramePr>
        <p:xfrm>
          <a:off x="3352680" y="2438280"/>
          <a:ext cx="5591160" cy="33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438280"/>
                    <a:ext cx="5591160" cy="33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BA7AB2E5-DCDC-4C60-A529-748B0237E9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ouble Exponential Smooth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uble exponential smoo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ometimes calle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onential smoothing with 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end exists, single exponential smoothing may need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smoothing co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ccount for 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52C54332-8588-4579-A73E-FF876F0012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ouble Exponential Smoothing Model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609480" y="3657600"/>
            <a:ext cx="815364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actual value in time 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 constant-process smoothing const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 trend-smoothing const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smoothed constant-process value for period 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smoothed trend value for period 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 forecast value for period t +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 = current time peri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5"/>
              <p:cNvSpPr txBox="1"/>
              <p:nvPr/>
            </p:nvSpPr>
            <p:spPr>
              <a:xfrm>
                <a:off x="2133720" y="1600200"/>
                <a:ext cx="4952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6"/>
              <p:cNvSpPr txBox="1"/>
              <p:nvPr/>
            </p:nvSpPr>
            <p:spPr>
              <a:xfrm>
                <a:off x="2057400" y="2286000"/>
                <a:ext cx="5181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7"/>
              <p:cNvSpPr txBox="1"/>
              <p:nvPr/>
            </p:nvSpPr>
            <p:spPr>
              <a:xfrm>
                <a:off x="3352680" y="3124080"/>
                <a:ext cx="2122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62677266-5D49-4D61-8DE1-D26DFF4BB91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ouble Exponential Smooth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exponential smoothing is generally done by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oothing constan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e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moothing i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ma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oothing constan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e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moothing i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FBBF4527-7D6B-49A5-824A-CEE36E69635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onential Smoothing in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5715000" cy="2590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ols / data analysis /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smo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damping factor” is  (1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5" descr="15-1"/>
          <p:cNvPicPr/>
          <p:nvPr/>
        </p:nvPicPr>
        <p:blipFill>
          <a:blip r:embed="rId1"/>
          <a:stretch/>
        </p:blipFill>
        <p:spPr>
          <a:xfrm>
            <a:off x="4800600" y="4191120"/>
            <a:ext cx="3800520" cy="2247840"/>
          </a:xfrm>
          <a:prstGeom prst="rect">
            <a:avLst/>
          </a:prstGeom>
          <a:ln w="0">
            <a:noFill/>
          </a:ln>
        </p:spPr>
      </p:pic>
      <p:sp>
        <p:nvSpPr>
          <p:cNvPr id="638" name="Freeform 7"/>
          <p:cNvSpPr/>
          <p:nvPr/>
        </p:nvSpPr>
        <p:spPr>
          <a:xfrm>
            <a:off x="2971800" y="4038480"/>
            <a:ext cx="1752480" cy="83844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0"/>
                </a:moveTo>
                <a:lnTo>
                  <a:pt x="0" y="432"/>
                </a:lnTo>
                <a:lnTo>
                  <a:pt x="1104" y="432"/>
                </a:lnTo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8"/>
          <p:cNvSpPr/>
          <p:nvPr/>
        </p:nvSpPr>
        <p:spPr>
          <a:xfrm>
            <a:off x="4724280" y="4724280"/>
            <a:ext cx="11430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9483FD04-9308-414E-9129-0C4BD7FE175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ime-Series Compon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429000" y="1828800"/>
            <a:ext cx="2209680" cy="515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-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724280" y="2819520"/>
            <a:ext cx="1903680" cy="8204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ica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934320" y="2819520"/>
            <a:ext cx="1904760" cy="8204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304920" y="2819520"/>
            <a:ext cx="1904760" cy="8204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2514600" y="2819520"/>
            <a:ext cx="1905120" cy="8204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4572000" y="2362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1295280" y="2590920"/>
            <a:ext cx="655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>
            <a:off x="12952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6"/>
          <p:cNvSpPr/>
          <p:nvPr/>
        </p:nvSpPr>
        <p:spPr>
          <a:xfrm>
            <a:off x="342900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56386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784872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E8BD42F3-A494-42C2-B54F-50B5DE3C61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importance of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component factors present in the time-serie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and interpreted ind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least square trend fitting and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and nonlinear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smoothing of data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and double 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E656524A-3E90-4A46-AE77-BB54F49C78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 rot="20940000">
            <a:off x="6783120" y="3827520"/>
            <a:ext cx="1904760" cy="39384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ward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nd Compon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run increase or decrease over 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verall upward or downward mov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aken over a long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598760" y="4049640"/>
            <a:ext cx="0" cy="235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600200" y="6402240"/>
            <a:ext cx="547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09480" y="3813120"/>
            <a:ext cx="106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781680" y="6324480"/>
            <a:ext cx="99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1600200" y="4262040"/>
            <a:ext cx="6000840" cy="1452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1523880" y="4651200"/>
            <a:ext cx="1141560" cy="144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2828880" y="4737240"/>
            <a:ext cx="97956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3886200" y="4346640"/>
            <a:ext cx="1141560" cy="12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5114880" y="4432320"/>
            <a:ext cx="979560" cy="97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6095880" y="3279600"/>
            <a:ext cx="1141560" cy="220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1446120" y="594504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2589120" y="449748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3732120" y="541188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4875120" y="419256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6018120" y="533556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7085160" y="312588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5252F483-B4F0-446F-AA27-E5FC026F00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914400" y="5791320"/>
            <a:ext cx="2743200" cy="39384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ward linear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nd Compon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 can be upward or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 can be linear or non-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914400" y="35812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914400" y="556272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57200" y="320040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581280" y="548640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914400" y="3962520"/>
            <a:ext cx="2209680" cy="1523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5"/>
          <p:cNvSpPr/>
          <p:nvPr/>
        </p:nvSpPr>
        <p:spPr>
          <a:xfrm>
            <a:off x="990720" y="388620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6"/>
          <p:cNvSpPr/>
          <p:nvPr/>
        </p:nvSpPr>
        <p:spPr>
          <a:xfrm>
            <a:off x="1295280" y="44197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7"/>
          <p:cNvSpPr/>
          <p:nvPr/>
        </p:nvSpPr>
        <p:spPr>
          <a:xfrm>
            <a:off x="2514600" y="50292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2286000" y="44956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9"/>
          <p:cNvSpPr/>
          <p:nvPr/>
        </p:nvSpPr>
        <p:spPr>
          <a:xfrm>
            <a:off x="1752480" y="46483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0"/>
          <p:cNvSpPr/>
          <p:nvPr/>
        </p:nvSpPr>
        <p:spPr>
          <a:xfrm>
            <a:off x="2971800" y="51814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5181480" y="5791320"/>
            <a:ext cx="2895840" cy="39384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ward nonlinear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5181480" y="35812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5181480" y="556272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4724280" y="320040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7848720" y="548640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7"/>
          <p:cNvSpPr/>
          <p:nvPr/>
        </p:nvSpPr>
        <p:spPr>
          <a:xfrm>
            <a:off x="5410080" y="51814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8"/>
          <p:cNvSpPr/>
          <p:nvPr/>
        </p:nvSpPr>
        <p:spPr>
          <a:xfrm>
            <a:off x="5562720" y="47242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9"/>
          <p:cNvSpPr/>
          <p:nvPr/>
        </p:nvSpPr>
        <p:spPr>
          <a:xfrm>
            <a:off x="6705720" y="41911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0"/>
          <p:cNvSpPr/>
          <p:nvPr/>
        </p:nvSpPr>
        <p:spPr>
          <a:xfrm>
            <a:off x="6248520" y="39625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1"/>
          <p:cNvSpPr/>
          <p:nvPr/>
        </p:nvSpPr>
        <p:spPr>
          <a:xfrm>
            <a:off x="6019920" y="44956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2"/>
          <p:cNvSpPr/>
          <p:nvPr/>
        </p:nvSpPr>
        <p:spPr>
          <a:xfrm>
            <a:off x="7086600" y="3809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3"/>
          <p:cNvSpPr/>
          <p:nvPr/>
        </p:nvSpPr>
        <p:spPr>
          <a:xfrm>
            <a:off x="7467480" y="4114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4"/>
          <p:cNvSpPr/>
          <p:nvPr/>
        </p:nvSpPr>
        <p:spPr>
          <a:xfrm>
            <a:off x="5486400" y="4038480"/>
            <a:ext cx="2286000" cy="1371600"/>
          </a:xfrm>
          <a:custGeom>
            <a:avLst/>
            <a:gdLst/>
            <a:ahLst/>
            <a:rect l="l" t="t" r="r" b="b"/>
            <a:pathLst>
              <a:path w="1440" h="864">
                <a:moveTo>
                  <a:pt x="0" y="864"/>
                </a:moveTo>
                <a:cubicBezTo>
                  <a:pt x="216" y="576"/>
                  <a:pt x="432" y="288"/>
                  <a:pt x="672" y="144"/>
                </a:cubicBezTo>
                <a:cubicBezTo>
                  <a:pt x="912" y="0"/>
                  <a:pt x="1176" y="0"/>
                  <a:pt x="1440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5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093CAFBC-BD89-48D5-9569-7E9B7760708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easonal Compon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hort-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ular wave-lik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within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monthly or quart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1905120" y="3592440"/>
            <a:ext cx="0" cy="242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905120" y="6019920"/>
            <a:ext cx="556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915840" y="3430440"/>
            <a:ext cx="144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276720" y="6019920"/>
            <a:ext cx="449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(Quarterl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1906560" y="4268520"/>
            <a:ext cx="1217520" cy="13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201840" y="4268880"/>
            <a:ext cx="1065240" cy="9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V="1">
            <a:off x="4272120" y="3962160"/>
            <a:ext cx="1060200" cy="121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5335560" y="3887640"/>
            <a:ext cx="106524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6478560" y="2972880"/>
            <a:ext cx="1065240" cy="205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1752480" y="55627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2971800" y="4114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4038480" y="4952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6324480" y="48769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8"/>
          <p:cNvSpPr/>
          <p:nvPr/>
        </p:nvSpPr>
        <p:spPr>
          <a:xfrm>
            <a:off x="7391520" y="28954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9"/>
          <p:cNvSpPr/>
          <p:nvPr/>
        </p:nvSpPr>
        <p:spPr>
          <a:xfrm rot="5400000">
            <a:off x="4647960" y="198108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667240" y="4724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810960" y="54975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4800960" y="44197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250680" y="54100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3124080" y="449532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4191120" y="533376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5334120" y="4191120"/>
            <a:ext cx="0" cy="304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 flipV="1">
            <a:off x="6477120" y="525744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user</cp:lastModifiedBy>
  <cp:lastPrinted>1998-11-22T23:37:53Z</cp:lastPrinted>
  <dcterms:modified xsi:type="dcterms:W3CDTF">2016-09-06T21:58:11Z</dcterms:modified>
  <cp:revision>84</cp:revision>
  <dc:subject>Chapter 15</dc:subject>
  <dc:title>Business Statistics: A Decision-Making Approach, 6th edition</dc:title>
</cp:coreProperties>
</file>