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F87C-A642-4773-91C9-8B18DC4EF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1F1F-952C-497D-8312-99FE9FA35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2097-C548-47AE-A9EB-B2F52C0DE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6F3A-B317-477E-85BF-7893701C7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2694-BAD1-4A53-A223-393417B3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18BB-1781-4DEC-A1D4-760902DD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E6C6-F1DA-4FEA-A619-F808B096C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BA74-4E79-4775-B58A-9880DCDD4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E821-98D8-402B-AC72-3E1B87B6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320-0EED-422F-A34C-C17B31770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8E18-4DFB-475B-BDE2-E3249C44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71D-7D31-420F-A49A-3EB690130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9814-A9A8-4A42-B153-9BF69016C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ACC-931E-4D05-A726-CE13BC3AF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B45C-B5D7-4EEE-B876-01125787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52A0-5295-4BEB-9C40-78C2CA2D1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50D9-590A-4865-AE41-0EB95B094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8E58-DED0-49C7-8F99-24DDAF84E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1744-2383-4613-A1D3-56552CA46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43CB-D26E-4CBD-881A-9C3EC501B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767-BE59-41C7-BE38-959B85EB8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3537-98EF-45A0-809B-00C31740E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4D6D-8D9F-4226-B94A-4EA35B8E2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0210-1801-4882-A9DA-F5BDF3ED8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874E-3C24-4392-B5FE-036EDB0A6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5FE6-C866-416D-999E-C46DB920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FB3A-85AF-4CB0-9724-02F15DD77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063-5447-447A-BE9C-4DE2785D0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E64B-C3B3-4B12-A5C8-BE320100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0446-4588-4109-B7C6-1862FB72C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EB67-F9AB-49FE-A58E-6D9A71AE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9156-1F43-4F94-AEC1-498B39799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48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48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7318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73188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1541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15416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810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623880"/>
            <a:ext cx="31680" cy="1052640"/>
          </a:xfrm>
          <a:prstGeom prst="rect">
            <a:avLst/>
          </a:pr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414440"/>
            <a:ext cx="8226360" cy="31680"/>
          </a:xfrm>
          <a:prstGeom prst="rect">
            <a:avLst/>
          </a:pr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28600" y="6172200"/>
            <a:ext cx="60948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228600" y="6172200"/>
            <a:ext cx="60948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609480" y="6342120"/>
            <a:ext cx="8526240" cy="315360"/>
            <a:chOff x="609480" y="6342120"/>
            <a:chExt cx="8526240" cy="315360"/>
          </a:xfrm>
        </p:grpSpPr>
        <p:sp>
          <p:nvSpPr>
            <p:cNvPr id="12" name="Freeform 14"/>
            <p:cNvSpPr/>
            <p:nvPr/>
          </p:nvSpPr>
          <p:spPr>
            <a:xfrm>
              <a:off x="609480" y="6580080"/>
              <a:ext cx="8526240" cy="77400"/>
            </a:xfrm>
            <a:custGeom>
              <a:avLst/>
              <a:gdLst>
                <a:gd name="textAreaLeft" fmla="*/ 0 w 8526240"/>
                <a:gd name="textAreaRight" fmla="*/ 8526600 w 852624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5226" h="49">
                  <a:moveTo>
                    <a:pt x="0" y="48"/>
                  </a:moveTo>
                  <a:lnTo>
                    <a:pt x="5225" y="48"/>
                  </a:lnTo>
                  <a:lnTo>
                    <a:pt x="522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48360" y="6460920"/>
              <a:ext cx="366840" cy="774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225" h="49">
                  <a:moveTo>
                    <a:pt x="0" y="48"/>
                  </a:moveTo>
                  <a:lnTo>
                    <a:pt x="224" y="48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0" y="48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664920" y="6342120"/>
              <a:ext cx="8470800" cy="80640"/>
            </a:xfrm>
            <a:custGeom>
              <a:avLst/>
              <a:gdLst>
                <a:gd name="textAreaLeft" fmla="*/ 0 w 8470800"/>
                <a:gd name="textAreaRight" fmla="*/ 8471160 w 84708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192" h="51">
                  <a:moveTo>
                    <a:pt x="0" y="50"/>
                  </a:moveTo>
                  <a:lnTo>
                    <a:pt x="5191" y="48"/>
                  </a:lnTo>
                  <a:lnTo>
                    <a:pt x="5191" y="0"/>
                  </a:lnTo>
                  <a:lnTo>
                    <a:pt x="12" y="0"/>
                  </a:lnTo>
                  <a:lnTo>
                    <a:pt x="0" y="50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  <p:sp>
        <p:nvSpPr>
          <p:cNvPr id="15" name="Freeform 17"/>
          <p:cNvSpPr/>
          <p:nvPr/>
        </p:nvSpPr>
        <p:spPr>
          <a:xfrm>
            <a:off x="6553080" y="6467400"/>
            <a:ext cx="2578320" cy="74520"/>
          </a:xfrm>
          <a:custGeom>
            <a:avLst/>
            <a:gdLst>
              <a:gd name="textAreaLeft" fmla="*/ 0 w 2578320"/>
              <a:gd name="textAreaRight" fmla="*/ 2578680 w 2578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716" h="51">
                <a:moveTo>
                  <a:pt x="0" y="50"/>
                </a:moveTo>
                <a:lnTo>
                  <a:pt x="3715" y="48"/>
                </a:lnTo>
                <a:lnTo>
                  <a:pt x="3715" y="0"/>
                </a:lnTo>
                <a:lnTo>
                  <a:pt x="8" y="0"/>
                </a:lnTo>
                <a:lnTo>
                  <a:pt x="0" y="50"/>
                </a:lnTo>
              </a:path>
            </a:pathLst>
          </a:cu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" name="Text Box 19"/>
          <p:cNvSpPr/>
          <p:nvPr/>
        </p:nvSpPr>
        <p:spPr>
          <a:xfrm>
            <a:off x="838080" y="63547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Copyright © 2011 Pearson Education, Inc. Publishing as Prentice Hall</a:t>
            </a:r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" name="Text Box 20"/>
          <p:cNvSpPr/>
          <p:nvPr/>
        </p:nvSpPr>
        <p:spPr>
          <a:xfrm>
            <a:off x="-170280" y="6356520"/>
            <a:ext cx="1095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8411"/>
                </a:solidFill>
                <a:latin typeface="Tahoma"/>
              </a:rPr>
              <a:t>4-</a:t>
            </a:r>
            <a:fld id="{505AD6E1-7D4C-48F0-ABA3-7AF027BB51CF}" type="slidenum">
              <a:rPr b="1" lang="en-US" sz="1200" spc="-1" strike="noStrike">
                <a:solidFill>
                  <a:srgbClr val="ee8411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5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6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  <p:sp>
            <p:nvSpPr>
              <p:cNvPr id="57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</p:grpSp>
        <p:grpSp>
          <p:nvGrpSpPr>
            <p:cNvPr id="58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9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  <p:sp>
            <p:nvSpPr>
              <p:cNvPr id="60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</p:grpSp>
        <p:sp>
          <p:nvSpPr>
            <p:cNvPr id="61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62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63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85e08"/>
                </a:solidFill>
                <a:latin typeface="Tahoma"/>
              </a:rPr>
              <a:t>Decision Support and Business Intelligence Systems</a:t>
            </a:r>
            <a:br>
              <a:rPr sz="4800"/>
            </a:br>
            <a:r>
              <a:rPr b="1" lang="en-US" sz="4000" spc="-1" strike="noStrike">
                <a:solidFill>
                  <a:srgbClr val="f85e08"/>
                </a:solidFill>
                <a:latin typeface="Tahoma"/>
              </a:rPr>
              <a:t>(8</a:t>
            </a:r>
            <a:r>
              <a:rPr b="1" lang="en-US" sz="4000" spc="-1" strike="noStrike" baseline="30000">
                <a:solidFill>
                  <a:srgbClr val="f85e08"/>
                </a:solidFill>
                <a:latin typeface="Tahoma"/>
              </a:rPr>
              <a:t>th</a:t>
            </a:r>
            <a:r>
              <a:rPr b="1" lang="en-US" sz="4000" spc="-1" strike="noStrike">
                <a:solidFill>
                  <a:srgbClr val="f85e08"/>
                </a:solidFill>
                <a:latin typeface="Tahoma"/>
              </a:rPr>
              <a:t> Ed., Prentice Hall)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657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hapter 4: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Modeling and Analysi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Tahoma"/>
              </a:rPr>
              <a:t>Certainty, Uncertainty and Risk</a:t>
            </a:r>
            <a:endParaRPr b="0" lang="en-US" sz="33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566120" cy="3105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752480" y="17524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Zones of Decision Making</a:t>
            </a: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Tahoma"/>
              </a:rPr>
              <a:t>Decision Making:Treating Certainty</a:t>
            </a:r>
            <a:endParaRPr b="0" lang="en-US" sz="33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ertainty Mod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ssume complete knowledg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l potential outcomes are know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y yield optimal solu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decision maker knows exactly what the outcome of each course of action will b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ision maker is to compute the optimal alternative or outcome with some optimization criterion in mind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: if the optimization criterion is least cost and you are considering two different brands of a product, which appear to be equal in value to you, one costing 20% less than the other, then, all other things being equal, you will choose the less expensive brand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cision making under certainty is rare because all other things are rarely equal. 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Linear programming is one of the techniques for finding an optimal solution under certainty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Tahoma"/>
              </a:rPr>
              <a:t>Decision Making: Uncertainty and Risk</a:t>
            </a:r>
            <a:endParaRPr b="0" lang="en-US" sz="33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ncertain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veral outcomes for each decis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bability of each outcome is unknow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nowledge would lead to less uncertain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cision under uncertainty is very difficul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nagers attempt to avoid uncertainty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tead they attempt to obtain more information so it can be treated under certainty 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me estimated probabilities are assigned to the outcomes and the decision making is done as if it is decision making under risk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Uncertainty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our Criteri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AXIMA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- find the alternative that maximizes the maximum outcome for every alternative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ptimistic approac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 Ex: stock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AXIMIN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- find the alternative that maximizes the minimum outcomes for every alternative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essimistic approac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 Ex : CD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QUALLY LIKELY-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nd the alternative with the highest average outcom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NIMAX REGRET-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es the maximum regret (regret is the difference between the payoff from the best decision and all the other decision payoff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Analysis: A Few Alternativ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ingle Goal Situation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ecision tables :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ganize information and knowledge in a systmatic ,tabular manner to prepare it for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ultiple criteria decision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eatures include 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cision variabl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describ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lternativ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urse of variable)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ncontrollable variabl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 Parameters : factors that effect the result variables nut not under control of decision mak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sult variables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flect intermediate outcomes in mathematical model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Tahoma"/>
              </a:rPr>
              <a:t>Decision Making: Risk</a:t>
            </a:r>
            <a:endParaRPr b="0" lang="en-US" sz="33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isk analysis (probabilistic decision making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ral outcomes for each decis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obability of each outcome is know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stead of optimizing the outcomes, the general rule is to optimize the expected outcom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As an example: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if you are faced with a choice between two actions one offering a 1% probability of a gain of $10000 and the other a 50% probability of a gain of $400, you as a rational decision maker will choose the second alternativ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16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et us suppose that based on several economic forecasts, the investor is able to estim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0.50% Solid Growth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0.30% Stagn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0.20% Infl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362320" y="3657600"/>
          <a:ext cx="4876560" cy="21240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of nature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id Growth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gn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ds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D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16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Risk analysi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e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expected values or Expected payoff (EP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cc"/>
                </a:solidFill>
                <a:latin typeface="Tahoma"/>
              </a:rPr>
              <a:t>outcome of first state of nature)*(its prob.) + (outcome of second state of  nature)*(its prob.)+…+ (outcome of last state of nature) * (its prob.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Tahoma"/>
              </a:rPr>
              <a:t>E.g. , In bonds yield  = 12(.5)+6(.3)+3(.2) = 8.4 percent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The Best decision is the one with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reatest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E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If the payoffs were in term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f costs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, the best decision would be the one with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owest E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49" name="Picture 9" descr="TBL04_03"/>
          <p:cNvPicPr/>
          <p:nvPr/>
        </p:nvPicPr>
        <p:blipFill>
          <a:blip r:embed="rId1"/>
          <a:stretch/>
        </p:blipFill>
        <p:spPr>
          <a:xfrm>
            <a:off x="762120" y="4572000"/>
            <a:ext cx="81676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ternative approach in decision making under risk is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inimize expected opportunity loss (EOL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ahoma"/>
              </a:rPr>
              <a:t>Opportunity loss, also called regret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L for an alternative is sum of all possible regrets of alternative, each weighted by probability of state of nature for that regret occurring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L (alternative i ) = (regret of first state of nature) x (probability of first state of nature) + (regret of second state of nature) x (probability of second state of nature) + . . . + (regret of last state of nature) x (probability of last state of natur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OL: Opportunity loss table (=regret tabl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905120" y="2590920"/>
          <a:ext cx="6095880" cy="19396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of nature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id Growth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gn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OL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ds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D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2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55" name="Oval 4"/>
          <p:cNvSpPr/>
          <p:nvPr/>
        </p:nvSpPr>
        <p:spPr>
          <a:xfrm>
            <a:off x="7086600" y="3429000"/>
            <a:ext cx="762120" cy="380880"/>
          </a:xfrm>
          <a:prstGeom prst="ellipse">
            <a:avLst/>
          </a:prstGeom>
          <a:noFill/>
          <a:ln w="9360">
            <a:solidFill>
              <a:srgbClr val="f85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8001000" y="3429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ahoma"/>
              </a:rPr>
              <a:t>Min</a:t>
            </a:r>
            <a:endParaRPr b="1" lang="en-US" sz="14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ajor Modeling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blem identification and environmental analysi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scanning the environment to figure out what problems exist and can be solved via a mod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variable identification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identifying the critical factors in a model and their relationship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: Influence diagram : Graphical representations of a mod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ctangle = a decision variabl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ircle  = uncontrollable or intermediate variabl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val = result (outcome) variable: intermediate or fina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riables are connected with arrows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indicates the direction of influence (relationship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1371600" y="3505320"/>
            <a:ext cx="533520" cy="1066680"/>
            <a:chOff x="1371600" y="3505320"/>
            <a:chExt cx="533520" cy="1066680"/>
          </a:xfrm>
        </p:grpSpPr>
        <p:sp>
          <p:nvSpPr>
            <p:cNvPr id="114" name="Rectangle 8"/>
            <p:cNvSpPr/>
            <p:nvPr/>
          </p:nvSpPr>
          <p:spPr>
            <a:xfrm>
              <a:off x="1371600" y="3505320"/>
              <a:ext cx="5335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15" name="Oval 9"/>
            <p:cNvSpPr/>
            <p:nvPr/>
          </p:nvSpPr>
          <p:spPr>
            <a:xfrm>
              <a:off x="1490760" y="3886200"/>
              <a:ext cx="2365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16" name="Oval 10"/>
            <p:cNvSpPr/>
            <p:nvPr/>
          </p:nvSpPr>
          <p:spPr>
            <a:xfrm>
              <a:off x="1371600" y="4267440"/>
              <a:ext cx="5335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8260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Maximum Likelihood Criter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entify the state of nature with the largest Probability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2. Choose the decisions alternative that has the largest Payoff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666880" y="3200400"/>
          <a:ext cx="4876920" cy="2124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of nature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id Growth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.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gn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ds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D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1523520"/>
            <a:ext cx="79646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ected Value of Perfect Information (EVPI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88400" indent="-4204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used to place an upper limit on what you should pay for information that will aid in making a better decisio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88400" indent="-4204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 increase in the EP that could be obtained if it were possible to learn the true state of nature before making the decis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88400" indent="-4204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 difference between the expected value under certainty and the expected value under risk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8080" y="1523880"/>
            <a:ext cx="79646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ected Value of Perfect Information (EVPI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VPI = A – B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= expected value with perfect inform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 = expected value without perfect inform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A: The optimal values for each value are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57480" indent="-4572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x Value (A)= 15*.5 +6.5*.3 +6.5*.2 =10.75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362320" y="4038480"/>
          <a:ext cx="4876560" cy="21034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of nature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id Growth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 .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gn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ds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D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1523880"/>
            <a:ext cx="7964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ected Value of Perfect Information (EVPI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 = expected value without perfect inform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B: we compute the expected values for each column first, and then select the max as below: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67" name="Picture 9" descr="TBL04_03"/>
          <p:cNvPicPr/>
          <p:nvPr/>
        </p:nvPicPr>
        <p:blipFill>
          <a:blip r:embed="rId1"/>
          <a:stretch/>
        </p:blipFill>
        <p:spPr>
          <a:xfrm>
            <a:off x="685800" y="3124080"/>
            <a:ext cx="8167680" cy="1859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1143000" y="51055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ahoma"/>
              </a:rPr>
              <a:t>EVPI =  10.75-8.4 = 2.55 $</a:t>
            </a:r>
            <a:endParaRPr b="1" lang="en-US" sz="1800" spc="-1" strike="noStrike">
              <a:solidFill>
                <a:srgbClr val="cc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FIG9-8"/>
          <p:cNvPicPr/>
          <p:nvPr/>
        </p:nvPicPr>
        <p:blipFill>
          <a:blip r:embed="rId1"/>
          <a:stretch/>
        </p:blipFill>
        <p:spPr>
          <a:xfrm>
            <a:off x="4267080" y="3809880"/>
            <a:ext cx="4496040" cy="2476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Analysis: A Few Alternativ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ngle Goal Situation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cision tre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raphical representation of relationship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ultiple criteria approach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monstrates complex relationship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mbersome, if many alternatives exis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33520" y="3886200"/>
            <a:ext cx="3504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How can a decision tree be used in decision making?</a:t>
            </a:r>
            <a:endParaRPr b="1" lang="en-US" sz="1600" spc="-1" strike="noStrike">
              <a:solidFill>
                <a:srgbClr val="cc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By showing the decision maker the possible outcomes that could result from a given choice, the tree gives the decision maker information by which to compare choices</a:t>
            </a:r>
            <a:endParaRPr b="1" lang="en-US" sz="1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tre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Five Step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1. Define the probl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2. Structure or draw the decision tre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3. Assign probabilities to the states of natur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4. Estimate the payoffs for each possible combination of  alternative and state of nature  Solve the problem by computing expected payoff (EP) for each state of nature nod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5. Make your decis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Tree Example (Self Study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is is just a beginning of ADM2302 course and Andrew does not know if he should attend all classes. He consulted some other students and came to the following conclusions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hances of passing a course while attending all classes are 80%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hances of passing a course while attending randomly are 50%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t is well known that professor who is teaching that course is giving second chance to the students who failed. They have to solve a pretty nasty case study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gain, Andrew estimates that chances of solving this case if he would go to all the classes are 60%, while they drop to just 10% if he would attend classes randomly. 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ndrew would be very happy if he passes the course (5 on a happiness scale of 0 - 5). Clearly, he would be very disappointed if he fails (0 on a happiness scale). 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Going to a classroom requires an effort and diminished happiness associated with passing the course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t goes down by 3 points (happiness scale) for attending all classes and 1 point for 39 random attendance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Optimization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via Mathematical Programming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thematical Programming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5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family of tools designed to help solve managerial problems in which the decision maker must allocate scarce resources among competing activities to optimize a measurable goal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ptimal solution: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MS PGothic"/>
              </a:rPr>
              <a:t>The best possible solution to a modeled problem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59960" indent="-37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Linear programming (LP):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mathematical model for the optimal solution of resource allocation problems. All the relationships are linea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0120" indent="-3740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mited quantity of economic resourc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0120" indent="-3740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location is usually restricted by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straints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5"/>
          <p:cNvSpPr/>
          <p:nvPr/>
        </p:nvSpPr>
        <p:spPr>
          <a:xfrm flipV="1">
            <a:off x="6095880" y="2057040"/>
            <a:ext cx="1981440" cy="1676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216920" y="326880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Line</a:t>
            </a: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1" name="Line 7"/>
          <p:cNvSpPr/>
          <p:nvPr/>
        </p:nvSpPr>
        <p:spPr>
          <a:xfrm flipH="1" flipV="1">
            <a:off x="6934320" y="3048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inear Programming Step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6284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1. Identify the …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ision variable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jective function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jective function coefficient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straint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apacities / Demand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2. Represent the mod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NDO: Write mathematical formul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CEL: Input data into specific cells in Exc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3. Run the model and observe the result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ensitivity, What-if, and              Goal Seeking Analysi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nsitivit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ssesses impact of change in inputs on outpu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liminates or reduces variabl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an be automatic or trial and erro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utomatic Sensitivity analysis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s performed in standard quantitative model implementation such as LP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rial and Error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hange in any variable or in severa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wo approaches: What-if and Goal Seek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ajor Modeling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forecasting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predicting the futur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 is essential for construction models because when a decision implemented, the results occur in the future.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-Commerce ( Information about purchases should be analyzed to predict demand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5 Rights (How to get the right product(s) to the right customer at the right price at the right time in the right format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RM and RMS rely heavily on forecasting techniques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edict the most profitable customer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se of multiple model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combining them to solve many parts of a complex probl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ach of which represents a different part of the decision – making problem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.g., the Procter and Gamble supply chain DSS include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Location model to locate distribution centre , a product strategy model, a demand- forecasting model, cost generation model ,…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ensitivity, What-if, and              Goal Seeking Analysi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hat-if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ssesses solutions based on changes in variables or assumptions (scenario analysi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: What will happen to the total inventory cost if the cost of carrying inventories increases by 10 percent?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2114640" cy="1295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724280" y="3886200"/>
            <a:ext cx="361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ensitivity, What-if, and              Goal Seeking Analysi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oal see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ckwards approach, starts with goa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termines values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put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needed to achieve goa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: what annual R&amp;D budget is needed for an annual  growth rate of 15 percent by 2014?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7724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ensitivity, What-if, and              Goal Seeking Analysi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240" y="1523880"/>
            <a:ext cx="7961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puting a Break-Even Point Using Goal See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lues that generate zero profi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Break –Even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= Fixed cost / (selling cost – variable cost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here : fixed cost =cost that not change such as tax, insurance ,.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lling price: the price that a unit sold fo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riable cost : related to production uni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roblem –Solving Search Method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Search methods used in the choice phase of problem solving includes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Analytical techniques , algorithms , blind searching and heuristic search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or normative models (Comparing all the outcomes of alternative) 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analytical approach is used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or descriptive models(a comparison of a limited number of alternatives is used) :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blindly or  heuristic s are used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roblem –Solving Search Method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Analytical Techniqu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Use mathematical formulas to derive optimal solu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olving structured problems (tactical or operationa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Ex: inventory management, resource allocatio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Analytical Techniques may use Algorithm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Algorithm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ep by step search process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Obtaining an optimal solution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4343400" cy="3276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380880" y="44197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  <a:ea typeface="Arial"/>
              </a:rPr>
              <a:t>Web search engines use algorithms To speed searches and produces accurate results</a:t>
            </a:r>
            <a:endParaRPr b="1" lang="en-US" sz="1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roblem –Solving Search Method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Blind Search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Problem solving is done by searching through the possible solu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The first search methods of problem solv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Arbitrary search approaches that are not guided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Two type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A complete enumeration : all alternatives are considered to find an optimal solution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Incomplete (Partial) : continues until a good –enough solution is found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Heuristic Search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Informal judgmental knowledge of an application area that constitute the rules of the good judgment in the field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ion is a process of designing a model of real system a model of real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urpose of understanding the behavior for the operation of the behavior for the operation of the system.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requently used in DSS to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ystem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llection of entities, ex: people machines that act and interact towards the accomplishment. 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te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llection of variables necessary to describe a system at a particular time relative to the objective of study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Bank model:  Could include number of busy tellers, time of arrival of each customer, etc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ystem can be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Discret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tate variables change instantaneously at separated points in tim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ank model:  State changes occur only when a customer arrives or depar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Continuou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tate variables change that continuously tracks system response over tim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irplane flight:  State variables like position, velocity change continuousl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mitate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ality and capture its richnes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echnique for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ducting experi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escriptive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not normative to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to “solve” very complex probl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Simulation is normally used only when a problem is too complex to be treated using numerical optimization technique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ajor Characteristics of 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95120" y="3962520"/>
            <a:ext cx="44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1" lang="en-US" sz="7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ajor Modeling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se of multiple mod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ypes of models: 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219680" indent="-332640"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tandard : built in to DSS or freestanding soft ware that can interface with a DS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219680" indent="-332640"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onstandard : constructed from scratch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odel categori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selecting the right type of model for the problem or sub-problem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(table 4.1)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odel managemen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coordinating a firm’s models and their us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odels like data, must be managed to maintain their integrity and their applicabili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nagement is done by MBMS 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knowledge-based modeling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how to take advantage of human knowledge in model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DSS use mostly quantitive models, wheres Expert systems use qualitiative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dvantages of 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The theory is fairly straightforwa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Great deal of time compress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Experiment with different alternativ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The model reflects manager’s perspect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Can handle wide variety of problem type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Can include the real complexities of problem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Produces important performance measur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Often i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 the only DSS modeling tool for  non-structured probl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imitations of 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guarantee an optimal solu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low and costly construction proces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transfer solutions and inferences to solve other problems (problem specific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oftware may require special skil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imulation Methodology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-511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real system and conduct repetitive experiments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1200" indent="-511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Step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1. Define problem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5. Conduct experimen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2. Construct simulation model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6. Evaluate resul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3. Test and validate model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7. Implement solution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4. Design experimen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85800" y="3666960"/>
            <a:ext cx="83059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82240" y="1523880"/>
            <a:ext cx="7961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isual interactive modeling (VIM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lso call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isual interactive problem solv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isual interactive model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isual interactive simulat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s computer graphics to present the impact of different management deci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integrated with GI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rs perform sensitivity analysi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atic or a dynamic (animation)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Visual Interactive Modeling (VIM) / Visual Interactive Simulation (VIS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ategories of Models </a:t>
            </a:r>
            <a:r>
              <a:rPr b="0" lang="en-US" sz="1400" spc="-1" strike="noStrike">
                <a:solidFill>
                  <a:srgbClr val="cc3300"/>
                </a:solidFill>
                <a:latin typeface="Tahoma"/>
              </a:rPr>
              <a:t>Table 4.1</a:t>
            </a:r>
            <a:endParaRPr b="0" lang="en-US" sz="1400" spc="-1" strike="noStrike">
              <a:solidFill>
                <a:srgbClr val="cc33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90720" y="1523880"/>
          <a:ext cx="7391160" cy="4791240"/>
        </p:xfrm>
        <a:graphic>
          <a:graphicData uri="http://schemas.openxmlformats.org/drawingml/2006/table">
            <a:tbl>
              <a:tblPr/>
              <a:tblGrid>
                <a:gridCol w="2209680"/>
                <a:gridCol w="2895480"/>
                <a:gridCol w="2286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tegory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Objective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echniqu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ptimiza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of problems with few alternativ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the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best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from a small number of alternativ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ecision tables, decision tre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ptimiza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via algorithm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the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best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from a large number of alternatives using a step-by-step proces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Linear and other mathematical programming model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ptimiza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via an analytic formula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the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best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in one step using a formula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ome inventory model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mulation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a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good enough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by experimenting with a dynamic model of the system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veral types of simulation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Heuristic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a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good enough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using “common-sense” rul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Heuristic programming and expert system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dictive and other model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dict future occurrences, what-if analysis, … 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orecasting, Markov chains, financial, …  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tatic and Dynamic Model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tatic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ngle snapshot of the situation, every thing occurs in a single interv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cribes relationships among parts of a system at a point in time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: A decision about buy a product , Annual income statemen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ynamic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valuate scenarios that change over tim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ime dependen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: In determining how many checkout points should be open in a supermarke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5 year Profit and Loss projection in which input data (costs, prices, and quantities ) change from year to yea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SS Modeling with Spreadsheet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preadsheet: most popular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end-user modeling too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exible and easy to us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werful functions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d-in functions and solvers (small programs designed to extend the capabilities of a spreadsheet packag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grammability (via macro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-if analysi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al see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ple database managem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corporates both static and dynamic model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amples: Microsoft Excel, Lotus 1-2-3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50560"/>
            <a:ext cx="822960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Types of Decision Making Environment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ision Making under Certaint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ision Making under Risk (Deci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king with probability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ision Making Under Uncertainty (Decision making without probability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The Six Steps in Decision Theory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early define the problem at han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ist all the possible alternatives (decisions to be mad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e possible outcomes (state of nature) of each alterna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ist the payoff or the profit of each combination of alternatives and outcom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lect one of the mathematical decision theory models (e.g. Decision Making under Risk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pply the model and make your decis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21:58:50Z</dcterms:created>
  <dc:creator>Dursun Delen</dc:creator>
  <dc:description/>
  <dc:language>en-US</dc:language>
  <cp:lastModifiedBy>ksu</cp:lastModifiedBy>
  <cp:lastPrinted>2000-12-01T14:01:59Z</cp:lastPrinted>
  <dcterms:modified xsi:type="dcterms:W3CDTF">2014-04-21T06:32:10Z</dcterms:modified>
  <cp:revision>471</cp:revision>
  <dc:subject/>
  <dc:title>DSS Chapter 1</dc:title>
</cp:coreProperties>
</file>