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6264-1998-4E0E-9AE1-CBB15A3A7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5F09-6895-4D05-8708-6ED2F4387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F2AE-DE79-421C-A13F-2CAAFA768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7DE1-93F7-4ADC-AB77-02F450586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C4CB-DCA9-4140-AE00-CF5BBF46F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4349-8B84-4CFE-9328-137FA913A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0D3F-A865-4BD4-8584-A0FB1EE40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A91B-3266-4F9B-BE75-D689BAF4E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EDE1-82B6-425F-A886-6E37505B1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5C32-8905-494D-BCE6-4509704DC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CBF8-F1A7-4E7D-9596-6D9CB539F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7F9F-53F1-41B2-B63A-EE4F8C2DD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0702-4F43-448D-9B5A-C747711A4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2E6A-C55A-47CE-A992-A4B4CBC80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1045-1554-49BF-9AAC-0CE0C5511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62DF-B0B2-4515-9A1C-79D66C548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D41E-1DE1-425F-804C-0B7086563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798F-C334-47AF-A02E-2F81399FE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814B-742B-4A4F-A756-554D3294B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E35B-C7B4-4EED-82BF-DE03B3B0A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458A-6B97-4251-89B0-9B4D24E46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DD92-1427-4B03-AB78-EAD3B446F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AAC5-5565-4AFE-B6A9-72492B8A0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8F56-E1C1-49AF-8DC8-EBEE13680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14BE-1690-464D-9AA0-EC29F48E2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6BC6-6482-4AFE-AA1E-CB3991170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D9C9-D390-410C-834C-452F26E67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B463-80FF-43F6-BC41-DB6DAA87A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8004-7876-415D-BAFF-2E06676AE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3AE1-7EA1-4B32-B436-11CC5DA74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9C6B-43BF-4A11-B939-BFDAFBC4A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44AC-87DB-4DB2-85CA-C17CB9C35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1826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652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106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382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1826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8106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4382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50560" y="250560"/>
            <a:ext cx="7792920" cy="48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52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26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52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06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382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26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06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382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0560" y="250560"/>
            <a:ext cx="7792920" cy="48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652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73188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73188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15416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15416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810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623880"/>
            <a:ext cx="31680" cy="1052640"/>
          </a:xfrm>
          <a:prstGeom prst="rect">
            <a:avLst/>
          </a:prstGeom>
          <a:solidFill>
            <a:srgbClr val="ee84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414440"/>
            <a:ext cx="8226360" cy="31680"/>
          </a:xfrm>
          <a:prstGeom prst="rect">
            <a:avLst/>
          </a:prstGeom>
          <a:solidFill>
            <a:srgbClr val="ee84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28600" y="6172200"/>
            <a:ext cx="609480" cy="336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" name="Text Box 12"/>
          <p:cNvSpPr/>
          <p:nvPr/>
        </p:nvSpPr>
        <p:spPr>
          <a:xfrm>
            <a:off x="228600" y="6172200"/>
            <a:ext cx="609480" cy="336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609480" y="6342120"/>
            <a:ext cx="8526240" cy="315360"/>
            <a:chOff x="609480" y="6342120"/>
            <a:chExt cx="8526240" cy="315360"/>
          </a:xfrm>
        </p:grpSpPr>
        <p:sp>
          <p:nvSpPr>
            <p:cNvPr id="12" name="Freeform 14"/>
            <p:cNvSpPr/>
            <p:nvPr/>
          </p:nvSpPr>
          <p:spPr>
            <a:xfrm>
              <a:off x="609480" y="6580080"/>
              <a:ext cx="8526240" cy="77400"/>
            </a:xfrm>
            <a:custGeom>
              <a:avLst/>
              <a:gdLst>
                <a:gd name="textAreaLeft" fmla="*/ 0 w 8526240"/>
                <a:gd name="textAreaRight" fmla="*/ 8526600 w 8526240"/>
                <a:gd name="textAreaTop" fmla="*/ 0 h 77400"/>
                <a:gd name="textAreaBottom" fmla="*/ 77400 h 77400"/>
              </a:gdLst>
              <a:ahLst/>
              <a:rect l="textAreaLeft" t="textAreaTop" r="textAreaRight" b="textAreaBottom"/>
              <a:pathLst>
                <a:path w="5226" h="49">
                  <a:moveTo>
                    <a:pt x="0" y="48"/>
                  </a:moveTo>
                  <a:lnTo>
                    <a:pt x="5225" y="48"/>
                  </a:lnTo>
                  <a:lnTo>
                    <a:pt x="522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solidFill>
              <a:srgbClr val="ee8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48360" y="6460920"/>
              <a:ext cx="366840" cy="774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77400"/>
                <a:gd name="textAreaBottom" fmla="*/ 77400 h 77400"/>
              </a:gdLst>
              <a:ahLst/>
              <a:rect l="textAreaLeft" t="textAreaTop" r="textAreaRight" b="textAreaBottom"/>
              <a:pathLst>
                <a:path w="225" h="49">
                  <a:moveTo>
                    <a:pt x="0" y="48"/>
                  </a:moveTo>
                  <a:lnTo>
                    <a:pt x="224" y="48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0" y="48"/>
                  </a:lnTo>
                </a:path>
              </a:pathLst>
            </a:custGeom>
            <a:solidFill>
              <a:srgbClr val="ee8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664920" y="6342120"/>
              <a:ext cx="8470800" cy="80640"/>
            </a:xfrm>
            <a:custGeom>
              <a:avLst/>
              <a:gdLst>
                <a:gd name="textAreaLeft" fmla="*/ 0 w 8470800"/>
                <a:gd name="textAreaRight" fmla="*/ 8471160 w 84708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192" h="51">
                  <a:moveTo>
                    <a:pt x="0" y="50"/>
                  </a:moveTo>
                  <a:lnTo>
                    <a:pt x="5191" y="48"/>
                  </a:lnTo>
                  <a:lnTo>
                    <a:pt x="5191" y="0"/>
                  </a:lnTo>
                  <a:lnTo>
                    <a:pt x="12" y="0"/>
                  </a:lnTo>
                  <a:lnTo>
                    <a:pt x="0" y="50"/>
                  </a:lnTo>
                </a:path>
              </a:pathLst>
            </a:custGeom>
            <a:solidFill>
              <a:srgbClr val="ee8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</p:grpSp>
      <p:sp>
        <p:nvSpPr>
          <p:cNvPr id="15" name="Freeform 17"/>
          <p:cNvSpPr/>
          <p:nvPr/>
        </p:nvSpPr>
        <p:spPr>
          <a:xfrm>
            <a:off x="6553080" y="6467400"/>
            <a:ext cx="2578320" cy="74520"/>
          </a:xfrm>
          <a:custGeom>
            <a:avLst/>
            <a:gdLst>
              <a:gd name="textAreaLeft" fmla="*/ 0 w 2578320"/>
              <a:gd name="textAreaRight" fmla="*/ 2578680 w 25783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3716" h="51">
                <a:moveTo>
                  <a:pt x="0" y="50"/>
                </a:moveTo>
                <a:lnTo>
                  <a:pt x="3715" y="48"/>
                </a:lnTo>
                <a:lnTo>
                  <a:pt x="3715" y="0"/>
                </a:lnTo>
                <a:lnTo>
                  <a:pt x="8" y="0"/>
                </a:lnTo>
                <a:lnTo>
                  <a:pt x="0" y="50"/>
                </a:lnTo>
              </a:path>
            </a:pathLst>
          </a:custGeom>
          <a:solidFill>
            <a:srgbClr val="ee84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6" name="Text Box 19"/>
          <p:cNvSpPr/>
          <p:nvPr/>
        </p:nvSpPr>
        <p:spPr>
          <a:xfrm>
            <a:off x="838080" y="6354720"/>
            <a:ext cx="556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cc"/>
                </a:solidFill>
                <a:latin typeface="Arial"/>
              </a:rPr>
              <a:t>Copyright © 2011 Pearson Education, Inc. Publishing as Prentice Hall</a:t>
            </a:r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7" name="Text Box 20"/>
          <p:cNvSpPr/>
          <p:nvPr/>
        </p:nvSpPr>
        <p:spPr>
          <a:xfrm>
            <a:off x="-170280" y="6356520"/>
            <a:ext cx="1095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e8411"/>
                </a:solidFill>
                <a:latin typeface="Tahoma"/>
              </a:rPr>
              <a:t>4-</a:t>
            </a:r>
            <a:fld id="{DCADAF23-A7E5-4510-A07C-3F009F7197BD}" type="slidenum">
              <a:rPr b="1" lang="en-US" sz="1200" spc="-1" strike="noStrike">
                <a:solidFill>
                  <a:srgbClr val="ee8411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5" name="Group 1027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6" name="Rectangle 1028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3300"/>
                  </a:solidFill>
                  <a:latin typeface="Tahoma"/>
                </a:endParaRPr>
              </a:p>
            </p:txBody>
          </p:sp>
          <p:sp>
            <p:nvSpPr>
              <p:cNvPr id="57" name="Rectangle 1029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3300"/>
                  </a:solidFill>
                  <a:latin typeface="Tahoma"/>
                </a:endParaRPr>
              </a:p>
            </p:txBody>
          </p:sp>
        </p:grpSp>
        <p:grpSp>
          <p:nvGrpSpPr>
            <p:cNvPr id="58" name="Group 1030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9" name="Rectangle 1031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3300"/>
                  </a:solidFill>
                  <a:latin typeface="Tahoma"/>
                </a:endParaRPr>
              </a:p>
            </p:txBody>
          </p:sp>
          <p:sp>
            <p:nvSpPr>
              <p:cNvPr id="60" name="Rectangle 1032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3300"/>
                  </a:solidFill>
                  <a:latin typeface="Tahoma"/>
                </a:endParaRPr>
              </a:p>
            </p:txBody>
          </p:sp>
        </p:grpSp>
        <p:sp>
          <p:nvSpPr>
            <p:cNvPr id="61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  <p:sp>
          <p:nvSpPr>
            <p:cNvPr id="62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  <p:sp>
          <p:nvSpPr>
            <p:cNvPr id="63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4582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85e08"/>
                </a:solidFill>
                <a:latin typeface="Tahoma"/>
              </a:rPr>
              <a:t>Decision Support and Business Intelligence Systems</a:t>
            </a:r>
            <a:br>
              <a:rPr sz="4800"/>
            </a:br>
            <a:r>
              <a:rPr b="1" lang="en-US" sz="4000" spc="-1" strike="noStrike">
                <a:solidFill>
                  <a:srgbClr val="f85e08"/>
                </a:solidFill>
                <a:latin typeface="Tahoma"/>
              </a:rPr>
              <a:t>(8</a:t>
            </a:r>
            <a:r>
              <a:rPr b="1" lang="en-US" sz="4000" spc="-1" strike="noStrike" baseline="30000">
                <a:solidFill>
                  <a:srgbClr val="f85e08"/>
                </a:solidFill>
                <a:latin typeface="Tahoma"/>
              </a:rPr>
              <a:t>th</a:t>
            </a:r>
            <a:r>
              <a:rPr b="1" lang="en-US" sz="4000" spc="-1" strike="noStrike">
                <a:solidFill>
                  <a:srgbClr val="f85e08"/>
                </a:solidFill>
                <a:latin typeface="Tahoma"/>
              </a:rPr>
              <a:t> Ed., Prentice Hall)</a:t>
            </a:r>
            <a:endParaRPr b="0" lang="en-US" sz="40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3657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Chapter 4:</a:t>
            </a:r>
            <a:endParaRPr b="0" lang="en-US" sz="40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Modeling and Analysis</a:t>
            </a: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3300"/>
                </a:solidFill>
                <a:latin typeface="Tahoma"/>
              </a:rPr>
              <a:t>Certainty, Uncertainty and Risk</a:t>
            </a:r>
            <a:endParaRPr b="0" lang="en-US" sz="33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566120" cy="31053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1752480" y="17524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Zones of Decision Making</a:t>
            </a: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3300"/>
                </a:solidFill>
                <a:latin typeface="Tahoma"/>
              </a:rPr>
              <a:t>Decision Making:Treating Certainty</a:t>
            </a:r>
            <a:endParaRPr b="0" lang="en-US" sz="33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ertainty Model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ssume complete knowledg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ll potential outcomes are know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ay yield optimal solu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decision maker knows exactly what the outcome of each course of action will be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cision maker is to compute the optimal alternative or outcome with some optimization criterion in mind.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x: if the optimization criterion is least cost and you are considering two different brands of a product, which appear to be equal in value to you, one costing 20% less than the other, then, all other things being equal, you will choose the less expensive brand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decision making under certainty is rare because all other things are rarely equal. </a:t>
            </a:r>
            <a:endParaRPr b="0" lang="en-US" sz="1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Linear programming is one of the techniques for finding an optimal solution under certainty</a:t>
            </a:r>
            <a:endParaRPr b="0" lang="en-US" sz="1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3300"/>
                </a:solidFill>
                <a:latin typeface="Tahoma"/>
              </a:rPr>
              <a:t>Decision Making: Uncertainty and Risk</a:t>
            </a:r>
            <a:endParaRPr b="0" lang="en-US" sz="33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ncertain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veral outcomes for each decisio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obability of each outcome is unknow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nowledge would lead to less uncertain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cision under uncertainty is very difficul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anagers attempt to avoid uncertainty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stead they attempt to obtain more information so it can be treated under certainty 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ome estimated probabilities are assigned to the outcomes and the decision making is done as if it is decision making under risk.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Making Under Uncertainty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Four Criteri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AXIMA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- find the alternative that maximizes the maximum outcome for every alternative (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Optimistic approach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) Ex: stock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AXIMIN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- find the alternative that maximizes the minimum outcomes for every alternative (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essimistic approach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) Ex : CD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QUALLY LIKELY-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nd the alternative with the highest average outcom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INIMAX REGRET-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inimizes the maximum regret (regret is the difference between the payoff from the best decision and all the other decision payoffs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Analysis: A Few Alternativ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ingle Goal Situation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ecision tables :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rganize information and knowledge in a systmatic ,tabular manner to prepare it for analysi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ultiple criteria decision analysi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eatures include 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Decision variable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: describ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lternative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urse of variable)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ncontrollable variable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, Parameters : factors that effect the result variables nut not under control of decision maker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esult variables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flect intermediate outcomes in mathematical model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3300"/>
                </a:solidFill>
                <a:latin typeface="Tahoma"/>
              </a:rPr>
              <a:t>Decision Making: Risk</a:t>
            </a:r>
            <a:endParaRPr b="0" lang="en-US" sz="33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isk analysis (probabilistic decision making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veral outcomes for each decis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robability of each outcome is know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stead of optimizing the outcomes, the general rule is to optimize the expected outcome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As an example: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if you are faced with a choice between two actions one offering a 1% probability of a gain of $10000 and the other a 50% probability of a gain of $400, you as a rational decision maker will choose the second alternative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nvestment Example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Making Under Risk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16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et us suppose that based on several economic forecasts, the investor is able to estim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0.50% Solid Growth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0.30% Stagn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0.20% Infl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362320" y="3657600"/>
          <a:ext cx="4876560" cy="21240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 of nature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</a:t>
                      </a:r>
                      <a:endParaRPr b="1" lang="en-US" sz="14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id Growth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gnation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lation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nds</a:t>
                      </a:r>
                      <a:endParaRPr b="1" lang="en-US" sz="14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cks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Ds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nvestment Example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Making Under Risk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169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ahoma"/>
              </a:rPr>
              <a:t>Risk analysis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ute 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expected values or Expected payoff (EP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cc"/>
                </a:solidFill>
                <a:latin typeface="Tahoma"/>
              </a:rPr>
              <a:t>outcome of first state of nature)*(its prob.) + (outcome of second state of  nature)*(its prob.)+…+ (outcome of last state of nature) * (its prob.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Tahoma"/>
              </a:rPr>
              <a:t>E.g. , In bonds yield  = 12(.5)+6(.3)+3(.2) = 8.4 percent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The Best decision is the one with th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greatest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EP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If the payoffs were in term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of costs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, the best decision would be the one with th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lowest EP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49" name="Picture 9" descr="TBL04_03"/>
          <p:cNvPicPr/>
          <p:nvPr/>
        </p:nvPicPr>
        <p:blipFill>
          <a:blip r:embed="rId1"/>
          <a:stretch/>
        </p:blipFill>
        <p:spPr>
          <a:xfrm>
            <a:off x="762120" y="4572000"/>
            <a:ext cx="81676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nvestment Example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Making Under Risk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lternative approach in decision making under risk is 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inimize expected opportunity loss (EOL)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ahoma"/>
              </a:rPr>
              <a:t>Opportunity loss, also called regret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OL for an alternative is sum of all possible regrets of alternative, each weighted by probability of state of nature for that regret occurring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OL (alternative i ) = (regret of first state of nature) x (probability of first state of nature) + (regret of second state of nature) x (probability of second state of nature) + . . . + (regret of last state of nature) x (probability of last state of nature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nvestment Example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Making Under Risk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82600" y="1523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OL: Opportunity loss table (=regret tabl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905120" y="2590920"/>
          <a:ext cx="6095880" cy="19396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 of nature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</a:t>
                      </a:r>
                      <a:endParaRPr b="1" lang="en-US" sz="14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id Growth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gnation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lation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OL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nds</a:t>
                      </a:r>
                      <a:endParaRPr b="1" lang="en-US" sz="14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cks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Ds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2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55" name="Oval 4"/>
          <p:cNvSpPr/>
          <p:nvPr/>
        </p:nvSpPr>
        <p:spPr>
          <a:xfrm>
            <a:off x="7086600" y="3429000"/>
            <a:ext cx="762120" cy="380880"/>
          </a:xfrm>
          <a:prstGeom prst="ellipse">
            <a:avLst/>
          </a:prstGeom>
          <a:noFill/>
          <a:ln w="9360">
            <a:solidFill>
              <a:srgbClr val="f85e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8001000" y="34290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ahoma"/>
              </a:rPr>
              <a:t>Min</a:t>
            </a:r>
            <a:endParaRPr b="1" lang="en-US" sz="14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ajor Modeling Issu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oblem identification and environmental analysi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: scanning the environment to figure out what problems exist and can be solved via a mod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variable identification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: identifying the critical factors in a model and their relationships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x: Influence diagram : Graphical representations of a mode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ectangle = a decision variabl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ircle  = uncontrollable or intermediate variabl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val = result (outcome) variable: intermediate or fina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ariables are connected with arrows </a:t>
            </a:r>
            <a:r>
              <a:rPr b="0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indicates the direction of influence (relationship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1371600" y="3505320"/>
            <a:ext cx="533520" cy="1066680"/>
            <a:chOff x="1371600" y="3505320"/>
            <a:chExt cx="533520" cy="1066680"/>
          </a:xfrm>
        </p:grpSpPr>
        <p:sp>
          <p:nvSpPr>
            <p:cNvPr id="114" name="Rectangle 8"/>
            <p:cNvSpPr/>
            <p:nvPr/>
          </p:nvSpPr>
          <p:spPr>
            <a:xfrm>
              <a:off x="1371600" y="3505320"/>
              <a:ext cx="5335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  <p:sp>
          <p:nvSpPr>
            <p:cNvPr id="115" name="Oval 9"/>
            <p:cNvSpPr/>
            <p:nvPr/>
          </p:nvSpPr>
          <p:spPr>
            <a:xfrm>
              <a:off x="1490760" y="3886200"/>
              <a:ext cx="2365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  <p:sp>
          <p:nvSpPr>
            <p:cNvPr id="116" name="Oval 10"/>
            <p:cNvSpPr/>
            <p:nvPr/>
          </p:nvSpPr>
          <p:spPr>
            <a:xfrm>
              <a:off x="1371600" y="4267440"/>
              <a:ext cx="5335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cc33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nvestment Example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Making Under Risk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82600" y="1523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Maximum Likelihood Criterio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dentify the state of nature with the largest Probability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2. Choose the decisions alternative that has the largest Payoff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666880" y="3200400"/>
          <a:ext cx="4876920" cy="21240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 of nature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</a:t>
                      </a:r>
                      <a:endParaRPr b="1" lang="en-US" sz="14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id Growth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.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gnation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lation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nds</a:t>
                      </a:r>
                      <a:endParaRPr b="1" lang="en-US" sz="14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cks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Ds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nvestment Example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Making Under Risk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8080" y="1523520"/>
            <a:ext cx="79646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xpected Value of Perfect Information (EVPI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88400" indent="-4204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s used to place an upper limit on what you should pay for information that will aid in making a better decision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88400" indent="-4204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s the increase in the EP that could be obtained if it were possible to learn the true state of nature before making the decis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88400" indent="-4204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s the difference between the expected value under certainty and the expected value under risk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nvestment Example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Making Under Risk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8080" y="1523880"/>
            <a:ext cx="79646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xpected Value of Perfect Information (EVPI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VPI = A – B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 = expected value with perfect inform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B = expected value without perfect inform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 A: The optimal values for each value are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257480" indent="-4572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Max Value (A)= 15*.5 +6.5*.3 +6.5*.2 =10.75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362320" y="4038480"/>
          <a:ext cx="4876560" cy="21034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 of nature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</a:t>
                      </a:r>
                      <a:endParaRPr b="1" lang="en-US" sz="14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id Growth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 .</a:t>
                      </a: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5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gnation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lation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%</a:t>
                      </a:r>
                      <a:endParaRPr b="1" lang="en-US" sz="12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nds</a:t>
                      </a:r>
                      <a:endParaRPr b="1" lang="en-US" sz="14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cks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Ds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6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6.5</a:t>
                      </a:r>
                      <a:endParaRPr b="1" lang="en-US" sz="18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Investment Example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Making Under Risk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8080" y="1523880"/>
            <a:ext cx="79646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xpected Value of Perfect Information (EVPI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B = expected value without perfect inform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 B: we compute the expected values for each column first, and then select the max as below: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67" name="Picture 9" descr="TBL04_03"/>
          <p:cNvPicPr/>
          <p:nvPr/>
        </p:nvPicPr>
        <p:blipFill>
          <a:blip r:embed="rId1"/>
          <a:stretch/>
        </p:blipFill>
        <p:spPr>
          <a:xfrm>
            <a:off x="685800" y="3124080"/>
            <a:ext cx="8167680" cy="18590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5"/>
          <p:cNvSpPr/>
          <p:nvPr/>
        </p:nvSpPr>
        <p:spPr>
          <a:xfrm>
            <a:off x="1143000" y="51055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ahoma"/>
              </a:rPr>
              <a:t>EVPI =  10.75-8.4 = 2.55 $</a:t>
            </a:r>
            <a:endParaRPr b="1" lang="en-US" sz="1800" spc="-1" strike="noStrike">
              <a:solidFill>
                <a:srgbClr val="cc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cc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FIG9-8"/>
          <p:cNvPicPr/>
          <p:nvPr/>
        </p:nvPicPr>
        <p:blipFill>
          <a:blip r:embed="rId1"/>
          <a:stretch/>
        </p:blipFill>
        <p:spPr>
          <a:xfrm>
            <a:off x="4267080" y="3809880"/>
            <a:ext cx="4496040" cy="2476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Analysis: A Few Alternativ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ngle Goal Situation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cision tre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raphical representation of relationship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ultiple criteria approach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monstrates complex relationship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mbersome, if many alternatives exist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533520" y="3886200"/>
            <a:ext cx="3504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How can a decision tree be used in decision making?</a:t>
            </a:r>
            <a:endParaRPr b="1" lang="en-US" sz="1600" spc="-1" strike="noStrike">
              <a:solidFill>
                <a:srgbClr val="cc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By showing the decision maker the possible outcomes that could result from a given choice, the tree gives the decision maker information by which to compare choices</a:t>
            </a:r>
            <a:endParaRPr b="1" lang="en-US" sz="16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tre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Five Step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1. Define the problem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2. Structure or draw the decision tre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3. Assign probabilities to the states of natur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4. Estimate the payoffs for each possible combination of  alternative and state of nature  Solve the problem by computing expected payoff (EP) for each state of nature nod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5. Make your decis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Decision Tree Example (Self Study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This is just a beginning of ADM2302 course and Andrew does not know if he should attend all classes. He consulted some other students and came to the following conclusions: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•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chances of passing a course while attending all classes are 80%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•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chances of passing a course while attending randomly are 50%.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t is well known that professor who is teaching that course is giving second chance to the students who failed. They have to solve a pretty nasty case study.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Again, Andrew estimates that chances of solving this case if he would go to all the classes are 60%, while they drop to just 10% if he would attend classes randomly. 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Andrew would be very happy if he passes the course (5 on a happiness scale of 0 - 5). Clearly, he would be very disappointed if he fails (0 on a happiness scale). 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Going to a classroom requires an effort and diminished happiness associated with passing the course.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t goes down by 3 points (happiness scale) for attending all classes and 1 point for 39 random attendance.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Optimization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via Mathematical Programming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athematical Programming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5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family of tools designed to help solve managerial problems in which the decision maker must allocate scarce resources among competing activities to optimize a measurable goal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ptimal solution: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MS PGothic"/>
              </a:rPr>
              <a:t>The best possible solution to a modeled problem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59960" indent="-374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Linear programming (LP):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mathematical model for the optimal solution of resource allocation problems. All the relationships are linea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0120" indent="-3740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imited quantity of economic resourc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0120" indent="-3740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llocation is usually restricted by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straints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01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Line 5"/>
          <p:cNvSpPr/>
          <p:nvPr/>
        </p:nvSpPr>
        <p:spPr>
          <a:xfrm flipV="1">
            <a:off x="6095880" y="2057040"/>
            <a:ext cx="1981440" cy="1676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7216920" y="326880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Line</a:t>
            </a:r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81" name="Line 7"/>
          <p:cNvSpPr/>
          <p:nvPr/>
        </p:nvSpPr>
        <p:spPr>
          <a:xfrm flipH="1" flipV="1">
            <a:off x="6934320" y="30481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Linear Programming Step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6284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1. Identify the …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cision variables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bjective function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bjective function coefficients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nstraints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apacities / Demand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0972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2. Represent the mode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INDO: Write mathematical formula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XCEL: Input data into specific cells in Exce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3. Run the model and observe the result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Sensitivity, What-if, and              Goal Seeking Analysi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796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nsitivity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ssesses impact of change in inputs on output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liminates or reduces variabl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an be automatic or trial and error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utomatic Sensitivity analysis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s performed in standard quantitative model implementation such as LP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Trial and Error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hange in any variable or in severa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wo approaches: What-if and Goal Seeking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ajor Modeling Issu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forecasting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: predicting the futur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t is essential for construction models because when a decision implemented, the results occur in the future.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-Commerce ( Information about purchases should be analyzed to predict demand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5 Rights (How to get the right product(s) to the right customer at the right price at the right time in the right format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RM and RMS rely heavily on forecasting techniques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edict the most profitable customer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se of multiple model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: combining them to solve many parts of a complex problem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Each of which represents a different part of the decision – making problem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E.g., the Procter and Gamble supply chain DSS include: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Location model to locate distribution centre , a product strategy model, a demand- forecasting model, cost generation model ,….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Sensitivity, What-if, and              Goal Seeking Analysi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796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What-if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ssesses solutions based on changes in variables or assumptions (scenario analysis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x: What will happen to the total inventory cost if the cost of carrying inventories increases by 10 percent?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057400" y="4267080"/>
            <a:ext cx="2114640" cy="1295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4724280" y="3886200"/>
            <a:ext cx="3619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Sensitivity, What-if, and              Goal Seeking Analysi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Goal seek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ckwards approach, starts with goa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termines values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put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needed to achieve goa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x: what annual R&amp;D budget is needed for an annual  growth rate of 15 percent by 2014?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7724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Sensitivity, What-if, and              Goal Seeking Analysi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240" y="1523880"/>
            <a:ext cx="7961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mputing a Break-Even Point Using Goal Seek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alues that generate zero profi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Break –Even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= Fixed cost / (selling cost – variable cost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Where : fixed cost =cost that not change such as tax, insurance ,.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lling price: the price that a unit sold for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ariable cost : related to production unit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roblem –Solving Search Method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Search methods used in the choice phase of problem solving includes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Analytical techniques , algorithms , blind searching and heuristic searching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For normative models (Comparing all the outcomes of alternative) 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analytical approach is used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For descriptive models(a comparison of a limited number of alternatives is used) :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blindly or  heuristic s are used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roblem –Solving Search Method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Analytical Techniqu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Use mathematical formulas to derive optimal solution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Solving structured problems (tactical or operationa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Ex: inventory management, resource allocation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Analytical Techniques may use Algorithm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Algorithm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ep by step search process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Obtaining an optimal solution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4572000" y="3352680"/>
            <a:ext cx="4343400" cy="32767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"/>
          <p:cNvSpPr/>
          <p:nvPr/>
        </p:nvSpPr>
        <p:spPr>
          <a:xfrm>
            <a:off x="380880" y="44197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  <a:ea typeface="Arial"/>
              </a:rPr>
              <a:t>Web search engines use algorithms To speed searches and produces accurate results</a:t>
            </a:r>
            <a:endParaRPr b="1" lang="en-US" sz="18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Problem –Solving Search Method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Blind Search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Problem solving is done by searching through the possible solution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The first search methods of problem solving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Arbitrary search approaches that are not guided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Two types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A complete enumeration : all alternatives are considered to find an optimal solution.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Incomplete (Partial) : continues until a good –enough solution is found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Heuristic Search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Informal judgmental knowledge of an application area that constitute the rules of the good judgment in the field.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Simula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ion is a process of designing a model of real system a model of real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urpose of understanding the behavior for the operation of the behavior for the operation of the system.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requently used in DSS to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Simula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ystem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Collection of entities, ex: people machines that act and interact towards the accomplishment. 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ate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Collection of variables necessary to describe a system at a particular time relative to the objective of study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Bank model:  Could include number of busy tellers, time of arrival of each customer, etc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ystem can be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Discret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tate variables change instantaneously at separated points in tim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Bank model:  State changes occur only when a customer arrives or depart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Continuou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tate variables change that continuously tracks system response over tim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irplane flight:  State variables like position, velocity change continuously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Imitate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ality and capture its richnes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echnique for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conducting experi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escriptive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not normative too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ften to “solve” very complex probl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453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MS PGothic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MS PGothic"/>
              </a:rPr>
              <a:t>Simulation is normally used only when a problem is too complex to be treated using numerical optimization technique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ajor Characteristics of Simula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095120" y="3962520"/>
            <a:ext cx="44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ahoma"/>
              </a:rPr>
              <a:t>!</a:t>
            </a:r>
            <a:endParaRPr b="1" lang="en-US" sz="7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ajor Modeling Issue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se of multiple model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Types of models: 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2" marL="1219680" indent="-332640">
              <a:spcBef>
                <a:spcPts val="45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tandard : built in to DSS or freestanding soft ware that can interface with a DS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219680" indent="-332640">
              <a:spcBef>
                <a:spcPts val="45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Nonstandard : constructed from scratch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odel categorie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: selecting the right type of model for the problem or sub-problem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(table 4.1)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odel management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: coordinating a firm’s models and their us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Models like data, must be managed to maintain their integrity and their applicability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Management is done by MBMS 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knowledge-based modeling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: how to take advantage of human knowledge in modeling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DSS use mostly quantitive models, wheres Expert systems use qualitiative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Advantages of Simula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MS PGothic"/>
              </a:rPr>
              <a:t>The theory is fairly straightforwar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MS PGothic"/>
              </a:rPr>
              <a:t>Great deal of time compress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MS PGothic"/>
              </a:rPr>
              <a:t>Experiment with different alternativ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MS PGothic"/>
              </a:rPr>
              <a:t>The model reflects manager’s perspectiv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MS PGothic"/>
              </a:rPr>
              <a:t>Can handle wide variety of problem type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MS PGothic"/>
              </a:rPr>
              <a:t>Can include the real complexities of problem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MS PGothic"/>
              </a:rPr>
              <a:t>Produces important performance measur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MS PGothic"/>
              </a:rPr>
              <a:t>Often i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s the only DSS modeling tool for  non-structured probl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Limitations of Simulation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not guarantee an optimal solu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low and costly construction proces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not transfer solutions and inferences to solve other problems (problem specific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oftware may require special skil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Simulation Methodology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1200" indent="-511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el real system and conduct repetitive experiments.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511200" indent="-511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Tahoma"/>
              </a:rPr>
              <a:t>Steps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1. Define problem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5. Conduct experiment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2. Construct simulation model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6. Evaluate result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3. Test and validate model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7. Implement solution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4. Design experiments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85800" y="3666960"/>
            <a:ext cx="83059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182240" y="1523880"/>
            <a:ext cx="7961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isual interactive modeling (VIM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lso call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isual interactive problem solv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isual interactive model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isual interactive simulatio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s computer graphics to present the impact of different management decis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ften integrated with GIS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rs perform sensitivity analysi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tatic or a dynamic (animation)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Visual Interactive Modeling (VIM) / Visual Interactive Simulation (VIS)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Categories of Models </a:t>
            </a:r>
            <a:r>
              <a:rPr b="0" lang="en-US" sz="1400" spc="-1" strike="noStrike">
                <a:solidFill>
                  <a:srgbClr val="cc3300"/>
                </a:solidFill>
                <a:latin typeface="Tahoma"/>
              </a:rPr>
              <a:t>Table 4.1</a:t>
            </a:r>
            <a:endParaRPr b="0" lang="en-US" sz="1400" spc="-1" strike="noStrike">
              <a:solidFill>
                <a:srgbClr val="cc33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90720" y="1523880"/>
          <a:ext cx="7391160" cy="4791240"/>
        </p:xfrm>
        <a:graphic>
          <a:graphicData uri="http://schemas.openxmlformats.org/drawingml/2006/table">
            <a:tbl>
              <a:tblPr/>
              <a:tblGrid>
                <a:gridCol w="2209680"/>
                <a:gridCol w="2895480"/>
                <a:gridCol w="2286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tegory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Objective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echniques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ptimization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of problems with few alternatives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nd the </a:t>
                      </a: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</a:rPr>
                        <a:t>best solution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from a small number of alternatives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ecision tables, decision trees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ptimization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via algorithm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nd the </a:t>
                      </a: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</a:rPr>
                        <a:t>best solution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from a large number of alternatives using a step-by-step process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Linear and other mathematical programming models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ptimization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via an analytic formula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nd the </a:t>
                      </a: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</a:rPr>
                        <a:t>best solution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in one step using a formula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ome inventory models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mulation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nd a </a:t>
                      </a: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</a:rPr>
                        <a:t>good enough solution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by experimenting with a dynamic model of the system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everal types of simulation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Heuristics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nd a </a:t>
                      </a:r>
                      <a:r>
                        <a:rPr b="0" lang="en-US" sz="1600" spc="-1" strike="noStrike" u="sng">
                          <a:solidFill>
                            <a:srgbClr val="3333cc"/>
                          </a:solidFill>
                          <a:uFillTx/>
                          <a:latin typeface="Tahoma"/>
                        </a:rPr>
                        <a:t>good enough solution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 using “common-sense” rules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Heuristic programming and expert systems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Predictive and other models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Predict future occurrences, what-if analysis, … 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orecasting, Markov chains, financial, …  </a:t>
                      </a:r>
                      <a:endParaRPr b="1" lang="en-US" sz="1600" spc="-1" strike="noStrike">
                        <a:solidFill>
                          <a:srgbClr val="cc33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Static and Dynamic Model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Static Analysi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ngle snapshot of the situation, every thing occurs in a single interva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scribes relationships among parts of a system at a point in time.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x: A decision about buy a product , Annual income statement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Dynamic Analysi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valuate scenarios that change over tim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ime dependent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x: In determining how many checkout points should be open in a supermarket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 5 year Profit and Loss projection in which input data (costs, prices, and quantities ) change from year to year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MSS Modeling with Spreadsheet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preadsheet: most popular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end-user modeling tool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lexible and easy to us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werful functions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dd-in functions and solvers (small programs designed to extend the capabilities of a spreadsheet package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ogrammability (via macro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at-if analysi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oal seek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mple database managemen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corporates both static and dynamic model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xamples: Microsoft Excel, Lotus 1-2-3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50560"/>
            <a:ext cx="822960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Types of Decision Making Environments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ecision Making under Certaint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ecision Making under Risk (Decis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aking with probability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ecision Making Under Uncertainty (Decision making without probability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50560"/>
            <a:ext cx="77929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Tahoma"/>
              </a:rPr>
              <a:t>The Six Steps in Decision Theory</a:t>
            </a:r>
            <a:endParaRPr b="0" lang="en-US" sz="36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2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learly define the problem at hand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ist all the possible alternatives (decisions to be mad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dentify the possible outcomes (state of nature) of each alternativ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ist the payoff or the profit of each combination of alternatives and outcom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lect one of the mathematical decision theory models (e.g. Decision Making under Risk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pply the model and make your decisio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21:58:50Z</dcterms:created>
  <dc:creator>Dursun Delen</dc:creator>
  <dc:description/>
  <dc:language>en-US</dc:language>
  <cp:lastModifiedBy>ksu</cp:lastModifiedBy>
  <cp:lastPrinted>2000-12-01T14:01:59Z</cp:lastPrinted>
  <dcterms:modified xsi:type="dcterms:W3CDTF">2014-04-21T06:32:10Z</dcterms:modified>
  <cp:revision>471</cp:revision>
  <dc:subject/>
  <dc:title>DSS Chapter 1</dc:title>
</cp:coreProperties>
</file>