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F08-340F-40DA-8E3F-94308FFF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705-6212-4C3D-A822-A512370E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AED-DC62-43DC-8E6E-E87CABCD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858-EAAE-484E-991C-FCCBBB4C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11E-C2A3-45B4-A1B2-9D9EE8B6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F10-C796-4C26-BC9C-B911A564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596-C95D-469A-85B1-8CFBA93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EB4-294E-476F-BF56-BA67586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5AF-4DAB-4EE0-8006-78440E74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6D7-B334-4E60-9881-96411E8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4ED-8778-45F3-A44A-534203B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5A2-9C64-47C4-A1B8-FAF34F00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9B6-F3F6-4D77-A1EE-304EE3BEF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9067680" cy="24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Chapter 5: Some Discrete Probability Distribu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5.2: Discrete Uniform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assumes the valu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equal probabilities, then X has the discrete uniform distribution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838080" y="1878120"/>
                  <a:ext cx="586764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" name=""/>
          <p:cNvSpPr/>
          <p:nvPr/>
        </p:nvSpPr>
        <p:spPr>
          <a:xfrm>
            <a:off x="304920" y="2895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f(x)=f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X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parameter of the distributio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ach sample poi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with the same probability 1/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the number observed when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 of X i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914400"/>
          <a:ext cx="2971800" cy="3708360"/>
        </p:xfrm>
        <a:graphic>
          <a:graphicData uri="http://schemas.openxmlformats.org/drawingml/2006/table">
            <a:tbl>
              <a:tblPr/>
              <a:tblGrid>
                <a:gridCol w="609840"/>
                <a:gridCol w="2361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71640" y="1498680"/>
                <a:ext cx="428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09680" y="226044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09680" y="3098880"/>
                <a:ext cx="2133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03680" y="386064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320" y="47242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2) Secon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trial is the process of inspecting the item. The results are success=D or failure=N, with probability of succes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25/100=1/4=0.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iments is a Bernoulli proces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number of trials: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Probability of succes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1752480"/>
                <a:ext cx="73152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320" y="3200400"/>
                <a:ext cx="6324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320" y="4159080"/>
                <a:ext cx="62481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320" y="5105520"/>
                <a:ext cx="609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781680" y="3200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0" y="3962520"/>
          <a:ext cx="2057400" cy="2341440"/>
        </p:xfrm>
        <a:graphic>
          <a:graphicData uri="http://schemas.openxmlformats.org/drawingml/2006/table">
            <a:tbl>
              <a:tblPr/>
              <a:tblGrid>
                <a:gridCol w="533160"/>
                <a:gridCol w="15242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(x;3,1/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553080" y="3124080"/>
            <a:ext cx="2514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766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324840" cy="415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40258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binomial distribution 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320" y="49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expected value (mean) and the variance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9717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cted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) (1/4) = 3/4 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nce of the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(3) (1/4) (3/4) = 9/16 = 0.5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15228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following prob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The probability of getting at lea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he probability of getting at mo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2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2438280"/>
                <a:ext cx="7772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2514600" y="4038480"/>
          <a:ext cx="3733920" cy="2362320"/>
        </p:xfrm>
        <a:graphic>
          <a:graphicData uri="http://schemas.openxmlformats.org/drawingml/2006/table">
            <a:tbl>
              <a:tblPr/>
              <a:tblGrid>
                <a:gridCol w="405000"/>
                <a:gridCol w="3328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f(x)=P(X=x)=b(x;3,1/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320" y="168120"/>
            <a:ext cx="9144000" cy="1203480"/>
            <a:chOff x="76320" y="168120"/>
            <a:chExt cx="9144000" cy="120348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562720" y="596880"/>
                  <a:ext cx="16761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6320" y="16812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of getting at least two defective item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P(X=2)+P(X=3)= f(2)+f(3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371600"/>
            <a:ext cx="9144000" cy="2743200"/>
            <a:chOff x="0" y="1371600"/>
            <a:chExt cx="9144000" cy="2743200"/>
          </a:xfrm>
        </p:grpSpPr>
        <p:sp>
          <p:nvSpPr>
            <p:cNvPr id="117" name=""/>
            <p:cNvSpPr/>
            <p:nvPr/>
          </p:nvSpPr>
          <p:spPr>
            <a:xfrm>
              <a:off x="0" y="1371600"/>
              <a:ext cx="883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The probability of getting at most two defective it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 = P(X=0)+P(X=1)+P(X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f(0)+f(1)+f(2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114800" y="2133720"/>
                  <a:ext cx="2293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0" y="31384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2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=3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400800" y="3340080"/>
                  <a:ext cx="143028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152280" y="4299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4 Hypergeometric Distrib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1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320" y="43624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uppose there is a population with 2 types of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st Type =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nd Type =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number of elements of the 1-s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the 2-n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select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ements at random from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1-st type (number of successes)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2133720"/>
            <a:ext cx="8839080" cy="2514600"/>
            <a:chOff x="76320" y="2133720"/>
            <a:chExt cx="8839080" cy="2514600"/>
          </a:xfrm>
        </p:grpSpPr>
        <p:sp>
          <p:nvSpPr>
            <p:cNvPr id="127" name=""/>
            <p:cNvSpPr/>
            <p:nvPr/>
          </p:nvSpPr>
          <p:spPr>
            <a:xfrm>
              <a:off x="76320" y="2133720"/>
              <a:ext cx="883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here are to two methods of sele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selection with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selection without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 we select the elements of the sample at random and with replacement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~ Binomi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;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167360" y="3728880"/>
                  <a:ext cx="1014120" cy="91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76320" y="457524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w, suppose we select the elements of the sample at random and without replacement. When the selection is made without replacement, the random variable X has a hyper 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and we write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447840"/>
                <a:ext cx="4952880" cy="26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/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5715000" y="152280"/>
            <a:ext cx="3220920" cy="3581640"/>
            <a:chOff x="5715000" y="152280"/>
            <a:chExt cx="3220920" cy="35816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5715000" y="152280"/>
              <a:ext cx="322092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5715000" y="37339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320" y="34005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ote tha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76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40 components each are called acceptable if they contain no more than 3 defectives. The procedure for sampling the lot is to select 5 components at random (without replacement) and to reject the lot if a defective is found. What is the probability that exactly one defective is found in the sample if there are 3 defectives in the entire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276720"/>
            <a:ext cx="8458200" cy="3352680"/>
            <a:chOff x="228600" y="3276720"/>
            <a:chExt cx="8458200" cy="3352680"/>
          </a:xfrm>
        </p:grpSpPr>
        <p:graphicFrame>
          <p:nvGraphicFramePr>
            <p:cNvPr id="139" name=""/>
            <p:cNvGraphicFramePr/>
            <p:nvPr/>
          </p:nvGraphicFramePr>
          <p:xfrm>
            <a:off x="380880" y="3487680"/>
            <a:ext cx="4800600" cy="298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487680"/>
                      <a:ext cx="480060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724360" y="3352680"/>
            <a:ext cx="2733840" cy="32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3352680"/>
                      <a:ext cx="273384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28600" y="3276720"/>
              <a:ext cx="845820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32767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66680" y="596880"/>
                <a:ext cx="4972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76320" y="2209680"/>
            <a:ext cx="8915400" cy="3124080"/>
            <a:chOff x="76320" y="2209680"/>
            <a:chExt cx="8915400" cy="3124080"/>
          </a:xfrm>
        </p:grpSpPr>
        <p:sp>
          <p:nvSpPr>
            <p:cNvPr id="48" name=""/>
            <p:cNvSpPr/>
            <p:nvPr/>
          </p:nvSpPr>
          <p:spPr>
            <a:xfrm>
              <a:off x="76320" y="2209680"/>
              <a:ext cx="8915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5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has a discrete uniform distribution with parameter k, then the mean and the variance of X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762120" y="3352680"/>
                  <a:ext cx="19047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" name=""/>
            <p:cNvGrpSpPr/>
            <p:nvPr/>
          </p:nvGrpSpPr>
          <p:grpSpPr>
            <a:xfrm>
              <a:off x="762120" y="4190760"/>
              <a:ext cx="3962160" cy="1143000"/>
              <a:chOff x="762120" y="4190760"/>
              <a:chExt cx="3962160" cy="1143000"/>
            </a:xfrm>
          </p:grpSpPr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583000" y="4190760"/>
                    <a:ext cx="1455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" name=""/>
              <p:cNvSpPr/>
              <p:nvPr/>
            </p:nvSpPr>
            <p:spPr>
              <a:xfrm>
                <a:off x="762120" y="4800600"/>
                <a:ext cx="3962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r(X)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has a hyper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h(x;40,5,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520" y="2612880"/>
                <a:ext cx="7238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320" y="490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Bu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04920"/>
                <a:ext cx="792468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76320" y="3200400"/>
            <a:ext cx="8686800" cy="2133720"/>
            <a:chOff x="76320" y="3200400"/>
            <a:chExt cx="8686800" cy="2133720"/>
          </a:xfrm>
        </p:grpSpPr>
        <p:sp>
          <p:nvSpPr>
            <p:cNvPr id="150" name=""/>
            <p:cNvSpPr/>
            <p:nvPr/>
          </p:nvSpPr>
          <p:spPr>
            <a:xfrm>
              <a:off x="76320" y="32004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the probability that exactly one defective is found in the sampl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f(1)=P(X=1)=h(1;40,5,3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33640" y="3759120"/>
                  <a:ext cx="3786480" cy="15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828800"/>
            <a:ext cx="7696440" cy="3123720"/>
            <a:chOff x="152280" y="1828800"/>
            <a:chExt cx="7696440" cy="3123720"/>
          </a:xfrm>
        </p:grpSpPr>
        <p:sp>
          <p:nvSpPr>
            <p:cNvPr id="54" name=""/>
            <p:cNvSpPr/>
            <p:nvPr/>
          </p:nvSpPr>
          <p:spPr>
            <a:xfrm>
              <a:off x="152280" y="1828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05120" y="1904760"/>
                  <a:ext cx="3733560" cy="110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380880" y="23922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09680" y="3001680"/>
                  <a:ext cx="3276720" cy="111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0880" y="3504960"/>
              <a:ext cx="190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916280" y="4038480"/>
                  <a:ext cx="59324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(X) and Var(X) in Example 5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95360"/>
            <a:ext cx="86868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3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T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Bernoulli trial is an experiment with only two possible  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two possible outcomes are labe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and  failu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of success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the probability of failure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ossing a coin (success=H, failure=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H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Inspecting an item (success=defective, failure=non-  defective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defectiv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process is an experiment that must satisfy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he experimen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eated Bernoulli t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The probability of success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remains constant from   trial to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repeated trials are independent; that is the outcome of   one trial has no effect on the outcome of any other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34639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inomial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random vari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successe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ls in a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a binomial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umber of trials)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probability of success), and we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17400"/>
                <a:ext cx="7924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18184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table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838080"/>
          <a:ext cx="4267440" cy="5759280"/>
        </p:xfrm>
        <a:graphic>
          <a:graphicData uri="http://schemas.openxmlformats.org/drawingml/2006/table">
            <a:tbl>
              <a:tblPr/>
              <a:tblGrid>
                <a:gridCol w="914400"/>
                <a:gridCol w="3353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=b(x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9396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4644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1346040"/>
                <a:ext cx="30906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90920" y="2184480"/>
                <a:ext cx="182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90920" y="3038400"/>
                <a:ext cx="18288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85880" y="4392720"/>
                <a:ext cx="2214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5232240"/>
                <a:ext cx="236196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25% of the products of a manufacturing process are defective. Three items are selected at random, inspected, and classified as defective (D) or non-defective (N). Find the probability distribution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46708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selecting 3 items at random, inspected, and classified as (D) or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sample spa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defective item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1) First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203040"/>
          <a:ext cx="4267080" cy="6502680"/>
        </p:xfrm>
        <a:graphic>
          <a:graphicData uri="http://schemas.openxmlformats.org/drawingml/2006/table">
            <a:tbl>
              <a:tblPr/>
              <a:tblGrid>
                <a:gridCol w="1447920"/>
                <a:gridCol w="2133360"/>
                <a:gridCol w="6858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35120"/>
                <a:ext cx="1676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6520" y="14842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6520" y="22096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6520" y="297180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6520" y="373392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46520" y="44560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5943600"/>
                <a:ext cx="167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8320" y="51814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2:06:25Z</dcterms:created>
  <dc:creator> </dc:creator>
  <dc:description/>
  <dc:language>en-US</dc:language>
  <cp:lastModifiedBy> </cp:lastModifiedBy>
  <dcterms:modified xsi:type="dcterms:W3CDTF">2004-07-11T17:40:38Z</dcterms:modified>
  <cp:revision>6</cp:revision>
  <dc:subject/>
  <dc:title>PowerPoint Presentation</dc:title>
</cp:coreProperties>
</file>