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0F4-FBEB-4DE3-B86E-F282400C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233-EC1C-4979-8917-106CF22D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BD0-7A36-4CF7-91FF-5F503FAA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A75-C060-4222-9FE8-8EAF07CA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DD4-764A-4B9E-A13E-DC5E5C7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A25-940C-4419-B67B-BAE40324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247-34B1-479B-8027-F66EC877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C61-1F68-4220-B539-5839F81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981-1376-47A0-B685-BFBD634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554-2F6B-45A7-A406-5C90201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5E6-8830-4A61-B09E-82E6366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992-E28E-4016-89D4-BB514DD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57C2-8558-4E3E-B4E1-015E78458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380880"/>
            <a:ext cx="8915400" cy="2446560"/>
            <a:chOff x="76320" y="380880"/>
            <a:chExt cx="8915400" cy="2446560"/>
          </a:xfrm>
        </p:grpSpPr>
        <p:sp>
          <p:nvSpPr>
            <p:cNvPr id="42" name=""/>
            <p:cNvSpPr/>
            <p:nvPr/>
          </p:nvSpPr>
          <p:spPr>
            <a:xfrm>
              <a:off x="76320" y="3808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5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,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4854600" y="1295280"/>
                  <a:ext cx="6112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4876920" y="2057400"/>
                  <a:ext cx="22096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5.9, find the expected value (mean) and the variance of the number of defective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h(x;40,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4572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6: (Poisson approximation for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binomial random variable with probability distribution b(x;n,p). If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 remains constant, then the binomial distribution b(x;n,p) can approximated by Poisson distribution p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 and small p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x;n,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3549600"/>
                <a:ext cx="6477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sup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63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xample 5.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244440"/>
            <a:ext cx="8610480" cy="1203480"/>
            <a:chOff x="76320" y="244440"/>
            <a:chExt cx="8610480" cy="1203480"/>
          </a:xfrm>
        </p:grpSpPr>
        <p:sp>
          <p:nvSpPr>
            <p:cNvPr id="48" name=""/>
            <p:cNvSpPr/>
            <p:nvPr/>
          </p:nvSpPr>
          <p:spPr>
            <a:xfrm>
              <a:off x="76320" y="244440"/>
              <a:ext cx="8610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523880" y="630360"/>
                  <a:ext cx="2743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1676520"/>
            <a:ext cx="8839080" cy="1272960"/>
            <a:chOff x="76320" y="1676520"/>
            <a:chExt cx="8839080" cy="1272960"/>
          </a:xfrm>
        </p:grpSpPr>
        <p:sp>
          <p:nvSpPr>
            <p:cNvPr id="51" name=""/>
            <p:cNvSpPr/>
            <p:nvPr/>
          </p:nvSpPr>
          <p:spPr>
            <a:xfrm>
              <a:off x="76320" y="1676520"/>
              <a:ext cx="88390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533600" y="2057400"/>
                  <a:ext cx="730548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112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76320" y="3216240"/>
            <a:ext cx="9067680" cy="3260880"/>
            <a:chOff x="76320" y="3216240"/>
            <a:chExt cx="9067680" cy="3260880"/>
          </a:xfrm>
        </p:grpSpPr>
        <p:sp>
          <p:nvSpPr>
            <p:cNvPr id="54" name=""/>
            <p:cNvSpPr/>
            <p:nvPr/>
          </p:nvSpPr>
          <p:spPr>
            <a:xfrm>
              <a:off x="76320" y="3216240"/>
              <a:ext cx="8839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lationship to the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*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* Hypergeometric distribution: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</a:t>
              </a: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276720" y="3637080"/>
                  <a:ext cx="556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114800" y="4656240"/>
                  <a:ext cx="5029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915400" cy="2288520"/>
            <a:chOff x="76320" y="152280"/>
            <a:chExt cx="8915400" cy="228852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can be approximated by the binomial distribution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i.e.,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smal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37200" y="824040"/>
                  <a:ext cx="3348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932280" y="1523880"/>
                  <a:ext cx="3348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90720" y="2165400"/>
                <a:ext cx="593856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781440"/>
            <a:ext cx="8839080" cy="1781280"/>
            <a:chOff x="76320" y="3781440"/>
            <a:chExt cx="8839080" cy="1781280"/>
          </a:xfrm>
        </p:grpSpPr>
        <p:sp>
          <p:nvSpPr>
            <p:cNvPr id="63" name=""/>
            <p:cNvSpPr/>
            <p:nvPr/>
          </p:nvSpPr>
          <p:spPr>
            <a:xfrm>
              <a:off x="76320" y="3781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re will be almost no difference between selection without replacement an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replaceme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514600" y="4863960"/>
                  <a:ext cx="31561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⋯</m:t>
                      </m:r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763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704880"/>
            <a:ext cx="89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Poisson experiment is an experiment yielding numerical values of a random variable that count the number of outcomes occurring in a given time 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The number of outcomes occurring in a 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522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6 Poisso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51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   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number of field mice per ac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a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umber of typing errors per pag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d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5 day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060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he average (mean) number of outcomes per unit time or unit reg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average (mean) number of outcomes (mean of X) in the time interval or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327320"/>
            <a:ext cx="8763120" cy="2974680"/>
            <a:chOff x="0" y="1327320"/>
            <a:chExt cx="8763120" cy="2974680"/>
          </a:xfrm>
        </p:grpSpPr>
        <p:sp>
          <p:nvSpPr>
            <p:cNvPr id="73" name=""/>
            <p:cNvSpPr/>
            <p:nvPr/>
          </p:nvSpPr>
          <p:spPr>
            <a:xfrm>
              <a:off x="0" y="13273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random variable X is called a Poisson random variable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and we write X~Poisso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if its probability distribu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57200" y="2666880"/>
                  <a:ext cx="731520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x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Poisson distribution Poisson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(mean) of the distribution in the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 If X=The number of calls received in a month (uni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month) and X~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 Y = number of calls received in a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 W = number of calls received in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30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562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906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number of typing errors per page has a Poisson distribution with average 6 typ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What is the probability that in a given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The number of typing errors will be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The number of typing errors will at least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What is the probability that in 2 pages there will be 10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 What is the probability that in a half page there will be no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6320" y="3962520"/>
            <a:ext cx="8839080" cy="2093760"/>
            <a:chOff x="76320" y="3962520"/>
            <a:chExt cx="8839080" cy="2093760"/>
          </a:xfrm>
        </p:grpSpPr>
        <p:sp>
          <p:nvSpPr>
            <p:cNvPr id="80" name=""/>
            <p:cNvSpPr/>
            <p:nvPr/>
          </p:nvSpPr>
          <p:spPr>
            <a:xfrm>
              <a:off x="76320" y="396252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1) X = number of typing errors per pag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6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914400" y="5181480"/>
                  <a:ext cx="63244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80880"/>
            <a:ext cx="9144000" cy="3599280"/>
            <a:chOff x="0" y="380880"/>
            <a:chExt cx="9144000" cy="3599280"/>
          </a:xfrm>
        </p:grpSpPr>
        <p:grpSp>
          <p:nvGrpSpPr>
            <p:cNvPr id="83" name=""/>
            <p:cNvGrpSpPr/>
            <p:nvPr/>
          </p:nvGrpSpPr>
          <p:grpSpPr>
            <a:xfrm>
              <a:off x="304920" y="380880"/>
              <a:ext cx="8610480" cy="3599280"/>
              <a:chOff x="304920" y="380880"/>
              <a:chExt cx="8610480" cy="3599280"/>
            </a:xfrm>
          </p:grpSpPr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295280" y="380880"/>
                    <a:ext cx="518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76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" name=""/>
              <p:cNvSpPr/>
              <p:nvPr/>
            </p:nvSpPr>
            <p:spPr>
              <a:xfrm>
                <a:off x="304920" y="129528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i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P(X=2)+ P(X=3)+ . . .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5576760" y="1155600"/>
                    <a:ext cx="13575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05280" y="533520"/>
                <a:ext cx="47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1905120"/>
                <a:ext cx="7696080" cy="20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(X&lt;2)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P(X=0)+ P(X=1)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f(0) + f(1)]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0.00248+0.01487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01735 = 0.9826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6858000" y="2286000"/>
                    <a:ext cx="167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0" name=""/>
            <p:cNvSpPr/>
            <p:nvPr/>
          </p:nvSpPr>
          <p:spPr>
            <a:xfrm>
              <a:off x="0" y="2768760"/>
              <a:ext cx="914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3673440"/>
            <a:ext cx="8762760" cy="2803680"/>
            <a:chOff x="76320" y="3673440"/>
            <a:chExt cx="8762760" cy="2803680"/>
          </a:xfrm>
        </p:grpSpPr>
        <p:sp>
          <p:nvSpPr>
            <p:cNvPr id="92" name=""/>
            <p:cNvSpPr/>
            <p:nvPr/>
          </p:nvSpPr>
          <p:spPr>
            <a:xfrm>
              <a:off x="76320" y="367344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2) X = number of typing errors in 2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(1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9480" y="4556160"/>
                  <a:ext cx="6858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09480" y="5553000"/>
                  <a:ext cx="525780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4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6320" y="1143000"/>
            <a:ext cx="9144000" cy="2417760"/>
            <a:chOff x="76320" y="1143000"/>
            <a:chExt cx="9144000" cy="2417760"/>
          </a:xfrm>
        </p:grpSpPr>
        <p:sp>
          <p:nvSpPr>
            <p:cNvPr id="96" name=""/>
            <p:cNvSpPr/>
            <p:nvPr/>
          </p:nvSpPr>
          <p:spPr>
            <a:xfrm>
              <a:off x="76320" y="1143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3) X = number of typing errors in a half p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/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/2=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7200" y="1905120"/>
                  <a:ext cx="6858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7200" y="2667240"/>
                  <a:ext cx="40384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9787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747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42:15Z</dcterms:created>
  <dc:creator> </dc:creator>
  <dc:description/>
  <dc:language>en-US</dc:language>
  <cp:lastModifiedBy> </cp:lastModifiedBy>
  <dcterms:modified xsi:type="dcterms:W3CDTF">2004-07-11T19:01:50Z</dcterms:modified>
  <cp:revision>4</cp:revision>
  <dc:subject/>
  <dc:title>عرض تقديمي من PowerPoint</dc:title>
</cp:coreProperties>
</file>