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5C38-82D9-449F-8517-6DC79EB6E0B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E529-9F60-4C65-AD4F-C6E3394E2C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2002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C1D-2495-4616-BD65-4A99D9D3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27F-438B-4983-A4A2-D402C87A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822-7E95-4A30-BFA9-9667ED6E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5D3C-2F34-4872-B199-83BBF7B5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6EC8-8F63-4870-ADF1-949A90E1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0EC-D4D4-46D5-BB0E-61E5164E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578-39A5-4AA6-961B-6DD07823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90E-2700-4E22-83BF-4031E24A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AC8-1435-48AE-9A6A-E849EA5C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53B-BA58-40E0-8F82-DCEBC494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58B-7B12-443E-86DC-17DFAD83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C5D-7EDB-48D3-B1DC-F7507125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7DB6-6A8B-4BB5-9A9C-23E7F26886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98CC-38F2-43A3-89DF-F78B4293A0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 (Part 1)</a:t>
            </a:r>
            <a:br>
              <a:rPr sz="3600"/>
            </a:b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5892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371600" y="3886200"/>
            <a:ext cx="6400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Yousef Al-Ohali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Computer Science Depart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CCI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 King Saud University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Saudi Arabia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Tahoma"/>
                <a:hlinkClick r:id="rId1"/>
              </a:rPr>
              <a:t>yousef@ccis.edu.sa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Tahoma"/>
                <a:hlinkClick r:id="rId2"/>
              </a:rPr>
              <a:t>http://faculty.ksu.edu.sa/YAlohali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971640" y="350028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EC64-AD20-4F1C-AAF8-38D7FEF691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859280" y="1484280"/>
          <a:ext cx="4038480" cy="452592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44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32"/>
          <p:cNvSpPr/>
          <p:nvPr/>
        </p:nvSpPr>
        <p:spPr>
          <a:xfrm>
            <a:off x="5150520" y="551664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Rectangle 33"/>
          <p:cNvSpPr/>
          <p:nvPr/>
        </p:nvSpPr>
        <p:spPr>
          <a:xfrm>
            <a:off x="0" y="2637000"/>
            <a:ext cx="47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k because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ven’t fallen into a pit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ven’t been eaten by a Wumpu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Text Box 34"/>
          <p:cNvSpPr/>
          <p:nvPr/>
        </p:nvSpPr>
        <p:spPr>
          <a:xfrm>
            <a:off x="14940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5A94-6D1A-4121-A7B6-99654C8E86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88000" y="1484280"/>
          <a:ext cx="4038480" cy="4525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7" name="Rectangle 32"/>
          <p:cNvSpPr/>
          <p:nvPr/>
        </p:nvSpPr>
        <p:spPr>
          <a:xfrm>
            <a:off x="0" y="2565360"/>
            <a:ext cx="45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K sinc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o Stench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o Breeze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ighbors are safe (OK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Text Box 33"/>
          <p:cNvSpPr/>
          <p:nvPr/>
        </p:nvSpPr>
        <p:spPr>
          <a:xfrm>
            <a:off x="5150520" y="537372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-6804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95D4-9AD1-456F-B1B1-239C5C64A9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492360" y="2060640"/>
          <a:ext cx="5410440" cy="4206960"/>
        </p:xfrm>
        <a:graphic>
          <a:graphicData uri="http://schemas.openxmlformats.org/drawingml/2006/table">
            <a:tbl>
              <a:tblPr/>
              <a:tblGrid>
                <a:gridCol w="1352520"/>
                <a:gridCol w="1352880"/>
                <a:gridCol w="1352520"/>
                <a:gridCol w="135252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Rectangle 68"/>
          <p:cNvSpPr/>
          <p:nvPr/>
        </p:nvSpPr>
        <p:spPr>
          <a:xfrm>
            <a:off x="324000" y="2852640"/>
            <a:ext cx="30416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 move and smell a stench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Text Box 69"/>
          <p:cNvSpPr/>
          <p:nvPr/>
        </p:nvSpPr>
        <p:spPr>
          <a:xfrm>
            <a:off x="4217040" y="421488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Line 70"/>
          <p:cNvSpPr/>
          <p:nvPr/>
        </p:nvSpPr>
        <p:spPr>
          <a:xfrm flipV="1">
            <a:off x="4572000" y="522936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Text Box 71"/>
          <p:cNvSpPr/>
          <p:nvPr/>
        </p:nvSpPr>
        <p:spPr>
          <a:xfrm>
            <a:off x="-318960" y="148428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C45F-0F55-4266-BFE6-47360E57D2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48320" y="1600200"/>
          <a:ext cx="4038480" cy="4417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12" name="Rectangle 35"/>
          <p:cNvSpPr/>
          <p:nvPr/>
        </p:nvSpPr>
        <p:spPr>
          <a:xfrm>
            <a:off x="250920" y="285264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 can infer  the following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square (1,1) remains OK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Line 36"/>
          <p:cNvSpPr/>
          <p:nvPr/>
        </p:nvSpPr>
        <p:spPr>
          <a:xfrm>
            <a:off x="3708360" y="31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5150520" y="386064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5040" y="141300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1E48-F5DE-4AFE-951D-35A797A38F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48320" y="1600200"/>
          <a:ext cx="4038480" cy="4417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0" name="Line 38"/>
          <p:cNvSpPr/>
          <p:nvPr/>
        </p:nvSpPr>
        <p:spPr>
          <a:xfrm flipV="1">
            <a:off x="5435640" y="450864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Line 39"/>
          <p:cNvSpPr/>
          <p:nvPr/>
        </p:nvSpPr>
        <p:spPr>
          <a:xfrm>
            <a:off x="5292720" y="5661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6084720" y="4869000"/>
            <a:ext cx="432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324000" y="263700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ve and feel a breez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hat can we conclude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22104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A16F-227A-4A8C-9BA2-71E19BE8AF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648320" y="1600200"/>
          <a:ext cx="4038480" cy="439740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pSp>
        <p:nvGrpSpPr>
          <p:cNvPr id="129" name="Group 36"/>
          <p:cNvGrpSpPr/>
          <p:nvPr/>
        </p:nvGrpSpPr>
        <p:grpSpPr>
          <a:xfrm>
            <a:off x="2478960" y="3138480"/>
            <a:ext cx="6663960" cy="3720960"/>
            <a:chOff x="2478960" y="3138480"/>
            <a:chExt cx="6663960" cy="3720960"/>
          </a:xfrm>
        </p:grpSpPr>
        <p:sp>
          <p:nvSpPr>
            <p:cNvPr id="130" name="Text Box 37"/>
            <p:cNvSpPr/>
            <p:nvPr/>
          </p:nvSpPr>
          <p:spPr>
            <a:xfrm>
              <a:off x="2478960" y="6338880"/>
              <a:ext cx="666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nd what about the other  P? and W? square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 flipV="1">
              <a:off x="7354800" y="5424480"/>
              <a:ext cx="5335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 flipV="1">
              <a:off x="3316320" y="3138480"/>
              <a:ext cx="121932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33" name="Group 40"/>
          <p:cNvGrpSpPr/>
          <p:nvPr/>
        </p:nvGrpSpPr>
        <p:grpSpPr>
          <a:xfrm>
            <a:off x="684360" y="2781360"/>
            <a:ext cx="6247800" cy="3018600"/>
            <a:chOff x="684360" y="2781360"/>
            <a:chExt cx="6247800" cy="3018600"/>
          </a:xfrm>
        </p:grpSpPr>
        <p:sp>
          <p:nvSpPr>
            <p:cNvPr id="134" name="Text Box 41"/>
            <p:cNvSpPr/>
            <p:nvPr/>
          </p:nvSpPr>
          <p:spPr>
            <a:xfrm>
              <a:off x="684360" y="2781360"/>
              <a:ext cx="32000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Garamond"/>
                </a:rPr>
                <a:t>But, can the 2,2 square really have either a Wumpus or a pit? 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>
              <a:off x="5484600" y="3695760"/>
              <a:ext cx="1447560" cy="1295640"/>
            </a:xfrm>
            <a:prstGeom prst="rect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36" name="Text Box 43"/>
          <p:cNvSpPr/>
          <p:nvPr/>
        </p:nvSpPr>
        <p:spPr>
          <a:xfrm>
            <a:off x="6156360" y="5516640"/>
            <a:ext cx="423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Text Box 44"/>
          <p:cNvSpPr/>
          <p:nvPr/>
        </p:nvSpPr>
        <p:spPr>
          <a:xfrm>
            <a:off x="539640" y="515772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Times New Roman"/>
              </a:rPr>
              <a:t>NO!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Text Box 45"/>
          <p:cNvSpPr/>
          <p:nvPr/>
        </p:nvSpPr>
        <p:spPr>
          <a:xfrm>
            <a:off x="22104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39F8-6DE8-4B36-9931-54DF8C4399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48320" y="1600200"/>
          <a:ext cx="4038480" cy="439740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43" name="Line 34"/>
          <p:cNvSpPr/>
          <p:nvPr/>
        </p:nvSpPr>
        <p:spPr>
          <a:xfrm flipV="1">
            <a:off x="5796000" y="4005360"/>
            <a:ext cx="5335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Line 35"/>
          <p:cNvSpPr/>
          <p:nvPr/>
        </p:nvSpPr>
        <p:spPr>
          <a:xfrm flipH="1" flipV="1">
            <a:off x="5796000" y="4005360"/>
            <a:ext cx="5335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Text Box 36"/>
          <p:cNvSpPr/>
          <p:nvPr/>
        </p:nvSpPr>
        <p:spPr>
          <a:xfrm>
            <a:off x="6156360" y="4869000"/>
            <a:ext cx="441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221040" y="1628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174C-3AF9-4D8A-AD17-E9A10CF533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4417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51" name="Line 34"/>
          <p:cNvSpPr/>
          <p:nvPr/>
        </p:nvSpPr>
        <p:spPr>
          <a:xfrm flipV="1">
            <a:off x="6300720" y="48049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6158520" y="378936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22104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D41E-ED32-4E36-BAB2-B80A80920A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48320" y="1600200"/>
          <a:ext cx="4038480" cy="4417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58" name="Line 34"/>
          <p:cNvSpPr/>
          <p:nvPr/>
        </p:nvSpPr>
        <p:spPr>
          <a:xfrm flipV="1">
            <a:off x="6372360" y="5447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" name="Line 35"/>
          <p:cNvSpPr/>
          <p:nvPr/>
        </p:nvSpPr>
        <p:spPr>
          <a:xfrm flipV="1">
            <a:off x="6372360" y="4295520"/>
            <a:ext cx="0" cy="69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6158520" y="487188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6158520" y="379260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Rectangle 38"/>
          <p:cNvSpPr/>
          <p:nvPr/>
        </p:nvSpPr>
        <p:spPr>
          <a:xfrm>
            <a:off x="250920" y="249228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nd the exploration continues onward until the gold is found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Text Box 39"/>
          <p:cNvSpPr/>
          <p:nvPr/>
        </p:nvSpPr>
        <p:spPr>
          <a:xfrm>
            <a:off x="365400" y="148428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88A4-2C3F-47FA-AE38-4E57B15FA2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14480" y="1523880"/>
            <a:ext cx="4457520" cy="4476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4500720" y="2133720"/>
            <a:ext cx="399564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reeze in (1,2) and (2,1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o safe action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suming pits uniformly distributed, (2,2) is most likely to have a pit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462480" y="1189080"/>
            <a:ext cx="25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A tight spot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55AE-E203-42D7-889E-60270E777B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can we formalize our knowledge about the world so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reason abou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do sound i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prove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plan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understand and explain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3531-7D7F-4013-BB28-79002FF1B4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52280" y="2162160"/>
            <a:ext cx="3429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5"/>
          <p:cNvGrpSpPr/>
          <p:nvPr/>
        </p:nvGrpSpPr>
        <p:grpSpPr>
          <a:xfrm>
            <a:off x="610920" y="2498760"/>
            <a:ext cx="2663640" cy="2532240"/>
            <a:chOff x="610920" y="2498760"/>
            <a:chExt cx="2663640" cy="2532240"/>
          </a:xfrm>
        </p:grpSpPr>
        <p:sp>
          <p:nvSpPr>
            <p:cNvPr id="175" name="Text Box 6"/>
            <p:cNvSpPr/>
            <p:nvPr/>
          </p:nvSpPr>
          <p:spPr>
            <a:xfrm>
              <a:off x="610920" y="2498760"/>
              <a:ext cx="94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W?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2331720" y="4327560"/>
              <a:ext cx="94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W?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7" name="Rectangle 9"/>
          <p:cNvSpPr/>
          <p:nvPr/>
        </p:nvSpPr>
        <p:spPr>
          <a:xfrm>
            <a:off x="3809880" y="1844640"/>
            <a:ext cx="53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mell in (1,1)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cannot mov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n use a strategy of coercion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shoot straight ahead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wumpus was ther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dead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saf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wumpus wasn't ther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 saf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2647440" y="1020600"/>
            <a:ext cx="34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Another tight spot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B082-1458-481A-A7F4-8133872F82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Fundamental property of logical reaso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In each case where the agent draws a conclusion from the available information, that conclusion is guaranteed to </a:t>
            </a: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be correct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f the </a:t>
            </a: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available information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s </a:t>
            </a: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corr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5207-766C-49D9-ACC8-FEE8216DF4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11280" y="7650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undamental concepts of logical represent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Logic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re formal languages for representing information such that conclusions can be drawn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ach sentence is defined by a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a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semantic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Syntax</a:t>
            </a: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fines the sentences in the language. It specifies well formed sentence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fine the ``meaning'' of sentences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i.e., in logic it defines the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  <a:ea typeface="Arial"/>
              </a:rPr>
              <a:t>truth of a 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in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possible world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example, the language of arithmet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2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y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is a sentence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y &gt;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    is not a sentence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2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y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is true iff the number </a:t>
            </a: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+2</a:t>
            </a:r>
            <a:r>
              <a:rPr b="0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is no less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than the number</a:t>
            </a:r>
            <a:r>
              <a:rPr b="0" i="1" lang="en-US" sz="2000" spc="-1" strike="noStrike">
                <a:solidFill>
                  <a:srgbClr val="bbe0e3"/>
                </a:solidFill>
                <a:latin typeface="Garamond"/>
                <a:ea typeface="Arial"/>
              </a:rPr>
              <a:t> y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2 </a:t>
            </a:r>
            <a:r>
              <a:rPr b="1" i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y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is true in a world where </a:t>
            </a: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= 7, y =1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2 </a:t>
            </a:r>
            <a:r>
              <a:rPr b="1" i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y</a:t>
            </a:r>
            <a:r>
              <a:rPr b="1" i="1" lang="en-US" sz="2000" spc="-1" strike="noStrike">
                <a:solidFill>
                  <a:srgbClr val="bbe0e3"/>
                </a:solidFill>
                <a:latin typeface="Garamond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is false in a world where </a:t>
            </a: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= 0, y= 6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6288-7AB1-4B76-BF9F-4D63BA5267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undamental concepts of logical represent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5960" y="7650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Model: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word is used instead of “possible world” for sake of precision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Garamond"/>
              </a:rPr>
              <a:t>m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is a model of a sentence </a:t>
            </a:r>
            <a:r>
              <a:rPr b="1" lang="el-G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α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means</a:t>
            </a:r>
            <a:r>
              <a:rPr b="0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α</a:t>
            </a:r>
            <a:r>
              <a:rPr b="0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is true in model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inition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odel is a mathematical abstraction that simply fixes the truth or falsehood of every relevant sentenc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men and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women sitting at a table playing bridg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 y 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is a sentence which is true when the total number is fou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: possible assignment of numbers to the variable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ssignment fixes the truth of any sentence whose variables are x and y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04C5-9652-42B8-B219-03E26957F9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400800" cy="41911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468360" y="53737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model is an instance of the world. A model of a set of sentences is an instance of the world where these sentences are tru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324000" y="1341360"/>
            <a:ext cx="241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Potential  models of the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1B77-0861-4B08-97DA-B6F81B49A9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Entailment:</a:t>
            </a: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gical reasoning requires the relation of logical entailment between sentences. </a:t>
            </a:r>
            <a:r>
              <a:rPr b="1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 « a sentence follows logically from another sentence 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ematical notation:  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l-G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α</a:t>
            </a:r>
            <a:r>
              <a:rPr b="0" lang="el-G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╞</a:t>
            </a: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entails the sentence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ormal definitio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: </a:t>
            </a:r>
            <a:r>
              <a:rPr b="0" lang="el-GR" sz="24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α</a:t>
            </a:r>
            <a:r>
              <a:rPr b="0" lang="el-G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╞</a:t>
            </a: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and only if in every model in which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true,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lso true. (truth of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contained in the truth of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1763640" y="126828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9035-BEFC-4379-9AED-18D6956E53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ail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79600" y="1623960"/>
            <a:ext cx="2378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Logical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Represent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523880" y="44737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ndy"/>
              </a:rPr>
              <a:t>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380880" y="3276720"/>
            <a:ext cx="8534520" cy="0"/>
          </a:xfrm>
          <a:prstGeom prst="line">
            <a:avLst/>
          </a:prstGeom>
          <a:ln w="28440">
            <a:solidFill>
              <a:srgbClr val="ff99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3381120" y="1471680"/>
            <a:ext cx="1645200" cy="3507480"/>
            <a:chOff x="3381120" y="1471680"/>
            <a:chExt cx="1645200" cy="3507480"/>
          </a:xfrm>
        </p:grpSpPr>
        <p:sp>
          <p:nvSpPr>
            <p:cNvPr id="206" name="Text Box 7"/>
            <p:cNvSpPr/>
            <p:nvPr/>
          </p:nvSpPr>
          <p:spPr>
            <a:xfrm>
              <a:off x="3381120" y="1471680"/>
              <a:ext cx="164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y"/>
                </a:rPr>
                <a:t>Sentence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y"/>
                </a:rPr>
                <a:t>KB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619800" y="4519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ndy"/>
                </a:rPr>
                <a:t>Fact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3886200" y="2590920"/>
              <a:ext cx="0" cy="152388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 rot="5400000">
              <a:off x="3464280" y="296820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Arial"/>
                </a:rPr>
                <a:t>Semantic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10" name="Text Box 11"/>
          <p:cNvSpPr/>
          <p:nvPr/>
        </p:nvSpPr>
        <p:spPr>
          <a:xfrm>
            <a:off x="7165800" y="1386000"/>
            <a:ext cx="1645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entenc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7670880" y="2590920"/>
            <a:ext cx="0" cy="152388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 rot="5400000">
            <a:off x="7248960" y="29682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Semantic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13" name="Group 14"/>
          <p:cNvGrpSpPr/>
          <p:nvPr/>
        </p:nvGrpSpPr>
        <p:grpSpPr>
          <a:xfrm>
            <a:off x="5029200" y="4062240"/>
            <a:ext cx="3287520" cy="916920"/>
            <a:chOff x="5029200" y="4062240"/>
            <a:chExt cx="3287520" cy="916920"/>
          </a:xfrm>
        </p:grpSpPr>
        <p:sp>
          <p:nvSpPr>
            <p:cNvPr id="214" name="Text Box 15"/>
            <p:cNvSpPr/>
            <p:nvPr/>
          </p:nvSpPr>
          <p:spPr>
            <a:xfrm>
              <a:off x="7404480" y="4519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ndy"/>
                </a:rPr>
                <a:t>Fact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5" name="Line 16"/>
            <p:cNvSpPr/>
            <p:nvPr/>
          </p:nvSpPr>
          <p:spPr>
            <a:xfrm>
              <a:off x="5029200" y="4648320"/>
              <a:ext cx="17524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6" name="Text Box 17"/>
            <p:cNvSpPr/>
            <p:nvPr/>
          </p:nvSpPr>
          <p:spPr>
            <a:xfrm>
              <a:off x="5146560" y="406224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Follow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7" name="Group 18"/>
          <p:cNvGrpSpPr/>
          <p:nvPr/>
        </p:nvGrpSpPr>
        <p:grpSpPr>
          <a:xfrm>
            <a:off x="5410080" y="1270080"/>
            <a:ext cx="1447920" cy="635040"/>
            <a:chOff x="5410080" y="1270080"/>
            <a:chExt cx="1447920" cy="635040"/>
          </a:xfrm>
        </p:grpSpPr>
        <p:sp>
          <p:nvSpPr>
            <p:cNvPr id="218" name="Text Box 19"/>
            <p:cNvSpPr/>
            <p:nvPr/>
          </p:nvSpPr>
          <p:spPr>
            <a:xfrm>
              <a:off x="5480640" y="12700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ai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5410080" y="1905120"/>
              <a:ext cx="1447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20" name="Line 21"/>
          <p:cNvSpPr/>
          <p:nvPr/>
        </p:nvSpPr>
        <p:spPr>
          <a:xfrm>
            <a:off x="2971800" y="1371600"/>
            <a:ext cx="0" cy="3733920"/>
          </a:xfrm>
          <a:prstGeom prst="line">
            <a:avLst/>
          </a:prstGeom>
          <a:ln w="284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179280" y="50846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reasoning should ensure that the new configurations represent aspects of the world that actually follow from  the aspects that the old configurations represent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692360" y="98100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1AE9-9F6A-487C-94E7-7023BE31A0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Model cheking: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numerates all possible models to check that </a:t>
            </a:r>
            <a:r>
              <a:rPr b="1" lang="el-G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α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is true in all models in which KB is tr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notation:     KB       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The notation say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rived from KB by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ives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KB.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inference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692360" y="112536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457200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4572000" y="32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718160" y="32130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D640-A17D-4AFF-80DD-7CC3AE8B43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629400" cy="53755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6"/>
          <p:cNvSpPr/>
          <p:nvPr/>
        </p:nvSpPr>
        <p:spPr>
          <a:xfrm>
            <a:off x="242280" y="166860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tailment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2050920" y="90792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FCCB-48C1-49FB-8214-9777A34458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7162920" cy="54925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450360" y="173988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Entailment again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692360" y="90792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155F-8E6F-4463-924F-5875F6C20A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bjectives of knowledge representation and reasoning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form representations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use a process of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to derive new representations about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use these new representations to deduce what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EBCF-5DEC-4E0D-A4BA-720E0E558D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 inference procedure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an do two th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iven KB, generate new senten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purported to be entailed by K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iven KB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report whether or no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is entailed by K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Garamond"/>
              </a:rPr>
              <a:t>Sound or truth preserving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ference algorithm that derives only entailed sent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Garamond"/>
              </a:rPr>
              <a:t>Completenes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 inference algorithm is complete, if it can derive any sentence that is entai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2DE5-D801-4A7C-B1B1-D4860DD54B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95280" y="1052640"/>
            <a:ext cx="8424720" cy="77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plaining more Soundness and completenes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Soundness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the system proves that something is true,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it really is true. The system doesn’t derive contradiction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Completeness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: if something is really true, it can be proven using the system. The system can be used to derive all the true mathematical statements one by o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A2F0-A787-48D0-B26A-390ED2DD2F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comic"/>
                <a:ea typeface="Times New Roman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Propositional logic is the simplest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eman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ntail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3015-4D4E-4F6F-B34C-E0DC13C009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comic"/>
                <a:ea typeface="Times New Roman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: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t  defines the allowable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tomic sent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single proposition symbol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uppercase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names for symbols must have some mnemonic value: example W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  <a:ea typeface="Times New Roman"/>
              </a:rPr>
              <a:t>1,3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to say the wumpus is in [1,3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rue and False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: proposition symbols with fixed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omplex sentences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: they are constructed from simpler sentences using logical connec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A0BE-F7E0-414D-AA51-547D0C3610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comic"/>
                <a:ea typeface="Times New Roman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gical conn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) ne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) conjunction, operands are  conjun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), operands are disjun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ation (or conditional) A ⇒ B, A is the premise or antecedent and B is the conclusion or consequent.  It is also known as rule or if-then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ci3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ci3"/>
                <a:ea typeface="tci3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and only if (bicondition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4A85-3AD1-4920-A6B0-97E67A3EFD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68360" y="911160"/>
            <a:ext cx="8351640" cy="77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comic"/>
              </a:rPr>
              <a:t>Propositional Log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ogical constants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re sentences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position symbol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1, P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etc. are sentences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ymbol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negated symbol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re called literals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NOT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AND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OR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Implies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Equivalent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0E85-38AE-465A-B3A4-0DF06D32FC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68360" y="911160"/>
            <a:ext cx="835164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comic"/>
              </a:rPr>
              <a:t>Propositional Log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 BNF(Backus-Naur Form) grammar of sentences in propositional Logic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is defined by the following rules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tomic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│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ComplexSentenc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tomicSentenc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→ Tru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als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ymbo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ymbol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→ P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R …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Complex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→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395280" y="2276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395280" y="6524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EE13-938D-4980-BA5F-90D17326AB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468360" y="911160"/>
            <a:ext cx="8351640" cy="60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comic"/>
              </a:rPr>
              <a:t>Propositional Log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Order of precedence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rom highest to lowest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parenthesis   ( Sentence 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Implies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Equivalen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Special cases: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 no parentheses are neede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bout       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??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34C5-63DE-4C1B-9B1E-5A830D2EA6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comic"/>
                <a:ea typeface="Times New Roman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Semantic: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t defines the rules for determining the truth of a sentence with respect to a particula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The question: How to compute the truth value of ny sentence given a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89A0-B96A-48D4-8145-4CB5EB6061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772400" cy="208908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5"/>
          <p:cNvGrpSpPr/>
          <p:nvPr/>
        </p:nvGrpSpPr>
        <p:grpSpPr>
          <a:xfrm>
            <a:off x="123840" y="3284640"/>
            <a:ext cx="9005400" cy="2242440"/>
            <a:chOff x="123840" y="3284640"/>
            <a:chExt cx="9005400" cy="2242440"/>
          </a:xfrm>
        </p:grpSpPr>
        <p:sp>
          <p:nvSpPr>
            <p:cNvPr id="280" name="Rectangle 6"/>
            <p:cNvSpPr/>
            <p:nvPr/>
          </p:nvSpPr>
          <p:spPr>
            <a:xfrm>
              <a:off x="123840" y="3284640"/>
              <a:ext cx="876312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7668360" y="4503600"/>
              <a:ext cx="1460880" cy="1023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 of  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2" name="Line 8"/>
            <p:cNvSpPr/>
            <p:nvPr/>
          </p:nvSpPr>
          <p:spPr>
            <a:xfrm flipV="1">
              <a:off x="8429760" y="3665520"/>
              <a:ext cx="30492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83" name="Rectangle 9"/>
          <p:cNvSpPr/>
          <p:nvPr/>
        </p:nvSpPr>
        <p:spPr>
          <a:xfrm>
            <a:off x="324000" y="4221000"/>
            <a:ext cx="727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st sentences are sometimes true.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Q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me sentences are always true (valid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me sentences are never true (unsatisfiable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BE44-D471-4596-8C21-A32FDE2F64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me 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Knowledge bas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set of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ntence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 Each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expressed in a language called a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knowledge representation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a sentence represents some assertion about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feren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Process of deriving new sentences from old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2CC7-2095-4319-A239-843473F8F7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772400" cy="20890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762120" y="2895480"/>
            <a:ext cx="7848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mplication: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Q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f P is True, then Q is true; otherwise I’m making no claims about the truth of Q.” (Or: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Q is equivalent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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der this definition, the following statement is tru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s_f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veryone_gets_an_A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nce “Pigs_Fly” is false, the statement is true irrespective of the truth of “Everyone_gets_an_A”. [Or is it? Correct inference only when “Pigs_Fly” is known to be false.]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7646-A6AD-4DBC-94CF-6F9492D67C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positional Inference: Enumer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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B =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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it the case that KB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eck all possible models -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must be true whenever KB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"/>
          <p:cNvSpPr/>
          <p:nvPr/>
        </p:nvSpPr>
        <p:spPr>
          <a:xfrm>
            <a:off x="356400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Line 5"/>
          <p:cNvSpPr/>
          <p:nvPr/>
        </p:nvSpPr>
        <p:spPr>
          <a:xfrm>
            <a:off x="356400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648320" y="1600200"/>
          <a:ext cx="4038480" cy="413532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928800"/>
                <a:gridCol w="687240"/>
              </a:tblGrid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A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B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C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KB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B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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5" name="Line 72"/>
          <p:cNvSpPr/>
          <p:nvPr/>
        </p:nvSpPr>
        <p:spPr>
          <a:xfrm>
            <a:off x="341964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6" name="Line 73"/>
          <p:cNvSpPr/>
          <p:nvPr/>
        </p:nvSpPr>
        <p:spPr>
          <a:xfrm>
            <a:off x="349236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7" name="Line 74"/>
          <p:cNvSpPr/>
          <p:nvPr/>
        </p:nvSpPr>
        <p:spPr>
          <a:xfrm>
            <a:off x="3492360" y="3860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C8C2-E4E2-4D86-94E5-161FD0B1B6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124000" y="1413000"/>
          <a:ext cx="5832720" cy="43304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1897200"/>
                <a:gridCol w="1513080"/>
              </a:tblGrid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C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K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B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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0AC5-252E-47B6-B0C5-9632ECA3A3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124000" y="1413000"/>
          <a:ext cx="5832720" cy="44528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1897200"/>
                <a:gridCol w="1513080"/>
              </a:tblGrid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C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K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B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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06" name="Text Box 75"/>
          <p:cNvSpPr/>
          <p:nvPr/>
        </p:nvSpPr>
        <p:spPr>
          <a:xfrm>
            <a:off x="5869080" y="2781360"/>
            <a:ext cx="16714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KB ╞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C2BD-8E16-47A3-A34E-161845C7B2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Propositional Logic: Proof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odel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uth table enumeration (sound and complete for propositional logi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n symbols, the time complexity is O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ed a smarter way to do 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pplication of inferenc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gitimate (sound) generation of new sentences from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of = a sequence of inference rule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an use inference rules as operators in a standard search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2B4B-5580-4952-8737-6CCE061308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Validity and Satisf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entence is valid (a tautology) if it is true in al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¬A, A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, 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A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))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Validity is connected to inference via the Deduction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╞ α if and only if 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α) is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entence is satisfiable if it is true in som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.g.,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entence is unsatisfiable if it is false in al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.g.,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¬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atisfiability is connected to inference via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╞ α if and only if 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¬α) is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there is no model for which KB=true and α is 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B775-9BAC-4B6C-9CE7-4248F05F6E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positional Logic: Inferenc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 inference rule is sound if the conclusion is true in all cases where the premises are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560D-FEB6-4461-8899-65D55DCC12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positional Logic: An inference rule: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dus Pon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om an implication and the premise of the implication, you can infer the con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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aining implies soggy courts”, “rai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fer: “soggy cour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68DD-2CD2-4BCC-AFCF-285D12B4E3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positional Logic: An inference rule: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dus Tol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om an implication and the premise of the implication, you can infer the con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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aining implies soggy courts”, “courts not sogg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fer: “not rai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D7BE-46C0-45D0-A41F-616A455B8A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positional Logic: An inference rule: AND eli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om a conjunction, you can infer any of the conjun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     Pre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Question: show that Modus Ponens and And Elimination are soun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EDA7-0F50-487B-921A-83EAF15394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clarative vs procedural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clarative approac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n approach to system building that consists in expressing the knowledge of the environment in the form of sentences using a representation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cedural approac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ncodes desired behaviors directly as a progra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0EAB-DBFA-4606-89DA-A11DCB41A8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positional Logic: other inferenc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nd-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ouble Neg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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ules of equivalence can be used as inference rules. (Tutori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6E7C-22F5-4151-AFA6-D6EC019565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positional Logic: Equivalenc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wo sentences are logically equivalent iff they are true in the same models: α ≡ ß iff α╞ β and β╞ 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0" y="2349360"/>
            <a:ext cx="88455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5D75-D186-4D0C-8154-33647B47B9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457200" y="1052640"/>
            <a:ext cx="82296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7371-24A1-443D-BC60-F43BCA02DD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Inference in Wumpus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900000" y="1773360"/>
            <a:ext cx="6553440" cy="25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Let S</a:t>
            </a:r>
            <a:r>
              <a:rPr b="1" lang="en-US" sz="2400" spc="-1" strike="noStrike" baseline="-25000">
                <a:solidFill>
                  <a:srgbClr val="808080"/>
                </a:solidFill>
                <a:latin typeface="Garamond"/>
                <a:ea typeface="Times New Roman"/>
              </a:rPr>
              <a:t>i,j </a:t>
            </a: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be true if there is a stench in cell i,j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Let B</a:t>
            </a:r>
            <a:r>
              <a:rPr b="1" lang="en-US" sz="2400" spc="-1" strike="noStrike" baseline="-25000">
                <a:solidFill>
                  <a:srgbClr val="808080"/>
                </a:solidFill>
                <a:latin typeface="Garamond"/>
                <a:ea typeface="Times New Roman"/>
              </a:rPr>
              <a:t>i,j </a:t>
            </a: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be true if there is a breeze in cell i,j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Let W</a:t>
            </a:r>
            <a:r>
              <a:rPr b="1" lang="en-US" sz="2400" spc="-1" strike="noStrike" baseline="-25000">
                <a:solidFill>
                  <a:srgbClr val="808080"/>
                </a:solidFill>
                <a:latin typeface="Garamond"/>
                <a:ea typeface="Times New Roman"/>
              </a:rPr>
              <a:t>i,j </a:t>
            </a: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be true if there is a Wumpus in cell i,j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50920" y="3195720"/>
            <a:ext cx="856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¬B1,1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1,1 </a:t>
            </a:r>
            <a:r>
              <a:rPr b="1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make some inferences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(B1,1 </a:t>
            </a:r>
            <a:r>
              <a:rPr b="1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 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,1 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y definition of the biconditional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 </a:t>
            </a:r>
            <a:r>
              <a:rPr b="1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,1 (And-elimination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¬B1,1 </a:t>
            </a:r>
            <a:r>
              <a:rPr b="1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¬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 (equivalence with contrapositive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¬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 (modus ponens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¬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¬P2,1 (DeMorgan’s rule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¬P1,2 (And Elimination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96E3-50D0-4075-BD55-9C1D7A9C30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Inference in Wumpus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95280" y="2492280"/>
            <a:ext cx="3962520" cy="394056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ercept Sentences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Environment Knowledge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006560" y="1649520"/>
            <a:ext cx="20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Initial KB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212720" y="1774800"/>
            <a:ext cx="471636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me inferences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ply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Modus Ponen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Add to KB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1,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2,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1,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ply to this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AND-Elimin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Add to KB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1,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2,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1,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2064-37B1-462C-AE25-D86F424B7B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ecall that when we were at (2,1) we could not decide on a safe move, so we backtracked, and explored (1,2), which yielded ¬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2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2,2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s yield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and consequ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,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3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, 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ow we can consider the implications of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Garamond"/>
              </a:rPr>
              <a:t>2,1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840C-D5F2-4D6C-9A52-EEE47F4185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(biconditional Elimi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modus pon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1,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resolution rule because no pit in (2,2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(resolution rule because no pit in (1,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Garamond"/>
              </a:rPr>
              <a:t>The resolution rule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f there is a pit in (1,1) or (3,1), and it’s not in (1,1), then it’s in (3,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¬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"/>
          <p:cNvSpPr/>
          <p:nvPr/>
        </p:nvSpPr>
        <p:spPr>
          <a:xfrm>
            <a:off x="2771640" y="5445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0A3B-7551-4171-B86D-E78E3B7D9A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nit Resolution inference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re complementary lit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"/>
          <p:cNvSpPr/>
          <p:nvPr/>
        </p:nvSpPr>
        <p:spPr>
          <a:xfrm>
            <a:off x="1908000" y="3716280"/>
            <a:ext cx="54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0C16-5C35-48A0-92DD-E70D07C204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ull resolution inference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+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-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+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re complementary lit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539640" y="4149720"/>
            <a:ext cx="777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89D4-5AD2-4BE6-A381-E49AE35BD1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implicity let’s consider clauses of length tw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¬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11280" y="3573360"/>
            <a:ext cx="79200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rive the soundness of resolution consider the value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ake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since we know that ¬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s, i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the case tha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3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ru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since we know tha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s, i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the case tha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ru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2987640" y="278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DBDB-B1CE-41A3-92F5-9E01352F76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Example: Wumpus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3033000" y="907920"/>
            <a:ext cx="4194720" cy="5548320"/>
            <a:chOff x="3033000" y="907920"/>
            <a:chExt cx="4194720" cy="554832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3902" t="24465" r="68365" b="55964"/>
            <a:stretch/>
          </p:blipFill>
          <p:spPr>
            <a:xfrm>
              <a:off x="3068640" y="1960560"/>
              <a:ext cx="41590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6"/>
            <p:cNvSpPr/>
            <p:nvPr/>
          </p:nvSpPr>
          <p:spPr>
            <a:xfrm>
              <a:off x="3033000" y="907920"/>
              <a:ext cx="4181400" cy="825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ok Antiqua"/>
                </a:rPr>
                <a:t>THE WUMPUS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3D43-AD71-4AB1-923C-DC8ED52CA8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. Properties of the resolution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lete (yields to a complete inference algorith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. The resolution rule forms the basis for a family of complete inference algo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3. Resolution rule is used to either confirm or refute a sentence but it cannot be used to enumerate tru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275B-35BA-4A5B-80B1-011461C701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4. Resolution can be applied only to disjunctions of literals. How can  it lead to a complete inference procedure for all propositional log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5. Turns out any knowledge base can be expressed as a conjunction of disjunctions (conjunctive normal form, CN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.g., 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¬B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(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¬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¬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3E52-50F0-42DE-95E6-6EAB232FE2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Resolution: Inferenc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6. Inference procedures based on resolution work by using the principle of proof by contadi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o show that KB ╞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 show that (K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unsatis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cess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. convert K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N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resolution rule is applied to the resulting cla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DD8B-56F8-4CD5-8F9B-779BD278B9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solution: Inferenc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-RESOLUTION(KB,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ue or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uses ← the set of clauses in the CNF representation of  (K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←{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 clause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nts ← PL-RESOLVE (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nts contains the empty claus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retur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← new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∪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ol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⊆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use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retur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uses ← clauses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∪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468360" y="1844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468360" y="616572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08D3-54AC-444A-99EF-8EB8817835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solution: Inferenc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PL-RESOLVE (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applies the resolution rule to (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continues until one of two things happ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no new clauses that can be added , in which case KB does not entail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lauses resolve to yield the empty clause, in which case KB entail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8A69-2121-4305-A97B-EDE92C9BE7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solution: Inference procedu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xample of proof  by contradi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,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= ¬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7751520" cy="19746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7"/>
          <p:cNvSpPr/>
          <p:nvPr/>
        </p:nvSpPr>
        <p:spPr>
          <a:xfrm>
            <a:off x="681840" y="573408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Question: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convert (K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l-GR" sz="2400" spc="-1" strike="noStrike">
                <a:solidFill>
                  <a:srgbClr val="000000"/>
                </a:solidFill>
                <a:latin typeface="Garamond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to CNF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8E68-83CD-4934-ABB5-FCAD2E7A79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erence for Horn cl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n Form (special form of CNF): disjunction of literals of which at most one is po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 = conjunction of Horn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n clause = propositional symbol;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junction of symbols)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⇒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s Ponens is a natural way to make inference in Horn K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DF3E-0A99-436D-B770-E88A019D24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erence for Horn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1, … ,αn,   α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n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ive application of modus ponens leads to algorithms that are sound and complete, and run in linea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1979640" y="306864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F0CC-3DC9-46D1-987E-91E993F6C5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erence for Horn clauses: Forward ch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: fire any rule whose premises are satisfied in th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add its conclusion to th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til query is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4672080" cy="252252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6"/>
          <p:cNvSpPr/>
          <p:nvPr/>
        </p:nvSpPr>
        <p:spPr>
          <a:xfrm>
            <a:off x="4500720" y="441468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chaining is sound and complete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orn knowledge bases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FA86-5E12-4D63-BFB3-F15156B6EE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erence for Horn clauses: backward ch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: work backwards from the query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f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known already, or prove by backward chaining all premises of some rule concluding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void loo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f new subgoal is already on the goal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repeated work: check if new subgoal has already been proved true, or has already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4D79-A0CD-4BFE-BD69-918C513931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695400" cy="3619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56000" y="1125360"/>
            <a:ext cx="446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adjacent to wumpus are sme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adjacent to pit are bree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litter if and only if gold is in the sam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hooting kills the wumpus if you are fac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hooting uses up the only a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abbing picks up the gold if in the sam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leasing drops the gold in the sam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4543560"/>
            <a:ext cx="45720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Goals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Get gold back to the start without entering it or wumpus square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Percepts</a:t>
            </a:r>
            <a:r>
              <a:rPr b="1" lang="en-US" sz="2000" spc="-1" strike="noStrike">
                <a:solidFill>
                  <a:srgbClr val="bbe0e3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Breeze, Glitter, Smell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Actions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Left turn, Right turn, Forward, Grab, Release, Shoo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18B1-9629-4527-AC67-DBCEEFEB13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ogical agents appl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o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nowledge bas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o derive new information and make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asic concepts of log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ormal structure of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Semantic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ruth of sentences wrt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Entailment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necessary truth of one sentence given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Inference</a:t>
            </a:r>
            <a:r>
              <a:rPr b="0" lang="en-US" sz="2400" spc="-1" strike="noStrike">
                <a:solidFill>
                  <a:srgbClr val="bbe0e3"/>
                </a:solidFill>
                <a:latin typeface="Garamond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riving sentences from other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Soundess</a:t>
            </a:r>
            <a:r>
              <a:rPr b="0" lang="en-US" sz="2400" spc="-1" strike="noStrike">
                <a:solidFill>
                  <a:srgbClr val="bbe0e3"/>
                </a:solidFill>
                <a:latin typeface="Garamond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rivations produce only entailed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Completeness</a:t>
            </a:r>
            <a:r>
              <a:rPr b="0" lang="en-US" sz="2400" spc="-1" strike="noStrike">
                <a:solidFill>
                  <a:srgbClr val="bbe0e3"/>
                </a:solidFill>
                <a:latin typeface="Garamond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rivations can produce all entailed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uth table method is sound and complete for propositional logic but Cumbersome in most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plication of inference rules is another alternative to perform entail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51A7-7380-43FD-B9AB-490DA3A257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he Wumpus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the world determinist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es: outcomes are exactly spec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the world fully acce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o: only local perception of square you are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the world stat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es: Wumpus and Pits do not m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the world discr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8601-7140-4769-BFB3-38AD88D791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427640" y="1484280"/>
          <a:ext cx="4038480" cy="4525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32"/>
          <p:cNvSpPr/>
          <p:nvPr/>
        </p:nvSpPr>
        <p:spPr>
          <a:xfrm>
            <a:off x="4718520" y="515772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221040" y="2276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5:45:51Z</dcterms:created>
  <dc:creator>Hichem</dc:creator>
  <dc:description/>
  <dc:language>en-US</dc:language>
  <cp:lastModifiedBy>Dean Ship</cp:lastModifiedBy>
  <dcterms:modified xsi:type="dcterms:W3CDTF">2012-02-12T05:32:25Z</dcterms:modified>
  <cp:revision>128</cp:revision>
  <dc:subject/>
  <dc:title>Game Playing: Adversarial Search  chapter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