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383A-E47F-4E97-B0A0-5DFFA10FF52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B85C-0A6E-48F3-9D62-064D2769EC6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6262200"/>
            <a:ext cx="12002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9E7E-8F5E-4595-8C12-481EABC87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E3E2-3EC0-468E-82E7-CE64C5C8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A752-10AC-4341-BAE8-D704F827F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AC17-9B37-4A18-86FD-96053772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FF9D-C88C-436D-81A0-BADCCA09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502F-170D-40A6-A4B8-F75EA3E6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8019-5E8E-4DFB-8B5B-D79995B5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9622-E2E2-4357-81AD-2B546595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BE72-88D6-45A7-B233-6D6318FB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9094-CB05-45AF-8FEB-4C1E53D7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D951-9C14-4595-AACD-B59DE95D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E5C0-3402-491D-A50C-3F3A1BDC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489D-77CA-4090-B066-2DE2C2A9350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yousef@ccis.edu.sa" TargetMode="External"/><Relationship Id="rId2" Type="http://schemas.openxmlformats.org/officeDocument/2006/relationships/hyperlink" Target="http://faculty.ksu.edu.sa/YAlohali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7136-313B-4D18-A007-74E7F23E63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 (Part 1)</a:t>
            </a:r>
            <a:br>
              <a:rPr sz="3600"/>
            </a:b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Propositional Lo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5892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371600" y="3886200"/>
            <a:ext cx="6400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Dr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Yousef Al-Ohali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ahoma"/>
              </a:rPr>
              <a:t>Computer Science Depart.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ahoma"/>
              </a:rPr>
              <a:t>CCIS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ahoma"/>
              </a:rPr>
              <a:t> King Saud University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ahoma"/>
              </a:rPr>
              <a:t>Saudi Arabia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Tahoma"/>
                <a:hlinkClick r:id="rId1"/>
              </a:rPr>
              <a:t>yousef@ccis.edu.sa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Tahoma"/>
                <a:hlinkClick r:id="rId2"/>
              </a:rPr>
              <a:t>http://faculty.ksu.edu.sa/YAlohali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>
            <a:off x="971640" y="350028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359C-646E-4154-A51B-0DCA1F79DB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859280" y="1484280"/>
          <a:ext cx="4038480" cy="4525920"/>
        </p:xfrm>
        <a:graphic>
          <a:graphicData uri="http://schemas.openxmlformats.org/drawingml/2006/table">
            <a:tbl>
              <a:tblPr/>
              <a:tblGrid>
                <a:gridCol w="1009800"/>
                <a:gridCol w="1009440"/>
                <a:gridCol w="1009800"/>
                <a:gridCol w="1009440"/>
              </a:tblGrid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4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32"/>
          <p:cNvSpPr/>
          <p:nvPr/>
        </p:nvSpPr>
        <p:spPr>
          <a:xfrm>
            <a:off x="5150520" y="5516640"/>
            <a:ext cx="4366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" name="Rectangle 33"/>
          <p:cNvSpPr/>
          <p:nvPr/>
        </p:nvSpPr>
        <p:spPr>
          <a:xfrm>
            <a:off x="0" y="2637000"/>
            <a:ext cx="47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k because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aven’t fallen into a pit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aven’t been eaten by a Wumpus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" name="Text Box 34"/>
          <p:cNvSpPr/>
          <p:nvPr/>
        </p:nvSpPr>
        <p:spPr>
          <a:xfrm>
            <a:off x="149400" y="155736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Exploring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46A0-8EE4-4613-B8D3-ED10E43189C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788000" y="1484280"/>
          <a:ext cx="4038480" cy="45259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2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97" name="Rectangle 32"/>
          <p:cNvSpPr/>
          <p:nvPr/>
        </p:nvSpPr>
        <p:spPr>
          <a:xfrm>
            <a:off x="0" y="2565360"/>
            <a:ext cx="45720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K since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no Stench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no Breeze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ighbors are safe (OK)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8" name="Text Box 33"/>
          <p:cNvSpPr/>
          <p:nvPr/>
        </p:nvSpPr>
        <p:spPr>
          <a:xfrm>
            <a:off x="5150520" y="5373720"/>
            <a:ext cx="4366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" name="Text Box 34"/>
          <p:cNvSpPr/>
          <p:nvPr/>
        </p:nvSpPr>
        <p:spPr>
          <a:xfrm>
            <a:off x="-68040" y="155736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Exploring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E262-C713-4CE3-8F48-4D9373E3C3D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492360" y="2060640"/>
          <a:ext cx="5410440" cy="4206960"/>
        </p:xfrm>
        <a:graphic>
          <a:graphicData uri="http://schemas.openxmlformats.org/drawingml/2006/table">
            <a:tbl>
              <a:tblPr/>
              <a:tblGrid>
                <a:gridCol w="1352520"/>
                <a:gridCol w="1352880"/>
                <a:gridCol w="1352520"/>
                <a:gridCol w="1352520"/>
              </a:tblGrid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stench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4" name="Rectangle 68"/>
          <p:cNvSpPr/>
          <p:nvPr/>
        </p:nvSpPr>
        <p:spPr>
          <a:xfrm>
            <a:off x="324000" y="2852640"/>
            <a:ext cx="30416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We move and smell a stench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Text Box 69"/>
          <p:cNvSpPr/>
          <p:nvPr/>
        </p:nvSpPr>
        <p:spPr>
          <a:xfrm>
            <a:off x="4217040" y="4214880"/>
            <a:ext cx="4366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" name="Line 70"/>
          <p:cNvSpPr/>
          <p:nvPr/>
        </p:nvSpPr>
        <p:spPr>
          <a:xfrm flipV="1">
            <a:off x="4572000" y="522936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" name="Text Box 71"/>
          <p:cNvSpPr/>
          <p:nvPr/>
        </p:nvSpPr>
        <p:spPr>
          <a:xfrm>
            <a:off x="-318960" y="148428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Exploring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1988-C9DA-4BC7-AE42-B179E614773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648320" y="1600200"/>
          <a:ext cx="4038480" cy="44179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W?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stench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W?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12" name="Rectangle 35"/>
          <p:cNvSpPr/>
          <p:nvPr/>
        </p:nvSpPr>
        <p:spPr>
          <a:xfrm>
            <a:off x="250920" y="2852640"/>
            <a:ext cx="381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We can infer  the following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Note: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square (1,1) remains OK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3" name="Line 36"/>
          <p:cNvSpPr/>
          <p:nvPr/>
        </p:nvSpPr>
        <p:spPr>
          <a:xfrm>
            <a:off x="3708360" y="3141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4" name="Text Box 37"/>
          <p:cNvSpPr/>
          <p:nvPr/>
        </p:nvSpPr>
        <p:spPr>
          <a:xfrm>
            <a:off x="5150520" y="3860640"/>
            <a:ext cx="4366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" name="Text Box 38"/>
          <p:cNvSpPr/>
          <p:nvPr/>
        </p:nvSpPr>
        <p:spPr>
          <a:xfrm>
            <a:off x="5040" y="141300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Exploring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DE09-2436-4CB1-BABF-22F5F9074A8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648320" y="1600200"/>
          <a:ext cx="4038480" cy="44179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W?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stench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W?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breez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0" name="Line 38"/>
          <p:cNvSpPr/>
          <p:nvPr/>
        </p:nvSpPr>
        <p:spPr>
          <a:xfrm flipV="1">
            <a:off x="5435640" y="450864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1" name="Line 39"/>
          <p:cNvSpPr/>
          <p:nvPr/>
        </p:nvSpPr>
        <p:spPr>
          <a:xfrm>
            <a:off x="5292720" y="56610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2" name="Text Box 40"/>
          <p:cNvSpPr/>
          <p:nvPr/>
        </p:nvSpPr>
        <p:spPr>
          <a:xfrm>
            <a:off x="6084720" y="4869000"/>
            <a:ext cx="432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" name="Rectangle 41"/>
          <p:cNvSpPr/>
          <p:nvPr/>
        </p:nvSpPr>
        <p:spPr>
          <a:xfrm>
            <a:off x="324000" y="2637000"/>
            <a:ext cx="39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ve and feel a breeze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What can we conclude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Text Box 42"/>
          <p:cNvSpPr/>
          <p:nvPr/>
        </p:nvSpPr>
        <p:spPr>
          <a:xfrm>
            <a:off x="221040" y="155736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Exploring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7CAC-B278-47E5-91F3-1842EB9D612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648320" y="1600200"/>
          <a:ext cx="4038480" cy="439740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W?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stench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P?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W?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breez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P?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pSp>
        <p:nvGrpSpPr>
          <p:cNvPr id="129" name="Group 36"/>
          <p:cNvGrpSpPr/>
          <p:nvPr/>
        </p:nvGrpSpPr>
        <p:grpSpPr>
          <a:xfrm>
            <a:off x="2478960" y="3138480"/>
            <a:ext cx="6663960" cy="3720960"/>
            <a:chOff x="2478960" y="3138480"/>
            <a:chExt cx="6663960" cy="3720960"/>
          </a:xfrm>
        </p:grpSpPr>
        <p:sp>
          <p:nvSpPr>
            <p:cNvPr id="130" name="Text Box 37"/>
            <p:cNvSpPr/>
            <p:nvPr/>
          </p:nvSpPr>
          <p:spPr>
            <a:xfrm>
              <a:off x="2478960" y="6338880"/>
              <a:ext cx="666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nd what about the other  P? and W? square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1" name="Line 38"/>
            <p:cNvSpPr/>
            <p:nvPr/>
          </p:nvSpPr>
          <p:spPr>
            <a:xfrm flipH="1" flipV="1">
              <a:off x="7354800" y="5424480"/>
              <a:ext cx="53352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2" name="Line 39"/>
            <p:cNvSpPr/>
            <p:nvPr/>
          </p:nvSpPr>
          <p:spPr>
            <a:xfrm flipV="1">
              <a:off x="3316320" y="3138480"/>
              <a:ext cx="1219320" cy="312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33" name="Group 40"/>
          <p:cNvGrpSpPr/>
          <p:nvPr/>
        </p:nvGrpSpPr>
        <p:grpSpPr>
          <a:xfrm>
            <a:off x="684360" y="2781360"/>
            <a:ext cx="6247800" cy="3018600"/>
            <a:chOff x="684360" y="2781360"/>
            <a:chExt cx="6247800" cy="3018600"/>
          </a:xfrm>
        </p:grpSpPr>
        <p:sp>
          <p:nvSpPr>
            <p:cNvPr id="134" name="Text Box 41"/>
            <p:cNvSpPr/>
            <p:nvPr/>
          </p:nvSpPr>
          <p:spPr>
            <a:xfrm>
              <a:off x="684360" y="2781360"/>
              <a:ext cx="320004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Garamond"/>
                </a:rPr>
                <a:t>But, can the 2,2 square really have either a Wumpus or a pit? </a:t>
              </a:r>
              <a:endParaRPr b="0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5" name="Rectangle 42"/>
            <p:cNvSpPr/>
            <p:nvPr/>
          </p:nvSpPr>
          <p:spPr>
            <a:xfrm>
              <a:off x="5484600" y="3695760"/>
              <a:ext cx="1447560" cy="1295640"/>
            </a:xfrm>
            <a:prstGeom prst="rect">
              <a:avLst/>
            </a:prstGeom>
            <a:noFill/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36" name="Text Box 43"/>
          <p:cNvSpPr/>
          <p:nvPr/>
        </p:nvSpPr>
        <p:spPr>
          <a:xfrm>
            <a:off x="6156360" y="5516640"/>
            <a:ext cx="4237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7" name="Text Box 44"/>
          <p:cNvSpPr/>
          <p:nvPr/>
        </p:nvSpPr>
        <p:spPr>
          <a:xfrm>
            <a:off x="539640" y="515772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Times New Roman"/>
              </a:rPr>
              <a:t>NO!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8" name="Text Box 45"/>
          <p:cNvSpPr/>
          <p:nvPr/>
        </p:nvSpPr>
        <p:spPr>
          <a:xfrm>
            <a:off x="221040" y="155736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Exploring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579E-25F7-49C2-82D6-A57BB780C29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48320" y="1600200"/>
          <a:ext cx="4038480" cy="439740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stench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P?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W?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breez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43" name="Line 34"/>
          <p:cNvSpPr/>
          <p:nvPr/>
        </p:nvSpPr>
        <p:spPr>
          <a:xfrm flipV="1">
            <a:off x="5796000" y="4005360"/>
            <a:ext cx="533520" cy="838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" name="Line 35"/>
          <p:cNvSpPr/>
          <p:nvPr/>
        </p:nvSpPr>
        <p:spPr>
          <a:xfrm flipH="1" flipV="1">
            <a:off x="5796000" y="4005360"/>
            <a:ext cx="533520" cy="838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5" name="Text Box 36"/>
          <p:cNvSpPr/>
          <p:nvPr/>
        </p:nvSpPr>
        <p:spPr>
          <a:xfrm>
            <a:off x="6156360" y="4869000"/>
            <a:ext cx="4413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6" name="Text Box 38"/>
          <p:cNvSpPr/>
          <p:nvPr/>
        </p:nvSpPr>
        <p:spPr>
          <a:xfrm>
            <a:off x="221040" y="162864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Exploring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6FEF-7E2A-4802-8B34-0DEF6E4605A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48320" y="1600200"/>
          <a:ext cx="4038480" cy="44179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stench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breez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51" name="Line 34"/>
          <p:cNvSpPr/>
          <p:nvPr/>
        </p:nvSpPr>
        <p:spPr>
          <a:xfrm flipV="1">
            <a:off x="6300720" y="480492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" name="Text Box 35"/>
          <p:cNvSpPr/>
          <p:nvPr/>
        </p:nvSpPr>
        <p:spPr>
          <a:xfrm>
            <a:off x="6158520" y="3789360"/>
            <a:ext cx="4366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" name="Text Box 36"/>
          <p:cNvSpPr/>
          <p:nvPr/>
        </p:nvSpPr>
        <p:spPr>
          <a:xfrm>
            <a:off x="221040" y="155736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Exploring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5CB2-EDE0-46CF-9E15-8F1FBB606DA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648320" y="1600200"/>
          <a:ext cx="4038480" cy="44179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Breez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Stench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58" name="Line 34"/>
          <p:cNvSpPr/>
          <p:nvPr/>
        </p:nvSpPr>
        <p:spPr>
          <a:xfrm flipV="1">
            <a:off x="6372360" y="54478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" name="Line 35"/>
          <p:cNvSpPr/>
          <p:nvPr/>
        </p:nvSpPr>
        <p:spPr>
          <a:xfrm flipV="1">
            <a:off x="6372360" y="4295520"/>
            <a:ext cx="0" cy="695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Text Box 36"/>
          <p:cNvSpPr/>
          <p:nvPr/>
        </p:nvSpPr>
        <p:spPr>
          <a:xfrm>
            <a:off x="6158520" y="4871880"/>
            <a:ext cx="4366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" name="Text Box 37"/>
          <p:cNvSpPr/>
          <p:nvPr/>
        </p:nvSpPr>
        <p:spPr>
          <a:xfrm>
            <a:off x="6158520" y="3792600"/>
            <a:ext cx="4366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" name="Rectangle 38"/>
          <p:cNvSpPr/>
          <p:nvPr/>
        </p:nvSpPr>
        <p:spPr>
          <a:xfrm>
            <a:off x="250920" y="2492280"/>
            <a:ext cx="396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…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nd the exploration continues onward until the gold is found.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…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" name="Text Box 39"/>
          <p:cNvSpPr/>
          <p:nvPr/>
        </p:nvSpPr>
        <p:spPr>
          <a:xfrm>
            <a:off x="365400" y="148428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Exploring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2195-0D16-47C1-ACBB-0CD5C007E26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114480" y="1523880"/>
            <a:ext cx="4457520" cy="44769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4500720" y="2133720"/>
            <a:ext cx="3995640" cy="32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reeze in (1,2) and (2,1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no safe actions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suming pits uniformly distributed, (2,2) is most likely to have a pit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3462480" y="1189080"/>
            <a:ext cx="25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Garamond"/>
              </a:rPr>
              <a:t>A tight spot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7086-065C-4365-B971-3B6B6C35165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333399"/>
                </a:solidFill>
                <a:latin typeface="Garamond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w can we formalize our knowledge about the world so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e can reason about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e can do sound infer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e can prove th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e can plan a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e can understand and explain th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A04F-1392-47BF-B428-2CEB3F2E9A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152280" y="2162160"/>
            <a:ext cx="34290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5"/>
          <p:cNvGrpSpPr/>
          <p:nvPr/>
        </p:nvGrpSpPr>
        <p:grpSpPr>
          <a:xfrm>
            <a:off x="610920" y="2498760"/>
            <a:ext cx="2663640" cy="2532240"/>
            <a:chOff x="610920" y="2498760"/>
            <a:chExt cx="2663640" cy="2532240"/>
          </a:xfrm>
        </p:grpSpPr>
        <p:sp>
          <p:nvSpPr>
            <p:cNvPr id="175" name="Text Box 6"/>
            <p:cNvSpPr/>
            <p:nvPr/>
          </p:nvSpPr>
          <p:spPr>
            <a:xfrm>
              <a:off x="610920" y="2498760"/>
              <a:ext cx="942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9999"/>
                  </a:solidFill>
                  <a:latin typeface="Times New Roman"/>
                </a:rPr>
                <a:t>W?</a:t>
              </a:r>
              <a:endParaRPr b="0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6" name="Text Box 7"/>
            <p:cNvSpPr/>
            <p:nvPr/>
          </p:nvSpPr>
          <p:spPr>
            <a:xfrm>
              <a:off x="2331720" y="4327560"/>
              <a:ext cx="942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9999"/>
                  </a:solidFill>
                  <a:latin typeface="Times New Roman"/>
                </a:rPr>
                <a:t>W?</a:t>
              </a:r>
              <a:endParaRPr b="0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77" name="Rectangle 9"/>
          <p:cNvSpPr/>
          <p:nvPr/>
        </p:nvSpPr>
        <p:spPr>
          <a:xfrm>
            <a:off x="3809880" y="1844640"/>
            <a:ext cx="5334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mell in (1,1)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cannot mov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n use a strategy of coercion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shoot straight ahead;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wumpus was there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dead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saf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wumpus wasn't there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 saf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2647440" y="1020600"/>
            <a:ext cx="34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Garamond"/>
              </a:rPr>
              <a:t>Another tight spot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3360-8251-4569-AB52-447A2EE0B48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Fundamental property of logical reaso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In each case where the agent draws a conclusion from the available information, that conclusion is guaranteed to </a:t>
            </a:r>
            <a:r>
              <a:rPr b="1" i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be correct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 if the </a:t>
            </a:r>
            <a:r>
              <a:rPr b="1" i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available information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 is </a:t>
            </a:r>
            <a:r>
              <a:rPr b="1" i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corr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9286-D3D2-4174-BBF5-E305C8036C4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611280" y="765000"/>
            <a:ext cx="7772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undamental concepts of logical representation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Garamond"/>
              </a:rPr>
              <a:t>Logics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re formal languages for representing information such that conclusions can be drawn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ach sentence is defined by a </a:t>
            </a: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syntax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d a </a:t>
            </a: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semantic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Syntax</a:t>
            </a:r>
            <a:r>
              <a:rPr b="0" lang="en-US" sz="2400" spc="-1" strike="noStrike">
                <a:solidFill>
                  <a:srgbClr val="99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efines the sentences in the language. It specifies well formed sentences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Semantic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define the ``meaning'' of sentences;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i.e., in logic it defines the </a:t>
            </a:r>
            <a:r>
              <a:rPr b="1" lang="en-US" sz="2400" spc="-1" strike="noStrike">
                <a:solidFill>
                  <a:srgbClr val="990000"/>
                </a:solidFill>
                <a:latin typeface="Garamond"/>
                <a:ea typeface="Arial"/>
              </a:rPr>
              <a:t>truth of a sente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in 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possible world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or example, the language of arithmetic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x + 2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 y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 is a sentence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x + y &gt;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     is not a sentence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x + 2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 y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is true iff the number </a:t>
            </a:r>
            <a:r>
              <a:rPr b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x+2</a:t>
            </a:r>
            <a:r>
              <a:rPr b="0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is no less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than the number</a:t>
            </a:r>
            <a:r>
              <a:rPr b="0" i="1" lang="en-US" sz="2000" spc="-1" strike="noStrike">
                <a:solidFill>
                  <a:srgbClr val="bbe0e3"/>
                </a:solidFill>
                <a:latin typeface="Garamond"/>
                <a:ea typeface="Arial"/>
              </a:rPr>
              <a:t> y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x + 2 </a:t>
            </a:r>
            <a:r>
              <a:rPr b="1" i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</a:t>
            </a:r>
            <a:r>
              <a:rPr b="1" i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 y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is true in a world where </a:t>
            </a:r>
            <a:r>
              <a:rPr b="1" i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x = 7, y =1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x + 2 </a:t>
            </a:r>
            <a:r>
              <a:rPr b="1" i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</a:t>
            </a:r>
            <a:r>
              <a:rPr b="1" i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 y</a:t>
            </a:r>
            <a:r>
              <a:rPr b="1" i="1" lang="en-US" sz="2000" spc="-1" strike="noStrike">
                <a:solidFill>
                  <a:srgbClr val="bbe0e3"/>
                </a:solidFill>
                <a:latin typeface="Garamond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is false in a world where </a:t>
            </a:r>
            <a:r>
              <a:rPr b="1" i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x = 0, y= 6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C046-D2B4-453F-AA36-932EB23DE7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Fundamental concepts of logical representat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5960" y="765000"/>
            <a:ext cx="7772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Model: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s word is used instead of “possible world” for sake of precision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Garamond"/>
              </a:rPr>
              <a:t> </a:t>
            </a:r>
            <a:r>
              <a:rPr b="1" i="1" lang="en-US" sz="2400" spc="-1" strike="noStrike">
                <a:solidFill>
                  <a:srgbClr val="990000"/>
                </a:solidFill>
                <a:latin typeface="Garamond"/>
              </a:rPr>
              <a:t>m </a:t>
            </a: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is a model of a sentence </a:t>
            </a:r>
            <a:r>
              <a:rPr b="1" lang="el-G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α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means</a:t>
            </a:r>
            <a:r>
              <a:rPr b="0" lang="fr-F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α</a:t>
            </a:r>
            <a:r>
              <a:rPr b="0" lang="fr-F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is true in model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finition: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odel is a mathematical abstraction that simply fixes the truth or falsehood of every relevant sentenc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men and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women sitting at a table playing bridg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+ y =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is a sentence which is true when the total number is four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 : possible assignment of numbers to the variables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.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assignment fixes the truth of any sentence whose variables are x and y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95B3-CECD-49EF-876B-3330227E10E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400800" cy="41911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468360" y="537372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 model is an instance of the world. A model of a set of sentences is an instance of the world where these sentences are tru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324000" y="1341360"/>
            <a:ext cx="241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Potential  models of the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2A5D-1086-4B95-8B17-4C63A07C37A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Entailment:</a:t>
            </a:r>
            <a:r>
              <a:rPr b="0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Logical reasoning requires the relation of logical entailment between sentences. </a:t>
            </a:r>
            <a:r>
              <a:rPr b="1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 « a sentence follows logically from another sentence 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thematical notation:  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0" lang="el-G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α</a:t>
            </a:r>
            <a:r>
              <a:rPr b="0" lang="el-GR" sz="2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╞</a:t>
            </a:r>
            <a:r>
              <a:rPr b="0" lang="fr-FR" sz="2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β</a:t>
            </a:r>
            <a:r>
              <a:rPr b="0" lang="fr-FR" sz="2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     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α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entails the sentence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β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Formal definitio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: </a:t>
            </a:r>
            <a:r>
              <a:rPr b="0" lang="el-GR" sz="2400" spc="-1" strike="noStrike">
                <a:solidFill>
                  <a:srgbClr val="990000"/>
                </a:solidFill>
                <a:latin typeface="Times New Roman"/>
                <a:ea typeface="Arial Unicode MS"/>
              </a:rPr>
              <a:t>α</a:t>
            </a:r>
            <a:r>
              <a:rPr b="0" lang="el-GR" sz="2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╞</a:t>
            </a:r>
            <a:r>
              <a:rPr b="0" lang="fr-FR" sz="2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β</a:t>
            </a:r>
            <a:r>
              <a:rPr b="0" lang="fr-FR" sz="2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f and only if in every model in which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α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true,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β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lso true. (truth of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β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contained in the truth of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α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7"/>
          <p:cNvSpPr/>
          <p:nvPr/>
        </p:nvSpPr>
        <p:spPr>
          <a:xfrm>
            <a:off x="1763640" y="1268280"/>
            <a:ext cx="5391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damental concepts of logical represent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679E-1282-4A17-8933-04739A2E5E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ail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579600" y="1623960"/>
            <a:ext cx="23781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Logical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Representation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523880" y="447372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ndy"/>
              </a:rPr>
              <a:t>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380880" y="3276720"/>
            <a:ext cx="8534520" cy="0"/>
          </a:xfrm>
          <a:prstGeom prst="line">
            <a:avLst/>
          </a:prstGeom>
          <a:ln w="28440">
            <a:solidFill>
              <a:srgbClr val="ff99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05" name="Group 6"/>
          <p:cNvGrpSpPr/>
          <p:nvPr/>
        </p:nvGrpSpPr>
        <p:grpSpPr>
          <a:xfrm>
            <a:off x="3381120" y="1471680"/>
            <a:ext cx="1645200" cy="3507480"/>
            <a:chOff x="3381120" y="1471680"/>
            <a:chExt cx="1645200" cy="3507480"/>
          </a:xfrm>
        </p:grpSpPr>
        <p:sp>
          <p:nvSpPr>
            <p:cNvPr id="206" name="Text Box 7"/>
            <p:cNvSpPr/>
            <p:nvPr/>
          </p:nvSpPr>
          <p:spPr>
            <a:xfrm>
              <a:off x="3381120" y="1471680"/>
              <a:ext cx="164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dy"/>
                </a:rPr>
                <a:t>Sentences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dy"/>
                </a:rPr>
                <a:t>KB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3619800" y="4519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Andy"/>
                </a:rPr>
                <a:t>Facts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8" name="Line 9"/>
            <p:cNvSpPr/>
            <p:nvPr/>
          </p:nvSpPr>
          <p:spPr>
            <a:xfrm>
              <a:off x="3886200" y="2590920"/>
              <a:ext cx="0" cy="152388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9" name="Text Box 10"/>
            <p:cNvSpPr/>
            <p:nvPr/>
          </p:nvSpPr>
          <p:spPr>
            <a:xfrm rot="5400000">
              <a:off x="3464280" y="2968200"/>
              <a:ext cx="170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be0e3"/>
                  </a:solidFill>
                  <a:latin typeface="Arial"/>
                </a:rPr>
                <a:t>Semantics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10" name="Text Box 11"/>
          <p:cNvSpPr/>
          <p:nvPr/>
        </p:nvSpPr>
        <p:spPr>
          <a:xfrm>
            <a:off x="7165800" y="1386000"/>
            <a:ext cx="1645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Sentence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1" name="Line 12"/>
          <p:cNvSpPr/>
          <p:nvPr/>
        </p:nvSpPr>
        <p:spPr>
          <a:xfrm>
            <a:off x="7670880" y="2590920"/>
            <a:ext cx="0" cy="1523880"/>
          </a:xfrm>
          <a:prstGeom prst="line">
            <a:avLst/>
          </a:prstGeom>
          <a:ln w="572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 rot="5400000">
            <a:off x="7248960" y="29682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Semantic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13" name="Group 14"/>
          <p:cNvGrpSpPr/>
          <p:nvPr/>
        </p:nvGrpSpPr>
        <p:grpSpPr>
          <a:xfrm>
            <a:off x="5029200" y="4062240"/>
            <a:ext cx="3287520" cy="916920"/>
            <a:chOff x="5029200" y="4062240"/>
            <a:chExt cx="3287520" cy="916920"/>
          </a:xfrm>
        </p:grpSpPr>
        <p:sp>
          <p:nvSpPr>
            <p:cNvPr id="214" name="Text Box 15"/>
            <p:cNvSpPr/>
            <p:nvPr/>
          </p:nvSpPr>
          <p:spPr>
            <a:xfrm>
              <a:off x="7404480" y="4519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Andy"/>
                </a:rPr>
                <a:t>Facts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5" name="Line 16"/>
            <p:cNvSpPr/>
            <p:nvPr/>
          </p:nvSpPr>
          <p:spPr>
            <a:xfrm>
              <a:off x="5029200" y="4648320"/>
              <a:ext cx="175248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6" name="Text Box 17"/>
            <p:cNvSpPr/>
            <p:nvPr/>
          </p:nvSpPr>
          <p:spPr>
            <a:xfrm>
              <a:off x="5146560" y="406224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Follows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17" name="Group 18"/>
          <p:cNvGrpSpPr/>
          <p:nvPr/>
        </p:nvGrpSpPr>
        <p:grpSpPr>
          <a:xfrm>
            <a:off x="5410080" y="1270080"/>
            <a:ext cx="1447920" cy="635040"/>
            <a:chOff x="5410080" y="1270080"/>
            <a:chExt cx="1447920" cy="635040"/>
          </a:xfrm>
        </p:grpSpPr>
        <p:sp>
          <p:nvSpPr>
            <p:cNvPr id="218" name="Text Box 19"/>
            <p:cNvSpPr/>
            <p:nvPr/>
          </p:nvSpPr>
          <p:spPr>
            <a:xfrm>
              <a:off x="5480640" y="12700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tail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9" name="Line 20"/>
            <p:cNvSpPr/>
            <p:nvPr/>
          </p:nvSpPr>
          <p:spPr>
            <a:xfrm>
              <a:off x="5410080" y="1905120"/>
              <a:ext cx="1447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20" name="Line 21"/>
          <p:cNvSpPr/>
          <p:nvPr/>
        </p:nvSpPr>
        <p:spPr>
          <a:xfrm>
            <a:off x="2971800" y="1371600"/>
            <a:ext cx="0" cy="3733920"/>
          </a:xfrm>
          <a:prstGeom prst="line">
            <a:avLst/>
          </a:prstGeom>
          <a:ln w="2844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1" name="Text Box 22"/>
          <p:cNvSpPr/>
          <p:nvPr/>
        </p:nvSpPr>
        <p:spPr>
          <a:xfrm>
            <a:off x="179280" y="508464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l reasoning should ensure that the new configurations represent aspects of the world that actually follow from  the aspects that the old configurations represent.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" name="Rectangle 23"/>
          <p:cNvSpPr/>
          <p:nvPr/>
        </p:nvSpPr>
        <p:spPr>
          <a:xfrm>
            <a:off x="1692360" y="981000"/>
            <a:ext cx="5391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damental concepts of logical represent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ED31-6153-4B1D-BEA0-C766F984A44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Model cheking: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Enumerates all possible models to check that </a:t>
            </a:r>
            <a:r>
              <a:rPr b="1" lang="el-G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α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is true in all models in which KB is tru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matical notation:     KB       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The notation say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: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derived from KB by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rives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KB.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inference algori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1692360" y="1125360"/>
            <a:ext cx="5391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damental concepts of logical represent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7" name="Line 5"/>
          <p:cNvSpPr/>
          <p:nvPr/>
        </p:nvSpPr>
        <p:spPr>
          <a:xfrm>
            <a:off x="4572000" y="314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4572000" y="328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4718160" y="321300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A80B-C07F-49E7-A918-113DF1381A5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6629400" cy="537552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6"/>
          <p:cNvSpPr/>
          <p:nvPr/>
        </p:nvSpPr>
        <p:spPr>
          <a:xfrm>
            <a:off x="242280" y="1668600"/>
            <a:ext cx="21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ntailment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2050920" y="907920"/>
            <a:ext cx="5391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damental concepts of logical represent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181B-9F68-43FF-997F-F045F008810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7162920" cy="54925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5"/>
          <p:cNvSpPr/>
          <p:nvPr/>
        </p:nvSpPr>
        <p:spPr>
          <a:xfrm>
            <a:off x="450360" y="173988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Garamond"/>
              </a:rPr>
              <a:t>Entailment again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1692360" y="907920"/>
            <a:ext cx="5391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damental concepts of logical represent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CE65-C6B9-4F3E-9AA1-C9E4896934C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333399"/>
                </a:solidFill>
                <a:latin typeface="Garamond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Objectives of knowledge representation and reasoning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form representations of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use a process of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inference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to derive new representations about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use these new representations to deduce what to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3014-2A8A-4101-8E72-E737BF06B0F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ndamental concepts of logical re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n inference procedure 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an do two th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Given KB, generate new sentenc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purported to be entailed by K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Given KB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report whether or no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is entailed by K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Garamond"/>
              </a:rPr>
              <a:t>Sound or truth preserving: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nference algorithm that derives only entailed sent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Garamond"/>
              </a:rPr>
              <a:t>Completeness: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n inference algorithm is complete, if it can derive any sentence that is entail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CB0A-5D18-451C-98BA-05105E0D59F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395280" y="1052640"/>
            <a:ext cx="8424720" cy="77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Explaining more Soundness and completeness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Garamond"/>
              </a:rPr>
              <a:t>Soundness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 the system proves that something is true, 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 it really is true. The system doesn’t derive contradiction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Garamond"/>
              </a:rPr>
              <a:t>Completeness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: if something is really true, it can be proven using the system. The system can be used to derive all the true mathematical statements one by one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2E45-A502-4813-AEB6-D53A0163A68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comic"/>
                <a:ea typeface="Times New Roman"/>
              </a:rPr>
              <a:t>Propositional Lo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Propositional logic is the simplest log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 </a:t>
            </a: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 </a:t>
            </a: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eman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 </a:t>
            </a: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Entail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DCA7-9F0F-4A30-B80F-79017377F0C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comic"/>
                <a:ea typeface="Times New Roman"/>
              </a:rPr>
              <a:t>Propositional Lo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: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It  defines the allowable sent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tomic sent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single proposition symbol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- uppercase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names for symbols must have some mnemonic value: example W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Garamond"/>
                <a:ea typeface="Times New Roman"/>
              </a:rPr>
              <a:t>1,3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to say the wumpus is in [1,3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True and False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: proposition symbols with fixed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Complex sentences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: they are constructed from simpler sentences using logical connec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C757-AF38-4B29-BA39-5BB10FE987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comic"/>
                <a:ea typeface="Times New Roman"/>
              </a:rPr>
              <a:t>Propositional Lo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Logical connectiv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T) neg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D) conjunction, operands are  conjun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R), operands are disjun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lication (or conditional) A ⇒ B, A is the premise or antecedent and B is the conclusion or consequent.  It is also known as rule or if-then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ci3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ci3"/>
                <a:ea typeface="tci3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f and only if (biconditiona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C0B2-2600-415E-89E9-DE11E1A859C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468360" y="911160"/>
            <a:ext cx="8351640" cy="77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400" spc="-1" strike="noStrike">
                <a:solidFill>
                  <a:srgbClr val="990000"/>
                </a:solidFill>
                <a:latin typeface="comic"/>
              </a:rPr>
              <a:t>Propositional Logic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Logical constants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re sentences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oposition symbol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1, P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etc. are sentences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ymbol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nd negated symbol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P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re called literals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a sentence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a sentence (NOT)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a sentence,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S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a sentence (AND)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a sentence,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S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a sentence (OR)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a sentence,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S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a sentence (Implies)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a sentence,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S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a sentence (Equivalent)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D92D-72ED-44FE-AA16-40C36F1BFF3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468360" y="911160"/>
            <a:ext cx="835164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400" spc="-1" strike="noStrike">
                <a:solidFill>
                  <a:srgbClr val="990000"/>
                </a:solidFill>
                <a:latin typeface="comic"/>
              </a:rPr>
              <a:t>Propositional Logic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 BNF(Backus-Naur Form) grammar of sentences in propositional Logic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is defined by the following rules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entence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AtomicSente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│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ComplexSentence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AtomicSentence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→ True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False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ymbol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ymbol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→ P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Q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R …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ComplexSente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→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entence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entenc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ente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ente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ente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ente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ente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entenc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 Sente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6" name="Line 6"/>
          <p:cNvSpPr/>
          <p:nvPr/>
        </p:nvSpPr>
        <p:spPr>
          <a:xfrm>
            <a:off x="395280" y="2276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7" name="Line 7"/>
          <p:cNvSpPr/>
          <p:nvPr/>
        </p:nvSpPr>
        <p:spPr>
          <a:xfrm>
            <a:off x="395280" y="6524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2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2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26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0E74-75A8-41BF-BA4F-292F4084D2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468360" y="911160"/>
            <a:ext cx="8351640" cy="60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400" spc="-1" strike="noStrike">
                <a:solidFill>
                  <a:srgbClr val="990000"/>
                </a:solidFill>
                <a:latin typeface="comic"/>
              </a:rPr>
              <a:t>Propositional Logic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Order of precedence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rom highest to lowest: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parenthesis   ( Sentence )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Implies 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Equivalent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Special cases: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  no parentheses are neede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about       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??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F62E-3E23-4A0D-892A-AB423F48A27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comic"/>
                <a:ea typeface="Times New Roman"/>
              </a:rPr>
              <a:t>Propositional Lo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Semantic: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It defines the rules for determining the truth of a sentence with respect to a particular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The question: How to compute the truth value of ny sentence given a mod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57C7-2C79-4AE6-84CD-202E4E11D9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772400" cy="208908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5"/>
          <p:cNvGrpSpPr/>
          <p:nvPr/>
        </p:nvGrpSpPr>
        <p:grpSpPr>
          <a:xfrm>
            <a:off x="123840" y="3284640"/>
            <a:ext cx="9005400" cy="2242440"/>
            <a:chOff x="123840" y="3284640"/>
            <a:chExt cx="9005400" cy="2242440"/>
          </a:xfrm>
        </p:grpSpPr>
        <p:sp>
          <p:nvSpPr>
            <p:cNvPr id="280" name="Rectangle 6"/>
            <p:cNvSpPr/>
            <p:nvPr/>
          </p:nvSpPr>
          <p:spPr>
            <a:xfrm>
              <a:off x="123840" y="3284640"/>
              <a:ext cx="8763120" cy="38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1" name="Text Box 7"/>
            <p:cNvSpPr/>
            <p:nvPr/>
          </p:nvSpPr>
          <p:spPr>
            <a:xfrm>
              <a:off x="7668360" y="4503600"/>
              <a:ext cx="1460880" cy="1023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del of  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Q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2" name="Line 8"/>
            <p:cNvSpPr/>
            <p:nvPr/>
          </p:nvSpPr>
          <p:spPr>
            <a:xfrm flipV="1">
              <a:off x="8429760" y="3665520"/>
              <a:ext cx="30492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83" name="Rectangle 9"/>
          <p:cNvSpPr/>
          <p:nvPr/>
        </p:nvSpPr>
        <p:spPr>
          <a:xfrm>
            <a:off x="324000" y="4221000"/>
            <a:ext cx="7272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ost sentences are sometimes true.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Q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ome sentences are always true (valid)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P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ome sentences are never true (unsatisfiable)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P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DADE-06D4-45FB-8978-D78A21874F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333399"/>
                </a:solidFill>
                <a:latin typeface="Garamond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ome defin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Knowledge bas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: set of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ntence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. Each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ntenc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expressed in a language called a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knowledge representation langu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ntenc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: a sentence represents some assertion about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nferenc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: Process of deriving new sentences from old 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DF5C-268E-487B-98CF-A5C44153CF9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7772400" cy="20890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762120" y="2895480"/>
            <a:ext cx="78483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mplication: 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Q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f P is True, then Q is true; otherwise I’m making no claims about the truth of Q.” (Or: 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Q is equivalent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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nder this definition, the following statement is true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igs_fl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Everyone_gets_an_A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ince “Pigs_Fly” is false, the statement is true irrespective of the truth of “Everyone_gets_an_A”. [Or is it? Correct inference only when “Pigs_Fly” is known to be false.]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B9B5-215D-4E3E-B33C-B01D99C6BDA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opositional Inference: Enumeratio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e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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an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KB =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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C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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s it the case that KB 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heck all possible models -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must be true whenever KB 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4"/>
          <p:cNvSpPr/>
          <p:nvPr/>
        </p:nvSpPr>
        <p:spPr>
          <a:xfrm>
            <a:off x="3564000" y="2060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3" name="Line 5"/>
          <p:cNvSpPr/>
          <p:nvPr/>
        </p:nvSpPr>
        <p:spPr>
          <a:xfrm>
            <a:off x="3564000" y="22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4648320" y="1600200"/>
          <a:ext cx="4038480" cy="4135320"/>
        </p:xfrm>
        <a:graphic>
          <a:graphicData uri="http://schemas.openxmlformats.org/drawingml/2006/table">
            <a:tbl>
              <a:tblPr/>
              <a:tblGrid>
                <a:gridCol w="807840"/>
                <a:gridCol w="808200"/>
                <a:gridCol w="806400"/>
                <a:gridCol w="928800"/>
                <a:gridCol w="687240"/>
              </a:tblGrid>
              <a:tr h="77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A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B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C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KB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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C) 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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B 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C)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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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5" name="Line 72"/>
          <p:cNvSpPr/>
          <p:nvPr/>
        </p:nvSpPr>
        <p:spPr>
          <a:xfrm>
            <a:off x="341964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6" name="Line 73"/>
          <p:cNvSpPr/>
          <p:nvPr/>
        </p:nvSpPr>
        <p:spPr>
          <a:xfrm>
            <a:off x="349236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7" name="Line 74"/>
          <p:cNvSpPr/>
          <p:nvPr/>
        </p:nvSpPr>
        <p:spPr>
          <a:xfrm>
            <a:off x="3492360" y="3860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0EFC-B3B2-4442-A69C-5D874973354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2124000" y="1413000"/>
          <a:ext cx="5832720" cy="4330440"/>
        </p:xfrm>
        <a:graphic>
          <a:graphicData uri="http://schemas.openxmlformats.org/drawingml/2006/table">
            <a:tbl>
              <a:tblPr/>
              <a:tblGrid>
                <a:gridCol w="808200"/>
                <a:gridCol w="807840"/>
                <a:gridCol w="806400"/>
                <a:gridCol w="1897200"/>
                <a:gridCol w="1513080"/>
              </a:tblGrid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A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B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C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KB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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C)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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B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C)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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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D4FB-2813-4620-AE56-70A59CA96F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124000" y="1413000"/>
          <a:ext cx="5832720" cy="4452840"/>
        </p:xfrm>
        <a:graphic>
          <a:graphicData uri="http://schemas.openxmlformats.org/drawingml/2006/table">
            <a:tbl>
              <a:tblPr/>
              <a:tblGrid>
                <a:gridCol w="808200"/>
                <a:gridCol w="807840"/>
                <a:gridCol w="806400"/>
                <a:gridCol w="1897200"/>
                <a:gridCol w="1513080"/>
              </a:tblGrid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A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B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C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KB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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C)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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B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C)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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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06" name="Text Box 75"/>
          <p:cNvSpPr/>
          <p:nvPr/>
        </p:nvSpPr>
        <p:spPr>
          <a:xfrm>
            <a:off x="5869080" y="2781360"/>
            <a:ext cx="167148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KB ╞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9377-8B5B-408A-833C-93FA77D1E8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Garamond"/>
              </a:rPr>
              <a:t>Propositional Logic: Proof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Model 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ruth table enumeration (sound and complete for propositional logi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or n symbols, the time complexity is O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eed a smarter way to do i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pplication of inference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egitimate (sound) generation of new sentences from 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of = a sequence of inference rule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an use inference rules as operators in a standard search algori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8932-12E9-463F-B36A-695830D0DE7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Garamond"/>
              </a:rPr>
              <a:t>Validity and Satisf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sentence is valid (a tautology) if it is true in al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.g.,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¬A, A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, (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A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B))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Validity is connected to inference via the Deduction Theor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╞ α if and only if (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K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α) is va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sentence is satisfiable if it is true in som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.g.,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sentence is unsatisfiable if it is false in al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.g.,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¬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atisfiability is connected to inference via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╞ α if and only if (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K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¬α) is unsatis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there is no model for which KB=true and α is fal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918E-AAB5-4684-9060-8687F0C15C5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opositional Logic: Inference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n inference rule is sound if the conclusion is true in all cases where the premises are tr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e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8801-6234-49BC-BB38-E79145280B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positional Logic: An inference rule: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dus Pon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rom an implication and the premise of the implication, you can infer the conclu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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e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aining implies soggy courts”, “rain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fer: “soggy cour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8E10-55B9-49A3-B9EB-4A1D631DBEA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positional Logic: An inference rule: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dus Tol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rom an implication and the premise of the implication, you can infer the conclu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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¬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e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¬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aining implies soggy courts”, “courts not sogg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fer: “not rain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AE5E-5826-46D5-BB53-9D74030AEF0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opositional Logic: An inference rule: AND eli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rom a conjunction, you can infer any of the conjun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…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n     Pre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Question: show that Modus Ponens and And Elimination are soun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1B9C-AD32-4241-A926-0E146D2DA7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333399"/>
                </a:solidFill>
                <a:latin typeface="Garamond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eclarative vs procedural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ppro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clarative approach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s an approach to system building that consists in expressing the knowledge of the environment in the form of sentences using a representation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ocedural approach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encodes desired behaviors directly as a progra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05A5-7DB8-4651-BDB9-62A97669081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opositional Logic: other inferenc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nd-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rem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…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ouble Neg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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rem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ules of equivalence can be used as inference rules. (Tutoria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38FD-F1D7-4A8B-8091-20259926FC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opositional Logic: Equivalenc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wo sentences are logically equivalent iff they are true in the same models: α ≡ ß iff α╞ β and β╞ 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"/>
          <p:cNvPicPr/>
          <p:nvPr/>
        </p:nvPicPr>
        <p:blipFill>
          <a:blip r:embed="rId1"/>
          <a:stretch/>
        </p:blipFill>
        <p:spPr>
          <a:xfrm>
            <a:off x="0" y="2349360"/>
            <a:ext cx="884556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FB83-513F-4842-B894-12EB50CA4C1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457200" y="1052640"/>
            <a:ext cx="822960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91D4-A3E5-4048-9507-A9A0F1DBD3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Garamond"/>
              </a:rPr>
              <a:t>Inference in Wumpus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900000" y="1773360"/>
            <a:ext cx="6553440" cy="259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aramond"/>
                <a:ea typeface="Times New Roman"/>
              </a:rPr>
              <a:t>Let S</a:t>
            </a:r>
            <a:r>
              <a:rPr b="1" lang="en-US" sz="2400" spc="-1" strike="noStrike" baseline="-25000">
                <a:solidFill>
                  <a:srgbClr val="808080"/>
                </a:solidFill>
                <a:latin typeface="Garamond"/>
                <a:ea typeface="Times New Roman"/>
              </a:rPr>
              <a:t>i,j </a:t>
            </a:r>
            <a:r>
              <a:rPr b="1" lang="en-US" sz="2400" spc="-1" strike="noStrike">
                <a:solidFill>
                  <a:srgbClr val="808080"/>
                </a:solidFill>
                <a:latin typeface="Garamond"/>
                <a:ea typeface="Times New Roman"/>
              </a:rPr>
              <a:t>be true if there is a stench in cell i,j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aramond"/>
                <a:ea typeface="Times New Roman"/>
              </a:rPr>
              <a:t>Let B</a:t>
            </a:r>
            <a:r>
              <a:rPr b="1" lang="en-US" sz="2400" spc="-1" strike="noStrike" baseline="-25000">
                <a:solidFill>
                  <a:srgbClr val="808080"/>
                </a:solidFill>
                <a:latin typeface="Garamond"/>
                <a:ea typeface="Times New Roman"/>
              </a:rPr>
              <a:t>i,j </a:t>
            </a:r>
            <a:r>
              <a:rPr b="1" lang="en-US" sz="2400" spc="-1" strike="noStrike">
                <a:solidFill>
                  <a:srgbClr val="808080"/>
                </a:solidFill>
                <a:latin typeface="Garamond"/>
                <a:ea typeface="Times New Roman"/>
              </a:rPr>
              <a:t>be true if there is a breeze in cell i,j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aramond"/>
                <a:ea typeface="Times New Roman"/>
              </a:rPr>
              <a:t>Let W</a:t>
            </a:r>
            <a:r>
              <a:rPr b="1" lang="en-US" sz="2400" spc="-1" strike="noStrike" baseline="-25000">
                <a:solidFill>
                  <a:srgbClr val="808080"/>
                </a:solidFill>
                <a:latin typeface="Garamond"/>
                <a:ea typeface="Times New Roman"/>
              </a:rPr>
              <a:t>i,j </a:t>
            </a:r>
            <a:r>
              <a:rPr b="1" lang="en-US" sz="2400" spc="-1" strike="noStrike">
                <a:solidFill>
                  <a:srgbClr val="808080"/>
                </a:solidFill>
                <a:latin typeface="Garamond"/>
                <a:ea typeface="Times New Roman"/>
              </a:rPr>
              <a:t>be true if there is a Wumpus in cell i,j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250920" y="3195720"/>
            <a:ext cx="8569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: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¬B1,1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1,1 </a:t>
            </a:r>
            <a:r>
              <a:rPr b="1" lang="fr-F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⇔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1,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2,1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’s make some inferences: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(B1,1 </a:t>
            </a:r>
            <a:r>
              <a:rPr b="1" lang="fr-F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1,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2,1)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(P1,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2,1) </a:t>
            </a:r>
            <a:r>
              <a:rPr b="1" lang="fr-F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,1 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y definition of the biconditional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(P1,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2,1) </a:t>
            </a:r>
            <a:r>
              <a:rPr b="1" lang="fr-F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,1 (And-elimination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¬B1,1 </a:t>
            </a:r>
            <a:r>
              <a:rPr b="1" lang="fr-F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¬(P1,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2,1) (equivalence with contrapositive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¬(P1,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2,1) (modus ponens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¬P1,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¬P2,1 (DeMorgan’s rule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¬P1,2 (And Elimination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EEC1-34C7-412F-8B80-42259426AC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Garamond"/>
              </a:rPr>
              <a:t>Inference in Wumpus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395280" y="2492280"/>
            <a:ext cx="3962520" cy="3940560"/>
          </a:xfrm>
          <a:prstGeom prst="rect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ercept Sentences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Environment Knowledge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,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,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,1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1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2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2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,2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3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1006560" y="1649520"/>
            <a:ext cx="200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Garamond"/>
              </a:rPr>
              <a:t>Initial KB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4212720" y="1774800"/>
            <a:ext cx="471636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ome inferences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pply </a:t>
            </a: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Modus Ponen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to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Add to KB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  <a:ea typeface="Arial"/>
              </a:rPr>
              <a:t>1,1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  <a:ea typeface="Arial"/>
              </a:rPr>
              <a:t>2,1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  <a:ea typeface="Arial"/>
              </a:rPr>
              <a:t>1,2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pply to this </a:t>
            </a: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AND-Elimination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Add to KB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  <a:ea typeface="Arial"/>
              </a:rPr>
              <a:t>1,1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  <a:ea typeface="Arial"/>
              </a:rPr>
              <a:t>2,1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  <a:ea typeface="Arial"/>
              </a:rPr>
              <a:t>1,2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61EF-0A8C-472B-AD58-678237704DF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Recall that when we were at (2,1) we could not decide on a safe move, so we backtracked, and explored (1,2), which yielded ¬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1,2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¬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1,2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⇔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¬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1,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¬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1,3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¬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2,2 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is yields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¬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1,1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¬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1,3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¬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2,2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and consequ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¬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1,1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,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¬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1,3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, ¬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2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Now we can consider the implications of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Garamond"/>
              </a:rPr>
              <a:t>2,1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C8F3-ACF2-4CAD-BECF-3BAA71D50E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2,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⇔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(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1,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2,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3,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2,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(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1,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2,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3,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(biconditional Elimi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1,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2,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3,1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(modus pon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1,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3,1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(resolution rule because no pit in (2,2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3,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(resolution rule because no pit in (1,1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Garamond"/>
              </a:rPr>
              <a:t>The resolution rule: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f there is a pit in (1,1) or (3,1), and it’s not in (1,1), then it’s in (3,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,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¬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4"/>
          <p:cNvSpPr/>
          <p:nvPr/>
        </p:nvSpPr>
        <p:spPr>
          <a:xfrm>
            <a:off x="2771640" y="544500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6E50-574A-4B51-BF96-2AB5E83F254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Garamond"/>
              </a:rPr>
              <a:t>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Unit Resolution inference ru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re complementary liter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6"/>
          <p:cNvSpPr/>
          <p:nvPr/>
        </p:nvSpPr>
        <p:spPr>
          <a:xfrm>
            <a:off x="1908000" y="3716280"/>
            <a:ext cx="547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8EFD-39E6-459B-9A3A-DEE4290D69F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Garamond"/>
              </a:rPr>
              <a:t>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ull resolution inference ru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-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+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-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+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re complementary liter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539640" y="4149720"/>
            <a:ext cx="777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79FB-1B5D-4DDE-A66C-FE304113FA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Garamond"/>
              </a:rPr>
              <a:t>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implicity let’s consider clauses of length tw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¬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611280" y="3573360"/>
            <a:ext cx="792000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rive the soundness of resolution consider the values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take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since we know that ¬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ds, it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be the case that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3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ru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s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since we know that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ds, it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be the case that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ru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5" name="Line 6"/>
          <p:cNvSpPr/>
          <p:nvPr/>
        </p:nvSpPr>
        <p:spPr>
          <a:xfrm>
            <a:off x="2987640" y="278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8529-8BC8-4F82-A4BE-39653C4E2E2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333399"/>
                </a:solidFill>
                <a:latin typeface="Garamond"/>
                <a:ea typeface="Times New Roman"/>
              </a:rPr>
              <a:t>Example: Wumpus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3033000" y="907920"/>
            <a:ext cx="4194720" cy="5548320"/>
            <a:chOff x="3033000" y="907920"/>
            <a:chExt cx="4194720" cy="5548320"/>
          </a:xfrm>
        </p:grpSpPr>
        <p:pic>
          <p:nvPicPr>
            <p:cNvPr id="70" name="Picture 5" descr=""/>
            <p:cNvPicPr/>
            <p:nvPr/>
          </p:nvPicPr>
          <p:blipFill>
            <a:blip r:embed="rId1"/>
            <a:srcRect l="13902" t="24465" r="68365" b="55964"/>
            <a:stretch/>
          </p:blipFill>
          <p:spPr>
            <a:xfrm>
              <a:off x="3068640" y="1960560"/>
              <a:ext cx="415908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6"/>
            <p:cNvSpPr/>
            <p:nvPr/>
          </p:nvSpPr>
          <p:spPr>
            <a:xfrm>
              <a:off x="3033000" y="907920"/>
              <a:ext cx="4181400" cy="825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Book Antiqua"/>
                </a:rPr>
                <a:t>THE WUMPUS</a:t>
              </a:r>
              <a:endParaRPr b="0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B6FD-F316-43AD-9972-7BF7AE299BC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Garamond"/>
              </a:rPr>
              <a:t>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1. Properties of the resolution ru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mplete (yields to a complete inference algorith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2. The resolution rule forms the basis for a family of complete inference algorith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3. Resolution rule is used to either confirm or refute a sentence but it cannot be used to enumerate true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AE6F-E8D8-48DE-B6E8-4BA4E7E228E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Garamond"/>
              </a:rPr>
              <a:t>Re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4. Resolution can be applied only to disjunctions of literals. How can  it lead to a complete inference procedure for all propositional log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5. Turns out any knowledge base can be expressed as a conjunction of disjunctions (conjunctive normal form, CNF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.g., (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¬B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(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¬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¬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C885-45E3-4D87-933B-CACA14E578D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Garamond"/>
              </a:rPr>
              <a:t>Resolution: Inference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6. Inference procedures based on resolution work by using the principle of proof by contadi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o show that KB ╞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 show that (K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¬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s unsatisf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process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1. convert K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¬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N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resolution rule is applied to the resulting cla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8BE7-668D-4236-B977-2C2D820DC0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Resolution: Inference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-RESOLUTION(KB,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turn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ue or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uses ← the set of clauses in the CNF representation of  (K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¬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←{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p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n clauses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nts ← PL-RESOLVE (C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nts contains the empty clause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retur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← new 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∪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ol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⊆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uses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return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uses ← clauses 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∪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5"/>
          <p:cNvSpPr/>
          <p:nvPr/>
        </p:nvSpPr>
        <p:spPr>
          <a:xfrm>
            <a:off x="468360" y="1844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9" name="Line 6"/>
          <p:cNvSpPr/>
          <p:nvPr/>
        </p:nvSpPr>
        <p:spPr>
          <a:xfrm>
            <a:off x="468360" y="616572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184B-BCE7-4813-A630-3EE9DAE6D91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Resolution: Inference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PL-RESOLVE (C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 applies the resolution rule to (C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cess continues until one of two things happe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no new clauses that can be added , in which case KB does not entail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clauses resolve to yield the empty clause, in which case KB entails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5097-ED99-43E8-A791-60EFA2D773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Resolution: Inference procedu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Example of proof  by contradi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,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,2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,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,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= ¬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6" descr=""/>
          <p:cNvPicPr/>
          <p:nvPr/>
        </p:nvPicPr>
        <p:blipFill>
          <a:blip r:embed="rId1"/>
          <a:stretch/>
        </p:blipFill>
        <p:spPr>
          <a:xfrm>
            <a:off x="611280" y="3645000"/>
            <a:ext cx="7751520" cy="19746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7"/>
          <p:cNvSpPr/>
          <p:nvPr/>
        </p:nvSpPr>
        <p:spPr>
          <a:xfrm>
            <a:off x="681840" y="5734080"/>
            <a:ext cx="50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Question: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convert (K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¬</a:t>
            </a:r>
            <a:r>
              <a:rPr b="0" lang="el-GR" sz="2400" spc="-1" strike="noStrike">
                <a:solidFill>
                  <a:srgbClr val="000000"/>
                </a:solidFill>
                <a:latin typeface="Garamond"/>
              </a:rPr>
              <a:t>α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to CNF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0AE0-3E88-40DC-8FA6-73C90AD5EED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nference for Horn cla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n Form (special form of CNF): disjunction of literals of which at most one is posi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B = conjunction of Horn cl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n clause = propositional symbol;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junction of symbols)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⇒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ym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s Ponens is a natural way to make inference in Horn K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B78A-9A51-4E74-8B89-2A429077B84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nference for Horn cla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1, … ,αn,   α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αn 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ive application of modus ponens leads to algorithms that are sound and complete, and run in linea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4"/>
          <p:cNvSpPr/>
          <p:nvPr/>
        </p:nvSpPr>
        <p:spPr>
          <a:xfrm>
            <a:off x="1979640" y="306864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AFA8-61B6-4863-A82E-B9C89173B44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nference for Horn clauses: Forward ch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: fire any rule whose premises are satisfied in th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B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 add its conclusion to th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B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ntil query is f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5" descr=""/>
          <p:cNvPicPr/>
          <p:nvPr/>
        </p:nvPicPr>
        <p:blipFill>
          <a:blip r:embed="rId1"/>
          <a:stretch/>
        </p:blipFill>
        <p:spPr>
          <a:xfrm>
            <a:off x="611280" y="3860640"/>
            <a:ext cx="4672080" cy="252252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6"/>
          <p:cNvSpPr/>
          <p:nvPr/>
        </p:nvSpPr>
        <p:spPr>
          <a:xfrm>
            <a:off x="4500720" y="4414680"/>
            <a:ext cx="46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 chaining is sound and complete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horn knowledge bases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B40F-8887-4D0C-A5FE-EE8DADB7F67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nference for Horn clauses: backward ch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: work backwards from the query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if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known already, or prove by backward chaining all premises of some rule concluding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void loo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if new subgoal is already on the goal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repeated work: check if new subgoal has already been proved true, or has already f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E1DD-F9A1-4F41-8215-FA83E0006F2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3695400" cy="36194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56000" y="1125360"/>
            <a:ext cx="4464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Garamond"/>
              </a:rPr>
              <a:t>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quares adjacent to wumpus are sme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quares adjacent to pit are breez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Glitter if and only if gold is in the same squ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hooting kills the wumpus if you are facing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hooting uses up the only a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Grabbing picks up the gold if in the same squ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eleasing drops the gold in the same squ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4543560"/>
            <a:ext cx="457200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Goals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Get gold back to the start without entering it or wumpus square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Percepts</a:t>
            </a:r>
            <a:r>
              <a:rPr b="1" lang="en-US" sz="2000" spc="-1" strike="noStrike">
                <a:solidFill>
                  <a:srgbClr val="bbe0e3"/>
                </a:solidFill>
                <a:latin typeface="Garamond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Breeze, Glitter, Smell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Actions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Left turn, Right turn, Forward, Grab, Release, Shoo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19EC-EE82-431E-9EC7-9ED0295C8E7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Garamond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ogical agents apply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nfere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to 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knowledge base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o derive new information and make deci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Basic concepts of log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 algn="just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Garamond"/>
              </a:rPr>
              <a:t>Syntax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formal structure of sent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 algn="just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Garamond"/>
              </a:rPr>
              <a:t>Semantics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truth of sentences wrt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 algn="just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Garamond"/>
              </a:rPr>
              <a:t>Entailment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necessary truth of one sentence given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 algn="just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Garamond"/>
              </a:rPr>
              <a:t>Inference</a:t>
            </a:r>
            <a:r>
              <a:rPr b="0" lang="en-US" sz="2400" spc="-1" strike="noStrike">
                <a:solidFill>
                  <a:srgbClr val="bbe0e3"/>
                </a:solidFill>
                <a:latin typeface="Garamond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deriving sentences from other sent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 algn="just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Garamond"/>
              </a:rPr>
              <a:t>Soundess</a:t>
            </a:r>
            <a:r>
              <a:rPr b="0" lang="en-US" sz="2400" spc="-1" strike="noStrike">
                <a:solidFill>
                  <a:srgbClr val="bbe0e3"/>
                </a:solidFill>
                <a:latin typeface="Garamond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derivations produce only entailed sent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 algn="just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Garamond"/>
              </a:rPr>
              <a:t>Completeness</a:t>
            </a:r>
            <a:r>
              <a:rPr b="0" lang="en-US" sz="2400" spc="-1" strike="noStrike">
                <a:solidFill>
                  <a:srgbClr val="bbe0e3"/>
                </a:solidFill>
                <a:latin typeface="Garamond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derivations can produce all entailed sent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ruth table method is sound and complete for propositional logic but Cumbersome in most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pplication of inference rules is another alternative to perform entail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3A3C-2D2E-49E4-837A-B711F5EDD1D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he Wumpus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s the world determinist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Yes: outcomes are exactly specif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s the world fully acces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o: only local perception of square you are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s the world stat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Yes: Wumpus and Pits do not m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s the world discre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Y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F4FE-0B90-4E6C-829B-D56957049A6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427640" y="1484280"/>
          <a:ext cx="4038480" cy="45259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4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32"/>
          <p:cNvSpPr/>
          <p:nvPr/>
        </p:nvSpPr>
        <p:spPr>
          <a:xfrm>
            <a:off x="4718520" y="5157720"/>
            <a:ext cx="4366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Text Box 33"/>
          <p:cNvSpPr/>
          <p:nvPr/>
        </p:nvSpPr>
        <p:spPr>
          <a:xfrm>
            <a:off x="221040" y="227664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Exploring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15:45:51Z</dcterms:created>
  <dc:creator>Hichem</dc:creator>
  <dc:description/>
  <dc:language>en-US</dc:language>
  <cp:lastModifiedBy>Dean Ship</cp:lastModifiedBy>
  <dcterms:modified xsi:type="dcterms:W3CDTF">2012-02-12T05:32:25Z</dcterms:modified>
  <cp:revision>128</cp:revision>
  <dc:subject/>
  <dc:title>Game Playing: Adversarial Search  chapter 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