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094413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523E-E1DC-4C0B-9F3A-5DFC4514F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54068-4DFE-4D28-809C-942ED3BB1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DCDB-214A-4D97-99A5-629C7104E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7BF19-1C28-493B-A6B1-9FB845587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A3DDD-88CC-47CE-96EE-CD3D7569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9AB15-1E42-47E4-829C-D364794B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8800F-624E-436D-B3A5-A5881FED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B7213-64FA-4A71-8962-5DABB41C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5A912-BF65-4247-92DE-8D27EFC7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A2013-A42C-4C5A-BA12-68F0A40B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E5591-4206-4359-9679-40B0F3D2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A46F0-4435-48CA-8991-9BCA68DE0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7410B-3D85-42CF-B93A-A421B6B7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6366F-9851-44A0-B50B-91E74B9E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E8F95-650A-426E-AA0A-EF931C0E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B1EAE-C325-456F-ACBA-4F058327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262B5-04AF-4AB4-8D19-EEF6246E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EFCA8-F86A-407D-A40C-BF23C67EB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FB203-B004-429F-8988-1E7E2C202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2325D-67A3-45F7-91AA-E3AD07A32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284EE-6844-4814-8A06-286E44D55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26A7B-73ED-4D06-B252-32EA9FE9A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9649-C09F-4277-B475-0FDEB3FC6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0462-0D07-4C71-B6BC-F308C7CC4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089040"/>
            <a:chOff x="0" y="0"/>
            <a:chExt cx="9140760" cy="60890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5063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1988280"/>
              <a:ext cx="6392880" cy="4100760"/>
              <a:chOff x="2743200" y="1988280"/>
              <a:chExt cx="6392880" cy="410076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3731040"/>
                <a:ext cx="4575240" cy="23580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3769200"/>
                <a:ext cx="1998360" cy="114444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4721760"/>
                <a:ext cx="4522680" cy="1367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146760"/>
                <a:ext cx="4773600" cy="29422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269520"/>
                <a:ext cx="1981080" cy="7606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1988280"/>
                <a:ext cx="3645000" cy="20728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lick to edit the title text forma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476280" y="5554440"/>
            <a:ext cx="770256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vant Garde"/>
              </a:defRPr>
            </a:lvl1pPr>
          </a:lstStyle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vant Garde"/>
              </a:rPr>
              <a:t>These courseware materials are to be used in conjunction with </a:t>
            </a:r>
            <a:r>
              <a:rPr b="0" i="1" lang="en-US" sz="1000" spc="-1" strike="noStrike">
                <a:solidFill>
                  <a:srgbClr val="ffffff"/>
                </a:solidFill>
                <a:latin typeface="Avant Garde"/>
              </a:rPr>
              <a:t>Software Engineering: A Practitioner’s Approach,</a:t>
            </a:r>
            <a:r>
              <a:rPr b="0" lang="en-US" sz="1000" spc="-1" strike="noStrike">
                <a:solidFill>
                  <a:srgbClr val="ffffff"/>
                </a:solidFill>
                <a:latin typeface="Avant Garde"/>
              </a:rPr>
              <a:t> 6/e and are provided with permission by R.S. Pressman &amp; Associates, Inc., copyright © 1996, 2001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8238960" y="5554440"/>
            <a:ext cx="63216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E2CB-60FE-4FE3-8D1D-27ADC5F977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0760" cy="6089040"/>
            <a:chOff x="0" y="0"/>
            <a:chExt cx="9140760" cy="608904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0760" cy="25063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743200" y="1988280"/>
              <a:ext cx="6392880" cy="4100760"/>
              <a:chOff x="2743200" y="1988280"/>
              <a:chExt cx="6392880" cy="410076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3731040"/>
                <a:ext cx="4575240" cy="23580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3769200"/>
                <a:ext cx="1998360" cy="114444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4721760"/>
                <a:ext cx="4522680" cy="1367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146760"/>
                <a:ext cx="4773600" cy="29422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269520"/>
                <a:ext cx="1981080" cy="7606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29280" y="1988280"/>
                <a:ext cx="3645000" cy="20728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ff07"/>
                </a:solidFill>
                <a:latin typeface="Palatino"/>
              </a:rPr>
              <a:t>Click to edit the title text format</a:t>
            </a:r>
            <a:endParaRPr b="1" lang="en-US" sz="48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456840" y="5554440"/>
            <a:ext cx="21337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555588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2720" y="55591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56BF-5731-4CB3-895C-0FA42A7E5B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82480" y="1584000"/>
            <a:ext cx="6265800" cy="4623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3ff07"/>
                </a:solidFill>
                <a:latin typeface="Palatino"/>
              </a:rPr>
              <a:t>Software Testing </a:t>
            </a:r>
            <a:br>
              <a:rPr sz="6000"/>
            </a:br>
            <a:r>
              <a:rPr b="1" lang="en-US" sz="6000" spc="-1" strike="noStrike">
                <a:solidFill>
                  <a:srgbClr val="f3ff07"/>
                </a:solidFill>
                <a:latin typeface="Palatino"/>
              </a:rPr>
              <a:t>Techniques</a:t>
            </a:r>
            <a:br>
              <a:rPr sz="6000"/>
            </a:br>
            <a:br>
              <a:rPr sz="6000"/>
            </a:br>
            <a:endParaRPr b="1" lang="en-US" sz="60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C7E72-4D2D-4A0D-85DE-4713C8EAFEA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6045120" y="1846440"/>
            <a:ext cx="1206720" cy="1158840"/>
            <a:chOff x="6045120" y="1846440"/>
            <a:chExt cx="1206720" cy="1158840"/>
          </a:xfrm>
        </p:grpSpPr>
        <p:sp>
          <p:nvSpPr>
            <p:cNvPr id="161" name=""/>
            <p:cNvSpPr/>
            <p:nvPr/>
          </p:nvSpPr>
          <p:spPr>
            <a:xfrm>
              <a:off x="6889680" y="2536920"/>
              <a:ext cx="149400" cy="361800"/>
            </a:xfrm>
            <a:custGeom>
              <a:avLst/>
              <a:gdLst/>
              <a:ahLst/>
              <a:rect l="l" t="t" r="r" b="b"/>
              <a:pathLst>
                <a:path w="94" h="228">
                  <a:moveTo>
                    <a:pt x="93" y="227"/>
                  </a:moveTo>
                  <a:lnTo>
                    <a:pt x="93" y="65"/>
                  </a:lnTo>
                  <a:lnTo>
                    <a:pt x="0" y="0"/>
                  </a:lnTo>
                  <a:lnTo>
                    <a:pt x="0" y="162"/>
                  </a:lnTo>
                  <a:lnTo>
                    <a:pt x="93" y="227"/>
                  </a:lnTo>
                </a:path>
              </a:pathLst>
            </a:custGeom>
            <a:solidFill>
              <a:srgbClr val="0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02440" y="1952640"/>
              <a:ext cx="1049400" cy="1052640"/>
            </a:xfrm>
            <a:custGeom>
              <a:avLst/>
              <a:gdLst/>
              <a:ahLst/>
              <a:rect l="l" t="t" r="r" b="b"/>
              <a:pathLst>
                <a:path w="661" h="663">
                  <a:moveTo>
                    <a:pt x="528" y="165"/>
                  </a:moveTo>
                  <a:lnTo>
                    <a:pt x="0" y="364"/>
                  </a:lnTo>
                  <a:lnTo>
                    <a:pt x="0" y="662"/>
                  </a:lnTo>
                  <a:lnTo>
                    <a:pt x="528" y="430"/>
                  </a:lnTo>
                  <a:lnTo>
                    <a:pt x="528" y="596"/>
                  </a:lnTo>
                  <a:lnTo>
                    <a:pt x="660" y="265"/>
                  </a:lnTo>
                  <a:lnTo>
                    <a:pt x="528" y="0"/>
                  </a:lnTo>
                  <a:lnTo>
                    <a:pt x="528" y="165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45120" y="2430360"/>
              <a:ext cx="146160" cy="574920"/>
            </a:xfrm>
            <a:custGeom>
              <a:avLst/>
              <a:gdLst/>
              <a:ahLst/>
              <a:rect l="l" t="t" r="r" b="b"/>
              <a:pathLst>
                <a:path w="92" h="362">
                  <a:moveTo>
                    <a:pt x="91" y="66"/>
                  </a:moveTo>
                  <a:lnTo>
                    <a:pt x="91" y="361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91" y="66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45120" y="2111400"/>
              <a:ext cx="993960" cy="414360"/>
            </a:xfrm>
            <a:custGeom>
              <a:avLst/>
              <a:gdLst/>
              <a:ahLst/>
              <a:rect l="l" t="t" r="r" b="b"/>
              <a:pathLst>
                <a:path w="626" h="261">
                  <a:moveTo>
                    <a:pt x="0" y="195"/>
                  </a:moveTo>
                  <a:lnTo>
                    <a:pt x="98" y="260"/>
                  </a:lnTo>
                  <a:lnTo>
                    <a:pt x="625" y="65"/>
                  </a:lnTo>
                  <a:lnTo>
                    <a:pt x="525" y="0"/>
                  </a:lnTo>
                  <a:lnTo>
                    <a:pt x="0" y="195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89680" y="1846440"/>
              <a:ext cx="149400" cy="360360"/>
            </a:xfrm>
            <a:custGeom>
              <a:avLst/>
              <a:gdLst/>
              <a:ahLst/>
              <a:rect l="l" t="t" r="r" b="b"/>
              <a:pathLst>
                <a:path w="94" h="227">
                  <a:moveTo>
                    <a:pt x="93" y="65"/>
                  </a:moveTo>
                  <a:lnTo>
                    <a:pt x="0" y="0"/>
                  </a:lnTo>
                  <a:lnTo>
                    <a:pt x="0" y="161"/>
                  </a:lnTo>
                  <a:lnTo>
                    <a:pt x="93" y="226"/>
                  </a:lnTo>
                  <a:lnTo>
                    <a:pt x="93" y="65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360" y="518760"/>
            <a:ext cx="6431040" cy="2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Black-Box Testing(SWE 14.6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65520" y="3860640"/>
            <a:ext cx="889200" cy="1266840"/>
            <a:chOff x="4565520" y="3860640"/>
            <a:chExt cx="889200" cy="1266840"/>
          </a:xfrm>
        </p:grpSpPr>
        <p:sp>
          <p:nvSpPr>
            <p:cNvPr id="168" name=""/>
            <p:cNvSpPr/>
            <p:nvPr/>
          </p:nvSpPr>
          <p:spPr>
            <a:xfrm>
              <a:off x="4778280" y="4340160"/>
              <a:ext cx="95400" cy="787320"/>
            </a:xfrm>
            <a:custGeom>
              <a:avLst/>
              <a:gdLst/>
              <a:ahLst/>
              <a:rect l="l" t="t" r="r" b="b"/>
              <a:pathLst>
                <a:path w="60" h="496">
                  <a:moveTo>
                    <a:pt x="59" y="495"/>
                  </a:moveTo>
                  <a:lnTo>
                    <a:pt x="59" y="33"/>
                  </a:lnTo>
                  <a:lnTo>
                    <a:pt x="0" y="0"/>
                  </a:lnTo>
                  <a:lnTo>
                    <a:pt x="0" y="429"/>
                  </a:lnTo>
                  <a:lnTo>
                    <a:pt x="59" y="495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72080" y="3914640"/>
              <a:ext cx="782640" cy="1212840"/>
            </a:xfrm>
            <a:custGeom>
              <a:avLst/>
              <a:gdLst/>
              <a:ahLst/>
              <a:rect l="l" t="t" r="r" b="b"/>
              <a:pathLst>
                <a:path w="493" h="764">
                  <a:moveTo>
                    <a:pt x="230" y="0"/>
                  </a:moveTo>
                  <a:lnTo>
                    <a:pt x="492" y="133"/>
                  </a:lnTo>
                  <a:lnTo>
                    <a:pt x="362" y="198"/>
                  </a:lnTo>
                  <a:lnTo>
                    <a:pt x="362" y="663"/>
                  </a:lnTo>
                  <a:lnTo>
                    <a:pt x="132" y="763"/>
                  </a:lnTo>
                  <a:lnTo>
                    <a:pt x="132" y="299"/>
                  </a:lnTo>
                  <a:lnTo>
                    <a:pt x="0" y="365"/>
                  </a:lnTo>
                  <a:lnTo>
                    <a:pt x="23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65520" y="3860640"/>
              <a:ext cx="466920" cy="628920"/>
            </a:xfrm>
            <a:custGeom>
              <a:avLst/>
              <a:gdLst/>
              <a:ahLst/>
              <a:rect l="l" t="t" r="r" b="b"/>
              <a:pathLst>
                <a:path w="294" h="396">
                  <a:moveTo>
                    <a:pt x="65" y="395"/>
                  </a:moveTo>
                  <a:lnTo>
                    <a:pt x="0" y="362"/>
                  </a:lnTo>
                  <a:lnTo>
                    <a:pt x="228" y="0"/>
                  </a:lnTo>
                  <a:lnTo>
                    <a:pt x="293" y="33"/>
                  </a:lnTo>
                  <a:lnTo>
                    <a:pt x="65" y="395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165480" y="2044800"/>
            <a:ext cx="3062160" cy="2330280"/>
            <a:chOff x="3165480" y="2044800"/>
            <a:chExt cx="3062160" cy="2330280"/>
          </a:xfrm>
        </p:grpSpPr>
        <p:sp>
          <p:nvSpPr>
            <p:cNvPr id="172" name=""/>
            <p:cNvSpPr/>
            <p:nvPr/>
          </p:nvSpPr>
          <p:spPr>
            <a:xfrm>
              <a:off x="3165480" y="2949480"/>
              <a:ext cx="625320" cy="1425600"/>
            </a:xfrm>
            <a:custGeom>
              <a:avLst/>
              <a:gdLst/>
              <a:ahLst/>
              <a:rect l="l" t="t" r="r" b="b"/>
              <a:pathLst>
                <a:path w="394" h="898">
                  <a:moveTo>
                    <a:pt x="0" y="0"/>
                  </a:moveTo>
                  <a:lnTo>
                    <a:pt x="393" y="232"/>
                  </a:lnTo>
                  <a:lnTo>
                    <a:pt x="393" y="897"/>
                  </a:lnTo>
                  <a:lnTo>
                    <a:pt x="0" y="664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65480" y="2044800"/>
              <a:ext cx="3062160" cy="1265040"/>
            </a:xfrm>
            <a:custGeom>
              <a:avLst/>
              <a:gdLst/>
              <a:ahLst/>
              <a:rect l="l" t="t" r="r" b="b"/>
              <a:pathLst>
                <a:path w="1929" h="797">
                  <a:moveTo>
                    <a:pt x="0" y="564"/>
                  </a:moveTo>
                  <a:lnTo>
                    <a:pt x="399" y="796"/>
                  </a:lnTo>
                  <a:lnTo>
                    <a:pt x="1928" y="200"/>
                  </a:lnTo>
                  <a:lnTo>
                    <a:pt x="1594" y="0"/>
                  </a:lnTo>
                  <a:lnTo>
                    <a:pt x="0" y="564"/>
                  </a:lnTo>
                </a:path>
              </a:pathLst>
            </a:cu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1960" y="2365200"/>
              <a:ext cx="2425680" cy="2009880"/>
            </a:xfrm>
            <a:custGeom>
              <a:avLst/>
              <a:gdLst/>
              <a:ahLst/>
              <a:rect l="l" t="t" r="r" b="b"/>
              <a:pathLst>
                <a:path w="1528" h="1266">
                  <a:moveTo>
                    <a:pt x="0" y="598"/>
                  </a:moveTo>
                  <a:lnTo>
                    <a:pt x="0" y="1265"/>
                  </a:lnTo>
                  <a:lnTo>
                    <a:pt x="1527" y="565"/>
                  </a:lnTo>
                  <a:lnTo>
                    <a:pt x="1527" y="0"/>
                  </a:lnTo>
                  <a:lnTo>
                    <a:pt x="0" y="59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489560" y="1407960"/>
            <a:ext cx="466560" cy="147960"/>
          </a:xfrm>
          <a:custGeom>
            <a:avLst/>
            <a:gdLst/>
            <a:ahLst/>
            <a:rect l="l" t="t" r="r" b="b"/>
            <a:pathLst>
              <a:path w="294" h="93">
                <a:moveTo>
                  <a:pt x="0" y="61"/>
                </a:moveTo>
                <a:lnTo>
                  <a:pt x="65" y="92"/>
                </a:lnTo>
                <a:lnTo>
                  <a:pt x="293" y="30"/>
                </a:lnTo>
                <a:lnTo>
                  <a:pt x="228" y="0"/>
                </a:lnTo>
                <a:lnTo>
                  <a:pt x="0" y="61"/>
                </a:lnTo>
              </a:path>
            </a:pathLst>
          </a:custGeom>
          <a:solidFill>
            <a:srgbClr val="7f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199040" y="1460520"/>
            <a:ext cx="1030320" cy="1052640"/>
            <a:chOff x="4199040" y="1460520"/>
            <a:chExt cx="1030320" cy="1052640"/>
          </a:xfrm>
        </p:grpSpPr>
        <p:sp>
          <p:nvSpPr>
            <p:cNvPr id="177" name=""/>
            <p:cNvSpPr/>
            <p:nvPr/>
          </p:nvSpPr>
          <p:spPr>
            <a:xfrm>
              <a:off x="4867200" y="1978200"/>
              <a:ext cx="362160" cy="136440"/>
            </a:xfrm>
            <a:custGeom>
              <a:avLst/>
              <a:gdLst/>
              <a:ahLst/>
              <a:rect l="l" t="t" r="r" b="b"/>
              <a:pathLst>
                <a:path w="228" h="86">
                  <a:moveTo>
                    <a:pt x="64" y="85"/>
                  </a:moveTo>
                  <a:lnTo>
                    <a:pt x="227" y="27"/>
                  </a:lnTo>
                  <a:lnTo>
                    <a:pt x="156" y="0"/>
                  </a:lnTo>
                  <a:lnTo>
                    <a:pt x="0" y="58"/>
                  </a:lnTo>
                  <a:lnTo>
                    <a:pt x="64" y="85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13160" y="1460520"/>
              <a:ext cx="916200" cy="1052640"/>
            </a:xfrm>
            <a:custGeom>
              <a:avLst/>
              <a:gdLst/>
              <a:ahLst/>
              <a:rect l="l" t="t" r="r" b="b"/>
              <a:pathLst>
                <a:path w="577" h="663">
                  <a:moveTo>
                    <a:pt x="183" y="66"/>
                  </a:moveTo>
                  <a:lnTo>
                    <a:pt x="414" y="0"/>
                  </a:lnTo>
                  <a:lnTo>
                    <a:pt x="414" y="411"/>
                  </a:lnTo>
                  <a:lnTo>
                    <a:pt x="576" y="351"/>
                  </a:lnTo>
                  <a:lnTo>
                    <a:pt x="316" y="662"/>
                  </a:lnTo>
                  <a:lnTo>
                    <a:pt x="0" y="562"/>
                  </a:lnTo>
                  <a:lnTo>
                    <a:pt x="183" y="496"/>
                  </a:lnTo>
                  <a:lnTo>
                    <a:pt x="183" y="66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99040" y="2205000"/>
              <a:ext cx="398520" cy="147600"/>
            </a:xfrm>
            <a:custGeom>
              <a:avLst/>
              <a:gdLst/>
              <a:ahLst/>
              <a:rect l="l" t="t" r="r" b="b"/>
              <a:pathLst>
                <a:path w="251" h="93">
                  <a:moveTo>
                    <a:pt x="70" y="92"/>
                  </a:moveTo>
                  <a:lnTo>
                    <a:pt x="0" y="59"/>
                  </a:lnTo>
                  <a:lnTo>
                    <a:pt x="185" y="0"/>
                  </a:lnTo>
                  <a:lnTo>
                    <a:pt x="250" y="30"/>
                  </a:lnTo>
                  <a:lnTo>
                    <a:pt x="70" y="92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02160" y="1512720"/>
              <a:ext cx="95400" cy="733680"/>
            </a:xfrm>
            <a:custGeom>
              <a:avLst/>
              <a:gdLst/>
              <a:ahLst/>
              <a:rect l="l" t="t" r="r" b="b"/>
              <a:pathLst>
                <a:path w="60" h="462">
                  <a:moveTo>
                    <a:pt x="0" y="429"/>
                  </a:moveTo>
                  <a:lnTo>
                    <a:pt x="59" y="461"/>
                  </a:lnTo>
                  <a:lnTo>
                    <a:pt x="59" y="33"/>
                  </a:lnTo>
                  <a:lnTo>
                    <a:pt x="0" y="0"/>
                  </a:lnTo>
                  <a:lnTo>
                    <a:pt x="0" y="429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425680" y="3268800"/>
            <a:ext cx="1206360" cy="1158840"/>
            <a:chOff x="2425680" y="3268800"/>
            <a:chExt cx="1206360" cy="1158840"/>
          </a:xfrm>
        </p:grpSpPr>
        <p:sp>
          <p:nvSpPr>
            <p:cNvPr id="182" name=""/>
            <p:cNvSpPr/>
            <p:nvPr/>
          </p:nvSpPr>
          <p:spPr>
            <a:xfrm>
              <a:off x="3270240" y="3959280"/>
              <a:ext cx="149400" cy="361800"/>
            </a:xfrm>
            <a:custGeom>
              <a:avLst/>
              <a:gdLst/>
              <a:ahLst/>
              <a:rect l="l" t="t" r="r" b="b"/>
              <a:pathLst>
                <a:path w="94" h="228">
                  <a:moveTo>
                    <a:pt x="93" y="227"/>
                  </a:moveTo>
                  <a:lnTo>
                    <a:pt x="93" y="65"/>
                  </a:lnTo>
                  <a:lnTo>
                    <a:pt x="0" y="0"/>
                  </a:lnTo>
                  <a:lnTo>
                    <a:pt x="0" y="162"/>
                  </a:lnTo>
                  <a:lnTo>
                    <a:pt x="93" y="227"/>
                  </a:lnTo>
                </a:path>
              </a:pathLst>
            </a:custGeom>
            <a:solidFill>
              <a:srgbClr val="0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3000" y="3375000"/>
              <a:ext cx="1049040" cy="1052640"/>
            </a:xfrm>
            <a:custGeom>
              <a:avLst/>
              <a:gdLst/>
              <a:ahLst/>
              <a:rect l="l" t="t" r="r" b="b"/>
              <a:pathLst>
                <a:path w="661" h="663">
                  <a:moveTo>
                    <a:pt x="528" y="165"/>
                  </a:moveTo>
                  <a:lnTo>
                    <a:pt x="0" y="364"/>
                  </a:lnTo>
                  <a:lnTo>
                    <a:pt x="0" y="662"/>
                  </a:lnTo>
                  <a:lnTo>
                    <a:pt x="528" y="430"/>
                  </a:lnTo>
                  <a:lnTo>
                    <a:pt x="528" y="596"/>
                  </a:lnTo>
                  <a:lnTo>
                    <a:pt x="660" y="265"/>
                  </a:lnTo>
                  <a:lnTo>
                    <a:pt x="528" y="0"/>
                  </a:lnTo>
                  <a:lnTo>
                    <a:pt x="528" y="165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25680" y="3852720"/>
              <a:ext cx="146160" cy="574920"/>
            </a:xfrm>
            <a:custGeom>
              <a:avLst/>
              <a:gdLst/>
              <a:ahLst/>
              <a:rect l="l" t="t" r="r" b="b"/>
              <a:pathLst>
                <a:path w="92" h="362">
                  <a:moveTo>
                    <a:pt x="91" y="66"/>
                  </a:moveTo>
                  <a:lnTo>
                    <a:pt x="91" y="361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91" y="66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25680" y="3533760"/>
              <a:ext cx="993960" cy="414360"/>
            </a:xfrm>
            <a:custGeom>
              <a:avLst/>
              <a:gdLst/>
              <a:ahLst/>
              <a:rect l="l" t="t" r="r" b="b"/>
              <a:pathLst>
                <a:path w="626" h="261">
                  <a:moveTo>
                    <a:pt x="0" y="195"/>
                  </a:moveTo>
                  <a:lnTo>
                    <a:pt x="98" y="260"/>
                  </a:lnTo>
                  <a:lnTo>
                    <a:pt x="625" y="65"/>
                  </a:lnTo>
                  <a:lnTo>
                    <a:pt x="525" y="0"/>
                  </a:lnTo>
                  <a:lnTo>
                    <a:pt x="0" y="195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70240" y="3268800"/>
              <a:ext cx="149400" cy="360360"/>
            </a:xfrm>
            <a:custGeom>
              <a:avLst/>
              <a:gdLst/>
              <a:ahLst/>
              <a:rect l="l" t="t" r="r" b="b"/>
              <a:pathLst>
                <a:path w="94" h="227">
                  <a:moveTo>
                    <a:pt x="93" y="65"/>
                  </a:moveTo>
                  <a:lnTo>
                    <a:pt x="0" y="0"/>
                  </a:lnTo>
                  <a:lnTo>
                    <a:pt x="0" y="161"/>
                  </a:lnTo>
                  <a:lnTo>
                    <a:pt x="93" y="226"/>
                  </a:lnTo>
                  <a:lnTo>
                    <a:pt x="93" y="65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347920" y="1573200"/>
            <a:ext cx="211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44120" y="4468680"/>
            <a:ext cx="114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37280" y="440532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37960" y="298296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01818-9296-4711-8E65-5EBDF92647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Black-Box Test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Find errors in the following categories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ncorrect or missing function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nterface error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rrors in data structures or external data base acces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Behavior or performance error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nitialization and termination error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9D58-46A0-4026-8AE7-66F5A8AD78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30040" y="244440"/>
            <a:ext cx="51037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Black-Box Test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298520"/>
            <a:ext cx="749952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Tests are designed to answer the following questions: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How is functional validity tested?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How is system behavior and performance tested?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What classes of input will make good test cases?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Is the system particularly sensitive to certain input values?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How are the boundaries of a data class isolated?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What data rates and data volume can the system tolerate?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What effect will specific combinations of data have on system operation?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1610B-2CA4-41A2-BADA-B220256874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31440" y="496440"/>
            <a:ext cx="6518520" cy="26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Unit (functional) Testing(SWE 13.3.1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457280" y="1427040"/>
            <a:ext cx="2320920" cy="2178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881680" y="1717560"/>
            <a:ext cx="2298600" cy="1444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135320" y="3554280"/>
            <a:ext cx="1219320" cy="1657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235400" y="2000160"/>
            <a:ext cx="1447920" cy="939960"/>
          </a:xfrm>
          <a:prstGeom prst="rect">
            <a:avLst/>
          </a:prstGeom>
          <a:solidFill>
            <a:srgbClr val="a886e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1240" y="2035080"/>
            <a:ext cx="1265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8360" y="4037040"/>
            <a:ext cx="141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53000" y="2432160"/>
            <a:ext cx="419040" cy="330120"/>
          </a:xfrm>
          <a:prstGeom prst="rightArrow">
            <a:avLst>
              <a:gd name="adj1" fmla="val 50000"/>
              <a:gd name="adj2" fmla="val 63473"/>
            </a:avLst>
          </a:prstGeom>
          <a:solidFill>
            <a:srgbClr val="e5e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73760" y="2406600"/>
            <a:ext cx="660240" cy="330120"/>
          </a:xfrm>
          <a:prstGeom prst="rightArrow">
            <a:avLst>
              <a:gd name="adj1" fmla="val 50000"/>
              <a:gd name="adj2" fmla="val 100009"/>
            </a:avLst>
          </a:prstGeom>
          <a:solidFill>
            <a:srgbClr val="e5e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70400" y="3160800"/>
            <a:ext cx="1016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4603680" y="3079440"/>
            <a:ext cx="317520" cy="368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e5e5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51480" y="3711600"/>
            <a:ext cx="124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gin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01744-C7B8-403F-838E-7DCB19BBA38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Unit test Consideration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Module interface is tested to ensure information flow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Local data structures are examined to ensure that local data maintains its integrity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ll independent paths are exercised to ensure all statements are executed at least once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Modules operate properly at boundaries established to limit or restrict processing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rror handling paths are tested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6308D-F76F-4621-BD92-E6121D69E4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16160" y="1187280"/>
            <a:ext cx="1498680" cy="1041480"/>
          </a:xfrm>
          <a:prstGeom prst="rect">
            <a:avLst/>
          </a:prstGeom>
          <a:solidFill>
            <a:srgbClr val="a886e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96920" y="260280"/>
            <a:ext cx="704520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Unit Test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11" name=""/>
          <p:cNvSpPr/>
          <p:nvPr/>
        </p:nvSpPr>
        <p:spPr>
          <a:xfrm>
            <a:off x="4216320" y="1184400"/>
            <a:ext cx="3568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38200" y="2097000"/>
            <a:ext cx="1537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f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38560" y="143676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37840" y="2490840"/>
            <a:ext cx="316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l data 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38560" y="207180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37120" y="2909880"/>
            <a:ext cx="3194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undary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38560" y="270684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37480" y="3290760"/>
            <a:ext cx="2889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ependent pa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38560" y="354492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36760" y="3659040"/>
            <a:ext cx="314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ror handling pa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382840" y="3668760"/>
            <a:ext cx="1219320" cy="1657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359800" y="1247760"/>
            <a:ext cx="1265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19080" y="4824360"/>
            <a:ext cx="1655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2368440" y="2787120"/>
            <a:ext cx="1143000" cy="380880"/>
          </a:xfrm>
          <a:prstGeom prst="rightArrow">
            <a:avLst>
              <a:gd name="adj1" fmla="val 50000"/>
              <a:gd name="adj2" fmla="val 150061"/>
            </a:avLst>
          </a:prstGeom>
          <a:solidFill>
            <a:srgbClr val="e5e5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997360" y="2336760"/>
            <a:ext cx="1104840" cy="87624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035160" y="2717640"/>
            <a:ext cx="1054080" cy="49536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3086280"/>
            <a:ext cx="1028520" cy="13968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60720" y="3263760"/>
            <a:ext cx="1079640" cy="21600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3225960"/>
            <a:ext cx="1092240" cy="62208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B55B-E649-44B7-8E76-A04D659D09F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Unit test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est cases should uncover errors such as: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omparison of different data type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ncorrect logical operators or procedure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xpectation of equality when precision errors make equality unlikely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ncorrect comparison of error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mproper or nonexistent loop termination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mproperly modified loop variable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4BA4C-9388-4208-9209-77426DD667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96960" y="243000"/>
            <a:ext cx="5950080" cy="57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Unit Test Environmen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33" name=""/>
          <p:cNvSpPr/>
          <p:nvPr/>
        </p:nvSpPr>
        <p:spPr>
          <a:xfrm>
            <a:off x="1974960" y="2335320"/>
            <a:ext cx="1143000" cy="838080"/>
          </a:xfrm>
          <a:prstGeom prst="rect">
            <a:avLst/>
          </a:prstGeom>
          <a:solidFill>
            <a:srgbClr val="a886e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17080" y="2587680"/>
            <a:ext cx="1071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od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17760" y="3592440"/>
            <a:ext cx="863640" cy="685800"/>
          </a:xfrm>
          <a:prstGeom prst="rect">
            <a:avLst/>
          </a:prstGeom>
          <a:solidFill>
            <a:srgbClr val="a886e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3592440"/>
            <a:ext cx="863640" cy="685800"/>
          </a:xfrm>
          <a:prstGeom prst="rect">
            <a:avLst/>
          </a:prstGeom>
          <a:solidFill>
            <a:srgbClr val="a886e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14560" y="1116000"/>
            <a:ext cx="1917720" cy="863640"/>
          </a:xfrm>
          <a:prstGeom prst="rect">
            <a:avLst/>
          </a:prstGeom>
          <a:solidFill>
            <a:srgbClr val="a886e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90920" y="1998720"/>
            <a:ext cx="876240" cy="317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930320" y="3192480"/>
            <a:ext cx="571680" cy="393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03520" y="3192480"/>
            <a:ext cx="393840" cy="393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72480" y="374976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t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52120" y="373680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t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6120" y="132408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ri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30240" y="5032440"/>
            <a:ext cx="160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75320" y="1158840"/>
            <a:ext cx="3568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02480" y="1771560"/>
            <a:ext cx="1196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fa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02480" y="2165400"/>
            <a:ext cx="2415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data structu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02120" y="174636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00320" y="2584440"/>
            <a:ext cx="2446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undary cond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2120" y="238140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01040" y="2965320"/>
            <a:ext cx="2216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ependent pat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02120" y="3219480"/>
            <a:ext cx="181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01040" y="3333600"/>
            <a:ext cx="24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ror handling pat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046400" y="3274920"/>
            <a:ext cx="1219320" cy="1657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282640" y="4430880"/>
            <a:ext cx="1655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4057560" y="2406240"/>
            <a:ext cx="1143000" cy="380880"/>
          </a:xfrm>
          <a:prstGeom prst="rightArrow">
            <a:avLst>
              <a:gd name="adj1" fmla="val 50000"/>
              <a:gd name="adj2" fmla="val 150061"/>
            </a:avLst>
          </a:prstGeom>
          <a:solidFill>
            <a:srgbClr val="e5e5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0920" y="1943280"/>
            <a:ext cx="1104840" cy="87624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699080" y="2324160"/>
            <a:ext cx="1054080" cy="49536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711680" y="2692440"/>
            <a:ext cx="1028880" cy="13968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4280" y="2870280"/>
            <a:ext cx="1079640" cy="21600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11680" y="2832120"/>
            <a:ext cx="1092240" cy="62244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2019240"/>
            <a:ext cx="0" cy="2921040"/>
          </a:xfrm>
          <a:prstGeom prst="line">
            <a:avLst/>
          </a:prstGeom>
          <a:ln w="76320">
            <a:solidFill>
              <a:srgbClr val="e5e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CCF66-B3E0-4A70-8CE8-469B710ED9D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82480" y="344520"/>
            <a:ext cx="8158320" cy="57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Integration Testing Strategies</a:t>
            </a:r>
            <a:br>
              <a:rPr sz="3600"/>
            </a:br>
            <a:r>
              <a:rPr b="1" lang="en-US" sz="2400" spc="-1" strike="noStrike">
                <a:solidFill>
                  <a:srgbClr val="f3ff07"/>
                </a:solidFill>
                <a:latin typeface="Palatino"/>
              </a:rPr>
              <a:t>(SWE 13.3.2)</a:t>
            </a:r>
            <a:endParaRPr b="1" lang="en-US" sz="2400" spc="-1" strike="noStrike">
              <a:solidFill>
                <a:srgbClr val="f3ff07"/>
              </a:solidFill>
              <a:latin typeface="Palatino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276640" y="2449440"/>
            <a:ext cx="4593960" cy="2165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330560" y="1103400"/>
            <a:ext cx="6906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big bang”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ncremental construction 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3B271-2D90-407E-9DE2-2148BC5E2A2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40000" y="453600"/>
            <a:ext cx="6511680" cy="2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op Down Integration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67" name=""/>
          <p:cNvSpPr/>
          <p:nvPr/>
        </p:nvSpPr>
        <p:spPr>
          <a:xfrm>
            <a:off x="3911760" y="1359000"/>
            <a:ext cx="685800" cy="48240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62240" y="2324160"/>
            <a:ext cx="685800" cy="48240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00480" y="3301920"/>
            <a:ext cx="685800" cy="48276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17720" y="4267080"/>
            <a:ext cx="685800" cy="48276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4267080"/>
            <a:ext cx="685800" cy="4827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25880" y="2324160"/>
            <a:ext cx="685800" cy="4824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76920" y="2324160"/>
            <a:ext cx="685800" cy="4824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30600" y="3797280"/>
            <a:ext cx="380880" cy="432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80040" y="1854360"/>
            <a:ext cx="37800" cy="469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54480" y="1879560"/>
            <a:ext cx="977760" cy="432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11920" y="1514520"/>
            <a:ext cx="2993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p module is tested wit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14800" y="174312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93960" y="2949480"/>
            <a:ext cx="3000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bs are replaced one 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92880" y="3178080"/>
            <a:ext cx="230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time, "depth fir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67680" y="3762360"/>
            <a:ext cx="365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 new modules are integrated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68760" y="3990960"/>
            <a:ext cx="3432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subset of tests is re-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38560" y="13874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1240" y="240336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27280" y="33814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93760" y="43084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21120" y="430848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14520" y="2416320"/>
            <a:ext cx="3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40000" y="2416320"/>
            <a:ext cx="35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530160" y="1866960"/>
            <a:ext cx="723960" cy="431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755440" y="2832120"/>
            <a:ext cx="723960" cy="431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73400" y="3809880"/>
            <a:ext cx="457200" cy="432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4E37C-5FA0-4491-AE4D-9D09F5A7AA3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esting Objectives(SWE 5.5.2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26760"/>
            <a:ext cx="8229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xecuting a program with the intent of finding an error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as a high probability of finding an undiscovered error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Uncovers an error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7B480-3F9B-4FA9-95A6-109619267B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79080" y="421920"/>
            <a:ext cx="6891480" cy="2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Bottom-Up Integration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94" name=""/>
          <p:cNvSpPr/>
          <p:nvPr/>
        </p:nvSpPr>
        <p:spPr>
          <a:xfrm>
            <a:off x="1790640" y="2806560"/>
            <a:ext cx="2021040" cy="2148120"/>
          </a:xfrm>
          <a:custGeom>
            <a:avLst/>
            <a:gdLst/>
            <a:ahLst/>
            <a:rect l="l" t="t" r="r" b="b"/>
            <a:pathLst>
              <a:path w="1273" h="1353">
                <a:moveTo>
                  <a:pt x="962" y="119"/>
                </a:moveTo>
                <a:lnTo>
                  <a:pt x="946" y="111"/>
                </a:lnTo>
                <a:lnTo>
                  <a:pt x="906" y="95"/>
                </a:lnTo>
                <a:lnTo>
                  <a:pt x="875" y="80"/>
                </a:lnTo>
                <a:lnTo>
                  <a:pt x="851" y="72"/>
                </a:lnTo>
                <a:lnTo>
                  <a:pt x="819" y="56"/>
                </a:lnTo>
                <a:lnTo>
                  <a:pt x="803" y="48"/>
                </a:lnTo>
                <a:lnTo>
                  <a:pt x="779" y="40"/>
                </a:lnTo>
                <a:lnTo>
                  <a:pt x="763" y="32"/>
                </a:lnTo>
                <a:lnTo>
                  <a:pt x="755" y="24"/>
                </a:lnTo>
                <a:lnTo>
                  <a:pt x="739" y="16"/>
                </a:lnTo>
                <a:lnTo>
                  <a:pt x="716" y="8"/>
                </a:lnTo>
                <a:lnTo>
                  <a:pt x="684" y="0"/>
                </a:lnTo>
                <a:lnTo>
                  <a:pt x="652" y="0"/>
                </a:lnTo>
                <a:lnTo>
                  <a:pt x="636" y="0"/>
                </a:lnTo>
                <a:lnTo>
                  <a:pt x="620" y="0"/>
                </a:lnTo>
                <a:lnTo>
                  <a:pt x="580" y="8"/>
                </a:lnTo>
                <a:lnTo>
                  <a:pt x="549" y="16"/>
                </a:lnTo>
                <a:lnTo>
                  <a:pt x="517" y="32"/>
                </a:lnTo>
                <a:lnTo>
                  <a:pt x="501" y="40"/>
                </a:lnTo>
                <a:lnTo>
                  <a:pt x="485" y="48"/>
                </a:lnTo>
                <a:lnTo>
                  <a:pt x="445" y="72"/>
                </a:lnTo>
                <a:lnTo>
                  <a:pt x="398" y="95"/>
                </a:lnTo>
                <a:lnTo>
                  <a:pt x="350" y="119"/>
                </a:lnTo>
                <a:lnTo>
                  <a:pt x="326" y="127"/>
                </a:lnTo>
                <a:lnTo>
                  <a:pt x="302" y="135"/>
                </a:lnTo>
                <a:lnTo>
                  <a:pt x="254" y="159"/>
                </a:lnTo>
                <a:lnTo>
                  <a:pt x="207" y="191"/>
                </a:lnTo>
                <a:lnTo>
                  <a:pt x="167" y="223"/>
                </a:lnTo>
                <a:lnTo>
                  <a:pt x="159" y="239"/>
                </a:lnTo>
                <a:lnTo>
                  <a:pt x="143" y="254"/>
                </a:lnTo>
                <a:lnTo>
                  <a:pt x="119" y="286"/>
                </a:lnTo>
                <a:lnTo>
                  <a:pt x="95" y="326"/>
                </a:lnTo>
                <a:lnTo>
                  <a:pt x="87" y="358"/>
                </a:lnTo>
                <a:lnTo>
                  <a:pt x="80" y="374"/>
                </a:lnTo>
                <a:lnTo>
                  <a:pt x="72" y="390"/>
                </a:lnTo>
                <a:lnTo>
                  <a:pt x="72" y="422"/>
                </a:lnTo>
                <a:lnTo>
                  <a:pt x="72" y="469"/>
                </a:lnTo>
                <a:lnTo>
                  <a:pt x="72" y="525"/>
                </a:lnTo>
                <a:lnTo>
                  <a:pt x="80" y="557"/>
                </a:lnTo>
                <a:lnTo>
                  <a:pt x="80" y="565"/>
                </a:lnTo>
                <a:lnTo>
                  <a:pt x="87" y="604"/>
                </a:lnTo>
                <a:lnTo>
                  <a:pt x="87" y="636"/>
                </a:lnTo>
                <a:lnTo>
                  <a:pt x="87" y="660"/>
                </a:lnTo>
                <a:lnTo>
                  <a:pt x="80" y="692"/>
                </a:lnTo>
                <a:lnTo>
                  <a:pt x="72" y="732"/>
                </a:lnTo>
                <a:lnTo>
                  <a:pt x="64" y="763"/>
                </a:lnTo>
                <a:lnTo>
                  <a:pt x="56" y="787"/>
                </a:lnTo>
                <a:lnTo>
                  <a:pt x="48" y="811"/>
                </a:lnTo>
                <a:lnTo>
                  <a:pt x="32" y="851"/>
                </a:lnTo>
                <a:lnTo>
                  <a:pt x="16" y="907"/>
                </a:lnTo>
                <a:lnTo>
                  <a:pt x="0" y="970"/>
                </a:lnTo>
                <a:lnTo>
                  <a:pt x="0" y="1018"/>
                </a:lnTo>
                <a:lnTo>
                  <a:pt x="0" y="1042"/>
                </a:lnTo>
                <a:lnTo>
                  <a:pt x="0" y="1066"/>
                </a:lnTo>
                <a:lnTo>
                  <a:pt x="8" y="1113"/>
                </a:lnTo>
                <a:lnTo>
                  <a:pt x="16" y="1153"/>
                </a:lnTo>
                <a:lnTo>
                  <a:pt x="32" y="1185"/>
                </a:lnTo>
                <a:lnTo>
                  <a:pt x="40" y="1201"/>
                </a:lnTo>
                <a:lnTo>
                  <a:pt x="48" y="1217"/>
                </a:lnTo>
                <a:lnTo>
                  <a:pt x="64" y="1233"/>
                </a:lnTo>
                <a:lnTo>
                  <a:pt x="87" y="1257"/>
                </a:lnTo>
                <a:lnTo>
                  <a:pt x="111" y="1272"/>
                </a:lnTo>
                <a:lnTo>
                  <a:pt x="127" y="1280"/>
                </a:lnTo>
                <a:lnTo>
                  <a:pt x="159" y="1288"/>
                </a:lnTo>
                <a:lnTo>
                  <a:pt x="183" y="1288"/>
                </a:lnTo>
                <a:lnTo>
                  <a:pt x="215" y="1288"/>
                </a:lnTo>
                <a:lnTo>
                  <a:pt x="254" y="1288"/>
                </a:lnTo>
                <a:lnTo>
                  <a:pt x="294" y="1288"/>
                </a:lnTo>
                <a:lnTo>
                  <a:pt x="358" y="1288"/>
                </a:lnTo>
                <a:lnTo>
                  <a:pt x="413" y="1288"/>
                </a:lnTo>
                <a:lnTo>
                  <a:pt x="445" y="1288"/>
                </a:lnTo>
                <a:lnTo>
                  <a:pt x="477" y="1288"/>
                </a:lnTo>
                <a:lnTo>
                  <a:pt x="533" y="1288"/>
                </a:lnTo>
                <a:lnTo>
                  <a:pt x="596" y="1288"/>
                </a:lnTo>
                <a:lnTo>
                  <a:pt x="636" y="1288"/>
                </a:lnTo>
                <a:lnTo>
                  <a:pt x="684" y="1288"/>
                </a:lnTo>
                <a:lnTo>
                  <a:pt x="739" y="1296"/>
                </a:lnTo>
                <a:lnTo>
                  <a:pt x="771" y="1304"/>
                </a:lnTo>
                <a:lnTo>
                  <a:pt x="811" y="1312"/>
                </a:lnTo>
                <a:lnTo>
                  <a:pt x="819" y="1312"/>
                </a:lnTo>
                <a:lnTo>
                  <a:pt x="851" y="1320"/>
                </a:lnTo>
                <a:lnTo>
                  <a:pt x="898" y="1328"/>
                </a:lnTo>
                <a:lnTo>
                  <a:pt x="954" y="1336"/>
                </a:lnTo>
                <a:lnTo>
                  <a:pt x="1010" y="1352"/>
                </a:lnTo>
                <a:lnTo>
                  <a:pt x="1034" y="1352"/>
                </a:lnTo>
                <a:lnTo>
                  <a:pt x="1049" y="1352"/>
                </a:lnTo>
                <a:lnTo>
                  <a:pt x="1097" y="1352"/>
                </a:lnTo>
                <a:lnTo>
                  <a:pt x="1129" y="1352"/>
                </a:lnTo>
                <a:lnTo>
                  <a:pt x="1169" y="1344"/>
                </a:lnTo>
                <a:lnTo>
                  <a:pt x="1185" y="1336"/>
                </a:lnTo>
                <a:lnTo>
                  <a:pt x="1200" y="1328"/>
                </a:lnTo>
                <a:lnTo>
                  <a:pt x="1232" y="1304"/>
                </a:lnTo>
                <a:lnTo>
                  <a:pt x="1248" y="1280"/>
                </a:lnTo>
                <a:lnTo>
                  <a:pt x="1264" y="1249"/>
                </a:lnTo>
                <a:lnTo>
                  <a:pt x="1264" y="1233"/>
                </a:lnTo>
                <a:lnTo>
                  <a:pt x="1272" y="1209"/>
                </a:lnTo>
                <a:lnTo>
                  <a:pt x="1272" y="1169"/>
                </a:lnTo>
                <a:lnTo>
                  <a:pt x="1264" y="1129"/>
                </a:lnTo>
                <a:lnTo>
                  <a:pt x="1256" y="1082"/>
                </a:lnTo>
                <a:lnTo>
                  <a:pt x="1248" y="1058"/>
                </a:lnTo>
                <a:lnTo>
                  <a:pt x="1240" y="1034"/>
                </a:lnTo>
                <a:lnTo>
                  <a:pt x="1224" y="986"/>
                </a:lnTo>
                <a:lnTo>
                  <a:pt x="1208" y="938"/>
                </a:lnTo>
                <a:lnTo>
                  <a:pt x="1193" y="899"/>
                </a:lnTo>
                <a:lnTo>
                  <a:pt x="1185" y="875"/>
                </a:lnTo>
                <a:lnTo>
                  <a:pt x="1177" y="859"/>
                </a:lnTo>
                <a:lnTo>
                  <a:pt x="1161" y="811"/>
                </a:lnTo>
                <a:lnTo>
                  <a:pt x="1153" y="763"/>
                </a:lnTo>
                <a:lnTo>
                  <a:pt x="1145" y="708"/>
                </a:lnTo>
                <a:lnTo>
                  <a:pt x="1145" y="684"/>
                </a:lnTo>
                <a:lnTo>
                  <a:pt x="1145" y="636"/>
                </a:lnTo>
                <a:lnTo>
                  <a:pt x="1137" y="533"/>
                </a:lnTo>
                <a:lnTo>
                  <a:pt x="1137" y="477"/>
                </a:lnTo>
                <a:lnTo>
                  <a:pt x="1137" y="453"/>
                </a:lnTo>
                <a:lnTo>
                  <a:pt x="1129" y="398"/>
                </a:lnTo>
                <a:lnTo>
                  <a:pt x="1121" y="350"/>
                </a:lnTo>
                <a:lnTo>
                  <a:pt x="1105" y="310"/>
                </a:lnTo>
                <a:lnTo>
                  <a:pt x="1097" y="294"/>
                </a:lnTo>
                <a:lnTo>
                  <a:pt x="1089" y="278"/>
                </a:lnTo>
                <a:lnTo>
                  <a:pt x="1057" y="231"/>
                </a:lnTo>
                <a:lnTo>
                  <a:pt x="1018" y="183"/>
                </a:lnTo>
                <a:lnTo>
                  <a:pt x="970" y="135"/>
                </a:lnTo>
                <a:lnTo>
                  <a:pt x="946" y="111"/>
                </a:lnTo>
                <a:lnTo>
                  <a:pt x="962" y="119"/>
                </a:lnTo>
              </a:path>
            </a:pathLst>
          </a:cu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62520" y="1181160"/>
            <a:ext cx="685800" cy="48240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146320"/>
            <a:ext cx="685800" cy="48276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51240" y="3124080"/>
            <a:ext cx="685800" cy="48276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68480" y="4089240"/>
            <a:ext cx="685800" cy="48276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70280" y="4089240"/>
            <a:ext cx="685800" cy="48276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64040" y="2146320"/>
            <a:ext cx="685800" cy="4827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27680" y="2146320"/>
            <a:ext cx="685800" cy="48276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581280" y="1676520"/>
            <a:ext cx="725760" cy="457200"/>
            <a:chOff x="3581280" y="1676520"/>
            <a:chExt cx="725760" cy="457200"/>
          </a:xfrm>
        </p:grpSpPr>
        <p:sp>
          <p:nvSpPr>
            <p:cNvPr id="303" name=""/>
            <p:cNvSpPr/>
            <p:nvPr/>
          </p:nvSpPr>
          <p:spPr>
            <a:xfrm>
              <a:off x="4102200" y="1676520"/>
              <a:ext cx="204840" cy="153720"/>
            </a:xfrm>
            <a:custGeom>
              <a:avLst/>
              <a:gdLst/>
              <a:ahLst/>
              <a:rect l="l" t="t" r="r" b="b"/>
              <a:pathLst>
                <a:path w="129" h="97">
                  <a:moveTo>
                    <a:pt x="128" y="0"/>
                  </a:moveTo>
                  <a:lnTo>
                    <a:pt x="38" y="96"/>
                  </a:lnTo>
                  <a:lnTo>
                    <a:pt x="23" y="66"/>
                  </a:lnTo>
                  <a:lnTo>
                    <a:pt x="0" y="37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581280" y="1790640"/>
              <a:ext cx="571680" cy="343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806200" y="2641680"/>
            <a:ext cx="713160" cy="469800"/>
            <a:chOff x="2806200" y="2641680"/>
            <a:chExt cx="713160" cy="469800"/>
          </a:xfrm>
        </p:grpSpPr>
        <p:sp>
          <p:nvSpPr>
            <p:cNvPr id="306" name=""/>
            <p:cNvSpPr/>
            <p:nvPr/>
          </p:nvSpPr>
          <p:spPr>
            <a:xfrm>
              <a:off x="3327480" y="2641680"/>
              <a:ext cx="191880" cy="15408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120" y="0"/>
                  </a:moveTo>
                  <a:lnTo>
                    <a:pt x="30" y="96"/>
                  </a:lnTo>
                  <a:lnTo>
                    <a:pt x="15" y="66"/>
                  </a:lnTo>
                  <a:lnTo>
                    <a:pt x="0" y="44"/>
                  </a:lnTo>
                  <a:lnTo>
                    <a:pt x="12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806200" y="2755800"/>
              <a:ext cx="559080" cy="355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H="1">
            <a:off x="2286000" y="3619440"/>
            <a:ext cx="52056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81360" y="3619440"/>
            <a:ext cx="444600" cy="482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30800" y="1676520"/>
            <a:ext cx="38160" cy="469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05240" y="1701720"/>
            <a:ext cx="978120" cy="432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85120" y="2822400"/>
            <a:ext cx="3342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ivers are replaced one at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83680" y="3051000"/>
            <a:ext cx="211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, "depth fir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81080" y="3699000"/>
            <a:ext cx="3867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er modules are grouped in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81080" y="3927600"/>
            <a:ext cx="249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ilds and integr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89320" y="12096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02000" y="22255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78040" y="32036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44880" y="41306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71880" y="4130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65280" y="2238480"/>
            <a:ext cx="3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90760" y="2238480"/>
            <a:ext cx="35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82680" y="4875120"/>
            <a:ext cx="118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1120" y="2711520"/>
            <a:ext cx="27936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4C8C7-E1C7-400C-9B2B-260A01745DE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ystem Testing (SWE 13.6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 series of tests whose primary purpose is to fully exercise the computer based system. Such tests could be categorized as: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Recovery testing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: forcing the software  and verifying the recovery is properly performed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Security testing :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verifying the protection mechanisms built into a system will protect it from improper penetration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Stress testing: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executing the system in a manner that demands resources in abnormal quantity, frequency, or volume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"/>
              </a:rPr>
              <a:t>Performance testing: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testing the run-time performance of software within the context of an integrated system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1306D-F19D-462B-9438-3635C7655D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120" y="609480"/>
            <a:ext cx="7589880" cy="51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Equivalence Partitioning</a:t>
            </a:r>
            <a:br>
              <a:rPr sz="36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(SWE 14.6.2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744560" y="1687680"/>
            <a:ext cx="1123920" cy="3122280"/>
            <a:chOff x="1744560" y="1687680"/>
            <a:chExt cx="1123920" cy="3122280"/>
          </a:xfrm>
        </p:grpSpPr>
        <p:sp>
          <p:nvSpPr>
            <p:cNvPr id="329" name=""/>
            <p:cNvSpPr/>
            <p:nvPr/>
          </p:nvSpPr>
          <p:spPr>
            <a:xfrm>
              <a:off x="1744560" y="1687680"/>
              <a:ext cx="835200" cy="106200"/>
            </a:xfrm>
            <a:custGeom>
              <a:avLst/>
              <a:gdLst/>
              <a:ahLst/>
              <a:rect l="l" t="t" r="r" b="b"/>
              <a:pathLst>
                <a:path w="526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5" y="0"/>
                  </a:lnTo>
                  <a:lnTo>
                    <a:pt x="482" y="66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09920" y="1687680"/>
              <a:ext cx="357120" cy="1603080"/>
            </a:xfrm>
            <a:custGeom>
              <a:avLst/>
              <a:gdLst/>
              <a:ahLst/>
              <a:rect l="l" t="t" r="r" b="b"/>
              <a:pathLst>
                <a:path w="225" h="1010">
                  <a:moveTo>
                    <a:pt x="43" y="0"/>
                  </a:moveTo>
                  <a:lnTo>
                    <a:pt x="0" y="66"/>
                  </a:lnTo>
                  <a:lnTo>
                    <a:pt x="186" y="1009"/>
                  </a:lnTo>
                  <a:lnTo>
                    <a:pt x="224" y="957"/>
                  </a:lnTo>
                  <a:lnTo>
                    <a:pt x="43" y="0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17840" y="3203640"/>
              <a:ext cx="35064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9"/>
                  </a:lnTo>
                  <a:lnTo>
                    <a:pt x="220" y="0"/>
                  </a:lnTo>
                </a:path>
              </a:pathLst>
            </a:custGeom>
            <a:solidFill>
              <a:srgbClr val="df9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44560" y="1792440"/>
              <a:ext cx="1062000" cy="301752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7f00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530520" y="1687680"/>
            <a:ext cx="1123920" cy="3122280"/>
            <a:chOff x="3530520" y="1687680"/>
            <a:chExt cx="1123920" cy="3122280"/>
          </a:xfrm>
        </p:grpSpPr>
        <p:sp>
          <p:nvSpPr>
            <p:cNvPr id="334" name=""/>
            <p:cNvSpPr/>
            <p:nvPr/>
          </p:nvSpPr>
          <p:spPr>
            <a:xfrm>
              <a:off x="3530520" y="1687680"/>
              <a:ext cx="836640" cy="10620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95880" y="1687680"/>
              <a:ext cx="357120" cy="160164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03800" y="3203640"/>
              <a:ext cx="35064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30520" y="1792440"/>
              <a:ext cx="1062000" cy="301752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620800" y="1687680"/>
            <a:ext cx="1124280" cy="3122280"/>
            <a:chOff x="2620800" y="1687680"/>
            <a:chExt cx="1124280" cy="3122280"/>
          </a:xfrm>
        </p:grpSpPr>
        <p:sp>
          <p:nvSpPr>
            <p:cNvPr id="339" name=""/>
            <p:cNvSpPr/>
            <p:nvPr/>
          </p:nvSpPr>
          <p:spPr>
            <a:xfrm>
              <a:off x="2620800" y="1687680"/>
              <a:ext cx="835200" cy="106200"/>
            </a:xfrm>
            <a:custGeom>
              <a:avLst/>
              <a:gdLst/>
              <a:ahLst/>
              <a:rect l="l" t="t" r="r" b="b"/>
              <a:pathLst>
                <a:path w="526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5" y="0"/>
                  </a:lnTo>
                  <a:lnTo>
                    <a:pt x="482" y="66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86160" y="1687680"/>
              <a:ext cx="357120" cy="1603080"/>
            </a:xfrm>
            <a:custGeom>
              <a:avLst/>
              <a:gdLst/>
              <a:ahLst/>
              <a:rect l="l" t="t" r="r" b="b"/>
              <a:pathLst>
                <a:path w="225" h="1010">
                  <a:moveTo>
                    <a:pt x="43" y="0"/>
                  </a:moveTo>
                  <a:lnTo>
                    <a:pt x="0" y="66"/>
                  </a:lnTo>
                  <a:lnTo>
                    <a:pt x="186" y="1009"/>
                  </a:lnTo>
                  <a:lnTo>
                    <a:pt x="224" y="957"/>
                  </a:lnTo>
                  <a:lnTo>
                    <a:pt x="43" y="0"/>
                  </a:lnTo>
                </a:path>
              </a:pathLst>
            </a:custGeom>
            <a:solidFill>
              <a:srgbClr val="ff5f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94080" y="3203640"/>
              <a:ext cx="35100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9"/>
                  </a:lnTo>
                  <a:lnTo>
                    <a:pt x="220" y="0"/>
                  </a:lnTo>
                </a:path>
              </a:pathLst>
            </a:custGeom>
            <a:solidFill>
              <a:srgbClr val="ff7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20800" y="1792440"/>
              <a:ext cx="1062360" cy="301752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8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470480" y="1687680"/>
            <a:ext cx="1123920" cy="3122280"/>
            <a:chOff x="4470480" y="1687680"/>
            <a:chExt cx="1123920" cy="3122280"/>
          </a:xfrm>
        </p:grpSpPr>
        <p:sp>
          <p:nvSpPr>
            <p:cNvPr id="344" name=""/>
            <p:cNvSpPr/>
            <p:nvPr/>
          </p:nvSpPr>
          <p:spPr>
            <a:xfrm>
              <a:off x="4470480" y="1687680"/>
              <a:ext cx="836640" cy="10620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35480" y="1687680"/>
              <a:ext cx="357120" cy="160164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43400" y="3203640"/>
              <a:ext cx="35100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70480" y="1792440"/>
              <a:ext cx="1062000" cy="301752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410080" y="1687680"/>
            <a:ext cx="1123920" cy="3122280"/>
            <a:chOff x="5410080" y="1687680"/>
            <a:chExt cx="1123920" cy="3122280"/>
          </a:xfrm>
        </p:grpSpPr>
        <p:sp>
          <p:nvSpPr>
            <p:cNvPr id="349" name=""/>
            <p:cNvSpPr/>
            <p:nvPr/>
          </p:nvSpPr>
          <p:spPr>
            <a:xfrm>
              <a:off x="5410080" y="1687680"/>
              <a:ext cx="836640" cy="10620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75440" y="1687680"/>
              <a:ext cx="357120" cy="160164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83360" y="3203640"/>
              <a:ext cx="35064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0080" y="1792440"/>
              <a:ext cx="1062000" cy="301752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6350040" y="1687680"/>
            <a:ext cx="1123920" cy="3122280"/>
            <a:chOff x="6350040" y="1687680"/>
            <a:chExt cx="1123920" cy="3122280"/>
          </a:xfrm>
        </p:grpSpPr>
        <p:sp>
          <p:nvSpPr>
            <p:cNvPr id="354" name=""/>
            <p:cNvSpPr/>
            <p:nvPr/>
          </p:nvSpPr>
          <p:spPr>
            <a:xfrm>
              <a:off x="6350040" y="1687680"/>
              <a:ext cx="836640" cy="10620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15040" y="1687680"/>
              <a:ext cx="357480" cy="160164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22960" y="3203640"/>
              <a:ext cx="35100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50040" y="1792440"/>
              <a:ext cx="1062000" cy="301752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710720" y="2787480"/>
            <a:ext cx="815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er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29600" y="3054240"/>
            <a:ext cx="7545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ick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68840" y="2838600"/>
            <a:ext cx="8352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m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96200" y="3257640"/>
            <a:ext cx="893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mp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86560" y="2800440"/>
            <a:ext cx="6159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77280" y="3143160"/>
            <a:ext cx="547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15A9-AA1E-440A-AB1F-2F9E8B0E2CA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80600" y="455400"/>
            <a:ext cx="6388200" cy="2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ample Equivalence Class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65" name=""/>
          <p:cNvSpPr/>
          <p:nvPr/>
        </p:nvSpPr>
        <p:spPr>
          <a:xfrm>
            <a:off x="3123360" y="1440000"/>
            <a:ext cx="2938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supplied comman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24800" y="1722600"/>
            <a:ext cx="343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ponses to system promp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2006640"/>
            <a:ext cx="1298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 na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23360" y="2276640"/>
            <a:ext cx="2278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utational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3360" y="2548080"/>
            <a:ext cx="2900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sical parameters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1200" y="2806560"/>
            <a:ext cx="225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unding val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08960" y="3051000"/>
            <a:ext cx="216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tion val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9680" y="3322800"/>
            <a:ext cx="2622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put data format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5880" y="3554280"/>
            <a:ext cx="336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ponses to error mess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22640" y="3787920"/>
            <a:ext cx="385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phical data (e.g., mouse pick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1200" y="4524480"/>
            <a:ext cx="4161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outside bounds of the progra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3000" y="4757760"/>
            <a:ext cx="3078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sically impossible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08240" y="5002200"/>
            <a:ext cx="422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er value supplied in wrong pl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02880" y="1195560"/>
            <a:ext cx="126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alid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28080" y="4232160"/>
            <a:ext cx="144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nvalid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511280" y="1725480"/>
            <a:ext cx="1123920" cy="3122640"/>
            <a:chOff x="1511280" y="1725480"/>
            <a:chExt cx="1123920" cy="3122640"/>
          </a:xfrm>
        </p:grpSpPr>
        <p:sp>
          <p:nvSpPr>
            <p:cNvPr id="381" name=""/>
            <p:cNvSpPr/>
            <p:nvPr/>
          </p:nvSpPr>
          <p:spPr>
            <a:xfrm>
              <a:off x="1511280" y="1725480"/>
              <a:ext cx="836640" cy="10656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76640" y="1725480"/>
              <a:ext cx="357120" cy="160200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84560" y="3241800"/>
              <a:ext cx="35064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11280" y="1830240"/>
              <a:ext cx="1062000" cy="301788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35B2E-16FC-46A2-A596-71F7BF93D9F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91840" y="474840"/>
            <a:ext cx="6411960" cy="26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Boundary Value Analysis</a:t>
            </a:r>
            <a:br>
              <a:rPr sz="36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(SWE 14.6.3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287360" y="1674720"/>
            <a:ext cx="1123920" cy="3122640"/>
            <a:chOff x="1287360" y="1674720"/>
            <a:chExt cx="1123920" cy="3122640"/>
          </a:xfrm>
        </p:grpSpPr>
        <p:sp>
          <p:nvSpPr>
            <p:cNvPr id="387" name=""/>
            <p:cNvSpPr/>
            <p:nvPr/>
          </p:nvSpPr>
          <p:spPr>
            <a:xfrm>
              <a:off x="1287360" y="1674720"/>
              <a:ext cx="835200" cy="106560"/>
            </a:xfrm>
            <a:custGeom>
              <a:avLst/>
              <a:gdLst/>
              <a:ahLst/>
              <a:rect l="l" t="t" r="r" b="b"/>
              <a:pathLst>
                <a:path w="526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5" y="0"/>
                  </a:lnTo>
                  <a:lnTo>
                    <a:pt x="482" y="66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52720" y="1674720"/>
              <a:ext cx="357120" cy="1603440"/>
            </a:xfrm>
            <a:custGeom>
              <a:avLst/>
              <a:gdLst/>
              <a:ahLst/>
              <a:rect l="l" t="t" r="r" b="b"/>
              <a:pathLst>
                <a:path w="225" h="1010">
                  <a:moveTo>
                    <a:pt x="43" y="0"/>
                  </a:moveTo>
                  <a:lnTo>
                    <a:pt x="0" y="66"/>
                  </a:lnTo>
                  <a:lnTo>
                    <a:pt x="186" y="1009"/>
                  </a:lnTo>
                  <a:lnTo>
                    <a:pt x="224" y="957"/>
                  </a:lnTo>
                  <a:lnTo>
                    <a:pt x="43" y="0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60640" y="3191040"/>
              <a:ext cx="35064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9"/>
                  </a:lnTo>
                  <a:lnTo>
                    <a:pt x="220" y="0"/>
                  </a:lnTo>
                </a:path>
              </a:pathLst>
            </a:custGeom>
            <a:solidFill>
              <a:srgbClr val="df9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87360" y="1779480"/>
              <a:ext cx="1062000" cy="301788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7f00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073320" y="1674720"/>
            <a:ext cx="1123920" cy="3122640"/>
            <a:chOff x="3073320" y="1674720"/>
            <a:chExt cx="1123920" cy="3122640"/>
          </a:xfrm>
        </p:grpSpPr>
        <p:sp>
          <p:nvSpPr>
            <p:cNvPr id="392" name=""/>
            <p:cNvSpPr/>
            <p:nvPr/>
          </p:nvSpPr>
          <p:spPr>
            <a:xfrm>
              <a:off x="3073320" y="1674720"/>
              <a:ext cx="836640" cy="10656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38680" y="1674720"/>
              <a:ext cx="357120" cy="160200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46600" y="3191040"/>
              <a:ext cx="35064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73320" y="1779480"/>
              <a:ext cx="1062000" cy="301788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163600" y="1674720"/>
            <a:ext cx="1124280" cy="3122640"/>
            <a:chOff x="2163600" y="1674720"/>
            <a:chExt cx="1124280" cy="3122640"/>
          </a:xfrm>
        </p:grpSpPr>
        <p:sp>
          <p:nvSpPr>
            <p:cNvPr id="397" name=""/>
            <p:cNvSpPr/>
            <p:nvPr/>
          </p:nvSpPr>
          <p:spPr>
            <a:xfrm>
              <a:off x="2163600" y="1674720"/>
              <a:ext cx="835200" cy="106560"/>
            </a:xfrm>
            <a:custGeom>
              <a:avLst/>
              <a:gdLst/>
              <a:ahLst/>
              <a:rect l="l" t="t" r="r" b="b"/>
              <a:pathLst>
                <a:path w="526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5" y="0"/>
                  </a:lnTo>
                  <a:lnTo>
                    <a:pt x="482" y="66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28960" y="1674720"/>
              <a:ext cx="357120" cy="1603440"/>
            </a:xfrm>
            <a:custGeom>
              <a:avLst/>
              <a:gdLst/>
              <a:ahLst/>
              <a:rect l="l" t="t" r="r" b="b"/>
              <a:pathLst>
                <a:path w="225" h="1010">
                  <a:moveTo>
                    <a:pt x="43" y="0"/>
                  </a:moveTo>
                  <a:lnTo>
                    <a:pt x="0" y="66"/>
                  </a:lnTo>
                  <a:lnTo>
                    <a:pt x="186" y="1009"/>
                  </a:lnTo>
                  <a:lnTo>
                    <a:pt x="224" y="957"/>
                  </a:lnTo>
                  <a:lnTo>
                    <a:pt x="43" y="0"/>
                  </a:lnTo>
                </a:path>
              </a:pathLst>
            </a:custGeom>
            <a:solidFill>
              <a:srgbClr val="ff5f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36880" y="3191040"/>
              <a:ext cx="35100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9"/>
                  </a:lnTo>
                  <a:lnTo>
                    <a:pt x="220" y="0"/>
                  </a:lnTo>
                </a:path>
              </a:pathLst>
            </a:custGeom>
            <a:solidFill>
              <a:srgbClr val="ff7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63600" y="1779480"/>
              <a:ext cx="1062360" cy="301788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8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013280" y="1674720"/>
            <a:ext cx="1123920" cy="3122640"/>
            <a:chOff x="4013280" y="1674720"/>
            <a:chExt cx="1123920" cy="3122640"/>
          </a:xfrm>
        </p:grpSpPr>
        <p:sp>
          <p:nvSpPr>
            <p:cNvPr id="402" name=""/>
            <p:cNvSpPr/>
            <p:nvPr/>
          </p:nvSpPr>
          <p:spPr>
            <a:xfrm>
              <a:off x="4013280" y="1674720"/>
              <a:ext cx="836640" cy="10656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78280" y="1674720"/>
              <a:ext cx="357120" cy="160200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86200" y="3191040"/>
              <a:ext cx="35100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13280" y="1779480"/>
              <a:ext cx="1062000" cy="301788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952880" y="1674720"/>
            <a:ext cx="1123920" cy="3122640"/>
            <a:chOff x="4952880" y="1674720"/>
            <a:chExt cx="1123920" cy="3122640"/>
          </a:xfrm>
        </p:grpSpPr>
        <p:sp>
          <p:nvSpPr>
            <p:cNvPr id="407" name=""/>
            <p:cNvSpPr/>
            <p:nvPr/>
          </p:nvSpPr>
          <p:spPr>
            <a:xfrm>
              <a:off x="4952880" y="1674720"/>
              <a:ext cx="836640" cy="10656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8240" y="1674720"/>
              <a:ext cx="357120" cy="160200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26160" y="3191040"/>
              <a:ext cx="35064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52880" y="1779480"/>
              <a:ext cx="1062000" cy="301788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892840" y="1674720"/>
            <a:ext cx="1123920" cy="3122640"/>
            <a:chOff x="5892840" y="1674720"/>
            <a:chExt cx="1123920" cy="3122640"/>
          </a:xfrm>
        </p:grpSpPr>
        <p:sp>
          <p:nvSpPr>
            <p:cNvPr id="412" name=""/>
            <p:cNvSpPr/>
            <p:nvPr/>
          </p:nvSpPr>
          <p:spPr>
            <a:xfrm>
              <a:off x="5892840" y="1674720"/>
              <a:ext cx="836640" cy="106560"/>
            </a:xfrm>
            <a:custGeom>
              <a:avLst/>
              <a:gdLst/>
              <a:ahLst/>
              <a:rect l="l" t="t" r="r" b="b"/>
              <a:pathLst>
                <a:path w="527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6" y="0"/>
                  </a:lnTo>
                  <a:lnTo>
                    <a:pt x="482" y="66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57840" y="1674720"/>
              <a:ext cx="357480" cy="1602000"/>
            </a:xfrm>
            <a:custGeom>
              <a:avLst/>
              <a:gdLst/>
              <a:ahLst/>
              <a:rect l="l" t="t" r="r" b="b"/>
              <a:pathLst>
                <a:path w="225" h="1009">
                  <a:moveTo>
                    <a:pt x="44" y="0"/>
                  </a:moveTo>
                  <a:lnTo>
                    <a:pt x="0" y="66"/>
                  </a:lnTo>
                  <a:lnTo>
                    <a:pt x="186" y="1008"/>
                  </a:lnTo>
                  <a:lnTo>
                    <a:pt x="224" y="956"/>
                  </a:lnTo>
                  <a:lnTo>
                    <a:pt x="44" y="0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65760" y="3191040"/>
              <a:ext cx="35100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8"/>
                  </a:lnTo>
                  <a:lnTo>
                    <a:pt x="22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92840" y="1779480"/>
              <a:ext cx="1062000" cy="301788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7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df1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1253520" y="2774880"/>
            <a:ext cx="815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er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22640" y="1828800"/>
            <a:ext cx="928440" cy="2884320"/>
          </a:xfrm>
          <a:custGeom>
            <a:avLst/>
            <a:gdLst/>
            <a:ahLst/>
            <a:rect l="l" t="t" r="r" b="b"/>
            <a:pathLst>
              <a:path w="585" h="1817">
                <a:moveTo>
                  <a:pt x="0" y="0"/>
                </a:moveTo>
                <a:lnTo>
                  <a:pt x="408" y="0"/>
                </a:lnTo>
                <a:lnTo>
                  <a:pt x="584" y="888"/>
                </a:lnTo>
                <a:lnTo>
                  <a:pt x="408" y="1816"/>
                </a:lnTo>
                <a:lnTo>
                  <a:pt x="16" y="1816"/>
                </a:lnTo>
                <a:lnTo>
                  <a:pt x="200" y="90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2400" y="3041640"/>
            <a:ext cx="7545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ick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62240" y="1854360"/>
            <a:ext cx="928800" cy="2884320"/>
          </a:xfrm>
          <a:custGeom>
            <a:avLst/>
            <a:gdLst/>
            <a:ahLst/>
            <a:rect l="l" t="t" r="r" b="b"/>
            <a:pathLst>
              <a:path w="585" h="1817">
                <a:moveTo>
                  <a:pt x="0" y="0"/>
                </a:moveTo>
                <a:lnTo>
                  <a:pt x="408" y="0"/>
                </a:lnTo>
                <a:lnTo>
                  <a:pt x="584" y="888"/>
                </a:lnTo>
                <a:lnTo>
                  <a:pt x="408" y="1816"/>
                </a:lnTo>
                <a:lnTo>
                  <a:pt x="16" y="1816"/>
                </a:lnTo>
                <a:lnTo>
                  <a:pt x="200" y="90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02200" y="1866960"/>
            <a:ext cx="928440" cy="2884320"/>
          </a:xfrm>
          <a:custGeom>
            <a:avLst/>
            <a:gdLst/>
            <a:ahLst/>
            <a:rect l="l" t="t" r="r" b="b"/>
            <a:pathLst>
              <a:path w="585" h="1817">
                <a:moveTo>
                  <a:pt x="0" y="0"/>
                </a:moveTo>
                <a:lnTo>
                  <a:pt x="408" y="0"/>
                </a:lnTo>
                <a:lnTo>
                  <a:pt x="584" y="888"/>
                </a:lnTo>
                <a:lnTo>
                  <a:pt x="408" y="1816"/>
                </a:lnTo>
                <a:lnTo>
                  <a:pt x="16" y="1816"/>
                </a:lnTo>
                <a:lnTo>
                  <a:pt x="200" y="90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029200" y="1841400"/>
            <a:ext cx="928800" cy="2884680"/>
          </a:xfrm>
          <a:custGeom>
            <a:avLst/>
            <a:gdLst/>
            <a:ahLst/>
            <a:rect l="l" t="t" r="r" b="b"/>
            <a:pathLst>
              <a:path w="585" h="1817">
                <a:moveTo>
                  <a:pt x="0" y="0"/>
                </a:moveTo>
                <a:lnTo>
                  <a:pt x="408" y="0"/>
                </a:lnTo>
                <a:lnTo>
                  <a:pt x="584" y="888"/>
                </a:lnTo>
                <a:lnTo>
                  <a:pt x="408" y="1816"/>
                </a:lnTo>
                <a:lnTo>
                  <a:pt x="16" y="1816"/>
                </a:lnTo>
                <a:lnTo>
                  <a:pt x="200" y="90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69160" y="1854360"/>
            <a:ext cx="928440" cy="2884320"/>
          </a:xfrm>
          <a:custGeom>
            <a:avLst/>
            <a:gdLst/>
            <a:ahLst/>
            <a:rect l="l" t="t" r="r" b="b"/>
            <a:pathLst>
              <a:path w="585" h="1817">
                <a:moveTo>
                  <a:pt x="0" y="0"/>
                </a:moveTo>
                <a:lnTo>
                  <a:pt x="408" y="0"/>
                </a:lnTo>
                <a:lnTo>
                  <a:pt x="584" y="888"/>
                </a:lnTo>
                <a:lnTo>
                  <a:pt x="408" y="1816"/>
                </a:lnTo>
                <a:lnTo>
                  <a:pt x="16" y="1816"/>
                </a:lnTo>
                <a:lnTo>
                  <a:pt x="200" y="90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11640" y="2825640"/>
            <a:ext cx="8352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m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239000" y="3244680"/>
            <a:ext cx="893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mp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29360" y="2787480"/>
            <a:ext cx="6159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20080" y="3130560"/>
            <a:ext cx="547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7104240" y="1674720"/>
            <a:ext cx="1123920" cy="3122640"/>
            <a:chOff x="7104240" y="1674720"/>
            <a:chExt cx="1123920" cy="3122640"/>
          </a:xfrm>
        </p:grpSpPr>
        <p:sp>
          <p:nvSpPr>
            <p:cNvPr id="428" name=""/>
            <p:cNvSpPr/>
            <p:nvPr/>
          </p:nvSpPr>
          <p:spPr>
            <a:xfrm>
              <a:off x="7104240" y="1674720"/>
              <a:ext cx="834840" cy="106560"/>
            </a:xfrm>
            <a:custGeom>
              <a:avLst/>
              <a:gdLst/>
              <a:ahLst/>
              <a:rect l="l" t="t" r="r" b="b"/>
              <a:pathLst>
                <a:path w="526" h="67">
                  <a:moveTo>
                    <a:pt x="482" y="66"/>
                  </a:moveTo>
                  <a:lnTo>
                    <a:pt x="0" y="66"/>
                  </a:lnTo>
                  <a:lnTo>
                    <a:pt x="46" y="0"/>
                  </a:lnTo>
                  <a:lnTo>
                    <a:pt x="525" y="0"/>
                  </a:lnTo>
                  <a:lnTo>
                    <a:pt x="482" y="66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69240" y="1674720"/>
              <a:ext cx="357120" cy="1603440"/>
            </a:xfrm>
            <a:custGeom>
              <a:avLst/>
              <a:gdLst/>
              <a:ahLst/>
              <a:rect l="l" t="t" r="r" b="b"/>
              <a:pathLst>
                <a:path w="225" h="1010">
                  <a:moveTo>
                    <a:pt x="43" y="0"/>
                  </a:moveTo>
                  <a:lnTo>
                    <a:pt x="0" y="66"/>
                  </a:lnTo>
                  <a:lnTo>
                    <a:pt x="186" y="1009"/>
                  </a:lnTo>
                  <a:lnTo>
                    <a:pt x="224" y="957"/>
                  </a:lnTo>
                  <a:lnTo>
                    <a:pt x="43" y="0"/>
                  </a:lnTo>
                </a:path>
              </a:pathLst>
            </a:custGeom>
            <a:solidFill>
              <a:srgbClr val="ff5f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77160" y="3191040"/>
              <a:ext cx="351000" cy="1606320"/>
            </a:xfrm>
            <a:custGeom>
              <a:avLst/>
              <a:gdLst/>
              <a:ahLst/>
              <a:rect l="l" t="t" r="r" b="b"/>
              <a:pathLst>
                <a:path w="221" h="1012">
                  <a:moveTo>
                    <a:pt x="220" y="0"/>
                  </a:moveTo>
                  <a:lnTo>
                    <a:pt x="181" y="53"/>
                  </a:lnTo>
                  <a:lnTo>
                    <a:pt x="0" y="1011"/>
                  </a:lnTo>
                  <a:lnTo>
                    <a:pt x="42" y="949"/>
                  </a:lnTo>
                  <a:lnTo>
                    <a:pt x="220" y="0"/>
                  </a:lnTo>
                </a:path>
              </a:pathLst>
            </a:custGeom>
            <a:solidFill>
              <a:srgbClr val="ff7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04240" y="1779480"/>
              <a:ext cx="1062000" cy="3017880"/>
            </a:xfrm>
            <a:custGeom>
              <a:avLst/>
              <a:gdLst/>
              <a:ahLst/>
              <a:rect l="l" t="t" r="r" b="b"/>
              <a:pathLst>
                <a:path w="669" h="1901">
                  <a:moveTo>
                    <a:pt x="482" y="0"/>
                  </a:moveTo>
                  <a:lnTo>
                    <a:pt x="0" y="0"/>
                  </a:lnTo>
                  <a:lnTo>
                    <a:pt x="181" y="948"/>
                  </a:lnTo>
                  <a:lnTo>
                    <a:pt x="0" y="1900"/>
                  </a:lnTo>
                  <a:lnTo>
                    <a:pt x="487" y="1900"/>
                  </a:lnTo>
                  <a:lnTo>
                    <a:pt x="668" y="942"/>
                  </a:lnTo>
                  <a:lnTo>
                    <a:pt x="482" y="0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162920" y="1828800"/>
            <a:ext cx="928440" cy="2884320"/>
          </a:xfrm>
          <a:custGeom>
            <a:avLst/>
            <a:gdLst/>
            <a:ahLst/>
            <a:rect l="l" t="t" r="r" b="b"/>
            <a:pathLst>
              <a:path w="585" h="1817">
                <a:moveTo>
                  <a:pt x="0" y="0"/>
                </a:moveTo>
                <a:lnTo>
                  <a:pt x="408" y="0"/>
                </a:lnTo>
                <a:lnTo>
                  <a:pt x="584" y="888"/>
                </a:lnTo>
                <a:lnTo>
                  <a:pt x="408" y="1816"/>
                </a:lnTo>
                <a:lnTo>
                  <a:pt x="16" y="1816"/>
                </a:lnTo>
                <a:lnTo>
                  <a:pt x="200" y="90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57360" y="4816440"/>
            <a:ext cx="9954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71600" y="4951440"/>
            <a:ext cx="1620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put 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28BC4-6204-4524-B2F8-611F4D4CEF48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esting Principl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ll tests should be traceable to customer requirement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ests should be planned long before testing begin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e Pareto Principle applies to software testing. (80% of all errors uncovered during testing will likely be traceable to 20% of all program components)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esting should begin “in the small” and progress toward testing “in the large”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xhaustive testing is not possible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AB99E-627C-407F-8C56-F285DB26AE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98480" y="415440"/>
            <a:ext cx="245124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estability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1280" y="1306440"/>
            <a:ext cx="6781680" cy="38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Palatino"/>
              </a:rPr>
              <a:t>Software testability is simply how easily a software can be tested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1D90C-5972-425D-AE94-F2F91AE1000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Palatino"/>
              </a:rPr>
              <a:t>Testable Software Characteristics</a:t>
            </a:r>
            <a:endParaRPr b="1" lang="en-US" sz="28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Operability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—it operates cleanly (the better it works, the more efficiently it cab be tested)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Observability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—the results of each test case are readily observed (incorrect output is easily identified)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Controllability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—the degree to which testing can be automated and optimized (the better we can control the software, the more testing can automated and optimized)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Decomposability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—testing can be targeted (the software system is built from independent modules that can be tested independently)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Simplicity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—reduce complex architecture and logic to simplify tests (the software should exhibit functional simplicity, structural simplicity, and code simplicity).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Stability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—few changes are requested during testing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Palatino"/>
              </a:rPr>
              <a:t>Understandability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—of the design (the more information we have, the smarter we will test)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68BD7-9058-43CB-B55F-B7463A7F7E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11320" y="1542960"/>
            <a:ext cx="7086600" cy="3071880"/>
          </a:xfrm>
          <a:prstGeom prst="rect">
            <a:avLst/>
          </a:prstGeom>
          <a:solidFill>
            <a:srgbClr val="ad278d"/>
          </a:solidFill>
          <a:ln w="0">
            <a:noFill/>
          </a:ln>
          <a:effectLst>
            <a:outerShdw dist="71785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9960" y="244440"/>
            <a:ext cx="65847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What is a “Good” Test?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3680" y="1809360"/>
            <a:ext cx="6619680" cy="28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 good test has a high probability of finding an error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 good test is not redundant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 good test should be “best of breed”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 good test should be neither too simple nor too complex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27BA-2BDA-4479-837D-BE65155DD7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6920" y="352440"/>
            <a:ext cx="6441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oftware Test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11" name=""/>
          <p:cNvSpPr/>
          <p:nvPr/>
        </p:nvSpPr>
        <p:spPr>
          <a:xfrm>
            <a:off x="1701720" y="3708360"/>
            <a:ext cx="5639040" cy="914400"/>
          </a:xfrm>
          <a:prstGeom prst="ellipse">
            <a:avLst/>
          </a:prstGeom>
          <a:solidFill>
            <a:srgbClr val="0099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0440" y="3606840"/>
            <a:ext cx="4559400" cy="571320"/>
          </a:xfrm>
          <a:prstGeom prst="ellipse">
            <a:avLst/>
          </a:prstGeom>
          <a:solidFill>
            <a:srgbClr val="e5e5ff"/>
          </a:solidFill>
          <a:ln w="25560">
            <a:solidFill>
              <a:srgbClr val="ffff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511280" y="1701720"/>
            <a:ext cx="2224080" cy="2237040"/>
            <a:chOff x="1511280" y="1701720"/>
            <a:chExt cx="2224080" cy="2237040"/>
          </a:xfrm>
        </p:grpSpPr>
        <p:sp>
          <p:nvSpPr>
            <p:cNvPr id="114" name=""/>
            <p:cNvSpPr/>
            <p:nvPr/>
          </p:nvSpPr>
          <p:spPr>
            <a:xfrm>
              <a:off x="1523880" y="1701720"/>
              <a:ext cx="2059200" cy="852480"/>
            </a:xfrm>
            <a:custGeom>
              <a:avLst/>
              <a:gdLst/>
              <a:ahLst/>
              <a:rect l="l" t="t" r="r" b="b"/>
              <a:pathLst>
                <a:path w="1297" h="537">
                  <a:moveTo>
                    <a:pt x="1296" y="0"/>
                  </a:moveTo>
                  <a:lnTo>
                    <a:pt x="384" y="0"/>
                  </a:lnTo>
                  <a:lnTo>
                    <a:pt x="0" y="536"/>
                  </a:lnTo>
                  <a:lnTo>
                    <a:pt x="936" y="536"/>
                  </a:lnTo>
                  <a:lnTo>
                    <a:pt x="1296" y="0"/>
                  </a:lnTo>
                </a:path>
              </a:pathLst>
            </a:custGeom>
            <a:solidFill>
              <a:srgbClr val="0099cc"/>
            </a:solidFill>
            <a:ln cap="rnd" w="2556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11280" y="2527200"/>
              <a:ext cx="2224080" cy="1411560"/>
            </a:xfrm>
            <a:custGeom>
              <a:avLst/>
              <a:gdLst/>
              <a:ahLst/>
              <a:rect l="l" t="t" r="r" b="b"/>
              <a:pathLst>
                <a:path w="1401" h="889">
                  <a:moveTo>
                    <a:pt x="0" y="8"/>
                  </a:moveTo>
                  <a:lnTo>
                    <a:pt x="1400" y="888"/>
                  </a:lnTo>
                  <a:lnTo>
                    <a:pt x="928" y="0"/>
                  </a:lnTo>
                  <a:lnTo>
                    <a:pt x="0" y="8"/>
                  </a:lnTo>
                </a:path>
              </a:pathLst>
            </a:custGeom>
            <a:solidFill>
              <a:srgbClr val="e5e5ff"/>
            </a:solidFill>
            <a:ln cap="rnd" w="2556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84400" y="1701720"/>
              <a:ext cx="738360" cy="2237040"/>
            </a:xfrm>
            <a:custGeom>
              <a:avLst/>
              <a:gdLst/>
              <a:ahLst/>
              <a:rect l="l" t="t" r="r" b="b"/>
              <a:pathLst>
                <a:path w="465" h="1409">
                  <a:moveTo>
                    <a:pt x="464" y="1408"/>
                  </a:moveTo>
                  <a:lnTo>
                    <a:pt x="0" y="528"/>
                  </a:lnTo>
                  <a:lnTo>
                    <a:pt x="360" y="0"/>
                  </a:lnTo>
                  <a:lnTo>
                    <a:pt x="464" y="1408"/>
                  </a:lnTo>
                </a:path>
              </a:pathLst>
            </a:custGeom>
            <a:solidFill>
              <a:srgbClr val="0099cc"/>
            </a:solidFill>
            <a:ln cap="rnd" w="2556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219640" y="1676520"/>
            <a:ext cx="2224080" cy="2236680"/>
            <a:chOff x="5219640" y="1676520"/>
            <a:chExt cx="2224080" cy="2236680"/>
          </a:xfrm>
        </p:grpSpPr>
        <p:sp>
          <p:nvSpPr>
            <p:cNvPr id="118" name=""/>
            <p:cNvSpPr/>
            <p:nvPr/>
          </p:nvSpPr>
          <p:spPr>
            <a:xfrm>
              <a:off x="5372280" y="1676520"/>
              <a:ext cx="2058840" cy="852480"/>
            </a:xfrm>
            <a:custGeom>
              <a:avLst/>
              <a:gdLst/>
              <a:ahLst/>
              <a:rect l="l" t="t" r="r" b="b"/>
              <a:pathLst>
                <a:path w="1297" h="537">
                  <a:moveTo>
                    <a:pt x="0" y="0"/>
                  </a:moveTo>
                  <a:lnTo>
                    <a:pt x="912" y="0"/>
                  </a:lnTo>
                  <a:lnTo>
                    <a:pt x="1296" y="536"/>
                  </a:lnTo>
                  <a:lnTo>
                    <a:pt x="360" y="536"/>
                  </a:lnTo>
                  <a:lnTo>
                    <a:pt x="0" y="0"/>
                  </a:lnTo>
                </a:path>
              </a:pathLst>
            </a:custGeom>
            <a:solidFill>
              <a:srgbClr val="0099cc"/>
            </a:solidFill>
            <a:ln cap="rnd" w="2556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19640" y="2502000"/>
              <a:ext cx="2224080" cy="1411200"/>
            </a:xfrm>
            <a:custGeom>
              <a:avLst/>
              <a:gdLst/>
              <a:ahLst/>
              <a:rect l="l" t="t" r="r" b="b"/>
              <a:pathLst>
                <a:path w="1401" h="889">
                  <a:moveTo>
                    <a:pt x="1400" y="8"/>
                  </a:moveTo>
                  <a:lnTo>
                    <a:pt x="0" y="888"/>
                  </a:lnTo>
                  <a:lnTo>
                    <a:pt x="472" y="0"/>
                  </a:lnTo>
                  <a:lnTo>
                    <a:pt x="1400" y="8"/>
                  </a:lnTo>
                </a:path>
              </a:pathLst>
            </a:custGeom>
            <a:solidFill>
              <a:srgbClr val="e5e5ff"/>
            </a:solidFill>
            <a:ln cap="rnd" w="2556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32240" y="1676520"/>
              <a:ext cx="738360" cy="2236680"/>
            </a:xfrm>
            <a:custGeom>
              <a:avLst/>
              <a:gdLst/>
              <a:ahLst/>
              <a:rect l="l" t="t" r="r" b="b"/>
              <a:pathLst>
                <a:path w="465" h="1409">
                  <a:moveTo>
                    <a:pt x="0" y="1408"/>
                  </a:moveTo>
                  <a:lnTo>
                    <a:pt x="464" y="528"/>
                  </a:lnTo>
                  <a:lnTo>
                    <a:pt x="104" y="0"/>
                  </a:lnTo>
                  <a:lnTo>
                    <a:pt x="0" y="1408"/>
                  </a:lnTo>
                </a:path>
              </a:pathLst>
            </a:custGeom>
            <a:solidFill>
              <a:srgbClr val="0099cc"/>
            </a:solidFill>
            <a:ln cap="rnd" w="2556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948480" y="3724200"/>
            <a:ext cx="105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97720" y="4257720"/>
            <a:ext cx="120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41480" y="1793880"/>
            <a:ext cx="1374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white-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ethod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75400" y="1768320"/>
            <a:ext cx="1374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lack-bo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84373-44AF-41C8-A35E-5420C774E29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480" y="415440"/>
            <a:ext cx="637524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White-Box Testing (SWE 14.3)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26" name=""/>
          <p:cNvSpPr/>
          <p:nvPr/>
        </p:nvSpPr>
        <p:spPr>
          <a:xfrm>
            <a:off x="4968720" y="1563840"/>
            <a:ext cx="63720" cy="101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6120" y="1550880"/>
            <a:ext cx="88920" cy="127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06880" y="1690560"/>
            <a:ext cx="0" cy="76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29040" y="1817640"/>
            <a:ext cx="355680" cy="177840"/>
          </a:xfrm>
          <a:prstGeom prst="rect">
            <a:avLst/>
          </a:prstGeom>
          <a:solidFill>
            <a:srgbClr val="a886e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16440" y="1805040"/>
            <a:ext cx="380880" cy="203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06880" y="2021040"/>
            <a:ext cx="0" cy="6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35560" y="2185920"/>
            <a:ext cx="355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70320" y="2363760"/>
            <a:ext cx="355680" cy="177840"/>
          </a:xfrm>
          <a:prstGeom prst="rect">
            <a:avLst/>
          </a:prstGeom>
          <a:solidFill>
            <a:srgbClr val="a886e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57720" y="2351160"/>
            <a:ext cx="380880" cy="203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88120" y="2389320"/>
            <a:ext cx="355320" cy="177840"/>
          </a:xfrm>
          <a:prstGeom prst="rect">
            <a:avLst/>
          </a:prstGeom>
          <a:solidFill>
            <a:srgbClr val="a886e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75160" y="2376360"/>
            <a:ext cx="381240" cy="203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48160" y="2185920"/>
            <a:ext cx="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209920" y="2185920"/>
            <a:ext cx="355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5600" y="2185920"/>
            <a:ext cx="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48160" y="2567160"/>
            <a:ext cx="0" cy="1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5600" y="2592360"/>
            <a:ext cx="0" cy="10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48160" y="2706840"/>
            <a:ext cx="1104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06880" y="2706840"/>
            <a:ext cx="0" cy="15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29040" y="2909880"/>
            <a:ext cx="355680" cy="177840"/>
          </a:xfrm>
          <a:prstGeom prst="rect">
            <a:avLst/>
          </a:prstGeom>
          <a:solidFill>
            <a:srgbClr val="a886e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16440" y="2897280"/>
            <a:ext cx="380880" cy="203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06880" y="3112920"/>
            <a:ext cx="0" cy="190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6880" y="3417840"/>
            <a:ext cx="0" cy="63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06880" y="174132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06880" y="346860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83120" y="1741320"/>
            <a:ext cx="0" cy="171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89080" y="3949560"/>
            <a:ext cx="467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.. our goal is to ensure that a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95200" y="4267080"/>
            <a:ext cx="4907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ments and conditions ha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94840" y="4584600"/>
            <a:ext cx="457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en executed at least once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78280" y="2071800"/>
            <a:ext cx="444600" cy="241200"/>
          </a:xfrm>
          <a:prstGeom prst="diamond">
            <a:avLst/>
          </a:prstGeom>
          <a:solidFill>
            <a:srgbClr val="e5e5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78280" y="3328920"/>
            <a:ext cx="444600" cy="241200"/>
          </a:xfrm>
          <a:prstGeom prst="diamond">
            <a:avLst/>
          </a:prstGeom>
          <a:solidFill>
            <a:srgbClr val="e5e5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06880" y="3608280"/>
            <a:ext cx="0" cy="317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63920" y="1044720"/>
            <a:ext cx="2068560" cy="250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C01A-AE04-4E26-BF99-E6F6F89B25B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White-Box Testing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Derive test cases that: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Guarantee that all independent paths within a module have been exercised at least once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xercise all logical decisions on their true and false side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xecute all loops at their boundaries and within their operational bound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xercise internal data structures to ensure its validity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3E81-21E4-4E75-85B0-B41247C539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00:57:40Z</dcterms:created>
  <dc:creator>Roger Pressman</dc:creator>
  <dc:description/>
  <dc:language>en-US</dc:language>
  <cp:lastModifiedBy>Staff Member</cp:lastModifiedBy>
  <dcterms:modified xsi:type="dcterms:W3CDTF">2005-02-05T08:44:11Z</dcterms:modified>
  <cp:revision>152</cp:revision>
  <dc:subject/>
  <dc:title>Transparency Masters for Software Engineering: A Practitioner's Approach, 4/e</dc:title>
</cp:coreProperties>
</file>