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A53-7DF9-4030-A1E5-2A8AD424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2F4-D95A-4960-A56F-AA703C47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49D-54D1-49C6-A5ED-1E950794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E0E-488F-4FE4-A136-796CFF08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8C1-4047-4609-89C7-55B737FF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335-1790-4F3D-B2C4-367BE392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576-19B8-4429-B513-BEAB99D2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EBA-290D-4F22-B2DB-A05ED11D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12C-24DD-4674-AE6E-2ABE0B1E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9B7-3725-4C35-9156-E6C32B57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4A1-9D75-4ABC-B995-53B29F05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33D-6B8F-4023-8322-D462275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C135-E4CB-4406-9D88-C7BA84165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4 Application of the Normal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981080"/>
            <a:ext cx="899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n industrial process, the diameter of a ball bearing is an important component part. The buyer sets specifications on the diameter to be 3.00±0.01 cm.  The implication is that no part falling outside these specifications will be accepted. It is known that, in the process, the diameter of a ball bearing has a normal distribution with mean 3.00 cm and standard deviation 0.005 cm. On the average, how many manufactured ball bearings will be scrap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8080" y="380880"/>
                <a:ext cx="396252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73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3120" y="152280"/>
            <a:ext cx="7107120" cy="5715000"/>
            <a:chOff x="123120" y="152280"/>
            <a:chExt cx="7107120" cy="5715000"/>
          </a:xfrm>
        </p:grpSpPr>
        <p:sp>
          <p:nvSpPr>
            <p:cNvPr id="44" name=""/>
            <p:cNvSpPr/>
            <p:nvPr/>
          </p:nvSpPr>
          <p:spPr>
            <a:xfrm>
              <a:off x="123120" y="152280"/>
              <a:ext cx="7107120" cy="39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3.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dia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N(3.00, 0.00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pecification limits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00±0.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Lower limit=3.0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=2.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Upper limit=3.00+0.01=3.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P(2.99&lt;X&lt;3.01)=P(X&lt;3.01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2.9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752480" y="4022640"/>
              <a:ext cx="5181840" cy="1844640"/>
              <a:chOff x="1752480" y="4022640"/>
              <a:chExt cx="5181840" cy="1844640"/>
            </a:xfrm>
          </p:grpSpPr>
          <mc:AlternateContent>
            <mc:Choice xmlns:a14="http://schemas.microsoft.com/office/drawing/2010/main" Requires="a14">
              <p:sp>
                <p:nvSpPr>
                  <p:cNvPr id="46" name=""/>
                  <p:cNvSpPr txBox="1"/>
                  <p:nvPr/>
                </p:nvSpPr>
                <p:spPr>
                  <a:xfrm>
                    <a:off x="1752480" y="4022640"/>
                    <a:ext cx="4478400" cy="85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7" name=""/>
                  <p:cNvSpPr txBox="1"/>
                  <p:nvPr/>
                </p:nvSpPr>
                <p:spPr>
                  <a:xfrm>
                    <a:off x="1752480" y="5013360"/>
                    <a:ext cx="518184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507960"/>
            <a:ext cx="38862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52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0.977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02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9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on the average, 95.44% of manufactured ball bearings will be accepted and 4.56% will be scrapped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213372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uges are use to reject all components where a certain dimension is not within the specifications 1.50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It is known that this measurement is normally distributed with mean 1.50 and standard deviation 0.20. Determine the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the specifications cover 95% of the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4559400"/>
            <a:ext cx="441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~N(1.5, 0.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152280"/>
            <a:ext cx="6248160" cy="6324840"/>
            <a:chOff x="76320" y="152280"/>
            <a:chExt cx="6248160" cy="6324840"/>
          </a:xfrm>
        </p:grpSpPr>
        <p:sp>
          <p:nvSpPr>
            <p:cNvPr id="53" name=""/>
            <p:cNvSpPr/>
            <p:nvPr/>
          </p:nvSpPr>
          <p:spPr>
            <a:xfrm>
              <a:off x="76320" y="152280"/>
              <a:ext cx="6248160" cy="31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pecification limits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Lower limit=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Upper limit=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gt; 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X&lt; 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9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 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 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2743200"/>
              <a:ext cx="4922280" cy="3733920"/>
              <a:chOff x="304920" y="2743200"/>
              <a:chExt cx="4922280" cy="3733920"/>
            </a:xfrm>
          </p:grpSpPr>
          <mc:AlternateContent>
            <mc:Choice xmlns:a14="http://schemas.microsoft.com/office/drawing/2010/main" Requires="a14">
              <p:sp>
                <p:nvSpPr>
                  <p:cNvPr id="55" name=""/>
                  <p:cNvSpPr txBox="1"/>
                  <p:nvPr/>
                </p:nvSpPr>
                <p:spPr>
                  <a:xfrm>
                    <a:off x="328320" y="2743200"/>
                    <a:ext cx="489888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6" name=""/>
                  <p:cNvSpPr txBox="1"/>
                  <p:nvPr/>
                </p:nvSpPr>
                <p:spPr>
                  <a:xfrm>
                    <a:off x="328320" y="3657600"/>
                    <a:ext cx="430992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315720" y="4572000"/>
                    <a:ext cx="450828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304920" y="5516640"/>
                    <a:ext cx="3322440" cy="96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aphicFrame>
        <p:nvGraphicFramePr>
          <p:cNvPr id="59" name=""/>
          <p:cNvGraphicFramePr/>
          <p:nvPr/>
        </p:nvGraphicFramePr>
        <p:xfrm>
          <a:off x="5410080" y="2185920"/>
          <a:ext cx="3657600" cy="1928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10080" y="4111560"/>
            <a:ext cx="3657600" cy="2365560"/>
            <a:chOff x="5410080" y="4111560"/>
            <a:chExt cx="3657600" cy="2365560"/>
          </a:xfrm>
        </p:grpSpPr>
        <p:grpSp>
          <p:nvGrpSpPr>
            <p:cNvPr id="61" name=""/>
            <p:cNvGrpSpPr/>
            <p:nvPr/>
          </p:nvGrpSpPr>
          <p:grpSpPr>
            <a:xfrm>
              <a:off x="5638680" y="4111560"/>
              <a:ext cx="2971800" cy="2289240"/>
              <a:chOff x="5638680" y="4111560"/>
              <a:chExt cx="2971800" cy="2289240"/>
            </a:xfrm>
          </p:grpSpPr>
          <mc:AlternateContent>
            <mc:Choice xmlns:a14="http://schemas.microsoft.com/office/drawing/2010/main" Requires="a14">
              <p:sp>
                <p:nvSpPr>
                  <p:cNvPr id="62" name=""/>
                  <p:cNvSpPr txBox="1"/>
                  <p:nvPr/>
                </p:nvSpPr>
                <p:spPr>
                  <a:xfrm>
                    <a:off x="5638680" y="4111560"/>
                    <a:ext cx="2362320" cy="228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e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te</m:t>
                            </m:r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" name=""/>
              <p:cNvSpPr/>
              <p:nvPr/>
            </p:nvSpPr>
            <p:spPr>
              <a:xfrm>
                <a:off x="7315200" y="5791320"/>
                <a:ext cx="129528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5410080" y="4114800"/>
              <a:ext cx="365760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92120" y="76320"/>
                <a:ext cx="324180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⇔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76320" y="2057400"/>
            <a:ext cx="72388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limi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Lower limit=1.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1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392 = 1.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Upper limit=1.5+d=1.5+0.392= 1.8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95% of the measurements fall within the specifications (1.108, 1.892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02588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3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152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Under The Standard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~Normal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895320"/>
            <a:ext cx="3276360" cy="24242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76320" y="152280"/>
            <a:ext cx="5257800" cy="4345920"/>
            <a:chOff x="76320" y="152280"/>
            <a:chExt cx="5257800" cy="4345920"/>
          </a:xfrm>
        </p:grpSpPr>
        <p:sp>
          <p:nvSpPr>
            <p:cNvPr id="72" name=""/>
            <p:cNvSpPr/>
            <p:nvPr/>
          </p:nvSpPr>
          <p:spPr>
            <a:xfrm>
              <a:off x="76320" y="152280"/>
              <a:ext cx="525780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6.6 Exponential Distribu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ntinuous random variable X has an exponential distribution with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f its probability density function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1752480" y="2590920"/>
                  <a:ext cx="3276720" cy="14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x</m:t>
                                      </m:r>
                                    </m:num>
                                    <m:den>
                                      <m:r>
                                        <m:t xml:space="preserve">β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76320" y="40384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we write X~Ex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6320" y="4422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andom variable X has an exponential distribution with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i.e., X~Ex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then the mean and the variance of X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15228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6.1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a system contains a certain type of component whose time in years to failure is given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modeled nicely by the exponential distribution with mean time to fail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. If 5 of these components are installed in different systems, what is the probability that at least 2 are still functioning at the end of 8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2895480"/>
            <a:ext cx="8915400" cy="3737160"/>
            <a:chOff x="76320" y="2895480"/>
            <a:chExt cx="8915400" cy="3737160"/>
          </a:xfrm>
        </p:grpSpPr>
        <p:sp>
          <p:nvSpPr>
            <p:cNvPr id="78" name=""/>
            <p:cNvSpPr/>
            <p:nvPr/>
          </p:nvSpPr>
          <p:spPr>
            <a:xfrm>
              <a:off x="76320" y="2895480"/>
              <a:ext cx="8229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Exp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1371600" y="4343400"/>
                  <a:ext cx="2895480" cy="13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76320" y="580716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that a given component is still functioning after 8 years is given by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76320" y="291960"/>
            <a:ext cx="8762760" cy="4121280"/>
            <a:chOff x="76320" y="291960"/>
            <a:chExt cx="8762760" cy="412128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143000" y="291960"/>
                  <a:ext cx="6019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76320" y="1371600"/>
              <a:ext cx="8762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define the random vari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 number of components functioning after 8 years out of 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 Binomial(5, 0.2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8)= 0.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380880" y="3014640"/>
                  <a:ext cx="7696440" cy="13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5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5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…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" name=""/>
          <p:cNvGrpSpPr/>
          <p:nvPr/>
        </p:nvGrpSpPr>
        <p:grpSpPr>
          <a:xfrm>
            <a:off x="76320" y="4435560"/>
            <a:ext cx="8915400" cy="2270160"/>
            <a:chOff x="76320" y="4435560"/>
            <a:chExt cx="8915400" cy="2270160"/>
          </a:xfrm>
        </p:grpSpPr>
        <p:sp>
          <p:nvSpPr>
            <p:cNvPr id="86" name=""/>
            <p:cNvSpPr/>
            <p:nvPr/>
          </p:nvSpPr>
          <p:spPr>
            <a:xfrm>
              <a:off x="76320" y="4435560"/>
              <a:ext cx="8915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that at least 2 are still functioning at the end of 8 years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(X&lt;2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[P(X=0)+P(X=1)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838080" y="5694480"/>
                  <a:ext cx="51055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[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sup>
                      </m:sSup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2:02:23Z</dcterms:created>
  <dc:creator> </dc:creator>
  <dc:description/>
  <dc:language>en-US</dc:language>
  <cp:lastModifiedBy> </cp:lastModifiedBy>
  <dcterms:modified xsi:type="dcterms:W3CDTF">2004-07-16T12:32:56Z</dcterms:modified>
  <cp:revision>2</cp:revision>
  <dc:subject/>
  <dc:title>عرض تقديمي من PowerPoint</dc:title>
</cp:coreProperties>
</file>