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EDE2-529E-4E9F-A040-A9C4F69A5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7223-0FC6-460A-9F56-80CFF7A89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874C-73EA-4C7B-8757-C7BC9CBE7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8040-0771-4A85-867D-2FB4D4F69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96B8-0359-4616-830C-F53637803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1265-4F09-4C4B-9445-5C1AFC32D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0092-5188-4CC6-9863-BC53FFA1E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22CB-4198-4EC0-B983-ADE201EAF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2612-9D15-4F7A-B32B-04235F927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4BCB-0069-4766-A2B6-425F169E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E362-56DF-44B6-A1A6-1B799FA4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C60B-C8EA-4028-B01E-8A8D0E76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B6C35-36AE-49F4-883B-B9BACD9429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89154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6.4 Application of the Normal Distribu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6.7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6.8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1981080"/>
            <a:ext cx="8991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6.9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an industrial process, the diameter of a ball bearing is an important component part. The buyer sets specifications on the diameter to be 3.00±0.01 cm.  The implication is that no part falling outside these specifications will be accepted. It is known that, in the process, the diameter of a ball bearing has a normal distribution with mean 3.00 cm and standard deviation 0.005 cm. On the average, how many manufactured ball bearings will be scrapp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838080" y="380880"/>
                <a:ext cx="3962520" cy="156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[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8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×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8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]</m:t>
                        </m:r>
                      </m:e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73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62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123120" y="152280"/>
            <a:ext cx="7107120" cy="5715000"/>
            <a:chOff x="123120" y="152280"/>
            <a:chExt cx="7107120" cy="5715000"/>
          </a:xfrm>
        </p:grpSpPr>
        <p:sp>
          <p:nvSpPr>
            <p:cNvPr id="44" name=""/>
            <p:cNvSpPr/>
            <p:nvPr/>
          </p:nvSpPr>
          <p:spPr>
            <a:xfrm>
              <a:off x="123120" y="152280"/>
              <a:ext cx="7107120" cy="39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3.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0.00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=diame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~N(3.00, 0.005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specification limits ar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.00±0.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Lower limit=3.00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1=2.9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Upper limit=3.00+0.01=3.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&lt;X&lt;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=P(2.99&lt;X&lt;3.01)=P(X&lt;3.01)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X&lt;2.99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1752480" y="4022640"/>
              <a:ext cx="5181840" cy="1844640"/>
              <a:chOff x="1752480" y="4022640"/>
              <a:chExt cx="5181840" cy="1844640"/>
            </a:xfrm>
          </p:grpSpPr>
          <mc:AlternateContent>
            <mc:Choice xmlns:a14="http://schemas.microsoft.com/office/drawing/2010/main" Requires="a14">
              <p:sp>
                <p:nvSpPr>
                  <p:cNvPr id="46" name=""/>
                  <p:cNvSpPr txBox="1"/>
                  <p:nvPr/>
                </p:nvSpPr>
                <p:spPr>
                  <a:xfrm>
                    <a:off x="1752480" y="4022640"/>
                    <a:ext cx="4478400" cy="854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num>
                              <m:den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9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num>
                              <m:den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7" name=""/>
                  <p:cNvSpPr txBox="1"/>
                  <p:nvPr/>
                </p:nvSpPr>
                <p:spPr>
                  <a:xfrm>
                    <a:off x="1752480" y="5013360"/>
                    <a:ext cx="5181840" cy="853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5</m:t>
                                </m:r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9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5</m:t>
                                </m:r>
                              </m:den>
                            </m:f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</p:grp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724280" y="507960"/>
            <a:ext cx="388620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6320" y="152280"/>
            <a:ext cx="9067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P(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00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(Z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 0.977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0.02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0.95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fore, on the average, 95.44% of manufactured ball bearings will be accepted and 4.56% will be scrapped?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2133720"/>
            <a:ext cx="9067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6.1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auges are use to reject all components where a certain dimension is not within the specifications 1.50±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It is known that this measurement is normally distributed with mean 1.50 and standard deviation 0.20. Determine the valu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uch that the specifications cover 95% of the measur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320" y="4559400"/>
            <a:ext cx="4419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1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0.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=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~N(1.5, 0.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76320" y="152280"/>
            <a:ext cx="6248160" cy="6324840"/>
            <a:chOff x="76320" y="152280"/>
            <a:chExt cx="6248160" cy="6324840"/>
          </a:xfrm>
        </p:grpSpPr>
        <p:sp>
          <p:nvSpPr>
            <p:cNvPr id="53" name=""/>
            <p:cNvSpPr/>
            <p:nvPr/>
          </p:nvSpPr>
          <p:spPr>
            <a:xfrm>
              <a:off x="76320" y="152280"/>
              <a:ext cx="6248160" cy="315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specification limits ar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5±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Lower limit=1.5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Upper limit=1.5+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X&gt; 1.5+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= 0.025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(X&lt; 1.5+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= 0.97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X&lt; 1.5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= 0.0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X&lt; 1.5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= 0.0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304920" y="2743200"/>
              <a:ext cx="4922280" cy="3733920"/>
              <a:chOff x="304920" y="2743200"/>
              <a:chExt cx="4922280" cy="3733920"/>
            </a:xfrm>
          </p:grpSpPr>
          <mc:AlternateContent>
            <mc:Choice xmlns:a14="http://schemas.microsoft.com/office/drawing/2010/main" Requires="a14">
              <p:sp>
                <p:nvSpPr>
                  <p:cNvPr id="55" name=""/>
                  <p:cNvSpPr txBox="1"/>
                  <p:nvPr/>
                </p:nvSpPr>
                <p:spPr>
                  <a:xfrm>
                    <a:off x="328320" y="2743200"/>
                    <a:ext cx="4898880" cy="955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⇔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num>
                              <m:den>
                                <m:r>
                                  <m:t xml:space="preserve">σ</m:t>
                                </m:r>
                              </m:den>
                            </m:f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num>
                              <m:den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5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6" name=""/>
                  <p:cNvSpPr txBox="1"/>
                  <p:nvPr/>
                </p:nvSpPr>
                <p:spPr>
                  <a:xfrm>
                    <a:off x="328320" y="3657600"/>
                    <a:ext cx="4309920" cy="955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⇔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num>
                              <m:den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5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7" name=""/>
                  <p:cNvSpPr txBox="1"/>
                  <p:nvPr/>
                </p:nvSpPr>
                <p:spPr>
                  <a:xfrm>
                    <a:off x="315720" y="4572000"/>
                    <a:ext cx="4508280" cy="955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⇔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5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8" name=""/>
                  <p:cNvSpPr txBox="1"/>
                  <p:nvPr/>
                </p:nvSpPr>
                <p:spPr>
                  <a:xfrm>
                    <a:off x="304920" y="5516640"/>
                    <a:ext cx="3322440" cy="960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⇔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5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graphicFrame>
        <p:nvGraphicFramePr>
          <p:cNvPr id="59" name=""/>
          <p:cNvGraphicFramePr/>
          <p:nvPr/>
        </p:nvGraphicFramePr>
        <p:xfrm>
          <a:off x="5410080" y="2185920"/>
          <a:ext cx="3657600" cy="192852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</a:tblGrid>
              <a:tr h="51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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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0" name=""/>
          <p:cNvGrpSpPr/>
          <p:nvPr/>
        </p:nvGrpSpPr>
        <p:grpSpPr>
          <a:xfrm>
            <a:off x="5410080" y="4111560"/>
            <a:ext cx="3657600" cy="2365560"/>
            <a:chOff x="5410080" y="4111560"/>
            <a:chExt cx="3657600" cy="2365560"/>
          </a:xfrm>
        </p:grpSpPr>
        <p:grpSp>
          <p:nvGrpSpPr>
            <p:cNvPr id="61" name=""/>
            <p:cNvGrpSpPr/>
            <p:nvPr/>
          </p:nvGrpSpPr>
          <p:grpSpPr>
            <a:xfrm>
              <a:off x="5638680" y="4111560"/>
              <a:ext cx="2971800" cy="2289240"/>
              <a:chOff x="5638680" y="4111560"/>
              <a:chExt cx="2971800" cy="2289240"/>
            </a:xfrm>
          </p:grpSpPr>
          <mc:AlternateContent>
            <mc:Choice xmlns:a14="http://schemas.microsoft.com/office/drawing/2010/main" Requires="a14">
              <p:sp>
                <p:nvSpPr>
                  <p:cNvPr id="62" name=""/>
                  <p:cNvSpPr txBox="1"/>
                  <p:nvPr/>
                </p:nvSpPr>
                <p:spPr>
                  <a:xfrm>
                    <a:off x="5638680" y="4111560"/>
                    <a:ext cx="2362320" cy="2289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5</m:t>
                            </m:r>
                          </m:e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te</m:t>
                            </m:r>
                            <m:r>
                              <m:t xml:space="preserve">:</m:t>
                            </m:r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den>
                            </m:f>
                            <m:r>
                              <m:t xml:space="preserve">=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3" name=""/>
              <p:cNvSpPr/>
              <p:nvPr/>
            </p:nvSpPr>
            <p:spPr>
              <a:xfrm>
                <a:off x="7315200" y="5791320"/>
                <a:ext cx="1295280" cy="52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Times New Roman"/>
                  </a:rPr>
                  <a:t>0.02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5410080" y="4114800"/>
              <a:ext cx="3657600" cy="2362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492120" y="76320"/>
                <a:ext cx="3241800" cy="19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⇔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</m:e>
                      <m:e>
                        <m:r>
                          <m:t xml:space="preserve">⇔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⇔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9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76320" y="2057400"/>
            <a:ext cx="7238880" cy="20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pecification limits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Lower limit=1.5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 = 1.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0.392 = 1.1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Upper limit=1.5+d=1.5+0.392= 1.89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fore, 95% of the measurements fall within the specifications (1.108, 1.892)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402588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6.11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6.12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6.13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6.14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52280" y="152280"/>
            <a:ext cx="73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T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eas Under The Standard Normal Cu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~Normal(0,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629400" y="228600"/>
            <a:ext cx="228600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562720" y="895320"/>
            <a:ext cx="3276360" cy="2424240"/>
          </a:xfrm>
          <a:prstGeom prst="rect">
            <a:avLst/>
          </a:prstGeom>
          <a:ln w="0">
            <a:noFill/>
          </a:ln>
        </p:spPr>
      </p:pic>
      <p:grpSp>
        <p:nvGrpSpPr>
          <p:cNvPr id="71" name=""/>
          <p:cNvGrpSpPr/>
          <p:nvPr/>
        </p:nvGrpSpPr>
        <p:grpSpPr>
          <a:xfrm>
            <a:off x="76320" y="152280"/>
            <a:ext cx="5257800" cy="4345920"/>
            <a:chOff x="76320" y="152280"/>
            <a:chExt cx="5257800" cy="4345920"/>
          </a:xfrm>
        </p:grpSpPr>
        <p:sp>
          <p:nvSpPr>
            <p:cNvPr id="72" name=""/>
            <p:cNvSpPr/>
            <p:nvPr/>
          </p:nvSpPr>
          <p:spPr>
            <a:xfrm>
              <a:off x="76320" y="152280"/>
              <a:ext cx="5257800" cy="25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6.6 Exponential Distribution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Defini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continuous random variable X has an exponential distribution with paramete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if its probability density function is given b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" name=""/>
                <p:cNvSpPr txBox="1"/>
                <p:nvPr/>
              </p:nvSpPr>
              <p:spPr>
                <a:xfrm>
                  <a:off x="1752480" y="2590920"/>
                  <a:ext cx="3276720" cy="141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β</m:t>
                                  </m:r>
                                </m:den>
                              </m:f>
                              <m:r>
                                <m:t xml:space="preserve"> 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−</m:t>
                                      </m:r>
                                      <m:r>
                                        <m:t xml:space="preserve">x</m:t>
                                      </m:r>
                                    </m:num>
                                    <m:den>
                                      <m:r>
                                        <m:t xml:space="preserve">β</m:t>
                                      </m:r>
                                    </m:den>
                                  </m:f>
                                </m:sup>
                              </m:sSup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74" name=""/>
            <p:cNvSpPr/>
            <p:nvPr/>
          </p:nvSpPr>
          <p:spPr>
            <a:xfrm>
              <a:off x="76320" y="4038480"/>
              <a:ext cx="403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 we write X~Exp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76320" y="4422600"/>
            <a:ext cx="8915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heor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the random variable X has an exponential distribution with paramet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i.e., X~Exp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, then the mean and the variance of X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(X)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r(X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76320" y="152280"/>
            <a:ext cx="883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6.17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that a system contains a certain type of component whose time in years to failure is given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The random variabl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modeled nicely by the exponential distribution with mean time to failu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5. If 5 of these components are installed in different systems, what is the probability that at least 2 are still functioning at the end of 8 yea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76320" y="2895480"/>
            <a:ext cx="8915400" cy="3737160"/>
            <a:chOff x="76320" y="2895480"/>
            <a:chExt cx="8915400" cy="3737160"/>
          </a:xfrm>
        </p:grpSpPr>
        <p:sp>
          <p:nvSpPr>
            <p:cNvPr id="78" name=""/>
            <p:cNvSpPr/>
            <p:nvPr/>
          </p:nvSpPr>
          <p:spPr>
            <a:xfrm>
              <a:off x="76320" y="2895480"/>
              <a:ext cx="82296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~Exp(5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pdf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9" name=""/>
                <p:cNvSpPr txBox="1"/>
                <p:nvPr/>
              </p:nvSpPr>
              <p:spPr>
                <a:xfrm>
                  <a:off x="1371600" y="4343400"/>
                  <a:ext cx="2895480" cy="135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5</m:t>
                                  </m:r>
                                </m:den>
                              </m:f>
                              <m:r>
                                <m:t xml:space="preserve"> 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−</m:t>
                                      </m:r>
                                      <m:r>
                                        <m:t xml:space="preserve">t</m:t>
                                      </m:r>
                                    </m:num>
                                    <m:den>
                                      <m:r>
                                        <m:t xml:space="preserve">5</m:t>
                                      </m:r>
                                    </m:den>
                                  </m:f>
                                </m:sup>
                              </m:sSup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t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80" name=""/>
            <p:cNvSpPr/>
            <p:nvPr/>
          </p:nvSpPr>
          <p:spPr>
            <a:xfrm>
              <a:off x="76320" y="5807160"/>
              <a:ext cx="8915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probability that a given component is still functioning after 8 years is given by: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76320" y="291960"/>
            <a:ext cx="8762760" cy="4121280"/>
            <a:chOff x="76320" y="291960"/>
            <a:chExt cx="8762760" cy="4121280"/>
          </a:xfrm>
        </p:grpSpPr>
        <mc:AlternateContent>
          <mc:Choice xmlns:a14="http://schemas.microsoft.com/office/drawing/2010/main" Requires="a14">
            <p:sp>
              <p:nvSpPr>
                <p:cNvPr id="82" name=""/>
                <p:cNvSpPr txBox="1"/>
                <p:nvPr/>
              </p:nvSpPr>
              <p:spPr>
                <a:xfrm>
                  <a:off x="1143000" y="291960"/>
                  <a:ext cx="6019920" cy="103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&gt;</m:t>
                      </m:r>
                      <m:r>
                        <m:t xml:space="preserve">8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8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8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5</m:t>
                              </m:r>
                            </m:den>
                          </m:f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−</m:t>
                                  </m:r>
                                  <m:r>
                                    <m:t xml:space="preserve">t</m:t>
                                  </m:r>
                                </m:num>
                                <m:den>
                                  <m:r>
                                    <m:t xml:space="preserve">5</m:t>
                                  </m:r>
                                </m:den>
                              </m:f>
                            </m:sup>
                          </m:sSup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=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</m:num>
                            <m:den>
                              <m:r>
                                <m:t xml:space="preserve">5</m:t>
                              </m:r>
                            </m:den>
                          </m:f>
                        </m:sup>
                      </m:sSup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3" name=""/>
            <p:cNvSpPr/>
            <p:nvPr/>
          </p:nvSpPr>
          <p:spPr>
            <a:xfrm>
              <a:off x="76320" y="1371600"/>
              <a:ext cx="87627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w define the random variab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= number of components functioning after 8 years out of 5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on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~ Binomial(5, 0.2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5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&gt;8)= 0.2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" name=""/>
                <p:cNvSpPr txBox="1"/>
                <p:nvPr/>
              </p:nvSpPr>
              <p:spPr>
                <a:xfrm>
                  <a:off x="380880" y="3014640"/>
                  <a:ext cx="7696440" cy="139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b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;</m:t>
                      </m:r>
                      <m:r>
                        <m:t xml:space="preserve">5,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m>
                                    <m:mr>
                                      <m:e>
                                        <m:r>
                                          <m:t xml:space="preserve">5</m:t>
                                        </m:r>
                                      </m:e>
                                    </m:mr>
                                    <m:m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mr>
                                  </m:m>
                                </m:e>
                              </m:d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r>
                                    <m:t xml:space="preserve">x</m:t>
                                  </m:r>
                                </m:sup>
                              </m:sSup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sSup>
                                <m:e>
                                  <m:r>
                                    <m:t xml:space="preserve">8</m:t>
                                  </m:r>
                                </m:e>
                                <m:sup>
                                  <m:r>
                                    <m:t xml:space="preserve">5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x</m:t>
                                  </m:r>
                                </m:sup>
                              </m:sSup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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…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5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5" name=""/>
          <p:cNvGrpSpPr/>
          <p:nvPr/>
        </p:nvGrpSpPr>
        <p:grpSpPr>
          <a:xfrm>
            <a:off x="76320" y="4435560"/>
            <a:ext cx="8915400" cy="2270160"/>
            <a:chOff x="76320" y="4435560"/>
            <a:chExt cx="8915400" cy="2270160"/>
          </a:xfrm>
        </p:grpSpPr>
        <p:sp>
          <p:nvSpPr>
            <p:cNvPr id="86" name=""/>
            <p:cNvSpPr/>
            <p:nvPr/>
          </p:nvSpPr>
          <p:spPr>
            <a:xfrm>
              <a:off x="76320" y="4435560"/>
              <a:ext cx="89154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probability that at least 2 are still functioning at the end of 8 years 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(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)=1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P(X&lt;2)=1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[P(X=0)+P(X=1)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7" name=""/>
                <p:cNvSpPr txBox="1"/>
                <p:nvPr/>
              </p:nvSpPr>
              <p:spPr>
                <a:xfrm>
                  <a:off x="838080" y="5694480"/>
                  <a:ext cx="5105520" cy="101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[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5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 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  <m:r>
                        <m:t xml:space="preserve"> 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sSup>
                        <m:e>
                          <m:r>
                            <m:t xml:space="preserve">8</m:t>
                          </m:r>
                        </m:e>
                        <m:sup>
                          <m:r>
                            <m:t xml:space="preserve">5</m:t>
                          </m:r>
                          <m:r>
                            <m:t xml:space="preserve">−</m:t>
                          </m:r>
                          <m:r>
                            <m:t xml:space="preserve">0</m:t>
                          </m:r>
                        </m:sup>
                      </m:sSup>
                      <m:r>
                        <m:t xml:space="preserve">+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5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1</m:t>
                          </m:r>
                        </m:sup>
                      </m:sSup>
                      <m:r>
                        <m:t xml:space="preserve"> 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sSup>
                        <m:e>
                          <m:r>
                            <m:t xml:space="preserve">8</m:t>
                          </m:r>
                        </m:e>
                        <m:sup>
                          <m:r>
                            <m:t xml:space="preserve">5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6T12:02:23Z</dcterms:created>
  <dc:creator> </dc:creator>
  <dc:description/>
  <dc:language>en-US</dc:language>
  <cp:lastModifiedBy> </cp:lastModifiedBy>
  <dcterms:modified xsi:type="dcterms:W3CDTF">2004-07-16T12:32:56Z</dcterms:modified>
  <cp:revision>2</cp:revision>
  <dc:subject/>
  <dc:title>عرض تقديمي من PowerPoint</dc:title>
</cp:coreProperties>
</file>