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0A2-442E-48CE-931C-70D2010F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147-A5EE-4341-8F07-3177CE3C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5E1-4001-408F-BC22-A29BB9FC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D59-3FDD-4D3B-A6C5-2B4EE75C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9F7-A3CA-498C-9A8C-61D84F94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404-57D9-4414-A5A3-D2221F09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5F4-25D7-42A0-A740-0BB5A59E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E37-ACB6-4D38-8981-22626809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7BE-A9C9-4219-BEBF-1843E3A9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626-A81D-42E3-92AA-C6184359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E4F-EAC0-450F-8EB3-9860B26B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608-545D-4494-BDCE-0A8FCDE0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DFD-AEBC-4B6C-8E23-52BEB8882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8: Fundamental Sampling Distributions and Data Descri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1 Random Sampling: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523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pulation consists of the totality of the observations with which we are concerned. (Population=Probability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26067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ample is a subset of a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352680"/>
            <a:ext cx="876312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Each observation in a population is a value of a random variable X having some probability distribution f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o eliminate bias in the sampling procedure, we select a random sample in the sense that the observations are made independently an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    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servations selected independently and randomly from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828800" y="609480"/>
          <a:ext cx="495288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4952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52280"/>
            <a:ext cx="8839080" cy="5384880"/>
            <a:chOff x="76320" y="152280"/>
            <a:chExt cx="8839080" cy="5384880"/>
          </a:xfrm>
        </p:grpSpPr>
        <p:sp>
          <p:nvSpPr>
            <p:cNvPr id="125" name=""/>
            <p:cNvSpPr/>
            <p:nvPr/>
          </p:nvSpPr>
          <p:spPr>
            <a:xfrm>
              <a:off x="76320" y="152280"/>
              <a:ext cx="88390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large, then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is approximately normal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467480" y="560520"/>
                  <a:ext cx="10670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638360" y="1295280"/>
                  <a:ext cx="438156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18288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523880" y="2058840"/>
                  <a:ext cx="4876920" cy="98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"/>
            <p:cNvSpPr/>
            <p:nvPr/>
          </p:nvSpPr>
          <p:spPr>
            <a:xfrm>
              <a:off x="76320" y="2819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at is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447920" y="3048120"/>
              <a:ext cx="4343400" cy="1036440"/>
              <a:chOff x="1447920" y="3048120"/>
              <a:chExt cx="4343400" cy="103644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447920" y="3276360"/>
                    <a:ext cx="1828800" cy="480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3141720" y="3234960"/>
                    <a:ext cx="118440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267440" y="3048120"/>
                    <a:ext cx="1523880" cy="103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371600" y="4038480"/>
                  <a:ext cx="457200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152280" y="5334120"/>
            <a:ext cx="8382240" cy="1344600"/>
            <a:chOff x="152280" y="5334120"/>
            <a:chExt cx="8382240" cy="1344600"/>
          </a:xfrm>
        </p:grpSpPr>
        <p:sp>
          <p:nvSpPr>
            <p:cNvPr id="137" name=""/>
            <p:cNvSpPr/>
            <p:nvPr/>
          </p:nvSpPr>
          <p:spPr>
            <a:xfrm>
              <a:off x="152280" y="5334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09480" y="5638680"/>
                  <a:ext cx="792504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858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levision picture tubes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.5 years and standard deviation of 0.9 year, while those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 years and standard deviation of 0.8 year. What is the probability that a random sample of 36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ll have a mean lifetime that is at least 1 year more than the mean lifetime of a random sample of 49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3733920"/>
            <a:ext cx="87627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52280" y="139680"/>
            <a:ext cx="8839440" cy="5857920"/>
            <a:chOff x="152280" y="139680"/>
            <a:chExt cx="8839440" cy="5857920"/>
          </a:xfrm>
        </p:grpSpPr>
        <p:grpSp>
          <p:nvGrpSpPr>
            <p:cNvPr id="143" name=""/>
            <p:cNvGrpSpPr/>
            <p:nvPr/>
          </p:nvGrpSpPr>
          <p:grpSpPr>
            <a:xfrm>
              <a:off x="152280" y="139680"/>
              <a:ext cx="8839440" cy="1585800"/>
              <a:chOff x="152280" y="139680"/>
              <a:chExt cx="8839440" cy="1585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52280" y="139680"/>
                <a:ext cx="8839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We need to find the probability that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t least 1 year more than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which is P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The sampling distribution 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3962520" y="973080"/>
                    <a:ext cx="1371600" cy="39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4495680" y="1295280"/>
                    <a:ext cx="1067040" cy="430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7" name=""/>
            <p:cNvGrpSpPr/>
            <p:nvPr/>
          </p:nvGrpSpPr>
          <p:grpSpPr>
            <a:xfrm>
              <a:off x="685800" y="1752480"/>
              <a:ext cx="4343400" cy="1036800"/>
              <a:chOff x="685800" y="1752480"/>
              <a:chExt cx="4343400" cy="1036800"/>
            </a:xfrm>
          </p:grpSpPr>
          <mc:AlternateContent>
            <mc:Choice xmlns:a14="http://schemas.microsoft.com/office/drawing/2010/main" Requires="a14">
              <p:sp>
                <p:nvSpPr>
                  <p:cNvPr id="148" name=""/>
                  <p:cNvSpPr txBox="1"/>
                  <p:nvPr/>
                </p:nvSpPr>
                <p:spPr>
                  <a:xfrm>
                    <a:off x="685800" y="1981080"/>
                    <a:ext cx="1828800" cy="48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9" name=""/>
                  <p:cNvSpPr txBox="1"/>
                  <p:nvPr/>
                </p:nvSpPr>
                <p:spPr>
                  <a:xfrm>
                    <a:off x="2379600" y="1939680"/>
                    <a:ext cx="118440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0" name=""/>
                  <p:cNvSpPr txBox="1"/>
                  <p:nvPr/>
                </p:nvSpPr>
                <p:spPr>
                  <a:xfrm>
                    <a:off x="3505320" y="1752480"/>
                    <a:ext cx="1523880" cy="1036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85800" y="2819520"/>
                  <a:ext cx="64008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85800" y="3379680"/>
                  <a:ext cx="830592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55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762120" y="4368960"/>
                  <a:ext cx="556236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3556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838080" y="5486400"/>
                  <a:ext cx="32767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33520" y="304920"/>
            <a:ext cx="8153280" cy="6250680"/>
            <a:chOff x="533520" y="304920"/>
            <a:chExt cx="8153280" cy="6250680"/>
          </a:xfrm>
        </p:grpSpPr>
        <p:sp>
          <p:nvSpPr>
            <p:cNvPr id="156" name=""/>
            <p:cNvSpPr/>
            <p:nvPr/>
          </p:nvSpPr>
          <p:spPr>
            <a:xfrm>
              <a:off x="533520" y="304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a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600200" y="609480"/>
                  <a:ext cx="4572000" cy="15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792440" y="2133720"/>
                  <a:ext cx="468468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≥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747800" y="2743200"/>
                  <a:ext cx="5567400" cy="21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(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1752480" y="5022720"/>
                  <a:ext cx="2349720" cy="97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9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1752480" y="609588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P(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5) 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(Z&lt;2.65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9960  = 0.00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28600" y="369720"/>
            <a:ext cx="8763120" cy="5116680"/>
            <a:chOff x="228600" y="369720"/>
            <a:chExt cx="8763120" cy="5116680"/>
          </a:xfrm>
        </p:grpSpPr>
        <p:sp>
          <p:nvSpPr>
            <p:cNvPr id="163" name=""/>
            <p:cNvSpPr/>
            <p:nvPr/>
          </p:nvSpPr>
          <p:spPr>
            <a:xfrm>
              <a:off x="228600" y="369720"/>
              <a:ext cx="876312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7 t-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Recall that,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2043000" y="1741320"/>
                  <a:ext cx="2909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228600" y="2763720"/>
              <a:ext cx="876312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apply this result only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know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replace the populatio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variance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have the following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590920" y="3417840"/>
                  <a:ext cx="2286000" cy="11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4560840"/>
                  <a:ext cx="152424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228600"/>
            <a:ext cx="8839080" cy="3035160"/>
            <a:chOff x="76320" y="228600"/>
            <a:chExt cx="8839080" cy="3035160"/>
          </a:xfrm>
        </p:grpSpPr>
        <p:sp>
          <p:nvSpPr>
            <p:cNvPr id="169" name=""/>
            <p:cNvSpPr/>
            <p:nvPr/>
          </p:nvSpPr>
          <p:spPr>
            <a:xfrm>
              <a:off x="76320" y="228600"/>
              <a:ext cx="883908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676520" y="1523880"/>
                  <a:ext cx="152388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320" y="2438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 a t-distribution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degrees of freedom (df), and we write T~ t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27080" y="3352680"/>
            <a:ext cx="57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-distribution is a continuous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-distribution is similar to the shape of the standard normal distrib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304812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152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181480" cy="2776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6236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he t-value above which we find an area equal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that is   P(T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Since the curve of the pdf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~ t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symmetric about 0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Value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 are tabulated in Table A-4 (p.68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2286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t-valu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4 (df) that leaves an area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0.95 to the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0.95 to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828800"/>
            <a:ext cx="807696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4   (df);  T~ t(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t-value that leaves an area of 0.95 to the lef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95280" y="3505320"/>
          <a:ext cx="61722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05320"/>
                    <a:ext cx="6172200" cy="279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320" y="609480"/>
            <a:ext cx="8839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t-value that leaves an area of 0.95 to the righ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371600" y="1957320"/>
          <a:ext cx="563868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57320"/>
                    <a:ext cx="563868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396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2 Some Important Stat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function of the random sampl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a stat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320" y="1752480"/>
            <a:ext cx="8915400" cy="2613240"/>
            <a:chOff x="76320" y="1752480"/>
            <a:chExt cx="8915400" cy="2613240"/>
          </a:xfrm>
        </p:grpSpPr>
        <p:sp>
          <p:nvSpPr>
            <p:cNvPr id="47" name=""/>
            <p:cNvSpPr/>
            <p:nvPr/>
          </p:nvSpPr>
          <p:spPr>
            <a:xfrm>
              <a:off x="76320" y="17524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Central Tendenc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mean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81120" y="3124080"/>
                  <a:ext cx="4210200" cy="12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6553080" y="3657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8600" y="4194000"/>
            <a:ext cx="8763120" cy="2724840"/>
            <a:chOff x="228600" y="4194000"/>
            <a:chExt cx="8763120" cy="2724840"/>
          </a:xfrm>
        </p:grpSpPr>
        <p:sp>
          <p:nvSpPr>
            <p:cNvPr id="51" name=""/>
            <p:cNvSpPr/>
            <p:nvPr/>
          </p:nvSpPr>
          <p:spPr>
            <a:xfrm>
              <a:off x="228600" y="4194000"/>
              <a:ext cx="876312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is a statistic because it is a function of the random sample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has same unit o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measures the central tendency in the sample (location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57200" y="45720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380880" y="5410080"/>
                  <a:ext cx="349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380880" y="59436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13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3029040"/>
          <a:ext cx="579600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029040"/>
                    <a:ext cx="579600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2280" y="168120"/>
            <a:ext cx="79250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 degrees of freedom (df), fi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006560"/>
            <a:ext cx="65534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3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.093    (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0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76320" y="152280"/>
            <a:ext cx="8915400" cy="2590920"/>
            <a:chOff x="76320" y="152280"/>
            <a:chExt cx="8915400" cy="2590920"/>
          </a:xfrm>
        </p:grpSpPr>
        <p:sp>
          <p:nvSpPr>
            <p:cNvPr id="56" name=""/>
            <p:cNvSpPr/>
            <p:nvPr/>
          </p:nvSpPr>
          <p:spPr>
            <a:xfrm>
              <a:off x="76320" y="1522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Variabilit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variance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2120" y="1752480"/>
                  <a:ext cx="655308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7543800" y="2133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2714760"/>
            <a:ext cx="7010280" cy="1523880"/>
            <a:chOff x="76320" y="2714760"/>
            <a:chExt cx="7010280" cy="1523880"/>
          </a:xfrm>
        </p:grpSpPr>
        <p:sp>
          <p:nvSpPr>
            <p:cNvPr id="60" name=""/>
            <p:cNvSpPr/>
            <p:nvPr/>
          </p:nvSpPr>
          <p:spPr>
            <a:xfrm>
              <a:off x="76320" y="271476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(Computational Formulas for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471680" y="3117960"/>
                  <a:ext cx="4471920" cy="112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228600" y="4010040"/>
            <a:ext cx="8915400" cy="2771640"/>
            <a:chOff x="228600" y="4010040"/>
            <a:chExt cx="8915400" cy="2771640"/>
          </a:xfrm>
        </p:grpSpPr>
        <p:grpSp>
          <p:nvGrpSpPr>
            <p:cNvPr id="63" name=""/>
            <p:cNvGrpSpPr/>
            <p:nvPr/>
          </p:nvGrpSpPr>
          <p:grpSpPr>
            <a:xfrm>
              <a:off x="228600" y="4010040"/>
              <a:ext cx="8915400" cy="2771640"/>
              <a:chOff x="228600" y="4010040"/>
              <a:chExt cx="8915400" cy="2771640"/>
            </a:xfrm>
          </p:grpSpPr>
          <p:sp>
            <p:nvSpPr>
              <p:cNvPr id="64" name=""/>
              <p:cNvSpPr/>
              <p:nvPr/>
            </p:nvSpPr>
            <p:spPr>
              <a:xfrm>
                <a:off x="228600" y="4010040"/>
                <a:ext cx="8915400" cy="16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  </a:t>
                </a: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No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statistic because it is a function of the random sample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…, X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measures the variability in the sampl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" name=""/>
                  <p:cNvSpPr txBox="1"/>
                  <p:nvPr/>
                </p:nvSpPr>
                <p:spPr>
                  <a:xfrm>
                    <a:off x="1562040" y="5580000"/>
                    <a:ext cx="3162240" cy="12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6" name=""/>
            <p:cNvSpPr/>
            <p:nvPr/>
          </p:nvSpPr>
          <p:spPr>
            <a:xfrm>
              <a:off x="6248520" y="6095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08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8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9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1371600"/>
            <a:ext cx="8763120" cy="2872440"/>
            <a:chOff x="152280" y="1371600"/>
            <a:chExt cx="8763120" cy="2872440"/>
          </a:xfrm>
        </p:grpSpPr>
        <p:sp>
          <p:nvSpPr>
            <p:cNvPr id="69" name=""/>
            <p:cNvSpPr/>
            <p:nvPr/>
          </p:nvSpPr>
          <p:spPr>
            <a:xfrm>
              <a:off x="152280" y="1371600"/>
              <a:ext cx="8763120" cy="28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4 Sampling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1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distribution of a statistic is called a sampling distrib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Example: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probability distribution of   is called the sampling distribution of the sample mean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6434280" y="3352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900760" y="3733920"/>
                  <a:ext cx="347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76320" y="4191120"/>
            <a:ext cx="9067680" cy="2400120"/>
            <a:chOff x="76320" y="4191120"/>
            <a:chExt cx="9067680" cy="2400120"/>
          </a:xfrm>
        </p:grpSpPr>
        <p:sp>
          <p:nvSpPr>
            <p:cNvPr id="73" name=""/>
            <p:cNvSpPr/>
            <p:nvPr/>
          </p:nvSpPr>
          <p:spPr>
            <a:xfrm>
              <a:off x="76320" y="4191120"/>
              <a:ext cx="906768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5 Sampling Distributions of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aken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ample mean       has a normal distribution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2133720" y="5638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362320" y="6081840"/>
                  <a:ext cx="20574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77" name=""/>
            <p:cNvSpPr/>
            <p:nvPr/>
          </p:nvSpPr>
          <p:spPr>
            <a:xfrm>
              <a:off x="76320" y="1522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057400" y="380880"/>
                  <a:ext cx="243828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52280" y="1143000"/>
              <a:ext cx="89917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      ,      ) or    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 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295280" y="1523880"/>
                  <a:ext cx="45720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1893960" y="1447920"/>
                  <a:ext cx="4683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7200" y="15238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089240" y="1447920"/>
                  <a:ext cx="4827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79200" y="2251080"/>
                  <a:ext cx="56358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·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2895480" y="1523880"/>
                  <a:ext cx="3812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95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76320" y="139680"/>
            <a:ext cx="8991360" cy="3670200"/>
            <a:chOff x="76320" y="139680"/>
            <a:chExt cx="8991360" cy="3670200"/>
          </a:xfrm>
        </p:grpSpPr>
        <p:sp>
          <p:nvSpPr>
            <p:cNvPr id="88" name=""/>
            <p:cNvSpPr/>
            <p:nvPr/>
          </p:nvSpPr>
          <p:spPr>
            <a:xfrm>
              <a:off x="76320" y="139680"/>
              <a:ext cx="899136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Central Limit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ny distribution (popula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finite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, if the sample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large, the random 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2590920" y="1600200"/>
                  <a:ext cx="15238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76320" y="2590920"/>
              <a:ext cx="84582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pproximately standard normal random variable, i.e.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304920" y="3009960"/>
                  <a:ext cx="237312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304920" y="3733920"/>
            <a:ext cx="8610480" cy="3124080"/>
            <a:chOff x="304920" y="3733920"/>
            <a:chExt cx="8610480" cy="31240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85800" y="3733920"/>
                  <a:ext cx="426888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⇔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533520" y="46483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nsid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arge whe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3600" y="3886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04920" y="5105520"/>
              <a:ext cx="8610480" cy="1295280"/>
              <a:chOff x="304920" y="5105520"/>
              <a:chExt cx="8610480" cy="1295280"/>
            </a:xfrm>
          </p:grpSpPr>
          <p:sp>
            <p:nvSpPr>
              <p:cNvPr id="97" name=""/>
              <p:cNvSpPr/>
              <p:nvPr/>
            </p:nvSpPr>
            <p:spPr>
              <a:xfrm>
                <a:off x="304920" y="5121360"/>
                <a:ext cx="861048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sample siz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    has approximately a 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stribution with mea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variance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, i.e.,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8" name=""/>
                  <p:cNvSpPr txBox="1"/>
                  <p:nvPr/>
                </p:nvSpPr>
                <p:spPr>
                  <a:xfrm>
                    <a:off x="3809880" y="5105520"/>
                    <a:ext cx="38124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9" name=""/>
                  <p:cNvSpPr txBox="1"/>
                  <p:nvPr/>
                </p:nvSpPr>
                <p:spPr>
                  <a:xfrm>
                    <a:off x="5562720" y="5486400"/>
                    <a:ext cx="5461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80880" y="6087960"/>
                  <a:ext cx="173052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2212920" y="617220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8600" y="380880"/>
            <a:ext cx="8915400" cy="825480"/>
            <a:chOff x="228600" y="380880"/>
            <a:chExt cx="8915400" cy="825480"/>
          </a:xfrm>
        </p:grpSpPr>
        <p:sp>
          <p:nvSpPr>
            <p:cNvPr id="103" name=""/>
            <p:cNvSpPr/>
            <p:nvPr/>
          </p:nvSpPr>
          <p:spPr>
            <a:xfrm>
              <a:off x="228600" y="3808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ampling distribution of      is used for inferences about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57200"/>
                  <a:ext cx="380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"/>
          <p:cNvSpPr/>
          <p:nvPr/>
        </p:nvSpPr>
        <p:spPr>
          <a:xfrm>
            <a:off x="76320" y="1295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 8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ctric firm manufactures light bulbs that have a length of life that is approximately normally distributed with mean equal to 800 hours and a standard deviation of 40 hours. Find the probability that a random sample of 16 bulbs will have an average life of less than 775 hou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320" y="3581280"/>
            <a:ext cx="3200400" cy="2998800"/>
            <a:chOff x="76320" y="3581280"/>
            <a:chExt cx="3200400" cy="2998800"/>
          </a:xfrm>
        </p:grpSpPr>
        <p:sp>
          <p:nvSpPr>
            <p:cNvPr id="107" name=""/>
            <p:cNvSpPr/>
            <p:nvPr/>
          </p:nvSpPr>
          <p:spPr>
            <a:xfrm>
              <a:off x="76320" y="3581280"/>
              <a:ext cx="3200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the length of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00  ,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800, 4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52280" y="5411880"/>
                  <a:ext cx="164016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52280" y="5791320"/>
                  <a:ext cx="259092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3160800"/>
            <a:ext cx="3809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280" y="228600"/>
            <a:ext cx="5105520" cy="4800600"/>
            <a:chOff x="152280" y="228600"/>
            <a:chExt cx="5105520" cy="480060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09480" y="228600"/>
                  <a:ext cx="34290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152280" y="1114560"/>
                  <a:ext cx="510552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0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914400" y="2133720"/>
                  <a:ext cx="3429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914400" y="3084480"/>
                  <a:ext cx="2743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914400" y="4089240"/>
                  <a:ext cx="21798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d>
                        </m:e>
                        <m:e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6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52280" y="372960"/>
            <a:ext cx="8839440" cy="5797440"/>
            <a:chOff x="152280" y="372960"/>
            <a:chExt cx="8839440" cy="5797440"/>
          </a:xfrm>
        </p:grpSpPr>
        <p:sp>
          <p:nvSpPr>
            <p:cNvPr id="118" name=""/>
            <p:cNvSpPr/>
            <p:nvPr/>
          </p:nvSpPr>
          <p:spPr>
            <a:xfrm>
              <a:off x="152280" y="372960"/>
              <a:ext cx="883944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ampling Distribution of the Difference between Two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1-st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2-nd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be the sample mean of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      be the sample mean of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sed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117440" y="3726000"/>
                  <a:ext cx="406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1066680" y="418320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4543560" y="4564080"/>
                  <a:ext cx="101916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18:33:06Z</dcterms:created>
  <dc:creator> </dc:creator>
  <dc:description/>
  <dc:language>en-US</dc:language>
  <cp:lastModifiedBy> </cp:lastModifiedBy>
  <dcterms:modified xsi:type="dcterms:W3CDTF">2004-07-18T21:49:23Z</dcterms:modified>
  <cp:revision>1</cp:revision>
  <dc:subject/>
  <dc:title>عرض تقديمي من PowerPoint</dc:title>
</cp:coreProperties>
</file>