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C7B-FE16-4F41-A28E-2B543286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645-9519-4D8F-AEE6-499BB3BD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654-1DE4-4330-AB64-9E70EBB0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6906-E56A-4782-A86E-8B7C53C2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CC5-3337-4F90-98C7-74742879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297B-20E7-43BD-83CF-D678AB72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0B1-F944-4D4C-8710-7AC21911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578-AB9E-4D2D-8496-304C99F3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6804-8E88-40C1-8847-F7D71670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0E75-9A5A-4788-8FDF-06A80E3E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069-AA30-45F1-BA69-445FFC47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782-9C3A-4B16-969E-AE22BD8D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B172-6090-4BC6-BF18-8E6F942FE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155520"/>
            <a:ext cx="8915400" cy="2288520"/>
            <a:chOff x="76320" y="155520"/>
            <a:chExt cx="8915400" cy="2288520"/>
          </a:xfrm>
        </p:grpSpPr>
        <p:sp>
          <p:nvSpPr>
            <p:cNvPr id="42" name=""/>
            <p:cNvSpPr/>
            <p:nvPr/>
          </p:nvSpPr>
          <p:spPr>
            <a:xfrm>
              <a:off x="76320" y="15552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3300"/>
                  </a:solidFill>
                  <a:uFillTx/>
                  <a:latin typeface="Arial"/>
                  <a:ea typeface="Arial"/>
                </a:rPr>
                <a:t>Sampling Distribution of the Sample Propor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that the size of a population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Each element of the population can be classified as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r non-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e the proportion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population.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drawn from this population. Let     be the proportion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sample.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7002360" y="1598760"/>
                  <a:ext cx="31284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4" name=""/>
          <p:cNvGraphicFramePr/>
          <p:nvPr/>
        </p:nvGraphicFramePr>
        <p:xfrm>
          <a:off x="990720" y="2517840"/>
          <a:ext cx="6705360" cy="23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7840"/>
                    <a:ext cx="67053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76320" y="4952880"/>
            <a:ext cx="8762760" cy="1684080"/>
            <a:chOff x="76320" y="4952880"/>
            <a:chExt cx="8762760" cy="1684080"/>
          </a:xfrm>
        </p:grpSpPr>
        <p:sp>
          <p:nvSpPr>
            <p:cNvPr id="47" name=""/>
            <p:cNvSpPr/>
            <p:nvPr/>
          </p:nvSpPr>
          <p:spPr>
            <a:xfrm>
              <a:off x="76320" y="495288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Population Propor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396720" y="5790960"/>
                  <a:ext cx="6309000" cy="84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ype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population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57200" y="152280"/>
            <a:ext cx="6354720" cy="1336680"/>
            <a:chOff x="457200" y="152280"/>
            <a:chExt cx="6354720" cy="1336680"/>
          </a:xfrm>
        </p:grpSpPr>
        <p:grpSp>
          <p:nvGrpSpPr>
            <p:cNvPr id="50" name=""/>
            <p:cNvGrpSpPr/>
            <p:nvPr/>
          </p:nvGrpSpPr>
          <p:grpSpPr>
            <a:xfrm>
              <a:off x="457200" y="152280"/>
              <a:ext cx="3429000" cy="536040"/>
              <a:chOff x="457200" y="152280"/>
              <a:chExt cx="3429000" cy="536040"/>
            </a:xfrm>
          </p:grpSpPr>
          <p:sp>
            <p:nvSpPr>
              <p:cNvPr id="51" name=""/>
              <p:cNvSpPr/>
              <p:nvPr/>
            </p:nvSpPr>
            <p:spPr>
              <a:xfrm>
                <a:off x="762120" y="228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Sample Propor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" name=""/>
                  <p:cNvSpPr txBox="1"/>
                  <p:nvPr/>
                </p:nvSpPr>
                <p:spPr>
                  <a:xfrm>
                    <a:off x="457200" y="152280"/>
                    <a:ext cx="320760" cy="47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838080" y="692280"/>
                  <a:ext cx="5973840" cy="79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ype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ample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" name=""/>
          <p:cNvGrpSpPr/>
          <p:nvPr/>
        </p:nvGrpSpPr>
        <p:grpSpPr>
          <a:xfrm>
            <a:off x="533520" y="1447920"/>
            <a:ext cx="8381880" cy="4873680"/>
            <a:chOff x="533520" y="1447920"/>
            <a:chExt cx="8381880" cy="4873680"/>
          </a:xfrm>
        </p:grpSpPr>
        <p:sp>
          <p:nvSpPr>
            <p:cNvPr id="55" name=""/>
            <p:cNvSpPr/>
            <p:nvPr/>
          </p:nvSpPr>
          <p:spPr>
            <a:xfrm>
              <a:off x="990720" y="1447920"/>
              <a:ext cx="792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  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)            X ~ Binomial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3520" y="23464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)             E(     )= E(      )=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2279520" y="2362320"/>
                  <a:ext cx="3114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3352680" y="2286000"/>
                  <a:ext cx="3430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533520" y="297648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)            Var(     ) = Var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5257800" y="2824200"/>
                  <a:ext cx="213372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q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2438280" y="2976480"/>
                  <a:ext cx="3114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3924360" y="2900520"/>
                  <a:ext cx="3427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533520" y="358128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)            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we h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2133720" y="4267080"/>
              <a:ext cx="5333760" cy="761760"/>
              <a:chOff x="2133720" y="4267080"/>
              <a:chExt cx="5333760" cy="761760"/>
            </a:xfrm>
          </p:grpSpPr>
          <p:sp>
            <p:nvSpPr>
              <p:cNvPr id="65" name=""/>
              <p:cNvSpPr/>
              <p:nvPr/>
            </p:nvSpPr>
            <p:spPr>
              <a:xfrm>
                <a:off x="2286000" y="4343040"/>
                <a:ext cx="518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N(p,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   (Approximately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6" name=""/>
                  <p:cNvSpPr txBox="1"/>
                  <p:nvPr/>
                </p:nvSpPr>
                <p:spPr>
                  <a:xfrm>
                    <a:off x="2133720" y="4343040"/>
                    <a:ext cx="31104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7" name=""/>
                  <p:cNvSpPr txBox="1"/>
                  <p:nvPr/>
                </p:nvSpPr>
                <p:spPr>
                  <a:xfrm>
                    <a:off x="3408480" y="4267080"/>
                    <a:ext cx="630000" cy="761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pq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8" name=""/>
            <p:cNvGrpSpPr/>
            <p:nvPr/>
          </p:nvGrpSpPr>
          <p:grpSpPr>
            <a:xfrm>
              <a:off x="2057400" y="5105520"/>
              <a:ext cx="5029200" cy="1216080"/>
              <a:chOff x="2057400" y="5105520"/>
              <a:chExt cx="5029200" cy="1216080"/>
            </a:xfrm>
          </p:grpSpPr>
          <mc:AlternateContent>
            <mc:Choice xmlns:a14="http://schemas.microsoft.com/office/drawing/2010/main" Requires="a14">
              <p:sp>
                <p:nvSpPr>
                  <p:cNvPr id="69" name=""/>
                  <p:cNvSpPr txBox="1"/>
                  <p:nvPr/>
                </p:nvSpPr>
                <p:spPr>
                  <a:xfrm>
                    <a:off x="2057400" y="5105520"/>
                    <a:ext cx="1295280" cy="121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q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0" name=""/>
              <p:cNvSpPr/>
              <p:nvPr/>
            </p:nvSpPr>
            <p:spPr>
              <a:xfrm>
                <a:off x="3429000" y="5257800"/>
                <a:ext cx="365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N(0,1)  (Approximately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320" y="152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Sampling Distribution of the Difference between Two Propor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600200" y="1293840"/>
            <a:ext cx="5181480" cy="3963960"/>
            <a:chOff x="1600200" y="1293840"/>
            <a:chExt cx="5181480" cy="3963960"/>
          </a:xfrm>
        </p:grpSpPr>
        <p:graphicFrame>
          <p:nvGraphicFramePr>
            <p:cNvPr id="73" name=""/>
            <p:cNvGraphicFramePr/>
            <p:nvPr/>
          </p:nvGraphicFramePr>
          <p:xfrm>
            <a:off x="1600200" y="1293840"/>
            <a:ext cx="518148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1293840"/>
                      <a:ext cx="518148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" name=""/>
            <p:cNvGraphicFramePr/>
            <p:nvPr/>
          </p:nvGraphicFramePr>
          <p:xfrm>
            <a:off x="1600200" y="3313080"/>
            <a:ext cx="5181480" cy="1944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3313080"/>
                      <a:ext cx="5181480" cy="19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152280"/>
            <a:ext cx="8991720" cy="6546240"/>
            <a:chOff x="0" y="152280"/>
            <a:chExt cx="8991720" cy="6546240"/>
          </a:xfrm>
        </p:grpSpPr>
        <p:sp>
          <p:nvSpPr>
            <p:cNvPr id="78" name=""/>
            <p:cNvSpPr/>
            <p:nvPr/>
          </p:nvSpPr>
          <p:spPr>
            <a:xfrm>
              <a:off x="228600" y="152280"/>
              <a:ext cx="8763120" cy="46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uppose that we have two popula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proportion of the 1-st popul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proportion of the 2-nd popul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are interested in compar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or equivalently, making inferences abo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ndependentl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1-st population and another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2-nd pop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1-st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2-nd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609480" y="3943440"/>
                  <a:ext cx="107172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228600" y="413388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   = proportion of the 1-st 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609480" y="4822920"/>
                  <a:ext cx="106704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2" name=""/>
            <p:cNvSpPr/>
            <p:nvPr/>
          </p:nvSpPr>
          <p:spPr>
            <a:xfrm>
              <a:off x="228600" y="495288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roportion of the 2-nd samp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807160"/>
              <a:ext cx="876312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The sampling distribution of                is used to make inferences abo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4267080" y="5791320"/>
                  <a:ext cx="99072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52280" y="152280"/>
            <a:ext cx="8839440" cy="5639040"/>
            <a:chOff x="152280" y="152280"/>
            <a:chExt cx="8839440" cy="5639040"/>
          </a:xfrm>
        </p:grpSpPr>
        <p:grpSp>
          <p:nvGrpSpPr>
            <p:cNvPr id="86" name=""/>
            <p:cNvGrpSpPr/>
            <p:nvPr/>
          </p:nvGrpSpPr>
          <p:grpSpPr>
            <a:xfrm>
              <a:off x="152280" y="152280"/>
              <a:ext cx="7696440" cy="2583000"/>
              <a:chOff x="152280" y="152280"/>
              <a:chExt cx="7696440" cy="2583000"/>
            </a:xfrm>
          </p:grpSpPr>
          <p:sp>
            <p:nvSpPr>
              <p:cNvPr id="87" name=""/>
              <p:cNvSpPr/>
              <p:nvPr/>
            </p:nvSpPr>
            <p:spPr>
              <a:xfrm>
                <a:off x="152280" y="1522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Result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8" name=""/>
                  <p:cNvSpPr txBox="1"/>
                  <p:nvPr/>
                </p:nvSpPr>
                <p:spPr>
                  <a:xfrm>
                    <a:off x="1143000" y="914400"/>
                    <a:ext cx="298620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9" name=""/>
                  <p:cNvSpPr txBox="1"/>
                  <p:nvPr/>
                </p:nvSpPr>
                <p:spPr>
                  <a:xfrm>
                    <a:off x="1143000" y="1371600"/>
                    <a:ext cx="6705720" cy="81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" name=""/>
              <p:cNvSpPr/>
              <p:nvPr/>
            </p:nvSpPr>
            <p:spPr>
              <a:xfrm>
                <a:off x="1371600" y="2209680"/>
                <a:ext cx="457200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85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 larg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and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we hav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8280" y="83808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8280" y="14479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58280" y="21337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52280" y="2843280"/>
              <a:ext cx="8839440" cy="2948040"/>
              <a:chOff x="152280" y="2843280"/>
              <a:chExt cx="8839440" cy="2948040"/>
            </a:xfrm>
          </p:grpSpPr>
          <mc:AlternateContent>
            <mc:Choice xmlns:a14="http://schemas.microsoft.com/office/drawing/2010/main" Requires="a14">
              <p:sp>
                <p:nvSpPr>
                  <p:cNvPr id="95" name=""/>
                  <p:cNvSpPr txBox="1"/>
                  <p:nvPr/>
                </p:nvSpPr>
                <p:spPr>
                  <a:xfrm>
                    <a:off x="152280" y="2843280"/>
                    <a:ext cx="6208920" cy="119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"/>
                  <p:cNvSpPr txBox="1"/>
                  <p:nvPr/>
                </p:nvSpPr>
                <p:spPr>
                  <a:xfrm>
                    <a:off x="152280" y="4336920"/>
                    <a:ext cx="4800600" cy="145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7" name=""/>
              <p:cNvSpPr/>
              <p:nvPr/>
            </p:nvSpPr>
            <p:spPr>
              <a:xfrm>
                <a:off x="6477120" y="320040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Approximately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2880" y="449568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Approximately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228600"/>
            <a:ext cx="5334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ritical Values of the t-distribution (t</a:t>
            </a:r>
            <a:r>
              <a:rPr b="1" i="1" lang="en-US" sz="2400" spc="-1" strike="noStrike" baseline="-30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)</a:t>
            </a:r>
            <a:r>
              <a:rPr b="0" lang="en-GB" sz="2400" spc="-1" strike="noStrike" baseline="-30000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291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24480" y="150840"/>
            <a:ext cx="23623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152280"/>
            <a:ext cx="5715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ritical Values of the t-distribution (t</a:t>
            </a:r>
            <a:r>
              <a:rPr b="1" i="1" lang="en-US" sz="2400" spc="-1" strike="noStrike" baseline="-30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)</a:t>
            </a:r>
            <a:r>
              <a:rPr b="0" lang="en-GB" sz="2400" spc="-1" strike="noStrike" baseline="-30000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291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705720" y="85680"/>
            <a:ext cx="21333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20:46:19Z</dcterms:created>
  <dc:creator> </dc:creator>
  <dc:description/>
  <dc:language>en-US</dc:language>
  <cp:lastModifiedBy> </cp:lastModifiedBy>
  <dcterms:modified xsi:type="dcterms:W3CDTF">2004-07-23T12:12:29Z</dcterms:modified>
  <cp:revision>2</cp:revision>
  <dc:subject/>
  <dc:title>عرض تقديمي من PowerPoint</dc:title>
</cp:coreProperties>
</file>