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51C-AB67-42A4-B126-F19E3D30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4D6-6D9F-45B4-8390-A935FFC9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7C1-CC68-4EF8-8909-F318EE57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D98-265F-4587-B16D-E6A0D1E5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D0C-6F85-4604-880C-023B3C84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B86-0FC8-4920-9A20-D1A17D70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F8E-1416-419C-BA13-41500501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A4F-623F-4591-A3EE-5012E89F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D2D-E286-42D4-B1D8-AC646695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862-DB90-4EE3-9D5C-31C7B083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825-1EDB-4953-9A6C-D7C872B1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3F5-A3E6-4BAA-8748-CDC7513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36DF-E36B-4A1B-9957-E6C4898BB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5520"/>
            <a:ext cx="8915400" cy="2288520"/>
            <a:chOff x="76320" y="155520"/>
            <a:chExt cx="8915400" cy="2288520"/>
          </a:xfrm>
        </p:grpSpPr>
        <p:sp>
          <p:nvSpPr>
            <p:cNvPr id="42" name=""/>
            <p:cNvSpPr/>
            <p:nvPr/>
          </p:nvSpPr>
          <p:spPr>
            <a:xfrm>
              <a:off x="76320" y="15552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3300"/>
                  </a:solidFill>
                  <a:uFillTx/>
                  <a:latin typeface="Arial"/>
                  <a:ea typeface="Arial"/>
                </a:rPr>
                <a:t>Sampling Distribution of the Sample Propor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size of a popula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Each element of the population can be classified as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r non-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population.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drawn from this population. Let    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7002360" y="1598760"/>
                  <a:ext cx="3128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" name=""/>
          <p:cNvGraphicFramePr/>
          <p:nvPr/>
        </p:nvGraphicFramePr>
        <p:xfrm>
          <a:off x="990720" y="2517840"/>
          <a:ext cx="670536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6705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76320" y="4952880"/>
            <a:ext cx="8762760" cy="1684080"/>
            <a:chOff x="76320" y="4952880"/>
            <a:chExt cx="8762760" cy="1684080"/>
          </a:xfrm>
        </p:grpSpPr>
        <p:sp>
          <p:nvSpPr>
            <p:cNvPr id="47" name=""/>
            <p:cNvSpPr/>
            <p:nvPr/>
          </p:nvSpPr>
          <p:spPr>
            <a:xfrm>
              <a:off x="76320" y="49528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Population Pro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96720" y="5790960"/>
                  <a:ext cx="630900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population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152280"/>
            <a:ext cx="6354720" cy="1336680"/>
            <a:chOff x="457200" y="152280"/>
            <a:chExt cx="6354720" cy="1336680"/>
          </a:xfrm>
        </p:grpSpPr>
        <p:grpSp>
          <p:nvGrpSpPr>
            <p:cNvPr id="50" name=""/>
            <p:cNvGrpSpPr/>
            <p:nvPr/>
          </p:nvGrpSpPr>
          <p:grpSpPr>
            <a:xfrm>
              <a:off x="457200" y="152280"/>
              <a:ext cx="3429000" cy="536040"/>
              <a:chOff x="457200" y="152280"/>
              <a:chExt cx="3429000" cy="536040"/>
            </a:xfrm>
          </p:grpSpPr>
          <p:sp>
            <p:nvSpPr>
              <p:cNvPr id="51" name=""/>
              <p:cNvSpPr/>
              <p:nvPr/>
            </p:nvSpPr>
            <p:spPr>
              <a:xfrm>
                <a:off x="762120" y="228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Sample Propor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" name=""/>
                  <p:cNvSpPr txBox="1"/>
                  <p:nvPr/>
                </p:nvSpPr>
                <p:spPr>
                  <a:xfrm>
                    <a:off x="457200" y="152280"/>
                    <a:ext cx="32076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838080" y="692280"/>
                  <a:ext cx="597384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ample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533520" y="1447920"/>
            <a:ext cx="8381880" cy="4873680"/>
            <a:chOff x="533520" y="1447920"/>
            <a:chExt cx="8381880" cy="4873680"/>
          </a:xfrm>
        </p:grpSpPr>
        <p:sp>
          <p:nvSpPr>
            <p:cNvPr id="55" name=""/>
            <p:cNvSpPr/>
            <p:nvPr/>
          </p:nvSpPr>
          <p:spPr>
            <a:xfrm>
              <a:off x="990720" y="144792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            X ~ Binomial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520" y="2346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             E(     )= E(      )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79520" y="236232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3352680" y="2286000"/>
                  <a:ext cx="343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533520" y="29764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            Var(     ) = Var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5257800" y="2824200"/>
                  <a:ext cx="21337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2438280" y="297648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924360" y="2900520"/>
                  <a:ext cx="3427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533520" y="35812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           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133720" y="4267080"/>
              <a:ext cx="5333760" cy="761760"/>
              <a:chOff x="2133720" y="4267080"/>
              <a:chExt cx="5333760" cy="761760"/>
            </a:xfrm>
          </p:grpSpPr>
          <p:sp>
            <p:nvSpPr>
              <p:cNvPr id="65" name=""/>
              <p:cNvSpPr/>
              <p:nvPr/>
            </p:nvSpPr>
            <p:spPr>
              <a:xfrm>
                <a:off x="2286000" y="4343040"/>
                <a:ext cx="518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p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" name=""/>
                  <p:cNvSpPr txBox="1"/>
                  <p:nvPr/>
                </p:nvSpPr>
                <p:spPr>
                  <a:xfrm>
                    <a:off x="2133720" y="4343040"/>
                    <a:ext cx="3110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7" name=""/>
                  <p:cNvSpPr txBox="1"/>
                  <p:nvPr/>
                </p:nvSpPr>
                <p:spPr>
                  <a:xfrm>
                    <a:off x="3408480" y="4267080"/>
                    <a:ext cx="6300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" name=""/>
            <p:cNvGrpSpPr/>
            <p:nvPr/>
          </p:nvGrpSpPr>
          <p:grpSpPr>
            <a:xfrm>
              <a:off x="2057400" y="5105520"/>
              <a:ext cx="5029200" cy="1216080"/>
              <a:chOff x="2057400" y="5105520"/>
              <a:chExt cx="5029200" cy="121608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2057400" y="5105520"/>
                    <a:ext cx="1295280" cy="121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0" name=""/>
              <p:cNvSpPr/>
              <p:nvPr/>
            </p:nvSpPr>
            <p:spPr>
              <a:xfrm>
                <a:off x="3429000" y="52578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0,1)  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Sampling Distribution of the Difference betwee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00200" y="1293840"/>
            <a:ext cx="5181480" cy="3963960"/>
            <a:chOff x="1600200" y="1293840"/>
            <a:chExt cx="5181480" cy="3963960"/>
          </a:xfrm>
        </p:grpSpPr>
        <p:graphicFrame>
          <p:nvGraphicFramePr>
            <p:cNvPr id="73" name=""/>
            <p:cNvGraphicFramePr/>
            <p:nvPr/>
          </p:nvGraphicFramePr>
          <p:xfrm>
            <a:off x="1600200" y="1293840"/>
            <a:ext cx="518148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293840"/>
                      <a:ext cx="518148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1600200" y="3313080"/>
            <a:ext cx="5181480" cy="194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3313080"/>
                      <a:ext cx="5181480" cy="19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52280"/>
            <a:ext cx="8991720" cy="6546240"/>
            <a:chOff x="0" y="152280"/>
            <a:chExt cx="8991720" cy="6546240"/>
          </a:xfrm>
        </p:grpSpPr>
        <p:sp>
          <p:nvSpPr>
            <p:cNvPr id="78" name=""/>
            <p:cNvSpPr/>
            <p:nvPr/>
          </p:nvSpPr>
          <p:spPr>
            <a:xfrm>
              <a:off x="228600" y="152280"/>
              <a:ext cx="876312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609480" y="3943440"/>
                  <a:ext cx="107172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228600" y="4133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= proportion of the 1-st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609480" y="4822920"/>
                  <a:ext cx="106704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228600" y="4952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807160"/>
              <a:ext cx="87631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ing distribution of              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4267080" y="5791320"/>
                  <a:ext cx="990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839440" cy="5639040"/>
            <a:chOff x="152280" y="152280"/>
            <a:chExt cx="8839440" cy="5639040"/>
          </a:xfrm>
        </p:grpSpPr>
        <p:grpSp>
          <p:nvGrpSpPr>
            <p:cNvPr id="86" name=""/>
            <p:cNvGrpSpPr/>
            <p:nvPr/>
          </p:nvGrpSpPr>
          <p:grpSpPr>
            <a:xfrm>
              <a:off x="152280" y="152280"/>
              <a:ext cx="7696440" cy="2583000"/>
              <a:chOff x="152280" y="152280"/>
              <a:chExt cx="7696440" cy="2583000"/>
            </a:xfrm>
          </p:grpSpPr>
          <p:sp>
            <p:nvSpPr>
              <p:cNvPr id="87" name=""/>
              <p:cNvSpPr/>
              <p:nvPr/>
            </p:nvSpPr>
            <p:spPr>
              <a:xfrm>
                <a:off x="152280" y="152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Resul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8" name=""/>
                  <p:cNvSpPr txBox="1"/>
                  <p:nvPr/>
                </p:nvSpPr>
                <p:spPr>
                  <a:xfrm>
                    <a:off x="1143000" y="914400"/>
                    <a:ext cx="2986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1143000" y="1371600"/>
                    <a:ext cx="670572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" name=""/>
              <p:cNvSpPr/>
              <p:nvPr/>
            </p:nvSpPr>
            <p:spPr>
              <a:xfrm>
                <a:off x="1371600" y="2209680"/>
                <a:ext cx="457200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we ha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8280" y="83808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280" y="14479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8280" y="21337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52280" y="2843280"/>
              <a:ext cx="8839440" cy="2948040"/>
              <a:chOff x="152280" y="2843280"/>
              <a:chExt cx="8839440" cy="2948040"/>
            </a:xfrm>
          </p:grpSpPr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52280" y="2843280"/>
                    <a:ext cx="6208920" cy="11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152280" y="4336920"/>
                    <a:ext cx="4800600" cy="145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7" name=""/>
              <p:cNvSpPr/>
              <p:nvPr/>
            </p:nvSpPr>
            <p:spPr>
              <a:xfrm>
                <a:off x="6477120" y="32004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2880" y="44956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2286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150840"/>
            <a:ext cx="23623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5715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05720" y="85680"/>
            <a:ext cx="2133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20:46:19Z</dcterms:created>
  <dc:creator> </dc:creator>
  <dc:description/>
  <dc:language>en-US</dc:language>
  <cp:lastModifiedBy> </cp:lastModifiedBy>
  <dcterms:modified xsi:type="dcterms:W3CDTF">2004-07-23T12:12:29Z</dcterms:modified>
  <cp:revision>2</cp:revision>
  <dc:subject/>
  <dc:title>عرض تقديمي من PowerPoint</dc:title>
</cp:coreProperties>
</file>