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7.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9.jpeg" ContentType="image/jpe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2AED-07B3-41CB-8EC6-6395B82ED3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88FE-D0E5-42E3-AD5C-F65700A1F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CC35-7FC5-4F3E-8026-05D0D56DE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641A-D484-482E-86FE-E79B7940D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267E-3BD5-40FE-87CC-0535B156D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9927-CDDC-4078-BB8A-6731EA3E2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9CE3-A5A5-43E3-B764-4D9DBB71B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DC08-D0B8-4B5D-8E83-FAB0BCF6A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71D6-9334-45E1-940F-9B8BB7DB1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91A8-C0E1-4A53-9492-DE4AB76F8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723F-9455-4C80-9AC1-64CA5B73E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BB99-3F12-42FF-8964-565BC919D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96DD-C156-4757-9D3D-69CE0C9D6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307D-31E9-48E3-8ECC-C4E10E4BD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D42-7FAB-4C36-8A9E-033CDEEAF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A173-0BAA-4761-8C3F-064CFD519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A5DE-AA87-4FC7-B804-33F600536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71B3-E486-4D56-9E71-279CBA424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111B-9902-441C-B653-0C693F25B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B9BA-B3E3-47D4-B447-32B574BF6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C2AE-C7D7-47B9-A1AD-88007230A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CE9E-07A8-4745-A025-F13ACD3F2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2625-20CD-4402-B102-7EED62B54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4079-DF4D-4F84-9A57-988337FBA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6C59-2217-4CBB-8A8C-AAA3EB97A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61D1-4282-4223-88C0-D8536790B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BF8E-6811-49C3-BCDE-2F5529543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B27BA6-812F-43AC-8B42-74AE4A9F3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3E1493-9819-4E1F-BD33-D1A2F174E4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8A69C06-4D3B-4486-92FF-8200CBDD0C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3C8C87-44F4-4631-8C87-7FAA727544C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E91872A-84E3-45F3-B6C2-256626F92F8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3BE565-3F05-43CF-B6D9-FCD02FC235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44F288-E6FA-476E-BA0F-22386BCBCA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6ACF1F2-2C35-48DC-B154-630214C878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C7FECF-9636-43A5-AD44-9E5E1509FB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BF09B84-D4EC-4297-94B6-C6E5FF139BC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5308149-1204-4920-8E7D-07F8648C0E9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B4CA580-D82C-40F0-8469-66598B7CDD4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63480C-F623-4941-B517-C94838C41E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2045A29-EAAA-4BF8-A4FE-5FD245EA13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39E52AA-73C6-4027-915F-216ECAFD147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8E7E88-5C56-40F4-AC72-A2D475C050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68BB0F-9785-44A5-843C-0D7E26A965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0CA04C2-8C33-4CA6-962A-30B72DD5EC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A93464-12E0-4951-8B74-7D7AC7BDBC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17F053-5751-4A2F-9C32-2A13B1A479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7D6A6EF-7399-41C8-896F-7600DAFBE3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69AEBF5-C619-4031-960A-936AB77BA8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250DA0B-6A91-4365-9C3D-EF0C3EA93C1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0CF2D3-A6B0-43E8-897A-91A5554D79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172E8A8-BC47-4D21-A69A-AFC6C6AF26B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A08FB03-4642-4F39-8FD2-A72EDF6FBEA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1E8A5F-F34D-4E69-9C00-C85C406239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16C25A-1FA8-4B60-9B7E-D14680B0170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FE0413-3AE6-4D0B-A990-D1CFD1862D3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00EE7C1-F168-4180-A1E1-7BB5B6D7C5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08EEE1-A1A4-412F-89C9-1027027EF0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FFC9173-A027-413D-9115-D8996BBED42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443B6F-D428-4D35-A385-85FDC01A02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C5215B-A078-4F67-A757-3C4050445B1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C9196D-5404-45B2-B909-584C4843B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62C725-7B0E-4047-B934-5EDF4A49817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4A4DFFC-2237-4B5D-8D02-BCDFF100F3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F9AF762-81DD-4EE7-ACFD-56C94B99218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3E86AF0-E91D-4C3C-80CE-5E69A780AF8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BAD4F09-AEC5-4C34-B635-529C7CCCA5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84E88F9-0EFF-4E88-AF84-F4BC86A1D3D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8D4421B-E5DE-484B-9F80-3CE20A09A2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1F6364-A663-4BE8-A962-607E81529AC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A120CAC-B231-4320-BBCA-6736B569383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E9A977-55C5-44E8-B4D5-E4599034C58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AC791-8968-469B-B6C1-D7EBD5123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061D5B8-79FB-470E-99AD-C7F1792DD63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F7085EC-B764-43D9-9F36-0C004EDD6C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BCD3049-FABF-45DE-8077-C3A9284CA9C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B710B0E-7466-4082-BB38-D493A19A3A4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B684D2C-BB36-4E4E-9109-092CC1553AB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5E45F-17A7-4DDB-A543-6CC389C86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AF6AE9-3CDE-48F8-A27F-128DF0041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19EF0-8F55-4AED-B680-6854ED39D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A11B3-EB31-48EC-B6F3-49796B94F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83E7B-188D-411B-83DD-3E23748A6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C87276-D871-4699-A9C0-805E2B7DE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789A5-A75B-4E65-BD8C-62F463C04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9A804-9149-414A-A972-E612FB2E2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94C39-84AE-4B7D-A999-D172922C4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FDD8E-824F-461A-8269-BA7822F571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734997-10F3-4691-A152-C086A8F132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F52AA5-1FF6-4DBF-AD92-46BFAA68F1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1D2C3E-8D34-447F-8E6A-E863BBDD43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72C7A3-2406-4ADD-951D-1297A5DE6D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55F90E-3BF4-4144-8852-E07B556BFC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0FAB8D-8483-4213-BC15-233AAF99A2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FDFC4-FE9A-44E4-BFDB-9074DA5984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7170CB-11B3-4BFC-9B06-AEBB67EAEC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38517F-4570-4B49-81E6-2A73B73A3A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3AC3C4-5491-4FFA-BDEF-BB71B86E05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21F3F9-507E-48F8-AAE4-14DB08AA57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DB42AB-5DF0-45C6-A773-00034BA160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95616B-6168-4670-9AAD-D81967FF2C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F01A435-8809-493A-816C-5500AEF05D5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487CE03-0715-4E46-992F-2CE9A37205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39E377-8F8B-45EE-9DEA-6C75230275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C1384D-18E4-4DFC-AA29-A9D16816BC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0940B2-A09C-41FD-A820-279B0DBC37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F2AC1D-CEB6-454E-9565-EC7F9BA2A4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E01273-7AA6-4F47-BFB4-F690B30A41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24E729-993C-4AE7-AAFF-F88EDE7885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C0AC36-DDA3-4C54-B92D-CEA83B4B43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6A917D-C9F8-4F57-AD09-2513D18A36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DBA1E9-D1BB-4EC4-91A0-717EDA5E61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80E5E9-EA20-4AD6-9AE0-C74CBA50A8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8989E36-512E-4456-8A9A-3B4CB949A9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30D4DD-9DAF-4620-8FE9-F6FB022776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3521DCE-7910-4C7C-8A58-F34B9727F47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3B0CB-A79F-4FDD-AB7B-2701529105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077DA8-F28A-4F74-AE1D-04892AF767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E6B8D6-C2A7-49CA-9161-24F5F73768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DA920B-FE15-4440-BF8D-BED5F9DF8A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6398AB-ABB7-4E99-A605-033081DCB1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5877FB-DDBB-438B-835D-2C794F65B8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A22282-4CC5-4A98-96F7-35AE6D4101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21B8BA-F919-41D4-83EF-128E02FD7F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766E57-1F5E-483A-8259-1A7C1D2E1A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3848BE-2CC6-4517-9F47-7CDCEAA40B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A11BE9A-5933-42B4-ADD3-8C8BF7DA6C6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60F3DB-95F0-4B28-9D82-7569E2DE36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789F50-36AC-4074-BAA7-3049CBF3F8F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7C42D09-B879-401A-AB27-E95F61476E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ACAE22-0353-4129-90E0-C51D1EBCEB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A26FEA-80B7-40F8-AA30-1F6365AEEC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56F67C-5683-416E-87E8-C00D74EF8E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DE4044-D575-4F0C-AFA2-CE50D74DEC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4299C6-32A8-4D99-B921-97342B1988F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9025B9-FC16-4217-ABA7-63FC2AE989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FAEF6B-4817-4DDB-BFB3-32DDD76CFE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4D4FAF-5ED2-4F80-9D3D-9DC3D37ECA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4F05F5-F7B6-467E-A9E6-6A1D8B1F5E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117D06-31BD-4C41-B166-F97F009942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31FD94F-FD7D-4B44-997A-35A26CCC12B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8139DD8-63CD-4C62-9019-DC333391C74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4A8BBAB-B352-460C-899C-930EADA8A36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B0A940-2044-4BD0-BA71-7BCF54619ED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B31636E-90A5-4042-967E-3238A7218AB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961A80-B6EC-444F-970C-A1AD1839D2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6089CAF-E0CA-4FFA-BA48-F27EBE52CB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E4B66D9-FB4F-41CC-8544-1CAB5CFB24F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7124B0-08B9-4851-8DB2-7B105B2441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9EA8B-E383-4170-A41A-2B6E5BDD07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89BA45-6BCC-4398-A84D-9E3D0CAF84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ECF80A-B4F8-40E0-9341-1D52B7031B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BDD3061-CD1F-4075-88D7-1A3C0DD8BF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B7C6C47-43B5-4E79-98FB-D810208978E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E26BC35-ABB3-40AE-88B9-B9C87A28BCD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D370D74-7F7E-463B-966A-A07DFAE5CDB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C8137D-2ED5-450B-AED0-B02593FD07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02CE041-6FB5-4448-826E-CDA22C6BB3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0498BF-E09F-4FA0-BE06-8196669965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6EF49B-554E-469B-A10A-A903AD3D997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AC6B4-052D-4482-A758-6E6FD54EC8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9C98DB-6DF5-4913-876A-56980D7A20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D3A29B-D75A-43FC-9B56-4E59BB8FAD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0D7CC7-55D8-4DD9-90C1-262FF80EB24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D1CE8C-1710-4B8A-AD11-2E0AC395BB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FFC774-D468-4902-90BD-8F16791C043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44BBA3-B33E-462F-9408-3F0967CD9A4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21B1AA7-37AC-466D-8432-DBDE0C0E67D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2A158C-92CD-4959-9DB1-76F2ED7F859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3BD685C-2D11-444F-BA1A-F69EF9A422A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B161A7-CE5B-4228-A517-E0D99355F63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9770-749B-4877-92EC-96E4D25DBF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0A33-6CD2-4578-83B3-20B3A4B6B81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357C-F161-40E9-9CEE-9F6DC6C3EB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00A5-7E0B-44CF-AD4E-88763B0CBB6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7EBD-F652-4AE1-8B7E-73EB6693FA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74F7-DBEB-4350-B99C-B68CB7E533EC}"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C9C6-0CA6-4916-8CFC-804E92C87B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A5DD-9C55-4CCC-B738-2A56ADAAECB5}"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05D0-3227-4B21-8C70-CD19C7727D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FF1B-A020-4495-A866-4D2996B5781F}"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DD70-FB21-49B6-9B5B-CFF06EF171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CBAD-49CA-4F4F-B39D-ECFFD542F0EC}"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3AE2-7A76-4D59-8F76-DC33054B06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D300-88D1-45A0-BE7F-7B67FAD7CF6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A906-8CF5-49D8-AB98-7BCE6951BB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511A-7691-44BE-8AB8-D96F94FC344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7B13-683F-48D7-A55A-36E62D8CA1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5B4C-F1E2-4A65-B9B3-5D181F86F6B1}"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123D-D003-4257-BFFB-4DE46E6343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3659-9688-4AD3-9356-396310F60C4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DB3A-3C4B-4379-8CD5-4538926649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4D34-9ED0-4A31-B174-92079BC51BD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F615-DC97-4BB0-8F92-6FF262E460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http://www.cosmogirl.com/" TargetMode="External"/><Relationship Id="rId2" Type="http://schemas.openxmlformats.org/officeDocument/2006/relationships/image" Target="../media/image3.gif"/><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infosurv.com/consumer-attitude-survey.htm" TargetMode="External"/><Relationship Id="rId2" Type="http://schemas.openxmlformats.org/officeDocument/2006/relationships/image" Target="../media/image3.gif"/><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hyperlink" Target="http://www.rightstuffdating.com/"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Attitude Formation and Change</a:t>
            </a:r>
            <a:endParaRPr b="1" lang="en-US" sz="2800" spc="-1" strike="noStrike">
              <a:solidFill>
                <a:srgbClr val="00000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IGHT</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503" name="Picture 1" descr=""/>
          <p:cNvPicPr/>
          <p:nvPr/>
        </p:nvPicPr>
        <p:blipFill>
          <a:blip r:embed="rId1"/>
          <a:stretch/>
        </p:blipFill>
        <p:spPr>
          <a:xfrm>
            <a:off x="380880" y="652320"/>
            <a:ext cx="3810240" cy="5214960"/>
          </a:xfrm>
          <a:prstGeom prst="rect">
            <a:avLst/>
          </a:prstGeom>
          <a:ln w="0">
            <a:noFill/>
          </a:ln>
        </p:spPr>
      </p:pic>
      <p:sp>
        <p:nvSpPr>
          <p:cNvPr id="50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First: </a:t>
            </a:r>
            <a:r>
              <a:rPr b="1" lang="en-US" sz="4000" spc="-1" strike="noStrike" u="sng">
                <a:solidFill>
                  <a:srgbClr val="ff00ff"/>
                </a:solidFill>
                <a:uFillTx/>
                <a:latin typeface="Calibri"/>
              </a:rPr>
              <a:t>The Tricomponent Model</a:t>
            </a:r>
            <a:endParaRPr b="1" lang="en-US" sz="4000" spc="-1" strike="noStrike">
              <a:solidFill>
                <a:srgbClr val="000000"/>
              </a:solidFill>
              <a:latin typeface="Calibri"/>
            </a:endParaRPr>
          </a:p>
        </p:txBody>
      </p:sp>
      <p:sp>
        <p:nvSpPr>
          <p:cNvPr id="53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1-Cogni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ffec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Conative</a:t>
            </a:r>
            <a:endParaRPr b="0" lang="en-US" sz="3600" spc="-1" strike="noStrike">
              <a:solidFill>
                <a:srgbClr val="000000"/>
              </a:solidFill>
              <a:latin typeface="Calibri"/>
            </a:endParaRPr>
          </a:p>
        </p:txBody>
      </p:sp>
      <p:sp>
        <p:nvSpPr>
          <p:cNvPr id="540" name="PlaceHolder 3"/>
          <p:cNvSpPr>
            <a:spLocks noGrp="1"/>
          </p:cNvSpPr>
          <p:nvPr>
            <p:ph/>
          </p:nvPr>
        </p:nvSpPr>
        <p:spPr>
          <a:xfrm>
            <a:off x="4723920" y="2057400"/>
            <a:ext cx="4038840" cy="452592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knowledge and perceptions that are acquired by a combination of direct experience with the attitude object and related information from various sources</a:t>
            </a:r>
            <a:endParaRPr b="0" lang="en-US" sz="2800" spc="-1" strike="noStrike">
              <a:solidFill>
                <a:srgbClr val="000000"/>
              </a:solidFill>
              <a:latin typeface="Calibri"/>
            </a:endParaRPr>
          </a:p>
        </p:txBody>
      </p:sp>
      <p:sp>
        <p:nvSpPr>
          <p:cNvPr id="54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4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4FA9-37EF-4AE7-8C46-54A910009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2532-1140-4E92-B100-1BCD9C8101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Rectangle 2"/>
          <p:cNvSpPr/>
          <p:nvPr/>
        </p:nvSpPr>
        <p:spPr>
          <a:xfrm>
            <a:off x="609480" y="533520"/>
            <a:ext cx="80773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7030a0"/>
                </a:solidFill>
                <a:latin typeface="Arial"/>
              </a:rPr>
              <a:t> cognitive component </a:t>
            </a:r>
            <a:r>
              <a:rPr b="1" lang="en-US" sz="3200" spc="-1" strike="noStrike">
                <a:solidFill>
                  <a:srgbClr val="000000"/>
                </a:solidFill>
                <a:latin typeface="Arial"/>
              </a:rPr>
              <a:t>is what you know or think about an obje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his can be formed through direct experience or what you learn from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knowledge you form becomes a b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ricomponent Model</a:t>
            </a:r>
            <a:endParaRPr b="1" lang="en-US" sz="4000" spc="-1" strike="noStrike">
              <a:solidFill>
                <a:srgbClr val="000000"/>
              </a:solidFill>
              <a:latin typeface="Calibri"/>
            </a:endParaRPr>
          </a:p>
        </p:txBody>
      </p:sp>
      <p:sp>
        <p:nvSpPr>
          <p:cNvPr id="54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2-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50" name="PlaceHolder 3"/>
          <p:cNvSpPr>
            <a:spLocks noGrp="1"/>
          </p:cNvSpPr>
          <p:nvPr>
            <p:ph/>
          </p:nvPr>
        </p:nvSpPr>
        <p:spPr>
          <a:xfrm>
            <a:off x="4723920" y="2133720"/>
            <a:ext cx="403884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nsumer’s emotions or feelings about a particular product or brand</a:t>
            </a:r>
            <a:endParaRPr b="0" lang="en-US" sz="3200" spc="-1" strike="noStrike">
              <a:solidFill>
                <a:srgbClr val="000000"/>
              </a:solidFill>
              <a:latin typeface="Calibri"/>
            </a:endParaRPr>
          </a:p>
        </p:txBody>
      </p:sp>
      <p:sp>
        <p:nvSpPr>
          <p:cNvPr id="55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5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D055-C8CE-405A-B13B-ED335870E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5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55AF-BBB3-4DD9-9795-21B71023F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Rectangle 2"/>
          <p:cNvSpPr/>
          <p:nvPr/>
        </p:nvSpPr>
        <p:spPr>
          <a:xfrm>
            <a:off x="685800" y="60948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you feel about a brand, the emotions you have toward it, constitutes the </a:t>
            </a:r>
            <a:r>
              <a:rPr b="1" lang="en-US" sz="2800" spc="-1" strike="noStrike">
                <a:solidFill>
                  <a:srgbClr val="ff00ff"/>
                </a:solidFill>
                <a:latin typeface="Arial"/>
              </a:rPr>
              <a:t>affective component </a:t>
            </a:r>
            <a:r>
              <a:rPr b="1" lang="en-US" sz="2800" spc="-1" strike="noStrike">
                <a:solidFill>
                  <a:srgbClr val="000000"/>
                </a:solidFill>
                <a:latin typeface="Arial"/>
              </a:rPr>
              <a:t>of the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ese feelings often tend to be overall good or bad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Tricomponent Model</a:t>
            </a:r>
            <a:endParaRPr b="1" lang="en-US" sz="4000" spc="-1" strike="noStrike">
              <a:solidFill>
                <a:srgbClr val="000000"/>
              </a:solidFill>
              <a:latin typeface="Calibri"/>
            </a:endParaRPr>
          </a:p>
        </p:txBody>
      </p:sp>
      <p:sp>
        <p:nvSpPr>
          <p:cNvPr id="559"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3-Conative</a:t>
            </a:r>
            <a:endParaRPr b="0" lang="en-US" sz="3600" spc="-1" strike="noStrike">
              <a:solidFill>
                <a:srgbClr val="000000"/>
              </a:solidFill>
              <a:latin typeface="Calibri"/>
            </a:endParaRPr>
          </a:p>
        </p:txBody>
      </p:sp>
      <p:sp>
        <p:nvSpPr>
          <p:cNvPr id="560" name="PlaceHolder 3"/>
          <p:cNvSpPr>
            <a:spLocks noGrp="1"/>
          </p:cNvSpPr>
          <p:nvPr>
            <p:ph/>
          </p:nvPr>
        </p:nvSpPr>
        <p:spPr>
          <a:xfrm>
            <a:off x="4723920" y="2332080"/>
            <a:ext cx="403884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kelihood or tendency that an individual will undertake a specific action or behave in a particular way with regard to the attitude object</a:t>
            </a:r>
            <a:endParaRPr b="0" lang="en-US" sz="3200" spc="-1" strike="noStrike">
              <a:solidFill>
                <a:srgbClr val="000000"/>
              </a:solidFill>
              <a:latin typeface="Calibri"/>
            </a:endParaRPr>
          </a:p>
        </p:txBody>
      </p:sp>
      <p:sp>
        <p:nvSpPr>
          <p:cNvPr id="561"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CF84-C505-48E4-9B71-9EC30B5AB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BF23-55D7-4CD5-B5AE-ED98BA6017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Rectangle 2"/>
          <p:cNvSpPr/>
          <p:nvPr/>
        </p:nvSpPr>
        <p:spPr>
          <a:xfrm>
            <a:off x="533520" y="53352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lang="en-US" sz="3200" spc="-1" strike="noStrike">
                <a:solidFill>
                  <a:srgbClr val="ff00ff"/>
                </a:solidFill>
                <a:latin typeface="Arial"/>
              </a:rPr>
              <a:t>conative component </a:t>
            </a:r>
            <a:r>
              <a:rPr b="1" lang="en-US" sz="3200" spc="-1" strike="noStrike">
                <a:solidFill>
                  <a:srgbClr val="000000"/>
                </a:solidFill>
                <a:latin typeface="Arial"/>
              </a:rPr>
              <a:t>describes the likelihood that you will do something in regard to the obje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ne of the most important is your intention to buy a certain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609480" y="533520"/>
            <a:ext cx="33530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Second: </a:t>
            </a:r>
            <a:r>
              <a:rPr b="1" lang="en-US" sz="3200" spc="-1" strike="noStrike">
                <a:solidFill>
                  <a:srgbClr val="ff00ff"/>
                </a:solidFill>
                <a:latin typeface="Times New Roman"/>
              </a:rPr>
              <a:t>Multiattribute Attitude Models</a:t>
            </a:r>
            <a:endParaRPr b="0" lang="en-US" sz="3200" spc="-1" strike="noStrike">
              <a:solidFill>
                <a:srgbClr val="000000"/>
              </a:solidFill>
              <a:latin typeface="Arial"/>
            </a:endParaRPr>
          </a:p>
        </p:txBody>
      </p:sp>
      <p:sp>
        <p:nvSpPr>
          <p:cNvPr id="569" name="Rectangle 3"/>
          <p:cNvSpPr/>
          <p:nvPr/>
        </p:nvSpPr>
        <p:spPr>
          <a:xfrm>
            <a:off x="3962520" y="533520"/>
            <a:ext cx="457200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tude models that examine the composition of consumer attitudes in terms of selected product attributes or beliefs.</a:t>
            </a:r>
            <a:endParaRPr b="0" lang="en-US" sz="3200" spc="-1" strike="noStrike">
              <a:solidFill>
                <a:srgbClr val="000000"/>
              </a:solidFill>
              <a:latin typeface="Arial"/>
            </a:endParaRPr>
          </a:p>
        </p:txBody>
      </p:sp>
      <p:sp>
        <p:nvSpPr>
          <p:cNvPr id="57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624F-A24B-4F64-B196-F3AEA177E1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7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6133-6BBF-46A4-9139-C19C46B5B5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Rectangle 2"/>
          <p:cNvSpPr/>
          <p:nvPr/>
        </p:nvSpPr>
        <p:spPr>
          <a:xfrm>
            <a:off x="457200" y="685800"/>
            <a:ext cx="7924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as the name implies, these are models that breakdown overall attitude into the attributes or beliefs which form an overall opin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here are several of these models, as you will see on the next few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Multiattribute Attitude Models</a:t>
            </a:r>
            <a:endParaRPr b="1" lang="en-US" sz="4000" spc="-1" strike="noStrike">
              <a:solidFill>
                <a:srgbClr val="000000"/>
              </a:solidFill>
              <a:latin typeface="Calibri"/>
            </a:endParaRPr>
          </a:p>
        </p:txBody>
      </p:sp>
      <p:sp>
        <p:nvSpPr>
          <p:cNvPr id="576"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1-The attitude-toward-objec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The attitude-toward-behavior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Theory-of-reasoned-action model</a:t>
            </a:r>
            <a:endParaRPr b="0" lang="en-US" sz="2800" spc="-1" strike="noStrike">
              <a:solidFill>
                <a:srgbClr val="000000"/>
              </a:solidFill>
              <a:latin typeface="Calibri"/>
            </a:endParaRPr>
          </a:p>
        </p:txBody>
      </p:sp>
      <p:sp>
        <p:nvSpPr>
          <p:cNvPr id="577"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e is function of the presence of certain beliefs or attributes.</a:t>
            </a:r>
            <a:endParaRPr b="0" lang="en-US" sz="2800" spc="-1" strike="noStrike">
              <a:solidFill>
                <a:srgbClr val="000000"/>
              </a:solidFill>
              <a:latin typeface="Calibri"/>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measure attitudes toward product and service categories or specific brands.</a:t>
            </a:r>
            <a:endParaRPr b="0" lang="en-US" sz="2800" spc="-1" strike="noStrike">
              <a:solidFill>
                <a:srgbClr val="000000"/>
              </a:solidFill>
              <a:latin typeface="Calibri"/>
            </a:endParaRPr>
          </a:p>
          <a:p>
            <a:pPr marL="353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58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FE56-ACB3-4206-A59B-81D2174FEE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3C79-00A5-4BE9-838E-DCB5C5D3F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Rectangle 2"/>
          <p:cNvSpPr/>
          <p:nvPr/>
        </p:nvSpPr>
        <p:spPr>
          <a:xfrm>
            <a:off x="380880" y="533520"/>
            <a:ext cx="8229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rding to the </a:t>
            </a:r>
            <a:r>
              <a:rPr b="1" lang="en-US" sz="2800" spc="-1" strike="noStrike">
                <a:solidFill>
                  <a:srgbClr val="ff0000"/>
                </a:solidFill>
                <a:latin typeface="Arial"/>
              </a:rPr>
              <a:t>attitude-toward-object model</a:t>
            </a:r>
            <a:r>
              <a:rPr b="1" lang="en-US" sz="2800" spc="-1" strike="noStrike">
                <a:solidFill>
                  <a:srgbClr val="000000"/>
                </a:solidFill>
                <a:latin typeface="Arial"/>
              </a:rPr>
              <a:t>, consumers will like a brand or product that has an adequate level of attributes that the consumer thinks are posi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For example, if you are buying a home, there is a list of attributes that the home must have – 2 bedrooms, 2 bathrooms, air conditioning, and a back y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this model, an attitude is positive for the house that has the most of these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s Your Attitude Toward the Product Advertised? What Is Your Attitude Toward the Ad Itself? Are the Two Attitudes Similar or Different?</a:t>
            </a:r>
            <a:endParaRPr b="1" lang="en-US" sz="2400" spc="-1" strike="noStrike">
              <a:solidFill>
                <a:srgbClr val="000000"/>
              </a:solidFill>
              <a:latin typeface="Calibri"/>
            </a:endParaRPr>
          </a:p>
        </p:txBody>
      </p:sp>
      <p:pic>
        <p:nvPicPr>
          <p:cNvPr id="506" name="Content Placeholder 4" descr="fig08_01.jpg"/>
          <p:cNvPicPr/>
          <p:nvPr/>
        </p:nvPicPr>
        <p:blipFill>
          <a:blip r:embed="rId1"/>
          <a:stretch/>
        </p:blipFill>
        <p:spPr>
          <a:xfrm>
            <a:off x="3103560" y="1752480"/>
            <a:ext cx="2936880" cy="4373640"/>
          </a:xfrm>
          <a:prstGeom prst="rect">
            <a:avLst/>
          </a:prstGeom>
          <a:ln w="0">
            <a:noFill/>
          </a:ln>
        </p:spPr>
      </p:pic>
      <p:sp>
        <p:nvSpPr>
          <p:cNvPr id="50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A31E-090C-46A9-B247-BF63B9971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0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ltiattribute Attitude Models</a:t>
            </a:r>
            <a:endParaRPr b="1" lang="en-US" sz="4000" spc="-1" strike="noStrike">
              <a:solidFill>
                <a:srgbClr val="000000"/>
              </a:solidFill>
              <a:latin typeface="Calibri"/>
            </a:endParaRPr>
          </a:p>
        </p:txBody>
      </p:sp>
      <p:sp>
        <p:nvSpPr>
          <p:cNvPr id="586"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objec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2-The attitude-toward-behavior mode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ory-of-reasoned-action model</a:t>
            </a:r>
            <a:endParaRPr b="0" lang="en-US" sz="2800" spc="-1" strike="noStrike">
              <a:solidFill>
                <a:srgbClr val="000000"/>
              </a:solidFill>
              <a:latin typeface="Calibri"/>
            </a:endParaRPr>
          </a:p>
        </p:txBody>
      </p:sp>
      <p:sp>
        <p:nvSpPr>
          <p:cNvPr id="587"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attitude toward behaving or acting with respect to an object, rather than the attitude toward the object itself </a:t>
            </a:r>
            <a:endParaRPr b="0" lang="en-US" sz="2800" spc="-1" strike="noStrike">
              <a:solidFill>
                <a:srgbClr val="000000"/>
              </a:solidFill>
              <a:latin typeface="Calibri"/>
            </a:endParaRPr>
          </a:p>
          <a:p>
            <a:pPr marL="353880" indent="-35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sponds closely to actual behavior</a:t>
            </a:r>
            <a:endParaRPr b="0" lang="en-US" sz="2800" spc="-1" strike="noStrike">
              <a:solidFill>
                <a:srgbClr val="000000"/>
              </a:solidFill>
              <a:latin typeface="Calibri"/>
            </a:endParaRPr>
          </a:p>
        </p:txBody>
      </p:sp>
      <p:sp>
        <p:nvSpPr>
          <p:cNvPr id="588"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58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0114-B479-4996-BB63-22660A0D64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463E-4274-44D7-9387-070D0D881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Rectangle 2"/>
          <p:cNvSpPr/>
          <p:nvPr/>
        </p:nvSpPr>
        <p:spPr>
          <a:xfrm>
            <a:off x="380880" y="53352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of asking people what product they like and have positive attitudes toward, the </a:t>
            </a:r>
            <a:r>
              <a:rPr b="1" lang="en-US" sz="2800" spc="-1" strike="noStrike">
                <a:solidFill>
                  <a:srgbClr val="ff0000"/>
                </a:solidFill>
                <a:latin typeface="Arial"/>
              </a:rPr>
              <a:t>attitude-toward-behavior model </a:t>
            </a:r>
            <a:r>
              <a:rPr b="1" lang="en-US" sz="2800" spc="-1" strike="noStrike">
                <a:solidFill>
                  <a:srgbClr val="000000"/>
                </a:solidFill>
                <a:latin typeface="Arial"/>
              </a:rPr>
              <a:t>is based on how positive someone's attitude is toward </a:t>
            </a:r>
            <a:r>
              <a:rPr b="1" lang="en-US" sz="2800" spc="-1" strike="noStrike" u="sng">
                <a:solidFill>
                  <a:srgbClr val="000000"/>
                </a:solidFill>
                <a:uFillTx/>
                <a:latin typeface="Arial"/>
              </a:rPr>
              <a:t>acting </a:t>
            </a:r>
            <a:r>
              <a:rPr b="1" lang="en-US" sz="2800" spc="-1" strike="noStrike">
                <a:solidFill>
                  <a:srgbClr val="000000"/>
                </a:solidFill>
                <a:latin typeface="Arial"/>
              </a:rPr>
              <a:t>a certain way, for instance purchasing a certain br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question is now how likely are you to purchase brand X rather than how highly do you rate brand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sumer Characteristics, Attitude, </a:t>
            </a:r>
            <a:br>
              <a:rPr sz="3600"/>
            </a:br>
            <a:r>
              <a:rPr b="1" lang="en-US" sz="3600" spc="-1" strike="noStrike">
                <a:solidFill>
                  <a:srgbClr val="000000"/>
                </a:solidFill>
                <a:latin typeface="Calibri"/>
              </a:rPr>
              <a:t>and Online Shopping</a:t>
            </a:r>
            <a:endParaRPr b="1" lang="en-US" sz="3600" spc="-1" strike="noStrike">
              <a:solidFill>
                <a:srgbClr val="000000"/>
              </a:solidFill>
              <a:latin typeface="Calibri"/>
            </a:endParaRPr>
          </a:p>
        </p:txBody>
      </p:sp>
      <p:sp>
        <p:nvSpPr>
          <p:cNvPr id="59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0171-8725-4F7A-97B7-3B60FD162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9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98" name="Picture 8" descr="fig08_04"/>
          <p:cNvPicPr/>
          <p:nvPr/>
        </p:nvPicPr>
        <p:blipFill>
          <a:blip r:embed="rId1"/>
          <a:stretch/>
        </p:blipFill>
        <p:spPr>
          <a:xfrm>
            <a:off x="1380960" y="1492200"/>
            <a:ext cx="61722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0090-40CD-4375-96AA-6AA9933CE4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Rectangle 2"/>
          <p:cNvSpPr/>
          <p:nvPr/>
        </p:nvSpPr>
        <p:spPr>
          <a:xfrm>
            <a:off x="533520" y="38088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model that looks at people’s attitudes toward purchasing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n the lefthand side are the consumer characteristics that tend to impact a person’s attitude toward purchasing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Their attitude was broken down further by how they view nine benefits of online shopping, including effectiveness, convenience, information, safety, service, delivery speed, web design, selection, and familiarity with company na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 addition, the attitude leads to how a consumer will rate an online shopping exper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ultiattribute Attitude Models</a:t>
            </a:r>
            <a:endParaRPr b="1" lang="en-US" sz="3600" spc="-1" strike="noStrike">
              <a:solidFill>
                <a:srgbClr val="000000"/>
              </a:solidFill>
              <a:latin typeface="Calibri"/>
            </a:endParaRPr>
          </a:p>
        </p:txBody>
      </p:sp>
      <p:sp>
        <p:nvSpPr>
          <p:cNvPr id="602" name="PlaceHolder 2"/>
          <p:cNvSpPr>
            <a:spLocks noGrp="1"/>
          </p:cNvSpPr>
          <p:nvPr>
            <p:ph/>
          </p:nvPr>
        </p:nvSpPr>
        <p:spPr>
          <a:xfrm>
            <a:off x="456840" y="2743200"/>
            <a:ext cx="396252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object model</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The attitude-toward-behavior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3-Theory-of-reasoned-action model</a:t>
            </a:r>
            <a:endParaRPr b="0" lang="en-US" sz="2800" spc="-1" strike="noStrike">
              <a:solidFill>
                <a:srgbClr val="000000"/>
              </a:solidFill>
              <a:latin typeface="Calibri"/>
            </a:endParaRPr>
          </a:p>
        </p:txBody>
      </p:sp>
      <p:sp>
        <p:nvSpPr>
          <p:cNvPr id="603" name="PlaceHolder 3"/>
          <p:cNvSpPr>
            <a:spLocks noGrp="1"/>
          </p:cNvSpPr>
          <p:nvPr>
            <p:ph/>
          </p:nvPr>
        </p:nvSpPr>
        <p:spPr>
          <a:xfrm>
            <a:off x="4723920" y="2743200"/>
            <a:ext cx="4038840" cy="452592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cognitive, affective, and conative components</a:t>
            </a:r>
            <a:endParaRPr b="0" lang="en-US" sz="2800" spc="-1" strike="noStrike">
              <a:solidFill>
                <a:srgbClr val="000000"/>
              </a:solidFill>
              <a:latin typeface="Calibri"/>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subjective norms in addition to attitude</a:t>
            </a:r>
            <a:endParaRPr b="0" lang="en-US" sz="2800" spc="-1" strike="noStrike">
              <a:solidFill>
                <a:srgbClr val="000000"/>
              </a:solidFill>
              <a:latin typeface="Calibri"/>
            </a:endParaRPr>
          </a:p>
        </p:txBody>
      </p:sp>
      <p:sp>
        <p:nvSpPr>
          <p:cNvPr id="604"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Types</a:t>
            </a:r>
            <a:endParaRPr b="0" lang="en-US" sz="3200" spc="-1" strike="noStrike">
              <a:solidFill>
                <a:srgbClr val="000000"/>
              </a:solidFill>
              <a:latin typeface="Arial"/>
            </a:endParaRPr>
          </a:p>
        </p:txBody>
      </p:sp>
      <p:sp>
        <p:nvSpPr>
          <p:cNvPr id="60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E2A9-F52B-4E7A-B6C7-C294C9DB1D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99D1-10FE-469F-BFE7-730223A32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Rectangle 2"/>
          <p:cNvSpPr/>
          <p:nvPr/>
        </p:nvSpPr>
        <p:spPr>
          <a:xfrm>
            <a:off x="838080" y="304920"/>
            <a:ext cx="7391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lso need to understand subjective norms or how a consumer is influenced by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C:\Documents and Settings\utter\Local Settings\Temporary Internet Files\Content.IE5\AJVCC7L6\MMj02832680000[1].gif">
            <a:hlinkClick r:id="rId1"/>
          </p:cNvPr>
          <p:cNvPicPr/>
          <p:nvPr/>
        </p:nvPicPr>
        <p:blipFill>
          <a:blip r:embed="rId2"/>
          <a:stretch/>
        </p:blipFill>
        <p:spPr>
          <a:xfrm>
            <a:off x="8001000" y="5791320"/>
            <a:ext cx="771480" cy="761760"/>
          </a:xfrm>
          <a:prstGeom prst="rect">
            <a:avLst/>
          </a:prstGeom>
          <a:ln w="0">
            <a:noFill/>
          </a:ln>
        </p:spPr>
      </p:pic>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 Simplified Version of the Theory of Reasoned Action - Figure 8.5 </a:t>
            </a:r>
            <a:endParaRPr b="1" lang="en-US" sz="3600" spc="-1" strike="noStrike">
              <a:solidFill>
                <a:srgbClr val="000000"/>
              </a:solidFill>
              <a:latin typeface="Calibri"/>
            </a:endParaRPr>
          </a:p>
        </p:txBody>
      </p:sp>
      <p:sp>
        <p:nvSpPr>
          <p:cNvPr id="612"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4017-57C7-48EE-AD5A-869E483C9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15" name="Picture 9" descr="fig08_05"/>
          <p:cNvPicPr/>
          <p:nvPr/>
        </p:nvPicPr>
        <p:blipFill>
          <a:blip r:embed="rId3"/>
          <a:stretch/>
        </p:blipFill>
        <p:spPr>
          <a:xfrm>
            <a:off x="1447920" y="1387440"/>
            <a:ext cx="6248160" cy="509904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609480" y="533520"/>
            <a:ext cx="320040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Third:  </a:t>
            </a:r>
            <a:r>
              <a:rPr b="1" lang="en-US" sz="3200" spc="-1" strike="noStrike">
                <a:solidFill>
                  <a:srgbClr val="ff00ff"/>
                </a:solidFill>
                <a:latin typeface="Times New Roman"/>
              </a:rPr>
              <a:t>Theory of Trying to Consume</a:t>
            </a:r>
            <a:endParaRPr b="0" lang="en-US" sz="3200" spc="-1" strike="noStrike">
              <a:solidFill>
                <a:srgbClr val="000000"/>
              </a:solidFill>
              <a:latin typeface="Arial"/>
            </a:endParaRPr>
          </a:p>
        </p:txBody>
      </p:sp>
      <p:sp>
        <p:nvSpPr>
          <p:cNvPr id="617" name="Rectangle 3"/>
          <p:cNvSpPr/>
          <p:nvPr/>
        </p:nvSpPr>
        <p:spPr>
          <a:xfrm>
            <a:off x="3809880" y="533520"/>
            <a:ext cx="472464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titude theory designed to account for the many cases where the action or outcome is not certain but instead reflects the consumer’s attempt to consume (or purchase).</a:t>
            </a:r>
            <a:endParaRPr b="0" lang="en-US" sz="3200" spc="-1" strike="noStrike">
              <a:solidFill>
                <a:srgbClr val="000000"/>
              </a:solidFill>
              <a:latin typeface="Arial"/>
            </a:endParaRPr>
          </a:p>
        </p:txBody>
      </p:sp>
      <p:sp>
        <p:nvSpPr>
          <p:cNvPr id="61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335C-CAE5-41A9-8313-96B893B377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AD40-8C54-4425-9F29-4B913C817C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Rectangle 2"/>
          <p:cNvSpPr/>
          <p:nvPr/>
        </p:nvSpPr>
        <p:spPr>
          <a:xfrm>
            <a:off x="609480" y="53352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ff00ff"/>
                </a:solidFill>
                <a:latin typeface="Arial"/>
              </a:rPr>
              <a:t>theory of trying to consume </a:t>
            </a:r>
            <a:r>
              <a:rPr b="1" lang="en-US" sz="2800" spc="-1" strike="noStrike">
                <a:solidFill>
                  <a:srgbClr val="000000"/>
                </a:solidFill>
                <a:latin typeface="Arial"/>
              </a:rPr>
              <a:t>addresses the fact that many people may want to purchase but in many cases they canno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his may occur for personal reasons, such as not having enough money, or environmental reasons, such as not being able to go to a particular st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Diagram 4" descr=""/>
          <p:cNvPicPr/>
          <p:nvPr/>
        </p:nvPicPr>
        <p:blipFill>
          <a:blip r:embed="rId1"/>
          <a:stretch/>
        </p:blipFill>
        <p:spPr>
          <a:xfrm>
            <a:off x="774720" y="1517760"/>
            <a:ext cx="7856640" cy="2388960"/>
          </a:xfrm>
          <a:prstGeom prst="rect">
            <a:avLst/>
          </a:prstGeom>
          <a:ln w="0">
            <a:noFill/>
          </a:ln>
        </p:spPr>
      </p:pic>
      <p:pic>
        <p:nvPicPr>
          <p:cNvPr id="624" name="Diagram 5" descr=""/>
          <p:cNvPicPr/>
          <p:nvPr/>
        </p:nvPicPr>
        <p:blipFill>
          <a:blip r:embed="rId2"/>
          <a:stretch/>
        </p:blipFill>
        <p:spPr>
          <a:xfrm>
            <a:off x="768240" y="3882960"/>
            <a:ext cx="7863120" cy="2524320"/>
          </a:xfrm>
          <a:prstGeom prst="rect">
            <a:avLst/>
          </a:prstGeom>
          <a:ln w="0">
            <a:noFill/>
          </a:ln>
        </p:spPr>
      </p:pic>
      <p:sp>
        <p:nvSpPr>
          <p:cNvPr id="62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Selected Examples of Potential Impediments That Might Impact Trying - Table 8.7</a:t>
            </a:r>
            <a:endParaRPr b="1" lang="en-US" sz="3600" spc="-1" strike="noStrike">
              <a:solidFill>
                <a:srgbClr val="000000"/>
              </a:solidFill>
              <a:latin typeface="Calibri"/>
            </a:endParaRPr>
          </a:p>
        </p:txBody>
      </p:sp>
      <p:sp>
        <p:nvSpPr>
          <p:cNvPr id="62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FC12-8D4B-4D48-B699-C020C6517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609480" y="533520"/>
            <a:ext cx="327672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itude</a:t>
            </a:r>
            <a:endParaRPr b="0" lang="en-US" sz="3200" spc="-1" strike="noStrike">
              <a:solidFill>
                <a:srgbClr val="000000"/>
              </a:solidFill>
              <a:latin typeface="Arial"/>
            </a:endParaRPr>
          </a:p>
        </p:txBody>
      </p:sp>
      <p:sp>
        <p:nvSpPr>
          <p:cNvPr id="511" name="Rectangle 3"/>
          <p:cNvSpPr/>
          <p:nvPr/>
        </p:nvSpPr>
        <p:spPr>
          <a:xfrm>
            <a:off x="3886200" y="533520"/>
            <a:ext cx="464832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earned predisposition to behave in a consistently favorable or unfavorable manner with respect to a given object.</a:t>
            </a:r>
            <a:endParaRPr b="0" lang="en-US" sz="3200" spc="-1" strike="noStrike">
              <a:solidFill>
                <a:srgbClr val="000000"/>
              </a:solidFill>
              <a:latin typeface="Arial"/>
            </a:endParaRPr>
          </a:p>
        </p:txBody>
      </p:sp>
      <p:pic>
        <p:nvPicPr>
          <p:cNvPr id="512" name="Picture 2" descr="C:\Documents and Settings\utter\Local Settings\Temporary Internet Files\Content.IE5\AJVCC7L6\MMj02832680000[1].gif">
            <a:hlinkClick r:id="rId1"/>
          </p:cNvPr>
          <p:cNvPicPr/>
          <p:nvPr/>
        </p:nvPicPr>
        <p:blipFill>
          <a:blip r:embed="rId2"/>
          <a:stretch/>
        </p:blipFill>
        <p:spPr>
          <a:xfrm>
            <a:off x="7772400" y="5410080"/>
            <a:ext cx="771480" cy="762120"/>
          </a:xfrm>
          <a:prstGeom prst="rect">
            <a:avLst/>
          </a:prstGeom>
          <a:ln w="0">
            <a:noFill/>
          </a:ln>
        </p:spPr>
      </p:pic>
      <p:sp>
        <p:nvSpPr>
          <p:cNvPr id="5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4AD7-71F9-471D-BED7-9A23875A8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1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BE94-FA68-4214-929E-19B9465B0F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Rectangle 2"/>
          <p:cNvSpPr/>
          <p:nvPr/>
        </p:nvSpPr>
        <p:spPr>
          <a:xfrm>
            <a:off x="457200" y="685800"/>
            <a:ext cx="7848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any reasons why people do not consume even if they want to purchase a produ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Table 8.7 in the text gives examples of both personal and environment impedim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ow many times have these reasons stopped you from purchasing?  What can marketers do to remove these impedi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609480" y="533520"/>
            <a:ext cx="33530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Fourth: </a:t>
            </a:r>
            <a:r>
              <a:rPr b="1" lang="en-US" sz="3200" spc="-1" strike="noStrike">
                <a:solidFill>
                  <a:srgbClr val="ff00ff"/>
                </a:solidFill>
                <a:latin typeface="Times New Roman"/>
              </a:rPr>
              <a:t>Attitude-Toward-the-Ad Mo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Rectangle 3"/>
          <p:cNvSpPr/>
          <p:nvPr/>
        </p:nvSpPr>
        <p:spPr>
          <a:xfrm>
            <a:off x="3962520" y="533520"/>
            <a:ext cx="472428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 that proposes that a consumer forms various feelings (affects) and judgments (cognitions) as the result of exposure to an advertisement, which, in turn, affect the consumer’s attitude toward the ad and attitude toward the bran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EE54-892E-4BB7-A9D0-39913188B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3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007C-2786-4FC6-A16E-68B773B3B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7" name="Rectangle 2"/>
          <p:cNvSpPr/>
          <p:nvPr/>
        </p:nvSpPr>
        <p:spPr>
          <a:xfrm>
            <a:off x="609480" y="53352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17375e"/>
                </a:solidFill>
                <a:latin typeface="Arial"/>
              </a:rPr>
              <a:t>attitude-toward-the-ad model </a:t>
            </a:r>
            <a:r>
              <a:rPr b="1" lang="en-US" sz="2800" spc="-1" strike="noStrike">
                <a:solidFill>
                  <a:srgbClr val="000000"/>
                </a:solidFill>
                <a:latin typeface="Arial"/>
              </a:rPr>
              <a:t>helps us understand how advertising impacts attitud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del is more thoroughly diagramed on the next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84807"/>
                </a:solidFill>
                <a:latin typeface="Calibri"/>
              </a:rPr>
              <a:t>A Conception of the Relationship Among Elements in an Attitude-Toward-the-Ad Model - Figure 8.6 </a:t>
            </a:r>
            <a:br>
              <a:rPr sz="3200"/>
            </a:br>
            <a:endParaRPr b="1" lang="en-US" sz="3200" spc="-1" strike="noStrike">
              <a:solidFill>
                <a:srgbClr val="000000"/>
              </a:solidFill>
              <a:latin typeface="Calibri"/>
            </a:endParaRPr>
          </a:p>
        </p:txBody>
      </p:sp>
      <p:sp>
        <p:nvSpPr>
          <p:cNvPr id="63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5D4-053A-420A-B707-9BB8B315B7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42" name="Picture 8" descr="fig08_06"/>
          <p:cNvPicPr/>
          <p:nvPr/>
        </p:nvPicPr>
        <p:blipFill>
          <a:blip r:embed="rId1"/>
          <a:stretch/>
        </p:blipFill>
        <p:spPr>
          <a:xfrm>
            <a:off x="457200" y="1477800"/>
            <a:ext cx="8153280" cy="499932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FEAD-77FB-4107-9D20-CBC6FFD6FC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4" name="Rectangle 2"/>
          <p:cNvSpPr/>
          <p:nvPr/>
        </p:nvSpPr>
        <p:spPr>
          <a:xfrm>
            <a:off x="380880" y="380880"/>
            <a:ext cx="7772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e we see that everything begins with exposure to the a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fter this exposure, the consumer has feelings (affect) and thoughts (cognition) regarding the a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forms an attitude which works with beliefs about the brand to help form an attitude toward the br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ssues in Attitude Formation</a:t>
            </a:r>
            <a:endParaRPr b="1" lang="en-US" sz="4000" spc="-1" strike="noStrike">
              <a:solidFill>
                <a:srgbClr val="000000"/>
              </a:solidFill>
              <a:latin typeface="Calibri"/>
            </a:endParaRPr>
          </a:p>
        </p:txBody>
      </p:sp>
      <p:sp>
        <p:nvSpPr>
          <p:cNvPr id="64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How attitudes are learned</a:t>
            </a: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Conditioning and experience</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Knowledge and beliefs</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alibri"/>
              </a:rPr>
              <a:t>1- Sources of influence on attitude 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xperi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 of fami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marketing and mass media</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alibri"/>
              </a:rPr>
              <a:t>2-Personality factors</a:t>
            </a: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8153-70A7-4140-89F2-A174CE74F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4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6E76-C61D-4E6F-A7DB-6703E0747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Rectangle 2"/>
          <p:cNvSpPr/>
          <p:nvPr/>
        </p:nvSpPr>
        <p:spPr>
          <a:xfrm>
            <a:off x="380880" y="457200"/>
            <a:ext cx="81536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itudes are formed through lear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alling the concepts of classical and operant conditioning from earlier chapters, we recall that two stimuli can be paired or linked together to form a learned respon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In addition, consumers can learn attitudes from rewards or outcomes from behavi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ttitudes are learned, then it is through experiences that this learning occu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5AAA-B80C-4CA8-AE6E-1FDA20F82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Rectangle 2"/>
          <p:cNvSpPr/>
          <p:nvPr/>
        </p:nvSpPr>
        <p:spPr>
          <a:xfrm>
            <a:off x="685800" y="380880"/>
            <a:ext cx="8001000" cy="63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can be from personal experience or from experiences with friends or exposure to marketing influe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topic studied in an earlier chapter comes into play with attitude form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is the consumer’s need for cog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will form attitudes based on the information that best suits them, information for the high need for cognition consumer, and images and spokespeople for the low need for 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ategies of Attitude Change</a:t>
            </a:r>
            <a:endParaRPr b="1" lang="en-US" sz="4000" spc="-1" strike="noStrike">
              <a:solidFill>
                <a:srgbClr val="000000"/>
              </a:solidFill>
              <a:latin typeface="Calibri"/>
            </a:endParaRPr>
          </a:p>
        </p:txBody>
      </p:sp>
      <p:pic>
        <p:nvPicPr>
          <p:cNvPr id="655" name="Diagram 3" descr=""/>
          <p:cNvPicPr/>
          <p:nvPr/>
        </p:nvPicPr>
        <p:blipFill>
          <a:blip r:embed="rId1"/>
          <a:stretch/>
        </p:blipFill>
        <p:spPr>
          <a:xfrm>
            <a:off x="334800" y="1749600"/>
            <a:ext cx="8401320" cy="4383000"/>
          </a:xfrm>
          <a:prstGeom prst="rect">
            <a:avLst/>
          </a:prstGeom>
          <a:ln w="0">
            <a:noFill/>
          </a:ln>
        </p:spPr>
      </p:pic>
      <p:sp>
        <p:nvSpPr>
          <p:cNvPr id="65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22CB-70DB-4343-B84E-4C253FBB6C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7"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5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73B3-A12B-4CF9-AA8E-C7DD37F6E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Rectangle 2"/>
          <p:cNvSpPr/>
          <p:nvPr/>
        </p:nvSpPr>
        <p:spPr>
          <a:xfrm>
            <a:off x="609480" y="457200"/>
            <a:ext cx="7772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e are five strategies for attitude chang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f you think about it, attitude change and formation are not all that differen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y are both learned, they are both influenced by personal experience, and personality affects both of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293D-C457-4439-AACA-7795324E6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7" name="Rectangle 2"/>
          <p:cNvSpPr/>
          <p:nvPr/>
        </p:nvSpPr>
        <p:spPr>
          <a:xfrm>
            <a:off x="457200" y="609480"/>
            <a:ext cx="6400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have attitudes toward many things – to people, products, advertisements, ideas, and mo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For the most part, these attitudes have been learned and guide our behavior toward the objec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web link brings you to one of many sites that helps measure attitudes via online surv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Calibri"/>
              </a:rPr>
              <a:t>1-Changing the Basic Motivational Function</a:t>
            </a:r>
            <a:endParaRPr b="1" lang="en-US" sz="3600" spc="-1" strike="noStrike">
              <a:solidFill>
                <a:srgbClr val="000000"/>
              </a:solidFill>
              <a:latin typeface="Calibri"/>
            </a:endParaRPr>
          </a:p>
        </p:txBody>
      </p:sp>
      <p:pic>
        <p:nvPicPr>
          <p:cNvPr id="662" name="Diagram 4" descr=""/>
          <p:cNvPicPr/>
          <p:nvPr/>
        </p:nvPicPr>
        <p:blipFill>
          <a:blip r:embed="rId1"/>
          <a:stretch/>
        </p:blipFill>
        <p:spPr>
          <a:xfrm>
            <a:off x="2225520" y="1749600"/>
            <a:ext cx="4741920" cy="4584600"/>
          </a:xfrm>
          <a:prstGeom prst="rect">
            <a:avLst/>
          </a:prstGeom>
          <a:ln w="0">
            <a:noFill/>
          </a:ln>
        </p:spPr>
      </p:pic>
      <p:sp>
        <p:nvSpPr>
          <p:cNvPr id="6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F704-5805-472B-9034-816B9265A7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6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992D-9F68-4BA3-A158-FDEAE0F95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Rectangle 2"/>
          <p:cNvSpPr/>
          <p:nvPr/>
        </p:nvSpPr>
        <p:spPr>
          <a:xfrm>
            <a:off x="838080" y="533520"/>
            <a:ext cx="7391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ing the basic </a:t>
            </a:r>
            <a:r>
              <a:rPr b="1" lang="en-US" sz="2400" spc="-1" strike="noStrike">
                <a:solidFill>
                  <a:srgbClr val="7030a0"/>
                </a:solidFill>
                <a:latin typeface="Arial"/>
              </a:rPr>
              <a:t>motivational function </a:t>
            </a:r>
            <a:r>
              <a:rPr b="1" lang="en-US" sz="2400" spc="-1" strike="noStrike">
                <a:solidFill>
                  <a:srgbClr val="000000"/>
                </a:solidFill>
                <a:latin typeface="Arial"/>
              </a:rPr>
              <a:t>means to change the basic need that a consumer is trying to fulf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7030a0"/>
                </a:solidFill>
                <a:latin typeface="Arial"/>
              </a:rPr>
              <a:t>Utilitarian </a:t>
            </a:r>
            <a:r>
              <a:rPr b="1" lang="en-US" sz="2400" spc="-1" strike="noStrike">
                <a:solidFill>
                  <a:srgbClr val="000000"/>
                </a:solidFill>
                <a:latin typeface="Arial"/>
              </a:rPr>
              <a:t>function is how the product is useful to us.  A marketer might want to create a more positive attitude toward a brand by showing all it can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n </a:t>
            </a:r>
            <a:r>
              <a:rPr b="1" lang="en-US" sz="2400" spc="-1" strike="noStrike">
                <a:solidFill>
                  <a:srgbClr val="7030a0"/>
                </a:solidFill>
                <a:latin typeface="Arial"/>
              </a:rPr>
              <a:t>ego-defensive</a:t>
            </a:r>
            <a:r>
              <a:rPr b="1" lang="en-US" sz="2400" spc="-1" strike="noStrike">
                <a:solidFill>
                  <a:srgbClr val="000000"/>
                </a:solidFill>
                <a:latin typeface="Arial"/>
              </a:rPr>
              <a:t> function would show how the product would make them feel more secure and confid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 </a:t>
            </a:r>
            <a:r>
              <a:rPr b="1" lang="en-US" sz="2400" spc="-1" strike="noStrike">
                <a:solidFill>
                  <a:srgbClr val="7030a0"/>
                </a:solidFill>
                <a:latin typeface="Arial"/>
              </a:rPr>
              <a:t>value-expressive </a:t>
            </a:r>
            <a:r>
              <a:rPr b="1" lang="en-US" sz="2400" spc="-1" strike="noStrike">
                <a:solidFill>
                  <a:srgbClr val="000000"/>
                </a:solidFill>
                <a:latin typeface="Arial"/>
              </a:rPr>
              <a:t>function would more positively reflect the consumer’s values, lifestyle, and outl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5E5D-5EEA-489E-B8A8-C8A6AE379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Rectangle 2"/>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Finally, the </a:t>
            </a:r>
            <a:r>
              <a:rPr b="1" lang="en-US" sz="2400" spc="-1" strike="noStrike">
                <a:solidFill>
                  <a:srgbClr val="7030a0"/>
                </a:solidFill>
                <a:latin typeface="Arial"/>
              </a:rPr>
              <a:t>knowledge</a:t>
            </a:r>
            <a:r>
              <a:rPr b="1" lang="en-US" sz="2400" spc="-1" strike="noStrike">
                <a:solidFill>
                  <a:srgbClr val="000000"/>
                </a:solidFill>
                <a:latin typeface="Arial"/>
              </a:rPr>
              <a:t> function would satisfy the consumer’s “need to know” and help them understand more about the world around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important for marketers to realize that they might have to combine functions because different customers are motivated to purchase their products for different reas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one might buy a product because it tastes good and fills them up (utilitarian), while another thinks it is low fat and will make them healthy and therefore look better (ego-def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2-Associating the Product with an Admired Group or Event</a:t>
            </a:r>
            <a:br>
              <a:rPr sz="4000"/>
            </a:br>
            <a:r>
              <a:rPr b="1" lang="en-US" sz="4000" spc="-1" strike="noStrike">
                <a:solidFill>
                  <a:srgbClr val="ff00ff"/>
                </a:solidFill>
                <a:latin typeface="Calibri"/>
              </a:rPr>
              <a:t> </a:t>
            </a:r>
            <a:endParaRPr b="1" lang="en-US" sz="4000" spc="-1" strike="noStrike">
              <a:solidFill>
                <a:srgbClr val="000000"/>
              </a:solidFill>
              <a:latin typeface="Calibri"/>
            </a:endParaRPr>
          </a:p>
        </p:txBody>
      </p:sp>
      <p:sp>
        <p:nvSpPr>
          <p:cNvPr id="671" name=""/>
          <p:cNvSpPr txBox="1"/>
          <p:nvPr/>
        </p:nvSpPr>
        <p:spPr>
          <a:xfrm>
            <a:off x="457200" y="1417320"/>
            <a:ext cx="8229600" cy="47545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itudes are related to certain groups, social events, or caus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ossible to alter attitudes toward companies and their products, services, and brands by pointing out their relationship to particular social groups, event, or cause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study has investigated the relationship between the “causes” and the “sponsor”.</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tudy found that while both the brand and the causes benefit from such alliances, a low familiar causes benefited more from its association with a positive brand than did a highly familiar causes.</a:t>
            </a:r>
            <a:endParaRPr b="0" lang="en-US" sz="2800" spc="-1" strike="noStrike">
              <a:solidFill>
                <a:srgbClr val="000000"/>
              </a:solidFill>
              <a:latin typeface="Calibri"/>
            </a:endParaRPr>
          </a:p>
        </p:txBody>
      </p:sp>
      <p:sp>
        <p:nvSpPr>
          <p:cNvPr id="67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2A91-D2FB-4952-8B66-632B05F05C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3- Resolving two conflicting attitudes</a:t>
            </a:r>
            <a:endParaRPr b="1" lang="en-US" sz="4000" spc="-1" strike="noStrike">
              <a:solidFill>
                <a:srgbClr val="000000"/>
              </a:solidFill>
              <a:latin typeface="Calibri"/>
            </a:endParaRPr>
          </a:p>
        </p:txBody>
      </p:sp>
      <p:sp>
        <p:nvSpPr>
          <p:cNvPr id="6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change strategies can sometimes resolve or potential between two attitu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lly, if consumers can be to see that their negative attitude toward a product, a specific brand, or its attributes is really not in conflict with another attitude, they may be induced to change their evaluation of the brand.</a:t>
            </a:r>
            <a:endParaRPr b="0" lang="en-US" sz="3200" spc="-1" strike="noStrike">
              <a:solidFill>
                <a:srgbClr val="000000"/>
              </a:solidFill>
              <a:latin typeface="Calibri"/>
            </a:endParaRPr>
          </a:p>
        </p:txBody>
      </p:sp>
      <p:sp>
        <p:nvSpPr>
          <p:cNvPr id="67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1400-CFA5-4EAE-ACF9-B663FA113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4- Altering components of the Multiattribute model</a:t>
            </a:r>
            <a:endParaRPr b="1" lang="en-US" sz="4000" spc="-1" strike="noStrike">
              <a:solidFill>
                <a:srgbClr val="000000"/>
              </a:solidFill>
              <a:latin typeface="Calibri"/>
            </a:endParaRPr>
          </a:p>
        </p:txBody>
      </p:sp>
      <p:sp>
        <p:nvSpPr>
          <p:cNvPr id="677" name=""/>
          <p:cNvSpPr txBox="1"/>
          <p:nvPr/>
        </p:nvSpPr>
        <p:spPr>
          <a:xfrm>
            <a:off x="609120" y="1599840"/>
            <a:ext cx="769644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ering Components of the Multiattribute Model</a:t>
            </a:r>
            <a:endParaRPr b="0" lang="en-US" sz="32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relative evaluation of attribute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brand belief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ing an attribute</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ing the overall brand rating</a:t>
            </a:r>
            <a:endParaRPr b="0" lang="en-US" sz="3000" spc="-1" strike="noStrike">
              <a:solidFill>
                <a:srgbClr val="000000"/>
              </a:solidFill>
              <a:latin typeface="Calibri"/>
            </a:endParaRPr>
          </a:p>
        </p:txBody>
      </p:sp>
      <p:sp>
        <p:nvSpPr>
          <p:cNvPr id="6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05E5-7563-451E-B745-F9A51E51C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54E4-A65E-4D71-82B3-080E3F754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2" name="Rectangle 2"/>
          <p:cNvSpPr/>
          <p:nvPr/>
        </p:nvSpPr>
        <p:spPr>
          <a:xfrm>
            <a:off x="533520" y="30492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If we think analytically about a multi attribute model, we realize there are many different attributes that make up an overall attit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s marketers, we can change the way the consumer evaluates a certain attribu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erhaps the consumer thinks inexpensive is fine for a product, but a marketer might be able to point out that it is often worth paying a bit more for better qua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 marketer can also change the way consumers believe a brand rates on a certain attribu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Maybe a consumer thinks a brand is very expensive when in fact it is less expensive then several other bran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A279-19A5-4482-AAF5-12F3CE50C7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Rectangle 2"/>
          <p:cNvSpPr/>
          <p:nvPr/>
        </p:nvSpPr>
        <p:spPr>
          <a:xfrm>
            <a:off x="533520" y="609480"/>
            <a:ext cx="822960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may be an attribute that does not even exi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thought chewiness was an attribute that could even exist for a vitamin until Gummy  Vites  came al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4-Changing Beliefs about Competitors’ Bra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we can step away from looking individually at the attribute and attempt to change the consumer’s overall assessment of the br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do any of these attitude change strategies by changing beliefs of our own product or our competitor's produc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609480" y="533520"/>
            <a:ext cx="312444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Elaboration Likelihood Model (ELM)</a:t>
            </a:r>
            <a:endParaRPr b="0" lang="en-US" sz="3200" spc="-1" strike="noStrike">
              <a:solidFill>
                <a:srgbClr val="000000"/>
              </a:solidFill>
              <a:latin typeface="Arial"/>
            </a:endParaRPr>
          </a:p>
        </p:txBody>
      </p:sp>
      <p:sp>
        <p:nvSpPr>
          <p:cNvPr id="686" name="Rectangle 3"/>
          <p:cNvSpPr/>
          <p:nvPr/>
        </p:nvSpPr>
        <p:spPr>
          <a:xfrm>
            <a:off x="3733920" y="533520"/>
            <a:ext cx="480060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ttitudes are changed by two distinctly different routes to persuasion:  a central route or a peripheral route.</a:t>
            </a:r>
            <a:endParaRPr b="0" lang="en-US" sz="3200" spc="-1" strike="noStrike">
              <a:solidFill>
                <a:srgbClr val="000000"/>
              </a:solidFill>
              <a:latin typeface="Arial"/>
            </a:endParaRPr>
          </a:p>
        </p:txBody>
      </p:sp>
      <p:sp>
        <p:nvSpPr>
          <p:cNvPr id="68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8772-CADA-41A7-92BB-048574AAE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0434-E7EE-4A46-B8B3-425703F13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1" name="Rectangle 2"/>
          <p:cNvSpPr/>
          <p:nvPr/>
        </p:nvSpPr>
        <p:spPr>
          <a:xfrm>
            <a:off x="762120" y="914400"/>
            <a:ext cx="7848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ff0000"/>
                </a:solidFill>
                <a:latin typeface="Arial"/>
              </a:rPr>
              <a:t> ELM </a:t>
            </a:r>
            <a:r>
              <a:rPr b="1" lang="en-US" sz="3200" spc="-1" strike="noStrike">
                <a:solidFill>
                  <a:srgbClr val="000000"/>
                </a:solidFill>
                <a:latin typeface="Arial"/>
              </a:rPr>
              <a:t>is a much more global view of attitude change than the models reviewed on the previous sli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 more detailed description is provided in a diagram on the next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alibri"/>
              </a:rPr>
              <a:t>What Are Attitudes?</a:t>
            </a:r>
            <a:endParaRPr b="1" lang="en-US" sz="4000" spc="-1" strike="noStrike">
              <a:solidFill>
                <a:srgbClr val="000000"/>
              </a:solidFill>
              <a:latin typeface="Calibri"/>
            </a:endParaRPr>
          </a:p>
        </p:txBody>
      </p:sp>
      <p:sp>
        <p:nvSpPr>
          <p:cNvPr id="519" name="PlaceHolder 2"/>
          <p:cNvSpPr>
            <a:spLocks noGrp="1"/>
          </p:cNvSpPr>
          <p:nvPr>
            <p:ph/>
          </p:nvPr>
        </p:nvSpPr>
        <p:spPr>
          <a:xfrm>
            <a:off x="533160" y="1752120"/>
            <a:ext cx="739116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titude “o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are a learned predispos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have consiste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itudes occur within a situati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6BB7-4A41-4046-A4BC-323856C50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1"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aboration Likelihood Model</a:t>
            </a:r>
            <a:endParaRPr b="1" lang="en-US" sz="4000" spc="-1" strike="noStrike">
              <a:solidFill>
                <a:srgbClr val="000000"/>
              </a:solidFill>
              <a:latin typeface="Calibri"/>
            </a:endParaRPr>
          </a:p>
        </p:txBody>
      </p:sp>
      <p:sp>
        <p:nvSpPr>
          <p:cNvPr id="69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04B1-0CC3-44BD-866F-9E060ADB4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69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96" name="Picture 8" descr="fig08_18"/>
          <p:cNvPicPr/>
          <p:nvPr/>
        </p:nvPicPr>
        <p:blipFill>
          <a:blip r:embed="rId1"/>
          <a:stretch/>
        </p:blipFill>
        <p:spPr>
          <a:xfrm>
            <a:off x="301680" y="1212840"/>
            <a:ext cx="8534520" cy="515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ehavior Can Precede or Follow </a:t>
            </a:r>
            <a:br>
              <a:rPr sz="3600"/>
            </a:br>
            <a:r>
              <a:rPr b="1" lang="en-US" sz="3600" spc="-1" strike="noStrike">
                <a:solidFill>
                  <a:srgbClr val="ff0000"/>
                </a:solidFill>
                <a:latin typeface="Calibri"/>
              </a:rPr>
              <a:t>Attitude Formation</a:t>
            </a:r>
            <a:endParaRPr b="1" lang="en-US" sz="3600" spc="-1" strike="noStrike">
              <a:solidFill>
                <a:srgbClr val="000000"/>
              </a:solidFill>
              <a:latin typeface="Calibri"/>
            </a:endParaRPr>
          </a:p>
        </p:txBody>
      </p:sp>
      <p:pic>
        <p:nvPicPr>
          <p:cNvPr id="698" name="Content Placeholder 4" descr=""/>
          <p:cNvPicPr/>
          <p:nvPr/>
        </p:nvPicPr>
        <p:blipFill>
          <a:blip r:embed="rId1"/>
          <a:stretch/>
        </p:blipFill>
        <p:spPr>
          <a:xfrm>
            <a:off x="401760" y="1749600"/>
            <a:ext cx="8327880" cy="4383000"/>
          </a:xfrm>
          <a:prstGeom prst="rect">
            <a:avLst/>
          </a:prstGeom>
          <a:ln w="0">
            <a:noFill/>
          </a:ln>
        </p:spPr>
      </p:pic>
      <p:sp>
        <p:nvSpPr>
          <p:cNvPr id="6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2DF5-F82F-4396-8DFC-A792723DE3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F67F-DAE0-4BCF-8BBB-BAF1635CFC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Rectangle 2"/>
          <p:cNvSpPr/>
          <p:nvPr/>
        </p:nvSpPr>
        <p:spPr>
          <a:xfrm>
            <a:off x="685800" y="5335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left-hand side of the model, we see central variables on the top and peripheral variables on the botto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variables, which lead to the central route, will be effective on highly-motivated consu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will do the thinking necessary to understand the information they are presen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pheral variables, including music, spokespeople, and bright packaging, work on lower-involvement consu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gether, or alone, they create an attitude change that results in a certain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ttribution Theory</a:t>
            </a:r>
            <a:endParaRPr b="1" lang="en-US" sz="4000" spc="-1" strike="noStrike">
              <a:solidFill>
                <a:srgbClr val="000000"/>
              </a:solidFill>
              <a:latin typeface="Calibri"/>
            </a:endParaRPr>
          </a:p>
        </p:txBody>
      </p:sp>
      <p:sp>
        <p:nvSpPr>
          <p:cNvPr id="7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Perception Theor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in-the-Door Technique</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ions toward Other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ions toward Thing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Test Our Attribution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ctivenes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 over tim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 over modal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sus</a:t>
            </a:r>
            <a:endParaRPr b="0" lang="en-US" sz="2800" spc="-1" strike="noStrike">
              <a:solidFill>
                <a:srgbClr val="000000"/>
              </a:solidFill>
              <a:latin typeface="Calibri"/>
            </a:endParaRPr>
          </a:p>
        </p:txBody>
      </p:sp>
      <p:pic>
        <p:nvPicPr>
          <p:cNvPr id="706" name="Picture 2" descr="C:\Documents and Settings\utter\Local Settings\Temporary Internet Files\Content.IE5\AJVCC7L6\MMj02832680000[1].gif">
            <a:hlinkClick r:id="rId1"/>
          </p:cNvPr>
          <p:cNvPicPr/>
          <p:nvPr/>
        </p:nvPicPr>
        <p:blipFill>
          <a:blip r:embed="rId2"/>
          <a:stretch/>
        </p:blipFill>
        <p:spPr>
          <a:xfrm>
            <a:off x="7543800" y="5562720"/>
            <a:ext cx="771480" cy="761760"/>
          </a:xfrm>
          <a:prstGeom prst="rect">
            <a:avLst/>
          </a:prstGeom>
          <a:ln w="0">
            <a:noFill/>
          </a:ln>
        </p:spPr>
      </p:pic>
      <p:sp>
        <p:nvSpPr>
          <p:cNvPr id="70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9F48-D1F1-41D0-938B-D9732FD86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70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99F6-5867-47B7-B9C9-50A48923A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Rectangle 2"/>
          <p:cNvSpPr/>
          <p:nvPr/>
        </p:nvSpPr>
        <p:spPr>
          <a:xfrm>
            <a:off x="685800" y="53352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are some interesting issues in attribution theory</a:t>
            </a:r>
            <a:r>
              <a:rPr b="1"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lf-perception theory </a:t>
            </a:r>
            <a:r>
              <a:rPr b="1" lang="en-US" sz="2400" spc="-1" strike="noStrike">
                <a:solidFill>
                  <a:srgbClr val="000000"/>
                </a:solidFill>
                <a:latin typeface="Arial"/>
              </a:rPr>
              <a:t>is the inferences or judgment as to the causes of your behavi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omething happen, like you won an award, because you were really good, because the competition was weak, or because the judges were rushed?  We are constantly examining our behavior and often try to stay consis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onsidered the foot-in-the-door technique, the fact that if you say yes to something, you will probably say yes to a similar act later on to remain consistent in your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C3CE-A405-47BC-A304-949DCEEB3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3" name="Rectangle 2"/>
          <p:cNvSpPr/>
          <p:nvPr/>
        </p:nvSpPr>
        <p:spPr>
          <a:xfrm>
            <a:off x="914400" y="304920"/>
            <a:ext cx="7467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ve </a:t>
            </a:r>
            <a:r>
              <a:rPr b="1" lang="en-US" sz="2400" spc="-1" strike="noStrike">
                <a:solidFill>
                  <a:srgbClr val="ff00ff"/>
                </a:solidFill>
                <a:latin typeface="Arial"/>
              </a:rPr>
              <a:t>attribution toward others </a:t>
            </a:r>
            <a:r>
              <a:rPr b="1" lang="en-US" sz="2400" spc="-1" strike="noStrike">
                <a:solidFill>
                  <a:srgbClr val="000000"/>
                </a:solidFill>
                <a:latin typeface="Arial"/>
              </a:rPr>
              <a:t>and always ask ourselves “why” about other’s acts.  We question their mot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uld you believe we also have </a:t>
            </a:r>
            <a:r>
              <a:rPr b="1" lang="en-US" sz="2400" spc="-1" strike="noStrike">
                <a:solidFill>
                  <a:srgbClr val="ff00ff"/>
                </a:solidFill>
                <a:latin typeface="Arial"/>
              </a:rPr>
              <a:t>attribution toward things</a:t>
            </a:r>
            <a:r>
              <a:rPr b="1" lang="en-US" sz="2400" spc="-1" strike="noStrike">
                <a:solidFill>
                  <a:srgbClr val="000000"/>
                </a:solidFill>
                <a:latin typeface="Arial"/>
              </a:rPr>
              <a:t>?  Do you sometimes ask yourself, “Why do I like this software or that movie so m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time, we like to </a:t>
            </a:r>
            <a:r>
              <a:rPr b="1" lang="en-US" sz="2400" spc="-1" strike="noStrike">
                <a:solidFill>
                  <a:srgbClr val="ff00ff"/>
                </a:solidFill>
                <a:latin typeface="Arial"/>
              </a:rPr>
              <a:t>test our attributions </a:t>
            </a:r>
            <a:r>
              <a:rPr b="1" lang="en-US" sz="2400" spc="-1" strike="noStrike">
                <a:solidFill>
                  <a:srgbClr val="000000"/>
                </a:solidFill>
                <a:latin typeface="Arial"/>
              </a:rPr>
              <a:t>to see if they are correct.  We may decide that if something happens when we use this product, it has distinctive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9B5B-8AFC-4DE1-8252-9868E44BF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Rectangle 2"/>
          <p:cNvSpPr/>
          <p:nvPr/>
        </p:nvSpPr>
        <p:spPr>
          <a:xfrm>
            <a:off x="457200" y="457200"/>
            <a:ext cx="83059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 We also see if we have the same reaction to behavior over time, in different situations (modality), and if others ag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ousands of dating services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eb link goes to therightstuff.com, a dating service for Ivy-league graduates on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ople have a certain attribution toward others who attend the same colleges or group of colleges as themsel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Because they had this behavior (attended an Ivy League school) they must be like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7E80-D555-41F4-85F4-B773F0667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Rectangle 2"/>
          <p:cNvSpPr/>
          <p:nvPr/>
        </p:nvSpPr>
        <p:spPr>
          <a:xfrm>
            <a:off x="457200" y="304920"/>
            <a:ext cx="8305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I</a:t>
            </a:r>
            <a:r>
              <a:rPr b="1" lang="en-US" sz="2400" spc="-1" strike="noStrike">
                <a:solidFill>
                  <a:srgbClr val="000000"/>
                </a:solidFill>
                <a:latin typeface="Arial"/>
              </a:rPr>
              <a:t>t is important to understand these four concepts.  The first is that we must clearly define the </a:t>
            </a:r>
            <a:r>
              <a:rPr b="1" lang="en-US" sz="2400" spc="-1" strike="noStrike">
                <a:solidFill>
                  <a:srgbClr val="ff0000"/>
                </a:solidFill>
                <a:latin typeface="Arial"/>
              </a:rPr>
              <a:t>object</a:t>
            </a:r>
            <a:r>
              <a:rPr b="1" lang="en-US" sz="2400" spc="-1" strike="noStrike">
                <a:solidFill>
                  <a:srgbClr val="000000"/>
                </a:solidFill>
                <a:latin typeface="Arial"/>
              </a:rPr>
              <a:t> which we are discussing or measuring the attitude towar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s it a product category, a specific brand, or a particular model?  The second is the agreement among researchers that attitudes are</a:t>
            </a:r>
            <a:r>
              <a:rPr b="1" lang="en-US" sz="2400" spc="-1" strike="noStrike">
                <a:solidFill>
                  <a:srgbClr val="ff0000"/>
                </a:solidFill>
                <a:latin typeface="Arial"/>
              </a:rPr>
              <a:t> learned</a:t>
            </a:r>
            <a:r>
              <a:rPr b="1" lang="en-US" sz="2400" spc="-1" strike="noStrike">
                <a:solidFill>
                  <a:srgbClr val="000000"/>
                </a:solidFill>
                <a:latin typeface="Arial"/>
              </a:rPr>
              <a:t>, either through direct experience or from 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titudes are </a:t>
            </a:r>
            <a:r>
              <a:rPr b="1" lang="en-US" sz="2400" spc="-1" strike="noStrike">
                <a:solidFill>
                  <a:srgbClr val="ff0000"/>
                </a:solidFill>
                <a:latin typeface="Arial"/>
              </a:rPr>
              <a:t>consisten</a:t>
            </a:r>
            <a:r>
              <a:rPr b="1" lang="en-US" sz="2400" spc="-1" strike="noStrike">
                <a:solidFill>
                  <a:srgbClr val="000000"/>
                </a:solidFill>
                <a:latin typeface="Arial"/>
              </a:rPr>
              <a:t>t, they are not necessarily permanent and can change over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e all know how our attitude can be affected by a </a:t>
            </a:r>
            <a:r>
              <a:rPr b="1" lang="en-US" sz="2400" spc="-1" strike="noStrike">
                <a:solidFill>
                  <a:srgbClr val="ff0000"/>
                </a:solidFill>
                <a:latin typeface="Arial"/>
              </a:rPr>
              <a:t>situation</a:t>
            </a:r>
            <a:r>
              <a:rPr b="1" lang="en-US" sz="2400" spc="-1" strike="noStrike">
                <a:solidFill>
                  <a:srgbClr val="000000"/>
                </a:solidFill>
                <a:latin typeface="Arial"/>
              </a:rPr>
              <a:t> – think about the times you have to eat foods that are not necessarily your favorite but they are what is available or what you are being served at a friend’s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uctural Models of Attitudes</a:t>
            </a:r>
            <a:endParaRPr b="1" lang="en-US" sz="4000" spc="-1" strike="noStrike">
              <a:solidFill>
                <a:srgbClr val="000000"/>
              </a:solidFill>
              <a:latin typeface="Calibri"/>
            </a:endParaRPr>
          </a:p>
        </p:txBody>
      </p:sp>
      <p:sp>
        <p:nvSpPr>
          <p:cNvPr id="526" name="PlaceHolder 2"/>
          <p:cNvSpPr>
            <a:spLocks noGrp="1"/>
          </p:cNvSpPr>
          <p:nvPr>
            <p:ph/>
          </p:nvPr>
        </p:nvSpPr>
        <p:spPr>
          <a:xfrm>
            <a:off x="457200" y="1752120"/>
            <a:ext cx="8229600" cy="43736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Tricomponent Attitud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Multiattribute Attitud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The Trying-to-Consume Model</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titude-Toward-the-Ad Mode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models that attempt to understand the relationships between attitude and behavior.  They will be explained in more detail on the following slides.</a:t>
            </a:r>
            <a:endParaRPr b="0" lang="en-US" sz="3200" spc="-1" strike="noStrike">
              <a:solidFill>
                <a:srgbClr val="000000"/>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Footer Placeholder 6"/>
          <p:cNvSpPr/>
          <p:nvPr/>
        </p:nvSpPr>
        <p:spPr>
          <a:xfrm>
            <a:off x="457200" y="6477120"/>
            <a:ext cx="57913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2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4790-BB3B-4B66-8DA0-8A510DAE85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6"/>
          <p:cNvSpPr/>
          <p:nvPr/>
        </p:nvSpPr>
        <p:spPr>
          <a:xfrm>
            <a:off x="3022560" y="4702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gnition</a:t>
            </a:r>
            <a:endParaRPr b="0" lang="en-US" sz="2400" spc="-1" strike="noStrike">
              <a:solidFill>
                <a:srgbClr val="000000"/>
              </a:solidFill>
              <a:latin typeface="Arial"/>
            </a:endParaRPr>
          </a:p>
        </p:txBody>
      </p:sp>
      <p:sp>
        <p:nvSpPr>
          <p:cNvPr id="5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A Simple Representation of the Tricomponent Attitude Model - Figure 8.3 </a:t>
            </a:r>
            <a:endParaRPr b="1" lang="en-US" sz="3600" spc="-1" strike="noStrike">
              <a:solidFill>
                <a:srgbClr val="000000"/>
              </a:solidFill>
              <a:latin typeface="Calibri"/>
            </a:endParaRPr>
          </a:p>
        </p:txBody>
      </p:sp>
      <p:sp>
        <p:nvSpPr>
          <p:cNvPr id="53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FB92-8F2B-432D-88A1-1EFD1A1BCD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Publishing as Prentice Hall          </a:t>
            </a:r>
            <a:endParaRPr b="0" lang="en-US" sz="1200" spc="-1" strike="noStrike">
              <a:solidFill>
                <a:srgbClr val="000000"/>
              </a:solidFill>
              <a:latin typeface="Arial"/>
            </a:endParaRPr>
          </a:p>
        </p:txBody>
      </p:sp>
      <p:sp>
        <p:nvSpPr>
          <p:cNvPr id="53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35" name="Picture 9" descr="fig08_03"/>
          <p:cNvPicPr/>
          <p:nvPr/>
        </p:nvPicPr>
        <p:blipFill>
          <a:blip r:embed="rId1"/>
          <a:stretch/>
        </p:blipFill>
        <p:spPr>
          <a:xfrm>
            <a:off x="2057400" y="1447920"/>
            <a:ext cx="5029200" cy="50292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7D53-8855-41D4-BFBD-7125C5BB1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7" name="Rectangle 2"/>
          <p:cNvSpPr/>
          <p:nvPr/>
        </p:nvSpPr>
        <p:spPr>
          <a:xfrm>
            <a:off x="457200" y="53352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ricomponent attitude model has three components, as seen on this figure – the cognitive, affective, and conative compon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of these will be explained in more detail in the slides that fo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WIN7HPTOUCH64</cp:lastModifiedBy>
  <dcterms:modified xsi:type="dcterms:W3CDTF">2015-11-18T17:51:02Z</dcterms:modified>
  <cp:revision>199</cp:revision>
  <dc:subject/>
  <dc:title>Slide 1</dc:title>
</cp:coreProperties>
</file>