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jpeg" ContentType="image/jpeg"/>
  <Override PartName="/ppt/media/image10.jpeg" ContentType="image/jpeg"/>
  <Override PartName="/ppt/media/image8.jpeg" ContentType="image/jpeg"/>
  <Override PartName="/ppt/media/image6.gif" ContentType="image/gif"/>
  <Override PartName="/ppt/media/image11.png" ContentType="image/png"/>
  <Override PartName="/ppt/media/image19.jpeg" ContentType="image/jpeg"/>
  <Override PartName="/ppt/media/image7.jpeg" ContentType="image/jpeg"/>
  <Override PartName="/ppt/media/image5.wmf" ContentType="image/x-wmf"/>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1029-2C62-4EDE-A501-F47FF61857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C481-1824-4F23-85AB-E926472A7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89AA-9C9D-434E-8AFB-0AE48BE2D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0670-DA85-4CFF-B277-F50A4C8F7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0DF6-F1D7-43C6-80BB-122B0B33A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C62B-7B00-45E5-80D8-216546B47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CD80-24B9-4C4A-8105-04CC99E56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0534-60A4-4DA5-B519-BA1E6251D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E133-A567-4FA3-8B00-ACCE7FC6B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EF4E-D579-4A77-9817-8B554A378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for the topics in Chapter Nine.</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F72B-3515-4DE8-BC1B-D534C5871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7AE0-E1E8-42B2-96B0-D0A7D9E8B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C8A7-D14B-47DD-937A-0E0B3A2F1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455B-081F-4C73-B6AC-B4B361440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B16C-7165-4DA3-BC1A-2D7C7531B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967C-A383-438F-803A-CA6DFEB1D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771D-E32F-4955-B7DC-BE178091E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8846-E16F-42B7-91E1-6B91C680F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74D1-C44D-4C62-A9D4-20AD63533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CADE-2F66-4CF7-B1CD-3DF670690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85FC-A612-4BD7-B328-F8ACD1D50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6739-7CA4-4B03-9357-245F87E93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420B-C8DC-4205-AB5E-60C3AC43B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E992-FA31-4EF5-A2B5-214D4B2FF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67F0-3C78-4F93-B62A-D411C6ACA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7331-45EE-48C1-AE8F-16C3DF870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5020-F824-434F-9C39-F9EB12879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F4BC-CFFC-4C53-9FFB-EB8338624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0FD6-8C97-40A7-A9CD-60BFE20A2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928A-B0A2-4EDA-9B79-76776BCAA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F6FB-BB2C-4D9B-8871-33784C594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77C05F-F6E3-42CA-A6AE-9EED114A8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35267-F4D4-4484-815D-FD659A1097B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B4C6C3-C44F-4456-A513-78E4AD62C7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2C0829F-7E62-4FB4-A552-C49D2C9C62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EE27CB8-7D21-45F0-823E-8D3FC51077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6861E8-1398-45AA-BFB7-BB0F9FC64E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4FB6A8-82B3-4B72-8639-8CFDF0701CC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172116-B88C-4601-A5B9-E587008F5C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009652-9CED-447A-BC68-A26AAC477B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BEC66A-A766-48F9-8282-7A36471BFCC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0AE421-B098-4FB3-BAAC-8D1CF7C6C3D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677BA40-4A6C-43F0-AEEC-A8C76F279D4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46F042-75E8-4081-8738-E9FDA25419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B1F1BB-F3DE-4CFB-982D-62FC00DD0F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23ADB8F-0632-4015-96B8-4D6AAABEF8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D8652E-25CA-4625-85FB-81DC3B8441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F411241-02AF-4405-89AE-A24ACF0C3D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B76519-20AE-4141-831F-AC7D5EF772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B1ADFE-8A9A-48CD-81A7-1C52AD34B0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063CE2-678C-48FB-82D7-1664EF204D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20AF36-96F3-43F7-B511-37A21E21AC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9A285E-CE19-4370-8CFA-147C0716F0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C8060F2-B8D1-4827-BCA1-FEEF372343B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C2D15E-C1F4-4E7E-B7D0-C23C210E89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8B467C7-399D-4880-A02B-FCB6C8EDA5F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24866D6-5F48-4638-A03E-D6EA75DF27A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1CA9170-59E1-4590-B2CB-41123FB380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5E07D9-6BF2-478C-A48F-DA68566901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A641816-6FCD-419C-96DF-7036C0EFE4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A736711-7335-4A4A-AE4D-64A66DEF1A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D1351B2-291C-48BC-9076-67F8604425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C440BA-D1E2-46C4-8A01-B207E0BCB4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0C5D5B2-B588-4DBB-B816-49BF276551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B03279-40A7-4891-A2DD-400152F307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6E1C1-B0B8-403C-9CA4-60631F4FE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5B6E1B2-DCCC-4BD5-A580-0FC39F14AD4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84086C9-A0EE-43EF-B13C-B1BBEFBE6C5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1A564C1-82C4-4322-B710-B5A36259C3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DB4D33D-2684-440B-94BD-7B50B56BE4C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DA67ADD-8E3A-46CB-8229-048C8266EA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BD0B224-95FB-44E6-BC59-4DE69C5C01F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D96589-ED9F-4298-818B-FF2875538F4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928E852-6DB2-4EEF-8ECA-66DAED0BA80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8BE9235-EE5B-424F-9CD1-BA1A7C2371D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7F3DB66-4286-440A-B2D0-3F0DA594FF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01D70-30C1-40DF-ACBA-8CB3FFC6D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0AB0F5-4733-45AB-A1BF-783889CDA83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90DE1F-8FBB-4D1E-A6DE-F43C133190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FC67485-D467-4239-8FEB-84D0E04CA2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C072DDD-89ED-4D4A-9CE3-0D67C0A419D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BFC9C39-ABD5-4489-85DE-ED6B28AD227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B971A-B21A-47F2-9BB2-F204ED9BE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CD82AD-0D4C-466C-9F21-EA01D41C6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2DE95-75A8-410D-958C-248128DFC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25AF2-87F1-4979-AE29-07F86F243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47BA7-FDE4-4F0F-A79E-1C76C3604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5CAC5C-18CE-4B94-90EB-2EA304E8E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C776D-AA9D-461A-8D77-77F28BAE2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A87CA-A195-4380-9869-10FBF044E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A1A15-72BF-449B-A27E-5A6DB94AD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3286E4-D371-4B04-BA38-C761D8EA1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DA743-84BC-4292-9E24-D6F6B9DD50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1210E7-B62C-433B-B6B2-3A5DCA17206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F5B132-8DB4-49D6-A233-54072293F8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8984D5-F0FD-45F2-BA16-F55E7C37A0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7C205C-A917-45E7-98A2-AB83AE3C07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F5B707-2929-436D-9AAE-377F353CAC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EE0EF4-FA56-4B0B-8196-8538598C99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D1F7F5-8A6F-4124-A310-0D0E425B1D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C70B79-E961-497D-8378-BAC52D5910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B92F26-E6D9-4DA3-B45B-96E3372D76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354AD1-C83D-4CE1-ABB4-370182A4A5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5FF117-3BBA-4F90-B763-500FC4E5E7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8DA687-2B15-4001-A05D-E91276E7043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95AEB4-86BB-48DF-B9FE-0B5F80312F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0C1953-50F9-4B12-A41A-A98F743F0A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DB1DE5-F0D7-4FBC-A45F-495132F8B7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817926-3B0B-42D9-A29E-8FC6D3ECCD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4F6CF1-0CF5-4381-9FE3-3EFE0114B3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EA5B47-F82C-45F9-9761-9468983094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37565D-7208-46B9-93B9-519860EFD4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0BE070-6E45-4379-B079-FDAEF90F5C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1B4270-1730-415D-877D-CBE5B92F24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AC7E5B-F4AB-4AD7-AFF7-C437367D96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597D9B-9A17-40E8-B28F-3A43FA6E10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C6226C-A43C-42F2-8CAA-0C5DBBC10F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AF3FCE-3C60-4F70-A907-35FE070DA2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557DA6-0553-49A2-8AD1-91F459C2E8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6A3B46B-A98B-406E-BD24-96A42CAF141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5F782-8D02-40AA-81E7-9002D679A6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BCFB97-EFA7-4E0C-9FE4-EEC4DF21A0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CCAD59-B870-4A20-8278-168209826F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8B8A15-B58A-44D9-8A65-3DCC46C36A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8DCBCE-4C23-4244-8AEC-BF5A5CD4B7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E6D966-C7E7-4D45-91F8-A95A90970A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BA5474-5DDF-4E1E-AB1F-3066A3878F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D1BC21-04F4-4E54-B951-3F883D5774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5EB6A9-EA80-4BB9-93E6-524A4FA0A4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06A210-EF27-413A-BC25-4FC9C77AA9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7E5FE5-98F7-474A-90FD-13AB5D3ABF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4092A-4766-4BC3-8451-A0BC5572CB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97D7D9-C847-4467-A372-CD78FA6A9E5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03D3D4A-5AB2-4443-B95C-50BF5DBE1B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A7842A-7375-4A64-B97B-219DD3451F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7E8E52-2162-4E7C-B9F2-C1968BC7D52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994128-5537-4631-B37E-5F9EEFA241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81576B-2319-4A2E-98D0-77ACAD27B0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2708C5-3738-49C6-8B48-CF3356A6F2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94F405-6C41-4D6D-A5ED-5977DA2A2A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AAE88D-0A13-4C1B-BFE8-062284DBF3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671741-0AFA-4496-9E29-FA4C60A477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E15B7D-25C7-4E90-BC02-7F15A4DF9C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CECFB6-A33A-4FA9-BDE1-03309E0E18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F3AA14-F92D-4438-B13B-A160EEE961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BE32E16-C442-45B3-99C5-F94E0250C7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968633A-9D5A-42A8-9F29-A9E0E79E22D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82EDFF-5403-47FF-9C52-D60271B10F6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92A3E1B-2348-4D3D-ADD2-3ADB20A33F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C911D4-4EA4-4127-BD09-9B33F541D4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478B09-11EC-4EEB-B2C5-22769819B4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7DA82B-0BBA-4928-8875-FC7508FD8AE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137F80-37FD-4895-8D67-F0D111BC3B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000EC-034F-4FEB-AD05-8CB89737B1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E3461B-E9AD-4361-8065-B471864EF2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DD29A6-B5F0-4431-842E-50C88DE4E5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B4DE99-9E0B-468E-ACD9-31D0A872CF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7E8AAB4-6690-464D-AC23-A9113F600B3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0E1FDD9-93B4-4D72-8F28-63C3853B22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7CC06DC-C466-4CC3-8C9B-2834A4A7EB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8596E8-ABBF-4335-AC43-9D610F25E7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B75007-7F38-40BC-A0C4-E1273D4B8B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A6797A4-E549-4656-AD35-AEA36D8AB9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9D646C-8F09-4B59-9DE5-CCE6A8397C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49F58-1EE7-4CB6-BAC7-9261713DD5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35ED05-2FC0-4636-83B8-6F3DBC87AE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DDCE258-EB1D-469A-9BB3-79DFFD5C12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7C21F8-376C-4A0C-B7A8-38957DCFE1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D0F2BF-981F-40F5-A28B-99F21A137D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7EF663-A6E2-41FB-9F3B-12996C4CAF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3F9C25E-7479-4DDA-A265-238605C69CA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C0F24AE-7647-4A81-8ECE-FE35E1E795B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31CE260-614D-497E-BDEB-1F05AAAF889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38B046A-6692-4266-BED4-054E6DD09E8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D47369-C860-493C-8919-B4E541AB786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D61C-D479-4159-9232-F2C29D7792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35D4-71E6-404A-8C5A-8A3C39CD097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001E-7395-4810-AE82-303665F7C9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03EF-FFB4-41E2-AB58-EBFDA6629D0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6A21-07A5-44A4-B4D5-549D9B39AE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5237-49D8-41A3-B833-91F9E03BA42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C427-3C2C-4A28-962F-2E3165D551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AB03-B7DB-457A-9CB9-0C2CB6D8B6F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4D7A-CC26-470A-8D29-B35CED3E86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7102-4AC7-483C-9B07-0E29E21358C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9E97-9564-4BB3-9879-C351BA8311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D24F-8C99-4081-B9C7-34C5C7BAB99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DACE-8672-424A-B47B-49DF0A4ADF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DCA5-4013-4F39-9AFA-71DBD617D8D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E36D-9AB5-4DAE-B100-2AAE1DDBAC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A72B-2104-4CB5-99BE-74875DB7A0D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BDE1-B964-4F98-962E-69FAD4DE51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181C-8E10-4CAB-9EAF-AFF772F1CF2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549F-742B-4424-892C-AEF64EE63F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CB69-0B4B-422E-BB10-3BF7F163CC5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4D4C-D148-4DC9-9048-DB15930F0E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022F-4039-4DEB-8663-FE969389C7D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0292-5F01-4B57-930A-468F516858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submediaworld.com/" TargetMode="External"/><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echnorati.com/" TargetMode="External"/><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tremor.com/index.html" TargetMode="External"/><Relationship Id="rId2" Type="http://schemas.openxmlformats.org/officeDocument/2006/relationships/image" Target="../media/image6.gi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unication and Consumer Behavior</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NI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55" name="PlaceHolder 2"/>
          <p:cNvSpPr>
            <a:spLocks noGrp="1"/>
          </p:cNvSpPr>
          <p:nvPr>
            <p:ph/>
          </p:nvPr>
        </p:nvSpPr>
        <p:spPr>
          <a:xfrm>
            <a:off x="457200" y="1752120"/>
            <a:ext cx="4572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have informal sources affected your decision as a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informal sources are the most powerful?  Why?  When?</a:t>
            </a:r>
            <a:endParaRPr b="0" lang="en-US" sz="3200" spc="-1" strike="noStrike">
              <a:solidFill>
                <a:srgbClr val="000000"/>
              </a:solidFill>
              <a:latin typeface="Calibri"/>
            </a:endParaRPr>
          </a:p>
        </p:txBody>
      </p:sp>
      <p:sp>
        <p:nvSpPr>
          <p:cNvPr id="55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92E8-2190-4AA7-BB0D-77BD1143AB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120"/>
            <a:ext cx="4038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or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7484-CA17-4C56-B72F-9E70872269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Credibility of Formal Sources</a:t>
            </a:r>
            <a:endParaRPr b="1" lang="en-US" sz="3600" spc="-1" strike="noStrike">
              <a:solidFill>
                <a:srgbClr val="000000"/>
              </a:solidFill>
              <a:latin typeface="Calibri"/>
            </a:endParaRPr>
          </a:p>
        </p:txBody>
      </p:sp>
      <p:sp>
        <p:nvSpPr>
          <p:cNvPr id="5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99FF-E0A7-432D-931A-47FCA7FA7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565" name="Picture 10" descr="fig09_03"/>
          <p:cNvPicPr/>
          <p:nvPr/>
        </p:nvPicPr>
        <p:blipFill>
          <a:blip r:embed="rId1"/>
          <a:stretch/>
        </p:blipFill>
        <p:spPr>
          <a:xfrm>
            <a:off x="4213080" y="1600200"/>
            <a:ext cx="43974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6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o you consider credible spokes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think of certain ads with credible spokes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s with spokespeople who are NOT credible?</a:t>
            </a:r>
            <a:endParaRPr b="0" lang="en-US" sz="3200" spc="-1" strike="noStrike">
              <a:solidFill>
                <a:srgbClr val="000000"/>
              </a:solidFill>
              <a:latin typeface="Calibri"/>
            </a:endParaRPr>
          </a:p>
        </p:txBody>
      </p:sp>
      <p:sp>
        <p:nvSpPr>
          <p:cNvPr id="5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4EDA-5761-4E17-87CD-44CCDFAAF5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Are Consumers Likely to Perceive This Ad as Credible?</a:t>
            </a:r>
            <a:endParaRPr b="1" lang="en-US" sz="4000" spc="-1" strike="noStrike">
              <a:solidFill>
                <a:srgbClr val="000000"/>
              </a:solidFill>
              <a:latin typeface="Calibri"/>
            </a:endParaRPr>
          </a:p>
        </p:txBody>
      </p:sp>
      <p:pic>
        <p:nvPicPr>
          <p:cNvPr id="572" name="Content Placeholder 4" descr="fig09_04.jpg"/>
          <p:cNvPicPr/>
          <p:nvPr/>
        </p:nvPicPr>
        <p:blipFill>
          <a:blip r:embed="rId1"/>
          <a:stretch/>
        </p:blipFill>
        <p:spPr>
          <a:xfrm>
            <a:off x="1477800" y="1752480"/>
            <a:ext cx="6188400" cy="4373640"/>
          </a:xfrm>
          <a:prstGeom prst="rect">
            <a:avLst/>
          </a:prstGeom>
          <a:ln w="0">
            <a:noFill/>
          </a:ln>
        </p:spPr>
      </p:pic>
      <p:sp>
        <p:nvSpPr>
          <p:cNvPr id="57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5534-B7D2-4D30-B0D7-18E30FD1F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lamorous Celebrity Endorser is More Likely to be Perceived as a Credible Source, Especially for a Hedonistic Product.</a:t>
            </a:r>
            <a:endParaRPr b="1" lang="en-US" sz="2800" spc="-1" strike="noStrike">
              <a:solidFill>
                <a:srgbClr val="000000"/>
              </a:solidFill>
              <a:latin typeface="Calibri"/>
            </a:endParaRPr>
          </a:p>
        </p:txBody>
      </p:sp>
      <p:pic>
        <p:nvPicPr>
          <p:cNvPr id="577" name="Content Placeholder 4" descr="fig09_04.jpg"/>
          <p:cNvPicPr/>
          <p:nvPr/>
        </p:nvPicPr>
        <p:blipFill>
          <a:blip r:embed="rId1"/>
          <a:stretch/>
        </p:blipFill>
        <p:spPr>
          <a:xfrm>
            <a:off x="1477800" y="1752480"/>
            <a:ext cx="6188400" cy="4373640"/>
          </a:xfrm>
          <a:prstGeom prst="rect">
            <a:avLst/>
          </a:prstGeom>
          <a:ln w="0">
            <a:noFill/>
          </a:ln>
        </p:spPr>
      </p:pic>
      <p:sp>
        <p:nvSpPr>
          <p:cNvPr id="5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A90B-33AF-494D-92BC-2780F2B5E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redibility of Formal Sources </a:t>
            </a:r>
            <a:br>
              <a:rPr sz="3600"/>
            </a:br>
            <a:r>
              <a:rPr b="1" lang="en-US" sz="3600" spc="-1" strike="noStrike">
                <a:solidFill>
                  <a:srgbClr val="000000"/>
                </a:solidFill>
                <a:latin typeface="Calibri"/>
              </a:rPr>
              <a:t>Endorser Effectiveness</a:t>
            </a:r>
            <a:endParaRPr b="1" lang="en-US" sz="3600" spc="-1" strike="noStrike">
              <a:solidFill>
                <a:srgbClr val="000000"/>
              </a:solidFill>
              <a:latin typeface="Calibri"/>
            </a:endParaRPr>
          </a:p>
        </p:txBody>
      </p:sp>
      <p:pic>
        <p:nvPicPr>
          <p:cNvPr id="582" name="Content Placeholder 4" descr=""/>
          <p:cNvPicPr/>
          <p:nvPr/>
        </p:nvPicPr>
        <p:blipFill>
          <a:blip r:embed="rId1"/>
          <a:stretch/>
        </p:blipFill>
        <p:spPr>
          <a:xfrm>
            <a:off x="938160" y="1736640"/>
            <a:ext cx="7236000" cy="4683240"/>
          </a:xfrm>
          <a:prstGeom prst="rect">
            <a:avLst/>
          </a:prstGeom>
          <a:ln w="0">
            <a:noFill/>
          </a:ln>
        </p:spPr>
      </p:pic>
      <p:sp>
        <p:nvSpPr>
          <p:cNvPr id="58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A121-7234-41BF-8C8F-A7233E9076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88D9-EB4D-48F1-A5BD-5D17492FCA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Content Placeholder 5" descr=""/>
          <p:cNvPicPr/>
          <p:nvPr/>
        </p:nvPicPr>
        <p:blipFill>
          <a:blip r:embed="rId1"/>
          <a:stretch/>
        </p:blipFill>
        <p:spPr>
          <a:xfrm>
            <a:off x="414360" y="1731960"/>
            <a:ext cx="8291520" cy="4413240"/>
          </a:xfrm>
          <a:prstGeom prst="rect">
            <a:avLst/>
          </a:prstGeom>
          <a:ln w="0">
            <a:noFill/>
          </a:ln>
        </p:spPr>
      </p:pic>
      <p:sp>
        <p:nvSpPr>
          <p:cNvPr id="58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5977-9C25-40FC-8E88-AA57196D2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redibility of Formal Sources </a:t>
            </a:r>
            <a:br>
              <a:rPr sz="3600"/>
            </a:br>
            <a:r>
              <a:rPr b="1" lang="en-US" sz="3600" spc="-1" strike="noStrike">
                <a:solidFill>
                  <a:srgbClr val="000000"/>
                </a:solidFill>
                <a:latin typeface="Calibri"/>
              </a:rPr>
              <a:t>Other Credibility Sources</a:t>
            </a:r>
            <a:endParaRPr b="1" lang="en-US" sz="3600" spc="-1" strike="noStrike">
              <a:solidFill>
                <a:srgbClr val="000000"/>
              </a:solidFill>
              <a:latin typeface="Calibri"/>
            </a:endParaRPr>
          </a:p>
        </p:txBody>
      </p:sp>
      <p:sp>
        <p:nvSpPr>
          <p:cNvPr id="59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3489-4DC8-46EB-8F0F-92E00B858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ceivers  as the Target Audience</a:t>
            </a:r>
            <a:endParaRPr b="1" lang="en-US" sz="4000" spc="-1" strike="noStrike">
              <a:solidFill>
                <a:srgbClr val="000000"/>
              </a:solidFill>
              <a:latin typeface="Calibri"/>
            </a:endParaRPr>
          </a:p>
        </p:txBody>
      </p:sp>
      <p:sp>
        <p:nvSpPr>
          <p:cNvPr id="59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characteristics and mo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ment and congru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ve exposure to mess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ological noise</a:t>
            </a:r>
            <a:endParaRPr b="0" lang="en-US" sz="2800" spc="-1" strike="noStrike">
              <a:solidFill>
                <a:srgbClr val="000000"/>
              </a:solidFill>
              <a:latin typeface="Calibri"/>
            </a:endParaRPr>
          </a:p>
        </p:txBody>
      </p:sp>
      <p:sp>
        <p:nvSpPr>
          <p:cNvPr id="5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ADB1-CF61-4FF6-8EA7-97A18710C9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vercoming Psychological Noise</a:t>
            </a:r>
            <a:endParaRPr b="1" lang="en-US" sz="4000" spc="-1" strike="noStrike">
              <a:solidFill>
                <a:srgbClr val="000000"/>
              </a:solidFill>
              <a:latin typeface="Calibri"/>
            </a:endParaRPr>
          </a:p>
        </p:txBody>
      </p:sp>
      <p:pic>
        <p:nvPicPr>
          <p:cNvPr id="599" name="Content Placeholder 4" descr=""/>
          <p:cNvPicPr/>
          <p:nvPr/>
        </p:nvPicPr>
        <p:blipFill>
          <a:blip r:embed="rId1"/>
          <a:stretch/>
        </p:blipFill>
        <p:spPr>
          <a:xfrm>
            <a:off x="60480" y="1444680"/>
            <a:ext cx="9028080" cy="5114880"/>
          </a:xfrm>
          <a:prstGeom prst="rect">
            <a:avLst/>
          </a:prstGeom>
          <a:ln w="0">
            <a:noFill/>
          </a:ln>
        </p:spPr>
      </p:pic>
      <p:sp>
        <p:nvSpPr>
          <p:cNvPr id="60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BA5D-5484-47C1-B716-01E0EBB95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3D99-E061-4620-931A-D6F813380F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dia (Channel)</a:t>
            </a:r>
            <a:endParaRPr b="1" lang="en-US" sz="4000" spc="-1" strike="noStrike">
              <a:solidFill>
                <a:srgbClr val="000000"/>
              </a:solidFill>
              <a:latin typeface="Calibri"/>
            </a:endParaRPr>
          </a:p>
        </p:txBody>
      </p:sp>
      <p:sp>
        <p:nvSpPr>
          <p:cNvPr id="60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 Med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traditional (New) Media is:</a:t>
            </a:r>
            <a:endParaRPr b="0" lang="en-US" sz="3200" spc="-1" strike="noStrike">
              <a:solidFill>
                <a:srgbClr val="000000"/>
              </a:solidFill>
              <a:latin typeface="Calibri"/>
            </a:endParaRPr>
          </a:p>
        </p:txBody>
      </p:sp>
      <p:sp>
        <p:nvSpPr>
          <p:cNvPr id="60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9C6B-2884-4F62-B3C2-07B467810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7" name="Diagram 5" descr=""/>
          <p:cNvPicPr/>
          <p:nvPr/>
        </p:nvPicPr>
        <p:blipFill>
          <a:blip r:embed="rId1"/>
          <a:stretch/>
        </p:blipFill>
        <p:spPr>
          <a:xfrm>
            <a:off x="1006560" y="3041640"/>
            <a:ext cx="7094520" cy="2908440"/>
          </a:xfrm>
          <a:prstGeom prst="rect">
            <a:avLst/>
          </a:prstGeom>
          <a:ln w="0">
            <a:noFill/>
          </a:ln>
        </p:spPr>
      </p:pic>
      <p:sp>
        <p:nvSpPr>
          <p:cNvPr id="6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5159-196A-4CCE-A6BC-81EB83DD8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Role of the Message’s Source in the Communication Proces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Role of the Message’s Audience (Receivers) in the Communication Proces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Learn About Advertising Media and How to Select the Right Media When Sending Promotional Messages Targeting Selected Consumer Group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Learn How Understanding Consumers Enables Marketers to Develop Persuasive Message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Marketers Measure the Effectiveness of Their Promotional Messages.</a:t>
            </a:r>
            <a:endParaRPr b="0" lang="en-US" sz="2700" spc="-1" strike="noStrike">
              <a:solidFill>
                <a:srgbClr val="000000"/>
              </a:solidFill>
              <a:latin typeface="Calibri"/>
            </a:endParaRPr>
          </a:p>
        </p:txBody>
      </p:sp>
      <p:sp>
        <p:nvSpPr>
          <p:cNvPr id="5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3829-9673-44B3-B592-E9B53319F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hift From Traditional </a:t>
            </a:r>
            <a:br>
              <a:rPr sz="3600"/>
            </a:br>
            <a:r>
              <a:rPr b="1" lang="en-US" sz="3600" spc="-1" strike="noStrike">
                <a:solidFill>
                  <a:srgbClr val="000000"/>
                </a:solidFill>
                <a:latin typeface="Calibri"/>
              </a:rPr>
              <a:t>To Nontraditional Advertising - Figure 9.5</a:t>
            </a:r>
            <a:endParaRPr b="1" lang="en-US" sz="3600" spc="-1" strike="noStrike">
              <a:solidFill>
                <a:srgbClr val="000000"/>
              </a:solidFill>
              <a:latin typeface="Calibri"/>
            </a:endParaRPr>
          </a:p>
        </p:txBody>
      </p:sp>
      <p:sp>
        <p:nvSpPr>
          <p:cNvPr id="6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C04E-BB6A-4C4F-885F-AC07622D85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7CD7-9780-4B1E-A915-8B222FF3F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16" name="Picture 10" descr="fig09_05"/>
          <p:cNvPicPr/>
          <p:nvPr/>
        </p:nvPicPr>
        <p:blipFill>
          <a:blip r:embed="rId1"/>
          <a:stretch/>
        </p:blipFill>
        <p:spPr>
          <a:xfrm>
            <a:off x="285840" y="1609560"/>
            <a:ext cx="8381880" cy="485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traditional Media</a:t>
            </a:r>
            <a:endParaRPr b="1" lang="en-US" sz="4000" spc="-1" strike="noStrike">
              <a:solidFill>
                <a:srgbClr val="000000"/>
              </a:solidFill>
              <a:latin typeface="Calibri"/>
            </a:endParaRPr>
          </a:p>
        </p:txBody>
      </p:sp>
      <p:sp>
        <p:nvSpPr>
          <p:cNvPr id="61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 and On-the-g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screens in buildings and trans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billboards on ro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bient advertising (in new pla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and Mobi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consumer-generated med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rowcast messa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TV (iTV)</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ACD0-E920-4F82-A732-76BDC290BB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0"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2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30AB-44C3-4896-81FA-B471CC964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dia (Channel)</a:t>
            </a:r>
            <a:endParaRPr b="1" lang="en-US" sz="4000" spc="-1" strike="noStrike">
              <a:solidFill>
                <a:srgbClr val="000000"/>
              </a:solidFill>
              <a:latin typeface="Calibri"/>
            </a:endParaRPr>
          </a:p>
        </p:txBody>
      </p:sp>
      <p:sp>
        <p:nvSpPr>
          <p:cNvPr id="625" name=""/>
          <p:cNvSpPr txBox="1"/>
          <p:nvPr/>
        </p:nvSpPr>
        <p:spPr>
          <a:xfrm>
            <a:off x="456840" y="1599840"/>
            <a:ext cx="84582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uence with mess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able advert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ed entertainment</a:t>
            </a:r>
            <a:endParaRPr b="0" lang="en-US" sz="2800" spc="-1" strike="noStrike">
              <a:solidFill>
                <a:srgbClr val="000000"/>
              </a:solidFill>
              <a:latin typeface="Calibri"/>
            </a:endParaRPr>
          </a:p>
        </p:txBody>
      </p:sp>
      <p:sp>
        <p:nvSpPr>
          <p:cNvPr id="62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9671-D0B5-4124-BE11-CF48291F7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F099-5F91-45D2-9DD1-7EBB87A66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30" name="Picture 10" descr="fig09_06"/>
          <p:cNvPicPr/>
          <p:nvPr/>
        </p:nvPicPr>
        <p:blipFill>
          <a:blip r:embed="rId1"/>
          <a:stretch/>
        </p:blipFill>
        <p:spPr>
          <a:xfrm>
            <a:off x="2286000" y="3308400"/>
            <a:ext cx="4572000" cy="32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32"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723920" y="190512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pla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create a double meaning when used with a relevant picture</a:t>
            </a:r>
            <a:endParaRPr b="0" lang="en-US" sz="2800" spc="-1" strike="noStrike">
              <a:solidFill>
                <a:srgbClr val="000000"/>
              </a:solidFill>
              <a:latin typeface="Calibri"/>
            </a:endParaRPr>
          </a:p>
        </p:txBody>
      </p:sp>
      <p:sp>
        <p:nvSpPr>
          <p:cNvPr id="634"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3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5A3A-8D0E-4752-8D11-0BC94F3E47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Advertising Technique Is Used in Each Ad, and How So?</a:t>
            </a:r>
            <a:endParaRPr b="1" lang="en-US" sz="4000" spc="-1" strike="noStrike">
              <a:solidFill>
                <a:srgbClr val="000000"/>
              </a:solidFill>
              <a:latin typeface="Calibri"/>
            </a:endParaRPr>
          </a:p>
        </p:txBody>
      </p:sp>
      <p:sp>
        <p:nvSpPr>
          <p:cNvPr id="64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88A2-7324-4B5C-A1E0-5855BEEBFC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E7B-A158-4B43-BABA-DA53517B5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44" name="Picture 11" descr="fig09_07a"/>
          <p:cNvPicPr/>
          <p:nvPr/>
        </p:nvPicPr>
        <p:blipFill>
          <a:blip r:embed="rId1"/>
          <a:stretch/>
        </p:blipFill>
        <p:spPr>
          <a:xfrm>
            <a:off x="887400" y="1676520"/>
            <a:ext cx="3456000" cy="4724280"/>
          </a:xfrm>
          <a:prstGeom prst="rect">
            <a:avLst/>
          </a:prstGeom>
          <a:ln w="0">
            <a:noFill/>
          </a:ln>
        </p:spPr>
      </p:pic>
      <p:pic>
        <p:nvPicPr>
          <p:cNvPr id="645" name="Picture 12" descr="fig09_07b"/>
          <p:cNvPicPr/>
          <p:nvPr/>
        </p:nvPicPr>
        <p:blipFill>
          <a:blip r:embed="rId2"/>
          <a:stretch/>
        </p:blipFill>
        <p:spPr>
          <a:xfrm>
            <a:off x="4800600" y="1676520"/>
            <a:ext cx="34560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onance</a:t>
            </a:r>
            <a:endParaRPr b="1" lang="en-US" sz="4000" spc="-1" strike="noStrike">
              <a:solidFill>
                <a:srgbClr val="000000"/>
              </a:solidFill>
              <a:latin typeface="Calibri"/>
            </a:endParaRPr>
          </a:p>
        </p:txBody>
      </p:sp>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472-E185-4DC2-BB2E-78EFE8E4B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CEB7-B9B8-477E-AD3F-464FAFAAA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51" name="Picture 11" descr="fig09_07a"/>
          <p:cNvPicPr/>
          <p:nvPr/>
        </p:nvPicPr>
        <p:blipFill>
          <a:blip r:embed="rId1"/>
          <a:stretch/>
        </p:blipFill>
        <p:spPr>
          <a:xfrm>
            <a:off x="887400" y="1676520"/>
            <a:ext cx="3456000" cy="4724280"/>
          </a:xfrm>
          <a:prstGeom prst="rect">
            <a:avLst/>
          </a:prstGeom>
          <a:ln w="0">
            <a:noFill/>
          </a:ln>
        </p:spPr>
      </p:pic>
      <p:pic>
        <p:nvPicPr>
          <p:cNvPr id="652" name="Picture 12" descr="fig09_07b"/>
          <p:cNvPicPr/>
          <p:nvPr/>
        </p:nvPicPr>
        <p:blipFill>
          <a:blip r:embed="rId2"/>
          <a:stretch/>
        </p:blipFill>
        <p:spPr>
          <a:xfrm>
            <a:off x="4800600" y="1676520"/>
            <a:ext cx="345600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54"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 fram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framing</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framing</a:t>
            </a:r>
            <a:endParaRPr b="0" lang="en-US" sz="2800" spc="-1" strike="noStrike">
              <a:solidFill>
                <a:srgbClr val="000000"/>
              </a:solidFill>
              <a:latin typeface="Calibri"/>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5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205B-3E10-4047-AF9B-62F7D9B17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62"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s on nature of the audience and nature of competition</a:t>
            </a:r>
            <a:endParaRPr b="0" lang="en-US" sz="2800" spc="-1" strike="noStrike">
              <a:solidFill>
                <a:srgbClr val="000000"/>
              </a:solidFill>
              <a:latin typeface="Calibri"/>
            </a:endParaRPr>
          </a:p>
        </p:txBody>
      </p:sp>
      <p:sp>
        <p:nvSpPr>
          <p:cNvPr id="664"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6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C7B4-0CC2-452F-AF0D-7179CE5F3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70"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c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c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of benefits</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a:t>
            </a:r>
            <a:endParaRPr b="0" lang="en-US" sz="2800" spc="-1" strike="noStrike">
              <a:solidFill>
                <a:srgbClr val="000000"/>
              </a:solidFill>
              <a:latin typeface="Calibri"/>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7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B92E-3686-431B-BAA4-3D70C1EE9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ertising Appeals</a:t>
            </a:r>
            <a:endParaRPr b="1" lang="en-US" sz="4000" spc="-1" strike="noStrike">
              <a:solidFill>
                <a:srgbClr val="000000"/>
              </a:solidFill>
              <a:latin typeface="Calibri"/>
            </a:endParaRPr>
          </a:p>
        </p:txBody>
      </p:sp>
      <p:sp>
        <p:nvSpPr>
          <p:cNvPr id="67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a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as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ence particip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ebrities</a:t>
            </a:r>
            <a:endParaRPr b="0" lang="en-US" sz="2800" spc="-1" strike="noStrike">
              <a:solidFill>
                <a:srgbClr val="000000"/>
              </a:solidFill>
              <a:latin typeface="Calibri"/>
            </a:endParaRPr>
          </a:p>
        </p:txBody>
      </p:sp>
      <p:sp>
        <p:nvSpPr>
          <p:cNvPr id="67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706E-1816-4163-B41F-E5A82F9645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CCA6-9263-4193-8EA8-983DF00B0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Type of Communication Is Featured in This Ad, and What Strategic Concept Does It Get Across?</a:t>
            </a:r>
            <a:endParaRPr b="1" lang="en-US" sz="2800" spc="-1" strike="noStrike">
              <a:solidFill>
                <a:srgbClr val="000000"/>
              </a:solidFill>
              <a:latin typeface="Calibri"/>
            </a:endParaRPr>
          </a:p>
        </p:txBody>
      </p:sp>
      <p:pic>
        <p:nvPicPr>
          <p:cNvPr id="511" name="Content Placeholder 4" descr="fig09_01.jpg"/>
          <p:cNvPicPr/>
          <p:nvPr/>
        </p:nvPicPr>
        <p:blipFill>
          <a:blip r:embed="rId1"/>
          <a:stretch/>
        </p:blipFill>
        <p:spPr>
          <a:xfrm>
            <a:off x="3176640" y="1752480"/>
            <a:ext cx="2790720" cy="4373640"/>
          </a:xfrm>
          <a:prstGeom prst="rect">
            <a:avLst/>
          </a:prstGeom>
          <a:ln w="0">
            <a:noFill/>
          </a:ln>
        </p:spPr>
      </p:pic>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F8E1-079D-4DDD-BFB7-848381F648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Advertising Appeal Is Shown in Each Ad, and Why Is It Used?</a:t>
            </a:r>
            <a:endParaRPr b="1" lang="en-US" sz="4000" spc="-1" strike="noStrike">
              <a:solidFill>
                <a:srgbClr val="000000"/>
              </a:solidFill>
              <a:latin typeface="Calibri"/>
            </a:endParaRPr>
          </a:p>
        </p:txBody>
      </p:sp>
      <p:pic>
        <p:nvPicPr>
          <p:cNvPr id="684" name="Content Placeholder 5" descr="fig09_08a.jpg"/>
          <p:cNvPicPr/>
          <p:nvPr/>
        </p:nvPicPr>
        <p:blipFill>
          <a:blip r:embed="rId1"/>
          <a:stretch/>
        </p:blipFill>
        <p:spPr>
          <a:xfrm>
            <a:off x="820800" y="1600200"/>
            <a:ext cx="3311640" cy="4525920"/>
          </a:xfrm>
          <a:prstGeom prst="rect">
            <a:avLst/>
          </a:prstGeom>
          <a:ln w="0">
            <a:noFill/>
          </a:ln>
        </p:spPr>
      </p:pic>
      <p:pic>
        <p:nvPicPr>
          <p:cNvPr id="685" name="Content Placeholder 6" descr="fig09_08b.jpg"/>
          <p:cNvPicPr/>
          <p:nvPr/>
        </p:nvPicPr>
        <p:blipFill>
          <a:blip r:embed="rId2"/>
          <a:stretch/>
        </p:blipFill>
        <p:spPr>
          <a:xfrm>
            <a:off x="5011560" y="1600200"/>
            <a:ext cx="3311640" cy="4525920"/>
          </a:xfrm>
          <a:prstGeom prst="rect">
            <a:avLst/>
          </a:prstGeom>
          <a:ln w="0">
            <a:noFill/>
          </a:ln>
        </p:spPr>
      </p:pic>
      <p:sp>
        <p:nvSpPr>
          <p:cNvPr id="68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F1E4-2B7F-4DFA-B545-B74DFD87A5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rative - It Has Positive Effects On Brand Attitudes, Purchase Intentions, and Purchases</a:t>
            </a:r>
            <a:endParaRPr b="1" lang="en-US" sz="3200" spc="-1" strike="noStrike">
              <a:solidFill>
                <a:srgbClr val="000000"/>
              </a:solidFill>
              <a:latin typeface="Calibri"/>
            </a:endParaRPr>
          </a:p>
        </p:txBody>
      </p:sp>
      <p:pic>
        <p:nvPicPr>
          <p:cNvPr id="690" name="Content Placeholder 5" descr="fig09_08a.jpg"/>
          <p:cNvPicPr/>
          <p:nvPr/>
        </p:nvPicPr>
        <p:blipFill>
          <a:blip r:embed="rId1"/>
          <a:stretch/>
        </p:blipFill>
        <p:spPr>
          <a:xfrm>
            <a:off x="820800" y="1600200"/>
            <a:ext cx="3311640" cy="4525920"/>
          </a:xfrm>
          <a:prstGeom prst="rect">
            <a:avLst/>
          </a:prstGeom>
          <a:ln w="0">
            <a:noFill/>
          </a:ln>
        </p:spPr>
      </p:pic>
      <p:pic>
        <p:nvPicPr>
          <p:cNvPr id="691" name="Content Placeholder 6" descr="fig09_08b.jpg"/>
          <p:cNvPicPr/>
          <p:nvPr/>
        </p:nvPicPr>
        <p:blipFill>
          <a:blip r:embed="rId2"/>
          <a:stretch/>
        </p:blipFill>
        <p:spPr>
          <a:xfrm>
            <a:off x="5011560" y="1600200"/>
            <a:ext cx="3311640" cy="4525920"/>
          </a:xfrm>
          <a:prstGeom prst="rect">
            <a:avLst/>
          </a:prstGeom>
          <a:ln w="0">
            <a:noFill/>
          </a:ln>
        </p:spPr>
      </p:pic>
      <p:sp>
        <p:nvSpPr>
          <p:cNvPr id="69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BEB9-FE78-4FB9-9FA7-657CAF77F2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Two Advertising Appeals Are Shown in This Ad?</a:t>
            </a:r>
            <a:endParaRPr b="1" lang="en-US" sz="4000" spc="-1" strike="noStrike">
              <a:solidFill>
                <a:srgbClr val="000000"/>
              </a:solidFill>
              <a:latin typeface="Calibri"/>
            </a:endParaRPr>
          </a:p>
        </p:txBody>
      </p:sp>
      <p:sp>
        <p:nvSpPr>
          <p:cNvPr id="69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6501-0506-494A-ACFB-933141C70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7" name="Content Placeholder 9" descr="fig09_09.jpg"/>
          <p:cNvPicPr/>
          <p:nvPr/>
        </p:nvPicPr>
        <p:blipFill>
          <a:blip r:embed="rId1"/>
          <a:stretch/>
        </p:blipFill>
        <p:spPr>
          <a:xfrm>
            <a:off x="2590920" y="1828800"/>
            <a:ext cx="3394080" cy="4525920"/>
          </a:xfrm>
          <a:prstGeom prst="rect">
            <a:avLst/>
          </a:prstGeom>
          <a:ln w="0">
            <a:noFill/>
          </a:ln>
        </p:spPr>
      </p:pic>
      <p:pic>
        <p:nvPicPr>
          <p:cNvPr id="698" name="Content Placeholder 9" descr="fig09_09.jpg"/>
          <p:cNvPicPr/>
          <p:nvPr/>
        </p:nvPicPr>
        <p:blipFill>
          <a:blip r:embed="rId2"/>
          <a:stretch/>
        </p:blipFill>
        <p:spPr>
          <a:xfrm>
            <a:off x="2743200" y="1981080"/>
            <a:ext cx="3394080" cy="4525920"/>
          </a:xfrm>
          <a:prstGeom prst="rect">
            <a:avLst/>
          </a:prstGeom>
          <a:ln w="0">
            <a:noFill/>
          </a:ln>
        </p:spPr>
      </p:pic>
      <p:sp>
        <p:nvSpPr>
          <p:cNvPr id="69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umor and Fear Appeal</a:t>
            </a:r>
            <a:endParaRPr b="1" lang="en-US" sz="4000" spc="-1" strike="noStrike">
              <a:solidFill>
                <a:srgbClr val="000000"/>
              </a:solidFill>
              <a:latin typeface="Calibri"/>
            </a:endParaRPr>
          </a:p>
        </p:txBody>
      </p:sp>
      <p:sp>
        <p:nvSpPr>
          <p:cNvPr id="70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DD48-9175-458B-AB28-3C6703654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3" name="Content Placeholder 9" descr="fig09_09.jpg"/>
          <p:cNvPicPr/>
          <p:nvPr/>
        </p:nvPicPr>
        <p:blipFill>
          <a:blip r:embed="rId1"/>
          <a:stretch/>
        </p:blipFill>
        <p:spPr>
          <a:xfrm>
            <a:off x="2590920" y="1828800"/>
            <a:ext cx="3394080" cy="4525920"/>
          </a:xfrm>
          <a:prstGeom prst="rect">
            <a:avLst/>
          </a:prstGeom>
          <a:ln w="0">
            <a:noFill/>
          </a:ln>
        </p:spPr>
      </p:pic>
      <p:pic>
        <p:nvPicPr>
          <p:cNvPr id="704" name="Content Placeholder 9" descr="fig09_09.jpg"/>
          <p:cNvPicPr/>
          <p:nvPr/>
        </p:nvPicPr>
        <p:blipFill>
          <a:blip r:embed="rId2"/>
          <a:stretch/>
        </p:blipFill>
        <p:spPr>
          <a:xfrm>
            <a:off x="2743200" y="1981080"/>
            <a:ext cx="3394080" cy="4525920"/>
          </a:xfrm>
          <a:prstGeom prst="rect">
            <a:avLst/>
          </a:prstGeom>
          <a:ln w="0">
            <a:noFill/>
          </a:ln>
        </p:spPr>
      </p:pic>
      <p:sp>
        <p:nvSpPr>
          <p:cNvPr id="70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elebrity Appeals</a:t>
            </a:r>
            <a:br>
              <a:rPr sz="3600"/>
            </a:br>
            <a:r>
              <a:rPr b="1" lang="en-US" sz="3600" spc="-1" strike="noStrike">
                <a:solidFill>
                  <a:srgbClr val="000000"/>
                </a:solidFill>
                <a:latin typeface="Calibri"/>
              </a:rPr>
              <a:t>Table 9.6</a:t>
            </a:r>
            <a:endParaRPr b="1" lang="en-US" sz="3600" spc="-1" strike="noStrike">
              <a:solidFill>
                <a:srgbClr val="000000"/>
              </a:solidFill>
              <a:latin typeface="Calibri"/>
            </a:endParaRPr>
          </a:p>
        </p:txBody>
      </p:sp>
      <p:sp>
        <p:nvSpPr>
          <p:cNvPr id="7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7FE8-0C42-4885-B87C-635A4AD8D2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9" name="Content Placeholder 5" descr=""/>
          <p:cNvPicPr/>
          <p:nvPr/>
        </p:nvPicPr>
        <p:blipFill>
          <a:blip r:embed="rId1"/>
          <a:stretch/>
        </p:blipFill>
        <p:spPr>
          <a:xfrm>
            <a:off x="158760" y="1298520"/>
            <a:ext cx="8906040" cy="5254560"/>
          </a:xfrm>
          <a:prstGeom prst="rect">
            <a:avLst/>
          </a:prstGeom>
          <a:ln w="0">
            <a:noFill/>
          </a:ln>
        </p:spPr>
      </p:pic>
      <p:sp>
        <p:nvSpPr>
          <p:cNvPr id="71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5B2B-DD39-46BA-ABF0-7EC199D0CF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71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marketer for your college/univers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ould you use comparative advert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you think it would be effective?</a:t>
            </a:r>
            <a:endParaRPr b="0" lang="en-US" sz="2800" spc="-1" strike="noStrike">
              <a:solidFill>
                <a:srgbClr val="000000"/>
              </a:solidFill>
              <a:latin typeface="Calibri"/>
            </a:endParaRPr>
          </a:p>
        </p:txBody>
      </p:sp>
      <p:sp>
        <p:nvSpPr>
          <p:cNvPr id="71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BC70-A1FB-4682-BDB7-46B72DD82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edback </a:t>
            </a:r>
            <a:br>
              <a:rPr sz="3600"/>
            </a:br>
            <a:r>
              <a:rPr b="1" lang="en-US" sz="3600" spc="-1" strike="noStrike">
                <a:solidFill>
                  <a:srgbClr val="000000"/>
                </a:solidFill>
                <a:latin typeface="Calibri"/>
              </a:rPr>
              <a:t>Determining Effectiveness</a:t>
            </a:r>
            <a:endParaRPr b="1" lang="en-US" sz="3600" spc="-1" strike="noStrike">
              <a:solidFill>
                <a:srgbClr val="000000"/>
              </a:solidFill>
              <a:latin typeface="Calibri"/>
            </a:endParaRPr>
          </a:p>
        </p:txBody>
      </p:sp>
      <p:pic>
        <p:nvPicPr>
          <p:cNvPr id="719" name="Diagram 6" descr=""/>
          <p:cNvPicPr/>
          <p:nvPr/>
        </p:nvPicPr>
        <p:blipFill>
          <a:blip r:embed="rId1"/>
          <a:stretch/>
        </p:blipFill>
        <p:spPr>
          <a:xfrm>
            <a:off x="438120" y="1682640"/>
            <a:ext cx="8267760" cy="4462560"/>
          </a:xfrm>
          <a:prstGeom prst="rect">
            <a:avLst/>
          </a:prstGeom>
          <a:ln w="0">
            <a:noFill/>
          </a:ln>
        </p:spPr>
      </p:pic>
      <p:sp>
        <p:nvSpPr>
          <p:cNvPr id="7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81EA-C2D7-4ABC-A858-791BDB114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edback </a:t>
            </a:r>
            <a:br>
              <a:rPr sz="3600"/>
            </a:br>
            <a:r>
              <a:rPr b="1" lang="en-US" sz="3600" spc="-1" strike="noStrike">
                <a:solidFill>
                  <a:srgbClr val="000000"/>
                </a:solidFill>
                <a:latin typeface="Calibri"/>
              </a:rPr>
              <a:t>Determining Effectiveness</a:t>
            </a:r>
            <a:endParaRPr b="1" lang="en-US" sz="3600" spc="-1" strike="noStrike">
              <a:solidFill>
                <a:srgbClr val="000000"/>
              </a:solidFill>
              <a:latin typeface="Calibri"/>
            </a:endParaRPr>
          </a:p>
        </p:txBody>
      </p:sp>
      <p:sp>
        <p:nvSpPr>
          <p:cNvPr id="72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 Attention, Interpretation, and Recal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ological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inal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all and recognition measu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F3CB-49B6-442F-A019-E8216C4F1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29"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DAEB-520F-4FBB-B04E-1CED283F3B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verbal Used for Positioning</a:t>
            </a:r>
            <a:endParaRPr b="1" lang="en-US" sz="4000" spc="-1" strike="noStrike">
              <a:solidFill>
                <a:srgbClr val="000000"/>
              </a:solidFill>
              <a:latin typeface="Calibri"/>
            </a:endParaRPr>
          </a:p>
        </p:txBody>
      </p:sp>
      <p:pic>
        <p:nvPicPr>
          <p:cNvPr id="516" name="Content Placeholder 4" descr="fig09_01.jpg"/>
          <p:cNvPicPr/>
          <p:nvPr/>
        </p:nvPicPr>
        <p:blipFill>
          <a:blip r:embed="rId1"/>
          <a:stretch/>
        </p:blipFill>
        <p:spPr>
          <a:xfrm>
            <a:off x="3176640" y="1752480"/>
            <a:ext cx="279072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A16A-3217-49B1-BFFE-17D8265D1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Communication Model</a:t>
            </a:r>
            <a:br>
              <a:rPr sz="3600"/>
            </a:br>
            <a:r>
              <a:rPr b="1" lang="en-US" sz="3600" spc="-1" strike="noStrike">
                <a:solidFill>
                  <a:srgbClr val="000000"/>
                </a:solidFill>
                <a:latin typeface="Calibri"/>
              </a:rPr>
              <a:t>Figure 9.2</a:t>
            </a:r>
            <a:endParaRPr b="1" lang="en-US" sz="3600" spc="-1" strike="noStrike">
              <a:solidFill>
                <a:srgbClr val="000000"/>
              </a:solidFill>
              <a:latin typeface="Calibri"/>
            </a:endParaRPr>
          </a:p>
        </p:txBody>
      </p:sp>
      <p:sp>
        <p:nvSpPr>
          <p:cNvPr id="52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08D4-FBB6-4632-9638-3BFF6F30F6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524" name="Picture 8" descr="fig09_02"/>
          <p:cNvPicPr/>
          <p:nvPr/>
        </p:nvPicPr>
        <p:blipFill>
          <a:blip r:embed="rId1"/>
          <a:stretch/>
        </p:blipFill>
        <p:spPr>
          <a:xfrm>
            <a:off x="152280" y="2743200"/>
            <a:ext cx="8763120" cy="173988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ource as the Initiator</a:t>
            </a:r>
            <a:endParaRPr b="1" lang="en-US" sz="4000" spc="-1" strike="noStrike">
              <a:solidFill>
                <a:srgbClr val="000000"/>
              </a:solidFill>
              <a:latin typeface="Calibri"/>
            </a:endParaRPr>
          </a:p>
        </p:txBody>
      </p:sp>
      <p:pic>
        <p:nvPicPr>
          <p:cNvPr id="526" name="Content Placeholder 4" descr=""/>
          <p:cNvPicPr/>
          <p:nvPr/>
        </p:nvPicPr>
        <p:blipFill>
          <a:blip r:embed="rId1"/>
          <a:stretch/>
        </p:blipFill>
        <p:spPr>
          <a:xfrm>
            <a:off x="438120" y="1736640"/>
            <a:ext cx="8437680" cy="4408560"/>
          </a:xfrm>
          <a:prstGeom prst="rect">
            <a:avLst/>
          </a:prstGeom>
          <a:ln w="0">
            <a:noFill/>
          </a:ln>
        </p:spPr>
      </p:pic>
      <p:sp>
        <p:nvSpPr>
          <p:cNvPr id="527"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42AD-17BE-4422-A02C-C81243E25B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FC12-D7B9-4892-9767-A061AF61F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2743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ource - </a:t>
            </a:r>
            <a:br>
              <a:rPr sz="3200"/>
            </a:br>
            <a:r>
              <a:rPr b="1" lang="en-US" sz="3200" spc="-1" strike="noStrike">
                <a:solidFill>
                  <a:srgbClr val="000000"/>
                </a:solidFill>
                <a:latin typeface="Calibri"/>
              </a:rPr>
              <a:t>Impersonal and Interpersonal Communications</a:t>
            </a:r>
            <a:endParaRPr b="1" lang="en-US" sz="3200" spc="-1" strike="noStrike">
              <a:solidFill>
                <a:srgbClr val="000000"/>
              </a:solidFill>
              <a:latin typeface="Calibri"/>
            </a:endParaRPr>
          </a:p>
        </p:txBody>
      </p:sp>
      <p:sp>
        <p:nvSpPr>
          <p:cNvPr id="532" name=""/>
          <p:cNvSpPr txBox="1"/>
          <p:nvPr/>
        </p:nvSpPr>
        <p:spPr>
          <a:xfrm>
            <a:off x="457200" y="1752120"/>
            <a:ext cx="4114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Cred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 Grou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a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a:t>
            </a:r>
            <a:endParaRPr b="0" lang="en-US" sz="2800" spc="-1" strike="noStrike">
              <a:solidFill>
                <a:srgbClr val="000000"/>
              </a:solidFill>
              <a:latin typeface="Calibri"/>
            </a:endParaRPr>
          </a:p>
        </p:txBody>
      </p:sp>
      <p:sp>
        <p:nvSpPr>
          <p:cNvPr id="533"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C492-03E3-4A1E-85D0-4B5CE6FA5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4" name="Picture 7" descr="ch9 - four fiures illustration.eps"/>
          <p:cNvPicPr/>
          <p:nvPr/>
        </p:nvPicPr>
        <p:blipFill>
          <a:blip r:embed="rId1"/>
          <a:stretch/>
        </p:blipFill>
        <p:spPr>
          <a:xfrm>
            <a:off x="4952880" y="2362320"/>
            <a:ext cx="3872160" cy="2746080"/>
          </a:xfrm>
          <a:prstGeom prst="rect">
            <a:avLst/>
          </a:prstGeom>
          <a:ln w="0">
            <a:noFill/>
          </a:ln>
        </p:spPr>
      </p:pic>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A23E-2BB5-4008-9C04-A15FB0CBE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228600" y="1980720"/>
            <a:ext cx="45720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l Sourc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nion leader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 of Mouth and eWO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way communic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commun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 boards and Blogs</a:t>
            </a:r>
            <a:endParaRPr b="0" lang="en-US" sz="2800" spc="-1" strike="noStrike">
              <a:solidFill>
                <a:srgbClr val="000000"/>
              </a:solidFill>
              <a:latin typeface="Calibri"/>
            </a:endParaRPr>
          </a:p>
        </p:txBody>
      </p:sp>
      <p:sp>
        <p:nvSpPr>
          <p:cNvPr id="53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D13D-E002-496C-BF92-9AB4DA213F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Informal Sources and Word of Mouth</a:t>
            </a:r>
            <a:endParaRPr b="1" lang="en-US" sz="3600" spc="-1" strike="noStrike">
              <a:solidFill>
                <a:srgbClr val="000000"/>
              </a:solidFill>
              <a:latin typeface="Calibri"/>
            </a:endParaRPr>
          </a:p>
        </p:txBody>
      </p:sp>
      <p:pic>
        <p:nvPicPr>
          <p:cNvPr id="541"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542" name="Picture 6" descr="ch9 - group around laptop.jpg"/>
          <p:cNvPicPr/>
          <p:nvPr/>
        </p:nvPicPr>
        <p:blipFill>
          <a:blip r:embed="rId3"/>
          <a:stretch/>
        </p:blipFill>
        <p:spPr>
          <a:xfrm>
            <a:off x="4724280" y="2362320"/>
            <a:ext cx="3962520" cy="2643120"/>
          </a:xfrm>
          <a:prstGeom prst="rect">
            <a:avLst/>
          </a:prstGeom>
          <a:ln w="0">
            <a:noFill/>
          </a:ln>
        </p:spPr>
      </p:pic>
      <p:sp>
        <p:nvSpPr>
          <p:cNvPr id="5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63BE-71B6-4AD6-AED9-18423C3BF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962160" y="1874520"/>
            <a:ext cx="47242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zz Ag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al Marke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ckling negative rumors</a:t>
            </a:r>
            <a:endParaRPr b="0" lang="en-US" sz="3200" spc="-1" strike="noStrike">
              <a:solidFill>
                <a:srgbClr val="000000"/>
              </a:solidFill>
              <a:latin typeface="Calibri"/>
            </a:endParaRPr>
          </a:p>
        </p:txBody>
      </p:sp>
      <p:sp>
        <p:nvSpPr>
          <p:cNvPr id="54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BB0A-2D60-4BD4-821B-97D9D69638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Word of Mouth – Strategic Applications</a:t>
            </a:r>
            <a:endParaRPr b="1" lang="en-US" sz="3600" spc="-1" strike="noStrike">
              <a:solidFill>
                <a:srgbClr val="000000"/>
              </a:solidFill>
              <a:latin typeface="Calibri"/>
            </a:endParaRPr>
          </a:p>
        </p:txBody>
      </p:sp>
      <p:pic>
        <p:nvPicPr>
          <p:cNvPr id="54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550" name="Picture 6" descr="ch9 - World of pictures.jpg"/>
          <p:cNvPicPr/>
          <p:nvPr/>
        </p:nvPicPr>
        <p:blipFill>
          <a:blip r:embed="rId3"/>
          <a:stretch/>
        </p:blipFill>
        <p:spPr>
          <a:xfrm>
            <a:off x="317520" y="2057400"/>
            <a:ext cx="3720960" cy="3200400"/>
          </a:xfrm>
          <a:prstGeom prst="rect">
            <a:avLst/>
          </a:prstGeom>
          <a:ln w="0">
            <a:noFill/>
          </a:ln>
        </p:spPr>
      </p:pic>
      <p:sp>
        <p:nvSpPr>
          <p:cNvPr id="55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4583-AD29-48E1-9978-69057D9D8D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38:10Z</dcterms:modified>
  <cp:revision>134</cp:revision>
  <dc:subject/>
  <dc:title>Slide 1</dc:title>
</cp:coreProperties>
</file>