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jpeg" ContentType="image/jpeg"/>
  <Override PartName="/ppt/media/image10.jpeg" ContentType="image/jpeg"/>
  <Override PartName="/ppt/media/image8.jpeg" ContentType="image/jpeg"/>
  <Override PartName="/ppt/media/image6.gif" ContentType="image/gif"/>
  <Override PartName="/ppt/media/image11.png" ContentType="image/png"/>
  <Override PartName="/ppt/media/image19.jpeg" ContentType="image/jpeg"/>
  <Override PartName="/ppt/media/image7.jpeg" ContentType="image/jpeg"/>
  <Override PartName="/ppt/media/image5.wmf" ContentType="image/x-wmf"/>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ADF6-AA10-45A1-9924-4D326EC371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A02D-729A-415F-BB73-E7C5921CB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052C-BCBA-40BC-9B90-A045CEE60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B3F8-7CB6-44B2-B49E-25F53A652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0EE0-D1C4-494A-BB7D-2B4506B16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ED8A-1A47-4DD4-8610-CAC6A9E6D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FA6A-851A-460E-807B-CB6AE3595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1736-6355-4F92-9634-D6300BC73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13CA-DE81-404E-ABF6-12CE74D62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B373-E025-4580-B775-98DB68276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for the topics in Chapter Nine.</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8910-0887-4A5E-97E5-D8678A461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59B9-702A-47D5-A26B-85087D2A7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D513-EA4E-44D7-889C-38581E778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6D23-1354-4CBD-9FED-C4F607965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0B09-F801-4A91-8EAA-C2D28410F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FE11-EC33-4F47-A4EF-C7C4534F5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AC15-64ED-4CC4-A08A-A998CD74D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B3FC-E0E1-4B47-8CA9-42EE006EB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15F9-753C-41C5-869B-A3B05A959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3A54-FBE1-41FC-8C17-E84D70D14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A076-3E76-4FB1-AB1A-A667C9D65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2C32-FAF5-47B0-8D67-3BA8A0F9B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D72B-63ED-4B43-8A13-CE818BD31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2813-D2B8-4B95-AA7A-6516A5754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B5EB-ACC4-4227-8DD4-3CB20EF17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1BD6-39D9-4F9A-8529-37E84D069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94B5-9540-4EDD-AD07-E50172381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6720-0958-4AB6-A199-8FE30F2E2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5836-952B-4787-9732-B2E088804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3B9B-19EA-4814-8C74-EC8F3F704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289D-6B51-4876-A1BD-715C1CC0F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0D46A-255B-4282-8119-302CBDD102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EF98D3-FF8F-48AC-9116-8AF53CEB42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BC0091A-A331-478A-BE3E-ED19A2A555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4555E6-1EBA-4E84-A5D5-BE45C7353C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62B152-E004-466C-96B6-51AC0AF1E72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C97942-E9AC-4656-91A6-B29B579E2E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4C2C04-E44B-487E-B59E-BA2A4B376F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43DA5F-1F76-450B-AB92-13FD978CE2B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40B031-B1E2-4C82-9AA8-84183016FCC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BC828E-3719-4BDB-96EC-A0FE957A5B4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047A2C-C399-4856-A80C-266DAC863D6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AC1947E-770B-46C2-A12A-8E46C174988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806706-2587-4A26-9FC7-BFEF2C3D96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AEEF6EF-E536-4A58-B600-05F8687BA6E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08E7C6F-06A3-4E3F-9DB8-A38B9E89A0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F5A6AD1-0149-4630-B997-0B32C3D6636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B997631-6607-4C2A-9931-C81B5C06749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7AB312-D995-402B-AA52-C45E3DED5C3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8BEDD3-E87E-4E36-BBAE-DA719BEF14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99F79F9-8EDE-4875-A88D-BD1795D545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B649CDC-B9A4-40A6-94D2-1A94922E79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87AEF2D-6E16-48E1-987D-A5345AD52F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D9D225D-3FAB-4CED-8C96-4E7A2C58B5E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4E967F-F15F-4905-8865-E1D75455F54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D0F5325-1947-4E12-94A1-984F39409AB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7376BDC-9C99-430A-BF2D-9776EFFD649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B58A08D-CD77-466F-890F-E87DC09B7A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C816FF4-140A-4293-809F-0B695F36007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53431F5-9378-472B-9F43-9E47843760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80BC116-C761-4E2C-8518-010233DEFF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6ABA7AB-0757-4EF6-B244-D2906832A22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1953E9-47C9-47DA-8850-CA0370F98F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66DD54-D1A0-4236-88A6-D3A9EB6466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9A1A0F-BF9C-4EB0-AA0C-1788B8D0A4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0D61E-D46E-4A64-A8F9-F92FDA438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349D024-39AB-41B3-A5F1-F2EF2653A91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1AEDECA-115C-43E9-8B17-B982F5F6E6D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4F4CAAE-7372-4117-BAFF-A6D216A0352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767E33B-1376-4592-8DF4-2A50B983816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5D6C996-BF00-45C7-B0FC-4ABED90EA5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1D7BBDF-7C04-4F18-A7D0-52D2176FCAD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8C2D8A0-2338-46CB-9618-3FE95D6A02E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7968049-068D-4BDA-B737-DA81EFDC001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B31D163-AD02-4951-A9F6-E69F0358096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1E1726A-C888-4918-B721-E200E835806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C9AC1-7479-4B39-9C82-3398FA76A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370B661-30A6-4B22-9B0F-A6B297AD4BD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37411E1-96D5-43F2-96E3-C60890E285A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88F9B8B-CF82-4CB2-879A-596B9DB886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6C40B14-0BC6-43EB-AA41-C9B28CDD31C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BE47BA3-D5B2-4097-A50E-847268BFFAC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CF118-0261-49D0-9FAD-928CD4289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47F63-F237-4F73-8367-2CAB85841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D8276-2C5A-40D8-AE05-BFB2AAA6A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039C8-E4B1-4906-B471-6BAFF434B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927D2-7140-420D-8DB4-F56FAC1C5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653F2B-1F41-4E7A-A10F-CCD71D6336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8134A-5AE5-4632-A1D9-86E78F2F5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55F61-4749-4ACD-880D-3D6BAEA31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3A636-D72B-48BD-903F-0738E2EAD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1C3384-7C2D-4513-B92E-044E33A1FD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FDBF4-1A91-4CCA-B392-4FE0235B8F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3B689C-F67D-4A25-9E4C-1992AAC1C48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7B4691-23AB-4D12-A385-A3F986158C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F0DEB3-AB5A-400F-828A-A0ED81F56B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C7B101-2CB1-4442-A5C7-6F2AC0970A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2554A3-17CF-4D59-83DF-9C1BE3EF4D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E208F1-58BE-4630-8BB9-3504889469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EEC4FE-F7E1-417E-A766-982A76F65E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9ABEE7-327A-4B0C-B17E-587341190C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29280D-26F4-4629-8DE5-4D01CA7EB5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404B07-F3FF-4199-B9E7-28E4E201D3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92669F-31E6-4F97-89B8-CC8FB560CD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9316F5-E36C-4F7D-81D2-385F042300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9462E36-D8B6-4C04-BD3D-D64AD904CF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710529-F795-4299-A6EB-82B73E66BE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858666-0A2E-42CB-BBB3-47DE349E5D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75E9D0-ADD1-49B6-A826-07642AB81B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92EE4-8260-4732-8A5C-94D4AC6122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87B2AA-B9E5-4C09-9C24-2F96316559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69CFC9-1366-4DBC-AD44-CF0E5295A0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364626-30F0-4243-9DF6-55068B810C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B90DEE-F5D5-44F7-B704-292C655F7E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8F8107-CA35-4F30-9172-518D58AAB9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89316C-616B-434E-AEAB-A275385EA2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402868-5C9C-47DB-858B-7327594CE8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CD28DA-E50C-4219-9B45-596CB2C618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47F548-729A-4AF9-AC9F-31A745D524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7E16815-93D8-4900-B16B-4E3BAAF4281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36BF5E-F8AE-4842-BDD2-90CF361EC5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7A73262-2359-496E-9A47-CBAE5EEA49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86EC71-BE57-4ED4-B2A0-3313692326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27E6A6-3D26-402B-9B41-D30C8845E1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089566-F2A4-460B-A1AD-FB5CA04A0E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8A5017-8136-41EA-9314-F89444AAB7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D643CF-7679-4677-90F2-07CFBB72AA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6D702C-D0BF-43F8-BFF0-FD1C1885A8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349E95-003C-4481-9C9E-276A097F27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4501AD-292D-4B72-98F7-844C85BC80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495D416-3C73-4451-A679-A785EDA59D9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8513A-C9D4-470B-811C-863579C6D6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3C00CF5-2204-4DB3-98AE-D2E5F55BFAF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D11959-6544-4134-AC64-C4C77E8A755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C6E9844-A1CA-4C53-B7A5-65401059B1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104055-3E72-43B3-94FB-A31260A63A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28DBA0-5A8C-4D47-BCBF-87E15E26E3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BEEDF8-C474-4C3F-B676-163A05BD00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176707-BB2F-4348-9E90-BC67858733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4FB890-3BAA-48A1-A842-E3E9A6FD31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BB3284-B815-4F7C-A3C9-2ED7F9C9E0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86F9C7-B539-416A-A821-5457763571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FD4140-43CF-4249-9833-9DC991C43D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8EABA4-A5EF-410E-BB84-FA2EB59BD5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8C3DE47-503F-45C9-BB2B-2B423A34CA1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3B563C8-201C-4660-8973-56ED1E79E37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DBA3B92-1DED-4BAF-B152-3B25D0D34AA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94A77E-FF58-4B29-995D-F900995883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C3B816-2355-43CF-9F5B-5F997429D4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843A68D-9E3C-473B-ADC9-A480A1BEFB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398A41-B45E-400D-A4B7-FC4DC1E7BB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1DCF5B-8A96-4FD8-9E4E-DF4BC16FD98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D62BAD-DFCB-4525-AAC3-AD603184C5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8C3B0-723D-48D8-B614-24EFB6CBA3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85FBFC-0B34-454D-8E66-1DA45DF00F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256ABD-AD12-491F-9C5A-70DAE4DAD9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D7F29D-CD80-41D2-8508-541397761C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8AD41F-6DE4-47A0-A17E-2044B59F25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2F1CDE6-ECB3-4F0E-9B0D-110D646FBC2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9714EA0-88F5-476E-A87C-E7F62137E93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2024C5-C015-409B-9C6A-76B83864BB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E5703C-8826-4BA1-B256-0DA83D66A4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284C73-CF13-4C37-B31B-5984016288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C78607-1BF2-4D13-B85D-C116BDB5ED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CFC0B-A573-402C-BD9C-6DD83F6DB7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11D74AC-7A61-4625-B123-A24DB854DD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856526-F1DB-4F24-BEF7-E2468EC1C0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DA5900-AB93-4CD2-862C-5592BD54E2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F0E50A-227B-4396-9FA2-C6B2B02763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794050-28D4-44C4-8B07-5271DD58ED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1BB445B-6E13-42A9-B0FB-83120DCE80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D7FE1C8-3DE5-4057-9286-A1B668995A8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83FE8E0-0201-444B-BD76-455C800DC66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36CD34E-01F4-40F4-86CE-DE46B63112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F93D0C-D5AE-4AF6-9DFB-D8D8E856AAA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9494-4F40-475F-872E-BB1A86F510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E39B-54A0-4AAC-A87C-279A14F54A6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86B3-F9B8-400A-BBB8-1AF6FFAF43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E7F9-1384-401C-B8A7-A922FD613BB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4AB8-2C05-4A24-B1B5-9E34E28F3B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199B-337C-4DE9-BB56-6E5D66CE5A5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A11D-77B2-45FE-A1D4-A138746780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5E29-854F-4455-81D4-3A329073CEF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849B-377A-4C66-8C57-5B4A68810C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3208-CA77-44CF-B307-ED128B7F8261}"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9DDE-D064-4190-BC39-A99C74CBFA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927D-57C7-444E-BC31-2AC4F7FBF6A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26AE-01EA-4F34-B95A-AE293EADDA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1803-70B8-4C33-9869-88796D5672D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1A23-6C20-4CC7-B45E-13F271D371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AA7E-4038-42C5-938B-85E9B5705F6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A338-74C4-46E0-AEAA-9EC890C470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D788-5CA7-45A0-9570-FCA2024EA59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FD20-9240-4625-A346-1ACD7D35E3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03F8-3541-47CE-A96A-C7BC03F8F3A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531A-427D-42C3-8111-1554D922E8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45EF-F43E-4099-BF22-8A1C65DB100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380880" y="6492960"/>
            <a:ext cx="5639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61F5-0049-41A0-A297-2F623A02D2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submediaworld.com/" TargetMode="External"/><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echnorati.com/" TargetMode="External"/><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tremor.com/index.html" TargetMode="External"/><Relationship Id="rId2" Type="http://schemas.openxmlformats.org/officeDocument/2006/relationships/image" Target="../media/image6.gi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unication and Consumer Behavior</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NI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55" name="PlaceHolder 2"/>
          <p:cNvSpPr>
            <a:spLocks noGrp="1"/>
          </p:cNvSpPr>
          <p:nvPr>
            <p:ph/>
          </p:nvPr>
        </p:nvSpPr>
        <p:spPr>
          <a:xfrm>
            <a:off x="457200" y="1752120"/>
            <a:ext cx="4572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have informal sources affected your decision as a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informal sources are the most powerful?  Why?  When?</a:t>
            </a:r>
            <a:endParaRPr b="0" lang="en-US" sz="3200" spc="-1" strike="noStrike">
              <a:solidFill>
                <a:srgbClr val="000000"/>
              </a:solidFill>
              <a:latin typeface="Calibri"/>
            </a:endParaRPr>
          </a:p>
        </p:txBody>
      </p:sp>
      <p:sp>
        <p:nvSpPr>
          <p:cNvPr id="55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20A5-958E-418A-954A-198FAAA845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120"/>
            <a:ext cx="4038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or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23CC-36C7-4032-A610-B0F68E2783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Credibility of Formal Sources</a:t>
            </a:r>
            <a:endParaRPr b="1" lang="en-US" sz="3600" spc="-1" strike="noStrike">
              <a:solidFill>
                <a:srgbClr val="000000"/>
              </a:solidFill>
              <a:latin typeface="Calibri"/>
            </a:endParaRPr>
          </a:p>
        </p:txBody>
      </p:sp>
      <p:sp>
        <p:nvSpPr>
          <p:cNvPr id="5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90B-137F-404F-844A-554DB25D6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565" name="Picture 10" descr="fig09_03"/>
          <p:cNvPicPr/>
          <p:nvPr/>
        </p:nvPicPr>
        <p:blipFill>
          <a:blip r:embed="rId1"/>
          <a:stretch/>
        </p:blipFill>
        <p:spPr>
          <a:xfrm>
            <a:off x="4213080" y="1600200"/>
            <a:ext cx="43974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567"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o you consider credible spokes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think of certain ads with credible spokes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s with spokespeople who are NOT credible?</a:t>
            </a:r>
            <a:endParaRPr b="0" lang="en-US" sz="3200" spc="-1" strike="noStrike">
              <a:solidFill>
                <a:srgbClr val="000000"/>
              </a:solidFill>
              <a:latin typeface="Calibri"/>
            </a:endParaRPr>
          </a:p>
        </p:txBody>
      </p:sp>
      <p:sp>
        <p:nvSpPr>
          <p:cNvPr id="56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74C4-0497-4257-BC26-7117708F35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Are Consumers Likely to Perceive This Ad as Credible?</a:t>
            </a:r>
            <a:endParaRPr b="1" lang="en-US" sz="4000" spc="-1" strike="noStrike">
              <a:solidFill>
                <a:srgbClr val="000000"/>
              </a:solidFill>
              <a:latin typeface="Calibri"/>
            </a:endParaRPr>
          </a:p>
        </p:txBody>
      </p:sp>
      <p:pic>
        <p:nvPicPr>
          <p:cNvPr id="572" name="Content Placeholder 4" descr="fig09_04.jpg"/>
          <p:cNvPicPr/>
          <p:nvPr/>
        </p:nvPicPr>
        <p:blipFill>
          <a:blip r:embed="rId1"/>
          <a:stretch/>
        </p:blipFill>
        <p:spPr>
          <a:xfrm>
            <a:off x="1477800" y="1752480"/>
            <a:ext cx="6188400" cy="4373640"/>
          </a:xfrm>
          <a:prstGeom prst="rect">
            <a:avLst/>
          </a:prstGeom>
          <a:ln w="0">
            <a:noFill/>
          </a:ln>
        </p:spPr>
      </p:pic>
      <p:sp>
        <p:nvSpPr>
          <p:cNvPr id="57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66B2-37EA-4D04-9524-CC0163FF4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lamorous Celebrity Endorser is More Likely to be Perceived as a Credible Source, Especially for a Hedonistic Product.</a:t>
            </a:r>
            <a:endParaRPr b="1" lang="en-US" sz="2800" spc="-1" strike="noStrike">
              <a:solidFill>
                <a:srgbClr val="000000"/>
              </a:solidFill>
              <a:latin typeface="Calibri"/>
            </a:endParaRPr>
          </a:p>
        </p:txBody>
      </p:sp>
      <p:pic>
        <p:nvPicPr>
          <p:cNvPr id="577" name="Content Placeholder 4" descr="fig09_04.jpg"/>
          <p:cNvPicPr/>
          <p:nvPr/>
        </p:nvPicPr>
        <p:blipFill>
          <a:blip r:embed="rId1"/>
          <a:stretch/>
        </p:blipFill>
        <p:spPr>
          <a:xfrm>
            <a:off x="1477800" y="1752480"/>
            <a:ext cx="6188400" cy="4373640"/>
          </a:xfrm>
          <a:prstGeom prst="rect">
            <a:avLst/>
          </a:prstGeom>
          <a:ln w="0">
            <a:noFill/>
          </a:ln>
        </p:spPr>
      </p:pic>
      <p:sp>
        <p:nvSpPr>
          <p:cNvPr id="5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3BBC-25FD-4644-B37E-2244268F9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redibility of Formal Sources </a:t>
            </a:r>
            <a:br>
              <a:rPr sz="3600"/>
            </a:br>
            <a:r>
              <a:rPr b="1" lang="en-US" sz="3600" spc="-1" strike="noStrike">
                <a:solidFill>
                  <a:srgbClr val="000000"/>
                </a:solidFill>
                <a:latin typeface="Calibri"/>
              </a:rPr>
              <a:t>Endorser Effectiveness</a:t>
            </a:r>
            <a:endParaRPr b="1" lang="en-US" sz="3600" spc="-1" strike="noStrike">
              <a:solidFill>
                <a:srgbClr val="000000"/>
              </a:solidFill>
              <a:latin typeface="Calibri"/>
            </a:endParaRPr>
          </a:p>
        </p:txBody>
      </p:sp>
      <p:pic>
        <p:nvPicPr>
          <p:cNvPr id="582" name="Content Placeholder 4" descr=""/>
          <p:cNvPicPr/>
          <p:nvPr/>
        </p:nvPicPr>
        <p:blipFill>
          <a:blip r:embed="rId1"/>
          <a:stretch/>
        </p:blipFill>
        <p:spPr>
          <a:xfrm>
            <a:off x="938160" y="1736640"/>
            <a:ext cx="7236000" cy="4683240"/>
          </a:xfrm>
          <a:prstGeom prst="rect">
            <a:avLst/>
          </a:prstGeom>
          <a:ln w="0">
            <a:noFill/>
          </a:ln>
        </p:spPr>
      </p:pic>
      <p:sp>
        <p:nvSpPr>
          <p:cNvPr id="58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161D-41F4-48B6-9AF6-2E3EED294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68DB-2836-4047-95A0-80321EA2A4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Content Placeholder 5" descr=""/>
          <p:cNvPicPr/>
          <p:nvPr/>
        </p:nvPicPr>
        <p:blipFill>
          <a:blip r:embed="rId1"/>
          <a:stretch/>
        </p:blipFill>
        <p:spPr>
          <a:xfrm>
            <a:off x="414360" y="1731960"/>
            <a:ext cx="8291520" cy="4413240"/>
          </a:xfrm>
          <a:prstGeom prst="rect">
            <a:avLst/>
          </a:prstGeom>
          <a:ln w="0">
            <a:noFill/>
          </a:ln>
        </p:spPr>
      </p:pic>
      <p:sp>
        <p:nvSpPr>
          <p:cNvPr id="58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4BE9-3C9D-4047-A6BB-BBC005C03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redibility of Formal Sources </a:t>
            </a:r>
            <a:br>
              <a:rPr sz="3600"/>
            </a:br>
            <a:r>
              <a:rPr b="1" lang="en-US" sz="3600" spc="-1" strike="noStrike">
                <a:solidFill>
                  <a:srgbClr val="000000"/>
                </a:solidFill>
                <a:latin typeface="Calibri"/>
              </a:rPr>
              <a:t>Other Credibility Sources</a:t>
            </a:r>
            <a:endParaRPr b="1" lang="en-US" sz="3600" spc="-1" strike="noStrike">
              <a:solidFill>
                <a:srgbClr val="000000"/>
              </a:solidFill>
              <a:latin typeface="Calibri"/>
            </a:endParaRPr>
          </a:p>
        </p:txBody>
      </p:sp>
      <p:sp>
        <p:nvSpPr>
          <p:cNvPr id="59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3AFD-C94D-48A9-810A-25DCCC4E4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ceivers  as the Target Audience</a:t>
            </a:r>
            <a:endParaRPr b="1" lang="en-US" sz="4000" spc="-1" strike="noStrike">
              <a:solidFill>
                <a:srgbClr val="000000"/>
              </a:solidFill>
              <a:latin typeface="Calibri"/>
            </a:endParaRPr>
          </a:p>
        </p:txBody>
      </p:sp>
      <p:sp>
        <p:nvSpPr>
          <p:cNvPr id="59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characteristics and mo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olvement and congru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ve exposure to mess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ological noise</a:t>
            </a:r>
            <a:endParaRPr b="0" lang="en-US" sz="2800" spc="-1" strike="noStrike">
              <a:solidFill>
                <a:srgbClr val="000000"/>
              </a:solidFill>
              <a:latin typeface="Calibri"/>
            </a:endParaRPr>
          </a:p>
        </p:txBody>
      </p:sp>
      <p:sp>
        <p:nvSpPr>
          <p:cNvPr id="5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8CB7-4C24-406E-B603-9DEE5AAC6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vercoming Psychological Noise</a:t>
            </a:r>
            <a:endParaRPr b="1" lang="en-US" sz="4000" spc="-1" strike="noStrike">
              <a:solidFill>
                <a:srgbClr val="000000"/>
              </a:solidFill>
              <a:latin typeface="Calibri"/>
            </a:endParaRPr>
          </a:p>
        </p:txBody>
      </p:sp>
      <p:pic>
        <p:nvPicPr>
          <p:cNvPr id="599" name="Content Placeholder 4" descr=""/>
          <p:cNvPicPr/>
          <p:nvPr/>
        </p:nvPicPr>
        <p:blipFill>
          <a:blip r:embed="rId1"/>
          <a:stretch/>
        </p:blipFill>
        <p:spPr>
          <a:xfrm>
            <a:off x="60480" y="1444680"/>
            <a:ext cx="9028080" cy="5114880"/>
          </a:xfrm>
          <a:prstGeom prst="rect">
            <a:avLst/>
          </a:prstGeom>
          <a:ln w="0">
            <a:noFill/>
          </a:ln>
        </p:spPr>
      </p:pic>
      <p:sp>
        <p:nvSpPr>
          <p:cNvPr id="60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8692-E9D4-4412-8F3E-3FA14C834B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D3B4-B270-4250-8876-A57AD23F1F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dia (Channel)</a:t>
            </a:r>
            <a:endParaRPr b="1" lang="en-US" sz="4000" spc="-1" strike="noStrike">
              <a:solidFill>
                <a:srgbClr val="000000"/>
              </a:solidFill>
              <a:latin typeface="Calibri"/>
            </a:endParaRPr>
          </a:p>
        </p:txBody>
      </p:sp>
      <p:sp>
        <p:nvSpPr>
          <p:cNvPr id="60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 Med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traditional (New) Media is:</a:t>
            </a:r>
            <a:endParaRPr b="0" lang="en-US" sz="3200" spc="-1" strike="noStrike">
              <a:solidFill>
                <a:srgbClr val="000000"/>
              </a:solidFill>
              <a:latin typeface="Calibri"/>
            </a:endParaRPr>
          </a:p>
        </p:txBody>
      </p:sp>
      <p:sp>
        <p:nvSpPr>
          <p:cNvPr id="60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3318-41FD-4077-BF63-B882786AE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7" name="Diagram 5" descr=""/>
          <p:cNvPicPr/>
          <p:nvPr/>
        </p:nvPicPr>
        <p:blipFill>
          <a:blip r:embed="rId1"/>
          <a:stretch/>
        </p:blipFill>
        <p:spPr>
          <a:xfrm>
            <a:off x="1006560" y="3041640"/>
            <a:ext cx="7094520" cy="2908440"/>
          </a:xfrm>
          <a:prstGeom prst="rect">
            <a:avLst/>
          </a:prstGeom>
          <a:ln w="0">
            <a:noFill/>
          </a:ln>
        </p:spPr>
      </p:pic>
      <p:sp>
        <p:nvSpPr>
          <p:cNvPr id="6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9675-7317-4F58-8B56-8FB4E9BBBC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Role of the Message’s Source in the Communication Proces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Role of the Message’s Audience (Receivers) in the Communication Proces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Learn About Advertising Media and How to Select the Right Media When Sending Promotional Messages Targeting Selected Consumer Group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Learn How Understanding Consumers Enables Marketers to Develop Persuasive Messages.</a:t>
            </a:r>
            <a:endParaRPr b="0" lang="en-US" sz="2700" spc="-1" strike="noStrike">
              <a:solidFill>
                <a:srgbClr val="000000"/>
              </a:solidFill>
              <a:latin typeface="Calibri"/>
            </a:endParaRPr>
          </a:p>
          <a:p>
            <a:pPr marL="514440" indent="-514440">
              <a:lnSpc>
                <a:spcPct val="8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Marketers Measure the Effectiveness of Their Promotional Messages.</a:t>
            </a:r>
            <a:endParaRPr b="0" lang="en-US" sz="2700" spc="-1" strike="noStrike">
              <a:solidFill>
                <a:srgbClr val="000000"/>
              </a:solidFill>
              <a:latin typeface="Calibri"/>
            </a:endParaRPr>
          </a:p>
        </p:txBody>
      </p:sp>
      <p:sp>
        <p:nvSpPr>
          <p:cNvPr id="5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0789-42EF-4257-8771-38A49233B9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hift From Traditional </a:t>
            </a:r>
            <a:br>
              <a:rPr sz="3600"/>
            </a:br>
            <a:r>
              <a:rPr b="1" lang="en-US" sz="3600" spc="-1" strike="noStrike">
                <a:solidFill>
                  <a:srgbClr val="000000"/>
                </a:solidFill>
                <a:latin typeface="Calibri"/>
              </a:rPr>
              <a:t>To Nontraditional Advertising - Figure 9.5</a:t>
            </a:r>
            <a:endParaRPr b="1" lang="en-US" sz="3600" spc="-1" strike="noStrike">
              <a:solidFill>
                <a:srgbClr val="000000"/>
              </a:solidFill>
              <a:latin typeface="Calibri"/>
            </a:endParaRPr>
          </a:p>
        </p:txBody>
      </p:sp>
      <p:sp>
        <p:nvSpPr>
          <p:cNvPr id="6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7412-AA02-48D9-87F3-B58FE5C75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A306-CD3C-4925-8C99-65FF558AF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16" name="Picture 10" descr="fig09_05"/>
          <p:cNvPicPr/>
          <p:nvPr/>
        </p:nvPicPr>
        <p:blipFill>
          <a:blip r:embed="rId1"/>
          <a:stretch/>
        </p:blipFill>
        <p:spPr>
          <a:xfrm>
            <a:off x="285840" y="1609560"/>
            <a:ext cx="8381880" cy="485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traditional Media</a:t>
            </a:r>
            <a:endParaRPr b="1" lang="en-US" sz="4000" spc="-1" strike="noStrike">
              <a:solidFill>
                <a:srgbClr val="000000"/>
              </a:solidFill>
              <a:latin typeface="Calibri"/>
            </a:endParaRPr>
          </a:p>
        </p:txBody>
      </p:sp>
      <p:sp>
        <p:nvSpPr>
          <p:cNvPr id="61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 and On-the-g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screens in buildings and trans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billboards on ro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bient advertising (in new pla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and Mobi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consumer-generated med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rowcast messa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TV (iTV)</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B2D4-6DC7-4F6D-B8D7-FAEAC5CFD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0"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2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BC50-17B8-4746-BCD3-6DF84AD69D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dia (Channel)</a:t>
            </a:r>
            <a:endParaRPr b="1" lang="en-US" sz="4000" spc="-1" strike="noStrike">
              <a:solidFill>
                <a:srgbClr val="000000"/>
              </a:solidFill>
              <a:latin typeface="Calibri"/>
            </a:endParaRPr>
          </a:p>
        </p:txBody>
      </p:sp>
      <p:sp>
        <p:nvSpPr>
          <p:cNvPr id="625" name=""/>
          <p:cNvSpPr txBox="1"/>
          <p:nvPr/>
        </p:nvSpPr>
        <p:spPr>
          <a:xfrm>
            <a:off x="456840" y="1599840"/>
            <a:ext cx="84582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uence with mess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able advert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ed entertainment</a:t>
            </a:r>
            <a:endParaRPr b="0" lang="en-US" sz="2800" spc="-1" strike="noStrike">
              <a:solidFill>
                <a:srgbClr val="000000"/>
              </a:solidFill>
              <a:latin typeface="Calibri"/>
            </a:endParaRPr>
          </a:p>
        </p:txBody>
      </p:sp>
      <p:sp>
        <p:nvSpPr>
          <p:cNvPr id="62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4BEC-E02B-4782-ABAF-15E99D21F7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5454-102D-4D79-A5F7-EA6530D804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30" name="Picture 10" descr="fig09_06"/>
          <p:cNvPicPr/>
          <p:nvPr/>
        </p:nvPicPr>
        <p:blipFill>
          <a:blip r:embed="rId1"/>
          <a:stretch/>
        </p:blipFill>
        <p:spPr>
          <a:xfrm>
            <a:off x="2286000" y="3308400"/>
            <a:ext cx="4572000" cy="32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32"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723920" y="190512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pla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create a double meaning when used with a relevant picture</a:t>
            </a:r>
            <a:endParaRPr b="0" lang="en-US" sz="2800" spc="-1" strike="noStrike">
              <a:solidFill>
                <a:srgbClr val="000000"/>
              </a:solidFill>
              <a:latin typeface="Calibri"/>
            </a:endParaRPr>
          </a:p>
        </p:txBody>
      </p:sp>
      <p:sp>
        <p:nvSpPr>
          <p:cNvPr id="634"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3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4874-DA39-46EC-814F-623CF976B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Advertising Technique Is Used in Each Ad, and How So?</a:t>
            </a:r>
            <a:endParaRPr b="1" lang="en-US" sz="4000" spc="-1" strike="noStrike">
              <a:solidFill>
                <a:srgbClr val="000000"/>
              </a:solidFill>
              <a:latin typeface="Calibri"/>
            </a:endParaRPr>
          </a:p>
        </p:txBody>
      </p:sp>
      <p:sp>
        <p:nvSpPr>
          <p:cNvPr id="64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2605-1545-4FF1-8A2B-7E352F7B5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150F-6D2C-4142-8C52-9F7E5B827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44" name="Picture 11" descr="fig09_07a"/>
          <p:cNvPicPr/>
          <p:nvPr/>
        </p:nvPicPr>
        <p:blipFill>
          <a:blip r:embed="rId1"/>
          <a:stretch/>
        </p:blipFill>
        <p:spPr>
          <a:xfrm>
            <a:off x="887400" y="1676520"/>
            <a:ext cx="3456000" cy="4724280"/>
          </a:xfrm>
          <a:prstGeom prst="rect">
            <a:avLst/>
          </a:prstGeom>
          <a:ln w="0">
            <a:noFill/>
          </a:ln>
        </p:spPr>
      </p:pic>
      <p:pic>
        <p:nvPicPr>
          <p:cNvPr id="645" name="Picture 12" descr="fig09_07b"/>
          <p:cNvPicPr/>
          <p:nvPr/>
        </p:nvPicPr>
        <p:blipFill>
          <a:blip r:embed="rId2"/>
          <a:stretch/>
        </p:blipFill>
        <p:spPr>
          <a:xfrm>
            <a:off x="4800600" y="1676520"/>
            <a:ext cx="34560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onance</a:t>
            </a:r>
            <a:endParaRPr b="1" lang="en-US" sz="4000" spc="-1" strike="noStrike">
              <a:solidFill>
                <a:srgbClr val="000000"/>
              </a:solidFill>
              <a:latin typeface="Calibri"/>
            </a:endParaRPr>
          </a:p>
        </p:txBody>
      </p:sp>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2BA6-004D-4958-AE51-0F318D51A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8F79-1678-420C-BC81-5DD9C53FDE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651" name="Picture 11" descr="fig09_07a"/>
          <p:cNvPicPr/>
          <p:nvPr/>
        </p:nvPicPr>
        <p:blipFill>
          <a:blip r:embed="rId1"/>
          <a:stretch/>
        </p:blipFill>
        <p:spPr>
          <a:xfrm>
            <a:off x="887400" y="1676520"/>
            <a:ext cx="3456000" cy="4724280"/>
          </a:xfrm>
          <a:prstGeom prst="rect">
            <a:avLst/>
          </a:prstGeom>
          <a:ln w="0">
            <a:noFill/>
          </a:ln>
        </p:spPr>
      </p:pic>
      <p:pic>
        <p:nvPicPr>
          <p:cNvPr id="652" name="Picture 12" descr="fig09_07b"/>
          <p:cNvPicPr/>
          <p:nvPr/>
        </p:nvPicPr>
        <p:blipFill>
          <a:blip r:embed="rId2"/>
          <a:stretch/>
        </p:blipFill>
        <p:spPr>
          <a:xfrm>
            <a:off x="4800600" y="1676520"/>
            <a:ext cx="345600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54"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 fram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framing</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framing</a:t>
            </a:r>
            <a:endParaRPr b="0" lang="en-US" sz="2800" spc="-1" strike="noStrike">
              <a:solidFill>
                <a:srgbClr val="000000"/>
              </a:solidFill>
              <a:latin typeface="Calibri"/>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5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00CD-6F13-42CC-AD9C-CF0856274C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62"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s on nature of the audience and nature of competition</a:t>
            </a:r>
            <a:endParaRPr b="0" lang="en-US" sz="2800" spc="-1" strike="noStrike">
              <a:solidFill>
                <a:srgbClr val="000000"/>
              </a:solidFill>
              <a:latin typeface="Calibri"/>
            </a:endParaRPr>
          </a:p>
        </p:txBody>
      </p:sp>
      <p:sp>
        <p:nvSpPr>
          <p:cNvPr id="664"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6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E7C1-3901-4F2E-B388-774E68D13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signing Persuasive Communications</a:t>
            </a:r>
            <a:endParaRPr b="1" lang="en-US" sz="3600" spc="-1" strike="noStrike">
              <a:solidFill>
                <a:srgbClr val="000000"/>
              </a:solidFill>
              <a:latin typeface="Calibri"/>
            </a:endParaRPr>
          </a:p>
        </p:txBody>
      </p:sp>
      <p:sp>
        <p:nvSpPr>
          <p:cNvPr id="670" name="PlaceHolder 2"/>
          <p:cNvSpPr>
            <a:spLocks noGrp="1"/>
          </p:cNvSpPr>
          <p:nvPr>
            <p:ph/>
          </p:nvPr>
        </p:nvSpPr>
        <p:spPr>
          <a:xfrm>
            <a:off x="380520" y="2743200"/>
            <a:ext cx="3886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sonanc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Message framing</a:t>
            </a:r>
            <a:endParaRPr b="0" lang="en-US" sz="2800" spc="-1" strike="noStrike">
              <a:solidFill>
                <a:srgbClr val="000000"/>
              </a:solidFill>
              <a:latin typeface="Calibri"/>
            </a:endParaRPr>
          </a:p>
          <a:p>
            <a:pPr marL="343080" indent="-343080">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One-Sided versus Two-Sided Mess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Effe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4723920" y="2743200"/>
            <a:ext cx="4038840" cy="45259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c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cy</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of benefits</a:t>
            </a:r>
            <a:endParaRPr b="0" lang="en-US" sz="2800" spc="-1" strike="noStrike">
              <a:solidFill>
                <a:srgbClr val="000000"/>
              </a:solidFill>
              <a:latin typeface="Calibri"/>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a:t>
            </a:r>
            <a:endParaRPr b="0" lang="en-US" sz="2800" spc="-1" strike="noStrike">
              <a:solidFill>
                <a:srgbClr val="000000"/>
              </a:solidFill>
              <a:latin typeface="Calibri"/>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Rectangle 7"/>
          <p:cNvSpPr/>
          <p:nvPr/>
        </p:nvSpPr>
        <p:spPr>
          <a:xfrm>
            <a:off x="609480" y="152388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673e"/>
                </a:solidFill>
                <a:latin typeface="Calibri"/>
              </a:rPr>
              <a:t>Message Structure and Presentation</a:t>
            </a:r>
            <a:endParaRPr b="0" lang="en-US" sz="3200" spc="-1" strike="noStrike">
              <a:solidFill>
                <a:srgbClr val="000000"/>
              </a:solidFill>
              <a:latin typeface="Arial"/>
            </a:endParaRPr>
          </a:p>
        </p:txBody>
      </p:sp>
      <p:sp>
        <p:nvSpPr>
          <p:cNvPr id="67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B73B-F76F-476D-A089-233B3EDF73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ertising Appeals</a:t>
            </a:r>
            <a:endParaRPr b="1" lang="en-US" sz="4000" spc="-1" strike="noStrike">
              <a:solidFill>
                <a:srgbClr val="000000"/>
              </a:solidFill>
              <a:latin typeface="Calibri"/>
            </a:endParaRPr>
          </a:p>
        </p:txBody>
      </p:sp>
      <p:sp>
        <p:nvSpPr>
          <p:cNvPr id="67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a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as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ence particip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ebrities</a:t>
            </a:r>
            <a:endParaRPr b="0" lang="en-US" sz="2800" spc="-1" strike="noStrike">
              <a:solidFill>
                <a:srgbClr val="000000"/>
              </a:solidFill>
              <a:latin typeface="Calibri"/>
            </a:endParaRPr>
          </a:p>
        </p:txBody>
      </p:sp>
      <p:sp>
        <p:nvSpPr>
          <p:cNvPr id="67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155C-C704-43C2-92AD-959714096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BF3D-E9A8-4AB6-A46D-2207FA9E4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Type of Communication Is Featured in This Ad, and What Strategic Concept Does It Get Across?</a:t>
            </a:r>
            <a:endParaRPr b="1" lang="en-US" sz="2800" spc="-1" strike="noStrike">
              <a:solidFill>
                <a:srgbClr val="000000"/>
              </a:solidFill>
              <a:latin typeface="Calibri"/>
            </a:endParaRPr>
          </a:p>
        </p:txBody>
      </p:sp>
      <p:pic>
        <p:nvPicPr>
          <p:cNvPr id="511" name="Content Placeholder 4" descr="fig09_01.jpg"/>
          <p:cNvPicPr/>
          <p:nvPr/>
        </p:nvPicPr>
        <p:blipFill>
          <a:blip r:embed="rId1"/>
          <a:stretch/>
        </p:blipFill>
        <p:spPr>
          <a:xfrm>
            <a:off x="3176640" y="1752480"/>
            <a:ext cx="2790720" cy="4373640"/>
          </a:xfrm>
          <a:prstGeom prst="rect">
            <a:avLst/>
          </a:prstGeom>
          <a:ln w="0">
            <a:noFill/>
          </a:ln>
        </p:spPr>
      </p:pic>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A72A-7DD5-4E60-AA4E-A07A251F88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Advertising Appeal Is Shown in Each Ad, and Why Is It Used?</a:t>
            </a:r>
            <a:endParaRPr b="1" lang="en-US" sz="4000" spc="-1" strike="noStrike">
              <a:solidFill>
                <a:srgbClr val="000000"/>
              </a:solidFill>
              <a:latin typeface="Calibri"/>
            </a:endParaRPr>
          </a:p>
        </p:txBody>
      </p:sp>
      <p:pic>
        <p:nvPicPr>
          <p:cNvPr id="684" name="Content Placeholder 5" descr="fig09_08a.jpg"/>
          <p:cNvPicPr/>
          <p:nvPr/>
        </p:nvPicPr>
        <p:blipFill>
          <a:blip r:embed="rId1"/>
          <a:stretch/>
        </p:blipFill>
        <p:spPr>
          <a:xfrm>
            <a:off x="820800" y="1600200"/>
            <a:ext cx="3311640" cy="4525920"/>
          </a:xfrm>
          <a:prstGeom prst="rect">
            <a:avLst/>
          </a:prstGeom>
          <a:ln w="0">
            <a:noFill/>
          </a:ln>
        </p:spPr>
      </p:pic>
      <p:pic>
        <p:nvPicPr>
          <p:cNvPr id="685" name="Content Placeholder 6" descr="fig09_08b.jpg"/>
          <p:cNvPicPr/>
          <p:nvPr/>
        </p:nvPicPr>
        <p:blipFill>
          <a:blip r:embed="rId2"/>
          <a:stretch/>
        </p:blipFill>
        <p:spPr>
          <a:xfrm>
            <a:off x="5011560" y="1600200"/>
            <a:ext cx="3311640" cy="4525920"/>
          </a:xfrm>
          <a:prstGeom prst="rect">
            <a:avLst/>
          </a:prstGeom>
          <a:ln w="0">
            <a:noFill/>
          </a:ln>
        </p:spPr>
      </p:pic>
      <p:sp>
        <p:nvSpPr>
          <p:cNvPr id="68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731C-5D3D-4C5A-AD34-AC1ABDB821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rative - It Has Positive Effects On Brand Attitudes, Purchase Intentions, and Purchases</a:t>
            </a:r>
            <a:endParaRPr b="1" lang="en-US" sz="3200" spc="-1" strike="noStrike">
              <a:solidFill>
                <a:srgbClr val="000000"/>
              </a:solidFill>
              <a:latin typeface="Calibri"/>
            </a:endParaRPr>
          </a:p>
        </p:txBody>
      </p:sp>
      <p:pic>
        <p:nvPicPr>
          <p:cNvPr id="690" name="Content Placeholder 5" descr="fig09_08a.jpg"/>
          <p:cNvPicPr/>
          <p:nvPr/>
        </p:nvPicPr>
        <p:blipFill>
          <a:blip r:embed="rId1"/>
          <a:stretch/>
        </p:blipFill>
        <p:spPr>
          <a:xfrm>
            <a:off x="820800" y="1600200"/>
            <a:ext cx="3311640" cy="4525920"/>
          </a:xfrm>
          <a:prstGeom prst="rect">
            <a:avLst/>
          </a:prstGeom>
          <a:ln w="0">
            <a:noFill/>
          </a:ln>
        </p:spPr>
      </p:pic>
      <p:pic>
        <p:nvPicPr>
          <p:cNvPr id="691" name="Content Placeholder 6" descr="fig09_08b.jpg"/>
          <p:cNvPicPr/>
          <p:nvPr/>
        </p:nvPicPr>
        <p:blipFill>
          <a:blip r:embed="rId2"/>
          <a:stretch/>
        </p:blipFill>
        <p:spPr>
          <a:xfrm>
            <a:off x="5011560" y="1600200"/>
            <a:ext cx="3311640" cy="4525920"/>
          </a:xfrm>
          <a:prstGeom prst="rect">
            <a:avLst/>
          </a:prstGeom>
          <a:ln w="0">
            <a:noFill/>
          </a:ln>
        </p:spPr>
      </p:pic>
      <p:sp>
        <p:nvSpPr>
          <p:cNvPr id="69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D768-9F44-4352-A911-85CFEBCE9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ich Two Advertising Appeals Are Shown in This Ad?</a:t>
            </a:r>
            <a:endParaRPr b="1" lang="en-US" sz="4000" spc="-1" strike="noStrike">
              <a:solidFill>
                <a:srgbClr val="000000"/>
              </a:solidFill>
              <a:latin typeface="Calibri"/>
            </a:endParaRPr>
          </a:p>
        </p:txBody>
      </p:sp>
      <p:sp>
        <p:nvSpPr>
          <p:cNvPr id="69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E2AD-1DFD-467B-B378-7B93360C3A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7" name="Content Placeholder 9" descr="fig09_09.jpg"/>
          <p:cNvPicPr/>
          <p:nvPr/>
        </p:nvPicPr>
        <p:blipFill>
          <a:blip r:embed="rId1"/>
          <a:stretch/>
        </p:blipFill>
        <p:spPr>
          <a:xfrm>
            <a:off x="2590920" y="1828800"/>
            <a:ext cx="3394080" cy="4525920"/>
          </a:xfrm>
          <a:prstGeom prst="rect">
            <a:avLst/>
          </a:prstGeom>
          <a:ln w="0">
            <a:noFill/>
          </a:ln>
        </p:spPr>
      </p:pic>
      <p:pic>
        <p:nvPicPr>
          <p:cNvPr id="698" name="Content Placeholder 9" descr="fig09_09.jpg"/>
          <p:cNvPicPr/>
          <p:nvPr/>
        </p:nvPicPr>
        <p:blipFill>
          <a:blip r:embed="rId2"/>
          <a:stretch/>
        </p:blipFill>
        <p:spPr>
          <a:xfrm>
            <a:off x="2743200" y="1981080"/>
            <a:ext cx="3394080" cy="4525920"/>
          </a:xfrm>
          <a:prstGeom prst="rect">
            <a:avLst/>
          </a:prstGeom>
          <a:ln w="0">
            <a:noFill/>
          </a:ln>
        </p:spPr>
      </p:pic>
      <p:sp>
        <p:nvSpPr>
          <p:cNvPr id="699"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umor and Fear Appeal</a:t>
            </a:r>
            <a:endParaRPr b="1" lang="en-US" sz="4000" spc="-1" strike="noStrike">
              <a:solidFill>
                <a:srgbClr val="000000"/>
              </a:solidFill>
              <a:latin typeface="Calibri"/>
            </a:endParaRPr>
          </a:p>
        </p:txBody>
      </p:sp>
      <p:sp>
        <p:nvSpPr>
          <p:cNvPr id="70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E754-1DC9-4D8E-A09F-EE15209A96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3" name="Content Placeholder 9" descr="fig09_09.jpg"/>
          <p:cNvPicPr/>
          <p:nvPr/>
        </p:nvPicPr>
        <p:blipFill>
          <a:blip r:embed="rId1"/>
          <a:stretch/>
        </p:blipFill>
        <p:spPr>
          <a:xfrm>
            <a:off x="2590920" y="1828800"/>
            <a:ext cx="3394080" cy="4525920"/>
          </a:xfrm>
          <a:prstGeom prst="rect">
            <a:avLst/>
          </a:prstGeom>
          <a:ln w="0">
            <a:noFill/>
          </a:ln>
        </p:spPr>
      </p:pic>
      <p:pic>
        <p:nvPicPr>
          <p:cNvPr id="704" name="Content Placeholder 9" descr="fig09_09.jpg"/>
          <p:cNvPicPr/>
          <p:nvPr/>
        </p:nvPicPr>
        <p:blipFill>
          <a:blip r:embed="rId2"/>
          <a:stretch/>
        </p:blipFill>
        <p:spPr>
          <a:xfrm>
            <a:off x="2743200" y="1981080"/>
            <a:ext cx="3394080" cy="4525920"/>
          </a:xfrm>
          <a:prstGeom prst="rect">
            <a:avLst/>
          </a:prstGeom>
          <a:ln w="0">
            <a:noFill/>
          </a:ln>
        </p:spPr>
      </p:pic>
      <p:sp>
        <p:nvSpPr>
          <p:cNvPr id="70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elebrity Appeals</a:t>
            </a:r>
            <a:br>
              <a:rPr sz="3600"/>
            </a:br>
            <a:r>
              <a:rPr b="1" lang="en-US" sz="3600" spc="-1" strike="noStrike">
                <a:solidFill>
                  <a:srgbClr val="000000"/>
                </a:solidFill>
                <a:latin typeface="Calibri"/>
              </a:rPr>
              <a:t>Table 9.6</a:t>
            </a:r>
            <a:endParaRPr b="1" lang="en-US" sz="3600" spc="-1" strike="noStrike">
              <a:solidFill>
                <a:srgbClr val="000000"/>
              </a:solidFill>
              <a:latin typeface="Calibri"/>
            </a:endParaRPr>
          </a:p>
        </p:txBody>
      </p:sp>
      <p:sp>
        <p:nvSpPr>
          <p:cNvPr id="7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12A5-C67D-4BFF-BA6E-AB52038B3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9" name="Content Placeholder 5" descr=""/>
          <p:cNvPicPr/>
          <p:nvPr/>
        </p:nvPicPr>
        <p:blipFill>
          <a:blip r:embed="rId1"/>
          <a:stretch/>
        </p:blipFill>
        <p:spPr>
          <a:xfrm>
            <a:off x="158760" y="1298520"/>
            <a:ext cx="8906040" cy="5254560"/>
          </a:xfrm>
          <a:prstGeom prst="rect">
            <a:avLst/>
          </a:prstGeom>
          <a:ln w="0">
            <a:noFill/>
          </a:ln>
        </p:spPr>
      </p:pic>
      <p:sp>
        <p:nvSpPr>
          <p:cNvPr id="71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11F7-FB34-4CA7-B095-9BBB86434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71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marketer for your college/univers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ould you use comparative advert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you think it would be effective?</a:t>
            </a:r>
            <a:endParaRPr b="0" lang="en-US" sz="2800" spc="-1" strike="noStrike">
              <a:solidFill>
                <a:srgbClr val="000000"/>
              </a:solidFill>
              <a:latin typeface="Calibri"/>
            </a:endParaRPr>
          </a:p>
        </p:txBody>
      </p:sp>
      <p:sp>
        <p:nvSpPr>
          <p:cNvPr id="715"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87D3-254C-4ABF-B107-B591EEFC8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edback </a:t>
            </a:r>
            <a:br>
              <a:rPr sz="3600"/>
            </a:br>
            <a:r>
              <a:rPr b="1" lang="en-US" sz="3600" spc="-1" strike="noStrike">
                <a:solidFill>
                  <a:srgbClr val="000000"/>
                </a:solidFill>
                <a:latin typeface="Calibri"/>
              </a:rPr>
              <a:t>Determining Effectiveness</a:t>
            </a:r>
            <a:endParaRPr b="1" lang="en-US" sz="3600" spc="-1" strike="noStrike">
              <a:solidFill>
                <a:srgbClr val="000000"/>
              </a:solidFill>
              <a:latin typeface="Calibri"/>
            </a:endParaRPr>
          </a:p>
        </p:txBody>
      </p:sp>
      <p:pic>
        <p:nvPicPr>
          <p:cNvPr id="719" name="Diagram 6" descr=""/>
          <p:cNvPicPr/>
          <p:nvPr/>
        </p:nvPicPr>
        <p:blipFill>
          <a:blip r:embed="rId1"/>
          <a:stretch/>
        </p:blipFill>
        <p:spPr>
          <a:xfrm>
            <a:off x="438120" y="1682640"/>
            <a:ext cx="8267760" cy="4462560"/>
          </a:xfrm>
          <a:prstGeom prst="rect">
            <a:avLst/>
          </a:prstGeom>
          <a:ln w="0">
            <a:noFill/>
          </a:ln>
        </p:spPr>
      </p:pic>
      <p:sp>
        <p:nvSpPr>
          <p:cNvPr id="7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A6D6-5C96-4169-B702-418F8FC09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edback </a:t>
            </a:r>
            <a:br>
              <a:rPr sz="3600"/>
            </a:br>
            <a:r>
              <a:rPr b="1" lang="en-US" sz="3600" spc="-1" strike="noStrike">
                <a:solidFill>
                  <a:srgbClr val="000000"/>
                </a:solidFill>
                <a:latin typeface="Calibri"/>
              </a:rPr>
              <a:t>Determining Effectiveness</a:t>
            </a:r>
            <a:endParaRPr b="1" lang="en-US" sz="3600" spc="-1" strike="noStrike">
              <a:solidFill>
                <a:srgbClr val="000000"/>
              </a:solidFill>
              <a:latin typeface="Calibri"/>
            </a:endParaRPr>
          </a:p>
        </p:txBody>
      </p:sp>
      <p:sp>
        <p:nvSpPr>
          <p:cNvPr id="72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 Attention, Interpretation, and Recal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ological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inal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all and recognition measu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BA59-FFD9-4815-82BE-2580590EA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29"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D6A5-50D4-4DF0-B5E3-93D6AC71D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nverbal Used for Positioning</a:t>
            </a:r>
            <a:endParaRPr b="1" lang="en-US" sz="4000" spc="-1" strike="noStrike">
              <a:solidFill>
                <a:srgbClr val="000000"/>
              </a:solidFill>
              <a:latin typeface="Calibri"/>
            </a:endParaRPr>
          </a:p>
        </p:txBody>
      </p:sp>
      <p:pic>
        <p:nvPicPr>
          <p:cNvPr id="516" name="Content Placeholder 4" descr="fig09_01.jpg"/>
          <p:cNvPicPr/>
          <p:nvPr/>
        </p:nvPicPr>
        <p:blipFill>
          <a:blip r:embed="rId1"/>
          <a:stretch/>
        </p:blipFill>
        <p:spPr>
          <a:xfrm>
            <a:off x="3176640" y="1752480"/>
            <a:ext cx="279072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0A8E-952D-4ABC-98DE-3C30C90E9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6"/>
          <p:cNvSpPr/>
          <p:nvPr/>
        </p:nvSpPr>
        <p:spPr>
          <a:xfrm>
            <a:off x="380880" y="649296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Communication Model</a:t>
            </a:r>
            <a:br>
              <a:rPr sz="3600"/>
            </a:br>
            <a:r>
              <a:rPr b="1" lang="en-US" sz="3600" spc="-1" strike="noStrike">
                <a:solidFill>
                  <a:srgbClr val="000000"/>
                </a:solidFill>
                <a:latin typeface="Calibri"/>
              </a:rPr>
              <a:t>Figure 9.2</a:t>
            </a:r>
            <a:endParaRPr b="1" lang="en-US" sz="3600" spc="-1" strike="noStrike">
              <a:solidFill>
                <a:srgbClr val="000000"/>
              </a:solidFill>
              <a:latin typeface="Calibri"/>
            </a:endParaRPr>
          </a:p>
        </p:txBody>
      </p:sp>
      <p:sp>
        <p:nvSpPr>
          <p:cNvPr id="52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18E1-C6E6-4F0B-9D22-9D1658477E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pic>
        <p:nvPicPr>
          <p:cNvPr id="524" name="Picture 8" descr="fig09_02"/>
          <p:cNvPicPr/>
          <p:nvPr/>
        </p:nvPicPr>
        <p:blipFill>
          <a:blip r:embed="rId1"/>
          <a:stretch/>
        </p:blipFill>
        <p:spPr>
          <a:xfrm>
            <a:off x="152280" y="2743200"/>
            <a:ext cx="8763120" cy="173988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ource as the Initiator</a:t>
            </a:r>
            <a:endParaRPr b="1" lang="en-US" sz="4000" spc="-1" strike="noStrike">
              <a:solidFill>
                <a:srgbClr val="000000"/>
              </a:solidFill>
              <a:latin typeface="Calibri"/>
            </a:endParaRPr>
          </a:p>
        </p:txBody>
      </p:sp>
      <p:pic>
        <p:nvPicPr>
          <p:cNvPr id="526" name="Content Placeholder 4" descr=""/>
          <p:cNvPicPr/>
          <p:nvPr/>
        </p:nvPicPr>
        <p:blipFill>
          <a:blip r:embed="rId1"/>
          <a:stretch/>
        </p:blipFill>
        <p:spPr>
          <a:xfrm>
            <a:off x="438120" y="1736640"/>
            <a:ext cx="8437680" cy="4408560"/>
          </a:xfrm>
          <a:prstGeom prst="rect">
            <a:avLst/>
          </a:prstGeom>
          <a:ln w="0">
            <a:noFill/>
          </a:ln>
        </p:spPr>
      </p:pic>
      <p:sp>
        <p:nvSpPr>
          <p:cNvPr id="527"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272E-2C0B-4EC8-B925-5043D76C40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4B73-4893-415D-8C0E-541C27D9E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2743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ource - </a:t>
            </a:r>
            <a:br>
              <a:rPr sz="3200"/>
            </a:br>
            <a:r>
              <a:rPr b="1" lang="en-US" sz="3200" spc="-1" strike="noStrike">
                <a:solidFill>
                  <a:srgbClr val="000000"/>
                </a:solidFill>
                <a:latin typeface="Calibri"/>
              </a:rPr>
              <a:t>Impersonal and Interpersonal Communications</a:t>
            </a:r>
            <a:endParaRPr b="1" lang="en-US" sz="3200" spc="-1" strike="noStrike">
              <a:solidFill>
                <a:srgbClr val="000000"/>
              </a:solidFill>
              <a:latin typeface="Calibri"/>
            </a:endParaRPr>
          </a:p>
        </p:txBody>
      </p:sp>
      <p:sp>
        <p:nvSpPr>
          <p:cNvPr id="532" name=""/>
          <p:cNvSpPr txBox="1"/>
          <p:nvPr/>
        </p:nvSpPr>
        <p:spPr>
          <a:xfrm>
            <a:off x="457200" y="1752120"/>
            <a:ext cx="4114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Cred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 Grou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a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bolic</a:t>
            </a:r>
            <a:endParaRPr b="0" lang="en-US" sz="2800" spc="-1" strike="noStrike">
              <a:solidFill>
                <a:srgbClr val="000000"/>
              </a:solidFill>
              <a:latin typeface="Calibri"/>
            </a:endParaRPr>
          </a:p>
        </p:txBody>
      </p:sp>
      <p:sp>
        <p:nvSpPr>
          <p:cNvPr id="533"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DFF4-4764-4606-9EFC-7E06B16FB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4" name="Picture 7" descr="ch9 - four fiures illustration.eps"/>
          <p:cNvPicPr/>
          <p:nvPr/>
        </p:nvPicPr>
        <p:blipFill>
          <a:blip r:embed="rId1"/>
          <a:stretch/>
        </p:blipFill>
        <p:spPr>
          <a:xfrm>
            <a:off x="4952880" y="2362320"/>
            <a:ext cx="3872160" cy="2746080"/>
          </a:xfrm>
          <a:prstGeom prst="rect">
            <a:avLst/>
          </a:prstGeom>
          <a:ln w="0">
            <a:noFill/>
          </a:ln>
        </p:spPr>
      </p:pic>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2730-CC11-4536-81C9-1C32D70B7C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228600" y="1980720"/>
            <a:ext cx="45720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l Sourc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nion leader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 of Mouth and eWO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way communic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commun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 boards and Blogs</a:t>
            </a:r>
            <a:endParaRPr b="0" lang="en-US" sz="2800" spc="-1" strike="noStrike">
              <a:solidFill>
                <a:srgbClr val="000000"/>
              </a:solidFill>
              <a:latin typeface="Calibri"/>
            </a:endParaRPr>
          </a:p>
        </p:txBody>
      </p:sp>
      <p:sp>
        <p:nvSpPr>
          <p:cNvPr id="53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86AA-40DD-48C0-921A-917C920EEE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Informal Sources and Word of Mouth</a:t>
            </a:r>
            <a:endParaRPr b="1" lang="en-US" sz="3600" spc="-1" strike="noStrike">
              <a:solidFill>
                <a:srgbClr val="000000"/>
              </a:solidFill>
              <a:latin typeface="Calibri"/>
            </a:endParaRPr>
          </a:p>
        </p:txBody>
      </p:sp>
      <p:pic>
        <p:nvPicPr>
          <p:cNvPr id="541"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542" name="Picture 6" descr="ch9 - group around laptop.jpg"/>
          <p:cNvPicPr/>
          <p:nvPr/>
        </p:nvPicPr>
        <p:blipFill>
          <a:blip r:embed="rId3"/>
          <a:stretch/>
        </p:blipFill>
        <p:spPr>
          <a:xfrm>
            <a:off x="4724280" y="2362320"/>
            <a:ext cx="3962520" cy="2643120"/>
          </a:xfrm>
          <a:prstGeom prst="rect">
            <a:avLst/>
          </a:prstGeom>
          <a:ln w="0">
            <a:noFill/>
          </a:ln>
        </p:spPr>
      </p:pic>
      <p:sp>
        <p:nvSpPr>
          <p:cNvPr id="54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0B53-8584-4689-939D-ABCB356CDC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962160" y="1874520"/>
            <a:ext cx="47242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zz Ag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al Marke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ckling negative rumors</a:t>
            </a:r>
            <a:endParaRPr b="0" lang="en-US" sz="3200" spc="-1" strike="noStrike">
              <a:solidFill>
                <a:srgbClr val="000000"/>
              </a:solidFill>
              <a:latin typeface="Calibri"/>
            </a:endParaRPr>
          </a:p>
        </p:txBody>
      </p:sp>
      <p:sp>
        <p:nvSpPr>
          <p:cNvPr id="54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C121-E9CA-498D-B4C5-67EEAE4C43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Source</a:t>
            </a:r>
            <a:br>
              <a:rPr sz="3600"/>
            </a:br>
            <a:r>
              <a:rPr b="1" lang="en-US" sz="3600" spc="-1" strike="noStrike">
                <a:solidFill>
                  <a:srgbClr val="000000"/>
                </a:solidFill>
                <a:latin typeface="Calibri"/>
              </a:rPr>
              <a:t>Word of Mouth – Strategic Applications</a:t>
            </a:r>
            <a:endParaRPr b="1" lang="en-US" sz="3600" spc="-1" strike="noStrike">
              <a:solidFill>
                <a:srgbClr val="000000"/>
              </a:solidFill>
              <a:latin typeface="Calibri"/>
            </a:endParaRPr>
          </a:p>
        </p:txBody>
      </p:sp>
      <p:pic>
        <p:nvPicPr>
          <p:cNvPr id="54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pic>
        <p:nvPicPr>
          <p:cNvPr id="550" name="Picture 6" descr="ch9 - World of pictures.jpg"/>
          <p:cNvPicPr/>
          <p:nvPr/>
        </p:nvPicPr>
        <p:blipFill>
          <a:blip r:embed="rId3"/>
          <a:stretch/>
        </p:blipFill>
        <p:spPr>
          <a:xfrm>
            <a:off x="317520" y="2057400"/>
            <a:ext cx="3720960" cy="3200400"/>
          </a:xfrm>
          <a:prstGeom prst="rect">
            <a:avLst/>
          </a:prstGeom>
          <a:ln w="0">
            <a:noFill/>
          </a:ln>
        </p:spPr>
      </p:pic>
      <p:sp>
        <p:nvSpPr>
          <p:cNvPr id="55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DF10-9CD8-4D6D-A854-1601A12D03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Ni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38:10Z</dcterms:modified>
  <cp:revision>134</cp:revision>
  <dc:subject/>
  <dc:title>Slide 1</dc:title>
</cp:coreProperties>
</file>