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7A4-B812-4DA3-8B58-7804EBE1E1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154-0F9F-4567-9C70-C7DBD731A9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664B-AD24-4B99-BAF0-C641446313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60A-5115-4D0F-95BF-3102ADE791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31E-80A4-4D0F-A57A-A73E45C1AE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B43-1639-4C38-9CDF-939B4619F6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22FE-9A38-49AC-8EF0-558CE39136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75D-2C62-4705-9814-9741C3E117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81E-6BC5-4F49-8C39-988EEB58DE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655-7AC4-4B33-9E60-C9003CD58C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32E1-6A4C-453B-A610-F58CB2D94B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4B9-02A2-4A75-A8A6-F0520A362B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E701-7258-4E30-B691-7F8BAA062A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83-1708-4E78-B78D-9746B97A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A55-8145-494A-8602-B2A9D4CF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7C2-72FB-4EFD-9C94-A79C6EF5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E59-CD60-4312-8E5D-844A0991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042-97A1-46F0-9F53-F2152CEC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AD3D-438B-477A-9562-139A5499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A9D-7747-4E0D-A903-AEAE0B5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4C64-ABBB-4C5F-B751-28F331D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6938-FEE8-4C30-9BD9-60195EA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F7A-86F1-40B1-B766-A4FE08B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6097-F07B-4ED4-8637-AC40996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1E6-7EBE-4275-9834-8E777B9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B16C-AA35-476D-AB31-2267DFB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1B5C-D3CF-48CE-95E1-1CFE7F0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4DE0-00F1-4DCF-81D9-BED586C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E658-7881-46FB-A434-6B80C64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4C6-9A16-4E39-838D-EA800DAD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E941-61A5-465D-82AF-9C7326F5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034C-8D51-443D-A229-722D68E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52A7-8D86-4355-BE6C-7D37DFE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7175-3BAC-4CE8-87BE-A6E581D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E453-DA8D-49AA-A0F7-1BF85FA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64A-022F-4A35-8F5B-B539189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781E-1C11-4E09-9C11-F1D75AB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E9AB-253D-495A-9264-FDA3ECD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EF93-CC9B-443A-AC52-73934E2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F4E4-D4A0-4EA2-B1F7-D8FC2C3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F9AD-9B91-4FE2-8645-20C252E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8288-EB31-487D-8D8F-DF4799D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36E9-7502-4DE0-95A5-EF12AAAE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6EDA-7C9A-4AEF-9FD4-288B1F6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5933-5A2A-4726-80A6-6F7CE07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2B5F-C2BB-4407-B0E0-63C8EB6D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9EC-F5D6-460C-B426-8BE0B59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FCAC-513D-4CEA-98C6-3E631E1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33B5-04BC-4A11-A083-D225E6F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C70A-EB87-48A7-A203-018B4A3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4168-2CB1-447C-95EE-C2A8ED3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C1B6-0212-44DB-8266-8998901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84F3-FBFD-444A-9479-3BDC696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48B2-93D8-4EF2-B452-8E5BF56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7ECB-F53F-4A5A-8763-D29766F9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F134-4BEB-4A42-A050-72F7ABA0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1C-E7C0-4411-A8E6-F491D7C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6D5-AB16-4FA2-B482-4837A31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EE5-4D2D-4045-BFFA-042E914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454-1F8B-434B-A71C-B6D7E64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C69-8099-42D9-B9B7-1D8DDAF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D77F-7C8D-4B8B-BA0D-94A10DB40B3B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E7B6-4C94-4B1C-871A-57D3F5E7CFAD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D1A8-C6EF-40C8-A825-661440A87A2C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7FDC-94DB-483D-8AF1-252F5720B7E1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mailto:kabdelmawgoud@ksu.edu.sa" TargetMode="External"/><Relationship Id="rId4" Type="http://schemas.openxmlformats.org/officeDocument/2006/relationships/hyperlink" Target="mailto:Khalil305@hotmail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7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186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187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8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189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190" name="Picture 9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16"/>
          <p:cNvSpPr/>
          <p:nvPr/>
        </p:nvSpPr>
        <p:spPr>
          <a:xfrm>
            <a:off x="609480" y="1448280"/>
            <a:ext cx="784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Department of Mechan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ME 254 Materials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. Khalil Abdelrazek Kha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o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4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467897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-mail:</a:t>
            </a:r>
            <a:r>
              <a:rPr b="0" lang="de-DE" sz="1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3"/>
              </a:rPr>
              <a:t>kabdelmawgoud@ksu.edu.sa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4"/>
              </a:rPr>
              <a:t>Khalil305@hotmail.com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Office Hours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Every Saturday, Monday and Wednes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7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7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7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7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7619760" cy="36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1828800" y="4648320"/>
            <a:ext cx="4724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8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8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8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8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4"/>
          <a:stretch/>
        </p:blipFill>
        <p:spPr>
          <a:xfrm>
            <a:off x="762120" y="990720"/>
            <a:ext cx="76197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9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9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9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9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685800" y="106668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380880" y="5791320"/>
            <a:ext cx="8457840" cy="838080"/>
            <a:chOff x="380880" y="5791320"/>
            <a:chExt cx="8457840" cy="838080"/>
          </a:xfrm>
        </p:grpSpPr>
        <p:grpSp>
          <p:nvGrpSpPr>
            <p:cNvPr id="195" name="Group 3"/>
            <p:cNvGrpSpPr/>
            <p:nvPr/>
          </p:nvGrpSpPr>
          <p:grpSpPr>
            <a:xfrm>
              <a:off x="380880" y="5791320"/>
              <a:ext cx="8457840" cy="838080"/>
              <a:chOff x="380880" y="5791320"/>
              <a:chExt cx="8457840" cy="838080"/>
            </a:xfrm>
          </p:grpSpPr>
          <p:sp>
            <p:nvSpPr>
              <p:cNvPr id="196" name="AutoShape 4"/>
              <p:cNvSpPr/>
              <p:nvPr/>
            </p:nvSpPr>
            <p:spPr>
              <a:xfrm>
                <a:off x="380880" y="579132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61160" y="582948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198" name="Group 6"/>
              <p:cNvGrpSpPr/>
              <p:nvPr/>
            </p:nvGrpSpPr>
            <p:grpSpPr>
              <a:xfrm>
                <a:off x="7912440" y="5829480"/>
                <a:ext cx="889200" cy="761760"/>
                <a:chOff x="7912440" y="5829480"/>
                <a:chExt cx="889200" cy="761760"/>
              </a:xfrm>
            </p:grpSpPr>
            <p:pic>
              <p:nvPicPr>
                <p:cNvPr id="199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912440" y="582948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Text Box 8"/>
                <p:cNvSpPr/>
                <p:nvPr/>
              </p:nvSpPr>
              <p:spPr>
                <a:xfrm>
                  <a:off x="8031240" y="642456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9"/>
            <p:cNvSpPr/>
            <p:nvPr/>
          </p:nvSpPr>
          <p:spPr>
            <a:xfrm>
              <a:off x="1358640" y="593100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457200" y="533520"/>
          <a:ext cx="8229600" cy="4876560"/>
        </p:xfrm>
        <a:graphic>
          <a:graphicData uri="http://schemas.openxmlformats.org/drawingml/2006/table">
            <a:tbl>
              <a:tblPr/>
              <a:tblGrid>
                <a:gridCol w="1454040"/>
                <a:gridCol w="6775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Catalog Dat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 254  Materials Engineering                                             4 (3,1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 engineering; Atomic bonding; Structure and characteristics of metals; polymers and ceramics; Imperfections; Mechanical properties of metals, polymers, ceramics; Equilibrium-phase diagrams; Microstructures of alloys; Heat treatment of plain-carbon steels, cast irons and precipitation hardening; Annealing; Structural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umber of Credi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evel:</a:t>
                      </a: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Prerequisite by Cour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EM 101, PHYS 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Prerequisites by Topi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General Chemistry and Physic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Textbook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terials Science and Engineering - An Introduction, W.D. Callister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John Wile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eferenc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 Science for Engineers, J. F. Shackelford, Prentice Ha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04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05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07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08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380880" y="457200"/>
          <a:ext cx="8153640" cy="5241960"/>
        </p:xfrm>
        <a:graphic>
          <a:graphicData uri="http://schemas.openxmlformats.org/drawingml/2006/table">
            <a:tbl>
              <a:tblPr/>
              <a:tblGrid>
                <a:gridCol w="1441440"/>
                <a:gridCol w="452520"/>
                <a:gridCol w="6259680"/>
              </a:tblGrid>
              <a:tr h="304920">
                <a:tc row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abora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jec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quilibrium-phase diagrams and their construction (Example Sn-Pb system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tallographic specimen prepa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Quantitative metallograph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crostructures of plain-carbon steel and cast ir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at treatment of plain-carbon ste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nsion testing of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act testing of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ardness tes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lass/Laboratory Schedu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ree 50 minutes lectures, one 50-minute recitation and one 100-minutes lab session per wee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aboratory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fter each lab session, a lab report will be required. (manda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ssessment tool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mework  + Lab report + Lab exam -------------------------- 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wo mid term exams---------------------------------------------- 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nal exam---------------------------------------------------------- 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Exams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midterm exam on Sunday 26 -04-1431 (6:30 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midterm exam on Sunday 16-06-1431 (6:30 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ate of Pr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/02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1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1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1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1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533520" y="609480"/>
          <a:ext cx="8001000" cy="5029200"/>
        </p:xfrm>
        <a:graphic>
          <a:graphicData uri="http://schemas.openxmlformats.org/drawingml/2006/table">
            <a:tbl>
              <a:tblPr/>
              <a:tblGrid>
                <a:gridCol w="858600"/>
                <a:gridCol w="3400560"/>
                <a:gridCol w="1152360"/>
                <a:gridCol w="1150920"/>
                <a:gridCol w="1438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ic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Duration (lec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mework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, Materials science and engineering, Classification (metals, ceramics, polymers, composites. Advanced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ructure of atom, bonding and coordination in metals, polymers and ceramics.  Effect of atomic bonding on thermal and mechanical properti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.1, 2.2, 2.6, 2.7,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1, 2.18, 2.22, 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Structure of metals (lattices, crystals, crystal directions, planes).  Crystalline and non crystalline solids. Indices and densities, polymorphism and allotropy.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tal structures, Structure of Ceramics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ymeric structure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6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.1 to 3.15 and 3.17   12.1 to 12.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3, 3.4, 3.8, 3.10, 3.14, 3.16, 3.21, 3.31, 3.32, 3.36, 3.41, 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erfections in crystalline solids; point, linear and planar defects. Microscopic Examina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2, 4.3, 4.4, 4.7, 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Diffusion mechanisms, Steady state diffu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.1 to 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2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2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2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2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609480" y="685800"/>
          <a:ext cx="8001000" cy="5151600"/>
        </p:xfrm>
        <a:graphic>
          <a:graphicData uri="http://schemas.openxmlformats.org/drawingml/2006/table">
            <a:tbl>
              <a:tblPr/>
              <a:tblGrid>
                <a:gridCol w="858960"/>
                <a:gridCol w="3402000"/>
                <a:gridCol w="1150920"/>
                <a:gridCol w="1150920"/>
                <a:gridCol w="143820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,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chanical properties (elastic and plastic deformation, slip systems and deformation mechanisms).  Mechanical testing (tensile, torsion, bending, impact, hardness). Mechanism of Strengthening in Metals, Annealing; recovery, recryatallization and grain growt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8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.1 to 6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.1 to 7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4, 6.8, 6.16, 6.21, 6.29, 6.40, 6.45, 6.46, 6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5,7.10, 7.11, 7.12, 7.15, 7.20, 7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quilibrium-phase diagrams, their construction and types, phase changes, and phase quantities.  Relation between phases and properti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ase transformation in 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7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.5, 9.7, 9.23, 9.35, 9.53, 9.54, 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pplications and Processing of Metal All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errous and nonferrous alloys, Thermal processing of metal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6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1.1 to 11.3 and 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eramics and Glas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2.1 to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.1 to 12.8, 12.12 to 12.17, 12. 25 to 12.33, 12.44 to 12. 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y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4.1 to 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.1 to 14.16, 14.25 to 14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31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32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34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35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11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8077320" cy="41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"/>
          <p:cNvPicPr/>
          <p:nvPr/>
        </p:nvPicPr>
        <p:blipFill>
          <a:blip r:embed="rId5"/>
          <a:stretch/>
        </p:blipFill>
        <p:spPr>
          <a:xfrm>
            <a:off x="1981080" y="914400"/>
            <a:ext cx="4267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4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4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4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4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Picture 10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7925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5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5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5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5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"/>
          <p:cNvPicPr/>
          <p:nvPr/>
        </p:nvPicPr>
        <p:blipFill>
          <a:blip r:embed="rId4"/>
          <a:stretch/>
        </p:blipFill>
        <p:spPr>
          <a:xfrm>
            <a:off x="533520" y="1143000"/>
            <a:ext cx="8001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6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6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6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6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10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7543800" cy="4876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8:28:30Z</dcterms:created>
  <dc:creator>Dr. Khalil</dc:creator>
  <dc:description/>
  <dc:language>en-US</dc:language>
  <cp:lastModifiedBy>Khalil abdelrazek</cp:lastModifiedBy>
  <dcterms:modified xsi:type="dcterms:W3CDTF">2013-10-30T16:55:02Z</dcterms:modified>
  <cp:revision>380</cp:revision>
  <dc:subject/>
  <dc:title>Slide 1</dc:title>
</cp:coreProperties>
</file>