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wmf" ContentType="image/x-wmf"/>
  <Override PartName="/ppt/media/image15.wmf" ContentType="image/x-wmf"/>
  <Override PartName="/ppt/media/image16.wmf" ContentType="image/x-wmf"/>
  <Override PartName="/ppt/media/image14.jpeg" ContentType="image/jpeg"/>
  <Override PartName="/ppt/media/image1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12.png" ContentType="image/png"/>
  <Override PartName="/ppt/media/image7.wmf" ContentType="image/x-wmf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3924-A8D2-488C-A877-F0C35C9177C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437A-764A-4EB9-8C49-812C94528FF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2DE3-50CF-47DF-9F4E-6DA8776B96E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AF15-FEC3-4AAA-B565-EECFA37968E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8AF7-B90D-4DC3-8255-475E7D677CE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6D99-D516-4564-9BED-DC230D06FDA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D009-2184-4EDD-B5BC-1438EC330E3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52C6-31BD-49EE-9361-D6B6148E1BA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C86F-14D7-46CA-9EA5-8E430017C7B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B37D-2E74-4261-A490-44FA196B1FD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A7D5-8597-4E93-97D9-1F0C8DEB7B8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84D6-E823-4275-988D-E780452C36C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49F6-51DB-472D-9058-F779BA8BC3A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FB33-43DB-4A64-A392-57458CB7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AB8-2306-4D53-B857-0EBE5383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467A-7E5E-4BCE-8678-2E0D1B9E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FBB2-15FC-418E-A266-7B65D8EE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F9D8-C9BE-442C-906E-A3684355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20A8-A243-4B21-82EA-31B0167F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6703-178B-4F25-9A00-3A1EC0AB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303B-5FE2-4F59-93EF-654F921B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4E35-EAF2-4053-A6A9-775698A9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6A5B-0BC4-49A2-9FBE-4DD89A67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7CF0-9A12-4E3F-9225-D9EAE334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B92-5A36-4B5A-A925-39FE035F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EC07-3BC7-43D0-B910-5ACE3039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6B64-7EB0-4228-8AC5-2C947D0B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7E72-1D1C-42D6-B1DD-933C2310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6C76-AAC5-4BB0-8E3A-802AECA5D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07FB-5A33-4405-8234-D5F9D280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55C1B-7A90-4308-A8F2-A7306E69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1C771-A4E3-4381-9D57-441883EF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FD48E-2803-4E43-8952-CD0D32BC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ACFAC-3A85-4589-A24F-5A9901F0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6AC00-6047-4648-BE66-1D948E03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DA40-8322-4DCE-8255-24673B11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CA879-B998-4C38-BFFE-249F5E03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8CA84-813F-4CAC-A73C-36A0C617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D918F-65FB-4423-BAAB-73B11B67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19A9E-18A6-493D-BE97-BB61AB13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016F5-94B9-4BC6-8F15-8B95B807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B1829-CC63-467F-BBE4-29762B32C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E8EF6-F76A-42CF-BA81-709BE594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F7225-3A5C-4205-8BFD-ED2AC396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5DE8D-385D-4C56-AFFB-3A3EB00A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CA863-D159-44DE-A372-12486A48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871C-8A37-45EC-B546-4EC0F58E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BAC03-E2BA-44A5-81FB-4A76612C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C4571-D6F7-46B2-A2CC-A0134695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CFDF1-CF01-44D8-A735-D7489984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DAACD-2530-4218-A193-AAB60EDF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26288-B25A-4C18-A03F-FB136C09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F46C0-E45C-499D-B411-DC1C3BB2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C58F6-D33F-4C1C-9BEA-91C98730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0990D-19BF-46DD-9600-330C7051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D6616-9697-4B21-8905-6994AAEE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C69F-C6E5-46FB-B2D6-40C07B14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E32-FB8C-4079-8D91-A22E0D31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984B-13ED-4238-B53E-E9CA4C58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E6A-D9B8-480B-8FDE-1CEB4FC0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DF2-E89E-42EE-9E1D-617502B2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174D-5F40-41D3-B405-3B9594C0B9B9}" type="slidenum">
              <a:rPr b="0" lang="ar-SA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8048-9E84-4C96-A9C0-BA3FA3C356C2}" type="slidenum">
              <a:rPr b="0" lang="ar-SA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4CF1-C8AB-4D6E-A94E-15B102953DD7}" type="slidenum">
              <a:rPr b="0" lang="ar-SA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D9DE-7E21-4A62-B15F-8283715AAE0B}" type="slidenum">
              <a:rPr b="0" lang="ar-SA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hyperlink" Target="mailto:kabdelmawgoud@ksu.edu.sa" TargetMode="External"/><Relationship Id="rId4" Type="http://schemas.openxmlformats.org/officeDocument/2006/relationships/hyperlink" Target="mailto:Khalil305@hotmail.co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7.wmf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7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7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7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7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1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14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186" name="Group 12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187" name="AutoShape 11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8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189" name="Group 8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190" name="Picture 9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Text Box 10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2" name="Text Box 13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ctangle 16"/>
          <p:cNvSpPr/>
          <p:nvPr/>
        </p:nvSpPr>
        <p:spPr>
          <a:xfrm>
            <a:off x="609480" y="1448280"/>
            <a:ext cx="784872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Department of Mechanical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ME 254 Materials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. Khalil Abdelrazek Khal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o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C4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 4678972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-mail:</a:t>
            </a:r>
            <a:r>
              <a:rPr b="0" lang="de-DE" sz="1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 u="sng">
                <a:solidFill>
                  <a:srgbClr val="6b9f25"/>
                </a:solidFill>
                <a:uFillTx/>
                <a:latin typeface="Arial"/>
                <a:ea typeface="Arial"/>
                <a:hlinkClick r:id="rId3"/>
              </a:rPr>
              <a:t>kabdelmawgoud@ksu.edu.sa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de-DE" sz="1800" spc="-1" strike="noStrike">
                <a:solidFill>
                  <a:srgbClr val="0000ff"/>
                </a:solidFill>
                <a:latin typeface="Arial"/>
                <a:ea typeface="Arial"/>
              </a:rPr>
              <a:t>             </a:t>
            </a:r>
            <a:r>
              <a:rPr b="0" lang="en-US" sz="1800" spc="-1" strike="noStrike" u="sng">
                <a:solidFill>
                  <a:srgbClr val="6b9f25"/>
                </a:solidFill>
                <a:uFillTx/>
                <a:latin typeface="Arial"/>
                <a:ea typeface="Arial"/>
                <a:hlinkClick r:id="rId4"/>
              </a:rPr>
              <a:t>Khalil305@hotmail.com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Office Hours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: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Every Saturday, Monday and Wednes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272" name="Group 3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273" name="AutoShape 4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4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275" name="Group 6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276" name="Picture 7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77" name="Text Box 8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8" name="Text Box 9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Picture 11" descr=""/>
          <p:cNvPicPr/>
          <p:nvPr/>
        </p:nvPicPr>
        <p:blipFill>
          <a:blip r:embed="rId3"/>
          <a:stretch/>
        </p:blipFill>
        <p:spPr>
          <a:xfrm>
            <a:off x="838080" y="457200"/>
            <a:ext cx="7134480" cy="455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3" descr=""/>
          <p:cNvPicPr/>
          <p:nvPr/>
        </p:nvPicPr>
        <p:blipFill>
          <a:blip r:embed="rId4"/>
          <a:stretch/>
        </p:blipFill>
        <p:spPr>
          <a:xfrm>
            <a:off x="533520" y="990720"/>
            <a:ext cx="7619760" cy="3657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" descr=""/>
          <p:cNvPicPr/>
          <p:nvPr/>
        </p:nvPicPr>
        <p:blipFill>
          <a:blip r:embed="rId5"/>
          <a:stretch/>
        </p:blipFill>
        <p:spPr>
          <a:xfrm>
            <a:off x="1828800" y="4648320"/>
            <a:ext cx="472428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283" name="Group 3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284" name="AutoShape 4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5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286" name="Group 6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287" name="Picture 7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8" name="Text Box 8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Text Box 9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Picture 11" descr=""/>
          <p:cNvPicPr/>
          <p:nvPr/>
        </p:nvPicPr>
        <p:blipFill>
          <a:blip r:embed="rId3"/>
          <a:stretch/>
        </p:blipFill>
        <p:spPr>
          <a:xfrm>
            <a:off x="838080" y="457200"/>
            <a:ext cx="7134480" cy="4557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"/>
          <p:cNvPicPr/>
          <p:nvPr/>
        </p:nvPicPr>
        <p:blipFill>
          <a:blip r:embed="rId4"/>
          <a:stretch/>
        </p:blipFill>
        <p:spPr>
          <a:xfrm>
            <a:off x="762120" y="990720"/>
            <a:ext cx="761976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2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293" name="Group 3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294" name="AutoShape 4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5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296" name="Group 6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297" name="Picture 7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Text Box 8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9" name="Text Box 9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Picture 11" descr=""/>
          <p:cNvPicPr/>
          <p:nvPr/>
        </p:nvPicPr>
        <p:blipFill>
          <a:blip r:embed="rId3"/>
          <a:stretch/>
        </p:blipFill>
        <p:spPr>
          <a:xfrm>
            <a:off x="838080" y="457200"/>
            <a:ext cx="7134480" cy="455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"/>
          <p:cNvPicPr/>
          <p:nvPr/>
        </p:nvPicPr>
        <p:blipFill>
          <a:blip r:embed="rId4"/>
          <a:stretch/>
        </p:blipFill>
        <p:spPr>
          <a:xfrm>
            <a:off x="685800" y="1066680"/>
            <a:ext cx="7696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380880" y="5791320"/>
            <a:ext cx="8457840" cy="838080"/>
            <a:chOff x="380880" y="5791320"/>
            <a:chExt cx="8457840" cy="838080"/>
          </a:xfrm>
        </p:grpSpPr>
        <p:grpSp>
          <p:nvGrpSpPr>
            <p:cNvPr id="195" name="Group 3"/>
            <p:cNvGrpSpPr/>
            <p:nvPr/>
          </p:nvGrpSpPr>
          <p:grpSpPr>
            <a:xfrm>
              <a:off x="380880" y="5791320"/>
              <a:ext cx="8457840" cy="838080"/>
              <a:chOff x="380880" y="5791320"/>
              <a:chExt cx="8457840" cy="838080"/>
            </a:xfrm>
          </p:grpSpPr>
          <p:sp>
            <p:nvSpPr>
              <p:cNvPr id="196" name="AutoShape 4"/>
              <p:cNvSpPr/>
              <p:nvPr/>
            </p:nvSpPr>
            <p:spPr>
              <a:xfrm>
                <a:off x="380880" y="579132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7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61160" y="582948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198" name="Group 6"/>
              <p:cNvGrpSpPr/>
              <p:nvPr/>
            </p:nvGrpSpPr>
            <p:grpSpPr>
              <a:xfrm>
                <a:off x="7912440" y="5829480"/>
                <a:ext cx="889200" cy="761760"/>
                <a:chOff x="7912440" y="5829480"/>
                <a:chExt cx="889200" cy="761760"/>
              </a:xfrm>
            </p:grpSpPr>
            <p:pic>
              <p:nvPicPr>
                <p:cNvPr id="199" name="Picture 7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912440" y="582948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0" name="Text Box 8"/>
                <p:cNvSpPr/>
                <p:nvPr/>
              </p:nvSpPr>
              <p:spPr>
                <a:xfrm>
                  <a:off x="8031240" y="642456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" name="Text Box 9"/>
            <p:cNvSpPr/>
            <p:nvPr/>
          </p:nvSpPr>
          <p:spPr>
            <a:xfrm>
              <a:off x="1358640" y="593100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2" name=""/>
          <p:cNvGraphicFramePr/>
          <p:nvPr/>
        </p:nvGraphicFramePr>
        <p:xfrm>
          <a:off x="457200" y="533520"/>
          <a:ext cx="8229600" cy="4876560"/>
        </p:xfrm>
        <a:graphic>
          <a:graphicData uri="http://schemas.openxmlformats.org/drawingml/2006/table">
            <a:tbl>
              <a:tblPr/>
              <a:tblGrid>
                <a:gridCol w="1454040"/>
                <a:gridCol w="6775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Catalog Data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E 254  Materials Engineering                                             4 (3,1,2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roduction to materials engineering; Atomic bonding; Structure and characteristics of metals; polymers and ceramics; Imperfections; Mechanical properties of metals, polymers, ceramics; Equilibrium-phase diagrams; Microstructures of alloys; Heat treatment of plain-carbon steels, cast irons and precipitation hardening; Annealing; Structural Materia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Number of Credi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Level:</a:t>
                      </a: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Prerequisite by Cours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HEM 101, PHYS 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Prerequisites by Topic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General Chemistry and Physic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Textbook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aterials Science and Engineering - An Introduction, W.D. Callister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John Wile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Referenc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roduction to Materials Science for Engineers, J. F. Shackelford, Prentice Hal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204" name="Group 3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205" name="AutoShape 4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6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207" name="Group 6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208" name="Picture 7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9" name="Text Box 8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9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380880" y="457200"/>
          <a:ext cx="8153640" cy="5241960"/>
        </p:xfrm>
        <a:graphic>
          <a:graphicData uri="http://schemas.openxmlformats.org/drawingml/2006/table">
            <a:tbl>
              <a:tblPr/>
              <a:tblGrid>
                <a:gridCol w="1441440"/>
                <a:gridCol w="452520"/>
                <a:gridCol w="6259680"/>
              </a:tblGrid>
              <a:tr h="304920">
                <a:tc rowSpan="8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Labora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ject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quilibrium-phase diagrams and their construction (Example Sn-Pb system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etallographic specimen prepar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Quantitative metallograph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icrostructures of plain-carbon steel and cast ir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eat treatment of plain-carbon ste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ension testing of material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mpact testing of material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ardness testi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lass/Laboratory Schedu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ree 50 minutes lectures, one 50-minute recitation and one 100-minutes lab session per week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Laboratory repo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fter each lab session, a lab report will be required. (manda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Assessment tool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mework  + Lab report + Lab exam --------------------------  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wo mid term exams----------------------------------------------  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inal exam----------------------------------------------------------  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  <a:ea typeface="Times New Roman"/>
                        </a:rPr>
                        <a:t>Exams schedu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en-US" sz="14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midterm exam on Sunday 26 -04-1431 (6:30 p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d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midterm exam on Sunday 16-06-1431 (6:30 p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Date of Prepa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/02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213" name="Group 3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214" name="AutoShape 4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5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216" name="Group 6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217" name="Picture 7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Text Box 8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9" name="Text Box 9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0" name=""/>
          <p:cNvGraphicFramePr/>
          <p:nvPr/>
        </p:nvGraphicFramePr>
        <p:xfrm>
          <a:off x="533520" y="609480"/>
          <a:ext cx="8001000" cy="5029200"/>
        </p:xfrm>
        <a:graphic>
          <a:graphicData uri="http://schemas.openxmlformats.org/drawingml/2006/table">
            <a:tbl>
              <a:tblPr/>
              <a:tblGrid>
                <a:gridCol w="858600"/>
                <a:gridCol w="3400560"/>
                <a:gridCol w="1152360"/>
                <a:gridCol w="1150920"/>
                <a:gridCol w="14385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Chap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pic Concep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Duration (lec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Artic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mework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roduction to materials, Materials science and engineering, Classification (metals, ceramics, polymers, composites. Advanced Material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(2 clas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All se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tructure of atom, bonding and coordination in metals, polymers and ceramics.  Effect of atomic bonding on thermal and mechanical properti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(2 clas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2.1, 2.2, 2.6, 2.7, 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.1, 2.18, 2.22, 2.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he Structure of metals (lattices, crystals, crystal directions, planes).  Crystalline and non crystalline solids. Indices and densities, polymorphism and allotropy.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raditional Arabic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etal structures, Structure of Ceramics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raditional Arabic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olymeric structure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raditional Arabic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(6 clas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3.1 to 3.15 and 3.17   12.1 to 12.4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.3, 3.4, 3.8, 3.10, 3.14, 3.16, 3.21, 3.31, 3.32, 3.36, 3.41, 3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mperfections in crystalline solids; point, linear and planar defects. Microscopic Examinati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(4 clas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All se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.2, 4.3, 4.4, 4.7, 4.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raditional Arabic"/>
                        </a:rPr>
                        <a:t>Diffusion mechanisms, Steady state diffu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(2 clas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5.1 to 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222" name="Group 3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223" name="AutoShape 4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4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225" name="Group 6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226" name="Picture 7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Text Box 8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Text Box 9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9" name=""/>
          <p:cNvGraphicFramePr/>
          <p:nvPr/>
        </p:nvGraphicFramePr>
        <p:xfrm>
          <a:off x="609480" y="685800"/>
          <a:ext cx="8001000" cy="5151600"/>
        </p:xfrm>
        <a:graphic>
          <a:graphicData uri="http://schemas.openxmlformats.org/drawingml/2006/table">
            <a:tbl>
              <a:tblPr/>
              <a:tblGrid>
                <a:gridCol w="858960"/>
                <a:gridCol w="3402000"/>
                <a:gridCol w="1150920"/>
                <a:gridCol w="1150920"/>
                <a:gridCol w="1438200"/>
              </a:tblGrid>
              <a:tr h="15843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6,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echanical properties (elastic and plastic deformation, slip systems and deformation mechanisms).  Mechanical testing (tensile, torsion, bending, impact, hardness). Mechanism of Strengthening in Metals, Annealing; recovery, recryatallization and grain growt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(8 clas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6.1 to 6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7.1 to 7.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6.4, 6.8, 6.16, 6.21, 6.29, 6.40, 6.45, 6.46, 6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7.5,7.10, 7.11, 7.12, 7.15, 7.20, 7.2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quilibrium-phase diagrams, their construction and types, phase changes, and phase quantities.  Relation between phases and properti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hase transformation in 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(7 clas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All se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9.5, 9.7, 9.23, 9.35, 9.53, 9.54, 9.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pplications and Processing of Metal Allo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errous and nonferrous alloys, Thermal processing of metal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(6 clas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1.1 to 11.3 and 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eramics and Glass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(4 clas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2.1 to 1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2.1 to 12.8, 12.12 to 12.17, 12. 25 to 12.33, 12.44 to 12. 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olym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(4 clas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14.1 to 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4.1 to 14.16, 14.25 to 14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231" name="Group 3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232" name="AutoShape 4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234" name="Group 6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235" name="Picture 7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6" name="Text Box 8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7" name="Text Box 9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11" descr=""/>
          <p:cNvPicPr/>
          <p:nvPr/>
        </p:nvPicPr>
        <p:blipFill>
          <a:blip r:embed="rId3"/>
          <a:stretch/>
        </p:blipFill>
        <p:spPr>
          <a:xfrm>
            <a:off x="457200" y="1676520"/>
            <a:ext cx="8077320" cy="4159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"/>
          <p:cNvPicPr/>
          <p:nvPr/>
        </p:nvPicPr>
        <p:blipFill>
          <a:blip r:embed="rId4"/>
          <a:stretch/>
        </p:blipFill>
        <p:spPr>
          <a:xfrm>
            <a:off x="838080" y="457200"/>
            <a:ext cx="7134480" cy="455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4" descr=""/>
          <p:cNvPicPr/>
          <p:nvPr/>
        </p:nvPicPr>
        <p:blipFill>
          <a:blip r:embed="rId5"/>
          <a:stretch/>
        </p:blipFill>
        <p:spPr>
          <a:xfrm>
            <a:off x="1981080" y="914400"/>
            <a:ext cx="42674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242" name="Group 3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243" name="AutoShape 4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4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245" name="Group 6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246" name="Picture 7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7" name="Text Box 8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8" name="Text Box 9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Picture 10" descr=""/>
          <p:cNvPicPr/>
          <p:nvPr/>
        </p:nvPicPr>
        <p:blipFill>
          <a:blip r:embed="rId3"/>
          <a:stretch/>
        </p:blipFill>
        <p:spPr>
          <a:xfrm>
            <a:off x="838080" y="457200"/>
            <a:ext cx="7134480" cy="455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"/>
          <p:cNvPicPr/>
          <p:nvPr/>
        </p:nvPicPr>
        <p:blipFill>
          <a:blip r:embed="rId4"/>
          <a:stretch/>
        </p:blipFill>
        <p:spPr>
          <a:xfrm>
            <a:off x="609480" y="990720"/>
            <a:ext cx="79250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252" name="Group 3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253" name="AutoShape 4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4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255" name="Group 6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256" name="Picture 7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7" name="Text Box 8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8" name="Text Box 9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" name="Picture 10" descr=""/>
          <p:cNvPicPr/>
          <p:nvPr/>
        </p:nvPicPr>
        <p:blipFill>
          <a:blip r:embed="rId3"/>
          <a:stretch/>
        </p:blipFill>
        <p:spPr>
          <a:xfrm>
            <a:off x="838080" y="457200"/>
            <a:ext cx="7134480" cy="4557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"/>
          <p:cNvPicPr/>
          <p:nvPr/>
        </p:nvPicPr>
        <p:blipFill>
          <a:blip r:embed="rId4"/>
          <a:stretch/>
        </p:blipFill>
        <p:spPr>
          <a:xfrm>
            <a:off x="533520" y="1143000"/>
            <a:ext cx="8001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343080" y="5918040"/>
            <a:ext cx="8457840" cy="838080"/>
            <a:chOff x="343080" y="5918040"/>
            <a:chExt cx="8457840" cy="838080"/>
          </a:xfrm>
        </p:grpSpPr>
        <p:grpSp>
          <p:nvGrpSpPr>
            <p:cNvPr id="262" name="Group 3"/>
            <p:cNvGrpSpPr/>
            <p:nvPr/>
          </p:nvGrpSpPr>
          <p:grpSpPr>
            <a:xfrm>
              <a:off x="343080" y="5918040"/>
              <a:ext cx="8457840" cy="838080"/>
              <a:chOff x="343080" y="5918040"/>
              <a:chExt cx="8457840" cy="838080"/>
            </a:xfrm>
          </p:grpSpPr>
          <p:sp>
            <p:nvSpPr>
              <p:cNvPr id="263" name="AutoShape 4"/>
              <p:cNvSpPr/>
              <p:nvPr/>
            </p:nvSpPr>
            <p:spPr>
              <a:xfrm>
                <a:off x="343080" y="5918040"/>
                <a:ext cx="8457840" cy="838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4" name="Picture 5" descr="ksulogo"/>
              <p:cNvPicPr/>
              <p:nvPr/>
            </p:nvPicPr>
            <p:blipFill>
              <a:blip r:embed="rId1"/>
              <a:stretch/>
            </p:blipFill>
            <p:spPr>
              <a:xfrm>
                <a:off x="423360" y="5956200"/>
                <a:ext cx="805320" cy="76176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grpSp>
            <p:nvGrpSpPr>
              <p:cNvPr id="265" name="Group 6"/>
              <p:cNvGrpSpPr/>
              <p:nvPr/>
            </p:nvGrpSpPr>
            <p:grpSpPr>
              <a:xfrm>
                <a:off x="7874640" y="5956200"/>
                <a:ext cx="889200" cy="761760"/>
                <a:chOff x="7874640" y="5956200"/>
                <a:chExt cx="889200" cy="761760"/>
              </a:xfrm>
            </p:grpSpPr>
            <p:pic>
              <p:nvPicPr>
                <p:cNvPr id="266" name="Picture 7" descr="me%20logo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874640" y="5956200"/>
                  <a:ext cx="889200" cy="761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7" name="Text Box 8"/>
                <p:cNvSpPr/>
                <p:nvPr/>
              </p:nvSpPr>
              <p:spPr>
                <a:xfrm>
                  <a:off x="7993440" y="6551280"/>
                  <a:ext cx="747720" cy="12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 fontScale="67000"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</a:t>
                  </a:r>
                  <a:r>
                    <a:rPr b="1" lang="ar-SA" sz="600" spc="-1" strike="noStrike">
                      <a:solidFill>
                        <a:srgbClr val="000000"/>
                      </a:solidFill>
                      <a:latin typeface="Times New Roman"/>
                      <a:cs typeface="Times New Roman"/>
                    </a:rPr>
                    <a:t>قسم الهندسة الميكانيكية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Text Box 9"/>
            <p:cNvSpPr/>
            <p:nvPr/>
          </p:nvSpPr>
          <p:spPr>
            <a:xfrm>
              <a:off x="1320840" y="6057720"/>
              <a:ext cx="6477120" cy="58140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Arial"/>
                  <a:ea typeface="Arial"/>
                </a:rPr>
                <a:t>Mechanical Engineering Department, King Saud University, P.O. Box 800, Riyadh 11421, Saudi Arabi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Picture 10" descr=""/>
          <p:cNvPicPr/>
          <p:nvPr/>
        </p:nvPicPr>
        <p:blipFill>
          <a:blip r:embed="rId3"/>
          <a:stretch/>
        </p:blipFill>
        <p:spPr>
          <a:xfrm>
            <a:off x="685800" y="990720"/>
            <a:ext cx="7543800" cy="4876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1" descr=""/>
          <p:cNvPicPr/>
          <p:nvPr/>
        </p:nvPicPr>
        <p:blipFill>
          <a:blip r:embed="rId4"/>
          <a:stretch/>
        </p:blipFill>
        <p:spPr>
          <a:xfrm>
            <a:off x="838080" y="457200"/>
            <a:ext cx="7134480" cy="4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8:28:30Z</dcterms:created>
  <dc:creator>Dr. Khalil</dc:creator>
  <dc:description/>
  <dc:language>en-US</dc:language>
  <cp:lastModifiedBy>Khalil abdelrazek</cp:lastModifiedBy>
  <dcterms:modified xsi:type="dcterms:W3CDTF">2013-10-30T16:55:02Z</dcterms:modified>
  <cp:revision>380</cp:revision>
  <dc:subject/>
  <dc:title>Slide 1</dc:title>
</cp:coreProperties>
</file>