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5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CA8B-BEB5-4A50-BEFB-DEC15DC57825}"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550F-9E57-458A-BB11-6DF8578B42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C4DD-A552-4AE8-AC28-6B01B363E6A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Value-Add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based pricing doesn’t mean simply charging what customers want to pay or setting low prices to meet competition. Instead, many companies adopt </a:t>
            </a:r>
            <a:r>
              <a:rPr b="1" lang="en-US" sz="1200" spc="-1" strike="noStrike">
                <a:solidFill>
                  <a:srgbClr val="000000"/>
                </a:solidFill>
                <a:latin typeface="Calibri"/>
              </a:rPr>
              <a:t>value-added pricing</a:t>
            </a:r>
            <a:r>
              <a:rPr b="0" lang="en-US" sz="1200" spc="-1" strike="noStrike">
                <a:solidFill>
                  <a:srgbClr val="000000"/>
                </a:solidFill>
                <a:latin typeface="Calibri"/>
              </a:rPr>
              <a:t> strategies. Rather than cutting prices to match competitors, they attach value-added features and services to differentiate their offers and thus support their higher prices. For example, even as recession-era consumer spending habits linger, some movie theater chains are </a:t>
            </a:r>
            <a:r>
              <a:rPr b="0" i="1" lang="en-US" sz="1200" spc="-1" strike="noStrike">
                <a:solidFill>
                  <a:srgbClr val="000000"/>
                </a:solidFill>
                <a:latin typeface="Calibri"/>
              </a:rPr>
              <a:t>adding</a:t>
            </a:r>
            <a:r>
              <a:rPr b="0" lang="en-US" sz="1200" spc="-1" strike="noStrike">
                <a:solidFill>
                  <a:srgbClr val="000000"/>
                </a:solidFill>
                <a:latin typeface="Calibri"/>
              </a:rPr>
              <a:t> amenities and charging </a:t>
            </a:r>
            <a:r>
              <a:rPr b="0" i="1" lang="en-US" sz="1200" spc="-1" strike="noStrike">
                <a:solidFill>
                  <a:srgbClr val="000000"/>
                </a:solidFill>
                <a:latin typeface="Calibri"/>
              </a:rPr>
              <a:t>more</a:t>
            </a:r>
            <a:r>
              <a:rPr b="0" lang="en-US" sz="1200" spc="-1" strike="noStrike">
                <a:solidFill>
                  <a:srgbClr val="000000"/>
                </a:solidFill>
                <a:latin typeface="Calibri"/>
              </a:rPr>
              <a:t> rather than cutting services to maintain lower admission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E57F-2103-45AB-AC1B-B28C1E051A39}"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customer-value perceptions set the price ceiling, costs set the floor for the price that the company can charge. </a:t>
            </a:r>
            <a:r>
              <a:rPr b="1" lang="en-US" sz="1200" spc="-1" strike="noStrike">
                <a:solidFill>
                  <a:srgbClr val="000000"/>
                </a:solidFill>
                <a:latin typeface="Calibri"/>
              </a:rPr>
              <a:t>Cost-based pricing</a:t>
            </a:r>
            <a:r>
              <a:rPr b="0" lang="en-US" sz="1200" spc="-1" strike="noStrike">
                <a:solidFill>
                  <a:srgbClr val="000000"/>
                </a:solidFill>
                <a:latin typeface="Calibri"/>
              </a:rPr>
              <a:t> involves setting prices based on the costs of producing, distributing, and selling the product plus a fair rate of return for its effort and risk. A company’s costs may be an important element in its pricing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mpanies, such as Walmart or Southwest Airlines, work to become the </a:t>
            </a:r>
            <a:r>
              <a:rPr b="0" i="1" lang="en-US" sz="1200" spc="-1" strike="noStrike">
                <a:solidFill>
                  <a:srgbClr val="000000"/>
                </a:solidFill>
                <a:latin typeface="Calibri"/>
              </a:rPr>
              <a:t>low-cost</a:t>
            </a:r>
            <a:r>
              <a:rPr b="0" lang="en-US" sz="1200" spc="-1" strike="noStrike">
                <a:solidFill>
                  <a:srgbClr val="000000"/>
                </a:solidFill>
                <a:latin typeface="Calibri"/>
              </a:rPr>
              <a:t> </a:t>
            </a:r>
            <a:r>
              <a:rPr b="0" i="1" lang="en-US" sz="1200" spc="-1" strike="noStrike">
                <a:solidFill>
                  <a:srgbClr val="000000"/>
                </a:solidFill>
                <a:latin typeface="Calibri"/>
              </a:rPr>
              <a:t>producers</a:t>
            </a:r>
            <a:r>
              <a:rPr b="0" lang="en-US" sz="1200" spc="-1" strike="noStrike">
                <a:solidFill>
                  <a:srgbClr val="000000"/>
                </a:solidFill>
                <a:latin typeface="Calibri"/>
              </a:rPr>
              <a:t> in their industries. Companies with lower costs can set lower prices that result in smaller margins but greater sales and profits. However, other companies—such as Apple, BMW, and Steinway—intentionally pay higher costs so that they can add value and claim higher prices and margins. </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1B1D-5474-4B24-97A1-35FE3E22112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ed costs</a:t>
            </a:r>
            <a:r>
              <a:rPr b="0" lang="en-US" sz="1200" spc="-1" strike="noStrike">
                <a:solidFill>
                  <a:srgbClr val="000000"/>
                </a:solidFill>
                <a:latin typeface="Calibri"/>
              </a:rPr>
              <a:t> (also known as </a:t>
            </a:r>
            <a:r>
              <a:rPr b="1" lang="en-US" sz="1200" spc="-1" strike="noStrike">
                <a:solidFill>
                  <a:srgbClr val="000000"/>
                </a:solidFill>
                <a:latin typeface="Calibri"/>
              </a:rPr>
              <a:t>overhead</a:t>
            </a:r>
            <a:r>
              <a:rPr b="0" lang="en-US" sz="1200" spc="-1" strike="noStrike">
                <a:solidFill>
                  <a:srgbClr val="000000"/>
                </a:solidFill>
                <a:latin typeface="Calibri"/>
              </a:rPr>
              <a:t>) are costs that do not vary with production or sales level. For example, a company must pay each month’s bills for rent, heat, interest, and executive salaries regardless of the company’s level of output. </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7F5F-E2D9-4639-839A-AB7EE8A5930D}"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le costs</a:t>
            </a:r>
            <a:r>
              <a:rPr b="0" lang="en-US" sz="1200" spc="-1" strike="noStrike">
                <a:solidFill>
                  <a:srgbClr val="000000"/>
                </a:solidFill>
                <a:latin typeface="Calibri"/>
              </a:rPr>
              <a:t> vary directly with the level of production. Each PC produced by HP involves a cost of computer chips, wires, plastic, packaging, and other inputs. Although these costs tend to be the same for each unit produced, they are called variable costs because the total varies with the number of units produced. </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71CC-209A-452E-B1AE-B2CFB60A1E48}"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wants to charge a price that will at least cover the total production costs at a given level of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watch its costs carefully. If it costs the company more than its competitors to produce and sell a similar product, the company will need to charge a higher price or make less profit, putting it at a competitive disadvan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AD86-DF78-4949-8210-C1C22BAF8A36}"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use an example like the Texas Instruments (TI) example given in the book: </a:t>
            </a:r>
            <a:endParaRPr b="0" lang="en-US" sz="1200" spc="-1" strike="noStrike">
              <a:solidFill>
                <a:srgbClr val="000000"/>
              </a:solidFill>
              <a:latin typeface="Calibri"/>
            </a:endParaRPr>
          </a:p>
          <a:p>
            <a:pPr lvl="1" marL="34452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 has built a plant to produce 1,000 calculators per day. Figure 10.3A shows the typical short‑run average cost curve (SRAC). It shows that the cost per calculator is high if TI’s factory produces only a few per day. But as production moves up to 1,000 calculators per day, average cost falls. This is because fixed costs are spread over more units, with each one bearing a smaller share of the fixed cost. TI can try to produce more than 1,000 calculators per day, but average costs will increase because the plant becomes inefficient. Workers have to wait for machines, the machines break down more often, and workers get in each other’s way.</a:t>
            </a:r>
            <a:endParaRPr b="0" lang="en-US" sz="1200" spc="-1" strike="noStrike">
              <a:solidFill>
                <a:srgbClr val="000000"/>
              </a:solidFill>
              <a:latin typeface="Calibri"/>
            </a:endParaRPr>
          </a:p>
          <a:p>
            <a:pPr lvl="1" marL="34452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I believed it could sell 2,000 calculators a day, it should consider building a larger plant. The plant would use more efficient machinery and work arrangements. Also, the unit cost of producing 2,000 calculators per day would be lower than the unit cost of producing 1,000 units per day, as shown in the long‑run average cost (LRAC) curve (Figure 10.3B). In fact, a 3,000‑capacity plant would even be more efficient, according to Figure 10.3B. But a 4,000-daily production plant would be less efficient because of increasing diseconomies of scale—too many workers to manage, paperwork slowing things down, and so on. Figure 10.3B shows that a 3,000-daily production plant is the best size to build if demand is strong enough to support this level of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AE57-11D0-4808-937D-939522ED06E2}"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 example continues as follows with Figure 1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I runs a plant that produces 3,000 calculators per day. As TI gains experience in producing calculators, it learns how to do it better. Workers learn shortcuts and become more familiar with their equipment. With practice, the work becomes better organized, and TI finds better equipment and production processes. With higher volume, TI becomes more efficient and gains economies of scale. As a result, average cost tends to fall with accumulated production experience. This is shown in Figure 10.4. Thus, the average cost of producing the first 100,000 calculators is $10 per calculator. When the company has produced the first 200,000 calculators, the average cost has fallen to $9. After its accumulated production experience doubles again to 400,000, the average cost is $7. Here accumulated production is drawn on a semilog scale so that equal distances represent the same percentage increase in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rop in the average cost with accumulated production experience is called the </a:t>
            </a:r>
            <a:r>
              <a:rPr b="1" lang="en-US" sz="1200" spc="-1" strike="noStrike">
                <a:solidFill>
                  <a:srgbClr val="000000"/>
                </a:solidFill>
                <a:latin typeface="Calibri"/>
              </a:rPr>
              <a:t>experience curve</a:t>
            </a:r>
            <a:r>
              <a:rPr b="0" lang="en-US" sz="1200" spc="-1" strike="noStrike">
                <a:solidFill>
                  <a:srgbClr val="000000"/>
                </a:solidFill>
                <a:latin typeface="Calibri"/>
              </a:rPr>
              <a:t> (or the </a:t>
            </a:r>
            <a:r>
              <a:rPr b="1" lang="en-US" sz="1200" spc="-1" strike="noStrike">
                <a:solidFill>
                  <a:srgbClr val="000000"/>
                </a:solidFill>
                <a:latin typeface="Calibri"/>
              </a:rPr>
              <a:t>learning curv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downward-sloping experience curve exists, this is highly significant for the company. Not only will the company’s unit production cost fall, but it will fall faster if the company makes and sells more during a given time period. But the market has to stand ready to buy the higher output. And to take advantage of the experience curve, TI must get a large market share early in the product’s life cycle. This suggests the following pricing strategy: TI should price its calculators low; its sales will then increase, and its costs will decrease through gaining more experience, and then it can lower its prices fur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mpanies have built successful strategies around the experience curve. However, a single-minded focus on reducing costs and exploiting the experience curve will not always work. Experience-curve pricing carries some major risks. The aggressive pricing might give the product a cheap image. The strategy also assumes that competitors are weak and not willing to fight it out by meeting the company’s price cuts. Finally, while the company is building volume under one technology, a competitor may find a lower-cost technology that lets it start at prices lower than those of the market leader, who still operates on the old experienc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46B5-E402-48AA-9118-AF72C9CCF51C}"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st-Plus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pricing method is </a:t>
            </a:r>
            <a:r>
              <a:rPr b="1" lang="en-US" sz="1200" spc="-1" strike="noStrike">
                <a:solidFill>
                  <a:srgbClr val="000000"/>
                </a:solidFill>
                <a:latin typeface="Calibri"/>
              </a:rPr>
              <a:t>cost-plus pricing</a:t>
            </a:r>
            <a:r>
              <a:rPr b="0" lang="en-US" sz="1200" spc="-1" strike="noStrike">
                <a:solidFill>
                  <a:srgbClr val="000000"/>
                </a:solidFill>
                <a:latin typeface="Calibri"/>
              </a:rPr>
              <a:t> (or </a:t>
            </a:r>
            <a:r>
              <a:rPr b="1" lang="en-US" sz="1200" spc="-1" strike="noStrike">
                <a:solidFill>
                  <a:srgbClr val="000000"/>
                </a:solidFill>
                <a:latin typeface="Calibri"/>
              </a:rPr>
              <a:t>markup pricing</a:t>
            </a:r>
            <a:r>
              <a:rPr b="0" lang="en-US" sz="1200" spc="-1" strike="noStrike">
                <a:solidFill>
                  <a:srgbClr val="000000"/>
                </a:solidFill>
                <a:latin typeface="Calibri"/>
              </a:rPr>
              <a:t>)—adding a standard markup to the cost of the product. Construction companies, for example, submit job bids by estimating the total project cost and adding a standard markup for profit. Lawyers, accountants, and other professionals typically price by adding a standard markup to their costs. Some sellers tell their customers they will charge cost plus a specified markup; for example, aerospace companies often price this way to the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markup pricing, suppose a toaster manufacturer had the following costs and expected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le co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co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ed unit sales</a:t>
            </a:r>
            <a:r>
              <a:rPr b="0" lang="en-US" sz="1200" spc="-1" strike="noStrike">
                <a:solidFill>
                  <a:srgbClr val="000000"/>
                </a:solidFill>
                <a:latin typeface="Calibri"/>
              </a:rPr>
              <a:t>	</a:t>
            </a:r>
            <a:r>
              <a:rPr b="0" lang="en-US" sz="1200" spc="-1" strike="noStrike">
                <a:solidFill>
                  <a:srgbClr val="000000"/>
                </a:solidFill>
                <a:latin typeface="Calibri"/>
              </a:rPr>
              <a:t>5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manufacturer’s cost per toaster is given by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ppose the manufacturer wants to earn a 20 percent markup on sales. The manufacturer’s markup price is given by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er would charge dealers $20 per toaster and make a profit of $4 per unit. The dealers, in turn, will mark up the toaster. If dealers want to earn 50 percent on the sales price, they will mark up the toaster to $40 ($20 + 50% of $40). This number is equivalent to a </a:t>
            </a:r>
            <a:r>
              <a:rPr b="0" i="1" lang="en-US" sz="1200" spc="-1" strike="noStrike">
                <a:solidFill>
                  <a:srgbClr val="000000"/>
                </a:solidFill>
                <a:latin typeface="Calibri"/>
              </a:rPr>
              <a:t>markup on cost</a:t>
            </a:r>
            <a:r>
              <a:rPr b="0" lang="en-US" sz="1200" spc="-1" strike="noStrike">
                <a:solidFill>
                  <a:srgbClr val="000000"/>
                </a:solidFill>
                <a:latin typeface="Calibri"/>
              </a:rPr>
              <a:t> of 100 percent ($20/$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using standard markups to set prices make sense? Generally, no. Any pricing method that ignores demand and competitor prices is not likely to lead to the best price. Still, markup pricing remains popular for many reasons. First, sellers are more certain about costs than about demand. By tying the price to cost, sellers simplify pricing; they do not need to make frequent adjustments as demand changes. Second, when all firms in the industry use this pricing method, prices tend to be similar, so price competition is minimized. Third, many people feel that cost-plus pricing is fairer to both buyers and sellers. Sellers earn a fair return on their investment but do not take advantage of buyers when buyers’ demand becomes gr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ithmetic of markups and margins is discussed in Appendix 2, Marketing by the Numbers.</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6873-114E-49D0-8162-05F84F1DB716}"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eak-Even Analysis and Target Profit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st-oriented pricing approach is </a:t>
            </a:r>
            <a:r>
              <a:rPr b="1" lang="en-US" sz="1200" spc="-1" strike="noStrike">
                <a:solidFill>
                  <a:srgbClr val="000000"/>
                </a:solidFill>
                <a:latin typeface="Calibri"/>
              </a:rPr>
              <a:t>break-even pricing</a:t>
            </a:r>
            <a:r>
              <a:rPr b="0" lang="en-US" sz="1200" spc="-1" strike="noStrike">
                <a:solidFill>
                  <a:srgbClr val="000000"/>
                </a:solidFill>
                <a:latin typeface="Calibri"/>
              </a:rPr>
              <a:t> (or a variation called </a:t>
            </a:r>
            <a:r>
              <a:rPr b="1" lang="en-US" sz="1200" spc="-1" strike="noStrike">
                <a:solidFill>
                  <a:srgbClr val="000000"/>
                </a:solidFill>
                <a:latin typeface="Calibri"/>
              </a:rPr>
              <a:t>target return pricing</a:t>
            </a:r>
            <a:r>
              <a:rPr b="0" lang="en-US" sz="1200" spc="-1" strike="noStrike">
                <a:solidFill>
                  <a:srgbClr val="000000"/>
                </a:solidFill>
                <a:latin typeface="Calibri"/>
              </a:rPr>
              <a:t>). The firm tries to determine the price at which it will break even or make the target return it is se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return pricing uses the concept of a </a:t>
            </a:r>
            <a:r>
              <a:rPr b="0" i="1" lang="en-US" sz="1200" spc="-1" strike="noStrike">
                <a:solidFill>
                  <a:srgbClr val="000000"/>
                </a:solidFill>
                <a:latin typeface="Calibri"/>
              </a:rPr>
              <a:t>break-even chart</a:t>
            </a:r>
            <a:r>
              <a:rPr b="0" lang="en-US" sz="1200" spc="-1" strike="noStrike">
                <a:solidFill>
                  <a:srgbClr val="000000"/>
                </a:solidFill>
                <a:latin typeface="Calibri"/>
              </a:rPr>
              <a:t>, which shows the total cost and total revenue expected at different sales volume levels. Figure 10.5 shows a break-even chart for the toaster manufacturer discussed here. Fixed costs are $300,000 regardless of sales volume. Variable costs are added to fixed costs to form total costs, which rise with volume. The total revenue curve starts at zero and rises with each unit sold. The slope of the total revenue curve reflects the price of $20 per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revenue and total cost curves cross at 30,000 units. This is the </a:t>
            </a:r>
            <a:r>
              <a:rPr b="0" i="1" lang="en-US" sz="1200" spc="-1" strike="noStrike">
                <a:solidFill>
                  <a:srgbClr val="000000"/>
                </a:solidFill>
                <a:latin typeface="Calibri"/>
              </a:rPr>
              <a:t>break-even volume</a:t>
            </a:r>
            <a:r>
              <a:rPr b="0" lang="en-US" sz="1200" spc="-1" strike="noStrike">
                <a:solidFill>
                  <a:srgbClr val="000000"/>
                </a:solidFill>
                <a:latin typeface="Calibri"/>
              </a:rPr>
              <a:t>. At $20, the company must sell at least 30,000 units to break even, that is, for total revenue to cover total cost. Break-even volume can be calculated using the following formu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mpany wants to make a profit, it must sell more than 30,000 units at $20 each. Suppose the toaster manufacturer has invested $1,000,000 in the business and wants to set a price to earn a 20 percent return, or $200,000. In that case, it must sell at least 50,000 units at $20 each. If the company charges a higher price, it will not need to sell as many toasters to achieve its target return. But the market may not buy even this lower volume at the higher price. Much depends on price elasticity and competitors’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er should consider different prices and estimate break-even volumes, probable demand, and profits for each. This is done in Table 10.1. The table shows that as price increases, the break-even volume drops (column 2). But as price increases, the demand for toasters also decreases (column 3). At the $14 price, because the manufacturer clears only $4 per toaster ($14 less $10 in variable costs), it must sell a very high volume to break even. Even though the low price attracts many buyers, demand still falls below the high break-even point, and the manufacturer loses money. At the other extreme, with a $22 price, the manufacturer clears $12 per toaster and must sell only 25,000 units to break even. But at this high price, consumers buy too few toasters, and profits are negative. The table shows that a price of $18 yields the highest profits. Note that none of the prices produce the manufacturer’s target return of $200,000. To achieve this return, the manufacturer will have to search for ways to lower the fixed or variable costs, thus lowering the break-even volume.</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DCEF-2E69-4700-BFA4-7EFC60D0CFF2}"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tition-Based Pricing</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tition-based pricing</a:t>
            </a:r>
            <a:r>
              <a:rPr b="0" lang="en-US" sz="1200" spc="-1" strike="noStrike">
                <a:solidFill>
                  <a:srgbClr val="000000"/>
                </a:solidFill>
                <a:latin typeface="Calibri"/>
              </a:rPr>
              <a:t> involves setting prices based on competitors’ strategies, costs, prices, and market offerings. Consumers will base their judgments of a product’s value on the prices that competitors charge for simila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ssessing competitors’ pricing strategies, the company should ask several questions. First, how does the company’s market offering compare with competitors’ offerings in terms of customer value? If consumers perceive that the company’s product or service provides greater value, the company can charge a higher price. If consumers perceive less value relative to competing products, the company must either charge a lower price or change customer perceptions to justify a highe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how strong are current competitors and what are their current pricing strategies? If the company faces a host of smaller competitors charging high prices relative to the value they deliver, it might charge lower prices to drive weaker competitors from the market. If the market is dominated by larger, lower-price competitors, the company may decide to target unserved market niches with value-added products at higher prices.</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F0AD-332A-40D5-A64E-1CED87958DC0}"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look at the second major marketing mix tool—pricing. If effective product development, promotion, and distribution sow the seeds of business success, effective pricing is the harvest. Firms successful at creating customer value with the other marketing mix activities must still capture some of this value in the prices they earn. In this chapter, we discuss the importance of pricing, dig into three major pricing strategies, and look at internal and external considerations that affect pricing decisions. In the next chapter, we examine some additional pricing considerations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face a fierce and fast-changing pricing environment. Value-seeking customers have put increased pricing pressure on many companies. Thanks to economic woes in recent years, the pricing power of the Internet, and value-driven retailers such as Walmart, today’s more frugal consumers are pursuing spend-less strategies. In response, it seems that almost every company has been looking for ways to cut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0.02&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cutting prices is often not the best answer. Reducing prices unnecessarily can lead to lost profits and damaging price wars. It can cheapen a brand by signaling to customers that price is more important than the customer value a brand delivers. Instead, in both good economic times and bad, companies should sell value, not price. In some cases, that means selling lesser products at rock-bottom prices. But in most cases, it means persuading customers that paying a higher price for the company’s brand is justified by the greater value they 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CEEC-0EE8-41CB-B377-EF4C0A65606C}"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position their products on price and then tailor other marketing mix decisions to the prices they want to charge. Here, price is a crucial product-positioning factor that defines the product’s market, competition, and design. Many firms support such price-positioning strategies with a technique called </a:t>
            </a:r>
            <a:r>
              <a:rPr b="1" lang="en-US" sz="1200" spc="-1" strike="noStrike">
                <a:solidFill>
                  <a:srgbClr val="000000"/>
                </a:solidFill>
                <a:latin typeface="Calibri"/>
              </a:rPr>
              <a:t>target costing</a:t>
            </a:r>
            <a:r>
              <a:rPr b="0" lang="en-US" sz="1200" spc="-1" strike="noStrike">
                <a:solidFill>
                  <a:srgbClr val="000000"/>
                </a:solidFill>
                <a:latin typeface="Calibri"/>
              </a:rPr>
              <a:t>. Target costing reverses the usual process of first designing a new product, determining its cost, and then asking, “Can we sell it for that?” Instead, it starts with an ideal selling price based on customer-value considerations and then targets costs that will ensure that the price is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deemphasize price and use other marketing mix tools to create </a:t>
            </a:r>
            <a:r>
              <a:rPr b="0" i="1" lang="en-US" sz="1200" spc="-1" strike="noStrike">
                <a:solidFill>
                  <a:srgbClr val="000000"/>
                </a:solidFill>
                <a:latin typeface="Calibri"/>
              </a:rPr>
              <a:t>nonprice</a:t>
            </a:r>
            <a:r>
              <a:rPr b="0" lang="en-US" sz="1200" spc="-1" strike="noStrike">
                <a:solidFill>
                  <a:srgbClr val="000000"/>
                </a:solidFill>
                <a:latin typeface="Calibri"/>
              </a:rPr>
              <a:t> positions. Often, the best strategy is not to charge the lowest price but rather differentiate the marketing offer to make it worth a highe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marketers must consider the total marketing strategy and mix when setting prices. But again, even when featuring price, marketers need to remember that customers rarely buy on price alone. Instead, they seek products that give them the best value in terms of benefits received for the prices pa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even position their products on </a:t>
            </a:r>
            <a:r>
              <a:rPr b="0" i="1" lang="en-US" sz="1200" spc="-1" strike="noStrike">
                <a:solidFill>
                  <a:srgbClr val="000000"/>
                </a:solidFill>
                <a:latin typeface="Calibri"/>
              </a:rPr>
              <a:t>high</a:t>
            </a:r>
            <a:r>
              <a:rPr b="0" lang="en-US" sz="1200" spc="-1" strike="noStrike">
                <a:solidFill>
                  <a:srgbClr val="000000"/>
                </a:solidFill>
                <a:latin typeface="Calibri"/>
              </a:rPr>
              <a:t> prices, featuring high prices as part of their product’s allure.</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9755-8A49-4D01-A989-8FC260573A38}"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al Consid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must decide who within the organization should set prices. Companies handle pricing in a variety of ways. In small companies, prices are often set by top management rather than by the marketing or sales departments. In large companies, pricing is typically handled by divisional or product managers. In industrial markets, salespeople may be allowed to negotiate with customers within certain price ranges. Even so, top management sets the pricing objectives and policies, and it often approves the prices proposed by lower-level management or sales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ndustries in which pricing is a key factor (airlines, aerospace, steel, railroads, oil companies), companies often have pricing departments to set the best prices or help others set them. These departments report to the marketing department or top management. Others who have an influence on pricing include sales managers, production managers, finance managers, and account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4E22-4B86-4317-B57C-4990837B8343}"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arket and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good pricing starts with an understanding of how customers’ perceptions of value affect the prices they are willing to pay. Both consumer and industrial buyers balance the price of a product or service against the benefits of owning it. Thus, before setting prices, the marketer must understand the relationship between price and demand for the company’s product. In this section, we take a deeper look at the price-demand relationship and how it varies for different types of markets. We then discuss methods for analyzing the price-demand relation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3045-1066-4D6E-83C6-A5981FC68C5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the Internet has changed pricing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pure competition, the market consists of many buyers and sellers trading in a un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dity, such as wheat, copper, or financial securities. No single buyer or seller h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effect on the going market price. In a purely competitive market, marketing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development, pricing, advertising, and sales promotion play little or no role.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in these markets do not spend much time on marketing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monopolistic competition, the market consists of many buyers and sellers w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over a range of prices rather than a single market price. A range of prices occurs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can differentiate their offers to buy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oligopolistic competition, the market consists of a few sellers who are highly sens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ach other’s pricing and marketing strategies. Because there are few sellers,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 is alert and responsive to competitors’ pricing strategies and mo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a:t>
            </a:r>
            <a:r>
              <a:rPr b="0" i="1" lang="en-US" sz="1200" spc="-1" strike="noStrike">
                <a:solidFill>
                  <a:srgbClr val="000000"/>
                </a:solidFill>
                <a:latin typeface="Calibri"/>
              </a:rPr>
              <a:t>pure monopoly, the market consists of one seller. The seller may be a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opoly (the U.S. Postal Service), a private regulated monopoly (a power company), o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nonregulated monopoly (DuPont when it introduced nylon). Pricing is handled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case.</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09B1-C228-4452-A029-64B466DC4D6A}"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ice the company might charge will lead to a different level of demand. The relationship between the price charged and the resulting demand level is shown in the </a:t>
            </a:r>
            <a:r>
              <a:rPr b="1" lang="en-US" sz="1200" spc="-1" strike="noStrike">
                <a:solidFill>
                  <a:srgbClr val="000000"/>
                </a:solidFill>
                <a:latin typeface="Calibri"/>
              </a:rPr>
              <a:t>demand curve</a:t>
            </a:r>
            <a:r>
              <a:rPr b="0" lang="en-US" sz="1200" spc="-1" strike="noStrike">
                <a:solidFill>
                  <a:srgbClr val="000000"/>
                </a:solidFill>
                <a:latin typeface="Calibri"/>
              </a:rPr>
              <a:t> in Figure 10.6. The demand curve shows the number of units the market will buy in a given time period at different prices that might be charged. In the normal case, demand and price are inversely related—that is, the higher the price, the lower the demand. Thus, the company would sell less if it raised its price from </a:t>
            </a:r>
            <a:r>
              <a:rPr b="0" i="1" lang="en-US" sz="1200" spc="-1" strike="noStrike">
                <a:solidFill>
                  <a:srgbClr val="000000"/>
                </a:solidFill>
                <a:latin typeface="Calibri"/>
              </a:rPr>
              <a:t>P</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P</a:t>
            </a:r>
            <a:r>
              <a:rPr b="0" lang="en-US" sz="1200" spc="-1" strike="noStrike" baseline="-25000">
                <a:solidFill>
                  <a:srgbClr val="000000"/>
                </a:solidFill>
                <a:latin typeface="Calibri"/>
              </a:rPr>
              <a:t>2</a:t>
            </a:r>
            <a:r>
              <a:rPr b="0" lang="en-US" sz="1200" spc="-1" strike="noStrike">
                <a:solidFill>
                  <a:srgbClr val="000000"/>
                </a:solidFill>
                <a:latin typeface="Calibri"/>
              </a:rPr>
              <a:t>. In short, consumers with limited budgets probably will buy less of something if its price is too high.</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ACFA-F8D7-4F49-8E5A-5E1C5E1C58BA}"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ice Elasticity of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two demand curves in Figure 10.6. In Figure 10.6A, a price increase from </a:t>
            </a:r>
            <a:r>
              <a:rPr b="0" i="1" lang="en-US" sz="1200" spc="-1" strike="noStrike">
                <a:solidFill>
                  <a:srgbClr val="000000"/>
                </a:solidFill>
                <a:latin typeface="Calibri"/>
              </a:rPr>
              <a:t>P</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P</a:t>
            </a:r>
            <a:r>
              <a:rPr b="0" lang="en-US" sz="1200" spc="-1" strike="noStrike" baseline="-25000">
                <a:solidFill>
                  <a:srgbClr val="000000"/>
                </a:solidFill>
                <a:latin typeface="Calibri"/>
              </a:rPr>
              <a:t>2</a:t>
            </a:r>
            <a:r>
              <a:rPr b="0" lang="en-US" sz="1200" spc="-1" strike="noStrike">
                <a:solidFill>
                  <a:srgbClr val="000000"/>
                </a:solidFill>
                <a:latin typeface="Calibri"/>
              </a:rPr>
              <a:t> leads to a relatively small drop in demand from </a:t>
            </a:r>
            <a:r>
              <a:rPr b="0" i="1" lang="en-US" sz="1200" spc="-1" strike="noStrike">
                <a:solidFill>
                  <a:srgbClr val="000000"/>
                </a:solidFill>
                <a:latin typeface="Calibri"/>
              </a:rPr>
              <a:t>Q</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Q</a:t>
            </a:r>
            <a:r>
              <a:rPr b="0" lang="en-US" sz="1200" spc="-1" strike="noStrike" baseline="-25000">
                <a:solidFill>
                  <a:srgbClr val="000000"/>
                </a:solidFill>
                <a:latin typeface="Calibri"/>
              </a:rPr>
              <a:t>2</a:t>
            </a:r>
            <a:r>
              <a:rPr b="0" lang="en-US" sz="1200" spc="-1" strike="noStrike">
                <a:solidFill>
                  <a:srgbClr val="000000"/>
                </a:solidFill>
                <a:latin typeface="Calibri"/>
              </a:rPr>
              <a:t>. In Figure 10.6B, however, the same price increase leads to a large drop in demand from </a:t>
            </a:r>
            <a:r>
              <a:rPr b="0" i="1" lang="en-US" sz="1200" spc="-1" strike="noStrike">
                <a:solidFill>
                  <a:srgbClr val="000000"/>
                </a:solidFill>
                <a:latin typeface="Calibri"/>
              </a:rPr>
              <a:t>Qꞌ</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Qꞌ</a:t>
            </a:r>
            <a:r>
              <a:rPr b="0" lang="en-US" sz="1200" spc="-1" strike="noStrike" baseline="-25000">
                <a:solidFill>
                  <a:srgbClr val="000000"/>
                </a:solidFill>
                <a:latin typeface="Calibri"/>
              </a:rPr>
              <a:t>2</a:t>
            </a:r>
            <a:r>
              <a:rPr b="0" lang="en-US" sz="1200" spc="-1" strike="noStrike">
                <a:solidFill>
                  <a:srgbClr val="000000"/>
                </a:solidFill>
                <a:latin typeface="Calibri"/>
              </a:rPr>
              <a:t>. If demand hardly changes with a small change in price, we say the demand is </a:t>
            </a:r>
            <a:r>
              <a:rPr b="0" i="1" lang="en-US" sz="1200" spc="-1" strike="noStrike">
                <a:solidFill>
                  <a:srgbClr val="000000"/>
                </a:solidFill>
                <a:latin typeface="Calibri"/>
              </a:rPr>
              <a:t>inelastic</a:t>
            </a:r>
            <a:r>
              <a:rPr b="0" lang="en-US" sz="1200" spc="-1" strike="noStrike">
                <a:solidFill>
                  <a:srgbClr val="000000"/>
                </a:solidFill>
                <a:latin typeface="Calibri"/>
              </a:rPr>
              <a:t>. If demand changes greatly, we say the demand is </a:t>
            </a:r>
            <a:r>
              <a:rPr b="0" i="1" lang="en-US" sz="1200" spc="-1" strike="noStrike">
                <a:solidFill>
                  <a:srgbClr val="000000"/>
                </a:solidFill>
                <a:latin typeface="Calibri"/>
              </a:rPr>
              <a:t>elastic</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E9DB-3E75-44E2-8088-7E9B86F375AC}"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ice Elasticity of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rice elasticity</a:t>
            </a:r>
            <a:r>
              <a:rPr b="0" lang="en-US" sz="1200" spc="-1" strike="noStrike">
                <a:solidFill>
                  <a:srgbClr val="000000"/>
                </a:solidFill>
                <a:latin typeface="Calibri"/>
              </a:rPr>
              <a:t> of demand is given by the following formu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demand falls by 10 percent when a seller raises its price by 2 percent. The price elasticity of demand is therefore -5 (the minus sign confirms the inverse relation between price and demand), and demand is elastic. If demand falls by 2 percent with a 2 percent increase in price, then elasticity is -1. In this case, the seller’s total revenue stays the same: The seller sells fewer items but at a higher price that preserves the same total revenue. If demand falls by 1 percent when price is increased by 2 percent, then elasticity is -, and demand is inelastic. The less elastic the demand, the more it pays for the seller to raise the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etermines the price elasticity of demand? Buyers are less price sensitive when the product they are buying is unique or when it is high in quality, prestige, or exclusiveness; substitute products are hard to find or when they cannot easily compare the quality of substitutes; and the total expenditure for a product is low relative to their income or when the cost is shared by another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mand is elastic rather than inelastic, sellers will consider lowering their prices. A lower price will produce more total revenue. This practice makes sense as long as the extra costs of producing and selling more do not exceed the extra revenue. At the same time, most firms want to avoid pricing that turns their products into commodities. In recent years, forces such as dips in the economy, deregulation, and the instant price comparisons afforded by the Internet and other technologies have increased consumer price sensitivity, turning products ranging from phones and computers to new automobiles into commodities in some consumers’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need to work harder than ever to differentiate their offerings when a dozen competitors are selling virtually the same product at a comparable or lower price. More than ever, companies need to understand the price sensitivity of their customers and the trade-offs people are willing to make between price and product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98D7-274C-4E6E-9EB3-A8E1BE8929B3}"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conditions can have a strong impact on the firm’s pricing strategies. Economic factors such as a boom or recession, inflation, and interest rates affect pricing decisions because they affect consumer spending, consumer perceptions of the product’s price and value, and the company’s costs of producing and selling a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ftermath of the recent Great Recession, many consumers have rethought the price-value equation. They have tightened their belts and become more value conscious. Consumers will likely continue their thriftier ways well beyond any economic recovery. As a result, many marketers have increased their emphasis on value-for-the-money pricing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response to the new economic realities is to cut prices and offer discounts. Thousands of companies have done just that. Lower prices make products more affordable and help spur short-term sales. However, such price cuts can have undesirable long-term consequences. Lower prices mean lower margins. Deep discounts may cheapen a brand in consumers’ eyes. And once a company cuts prices, it’s difficult to raise them again when the economy recov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cutting prices, many companies have instead shifted their marketing focus to more affordable items in their product mixes. For example, whereas its previous promotions emphasized high-end products and pricey concepts such as creating dream kitchens, Home Depot’s more recent advertising pushes items like potting soil and hand tools under the tagline: “More saving. More doing. That’s the power of Home Dep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are holding prices but redefining the “value” in their value propositions. Consider upscale grocery retailer Whole Foods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0.11&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Foods Market grew rapidly by serving up high-quality grocery items to upscale customers who were willing and able to pay more for the extra value they got. Then came the Great Recession of 2008, and even relatively affluent customers began cutting back and spending less. All of a sudden, Whole Foods Market faced a difficult question: Should it hold the line on its premium price positioning, or should it cut prices and reposition itself to fit the leaner times? Whole Foods decided to stick with its core up-market positioning, but it also began to subtly realign its value proposition. Rather than dropping everyday prices across the board, Whole Foods lowered prices on selected basic items and offered significant sales on others. It also started emphasizing its lower-price private-label brand, 365 Everyday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ame time, however, Whole Foods Market launched a new marketing program that did more than simply promote more affordable merchandise. It convinced shoppers that, for what you get, Whole Foods’s regular products and prices offer good value as well. When it comes to quality food, price isn’t everything. The upscale retailer even assigned workers to serve as “value tour guides” to escort shoppers around stores and point out the value in both sale and regular items. As one tour guide notes, “Value means getting a good exchange for your money.” As a result of subtle shifts in its value strategy, Whole Foods Market is now back on track in the post-recession economy. It is meeting the challenges of more frugal times in a way that preserves all the things that have made it special to customers through the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even in tough economic times, consumers do not buy based on prices alone. They balance the price they pay against the value they receive. For example, according to one survey, despite selling its shoes for as much as $150 a pair, Nike commands the highest consumer loyalty of any brand in the footwear segment. Customers perceive the value of Nike’s products and the Nike ownership experience to be well worth the price. Thus, no matter what price they charge—low or high—companies need to offer great </a:t>
            </a:r>
            <a:r>
              <a:rPr b="0" i="1" lang="en-US" sz="1200" spc="-1" strike="noStrike">
                <a:solidFill>
                  <a:srgbClr val="000000"/>
                </a:solidFill>
                <a:latin typeface="Calibri"/>
              </a:rPr>
              <a:t>value for the mone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ther Exter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market and the economy, the company must consider several other factors in its external environment when setting prices. It must know what impact its prices will have on other parties in its environment. How will </a:t>
            </a:r>
            <a:r>
              <a:rPr b="0" i="1" lang="en-US" sz="1200" spc="-1" strike="noStrike">
                <a:solidFill>
                  <a:srgbClr val="000000"/>
                </a:solidFill>
                <a:latin typeface="Calibri"/>
              </a:rPr>
              <a:t>resellers</a:t>
            </a:r>
            <a:r>
              <a:rPr b="0" lang="en-US" sz="1200" spc="-1" strike="noStrike">
                <a:solidFill>
                  <a:srgbClr val="000000"/>
                </a:solidFill>
                <a:latin typeface="Calibri"/>
              </a:rPr>
              <a:t> react to various prices? The company should set prices that give resellers a fair profit, encourage their support, and help them to sell the product effectively. The </a:t>
            </a:r>
            <a:r>
              <a:rPr b="0" i="1" lang="en-US" sz="1200" spc="-1" strike="noStrike">
                <a:solidFill>
                  <a:srgbClr val="000000"/>
                </a:solidFill>
                <a:latin typeface="Calibri"/>
              </a:rPr>
              <a:t>government</a:t>
            </a:r>
            <a:r>
              <a:rPr b="0" lang="en-US" sz="1200" spc="-1" strike="noStrike">
                <a:solidFill>
                  <a:srgbClr val="000000"/>
                </a:solidFill>
                <a:latin typeface="Calibri"/>
              </a:rPr>
              <a:t> is another important external influence on pricing decisions. Finally, </a:t>
            </a:r>
            <a:r>
              <a:rPr b="0" i="1" lang="en-US" sz="1200" spc="-1" strike="noStrike">
                <a:solidFill>
                  <a:srgbClr val="000000"/>
                </a:solidFill>
                <a:latin typeface="Calibri"/>
              </a:rPr>
              <a:t>social concerns</a:t>
            </a:r>
            <a:r>
              <a:rPr b="0" lang="en-US" sz="1200" spc="-1" strike="noStrike">
                <a:solidFill>
                  <a:srgbClr val="000000"/>
                </a:solidFill>
                <a:latin typeface="Calibri"/>
              </a:rPr>
              <a:t> may need to be taken into account. In setting prices, a company’s short-term sales, market share, and profit goals may need to be tempered by broader societal considerations.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597C-E3B0-4E51-A3DD-013093663EB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does a company like Starbucks price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ead to a good overview of the chapter as students will most likely focus on customers, costs and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ly, price has been the major factor affecting buyer choice. In recent decades, however, nonprice factors have gained increasing importance. Even so, price remains one of the most important elements that determines a firm’s market share and prof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is the only element in the marketing mix that produces revenue; all other elements represent costs. Price is also one of the most flexible marketing mix elements. Unlike product features and channel commitments, prices can be changed quickly. At the same time, pricing is the number-one problem facing many marketing executives, and many companies do not handle pricing well. Some managers view pricing as a big headache, preferring instead to focus on other marketing mix elements. However, smart managers treat pricing as a key strategic tool for creating and capturing customer value. Prices have a direct impact on a firm’s bottom line. A small percentage improvement in price can generate a large percentage increase in profitability. More importantly, as part of a company’s overall value proposition, price plays a key role in creating customer value and building customer relationships. “Instead of running away from pricing,” says an expert, “savvy marketers are embracing it.”</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4F56-2E1C-4795-B7A3-78785269E835}"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 suggests three major pricing strategies: customer value-based pricing, cost-based pricing, and competition-bas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ce the company charges will fall somewhere between one that is too low to produce a profit and one that is too high to produce any demand. Figure 10.1 summarizes the major considerations in setting price. Customer perceptions of the product’s value set the ceiling for prices. If customers perceive that the product’s price is greater than its value, they will not buy the product. Likewise, product costs set the floor for prices. If the company prices the product below its costs, the company’s profits will suffer. In setting its price between these two extremes, the company must consider several external and internal factors, including competitors’ strategies and prices, the overall marketing strategy and mix, and the nature of the market and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Marketing Strategy, Objectives, and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is only one element of the company’s broader marketing strategy. So, before setting price, the company must decide on its overall marketing strategy for the product or service. Sometimes, a company’s overall strategy is built around its price and value story. For example, grocery retailer Trader Joe’s unique price-value positioning has made it one of the nation’s fastest-growing, most popular food stores. Trader Joe’s understands that success comes not just from what products you offer customers or from the prices you charge. It comes from offering the combination of products, prices, and store operations that produces the greatest customer </a:t>
            </a:r>
            <a:r>
              <a:rPr b="0" i="1" lang="en-US" sz="1200" spc="-1" strike="noStrike">
                <a:solidFill>
                  <a:srgbClr val="000000"/>
                </a:solidFill>
                <a:latin typeface="Calibri"/>
              </a:rPr>
              <a:t>value</a:t>
            </a:r>
            <a:r>
              <a:rPr b="0" lang="en-US" sz="1200" spc="-1" strike="noStrike">
                <a:solidFill>
                  <a:srgbClr val="000000"/>
                </a:solidFill>
                <a:latin typeface="Calibri"/>
              </a:rPr>
              <a:t>—what customers get for the prices they pay. If the company has selected its target market and positioning carefully, then its marketing mix strategy, including price, will be fairly straightforward. For example, Kohler’s Kallista line of bath and kitchen fixtures is positioned for the luxury market. It “combines passion with a profound sense of aesthetic and functional efficiency,” giving you “the bold look of Kohler.” Each Kallista product features “exquisite details—from surfaces finished by hand to cultured stone—carefully articulated to express a simple, singular elegance.” The Kallista line’s luxury positioning requires charging a higher price. In contrast, Kohler’s Sterling division offers more affordable fixtures that are “inspired by the realities of life.” Sterling fixtures are positioned on simplicity, convenience, comfort, and economical design for budget-conscious homeowners. Sterling’s mid-market positioning calls for charging lower prices. Thus, pricing strategy is largely determined by decisions on market positi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ing may play an important role in helping to accomplish company objectives at many levels. A firm can set prices to attract new customers or profitably retain existing ones. It can set prices low to prevent competition from entering the market or set prices at competitors’ levels to stabilize the market. It can price to keep the loyalty and support of resellers or avoid government intervention. Prices can be reduced temporarily to create excitement for a brand. Or one product may be priced to help the sales of other products in the company’s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decisions must be coordinated with product design, distribution, and promotion decisions to form a consistent and effective integrated marketing mix program. Decisions made for other marketing mix variables may affect pricing decisions. For example, a decision to position the product on high-performance quality will mean that the seller must charge a higher price to cover higher costs. And producers whose resellers are expected to support and promote their products may have to build larger reseller margins into their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www.kohler.com and www.sterlingplumbing.com, accessed June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25EB-EC9C-4B0A-9C5F-799122D35330}"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confuse value with low price. You might want to bring up a product that some of them will value even at a high price. You can bring up the latest iPhone product or a luxury car. Some students will feel that the price for these products is too high, however, others will see the value these products offer to the consu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Value-Bas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nd, the customer will decide whether a product’s price is right. Pricing decisions, like other marketing mix decisions, must start with customer value. When customers buy a product, they exchange something of value (the price) to get something of value (the benefits of having or using the product). Effective, customer-oriented pricing involves understanding how much value consumers place on the benefits they receive from the product and setting a price that captures tha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value-based pricing</a:t>
            </a:r>
            <a:r>
              <a:rPr b="0" lang="en-US" sz="1200" spc="-1" strike="noStrike">
                <a:solidFill>
                  <a:srgbClr val="000000"/>
                </a:solidFill>
                <a:latin typeface="Calibri"/>
              </a:rPr>
              <a:t> uses buyers’ perceptions of value as the key to pricing. Value-based pricing means that the marketer cannot design a product and marketing program and then set the pr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2 compares value-based pricing with cost-based pricing. Although costs are an important consideration in setting prices, cost-based pricing is often product driven. The company designs what it considers to be a good product, adds up the costs of making the product, and sets a price that covers costs plus a target profit. Marketing must then convince buyers that the product’s value at that price justifies its purchase. If the price turns out to be too high, the company must settle for lower markups or lower sales, both resulting in disappointing pro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based pricing reverses this process. The company first assesses customer needs and value perceptions. It then sets its target price based on customer perceptions of value. The targeted value and price drive decisions about what costs can be incurred and the resulting product design. As a result, pricing begins with analyzing consumer needs and value perceptions, and the price is set to match perceiv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important to remember that “good value” is not the same as “low price.” For example, a Steinway piano—any Steinway piano—costs a lot. But to those who own one, a Steinway is a great value.</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7EE0-4493-4B8B-B580-4D20EE2FAB3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2: Value-Based Pricing vs. Cost-Based Pricing</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B8C3-8788-4FC4-AFD5-131F70047D3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ing brands are being redesigned to offer more quality for a given price or the same quality for less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cases good-value pricing includes less expensive items. </a:t>
            </a:r>
            <a:r>
              <a:rPr b="1" i="1" lang="en-US" sz="1200" spc="-1" strike="noStrike">
                <a:solidFill>
                  <a:srgbClr val="000000"/>
                </a:solidFill>
                <a:latin typeface="Calibri"/>
              </a:rPr>
              <a:t>Good-Value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 Recession of 2008 to 2009 caused a fundamental and lasting shift in consumer attitudes toward price and quality. In response, many companies have changed their pricing approaches to bring them in line with changing economic conditions and consumer price perceptions. More and more, marketers have adopted </a:t>
            </a:r>
            <a:r>
              <a:rPr b="1" lang="en-US" sz="1200" spc="-1" strike="noStrike">
                <a:solidFill>
                  <a:srgbClr val="000000"/>
                </a:solidFill>
                <a:latin typeface="Calibri"/>
              </a:rPr>
              <a:t>good-value pricing</a:t>
            </a:r>
            <a:r>
              <a:rPr b="0" lang="en-US" sz="1200" spc="-1" strike="noStrike">
                <a:solidFill>
                  <a:srgbClr val="000000"/>
                </a:solidFill>
                <a:latin typeface="Calibri"/>
              </a:rPr>
              <a:t> strategies—offering the right combination of quality and good service at a fai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cases, this has involved introducing less-expensive versions of established, brand-name products. For example, fast-food restaurants such as Taco Bell and McDonald’s offer value menu and dollar menu items. Every car company now offers small, inexpensive models better suited to tighter consumer budgets and thriftier spending habits. P&amp;G has introduced “Basic” versions of its Bounty and Charmin brands that sell for less and recently launched bargain-priced Gain dish soap, its first new dish soap in almost 40 years. The company has also reduced the size of some Tide laundry detergent packages from 100 ounces to 75 ounces and sells the smaller size packages for 20 percent less at Walmart and other discount stores. “Today, when you ask the consumer, ‘What is value?’ the No. 1 answer is ‘brand names for less,’” says a pricing exp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cases, good-value pricing has involved redesigning existing brands to offer more quality for a given price or the same quality for less. Some companies even succeed by offering less value but at very low prices. For example, passengers flying low-cost European airline Ryanair won’t get much in the way of free amenities, but they’ll like the airline’s unbelievably low prices See Christine Birkner, “Marketing in 2012: The End of the Middle?” </a:t>
            </a:r>
            <a:r>
              <a:rPr b="0" i="1" lang="en-US" sz="1200" spc="-1" strike="noStrike">
                <a:solidFill>
                  <a:srgbClr val="000000"/>
                </a:solidFill>
                <a:latin typeface="Calibri"/>
              </a:rPr>
              <a:t>Marketing News, </a:t>
            </a:r>
            <a:r>
              <a:rPr b="0" lang="en-US" sz="1200" spc="-1" strike="noStrike">
                <a:solidFill>
                  <a:srgbClr val="000000"/>
                </a:solidFill>
                <a:latin typeface="Calibri"/>
              </a:rPr>
              <a:t>January 31, 2012, pp. 22-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5602-1D0F-4C72-915E-4E5C07DF2C0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type of good-value pricing at the retail level is </a:t>
            </a:r>
            <a:r>
              <a:rPr b="0" i="1" lang="en-US" sz="1200" spc="-1" strike="noStrike">
                <a:solidFill>
                  <a:srgbClr val="000000"/>
                </a:solidFill>
                <a:latin typeface="Calibri"/>
              </a:rPr>
              <a:t>everyday low pricing</a:t>
            </a:r>
            <a:r>
              <a:rPr b="0" lang="en-US" sz="1200" spc="-1" strike="noStrike">
                <a:solidFill>
                  <a:srgbClr val="000000"/>
                </a:solidFill>
                <a:latin typeface="Calibri"/>
              </a:rPr>
              <a:t> (</a:t>
            </a:r>
            <a:r>
              <a:rPr b="0" i="1" lang="en-US" sz="1200" spc="-1" strike="noStrike">
                <a:solidFill>
                  <a:srgbClr val="000000"/>
                </a:solidFill>
                <a:latin typeface="Calibri"/>
              </a:rPr>
              <a:t>EDLP</a:t>
            </a:r>
            <a:r>
              <a:rPr b="0" lang="en-US" sz="1200" spc="-1" strike="noStrike">
                <a:solidFill>
                  <a:srgbClr val="000000"/>
                </a:solidFill>
                <a:latin typeface="Calibri"/>
              </a:rPr>
              <a:t>). EDLP involves charging a constant, everyday low price with few or no temporary price discounts. Retailers such as Costco and Lumber Liquidators practice EDLP. However, the king of EDLP is Walmart, which practically defined the concept. Except for a few sale items every month, Walmart promises everyday low prices on everything it sells. </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FD56-A6E0-4567-B41E-1FF974D24B1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igh-low pricing</a:t>
            </a:r>
            <a:r>
              <a:rPr b="0" lang="en-US" sz="1200" spc="-1" strike="noStrike">
                <a:solidFill>
                  <a:srgbClr val="000000"/>
                </a:solidFill>
                <a:latin typeface="Calibri"/>
              </a:rPr>
              <a:t> involves charging higher prices on an everyday basis but running frequent promotions to lower prices temporarily on selected items. Department stores such as Kohl’s and Macy’s practice high-low pricing by having frequent sale days, early-bird savings, and bonus earnings for store credit-card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89ED-9F36-4176-A902-54CEF1B8AC1D}"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958DA2-183D-49B1-A51D-494D11E562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CF945-46E9-4C39-B50D-C85FE1492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8B156-AEC3-4C69-BA04-32D80380A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62A82-55FD-4C2D-9134-6E48B6BF1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45A80-6B24-43E5-8AFD-318CDF6CC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1CCC4-C152-4961-BB65-2E1238905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CEFBE-82BD-437B-8B9B-B148626ED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DFEF8-9957-4579-AF2B-4E375E935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53784-513D-470E-92B5-45E37B2D2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3AF16-3D95-4971-9370-9210D9BB4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CDF4B-6224-4EE9-B9B7-BE7DB1418D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015EB-B8F8-4EA3-9C2C-EBDE64B2D7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3A388A-C411-4C08-8203-395CD508F6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913AA-5625-47FC-9E52-405628CD7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F033C1-D46A-465E-9098-86C1A1E00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2ECD2D-5315-4B8A-88C6-D6091C6D8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8D11D-6CA7-47D3-90F4-BDBB528E2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C8E1C-540C-460D-A3A8-22D1917D7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7C3DF-3B71-4220-8822-0656A4575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33AFA-FCDF-4B86-8A34-665D96630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5C745-E30C-40A5-B65B-F1DC70D1F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B0299-5CF6-4C00-A09B-AB09B4E5FD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94C6F-8E38-40FA-BA62-61E63006DD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BBB6D0-2266-40E9-8673-6E2DF09605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76C6F-B4F3-4BFB-AF65-CF56918A77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9C6BB2-1720-47D3-80E3-F6547EB7A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CC720-1A0D-4087-A996-097CD3A21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980AA-29B6-4697-BC4F-F4805403C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60C203-33E9-45E9-8B5D-A66A3DB0B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692FA-19FB-4FC7-AA1D-2BABC035B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2542E-CFE5-4034-8E98-7A0968EB2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40905-3DA7-4DBC-8919-C329158FD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7A0DA-C6E6-4920-82CA-237B201AB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C3B66-B80C-4E08-8CDB-47C09BFDB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FB0A27-3AF9-4F97-A3DF-697543D1D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3942B-2208-4591-972F-A56E381DEA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0-</a:t>
            </a:r>
            <a:fld id="{29EB11CC-1406-4078-8B62-5FED0550CD09}" type="slidenum">
              <a:rPr b="1" lang="en-US" sz="1600" spc="-1" strike="noStrike">
                <a:solidFill>
                  <a:srgbClr val="ffffff"/>
                </a:solidFill>
                <a:latin typeface="Arial"/>
                <a:ea typeface="Tahoma"/>
              </a:rPr>
              <a:t>&lt;number&gt;</a:t>
            </a:fld>
            <a:endParaRPr b="0" i="1"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i="1"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i="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685E-DC49-44CB-A36E-111E8BD294F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14"/>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00" name="PlaceHolder 5"/>
          <p:cNvSpPr>
            <a:spLocks noGrp="1"/>
          </p:cNvSpPr>
          <p:nvPr>
            <p:ph type="sldNum" idx="15"/>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E230-4AC7-4424-80D9-E7350E56C4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435B-9E7F-488D-9C43-BDAD8A0F60A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0" name="PlaceHolder 4"/>
          <p:cNvSpPr>
            <a:spLocks noGrp="1"/>
          </p:cNvSpPr>
          <p:nvPr>
            <p:ph type="ftr" idx="17"/>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1" name="PlaceHolder 5"/>
          <p:cNvSpPr>
            <a:spLocks noGrp="1"/>
          </p:cNvSpPr>
          <p:nvPr>
            <p:ph type="sldNum" idx="18"/>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4B42-70B3-41E2-9772-F3FA68E9C9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8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149D-2E4C-4F09-ACAB-715CC1DDA831}" type="datetime">
              <a:rPr b="0" lang="en-US" sz="2400" spc="-1" strike="noStrike">
                <a:solidFill>
                  <a:srgbClr val="ffffff"/>
                </a:solidFill>
                <a:latin typeface="Times New Roman"/>
              </a:rPr>
              <a:t>07/31/26</a:t>
            </a:fld>
            <a:endParaRPr b="0" lang="en-US" sz="2400" spc="-1" strike="noStrike">
              <a:solidFill>
                <a:srgbClr val="000000"/>
              </a:solidFill>
              <a:latin typeface="Times New Roman"/>
            </a:endParaRPr>
          </a:p>
        </p:txBody>
      </p:sp>
      <p:sp>
        <p:nvSpPr>
          <p:cNvPr id="481" name="PlaceHolder 4"/>
          <p:cNvSpPr>
            <a:spLocks noGrp="1"/>
          </p:cNvSpPr>
          <p:nvPr>
            <p:ph type="ftr" idx="20"/>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2" name="PlaceHolder 5"/>
          <p:cNvSpPr>
            <a:spLocks noGrp="1"/>
          </p:cNvSpPr>
          <p:nvPr>
            <p:ph type="sldNum" idx="21"/>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6A00-6D82-425A-AFDD-19AF7F7FB6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0-</a:t>
            </a:r>
            <a:fld id="{39DBD6A1-A12B-4EEE-9A51-20CEBA54C02F}" type="slidenum">
              <a:rPr b="1" lang="en-US" sz="1600" spc="-1" strike="noStrike">
                <a:solidFill>
                  <a:srgbClr val="ffffff"/>
                </a:solidFill>
                <a:latin typeface="Arial"/>
                <a:ea typeface="Tahoma"/>
              </a:rPr>
              <a:t>&lt;number&gt;</a:t>
            </a:fld>
            <a:endParaRPr b="0" i="1"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i="1"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i="1"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90720" y="20570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en</a:t>
            </a:r>
            <a:endParaRPr b="1" lang="en-US" sz="3600" spc="-1" strike="noStrike">
              <a:solidFill>
                <a:srgbClr val="ffffff"/>
              </a:solidFill>
              <a:latin typeface="Arial"/>
            </a:endParaRPr>
          </a:p>
        </p:txBody>
      </p:sp>
      <p:sp>
        <p:nvSpPr>
          <p:cNvPr id="52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ing:</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erstanding and Capturing Customer Value</a:t>
            </a:r>
            <a:endParaRPr b="0" lang="en-US" sz="3200" spc="-1" strike="noStrike">
              <a:solidFill>
                <a:srgbClr val="ffffff"/>
              </a:solidFill>
              <a:latin typeface="Calibri"/>
            </a:endParaRPr>
          </a:p>
        </p:txBody>
      </p:sp>
      <p:sp>
        <p:nvSpPr>
          <p:cNvPr id="52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added pricing </a:t>
            </a:r>
            <a:r>
              <a:rPr b="0" lang="en-US" sz="3200" spc="-1" strike="noStrike">
                <a:solidFill>
                  <a:srgbClr val="ffffff"/>
                </a:solidFill>
                <a:latin typeface="Calibri"/>
              </a:rPr>
              <a:t>attaches value-added features and services to differentiate offers, support higher prices, and build pricing power</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66"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st-based pricing </a:t>
            </a:r>
            <a:r>
              <a:rPr b="0" lang="en-US" sz="3200" spc="-1" strike="noStrike">
                <a:solidFill>
                  <a:srgbClr val="ffffff"/>
                </a:solidFill>
                <a:latin typeface="Calibri"/>
              </a:rPr>
              <a:t> setting prices based on the costs for producing, distributing, and selling the product plus a fair rate of return for effort and risk</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st-based pricing adds a standard markup to the cost of the product</a:t>
            </a:r>
            <a:endParaRPr b="0" lang="en-US" sz="3200" spc="-1" strike="noStrike">
              <a:solidFill>
                <a:srgbClr val="ffffff"/>
              </a:solidFill>
              <a:latin typeface="Calibri"/>
            </a:endParaRPr>
          </a:p>
        </p:txBody>
      </p:sp>
      <p:sp>
        <p:nvSpPr>
          <p:cNvPr id="56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0" name=""/>
          <p:cNvSpPr txBox="1"/>
          <p:nvPr/>
        </p:nvSpPr>
        <p:spPr>
          <a:xfrm>
            <a:off x="1523880" y="1905120"/>
            <a:ext cx="64008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ixed costs</a:t>
            </a:r>
            <a:r>
              <a:rPr b="0" lang="en-US" sz="3200" spc="-1" strike="noStrike">
                <a:solidFill>
                  <a:srgbClr val="ffffff"/>
                </a:solidFill>
                <a:latin typeface="Calibri"/>
              </a:rPr>
              <a:t> are the costs that do not vary with production or sales level </a:t>
            </a:r>
            <a:endParaRPr b="0" lang="en-US" sz="32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n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a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es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ecutive salaries</a:t>
            </a:r>
            <a:endParaRPr b="0" lang="en-US" sz="2800" spc="-1" strike="noStrike">
              <a:solidFill>
                <a:srgbClr val="ffffff"/>
              </a:solidFill>
              <a:latin typeface="Calibri"/>
            </a:endParaRPr>
          </a:p>
        </p:txBody>
      </p:sp>
      <p:sp>
        <p:nvSpPr>
          <p:cNvPr id="57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st-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riable costs</a:t>
            </a:r>
            <a:r>
              <a:rPr b="0" lang="en-US" sz="3200" spc="-1" strike="noStrike">
                <a:solidFill>
                  <a:srgbClr val="ffffff"/>
                </a:solidFill>
                <a:latin typeface="Calibri"/>
              </a:rPr>
              <a:t> are the costs that vary with the level of production</a:t>
            </a:r>
            <a:endParaRPr b="0" lang="en-US" sz="32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ckaging</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w materials</a:t>
            </a:r>
            <a:endParaRPr b="0" lang="en-US" sz="2800" spc="-1" strike="noStrike">
              <a:solidFill>
                <a:srgbClr val="ffffff"/>
              </a:solidFill>
              <a:latin typeface="Calibri"/>
            </a:endParaRPr>
          </a:p>
        </p:txBody>
      </p:sp>
      <p:sp>
        <p:nvSpPr>
          <p:cNvPr id="57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8" name=""/>
          <p:cNvSpPr txBox="1"/>
          <p:nvPr/>
        </p:nvSpPr>
        <p:spPr>
          <a:xfrm>
            <a:off x="1066680" y="1981080"/>
            <a:ext cx="693432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otal costs</a:t>
            </a:r>
            <a:r>
              <a:rPr b="0" lang="en-US" sz="3200" spc="-1" strike="noStrike">
                <a:solidFill>
                  <a:srgbClr val="ffffff"/>
                </a:solidFill>
                <a:latin typeface="Calibri"/>
              </a:rPr>
              <a:t> are the sum of the fixed and variable costs for any given level of produc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82" name="PlaceHolder 2"/>
          <p:cNvSpPr>
            <a:spLocks noGrp="1"/>
          </p:cNvSpPr>
          <p:nvPr>
            <p:ph/>
          </p:nvPr>
        </p:nvSpPr>
        <p:spPr>
          <a:xfrm>
            <a:off x="15998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sts as a Function of Production Experienc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3" name="Picture 7" descr="fig10_03wo"/>
          <p:cNvPicPr/>
          <p:nvPr/>
        </p:nvPicPr>
        <p:blipFill>
          <a:blip r:embed="rId1"/>
          <a:stretch/>
        </p:blipFill>
        <p:spPr>
          <a:xfrm>
            <a:off x="1143000" y="2133720"/>
            <a:ext cx="7116840" cy="2963880"/>
          </a:xfrm>
          <a:prstGeom prst="rect">
            <a:avLst/>
          </a:prstGeom>
          <a:ln w="0">
            <a:noFill/>
          </a:ln>
        </p:spPr>
      </p:pic>
      <p:sp>
        <p:nvSpPr>
          <p:cNvPr id="5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86" name=""/>
          <p:cNvSpPr txBox="1"/>
          <p:nvPr/>
        </p:nvSpPr>
        <p:spPr>
          <a:xfrm>
            <a:off x="380880" y="1752480"/>
            <a:ext cx="777240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ence or learning curve is when average cost falls as production increases because fixed costs are spread over more units</a:t>
            </a:r>
            <a:endParaRPr b="0" lang="en-US" sz="2800" spc="-1" strike="noStrike">
              <a:solidFill>
                <a:srgbClr val="ffffff"/>
              </a:solidFill>
              <a:latin typeface="Calibri"/>
            </a:endParaRPr>
          </a:p>
        </p:txBody>
      </p:sp>
      <p:sp>
        <p:nvSpPr>
          <p:cNvPr id="58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8" name="Text Box 9"/>
          <p:cNvSpPr/>
          <p:nvPr/>
        </p:nvSpPr>
        <p:spPr>
          <a:xfrm>
            <a:off x="466200" y="1143000"/>
            <a:ext cx="796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s as a Function of Production Experience</a:t>
            </a:r>
            <a:endParaRPr b="0" i="1" lang="en-US" sz="2800" spc="-1" strike="noStrike">
              <a:solidFill>
                <a:srgbClr val="ffffff"/>
              </a:solidFill>
              <a:latin typeface="Arial"/>
            </a:endParaRPr>
          </a:p>
        </p:txBody>
      </p:sp>
      <p:pic>
        <p:nvPicPr>
          <p:cNvPr id="589" name="Picture 7" descr="fig10_04wo"/>
          <p:cNvPicPr/>
          <p:nvPr/>
        </p:nvPicPr>
        <p:blipFill>
          <a:blip r:embed="rId1"/>
          <a:stretch/>
        </p:blipFill>
        <p:spPr>
          <a:xfrm>
            <a:off x="2133720" y="3200400"/>
            <a:ext cx="4647960" cy="3133800"/>
          </a:xfrm>
          <a:prstGeom prst="rect">
            <a:avLst/>
          </a:prstGeom>
          <a:ln w="0">
            <a:noFill/>
          </a:ln>
        </p:spPr>
      </p:pic>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92" name=""/>
          <p:cNvSpPr txBox="1"/>
          <p:nvPr/>
        </p:nvSpPr>
        <p:spPr>
          <a:xfrm>
            <a:off x="1219320" y="1828440"/>
            <a:ext cx="7162560" cy="4267080"/>
          </a:xfrm>
          <a:prstGeom prst="rect">
            <a:avLst/>
          </a:prstGeom>
          <a:noFill/>
          <a:ln w="0">
            <a:noFill/>
          </a:ln>
        </p:spPr>
        <p:txBody>
          <a:bodyPr anchor="t">
            <a:normAutofit fontScale="95000"/>
          </a:bodyPr>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st-plus pricing adds a standard markup to the cost of the product</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a:t>
            </a:r>
            <a:endParaRPr b="0" lang="en-US" sz="32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llers are certain about costs</a:t>
            </a:r>
            <a:endParaRPr b="0" lang="en-US" sz="24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ices are similar in industry and price competition is minimized</a:t>
            </a:r>
            <a:endParaRPr b="0" lang="en-US" sz="24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yers feel it is fair</a:t>
            </a:r>
            <a:endParaRPr b="0" lang="en-US" sz="24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advantages</a:t>
            </a:r>
            <a:endParaRPr b="0" lang="en-US" sz="3200" spc="-1" strike="noStrike">
              <a:solidFill>
                <a:srgbClr val="ffffff"/>
              </a:solidFill>
              <a:latin typeface="Calibri"/>
            </a:endParaRPr>
          </a:p>
          <a:p>
            <a:pPr lvl="1" marL="705600" indent="-2714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gnores demand and competitor prices</a:t>
            </a:r>
            <a:endParaRPr b="0" lang="en-US" sz="28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Text Box 9"/>
          <p:cNvSpPr/>
          <p:nvPr/>
        </p:nvSpPr>
        <p:spPr>
          <a:xfrm>
            <a:off x="3217680" y="1219320"/>
            <a:ext cx="314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Plus Pricing</a:t>
            </a:r>
            <a:endParaRPr b="0" i="1" lang="en-US" sz="2800" spc="-1" strike="noStrike">
              <a:solidFill>
                <a:srgbClr val="ffffff"/>
              </a:solidFill>
              <a:latin typeface="Arial"/>
            </a:endParaRPr>
          </a:p>
        </p:txBody>
      </p:sp>
      <p:sp>
        <p:nvSpPr>
          <p:cNvPr id="5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97" name=""/>
          <p:cNvSpPr txBox="1"/>
          <p:nvPr/>
        </p:nvSpPr>
        <p:spPr>
          <a:xfrm>
            <a:off x="4419720" y="1905120"/>
            <a:ext cx="3657600" cy="3962160"/>
          </a:xfrm>
          <a:prstGeom prst="rect">
            <a:avLst/>
          </a:prstGeom>
          <a:noFill/>
          <a:ln w="0">
            <a:noFill/>
          </a:ln>
        </p:spPr>
        <p:txBody>
          <a:bodyPr anchor="t">
            <a:normAutofit fontScale="87000"/>
          </a:bodyPr>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eak-even pricing </a:t>
            </a:r>
            <a:r>
              <a:rPr b="0" lang="en-US" sz="2800" spc="-1" strike="noStrike">
                <a:solidFill>
                  <a:srgbClr val="ffffff"/>
                </a:solidFill>
                <a:latin typeface="Calibri"/>
              </a:rPr>
              <a:t>is the price at which total costs are equal to total revenue and there is no profit</a:t>
            </a:r>
            <a:endParaRPr b="0" lang="en-US" sz="2800" spc="-1" strike="noStrike">
              <a:solidFill>
                <a:srgbClr val="ffffff"/>
              </a:solidFill>
              <a:latin typeface="Calibri"/>
            </a:endParaRPr>
          </a:p>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arget return pricing </a:t>
            </a:r>
            <a:r>
              <a:rPr b="0" lang="en-US" sz="2800" spc="-1" strike="noStrike">
                <a:solidFill>
                  <a:srgbClr val="ffffff"/>
                </a:solidFill>
                <a:latin typeface="Calibri"/>
              </a:rPr>
              <a:t>is the price at which the firm will break even or make the profit</a:t>
            </a:r>
            <a:r>
              <a:rPr b="0" lang="en-US" sz="3200" spc="-1" strike="noStrike">
                <a:solidFill>
                  <a:srgbClr val="ffffff"/>
                </a:solidFill>
                <a:latin typeface="Calibri"/>
              </a:rPr>
              <a:t> </a:t>
            </a:r>
            <a:r>
              <a:rPr b="0" lang="en-US" sz="2800" spc="-1" strike="noStrike">
                <a:solidFill>
                  <a:srgbClr val="ffffff"/>
                </a:solidFill>
                <a:latin typeface="Calibri"/>
              </a:rPr>
              <a:t>it’s seeking</a:t>
            </a:r>
            <a:endParaRPr b="0" lang="en-US" sz="2800" spc="-1" strike="noStrike">
              <a:solidFill>
                <a:srgbClr val="ffffff"/>
              </a:solidFill>
              <a:latin typeface="Calibri"/>
            </a:endParaRPr>
          </a:p>
        </p:txBody>
      </p:sp>
      <p:sp>
        <p:nvSpPr>
          <p:cNvPr id="598" name="PlaceHolder 2"/>
          <p:cNvSpPr>
            <a:spLocks noGrp="1"/>
          </p:cNvSpPr>
          <p:nvPr>
            <p:ph/>
          </p:nvPr>
        </p:nvSpPr>
        <p:spPr>
          <a:xfrm>
            <a:off x="1142640" y="1142640"/>
            <a:ext cx="7010280" cy="685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Break-Even Analysis and Target Profit Pricing</a:t>
            </a:r>
            <a:endParaRPr b="0" lang="en-US" sz="2400" spc="-1" strike="noStrike">
              <a:solidFill>
                <a:srgbClr val="ffffff"/>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pic>
        <p:nvPicPr>
          <p:cNvPr id="600" name="" descr=""/>
          <p:cNvPicPr/>
          <p:nvPr/>
        </p:nvPicPr>
        <p:blipFill>
          <a:blip r:embed="rId1"/>
          <a:stretch/>
        </p:blipFill>
        <p:spPr>
          <a:xfrm>
            <a:off x="228600" y="1905120"/>
            <a:ext cx="4114800" cy="4243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602" name=""/>
          <p:cNvSpPr txBox="1"/>
          <p:nvPr/>
        </p:nvSpPr>
        <p:spPr>
          <a:xfrm>
            <a:off x="1142640" y="2057040"/>
            <a:ext cx="6629400" cy="396252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tting prices based on competitors’ strategies, costs, prices, and market offerings.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umers will base their judgments of a product’s value on the prices that competitors charge for similar products.</a:t>
            </a:r>
            <a:endParaRPr b="0" lang="en-US" sz="3200" spc="-1" strike="noStrike">
              <a:solidFill>
                <a:srgbClr val="ffffff"/>
              </a:solidFill>
              <a:latin typeface="Calibri"/>
            </a:endParaRPr>
          </a:p>
        </p:txBody>
      </p:sp>
      <p:sp>
        <p:nvSpPr>
          <p:cNvPr id="603" name="PlaceHolder 2"/>
          <p:cNvSpPr>
            <a:spLocks noGrp="1"/>
          </p:cNvSpPr>
          <p:nvPr>
            <p:ph/>
          </p:nvPr>
        </p:nvSpPr>
        <p:spPr>
          <a:xfrm>
            <a:off x="1142640" y="1142640"/>
            <a:ext cx="701028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alibri"/>
              </a:rPr>
              <a:t>Competition-based pricing</a:t>
            </a:r>
            <a:endParaRPr b="0" lang="en-US" sz="3200" spc="-1" strike="noStrike">
              <a:solidFill>
                <a:srgbClr val="ffffff"/>
              </a:solidFill>
              <a:latin typeface="Calibri"/>
            </a:endParaRPr>
          </a:p>
        </p:txBody>
      </p:sp>
      <p:sp>
        <p:nvSpPr>
          <p:cNvPr id="60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cing:</a:t>
            </a:r>
            <a:br>
              <a:rPr sz="3600"/>
            </a:br>
            <a:r>
              <a:rPr b="1" lang="en-US" sz="3600" spc="-1" strike="noStrike">
                <a:solidFill>
                  <a:srgbClr val="ffffff"/>
                </a:solidFill>
                <a:latin typeface="Arial"/>
              </a:rPr>
              <a:t>Understanding and </a:t>
            </a:r>
            <a:br>
              <a:rPr sz="3600"/>
            </a:br>
            <a:r>
              <a:rPr b="1" lang="en-US" sz="3600" spc="-1" strike="noStrike">
                <a:solidFill>
                  <a:srgbClr val="ffffff"/>
                </a:solidFill>
                <a:latin typeface="Arial"/>
              </a:rPr>
              <a:t>Capturing Customer Value</a:t>
            </a:r>
            <a:endParaRPr b="1" lang="en-US" sz="3600" spc="-1" strike="noStrike">
              <a:solidFill>
                <a:srgbClr val="ffffff"/>
              </a:solidFill>
              <a:latin typeface="Arial"/>
            </a:endParaRPr>
          </a:p>
        </p:txBody>
      </p:sp>
      <p:sp>
        <p:nvSpPr>
          <p:cNvPr id="530" name=""/>
          <p:cNvSpPr txBox="1"/>
          <p:nvPr/>
        </p:nvSpPr>
        <p:spPr>
          <a:xfrm>
            <a:off x="1599840" y="2361960"/>
            <a:ext cx="6629400" cy="335268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a Price?</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Pricing Strategie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ther Internal and External Considerations Affecting Price Decisions</a:t>
            </a:r>
            <a:endParaRPr b="0" lang="en-US" sz="2800" spc="-1" strike="noStrike">
              <a:solidFill>
                <a:srgbClr val="ffffff"/>
              </a:solidFill>
              <a:latin typeface="Calibri"/>
            </a:endParaRPr>
          </a:p>
        </p:txBody>
      </p:sp>
      <p:sp>
        <p:nvSpPr>
          <p:cNvPr id="531"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533160"/>
            <a:ext cx="7772400" cy="152388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3200"/>
            </a:br>
            <a:endParaRPr b="1" lang="en-US" sz="2800" spc="-1" strike="noStrike">
              <a:solidFill>
                <a:srgbClr val="ffffff"/>
              </a:solidFill>
              <a:latin typeface="Arial"/>
            </a:endParaRPr>
          </a:p>
        </p:txBody>
      </p:sp>
      <p:sp>
        <p:nvSpPr>
          <p:cNvPr id="606" name=""/>
          <p:cNvSpPr txBox="1"/>
          <p:nvPr/>
        </p:nvSpPr>
        <p:spPr>
          <a:xfrm>
            <a:off x="914040" y="1752120"/>
            <a:ext cx="7086600" cy="2971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costing</a:t>
            </a:r>
            <a:r>
              <a:rPr b="0" lang="en-US" sz="3200" spc="-1" strike="noStrike">
                <a:solidFill>
                  <a:srgbClr val="ffffff"/>
                </a:solidFill>
                <a:latin typeface="Calibri"/>
              </a:rPr>
              <a:t> starts with an ideal selling price based on consumer value considerations and then targets costs that will ensure that the price is met</a:t>
            </a:r>
            <a:endParaRPr b="0" lang="en-US" sz="3200" spc="-1" strike="noStrike">
              <a:solidFill>
                <a:srgbClr val="ffffff"/>
              </a:solidFill>
              <a:latin typeface="Calibri"/>
            </a:endParaRPr>
          </a:p>
        </p:txBody>
      </p:sp>
      <p:sp>
        <p:nvSpPr>
          <p:cNvPr id="60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2800"/>
            </a:br>
            <a:endParaRPr b="1" lang="en-US" sz="2800" spc="-1" strike="noStrike">
              <a:solidFill>
                <a:srgbClr val="ffffff"/>
              </a:solidFill>
              <a:latin typeface="Arial"/>
            </a:endParaRPr>
          </a:p>
        </p:txBody>
      </p:sp>
      <p:sp>
        <p:nvSpPr>
          <p:cNvPr id="609" name=""/>
          <p:cNvSpPr txBox="1"/>
          <p:nvPr/>
        </p:nvSpPr>
        <p:spPr>
          <a:xfrm>
            <a:off x="1143000" y="1981080"/>
            <a:ext cx="67816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ganizational considerations include:</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should set the price</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can influence the prices</a:t>
            </a:r>
            <a:endParaRPr b="0" lang="en-US" sz="3200" spc="-1" strike="noStrike">
              <a:solidFill>
                <a:srgbClr val="ffffff"/>
              </a:solidFill>
              <a:latin typeface="Calibri"/>
            </a:endParaRPr>
          </a:p>
        </p:txBody>
      </p:sp>
      <p:sp>
        <p:nvSpPr>
          <p:cNvPr id="61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Arial"/>
              </a:rPr>
              <a:t>Other Internal and External Considerations Affecting Price Decisions</a:t>
            </a:r>
            <a:br>
              <a:rPr sz="2800"/>
            </a:br>
            <a:endParaRPr b="1" lang="en-US" sz="2800" spc="-1" strike="noStrike">
              <a:solidFill>
                <a:srgbClr val="ffffff"/>
              </a:solidFill>
              <a:latin typeface="Arial"/>
            </a:endParaRPr>
          </a:p>
        </p:txBody>
      </p:sp>
      <p:sp>
        <p:nvSpPr>
          <p:cNvPr id="612" name=""/>
          <p:cNvSpPr txBox="1"/>
          <p:nvPr/>
        </p:nvSpPr>
        <p:spPr>
          <a:xfrm>
            <a:off x="837720" y="2362320"/>
            <a:ext cx="4496040" cy="403848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fore setting prices, the marketer must understand the relationship between price and demand for its products</a:t>
            </a:r>
            <a:endParaRPr b="0" lang="en-US" sz="3200" spc="-1" strike="noStrike">
              <a:solidFill>
                <a:srgbClr val="ffffff"/>
              </a:solidFill>
              <a:latin typeface="Calibri"/>
            </a:endParaRPr>
          </a:p>
        </p:txBody>
      </p:sp>
      <p:sp>
        <p:nvSpPr>
          <p:cNvPr id="613" name="PlaceHolder 2"/>
          <p:cNvSpPr>
            <a:spLocks noGrp="1"/>
          </p:cNvSpPr>
          <p:nvPr>
            <p:ph/>
          </p:nvPr>
        </p:nvSpPr>
        <p:spPr>
          <a:xfrm>
            <a:off x="837720" y="1828440"/>
            <a:ext cx="7162920" cy="762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he Market and Demand</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4" name="Picture 7" descr="ph10_08"/>
          <p:cNvPicPr/>
          <p:nvPr/>
        </p:nvPicPr>
        <p:blipFill>
          <a:blip r:embed="rId1"/>
          <a:stretch/>
        </p:blipFill>
        <p:spPr>
          <a:xfrm>
            <a:off x="5562720" y="2590920"/>
            <a:ext cx="2593800" cy="3047760"/>
          </a:xfrm>
          <a:prstGeom prst="rect">
            <a:avLst/>
          </a:prstGeom>
          <a:ln w="0">
            <a:noFill/>
          </a:ln>
        </p:spPr>
      </p:pic>
      <p:sp>
        <p:nvSpPr>
          <p:cNvPr id="61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 Affecting Price Decisions</a:t>
            </a:r>
            <a:endParaRPr b="1" lang="en-US" sz="2800" spc="-1" strike="noStrike">
              <a:solidFill>
                <a:srgbClr val="ffffff"/>
              </a:solidFill>
              <a:latin typeface="Arial"/>
            </a:endParaRPr>
          </a:p>
        </p:txBody>
      </p:sp>
      <p:pic>
        <p:nvPicPr>
          <p:cNvPr id="617" name="Content Placeholder 6" descr=""/>
          <p:cNvPicPr/>
          <p:nvPr/>
        </p:nvPicPr>
        <p:blipFill>
          <a:blip r:embed="rId1"/>
          <a:stretch/>
        </p:blipFill>
        <p:spPr>
          <a:xfrm>
            <a:off x="1792440" y="2792520"/>
            <a:ext cx="5413320" cy="3078000"/>
          </a:xfrm>
          <a:prstGeom prst="rect">
            <a:avLst/>
          </a:prstGeom>
          <a:ln w="0">
            <a:noFill/>
          </a:ln>
        </p:spPr>
      </p:pic>
      <p:sp>
        <p:nvSpPr>
          <p:cNvPr id="618" name="PlaceHolder 2"/>
          <p:cNvSpPr>
            <a:spLocks noGrp="1"/>
          </p:cNvSpPr>
          <p:nvPr>
            <p:ph/>
          </p:nvPr>
        </p:nvSpPr>
        <p:spPr>
          <a:xfrm>
            <a:off x="685800" y="1600200"/>
            <a:ext cx="73915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mpetition</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Other Internal and External Considerations Affecting Price Decisions</a:t>
            </a:r>
            <a:endParaRPr b="1" lang="en-US" sz="2800" spc="-1" strike="noStrike">
              <a:solidFill>
                <a:srgbClr val="ffffff"/>
              </a:solidFill>
              <a:latin typeface="Arial"/>
            </a:endParaRPr>
          </a:p>
        </p:txBody>
      </p:sp>
      <p:sp>
        <p:nvSpPr>
          <p:cNvPr id="621" name=""/>
          <p:cNvSpPr txBox="1"/>
          <p:nvPr/>
        </p:nvSpPr>
        <p:spPr>
          <a:xfrm>
            <a:off x="1143000" y="1904760"/>
            <a:ext cx="6934320" cy="4190760"/>
          </a:xfrm>
          <a:prstGeom prst="rect">
            <a:avLst/>
          </a:prstGeom>
          <a:noFill/>
          <a:ln w="0">
            <a:noFill/>
          </a:ln>
        </p:spPr>
        <p:txBody>
          <a:bodyPr anchor="t">
            <a:normAutofit fontScale="98000"/>
          </a:bodyPr>
          <a:p>
            <a:pPr marL="522720" indent="-522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22720" indent="-52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demand curve </a:t>
            </a:r>
            <a:r>
              <a:rPr b="0" lang="en-US" sz="2800" spc="-1" strike="noStrike">
                <a:solidFill>
                  <a:srgbClr val="ffffff"/>
                </a:solidFill>
                <a:latin typeface="Calibri"/>
              </a:rPr>
              <a:t>shows the number of units the market will buy in a given period at different price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rmally, demand and price are inversely related</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price = lower demand</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 prestige (luxury) goods, higher price can equal higher demand when consumers perceive higher prices as higher quality</a:t>
            </a:r>
            <a:endParaRPr b="0" lang="en-US" sz="2800" spc="-1" strike="noStrike">
              <a:solidFill>
                <a:srgbClr val="ffffff"/>
              </a:solidFill>
              <a:latin typeface="Calibri"/>
            </a:endParaRPr>
          </a:p>
        </p:txBody>
      </p:sp>
      <p:sp>
        <p:nvSpPr>
          <p:cNvPr id="62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600"/>
            <a:ext cx="7772400" cy="18288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ther Internal and External Considerations Affecting Price Decisions</a:t>
            </a:r>
            <a:br>
              <a:rPr sz="4000"/>
            </a:br>
            <a:endParaRPr b="1" lang="en-US" sz="4000" spc="-1" strike="noStrike">
              <a:solidFill>
                <a:srgbClr val="ffffff"/>
              </a:solidFill>
              <a:latin typeface="Arial"/>
            </a:endParaRPr>
          </a:p>
        </p:txBody>
      </p:sp>
      <p:pic>
        <p:nvPicPr>
          <p:cNvPr id="624" name="Picture 6" descr="fig10_06wo"/>
          <p:cNvPicPr/>
          <p:nvPr/>
        </p:nvPicPr>
        <p:blipFill>
          <a:blip r:embed="rId1"/>
          <a:stretch/>
        </p:blipFill>
        <p:spPr>
          <a:xfrm>
            <a:off x="228600" y="2286000"/>
            <a:ext cx="8153280" cy="4114800"/>
          </a:xfrm>
          <a:prstGeom prst="rect">
            <a:avLst/>
          </a:prstGeom>
          <a:ln w="0">
            <a:noFill/>
          </a:ln>
        </p:spPr>
      </p:pic>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3200"/>
            </a:br>
            <a:endParaRPr b="1" lang="en-US" sz="2800" spc="-1" strike="noStrike">
              <a:solidFill>
                <a:srgbClr val="ffffff"/>
              </a:solidFill>
              <a:latin typeface="Arial"/>
            </a:endParaRPr>
          </a:p>
        </p:txBody>
      </p:sp>
      <p:sp>
        <p:nvSpPr>
          <p:cNvPr id="627" name=""/>
          <p:cNvSpPr txBox="1"/>
          <p:nvPr/>
        </p:nvSpPr>
        <p:spPr>
          <a:xfrm>
            <a:off x="304560" y="1447920"/>
            <a:ext cx="8458200" cy="3200400"/>
          </a:xfrm>
          <a:prstGeom prst="rect">
            <a:avLst/>
          </a:prstGeom>
          <a:noFill/>
          <a:ln w="0">
            <a:noFill/>
          </a:ln>
        </p:spPr>
        <p:txBody>
          <a:bodyPr anchor="t">
            <a:normAutofit/>
          </a:bodyPr>
          <a:p>
            <a:pPr marL="533520" indent="-5335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ice elasticity of demand</a:t>
            </a:r>
            <a:r>
              <a:rPr b="0" lang="en-US" sz="2800" spc="-1" strike="noStrike">
                <a:solidFill>
                  <a:srgbClr val="ffffff"/>
                </a:solidFill>
                <a:latin typeface="Calibri"/>
              </a:rPr>
              <a:t> illustrates the response of demand to a change in price</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elastic demand</a:t>
            </a:r>
            <a:r>
              <a:rPr b="0" lang="en-US" sz="2800" spc="-1" strike="noStrike">
                <a:solidFill>
                  <a:srgbClr val="ffffff"/>
                </a:solidFill>
                <a:latin typeface="Calibri"/>
              </a:rPr>
              <a:t> occurs when demand hardly changes when there is a small change in price </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lastic demand</a:t>
            </a:r>
            <a:r>
              <a:rPr b="0" lang="en-US" sz="2800" spc="-1" strike="noStrike">
                <a:solidFill>
                  <a:srgbClr val="ffffff"/>
                </a:solidFill>
                <a:latin typeface="Calibri"/>
              </a:rPr>
              <a:t> occurs when demand changes greatly for a small change in price</a:t>
            </a:r>
            <a:endParaRPr b="0" lang="en-US" sz="2800" spc="-1" strike="noStrike">
              <a:solidFill>
                <a:srgbClr val="ffffff"/>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8" name="Rectangle 1"/>
          <p:cNvSpPr/>
          <p:nvPr/>
        </p:nvSpPr>
        <p:spPr>
          <a:xfrm>
            <a:off x="0" y="4495680"/>
            <a:ext cx="9144000" cy="126360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Price elasticity of demand </a:t>
            </a:r>
            <a:r>
              <a:rPr b="0" i="1" lang="en-US" sz="3200" spc="-1" strike="noStrike">
                <a:solidFill>
                  <a:srgbClr val="ffffff"/>
                </a:solidFill>
                <a:latin typeface="Calibri"/>
              </a:rPr>
              <a:t>=</a:t>
            </a:r>
            <a:endParaRPr b="0" i="1" lang="en-US" sz="3200" spc="-1" strike="noStrike">
              <a:solidFill>
                <a:srgbClr val="ffffff"/>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 </a:t>
            </a:r>
            <a:r>
              <a:rPr b="0" i="1" lang="en-US" sz="3200" spc="-1" strike="noStrike" u="sng">
                <a:solidFill>
                  <a:srgbClr val="ffffff"/>
                </a:solidFill>
                <a:uFillTx/>
                <a:latin typeface="Calibri"/>
              </a:rPr>
              <a:t>% change in quantity demand</a:t>
            </a:r>
            <a:endParaRPr b="0" i="1" lang="en-US" sz="3200" spc="-1" strike="noStrike">
              <a:solidFill>
                <a:srgbClr val="ffffff"/>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              </a:t>
            </a:r>
            <a:r>
              <a:rPr b="0" i="1" lang="en-US" sz="3200" spc="-1" strike="noStrike">
                <a:solidFill>
                  <a:srgbClr val="ffffff"/>
                </a:solidFill>
                <a:latin typeface="Calibri"/>
              </a:rPr>
              <a:t>% change in price</a:t>
            </a:r>
            <a:endParaRPr b="0" i="1" lang="en-US" sz="3200" spc="-1" strike="noStrike">
              <a:solidFill>
                <a:srgbClr val="ffffff"/>
              </a:solidFill>
              <a:latin typeface="Arial"/>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190512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Arial"/>
              </a:rPr>
              <a:t>Other Internal and External Consideration Affecting Price Decisions</a:t>
            </a:r>
            <a:br>
              <a:rPr sz="2800"/>
            </a:br>
            <a:endParaRPr b="1" lang="en-US" sz="2800" spc="-1" strike="noStrike">
              <a:solidFill>
                <a:srgbClr val="ffffff"/>
              </a:solidFill>
              <a:latin typeface="Arial"/>
            </a:endParaRPr>
          </a:p>
        </p:txBody>
      </p:sp>
      <p:pic>
        <p:nvPicPr>
          <p:cNvPr id="631" name="Content Placeholder 7" descr=""/>
          <p:cNvPicPr/>
          <p:nvPr/>
        </p:nvPicPr>
        <p:blipFill>
          <a:blip r:embed="rId1"/>
          <a:stretch/>
        </p:blipFill>
        <p:spPr>
          <a:xfrm>
            <a:off x="2036880" y="1974960"/>
            <a:ext cx="5254560" cy="4206600"/>
          </a:xfrm>
          <a:prstGeom prst="rect">
            <a:avLst/>
          </a:prstGeom>
          <a:ln w="0">
            <a:noFill/>
          </a:ln>
        </p:spPr>
      </p:pic>
      <p:sp>
        <p:nvSpPr>
          <p:cNvPr id="632"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3" name=""/>
          <p:cNvSpPr txBox="1"/>
          <p:nvPr/>
        </p:nvSpPr>
        <p:spPr>
          <a:xfrm>
            <a:off x="762120" y="2437920"/>
            <a:ext cx="7619760" cy="441972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e</a:t>
            </a:r>
            <a:r>
              <a:rPr b="0" lang="en-US" sz="3200" spc="-1" strike="noStrike">
                <a:solidFill>
                  <a:srgbClr val="ffffff"/>
                </a:solidFill>
                <a:latin typeface="Calibri"/>
              </a:rPr>
              <a:t> is the amount of money charged for a product or service. It is the sum of all the values that consumers give up in order to gain the benefits of having or using a product or servic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e</a:t>
            </a:r>
            <a:r>
              <a:rPr b="0" lang="en-US" sz="3200" spc="-1" strike="noStrike">
                <a:solidFill>
                  <a:srgbClr val="ffffff"/>
                </a:solidFill>
                <a:latin typeface="Calibri"/>
              </a:rPr>
              <a:t> is the only element in the marketing mix that produces revenue; all other elements represent costs</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ice?</a:t>
            </a:r>
            <a:endParaRPr b="1" lang="en-US" sz="3200" spc="-1" strike="noStrike">
              <a:solidFill>
                <a:srgbClr val="ffffff"/>
              </a:solidFill>
              <a:latin typeface="Arial"/>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
        <p:nvSpPr>
          <p:cNvPr id="538" name="PlaceHolder 2"/>
          <p:cNvSpPr>
            <a:spLocks noGrp="1"/>
          </p:cNvSpPr>
          <p:nvPr>
            <p:ph/>
          </p:nvPr>
        </p:nvSpPr>
        <p:spPr>
          <a:xfrm>
            <a:off x="685440" y="1600200"/>
            <a:ext cx="152280" cy="38088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Calibri"/>
            </a:endParaRPr>
          </a:p>
        </p:txBody>
      </p:sp>
      <p:pic>
        <p:nvPicPr>
          <p:cNvPr id="539" name="" descr=""/>
          <p:cNvPicPr/>
          <p:nvPr/>
        </p:nvPicPr>
        <p:blipFill>
          <a:blip r:embed="rId1"/>
          <a:stretch/>
        </p:blipFill>
        <p:spPr>
          <a:xfrm>
            <a:off x="533520" y="2286000"/>
            <a:ext cx="7772400" cy="30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41" name=""/>
          <p:cNvSpPr txBox="1"/>
          <p:nvPr/>
        </p:nvSpPr>
        <p:spPr>
          <a:xfrm>
            <a:off x="304560" y="1523880"/>
            <a:ext cx="5257800" cy="4267440"/>
          </a:xfrm>
          <a:prstGeom prst="rect">
            <a:avLst/>
          </a:prstGeom>
          <a:noFill/>
          <a:ln w="0">
            <a:noFill/>
          </a:ln>
        </p:spPr>
        <p:txBody>
          <a:bodyPr anchor="t">
            <a:normAutofit fontScale="96000"/>
          </a:bodyPr>
          <a:p>
            <a:pPr marL="511920" indent="-5119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based pricing</a:t>
            </a:r>
            <a:r>
              <a:rPr b="0" lang="en-US" sz="2800" spc="-1" strike="noStrike">
                <a:solidFill>
                  <a:srgbClr val="ffffff"/>
                </a:solidFill>
                <a:latin typeface="Calibri"/>
              </a:rPr>
              <a:t> uses the buyers’ perceptions of value, not the sellers cost, as the key to pricing</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lue-based pricing is customer driven</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st-based pricing is product driven</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ce is considered before the marketing program is set </a:t>
            </a: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pic>
        <p:nvPicPr>
          <p:cNvPr id="544" name="Picture 8" descr="ph10_02"/>
          <p:cNvPicPr/>
          <p:nvPr/>
        </p:nvPicPr>
        <p:blipFill>
          <a:blip r:embed="rId1"/>
          <a:stretch/>
        </p:blipFill>
        <p:spPr>
          <a:xfrm>
            <a:off x="5562720" y="2743200"/>
            <a:ext cx="2895480" cy="195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46"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7" name="Picture 6" descr="fig10_02wo"/>
          <p:cNvPicPr/>
          <p:nvPr/>
        </p:nvPicPr>
        <p:blipFill>
          <a:blip r:embed="rId1"/>
          <a:stretch/>
        </p:blipFill>
        <p:spPr>
          <a:xfrm>
            <a:off x="838080" y="2266920"/>
            <a:ext cx="7543800" cy="2610000"/>
          </a:xfrm>
          <a:prstGeom prst="rect">
            <a:avLst/>
          </a:prstGeom>
          <a:ln w="0">
            <a:noFill/>
          </a:ln>
        </p:spPr>
      </p:pic>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0" name=""/>
          <p:cNvSpPr txBox="1"/>
          <p:nvPr/>
        </p:nvSpPr>
        <p:spPr>
          <a:xfrm>
            <a:off x="990360" y="1980720"/>
            <a:ext cx="7086600" cy="266724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ood-value pricing</a:t>
            </a:r>
            <a:r>
              <a:rPr b="0" lang="en-US" sz="3200" spc="-1" strike="noStrike">
                <a:solidFill>
                  <a:srgbClr val="ffffff"/>
                </a:solidFill>
                <a:latin typeface="Calibri"/>
              </a:rPr>
              <a:t> </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offers the right combination of quality and good service at a fair price</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4" name=""/>
          <p:cNvSpPr txBox="1"/>
          <p:nvPr/>
        </p:nvSpPr>
        <p:spPr>
          <a:xfrm>
            <a:off x="685800" y="220968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veryday low pricing (EDLP) </a:t>
            </a:r>
            <a:r>
              <a:rPr b="0" lang="en-US" sz="3200" spc="-1" strike="noStrike">
                <a:solidFill>
                  <a:srgbClr val="ffffff"/>
                </a:solidFill>
                <a:latin typeface="Calibri"/>
              </a:rPr>
              <a:t>charging a constant everyday low price with few or no temporary price discounts</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8" name=""/>
          <p:cNvSpPr txBox="1"/>
          <p:nvPr/>
        </p:nvSpPr>
        <p:spPr>
          <a:xfrm>
            <a:off x="685800" y="2209680"/>
            <a:ext cx="7772400" cy="4114800"/>
          </a:xfrm>
          <a:prstGeom prst="rect">
            <a:avLst/>
          </a:prstGeom>
          <a:noFill/>
          <a:ln w="0">
            <a:noFill/>
          </a:ln>
        </p:spPr>
        <p:txBody>
          <a:bodyPr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low pricing </a:t>
            </a:r>
            <a:r>
              <a:rPr b="0" lang="en-US" sz="3200" spc="-1" strike="noStrike">
                <a:solidFill>
                  <a:srgbClr val="ffffff"/>
                </a:solidFill>
                <a:latin typeface="Calibri"/>
              </a:rPr>
              <a:t>charging higher prices on an everyday basis but running frequent promotions to lower prices temporarily on selected items</a:t>
            </a:r>
            <a:endParaRPr b="0" lang="en-US" sz="3200" spc="-1" strike="noStrike">
              <a:solidFill>
                <a:srgbClr val="ffffff"/>
              </a:solidFill>
              <a:latin typeface="Calibri"/>
            </a:endParaRPr>
          </a:p>
        </p:txBody>
      </p:sp>
      <p:sp>
        <p:nvSpPr>
          <p:cNvPr id="55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3:13:28Z</dcterms:created>
  <dc:creator>utter</dc:creator>
  <dc:description/>
  <dc:language>en-US</dc:language>
  <cp:lastModifiedBy>UKEIMAS</cp:lastModifiedBy>
  <cp:lastPrinted>2009-02-10T23:49:25Z</cp:lastPrinted>
  <dcterms:modified xsi:type="dcterms:W3CDTF">2013-12-27T20:59:01Z</dcterms:modified>
  <cp:revision>124</cp:revision>
  <dc:subject/>
  <dc:title>Slide 1</dc:title>
</cp:coreProperties>
</file>