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2D52E1-065E-4266-B2AF-ED0F005E5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CFC0F98-FBAE-4FEE-B860-65623AB4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27EB-8708-4FED-8C70-D9D522BDB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1467-6D81-4689-9A9C-4389835D8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FE51-DB14-45B2-88EC-925C6928C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434E-5F09-4457-9FA8-A91CD86B8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AB89D-626D-40EF-A00A-DB2F914F8C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B41B5-7263-4B26-BAED-D63FE9B209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54DAB-047E-416D-A3B2-7EA68EC048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6FA7A-BF7F-4706-8785-B7EE6C16D5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ECB9C-3629-4239-AD12-B4342C5C3B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48AAE-27AF-41BC-874F-CB1D68120C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290E2-8BC0-4A5E-B99D-84179C7794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FAE0-A000-4291-807A-20C139350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60B36-4138-4859-B8DE-90D312954E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49B62-7AC4-43FB-9A74-CB9BD92AC8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A1C24-166A-4115-9192-6C365C89E1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6CBEF-CA7F-417E-892D-5FFC339A50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757BC-1703-4E19-B5F4-99122981C6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D4E3-1F7E-4A0E-BEFF-477773642F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D78A-3568-4B18-BE50-633CB5FE2F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868A-5A7A-4DFC-B995-B9065514C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1F43-348E-423D-9A4D-244D7FFA9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97E8-D97C-41B1-B07E-B1BB3FD0B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2DDF-3541-4A29-9670-77C1B1EE1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BDE2-EBA3-4DD5-9427-FDDF73559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6A5-4E07-4894-9CB0-61D89F01D4F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5F2F-843F-4D83-A74F-79330B46DF2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5040" y="83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30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23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CB8FAF80-3D7D-463D-BF9D-EC58C2971FA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65040" y="1514520"/>
            <a:ext cx="8155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Verdana"/>
              </a:rPr>
              <a:t>Industrial-goods class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assified in terms of relative cost and how they enter the production proces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terials and part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 raw – tires in Aut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ital items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 buildings – generators 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lies and business service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 maintenance – lubrications – copiers repair- legal servic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ifferenti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37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differentiate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C9C25A03-CF32-4FF7-839D-BEFA70285F9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63600" y="1725480"/>
            <a:ext cx="721188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s can be differentiated in many ways, includ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 (shape- siz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qual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ormance qualit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ll products identical and meet promised specification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abilit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Operating lif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will not fail within specific tim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airabilit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easy to fi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yl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ook and fe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5070600" y="6072120"/>
            <a:ext cx="40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2003-2006 – 4.6 m km – 10.000 t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itle 1"/>
          <p:cNvSpPr/>
          <p:nvPr/>
        </p:nvSpPr>
        <p:spPr>
          <a:xfrm>
            <a:off x="353880" y="11113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Differe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4" descr="Untitled"/>
          <p:cNvPicPr/>
          <p:nvPr/>
        </p:nvPicPr>
        <p:blipFill>
          <a:blip r:embed="rId2"/>
          <a:stretch/>
        </p:blipFill>
        <p:spPr>
          <a:xfrm>
            <a:off x="6276960" y="4562640"/>
            <a:ext cx="259704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differentiate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61FBBFE5-E103-480D-B234-EE28869FD47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63600" y="1204920"/>
            <a:ext cx="79185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the physical product cannot easily be differentiated, the key to competitive success may lie in adding valued services and improving their qu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 differentiators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ing ease  (how easy to ord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very (speed and quality of delivery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ll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consul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enance and rep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344520" y="6541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ervices Differe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roduct and Brand Relationship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4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255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0C92C65F-A541-4C26-9792-A2B2E59326E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344520" y="108108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Product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0" name="Group 21"/>
          <p:cNvGrpSpPr/>
          <p:nvPr/>
        </p:nvGrpSpPr>
        <p:grpSpPr>
          <a:xfrm>
            <a:off x="1447920" y="1486080"/>
            <a:ext cx="6553080" cy="4883040"/>
            <a:chOff x="1447920" y="1486080"/>
            <a:chExt cx="6553080" cy="4883040"/>
          </a:xfrm>
        </p:grpSpPr>
        <p:sp>
          <p:nvSpPr>
            <p:cNvPr id="261" name="AutoShape 4"/>
            <p:cNvSpPr/>
            <p:nvPr/>
          </p:nvSpPr>
          <p:spPr>
            <a:xfrm>
              <a:off x="1447920" y="1648440"/>
              <a:ext cx="6553080" cy="4720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buClr>
                  <a:srgbClr val="000066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AutoShape 5"/>
            <p:cNvSpPr/>
            <p:nvPr/>
          </p:nvSpPr>
          <p:spPr>
            <a:xfrm>
              <a:off x="1905120" y="1648440"/>
              <a:ext cx="5638680" cy="4046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AutoShape 6"/>
            <p:cNvSpPr/>
            <p:nvPr/>
          </p:nvSpPr>
          <p:spPr>
            <a:xfrm>
              <a:off x="2286000" y="1689840"/>
              <a:ext cx="4876920" cy="3447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AutoShape 7"/>
            <p:cNvSpPr/>
            <p:nvPr/>
          </p:nvSpPr>
          <p:spPr>
            <a:xfrm>
              <a:off x="2701800" y="1679400"/>
              <a:ext cx="4038480" cy="2847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AutoShape 8"/>
            <p:cNvSpPr/>
            <p:nvPr/>
          </p:nvSpPr>
          <p:spPr>
            <a:xfrm>
              <a:off x="3245400" y="1604520"/>
              <a:ext cx="2971800" cy="2172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AutoShape 9"/>
            <p:cNvSpPr/>
            <p:nvPr/>
          </p:nvSpPr>
          <p:spPr>
            <a:xfrm>
              <a:off x="3733920" y="1486080"/>
              <a:ext cx="1981080" cy="1573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Text Box 10"/>
            <p:cNvSpPr/>
            <p:nvPr/>
          </p:nvSpPr>
          <p:spPr>
            <a:xfrm>
              <a:off x="2666880" y="580104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6"/>
                  </a:solidFill>
                  <a:latin typeface="Verdana"/>
                </a:rPr>
                <a:t>Need famil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3124080" y="5201640"/>
              <a:ext cx="32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6"/>
                  </a:solidFill>
                  <a:latin typeface="Verdana"/>
                </a:rPr>
                <a:t>Product famil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Text Box 12"/>
            <p:cNvSpPr/>
            <p:nvPr/>
          </p:nvSpPr>
          <p:spPr>
            <a:xfrm>
              <a:off x="3276720" y="460188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6"/>
                  </a:solidFill>
                  <a:latin typeface="Verdana"/>
                </a:rPr>
                <a:t>Product cla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Text Box 13"/>
            <p:cNvSpPr/>
            <p:nvPr/>
          </p:nvSpPr>
          <p:spPr>
            <a:xfrm>
              <a:off x="3352680" y="3927600"/>
              <a:ext cx="281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6"/>
                  </a:solidFill>
                  <a:latin typeface="Verdana"/>
                </a:rPr>
                <a:t>Product 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Text Box 14"/>
            <p:cNvSpPr/>
            <p:nvPr/>
          </p:nvSpPr>
          <p:spPr>
            <a:xfrm>
              <a:off x="3505320" y="317808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6"/>
                  </a:solidFill>
                  <a:latin typeface="Verdana"/>
                </a:rPr>
                <a:t>Product typ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Text Box 15"/>
            <p:cNvSpPr/>
            <p:nvPr/>
          </p:nvSpPr>
          <p:spPr>
            <a:xfrm>
              <a:off x="4267080" y="23540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274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1313C3B5-A56A-4BA1-A198-2ED7C7FDE73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324000" y="7477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Systems and Mix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system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group of diverse but related items that function in a compatible mann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mix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ists of various product li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any’s product mix has a certain: P&amp;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dth (different product line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gth  (total No it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th (variant of each produc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 (use, production, channel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281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CCCEFF2F-F1C4-4A6A-B740-378B00E3E8E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itle 1"/>
          <p:cNvSpPr/>
          <p:nvPr/>
        </p:nvSpPr>
        <p:spPr>
          <a:xfrm>
            <a:off x="324000" y="7477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Lin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les and profi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Product-line managers need to know the sales and profits of each item in their line in order to determine which items to build, maintain, harvest, or dives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 profi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Managers also need to understand each product line’s market profi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288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F1C275F9-7D75-460E-A65D-D6C4F340331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272880" y="34776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Lin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39840" y="89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Verdana"/>
              </a:rPr>
              <a:t>Sales and Prof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company can classify its products into four types that yield different gross margins, depending on sales volume and promo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030a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Core products  (lapto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030a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Staples (Memor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030a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Specialties (install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030a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Convenie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030a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Items (Accessorie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3859200" y="5718240"/>
            <a:ext cx="4956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2.3: Product-Item Contributions to a Product Line’s Total Sales and Profit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11" descr="image"/>
          <p:cNvPicPr/>
          <p:nvPr/>
        </p:nvPicPr>
        <p:blipFill>
          <a:blip r:embed="rId2"/>
          <a:stretch/>
        </p:blipFill>
        <p:spPr>
          <a:xfrm>
            <a:off x="3597120" y="2724120"/>
            <a:ext cx="5391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297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DF3DCE2B-1A0D-43B2-9DD8-8D01BACBE9B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itle 1"/>
          <p:cNvSpPr/>
          <p:nvPr/>
        </p:nvSpPr>
        <p:spPr>
          <a:xfrm>
            <a:off x="324000" y="7477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-Line L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company lengthens its product line in two way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ine stretch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own-Market Stret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Up-Market Stret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Two-Way Stret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ine fil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dding more items with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the present ran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15" descr=""/>
          <p:cNvPicPr/>
          <p:nvPr/>
        </p:nvPicPr>
        <p:blipFill>
          <a:blip r:embed="rId2"/>
          <a:stretch/>
        </p:blipFill>
        <p:spPr>
          <a:xfrm>
            <a:off x="4386240" y="2006640"/>
            <a:ext cx="3811680" cy="1711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859880" y="172080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306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3A15E47C-437E-4797-826F-234DDCCE53F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324000" y="7477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-Mix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product-mix pricing, the firm searches for a set of prices that maximizes profits on the total mi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are six situations calling for product-mix pric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t-line pricing (albassa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onal-feature pricing (ca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ptive-product pricing (Printers-4G+Ph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-part pricing (fixed fee + variable usag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-product pricing (sugar + was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t-bundling pricing (almaj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83160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-Branding and Ingredient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3" name="TextBox 5"/>
          <p:cNvGrpSpPr/>
          <p:nvPr/>
        </p:nvGrpSpPr>
        <p:grpSpPr>
          <a:xfrm>
            <a:off x="6334200" y="12600"/>
            <a:ext cx="2865240" cy="1328760"/>
            <a:chOff x="6334200" y="12600"/>
            <a:chExt cx="2865240" cy="1328760"/>
          </a:xfrm>
        </p:grpSpPr>
        <p:pic>
          <p:nvPicPr>
            <p:cNvPr id="31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ombine products to create strong co-brands or ingredient brand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74AB3FCF-2EAB-4313-B4AB-27C70656574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65040" y="1725480"/>
            <a:ext cx="8229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Co-Br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ters often combine their products with products from other companies in various w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s of co-branding inclu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  <a:ea typeface="Arial"/>
              </a:rPr>
              <a:t>Same company co-br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  <a:ea typeface="Arial"/>
              </a:rPr>
              <a:t>Joint-venture co-branding  (alforsan-samb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  <a:ea typeface="Arial"/>
              </a:rPr>
              <a:t>Multiple-sponsor co-branding skyteam alli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  <a:ea typeface="Arial"/>
              </a:rPr>
              <a:t>Retail co-branding  (fast food resturent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wo brands must separately have brand equity: adequate brand awareness and a sufficiently positive brand im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st important requirement is a logical fit between the bran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tting Produc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Untitled"/>
          <p:cNvPicPr/>
          <p:nvPr/>
        </p:nvPicPr>
        <p:blipFill>
          <a:blip r:embed="rId1"/>
          <a:stretch/>
        </p:blipFill>
        <p:spPr>
          <a:xfrm>
            <a:off x="3875040" y="2297160"/>
            <a:ext cx="44071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6" descr=""/>
          <p:cNvPicPr/>
          <p:nvPr/>
        </p:nvPicPr>
        <p:blipFill>
          <a:blip r:embed="rId1"/>
          <a:stretch/>
        </p:blipFill>
        <p:spPr>
          <a:xfrm>
            <a:off x="458640" y="5124600"/>
            <a:ext cx="7801200" cy="9522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560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-Branding and Ingredient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1" name="TextBox 5"/>
          <p:cNvGrpSpPr/>
          <p:nvPr/>
        </p:nvGrpSpPr>
        <p:grpSpPr>
          <a:xfrm>
            <a:off x="6334200" y="12600"/>
            <a:ext cx="2865240" cy="1328760"/>
            <a:chOff x="6334200" y="12600"/>
            <a:chExt cx="2865240" cy="1328760"/>
          </a:xfrm>
        </p:grpSpPr>
        <p:pic>
          <p:nvPicPr>
            <p:cNvPr id="322" name="TextBox 5" descr=""/>
            <p:cNvPicPr/>
            <p:nvPr/>
          </p:nvPicPr>
          <p:blipFill>
            <a:blip r:embed="rId2"/>
            <a:stretch/>
          </p:blipFill>
          <p:spPr>
            <a:xfrm>
              <a:off x="6334200" y="1260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ombine products to create strong co-brands or ingredient brand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99DAFFB0-1C20-473D-987D-B292E75B7AA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65040" y="1725480"/>
            <a:ext cx="50482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Ingredient Br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gredient branding is a special case of co-brand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t creates brand equity for materials, components, or parts that are contained within other branded products. (intel + Ketchup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5568840" y="3552840"/>
            <a:ext cx="325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Moroccanoil’s ingredient brand, Argan Oil, opened up opportunities for other products in the beauty industry, to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786800" y="506736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5" descr="Untitled"/>
          <p:cNvPicPr/>
          <p:nvPr/>
        </p:nvPicPr>
        <p:blipFill>
          <a:blip r:embed="rId4"/>
          <a:stretch/>
        </p:blipFill>
        <p:spPr>
          <a:xfrm>
            <a:off x="5540400" y="1371600"/>
            <a:ext cx="30481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ackaging, Labeling, Warranties,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nd Guarante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31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3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F0DE9EAA-64DC-4707-91D0-E96819B7364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374760" y="1749600"/>
            <a:ext cx="8146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95280" y="2400480"/>
            <a:ext cx="7010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ckag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ometimes called the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, is all the activities of designing and producing the container for a produ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3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44BA368B-53B8-4CAB-99F8-EF1CBCC735E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11040" y="938160"/>
            <a:ext cx="8148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395280" y="1682640"/>
            <a:ext cx="701028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rious factors have contributed to the growing use of packaging as a marketing too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afflu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y/brand im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novation opportunity  (Heinz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4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48E95B8D-5AD5-4C3C-8AFD-A4CDCB9CB72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322200" y="938160"/>
            <a:ext cx="81471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43080" y="1849320"/>
            <a:ext cx="701028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ckaging must achieve certain objectives, both for the company and for consumer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Identify the 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Convey descriptive and  persuasiv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Facilitate product  transportation and pro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Assist at-home sto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Aid product consum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5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F6C0216E-C68D-4CFB-BB94-ACD9739E248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343080" y="917640"/>
            <a:ext cx="8148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Lab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65040" y="1620720"/>
            <a:ext cx="82296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abel might perform several func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ies the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es the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s the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s the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6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076BCD14-65BD-4957-907D-6CB4613D49C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31920" y="949320"/>
            <a:ext cx="8148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arranties and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353880" y="1703520"/>
            <a:ext cx="822960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arranti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formal statements of expected product performance by the manufacture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ducts under warranty can be returned to the manufacturer for repair, replacement, or refu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arranties are legally enforceab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Guarante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many sellers offer general or specific guarante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l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“If you are not satisfied for any reason, return for replacement, exchange, or refund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ecific: guaranteeing a particular service if a problem ari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6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F4707D7C-781B-43FB-8D7A-8E7DEDFA46F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331920" y="949320"/>
            <a:ext cx="8148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arranties and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353880" y="1703520"/>
            <a:ext cx="822960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rketing advantag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uarantees reduce the buyer’s perceived ris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y suggest that the product is of high quality and that the company and its service performance are dependabl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pecially helpful when the company or product is not that well known or when the product’s quality is superior to competi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ya 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7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rbi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i Haider / ep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0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rbi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rnd Weissbrod / dp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iationimages.com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 Wagn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7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Industrial Product Policy: Managing the Existing Product Line”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Marketing Science Institute Report No. 77–110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enson P. Shapiro), copyright © 2003. Reprinted by permission of Marketing Science Institute and Benson P. Shapi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2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amy Image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12-</a:t>
            </a:r>
            <a:fld id="{528C21EF-27EA-4CD3-B28F-340F218952E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87264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9360" y="1565280"/>
            <a:ext cx="7594560" cy="4378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characteristics of products and how do marketers classify product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companies differentiate produc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a company build and manage its product mix and product lin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companies combine products to create strong co-brands or ingredient bran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companies use packaging, labeling, warranties, and guarantees as marketing too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roduct Characteristics an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98B6262D-5F55-4D66-A2E8-A50CD67C6BB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is a produ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nything that can be offered to a market to satisfy a want or need, including physical goods, services, experiences, events, persons, places, properties, organizations, information, and ide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roduct Characteristics an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9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1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5E8482E6-F31B-4240-8D25-AD89FBFE6A9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510160" y="2008080"/>
            <a:ext cx="27529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ustomer will judge the offering by three basic elements, as shown in Fig. 12.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5438880" y="3843360"/>
            <a:ext cx="256068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2.1: Components of the Market Offering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11" descr="image"/>
          <p:cNvPicPr/>
          <p:nvPr/>
        </p:nvPicPr>
        <p:blipFill>
          <a:blip r:embed="rId2"/>
          <a:stretch/>
        </p:blipFill>
        <p:spPr>
          <a:xfrm>
            <a:off x="130320" y="1270080"/>
            <a:ext cx="51307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5040" y="70596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Levels: The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-Value Hierarch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98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1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CBAA4CE2-9E27-4185-A0CD-C137FD5ECEA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379760" y="1795320"/>
            <a:ext cx="4413240" cy="35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planning its market offering, the marketer needs to address five product level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- Really buy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-Specific actual produc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-Atrributes expect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- Feature go beyond expec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5- al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4525920" y="5594400"/>
            <a:ext cx="6149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2.2: Five Product Leve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11" descr="image"/>
          <p:cNvPicPr/>
          <p:nvPr/>
        </p:nvPicPr>
        <p:blipFill>
          <a:blip r:embed="rId2"/>
          <a:stretch/>
        </p:blipFill>
        <p:spPr>
          <a:xfrm>
            <a:off x="324000" y="2135160"/>
            <a:ext cx="40557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5040" y="83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7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20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A8E3B9CE-0489-420D-BA49-704A6B351C0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65040" y="1795320"/>
            <a:ext cx="82296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ers classify products on the basis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urability and tang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(consumer or industri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5040" y="83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14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21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EA76F836-F868-420E-BE6B-3054F4D5880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65040" y="1390680"/>
            <a:ext cx="53388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Verdana"/>
              </a:rPr>
              <a:t>Durability and Tang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groups of produc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durable goods – tangible goods consumed in one or a few uses (e.g. tea, soa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urable goods – tangible goods that survive many uses (e.g. refrigerators, cloth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s – intangible, variable, perishable (e.g. haircuts, legal advice, appliance repai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4572000" y="5288040"/>
            <a:ext cx="407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Marketers rely on well-trained salespeople to help customers compare quality and features of shopping goods, such as appli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12" descr="image"/>
          <p:cNvPicPr/>
          <p:nvPr/>
        </p:nvPicPr>
        <p:blipFill>
          <a:blip r:embed="rId2"/>
          <a:stretch/>
        </p:blipFill>
        <p:spPr>
          <a:xfrm>
            <a:off x="5508720" y="3213000"/>
            <a:ext cx="30477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83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3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22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918DC4F8-3BE1-44B4-9D3C-24EBE6AED76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65040" y="1514520"/>
            <a:ext cx="8155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Verdana"/>
              </a:rPr>
              <a:t>Consumer-goods class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assified on the basis of shopping habi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venience goods 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requently with minimum effor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pping goods 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mpares (Quality-Price-sty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ecialty goods 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nique- brand identifications with eff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sought goods 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t normally think about (smoke detector- life insurance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1-14T14:33:01Z</dcterms:modified>
  <cp:revision>46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