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0C611B5-A176-4FEC-882B-05D05A81A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620924F-077E-4AC4-A9AF-5B367BBCB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4AA1-6228-4EFB-98B5-6BD0D4BFB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AD09-D6A8-4C39-A6CF-C89CF3899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3BDC-21C4-4C37-8C02-1F50E696F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4143-1B10-4019-90CD-938BCD484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75D90-0946-48FE-958E-F514FEF0E8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CF7F4-C884-4597-A48D-564494808F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7B9E5-55CA-40EB-BF94-A62289422E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28CF2-692A-497F-96FA-0051E911DD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3B4AA-5074-43AD-9C15-8693FAB1B6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FD606-3A48-4C57-8408-EB5E8D986C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31F5F-744B-422B-8B84-5819A4E46A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947B-B5EE-4BD5-A9A4-1D144D253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5BABA-BB68-48C4-99A3-E323ACAE06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A7CFD-2E5C-4FFA-AB13-D842BBD0F9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E7E37-CF93-49BD-A545-ECDD87323D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6E930-3979-4244-A414-3A444117FF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B5F83-706E-493D-81C2-6427254A6E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8ABC-C025-439E-91B5-1B762EFD6A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0EDF-41FE-49EE-B570-C6D47BBA27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0EC7-D4FF-457F-9A4D-2D532810F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40E3-730E-483D-9E54-8BB00A8D6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0C8A-7167-4C46-9EA8-64DD168E5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DBF5-FD0A-4A13-A000-FC314C284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ABAD-D26B-4D84-B007-E669562F4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586B-A57F-49B2-B809-40AFE4AC54A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79EE-345D-4379-BD33-5554153A7E1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5040" y="83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30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23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CD81DC4A-5FFB-4B5E-823F-45B5C30F4EE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65040" y="1514520"/>
            <a:ext cx="8155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Verdana"/>
              </a:rPr>
              <a:t>Industrial-goods class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assified in terms of relative cost and how they enter the production proces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terials and part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 raw – tires in Aut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pital items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 buildings – generators 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lies and business service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 maintenance – lubrications – copiers repair- legal servic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ifferentia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37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differentiate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8733A78F-269D-417A-803C-53A546E584C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63600" y="1725480"/>
            <a:ext cx="721188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s can be differentiated in many ways, includ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 (shape- siz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qual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ormance qualit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ll products identical and meet promised specification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abilit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Operating lif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will not fail within specific tim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airability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easy to fi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yl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ook and fe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5070600" y="6072120"/>
            <a:ext cx="40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2003-2006 – 4.6 m km – 10.000 t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itle 1"/>
          <p:cNvSpPr/>
          <p:nvPr/>
        </p:nvSpPr>
        <p:spPr>
          <a:xfrm>
            <a:off x="353880" y="11113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Differe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4" descr="Untitled"/>
          <p:cNvPicPr/>
          <p:nvPr/>
        </p:nvPicPr>
        <p:blipFill>
          <a:blip r:embed="rId2"/>
          <a:stretch/>
        </p:blipFill>
        <p:spPr>
          <a:xfrm>
            <a:off x="6276960" y="4562640"/>
            <a:ext cx="259704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differentiate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E7505394-F087-475D-83CF-0C455CA1AE9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63600" y="1204920"/>
            <a:ext cx="79185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the physical product cannot easily be differentiated, the key to competitive success may lie in adding valued services and improving their qu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 differentiators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ing ease  (how easy to ord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very (speed and quality of delivery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ll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consul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enance and rep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344520" y="6541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Services Differe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roduct and Brand Relationship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4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255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8E8C9B93-1895-4BE1-BDB3-BE7F97E0B81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344520" y="108108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Product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0" name="Group 21"/>
          <p:cNvGrpSpPr/>
          <p:nvPr/>
        </p:nvGrpSpPr>
        <p:grpSpPr>
          <a:xfrm>
            <a:off x="1447920" y="1486080"/>
            <a:ext cx="6553080" cy="4883040"/>
            <a:chOff x="1447920" y="1486080"/>
            <a:chExt cx="6553080" cy="4883040"/>
          </a:xfrm>
        </p:grpSpPr>
        <p:sp>
          <p:nvSpPr>
            <p:cNvPr id="261" name="AutoShape 4"/>
            <p:cNvSpPr/>
            <p:nvPr/>
          </p:nvSpPr>
          <p:spPr>
            <a:xfrm>
              <a:off x="1447920" y="1648440"/>
              <a:ext cx="6553080" cy="4720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buClr>
                  <a:srgbClr val="000066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AutoShape 5"/>
            <p:cNvSpPr/>
            <p:nvPr/>
          </p:nvSpPr>
          <p:spPr>
            <a:xfrm>
              <a:off x="1905120" y="1648440"/>
              <a:ext cx="5638680" cy="4046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AutoShape 6"/>
            <p:cNvSpPr/>
            <p:nvPr/>
          </p:nvSpPr>
          <p:spPr>
            <a:xfrm>
              <a:off x="2286000" y="1689840"/>
              <a:ext cx="4876920" cy="3447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AutoShape 7"/>
            <p:cNvSpPr/>
            <p:nvPr/>
          </p:nvSpPr>
          <p:spPr>
            <a:xfrm>
              <a:off x="2701800" y="1679400"/>
              <a:ext cx="4038480" cy="2847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AutoShape 8"/>
            <p:cNvSpPr/>
            <p:nvPr/>
          </p:nvSpPr>
          <p:spPr>
            <a:xfrm>
              <a:off x="3245400" y="1604520"/>
              <a:ext cx="2971800" cy="2172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AutoShape 9"/>
            <p:cNvSpPr/>
            <p:nvPr/>
          </p:nvSpPr>
          <p:spPr>
            <a:xfrm>
              <a:off x="3733920" y="1486080"/>
              <a:ext cx="1981080" cy="1573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dd4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e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Text Box 10"/>
            <p:cNvSpPr/>
            <p:nvPr/>
          </p:nvSpPr>
          <p:spPr>
            <a:xfrm>
              <a:off x="2666880" y="580104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6"/>
                  </a:solidFill>
                  <a:latin typeface="Verdana"/>
                </a:rPr>
                <a:t>Need famil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3124080" y="5201640"/>
              <a:ext cx="32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6"/>
                  </a:solidFill>
                  <a:latin typeface="Verdana"/>
                </a:rPr>
                <a:t>Product famil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Text Box 12"/>
            <p:cNvSpPr/>
            <p:nvPr/>
          </p:nvSpPr>
          <p:spPr>
            <a:xfrm>
              <a:off x="3276720" y="460188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6"/>
                  </a:solidFill>
                  <a:latin typeface="Verdana"/>
                </a:rPr>
                <a:t>Product cla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Text Box 13"/>
            <p:cNvSpPr/>
            <p:nvPr/>
          </p:nvSpPr>
          <p:spPr>
            <a:xfrm>
              <a:off x="3352680" y="3927600"/>
              <a:ext cx="281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6"/>
                  </a:solidFill>
                  <a:latin typeface="Verdana"/>
                </a:rPr>
                <a:t>Product 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Text Box 14"/>
            <p:cNvSpPr/>
            <p:nvPr/>
          </p:nvSpPr>
          <p:spPr>
            <a:xfrm>
              <a:off x="3505320" y="317808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6"/>
                  </a:solidFill>
                  <a:latin typeface="Verdana"/>
                </a:rPr>
                <a:t>Product typ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Text Box 15"/>
            <p:cNvSpPr/>
            <p:nvPr/>
          </p:nvSpPr>
          <p:spPr>
            <a:xfrm>
              <a:off x="4267080" y="23540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274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BA7E206A-5D53-449A-BC48-AE517F32D25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324000" y="7477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Systems and Mix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system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group of diverse but related items that function in a compatible mann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mix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ists of various product li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any’s product mix has a certain: P&amp;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dth (different product line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ngth  (total No it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th (variant of each produc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 (use, production, channel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281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232CFFF1-3C09-4F2D-8176-79790C614DE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itle 1"/>
          <p:cNvSpPr/>
          <p:nvPr/>
        </p:nvSpPr>
        <p:spPr>
          <a:xfrm>
            <a:off x="324000" y="7477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Lin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les and profi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Product-line managers need to know the sales and profits of each item in their line in order to determine which items to build, maintain, harvest, or dives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 profi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Managers also need to understand each product line’s market profi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288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980D9801-29E0-4849-9B81-3495F5F3BA6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272880" y="34776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Lin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39840" y="89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Verdana"/>
              </a:rPr>
              <a:t>Sales and Prof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company can classify its products into four types that yield different gross margins, depending on sales volume and promo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030a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Core products  (lapto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030a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Staples (Memor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030a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Specialties (install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030a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Convenie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7030a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Items (Accessorie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3859200" y="5718240"/>
            <a:ext cx="4956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2.3: Product-Item Contributions to a Product Line’s Total Sales and Profit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11" descr="image"/>
          <p:cNvPicPr/>
          <p:nvPr/>
        </p:nvPicPr>
        <p:blipFill>
          <a:blip r:embed="rId2"/>
          <a:stretch/>
        </p:blipFill>
        <p:spPr>
          <a:xfrm>
            <a:off x="3597120" y="2724120"/>
            <a:ext cx="5391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297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AEBD3CC3-F4B2-47E4-8F86-C918944E606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itle 1"/>
          <p:cNvSpPr/>
          <p:nvPr/>
        </p:nvSpPr>
        <p:spPr>
          <a:xfrm>
            <a:off x="324000" y="7477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-Line L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company lengthens its product line in two way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ine stretch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own-Market Stret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Up-Market Stret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Two-Way Stret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ine fil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dding more items with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the present ran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15" descr=""/>
          <p:cNvPicPr/>
          <p:nvPr/>
        </p:nvPicPr>
        <p:blipFill>
          <a:blip r:embed="rId2"/>
          <a:stretch/>
        </p:blipFill>
        <p:spPr>
          <a:xfrm>
            <a:off x="4386240" y="2006640"/>
            <a:ext cx="3811680" cy="1711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859880" y="172080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TextBox 5"/>
          <p:cNvGrpSpPr/>
          <p:nvPr/>
        </p:nvGrpSpPr>
        <p:grpSpPr>
          <a:xfrm>
            <a:off x="6321600" y="12600"/>
            <a:ext cx="2901600" cy="1114560"/>
            <a:chOff x="6321600" y="12600"/>
            <a:chExt cx="2901600" cy="1114560"/>
          </a:xfrm>
        </p:grpSpPr>
        <p:pic>
          <p:nvPicPr>
            <p:cNvPr id="306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1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a company build and manage its product mix and product line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95BBC460-DF38-4DDE-A0CE-287292E51D0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324000" y="74772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-Mix Pri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product-mix pricing, the firm searches for a set of prices that maximizes profits on the total mi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are six situations calling for product-mix pric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t-line pricing (albassa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onal-feature pricing (ca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ptive-product pricing (Printers-4G+Ph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-part pricing (fixed fee + variable usag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-product pricing (sugar + was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t-bundling pricing (almaj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83160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-Branding and Ingredient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3" name="TextBox 5"/>
          <p:cNvGrpSpPr/>
          <p:nvPr/>
        </p:nvGrpSpPr>
        <p:grpSpPr>
          <a:xfrm>
            <a:off x="6334200" y="12600"/>
            <a:ext cx="2865240" cy="1328760"/>
            <a:chOff x="6334200" y="12600"/>
            <a:chExt cx="2865240" cy="1328760"/>
          </a:xfrm>
        </p:grpSpPr>
        <p:pic>
          <p:nvPicPr>
            <p:cNvPr id="31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ombine products to create strong co-brands or ingredient brand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CC1D2412-BB74-408E-86EE-D00D21E0BF4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65040" y="1725480"/>
            <a:ext cx="8229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Co-Br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ters often combine their products with products from other companies in various w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s of co-branding inclu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  <a:ea typeface="Arial"/>
              </a:rPr>
              <a:t>Same company co-br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  <a:ea typeface="Arial"/>
              </a:rPr>
              <a:t>Joint-venture co-branding  (alforsan-samb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  <a:ea typeface="Arial"/>
              </a:rPr>
              <a:t>Multiple-sponsor co-branding skyteam alli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7030a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Verdana"/>
                <a:ea typeface="Arial"/>
              </a:rPr>
              <a:t>Retail co-branding  (fast food resturent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wo brands must separately have brand equity: adequate brand awareness and a sufficiently positive brand im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st important requirement is a logical fit between the bran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tting Produc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Untitled"/>
          <p:cNvPicPr/>
          <p:nvPr/>
        </p:nvPicPr>
        <p:blipFill>
          <a:blip r:embed="rId1"/>
          <a:stretch/>
        </p:blipFill>
        <p:spPr>
          <a:xfrm>
            <a:off x="3875040" y="2297160"/>
            <a:ext cx="44071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6" descr=""/>
          <p:cNvPicPr/>
          <p:nvPr/>
        </p:nvPicPr>
        <p:blipFill>
          <a:blip r:embed="rId1"/>
          <a:stretch/>
        </p:blipFill>
        <p:spPr>
          <a:xfrm>
            <a:off x="458640" y="5124600"/>
            <a:ext cx="7801200" cy="9522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560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-Branding and Ingredient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ing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1" name="TextBox 5"/>
          <p:cNvGrpSpPr/>
          <p:nvPr/>
        </p:nvGrpSpPr>
        <p:grpSpPr>
          <a:xfrm>
            <a:off x="6334200" y="12600"/>
            <a:ext cx="2865240" cy="1328760"/>
            <a:chOff x="6334200" y="12600"/>
            <a:chExt cx="2865240" cy="1328760"/>
          </a:xfrm>
        </p:grpSpPr>
        <p:pic>
          <p:nvPicPr>
            <p:cNvPr id="322" name="TextBox 5" descr=""/>
            <p:cNvPicPr/>
            <p:nvPr/>
          </p:nvPicPr>
          <p:blipFill>
            <a:blip r:embed="rId2"/>
            <a:stretch/>
          </p:blipFill>
          <p:spPr>
            <a:xfrm>
              <a:off x="6334200" y="1260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ombine products to create strong co-brands or ingredient brand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0846BC29-9379-4481-A247-98B5B65AA4C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65040" y="1725480"/>
            <a:ext cx="50482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2060"/>
                </a:solidFill>
                <a:latin typeface="Verdana"/>
              </a:rPr>
              <a:t>Ingredient Bra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gredient branding is a special case of co-brand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t creates brand equity for materials, components, or parts that are contained within other branded products. (intel + Ketchup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5568840" y="3552840"/>
            <a:ext cx="325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Moroccanoil’s ingredient brand, Argan Oil, opened up opportunities for other products in the beauty industry, to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786800" y="506736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5" descr="Untitled"/>
          <p:cNvPicPr/>
          <p:nvPr/>
        </p:nvPicPr>
        <p:blipFill>
          <a:blip r:embed="rId4"/>
          <a:stretch/>
        </p:blipFill>
        <p:spPr>
          <a:xfrm>
            <a:off x="5540400" y="1371600"/>
            <a:ext cx="30481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ackaging, Labeling, Warranties,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nd Guarante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31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3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2AF8A9CD-DDF7-453E-A0C3-93BCA5C29D6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374760" y="1749600"/>
            <a:ext cx="8146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95280" y="2400480"/>
            <a:ext cx="7010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ckag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ometimes called the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, is all the activities of designing and producing the container for a produ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3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B58E76D1-9893-4986-AD3F-F4FE533819F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11040" y="938160"/>
            <a:ext cx="8148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395280" y="1682640"/>
            <a:ext cx="701028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rious factors have contributed to the growing use of packaging as a marketing too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afflu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y/brand im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novation opportunity  (Heinz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4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EB3F8194-D129-4559-A24C-88FA1CD8041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322200" y="938160"/>
            <a:ext cx="81471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343080" y="1849320"/>
            <a:ext cx="701028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ckaging must achieve certain objectives, both for the company and for consumer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Identify the br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Convey descriptive and  persuasiv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Facilitate product  transportation and pro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Assist at-home sto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Verdana"/>
              </a:rPr>
              <a:t>Aid product consum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5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6D200C46-AE41-4306-B9B2-B1F204A2C67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343080" y="917640"/>
            <a:ext cx="8148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Lab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65040" y="1620720"/>
            <a:ext cx="82296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abel might perform several func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ies the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es the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s the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s the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6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37EA92C1-7023-4D35-8DF5-7696A81078C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31920" y="949320"/>
            <a:ext cx="8148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arranties and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353880" y="1703520"/>
            <a:ext cx="822960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arranti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formal statements of expected product performance by the manufacture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ducts under warranty can be returned to the manufacturer for repair, replacement, or refu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arranties are legally enforceab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Guarante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many sellers offer general or specific guarante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l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“If you are not satisfied for any reason, return for replacement, exchange, or refund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ecific: guaranteeing a particular service if a problem ari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TextBox 5"/>
          <p:cNvGrpSpPr/>
          <p:nvPr/>
        </p:nvGrpSpPr>
        <p:grpSpPr>
          <a:xfrm>
            <a:off x="6334200" y="12600"/>
            <a:ext cx="2876400" cy="1328760"/>
            <a:chOff x="6334200" y="12600"/>
            <a:chExt cx="2876400" cy="1328760"/>
          </a:xfrm>
        </p:grpSpPr>
        <p:pic>
          <p:nvPicPr>
            <p:cNvPr id="36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76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use packaging, labeling, warranties, and guarantees as marketing tool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E1B1FBDA-6566-4AE4-A02F-8985185682C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331920" y="949320"/>
            <a:ext cx="8148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Warranties and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353880" y="1703520"/>
            <a:ext cx="822960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rketing advantag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uarantees reduce the buyer’s perceived ris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y suggest that the product is of high quality and that the company and its service performance are dependabl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pecially helpful when the company or product is not that well known or when the product’s quality is superior to competi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ya 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7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rbi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i Haider / ep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0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rbi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rnd Weissbrod / dp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iationimages.com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 Wagn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7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Industrial Product Policy: Managing the Existing Product Line”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Marketing Science Institute Report No. 77–110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enson P. Shapiro), copyright © 2003. Reprinted by permission of Marketing Science Institute and Benson P. Shapi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2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amy Image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12-</a:t>
            </a:r>
            <a:fld id="{2132227A-F361-43AE-A55B-F723AE59FE4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87264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9360" y="1565280"/>
            <a:ext cx="7594560" cy="4378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characteristics of products and how do marketers classify product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companies differentiate produc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a company build and manage its product mix and product lin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companies combine products to create strong co-brands or ingredient bran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companies use packaging, labeling, warranties, and guarantees as marketing too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roduct Characteristics an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66C7FA66-2589-41EC-BB99-0DA1EE2BE7C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is a produ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nything that can be offered to a market to satisfy a want or need, including physical goods, services, experiences, events, persons, places, properties, organizations, information, and ide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Product Characteristics and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9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19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7F7C322A-A3C9-48F1-A5B6-76505AAB0F7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510160" y="2008080"/>
            <a:ext cx="27529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customer will judge the offering by three basic elements, as shown in Fig. 12.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5438880" y="3843360"/>
            <a:ext cx="256068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2.1: Components of the Market Offering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11" descr="image"/>
          <p:cNvPicPr/>
          <p:nvPr/>
        </p:nvPicPr>
        <p:blipFill>
          <a:blip r:embed="rId2"/>
          <a:stretch/>
        </p:blipFill>
        <p:spPr>
          <a:xfrm>
            <a:off x="130320" y="1270080"/>
            <a:ext cx="51307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5040" y="70596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Levels: The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-Value Hierarch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98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19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2C8A993E-7FC6-43AA-B8CE-40A25EEC5A4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379760" y="1795320"/>
            <a:ext cx="4413240" cy="35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planning its market offering, the marketer needs to address five product level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- Really buy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-Specific actual produc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-Atrributes expect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- Feature go beyond expec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5- al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4525920" y="5594400"/>
            <a:ext cx="6149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2.2: Five Product Leve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11" descr="image"/>
          <p:cNvPicPr/>
          <p:nvPr/>
        </p:nvPicPr>
        <p:blipFill>
          <a:blip r:embed="rId2"/>
          <a:stretch/>
        </p:blipFill>
        <p:spPr>
          <a:xfrm>
            <a:off x="324000" y="2135160"/>
            <a:ext cx="40557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5040" y="83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7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20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B468B00B-4142-45DA-B599-53C1F70A037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65040" y="1795320"/>
            <a:ext cx="82296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ers classify products on the basis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urability and tang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(consumer or industri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5040" y="83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14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21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E6C56549-25B9-46AC-B517-D755CDF2A71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65040" y="1390680"/>
            <a:ext cx="53388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Verdana"/>
              </a:rPr>
              <a:t>Durability and Tang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groups of produc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durable goods – tangible goods consumed in one or a few uses (e.g. tea, soa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urable goods – tangible goods that survive many uses (e.g. refrigerators, cloth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s – intangible, variable, perishable (e.g. haircuts, legal advice, appliance repai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4572000" y="5288040"/>
            <a:ext cx="407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Marketers rely on well-trained salespeople to help customers compare quality and features of shopping goods, such as appli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12" descr="image"/>
          <p:cNvPicPr/>
          <p:nvPr/>
        </p:nvPicPr>
        <p:blipFill>
          <a:blip r:embed="rId2"/>
          <a:stretch/>
        </p:blipFill>
        <p:spPr>
          <a:xfrm>
            <a:off x="5508720" y="3213000"/>
            <a:ext cx="30477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83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Product Classif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3" name="TextBox 5"/>
          <p:cNvGrpSpPr/>
          <p:nvPr/>
        </p:nvGrpSpPr>
        <p:grpSpPr>
          <a:xfrm>
            <a:off x="6334200" y="12600"/>
            <a:ext cx="2901960" cy="1328760"/>
            <a:chOff x="6334200" y="12600"/>
            <a:chExt cx="2901960" cy="1328760"/>
          </a:xfrm>
        </p:grpSpPr>
        <p:pic>
          <p:nvPicPr>
            <p:cNvPr id="22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9019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characteristics of products, and how do marketers classify product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2-</a:t>
            </a:r>
            <a:fld id="{8DA7242F-CBEC-46F8-96DF-1EF33A4EFA8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65040" y="1514520"/>
            <a:ext cx="8155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2060"/>
                </a:solidFill>
                <a:latin typeface="Verdana"/>
              </a:rPr>
              <a:t>Consumer-goods class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assified on the basis of shopping habi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venience goods 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requently with minimum effor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pping goods 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mpares (Quality-Price-sty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ecialty goods 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nique- brand identifications with eff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sought goods 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t normally think about (smoke detector- life insurance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1-14T14:33:01Z</dcterms:modified>
  <cp:revision>46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