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3.png" ContentType="image/png"/>
  <Override PartName="/ppt/media/image22.png" ContentType="image/png"/>
  <Override PartName="/ppt/media/image2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B432FA7-39E7-48B0-B1FF-4110790031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0A5DD03-23A6-4DD2-9A50-9DD440EC6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FBF9-24C4-45F4-AF14-B647A863A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2882-DC8D-439B-BB31-2687DB107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E4F2-2771-4560-98ED-BD5F08E27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6D20-6C59-4A13-96B8-9D842C902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B30C7-EF8E-4BDF-8A22-FCB1B7C10A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24428-E84F-450E-8603-309D029310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67AB3-C7B1-4E1C-8747-51F8167E46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EDC87-065A-4E8F-A6AC-33B9489AF2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1C7CB-A367-4E4C-A8F9-9DA216FAB9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02348-E3A1-48FA-9731-8B29574E4D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9797F-3B76-4D74-85FA-C1D1EA4D7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0961-A914-4335-8C77-F85D350CB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8464E-8C27-47B1-8049-65EFE17FAF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C1F0B-8AC3-4F88-988F-AF29E34B04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146ED-A6E1-4627-93B7-F4D781FC87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BD669-DB85-4535-B5A1-3AA5A1657A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A2699-3546-423C-8CB7-A5CFE32E79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6BBA-97FE-4A07-8BCD-48BA7DE46E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504D-AA4C-43CD-8A68-0688E53F39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65F6-0C6C-4100-9B07-40BC2D74A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AC429-5E48-4400-A03E-FBB9EED96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D185-9588-49BD-815F-072980AD8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7D9E-EEC9-4EE9-A0E3-BBD1B340E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2AC3-335D-482E-8059-8DD349E97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E427-2CE1-4D81-860C-04F8261A4DE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C4BF-9A86-4619-A23E-67A31EE9E79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3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5DEFCD6B-AE00-40DF-8B5B-F5679888D31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5384880" y="1195560"/>
            <a:ext cx="3209760" cy="43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2- Price-Quality Inferenc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y consumers use price as an indicator of quality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age pricing is especially effective with ego-sensitive products such as perfumes and expensive c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307800" y="62064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147600" y="5524560"/>
            <a:ext cx="67532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14.3: Consumer Perceptions versus Reality for Car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11" descr="image"/>
          <p:cNvPicPr/>
          <p:nvPr/>
        </p:nvPicPr>
        <p:blipFill>
          <a:blip r:embed="rId2"/>
          <a:stretch/>
        </p:blipFill>
        <p:spPr>
          <a:xfrm>
            <a:off x="130320" y="1438200"/>
            <a:ext cx="515124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4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DB56942D-3DAC-4F1C-8D05-13BAD6D2319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365040" y="1547640"/>
            <a:ext cx="82296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2- Price-Quality I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brands adopt exclusivity and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carcity as a means to signif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niqueness and justif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mium pricing, e.g. luxury goo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2311560" y="4329000"/>
            <a:ext cx="2668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For years, the link between price and quality was what made Azza Fahmy special. The luxury jewelry store was successful in introducing exclusive designer jewelry that justified premium pri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12" descr="image"/>
          <p:cNvPicPr/>
          <p:nvPr/>
        </p:nvPicPr>
        <p:blipFill>
          <a:blip r:embed="rId2"/>
          <a:stretch/>
        </p:blipFill>
        <p:spPr>
          <a:xfrm>
            <a:off x="5099040" y="1262160"/>
            <a:ext cx="37004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4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E58CC92F-F96F-48D7-AF4B-6405B41928F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365040" y="1547640"/>
            <a:ext cx="82296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3- Price End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y sellers believe prices should end in an odd numbe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ustomers see an item priced at US$299 in the $200 rather than the $300 ran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ices that end with 0 and 5 are also common in the marketplace; they are thought to be easier for consumers to rememb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ale’ signs next to prices increase demand, but only if not overu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5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B7C788DD-5D0D-483F-BC65-F62A5D54A29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65040" y="1547640"/>
            <a:ext cx="82296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3- Price End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to use price cu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purchase item infrequent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are n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t designs vary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ces vary season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 or sizes vary across st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Setting the Pri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63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26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37D470B6-255E-446F-A79F-A924A84DF06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-step procedure for setting a pricing polic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the price obje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dem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competitor price m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pricing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final pr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t’s look at each step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27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C6DA4FFC-CE1A-4C24-8D5E-12D30E69B3B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1: Selecting the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365040" y="1859040"/>
            <a:ext cx="822960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any first decides where to position its market offer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learer a firm’s objectives, the easier it is to set pri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ve major objectives ar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Survival (Competitions – change wants) / V co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Maximum current profit (Cash caw) long ru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Maximum market share (volume lower the cost)/Market penetr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Maximum market skimming (High&gt;low)/max prof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Product-quality leadership (Rolex-BM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27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0F97559D-B62C-4723-98E4-206A4D1B312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2: Determining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65040" y="1368360"/>
            <a:ext cx="836604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demand curve illustrates the relationship between price and dem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400" y="5732640"/>
            <a:ext cx="8932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4.1: Inelastic and Elastic Dem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2060"/>
                </a:solidFill>
                <a:latin typeface="Verdana"/>
              </a:rPr>
              <a:t>Price Sensitivit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o substitute – Habit – justified- small part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11" descr="image"/>
          <p:cNvPicPr/>
          <p:nvPr/>
        </p:nvPicPr>
        <p:blipFill>
          <a:blip r:embed="rId2"/>
          <a:stretch/>
        </p:blipFill>
        <p:spPr>
          <a:xfrm>
            <a:off x="419040" y="1639800"/>
            <a:ext cx="809460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28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00E8361E-87A8-44EA-8EC5-3DA2E26D9DC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2: Determining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34800" y="1316160"/>
            <a:ext cx="836640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Estimating Demand Cur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anies can try to measure their demand curves, us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rve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ice experiments (places – Inter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atistical analysi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6372360" y="5321160"/>
            <a:ext cx="203832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14.1: Price Optimization to Boost Sales and Profit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11" descr="image"/>
          <p:cNvPicPr/>
          <p:nvPr/>
        </p:nvPicPr>
        <p:blipFill>
          <a:blip r:embed="rId2"/>
          <a:stretch/>
        </p:blipFill>
        <p:spPr>
          <a:xfrm>
            <a:off x="334800" y="3368520"/>
            <a:ext cx="59374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29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46B196D4-8F5E-4B08-840E-465E4AE63D1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3: Estimating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5040" y="1386000"/>
            <a:ext cx="836604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mand sets a maximum on the price the compan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n charge for its product. Costs set the minimu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Types of Cost and Levels of P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xed costs  (Buildings – rent- net – loan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ariable costs (materials-packag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otal co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erage cost (T/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tivity-based cost (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al cost associated with each customers 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3181320" y="5586480"/>
            <a:ext cx="37292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4.2: Cost per Unit at Different Levels of Production per Period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11" descr="image"/>
          <p:cNvPicPr/>
          <p:nvPr/>
        </p:nvPicPr>
        <p:blipFill>
          <a:blip r:embed="rId2"/>
          <a:stretch/>
        </p:blipFill>
        <p:spPr>
          <a:xfrm>
            <a:off x="6867360" y="1144440"/>
            <a:ext cx="196056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0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D2EB3AC8-1029-4C70-A8AA-B3F8C77746F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3: Estimating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65040" y="1386000"/>
            <a:ext cx="836604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Accumulated P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erage cost falls with accumulated production experie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is decline in the average cost with accumulated production experience is called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perience curve or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learning cur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660240" y="4925880"/>
            <a:ext cx="2799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4.3: Cost per Unit as a Function of Accumulated Production: The Experience Curve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2" descr="image"/>
          <p:cNvPicPr/>
          <p:nvPr/>
        </p:nvPicPr>
        <p:blipFill>
          <a:blip r:embed="rId2"/>
          <a:stretch/>
        </p:blipFill>
        <p:spPr>
          <a:xfrm>
            <a:off x="3400560" y="2766960"/>
            <a:ext cx="55404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16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veloping Pricing   Strategies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gra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image"/>
          <p:cNvPicPr/>
          <p:nvPr/>
        </p:nvPicPr>
        <p:blipFill>
          <a:blip r:embed="rId1"/>
          <a:stretch/>
        </p:blipFill>
        <p:spPr>
          <a:xfrm>
            <a:off x="3952800" y="2612880"/>
            <a:ext cx="4229280" cy="29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1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49352169-50DF-4823-A59A-61DF7AA9BA8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3: Estimating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65040" y="1386000"/>
            <a:ext cx="836604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Target Cost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sts can also change as a result of a concentrated effort by designers, engineers, and purchasing agents to reduce them through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arget costin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firm must examine each cost element—design, engineering, manufacturing, sales—and consider ways to bring down costs to within the target cost ran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2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DAD44CAE-2AD4-48F6-9692-6F99F8265D3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35712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4: Analyzing Competitors’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sts, Prices, and Of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65040" y="1859040"/>
            <a:ext cx="836604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any must take competitors’ costs, prices, and possible price reactions into accou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introduction of any price or the change of any existing price can provoke a response from customers, competitors, distributors, suppliers, and even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2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284EF36A-613D-42DB-8E25-8B79A566FAD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200160" y="23184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5: Selecting a Pricing Meth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076560" y="2011320"/>
            <a:ext cx="33829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ree major considerations in price setting are summarized in Fig. 14.4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eti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2444760" y="5443560"/>
            <a:ext cx="22795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4.4: The Three Cs Model for Price Setting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11" descr="image"/>
          <p:cNvPicPr/>
          <p:nvPr/>
        </p:nvPicPr>
        <p:blipFill>
          <a:blip r:embed="rId2"/>
          <a:stretch/>
        </p:blipFill>
        <p:spPr>
          <a:xfrm>
            <a:off x="409680" y="658800"/>
            <a:ext cx="20336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3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5310C86D-3FE6-4FD8-85EC-D7A449D0218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33660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5: Selecting a Pricing Meth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2858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 price-setting metho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up pric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cing an item by adding a standard increase to the product’s cost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Services 20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rget-return pric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termining the price that would yield the firm’s target rate of return on investment (RO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6210360" y="3660840"/>
            <a:ext cx="21826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4.5: Break-Even Chart for Determining Target-Return Price and Break-Even Volume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Picture 11" descr="image"/>
          <p:cNvPicPr/>
          <p:nvPr/>
        </p:nvPicPr>
        <p:blipFill>
          <a:blip r:embed="rId2"/>
          <a:stretch/>
        </p:blipFill>
        <p:spPr>
          <a:xfrm>
            <a:off x="228600" y="3305160"/>
            <a:ext cx="59817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4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6597829F-ECFE-476B-A131-05C6BCC19D1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itle 1"/>
          <p:cNvSpPr/>
          <p:nvPr/>
        </p:nvSpPr>
        <p:spPr>
          <a:xfrm>
            <a:off x="33660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5: Selecting a Pricing Meth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 price-setting methods (continu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rceived-value pric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alue promised by the company’s value proposition and perceived by the custo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 pric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inning loyal customers by charging a fairly low price for a high-quality offering. Ikea, Arabia Air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oing-rate pric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ce based largely on competitors’ prices. Steel-c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uction-type pric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price achieved in an auction. Different types of auctions include English(ascending bids), Dutch (descending bids), and sealed-bid au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TextBox 5"/>
          <p:cNvGrpSpPr/>
          <p:nvPr/>
        </p:nvGrpSpPr>
        <p:grpSpPr>
          <a:xfrm>
            <a:off x="6334200" y="12600"/>
            <a:ext cx="2840040" cy="1114560"/>
            <a:chOff x="6334200" y="12600"/>
            <a:chExt cx="2840040" cy="1114560"/>
          </a:xfrm>
        </p:grpSpPr>
        <p:pic>
          <p:nvPicPr>
            <p:cNvPr id="35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400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set prices initially for products or serv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E35EAFB0-9072-461E-B926-8A6C2E03774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itle 1"/>
          <p:cNvSpPr/>
          <p:nvPr/>
        </p:nvSpPr>
        <p:spPr>
          <a:xfrm>
            <a:off x="336600" y="69840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tep 6: Selecting the Final Pr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selecting the price, the company must consider additional factors, incl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ct of other marketing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y pricing poli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in-and-risk sharing 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ct of price on other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7" descr=""/>
          <p:cNvPicPr/>
          <p:nvPr/>
        </p:nvPicPr>
        <p:blipFill>
          <a:blip r:embed="rId2"/>
          <a:stretch/>
        </p:blipFill>
        <p:spPr>
          <a:xfrm>
            <a:off x="4351320" y="4210200"/>
            <a:ext cx="4495680" cy="20383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8485200" y="396252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dapting the Pri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61" name="TextBox 5"/>
          <p:cNvGrpSpPr/>
          <p:nvPr/>
        </p:nvGrpSpPr>
        <p:grpSpPr>
          <a:xfrm>
            <a:off x="6334200" y="12600"/>
            <a:ext cx="2833560" cy="1328760"/>
            <a:chOff x="6334200" y="12600"/>
            <a:chExt cx="2833560" cy="1328760"/>
          </a:xfrm>
        </p:grpSpPr>
        <p:pic>
          <p:nvPicPr>
            <p:cNvPr id="36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335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adapt prices to meet varying circumstances and opportun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2945EEB7-E59C-48A8-9038-C0F3400DE27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ies usually set a pricing strategy rather than a single pri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e adaptation strategies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graphical 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ounts/allow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ional 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iated 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4520" y="86364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Geographical Pric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68" name="TextBox 5"/>
          <p:cNvGrpSpPr/>
          <p:nvPr/>
        </p:nvGrpSpPr>
        <p:grpSpPr>
          <a:xfrm>
            <a:off x="6334200" y="12600"/>
            <a:ext cx="2833560" cy="1328760"/>
            <a:chOff x="6334200" y="12600"/>
            <a:chExt cx="2833560" cy="1328760"/>
          </a:xfrm>
        </p:grpSpPr>
        <p:pic>
          <p:nvPicPr>
            <p:cNvPr id="36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335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adapt prices to meet varying circumstances and opportun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7A5B07D8-46A9-4550-9558-725B338FD15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geographical pricing, the company decides how to price its products to customers in different locations and countr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ntertrade is when buyers offer other items in payment. This can take the form of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rter (no mon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ensation deal (Money + produ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yback arrangement (Money + produ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fset (spend some  to offes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24120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ice Discounts and Allowanc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5" name="TextBox 5"/>
          <p:cNvGrpSpPr/>
          <p:nvPr/>
        </p:nvGrpSpPr>
        <p:grpSpPr>
          <a:xfrm>
            <a:off x="6334200" y="12600"/>
            <a:ext cx="2833560" cy="1328760"/>
            <a:chOff x="6334200" y="12600"/>
            <a:chExt cx="2833560" cy="1328760"/>
          </a:xfrm>
        </p:grpSpPr>
        <p:pic>
          <p:nvPicPr>
            <p:cNvPr id="37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335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adapt prices to meet varying circumstances and opportun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4BDE5049-BA84-43E5-AF53-CFF1A4E8DAA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365040" y="853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y companies will adjust their list pric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d give discounts and allowances for earl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yment, volume purchases, and off-season buy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Rectangle 2"/>
          <p:cNvSpPr/>
          <p:nvPr/>
        </p:nvSpPr>
        <p:spPr>
          <a:xfrm flipV="1" rot="10800000">
            <a:off x="6100560" y="3724920"/>
            <a:ext cx="2057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14.5: Price Discounts and Allowance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11" descr="image"/>
          <p:cNvPicPr/>
          <p:nvPr/>
        </p:nvPicPr>
        <p:blipFill>
          <a:blip r:embed="rId2"/>
          <a:stretch/>
        </p:blipFill>
        <p:spPr>
          <a:xfrm>
            <a:off x="347760" y="1798560"/>
            <a:ext cx="560232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4520" y="86364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motional Pric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84" name="TextBox 5"/>
          <p:cNvGrpSpPr/>
          <p:nvPr/>
        </p:nvGrpSpPr>
        <p:grpSpPr>
          <a:xfrm>
            <a:off x="6334200" y="12600"/>
            <a:ext cx="2833560" cy="1328760"/>
            <a:chOff x="6334200" y="12600"/>
            <a:chExt cx="2833560" cy="1328760"/>
          </a:xfrm>
        </p:grpSpPr>
        <p:pic>
          <p:nvPicPr>
            <p:cNvPr id="38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335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adapt prices to meet varying circumstances and opportun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4025BB47-2973-4256-877C-E1825F96EE7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ies can use several pricing techniques to stimulate early purcha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s-leader pric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al-event pric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h reb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w-interest financ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nger payment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rranties and service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ychological discoun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14-</a:t>
            </a:r>
            <a:fld id="{B2F6904A-705F-4E4A-94D3-31C47D38F9B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74760" y="5065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2040" y="1890720"/>
            <a:ext cx="7696440" cy="3384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consumers process and evaluate pric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a company set prices initially for products or servic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a company adapt prices to meet varying circumstances and opportunit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should a company initiate a price chang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a company respond to a competitor’s price challeng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95200" y="62208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ifferentiated Pric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91" name="TextBox 5"/>
          <p:cNvGrpSpPr/>
          <p:nvPr/>
        </p:nvGrpSpPr>
        <p:grpSpPr>
          <a:xfrm>
            <a:off x="6334200" y="12600"/>
            <a:ext cx="2833560" cy="1328760"/>
            <a:chOff x="6334200" y="12600"/>
            <a:chExt cx="2833560" cy="1328760"/>
          </a:xfrm>
        </p:grpSpPr>
        <p:pic>
          <p:nvPicPr>
            <p:cNvPr id="39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335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adapt prices to meet varying circumstances and opportun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77617A86-5C13-4FE5-90BE-CE1E156803C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65040" y="1335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rice discrimination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ccurs when a company sells a product or service at two or more prices that do not reflect a difference in cost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irst-degree price discrimin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the seller charges a separate price to each customer depending on the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tensity of their dema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cond-degree price discrimin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the seller charges less to buyers who buy a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arger volum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hird-degree price discrimin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the seller charges different amounts to different classes of buyers, as in the following cas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Customer-segment pr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Product-form pr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mage pr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Channel pr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Location pr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Time pric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3014640" y="5827680"/>
            <a:ext cx="59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Al-Ahly Football Club charges different prices for its football games, depending on the  popularity of the rival tea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12" descr="image"/>
          <p:cNvPicPr/>
          <p:nvPr/>
        </p:nvPicPr>
        <p:blipFill>
          <a:blip r:embed="rId2"/>
          <a:stretch/>
        </p:blipFill>
        <p:spPr>
          <a:xfrm>
            <a:off x="5781600" y="3738600"/>
            <a:ext cx="30481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404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Initiating and Responding to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Price Chang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40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0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en should a company initiate a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1A1C1B96-44AF-4B47-B85A-D91E49EEA21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365040" y="1898640"/>
            <a:ext cx="82296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ies might cut prices due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ss plant capa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ve to dominate the market through lower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pe of gaining market sh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itle 1"/>
          <p:cNvSpPr/>
          <p:nvPr/>
        </p:nvSpPr>
        <p:spPr>
          <a:xfrm>
            <a:off x="295200" y="122544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itiating Price C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0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en should a company initiate a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6B27CAFE-548A-44CD-A021-738B296BF18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334800" y="1346040"/>
            <a:ext cx="82296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e-cutting strategy can lead to possible trap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courages customers to demand price conce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ins salespeople to offer price conce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w-quality trap – consumers assume quality is l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gile market-share trap – buys share but not loyal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allow-pockets trap – competitors have deeper cash reser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ce-war tr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Title 1"/>
          <p:cNvSpPr/>
          <p:nvPr/>
        </p:nvSpPr>
        <p:spPr>
          <a:xfrm>
            <a:off x="284040" y="7239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itiating Price C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1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en should a company initiate a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86057079-C5CC-4BDC-8B5D-AFD7C9935F6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334800" y="1346040"/>
            <a:ext cx="82296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uccessful price increase can raise profits considerab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itle 1"/>
          <p:cNvSpPr/>
          <p:nvPr/>
        </p:nvSpPr>
        <p:spPr>
          <a:xfrm>
            <a:off x="284040" y="7239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itiating Price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628560" y="5773680"/>
            <a:ext cx="7039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14.1: Profits Before and After a Price Increase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10" descr="image"/>
          <p:cNvPicPr/>
          <p:nvPr/>
        </p:nvPicPr>
        <p:blipFill>
          <a:blip r:embed="rId2"/>
          <a:stretch/>
        </p:blipFill>
        <p:spPr>
          <a:xfrm>
            <a:off x="411120" y="1797120"/>
            <a:ext cx="79995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2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en should a company initiate a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A28F81BA-8806-4ADF-8A08-B2A38463BBC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itle 1"/>
          <p:cNvSpPr/>
          <p:nvPr/>
        </p:nvSpPr>
        <p:spPr>
          <a:xfrm>
            <a:off x="284040" y="7239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itiating Price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ce can be increased in the following way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ayed quotation 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calator clau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bund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tion of discou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2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en should a company initiate a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0D56ADDB-0870-45CC-8C1E-07EEEF87A40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itle 1"/>
          <p:cNvSpPr/>
          <p:nvPr/>
        </p:nvSpPr>
        <p:spPr>
          <a:xfrm>
            <a:off x="284040" y="7239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itiating Price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ternative approach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rinking the amount of product instead of raising the pric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bstituting less-expensive materials or ingredient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ducing or removing product featur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moving or reducing product services, such as installation or free delive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ing less-expensive packaging material or larger package siz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ducing the number of sizes and models offer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reating new economy bran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43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respond to a competitor’s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BE5FB76F-1D2D-4DC8-8BEC-286DF8493A4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365040" y="1879560"/>
            <a:ext cx="822960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company needs to consider the following issue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y did the competitor change the price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oes the competitor plan to make the price change temporary or permanent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at will happen to the company’s market share and profits if it does not respond? Are other companies going to respond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at are the competitors’ and other firms’ responses likely to be to each possible reactio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44520" y="61596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Responding to Competitors’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ice Chang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8" descr=""/>
          <p:cNvPicPr/>
          <p:nvPr/>
        </p:nvPicPr>
        <p:blipFill>
          <a:blip r:embed="rId1"/>
          <a:stretch/>
        </p:blipFill>
        <p:spPr>
          <a:xfrm>
            <a:off x="525600" y="5064120"/>
            <a:ext cx="7781760" cy="961920"/>
          </a:xfrm>
          <a:prstGeom prst="rect">
            <a:avLst/>
          </a:prstGeom>
          <a:ln w="0">
            <a:noFill/>
          </a:ln>
        </p:spPr>
      </p:pic>
      <p:grpSp>
        <p:nvGrpSpPr>
          <p:cNvPr id="440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441" name="TextBox 5" descr=""/>
            <p:cNvPicPr/>
            <p:nvPr/>
          </p:nvPicPr>
          <p:blipFill>
            <a:blip r:embed="rId2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a company respond to a competitor’s price chang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580CBF54-34F5-4596-9E19-0572BC806E9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65040" y="1879560"/>
            <a:ext cx="822960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t leaders often face aggressive price cutting by smaller firms trying to gain market share. Possible responses includ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intain pr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intain price and add va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uce pr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 price and improve qu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unch a low-price fighter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44520" y="61596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Responding to Competitors’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ice Chang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pic>
        <p:nvPicPr>
          <p:cNvPr id="447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940520" y="503712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Press Association Images:</a:t>
            </a: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DON RYAN / AP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3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Alamy Images:</a:t>
            </a: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mediablitzimages (uk) Limit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5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Peter J. Howe, “The Next Pinch: Fees to Check Bags,”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oston Globe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March 8, 2007; Katherine Heires, “Why It Pays to Give Away the Store,”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usiness 2.0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October 2006, pp. 36–37; Kerry Capel, “Wal-Mart with Wings,”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usinessWeek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November 27, 2006, pp.44–45; Matthew Maier, “A Radical Fix for Airlines: Make Flying Free,”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usiness 2.0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April 2006, pp.32–34; Gary Stoller, “Would You Like Some Golf Balls with That Ticket,”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USA Today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October 30, 1996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8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Adapted from Russell S. Winer, “Behavioral Perspectives on Pricing: Buyers’ Subjective Perceptions of Price Revisited,” in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Issues in Pricing: Theory and Research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ed. Timothy Devinney (Lexington, MA: Lexington Books, 1988), pp. 35–57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9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Getty Images:</a:t>
            </a: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Bloomberg 8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10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David Kiley, “U.S. Automakers Get a Bum Rap,”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USA Today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January 15, 2004, p. B5. Copyright © 2004 USA TODAY. Reprinted with permis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11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Azza Fahmy. Reproduced with permis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17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Adapted from Thomas T. Nagle and Reed K. Holden,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The Strategy and Tactics of Pricing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, 3rd edn (Upper Saddle River, NJ: Prentice Hall, 2001), Chapter 4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Slide 32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Corbis:</a:t>
            </a: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NameerGalal / Demotix 395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Understanding Pric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40B2DA32-1F40-447A-A6E5-4FB2548DED4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65040" y="1979640"/>
            <a:ext cx="82296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cing practices have changed significantly in recent yea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y companies no longer follow the low-pricing trend, and have successfully traded consumers up to more expensive produ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357120" y="960480"/>
            <a:ext cx="82296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 Changing Pricing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2232000" y="4505400"/>
            <a:ext cx="380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Nescafé Cappucino was introduced at a higer price than their regular coffee sachets.</a:t>
            </a: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13" descr="image"/>
          <p:cNvPicPr/>
          <p:nvPr/>
        </p:nvPicPr>
        <p:blipFill>
          <a:blip r:embed="rId2"/>
          <a:stretch/>
        </p:blipFill>
        <p:spPr>
          <a:xfrm>
            <a:off x="6153120" y="3227400"/>
            <a:ext cx="2033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19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9F1DED79-5D96-4E75-B980-5EF3891517B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65040" y="1316160"/>
            <a:ext cx="82296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internet allows sellers to discriminate between buyers, and buyers to discriminate between sell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Buyers ca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et instant price comparisons from thousands of vendors. pricena,price-sc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ame their price and have it met. Priceline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et products free.  Microsof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Sellers ca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nitor customer behavior and tailor offers to individuals. 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ive certain customers access to special prices. ac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Both buyers and sellers ca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gotiate prices in online auctions and exchanges. Souq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 Changing Pricing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19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1D8F0386-083E-4B76-8842-E37644095F0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65040" y="1316160"/>
            <a:ext cx="82296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anies do their pricing in a variety of way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ften it is not done well. Common pricing mistakes inclu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Simplistically determining costs and taking traditional industry margi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Failure to revise price to capitalize on market chang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Setting price independently of the rest of the marketing mix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Failure to vary price by product item, market segment, distribution channels, and purchase occas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ffective pricing strategies mus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Understand consumer pricing psycholog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Have a systematic approach to setting, adapting, and changing pric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How Companies Pr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0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629AB147-C042-4B43-8800-C2EB5B4F1D4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65040" y="1566720"/>
            <a:ext cx="82296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nderstanding how consumers arrive at their perceptions of prices is an important marketing prior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ere we consider three key topic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ference pr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ice–quality i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ice end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1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53B45866-4B97-47EB-93FC-B46A14BE323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365040" y="1547640"/>
            <a:ext cx="82296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1- Reference Pr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umers often employ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ference price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comparing an observed price to an internal reference price they rememb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7137360" y="5102280"/>
            <a:ext cx="2006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14.2: Possible Consumer Reference Price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11" descr="image"/>
          <p:cNvPicPr/>
          <p:nvPr/>
        </p:nvPicPr>
        <p:blipFill>
          <a:blip r:embed="rId2"/>
          <a:stretch/>
        </p:blipFill>
        <p:spPr>
          <a:xfrm>
            <a:off x="254160" y="2703600"/>
            <a:ext cx="69246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Box 5"/>
          <p:cNvGrpSpPr/>
          <p:nvPr/>
        </p:nvGrpSpPr>
        <p:grpSpPr>
          <a:xfrm>
            <a:off x="6334200" y="12600"/>
            <a:ext cx="2865240" cy="901800"/>
            <a:chOff x="6334200" y="12600"/>
            <a:chExt cx="2865240" cy="901800"/>
          </a:xfrm>
        </p:grpSpPr>
        <p:pic>
          <p:nvPicPr>
            <p:cNvPr id="22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consumers process and evaluate pr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4-</a:t>
            </a:r>
            <a:fld id="{0DFB1097-9AB1-460D-A6E7-4F2EFA74A21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65040" y="1547640"/>
            <a:ext cx="82296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1- Reference Pr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en consumers think of one or more of these frames of reference, their perceived price can vary from the stated pri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357120" y="738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umer Psychology and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5405400" y="3114720"/>
            <a:ext cx="2668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High reference prices in the consumer electronics industry have trained consumers to gravitate toward ‘sale’ pri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2" descr="image"/>
          <p:cNvPicPr/>
          <p:nvPr/>
        </p:nvPicPr>
        <p:blipFill>
          <a:blip r:embed="rId2"/>
          <a:stretch/>
        </p:blipFill>
        <p:spPr>
          <a:xfrm>
            <a:off x="382680" y="2743200"/>
            <a:ext cx="49258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1-28T14:14:03Z</dcterms:modified>
  <cp:revision>118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