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43DAE3-7C5A-4D1E-8AA1-AC5B21F66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E9C8F9-C355-48BA-9C76-2EA53A74D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60D4-85A6-4C3B-B4CD-4A5FB9598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AA1C-BBCC-4919-9232-483F8A991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4343-7C54-4200-B6B4-31443B816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7F19-55AA-4B87-99BE-326182285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EDD7-0EBE-42B2-824E-F3015F02A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C0E51-E5FA-4E2E-8A3E-CD28D05056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059B5-0629-42E6-BB53-D56733D7DD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C29D-F748-4E8B-8554-9EDA9EC19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46E93-F2BA-4E7F-A004-3FBA32598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BFAC0-AE0C-40EC-BBEE-DA4BCEEAE1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DA26A-DDFB-4F1B-98C6-92386EE3A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2919-9469-4C98-8BE2-81CE8E64E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52ACF-9D3B-4BAC-A337-615E3B051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ACB36-FF17-4129-910E-0C0FADA8BC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130CE-12A6-4A80-A595-D26E0B59E0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35319-6B2F-4789-A0C5-D93DE062DE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D043C-F699-4990-9B00-E320D85917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92E4-C856-48F7-8A02-E60D3370A3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38E6-2440-4B75-8690-28E377F220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89EC-DC15-4755-90C8-26FFC0CA9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B9F1-3720-4019-8938-6616E365E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D10E-273F-4941-A0DD-A91F2AD40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B1B4-13E0-46B8-98E9-822CF7661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9921-0AEF-40DB-ADC9-EDE9267E7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5ED-0E36-457D-B734-6D4C6C7CDEB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CFC3-E951-4F26-BA72-B040F0BE958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E1748B42-1274-45CF-BE2D-5B95D80A6B5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384880" y="1195560"/>
            <a:ext cx="320976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2- Price-Quality Inferenc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consumers use price as an indicator of quality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 pricing is especially effective with ego-sensitive products such as perfumes and expensive c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307800" y="62064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47600" y="5524560"/>
            <a:ext cx="6753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3: Consumer Perceptions versus Reality for Car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11" descr="image"/>
          <p:cNvPicPr/>
          <p:nvPr/>
        </p:nvPicPr>
        <p:blipFill>
          <a:blip r:embed="rId2"/>
          <a:stretch/>
        </p:blipFill>
        <p:spPr>
          <a:xfrm>
            <a:off x="130320" y="1438200"/>
            <a:ext cx="51512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4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F80CE94D-DA44-4F5A-A80D-74319B021B0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2- Price-Quality I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brands adopt exclusivity an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arcity as a means to signif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iqueness and justif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mium pricing, e.g. luxury go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2311560" y="4329000"/>
            <a:ext cx="266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For years, the link between price and quality was what made Azza Fahmy special. The luxury jewelry store was successful in introducing exclusive designer jewelry that justified premium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12" descr="image"/>
          <p:cNvPicPr/>
          <p:nvPr/>
        </p:nvPicPr>
        <p:blipFill>
          <a:blip r:embed="rId2"/>
          <a:stretch/>
        </p:blipFill>
        <p:spPr>
          <a:xfrm>
            <a:off x="5099040" y="1262160"/>
            <a:ext cx="3700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4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7079A43F-FB77-4721-92D8-FADDB88511A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3- 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sellers believe prices should end in an odd numb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s see an item priced at US$299 in the $200 rather than the $300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s that end with 0 and 5 are also common in the marketplace; they are thought to be easier for consumers to reme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le’ signs next to prices increase demand, but only if not over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74CF60D8-994D-4C8B-832C-DDB50A3D8E8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3- 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o use price cu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purchase item infrequent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are n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 designs vary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s vary season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 or sizes vary across st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Setting the Pr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6946C7C-46FA-47C6-B4F4-925FB523B60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-step procedure for setting a pricing poli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the price 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competitor price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pric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final 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’s look at each step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7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620A9A9F-009E-46D5-9C39-23754BDD731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Selecting the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859040"/>
            <a:ext cx="82296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first decides where to position its market offer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learer a firm’s objectives, the easier it is to set pr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ve major objectives 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urvival (Competitions – change wants) / V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current profit (Cash caw) long ru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market share (volume lower the cost)/Market penet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market skimming (High&gt;low)/max pro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Product-quality leadership (Rolex-BM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1336EA9A-6B22-48EC-908F-5EB58F1ADAF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Determining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65040" y="1368360"/>
            <a:ext cx="83660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mand curve illustrates the relationship between price and dem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400" y="5732640"/>
            <a:ext cx="893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1: Inelastic and Elastic Dem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2060"/>
                </a:solidFill>
                <a:latin typeface="Verdana"/>
              </a:rPr>
              <a:t>Price Sensitivit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 substitute – Habit – justified- small par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11" descr="image"/>
          <p:cNvPicPr/>
          <p:nvPr/>
        </p:nvPicPr>
        <p:blipFill>
          <a:blip r:embed="rId2"/>
          <a:stretch/>
        </p:blipFill>
        <p:spPr>
          <a:xfrm>
            <a:off x="419040" y="1639800"/>
            <a:ext cx="80946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8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094AE0D-3952-4A77-9454-63B9F84947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Determining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34800" y="1316160"/>
            <a:ext cx="83664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Estimating Deman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can try to measure their demand curves, us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 experiments (places – Inter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atistical analysi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6372360" y="5321160"/>
            <a:ext cx="203832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14.1: Price Optimization to Boost Sales and Profi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11" descr="image"/>
          <p:cNvPicPr/>
          <p:nvPr/>
        </p:nvPicPr>
        <p:blipFill>
          <a:blip r:embed="rId2"/>
          <a:stretch/>
        </p:blipFill>
        <p:spPr>
          <a:xfrm>
            <a:off x="334800" y="3368520"/>
            <a:ext cx="5937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9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FE70E762-32B2-4B57-B0C1-0E8ECD3D6D9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mand sets a maximum on the price the compan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charge for its product. Costs set the minim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Types of Cost and Levels of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xed costs  (Buildings – rent- net – loa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riable costs (materials-packa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st (T/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tivity-based cost (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al cost associated with each customers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181320" y="5586480"/>
            <a:ext cx="3729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2: Cost per Unit at Different Levels of Production per Perio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11" descr="image"/>
          <p:cNvPicPr/>
          <p:nvPr/>
        </p:nvPicPr>
        <p:blipFill>
          <a:blip r:embed="rId2"/>
          <a:stretch/>
        </p:blipFill>
        <p:spPr>
          <a:xfrm>
            <a:off x="6867360" y="1144440"/>
            <a:ext cx="19605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0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25EBA0FF-C654-49B7-BB5B-CAFFE5DC0B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Accumulated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st falls with accumulated production exper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s decline in the average cost with accumulated production experience is called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erience curve or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learning cur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60240" y="4925880"/>
            <a:ext cx="2799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3: Cost per Unit as a Function of Accumulated Production: The Experience Curv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2" descr="image"/>
          <p:cNvPicPr/>
          <p:nvPr/>
        </p:nvPicPr>
        <p:blipFill>
          <a:blip r:embed="rId2"/>
          <a:stretch/>
        </p:blipFill>
        <p:spPr>
          <a:xfrm>
            <a:off x="3400560" y="2766960"/>
            <a:ext cx="55404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Pricing   Strategies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a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52800" y="2612880"/>
            <a:ext cx="422928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36D956EB-4948-4560-965E-587BFD33AA8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Target Cost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s can also change as a result of a concentrated effort by designers, engineers, and purchasing agents to reduce them through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arget cost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irm must examine each cost element—design, engineering, manufacturing, sales—and consider ways to bring down costs to within the target cost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9D0D05BA-011F-42C5-8FE1-2D0DCC17FDD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4: Analyzing Competitors’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sts, Prices, and O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859040"/>
            <a:ext cx="83660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must take competitors’ costs, prices, and possible price reactions into accou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ntroduction of any price or the change of any existing price can provoke a response from customers, competitors, distributors, suppliers, and even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2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89B5E13F-88D9-4E37-BD25-6415093720C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200160" y="23184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076560" y="2011320"/>
            <a:ext cx="33829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ree major considerations in price setting are summarized in Fig. 14.4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2444760" y="5443560"/>
            <a:ext cx="22795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4: The Three Cs Model for Price Sett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1" descr="image"/>
          <p:cNvPicPr/>
          <p:nvPr/>
        </p:nvPicPr>
        <p:blipFill>
          <a:blip r:embed="rId2"/>
          <a:stretch/>
        </p:blipFill>
        <p:spPr>
          <a:xfrm>
            <a:off x="409680" y="658800"/>
            <a:ext cx="20336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3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CDD71381-3651-4A52-B860-4950DB973DB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858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 price-setting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up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ing an item by adding a standard increase to the product’s cost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Services 20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get-return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rmining the price that would yield the firm’s target rate of return on investment (RO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6210360" y="3660840"/>
            <a:ext cx="218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5: Break-Even Chart for Determining Target-Return Price and Break-Even Volum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11" descr="image"/>
          <p:cNvPicPr/>
          <p:nvPr/>
        </p:nvPicPr>
        <p:blipFill>
          <a:blip r:embed="rId2"/>
          <a:stretch/>
        </p:blipFill>
        <p:spPr>
          <a:xfrm>
            <a:off x="228600" y="3305160"/>
            <a:ext cx="5981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D0F3E39C-FC1C-4E4F-8254-FF6C97093E7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 price-setting methods (continu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ceived-valu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promised by the company’s value proposition and perceived by the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 pric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nning loyal customers by charging a fairly low price for a high-quality offering. Ikea, Arabia Air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oing-rat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e based largely on competitors’ prices. Steel-c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ction-typ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price achieved in an auction. Different types of auctions include English(ascending bids), Dutch (descending bids), and sealed-bid a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BA6A0DE6-A5DE-4C3D-9658-7C05DCBC832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6: Selecting the Final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selecting the price, the company must consider additional factors, incl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other marketing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 pricing poli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-and-risk sharing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price on other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4351320" y="4210200"/>
            <a:ext cx="4495680" cy="203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485200" y="39625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dapting the Pr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1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6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DAFBD757-4B30-460A-8904-69E28D837BD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usually set a pricing strategy rather than a single pr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 adaptation strategi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al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unts/allow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al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ed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4520" y="863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Geographical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8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6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81D81B44-E5AE-47C0-9D1F-4C77E05F0D4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geographical pricing, the company decides how to price its products to customers in different locations and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tertrade is when buyers offer other items in payment. This can take the form of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rter (no mon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ensation deal (Money +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yback arrangement (Money + p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set (spend some  to offe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412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Discounts and Allowan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5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24182365-DEAC-4C2F-969E-4BB5D7B280E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365040" y="853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companies will adjust their list pric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give discounts and allowances for earl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yment, volume purchases, and off-season buy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2"/>
          <p:cNvSpPr/>
          <p:nvPr/>
        </p:nvSpPr>
        <p:spPr>
          <a:xfrm flipV="1" rot="10800000">
            <a:off x="6100560" y="3724920"/>
            <a:ext cx="2057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5: Price Discounts and Allowanc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11" descr="image"/>
          <p:cNvPicPr/>
          <p:nvPr/>
        </p:nvPicPr>
        <p:blipFill>
          <a:blip r:embed="rId2"/>
          <a:stretch/>
        </p:blipFill>
        <p:spPr>
          <a:xfrm>
            <a:off x="347760" y="1798560"/>
            <a:ext cx="56023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4520" y="863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motional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4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8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A0FC47CF-12D3-419D-B2B2-FEAEAF84030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use several pricing techniques to stimulate early purch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s-leader pri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al-event pri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 reb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interest finan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er payment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rranties and service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cal dis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14-</a:t>
            </a:r>
            <a:fld id="{55CA1DBE-9303-43FD-9704-72505B9DCEA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4760" y="5065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2040" y="1890720"/>
            <a:ext cx="7696440" cy="338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consumers process and evaluate pr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set prices initially for products or serv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adapt prices to meet varying circumstances and opportun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a company initiate a price chan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respond to a competitor’s price challeng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5200" y="62208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ifferentiated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1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1464003B-0B0C-44E3-A659-0669DF0278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6504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ice discriminatio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ccurs when a company sells a product or service at two or more prices that do not reflect a difference in cost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irst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a separate price to each customer depending on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tensity of their dema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cond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less to buyers who buy a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arger volum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ird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different amounts to different classes of buyers, as in the following cas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ustomer-segment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duct-form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age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hannel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ocation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Time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3014640" y="5827680"/>
            <a:ext cx="59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l-Ahly Football Club charges different prices for its football games, depending on the  popularity of the rival tea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image"/>
          <p:cNvPicPr/>
          <p:nvPr/>
        </p:nvPicPr>
        <p:blipFill>
          <a:blip r:embed="rId2"/>
          <a:stretch/>
        </p:blipFill>
        <p:spPr>
          <a:xfrm>
            <a:off x="5781600" y="3738600"/>
            <a:ext cx="30481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404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Initiating and Responding to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C1915371-92CF-41BC-91FD-830F04414B2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65040" y="1898640"/>
            <a:ext cx="82296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might cut prices due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lant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 to dominate the market through lower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pe of gaining market sh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itle 1"/>
          <p:cNvSpPr/>
          <p:nvPr/>
        </p:nvSpPr>
        <p:spPr>
          <a:xfrm>
            <a:off x="295200" y="12254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B2ABA3A8-12B6-41CD-B93C-500AF978954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334800" y="1346040"/>
            <a:ext cx="82296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-cutting strategy can lead to possible trap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s customers to demand price conce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s salespeople to offer price conce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quality trap – consumers assume quality is 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gile market-share trap – buys share but not loyal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llow-pockets trap – competitors have deeper cash rese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-war tr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999630B2-79F0-46CD-BA95-EF2DF8506D5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334800" y="1346040"/>
            <a:ext cx="82296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uccessful price increase can raise profits considerab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628560" y="5773680"/>
            <a:ext cx="7039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14.1: Profits Before and After a Price Increas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10" descr="image"/>
          <p:cNvPicPr/>
          <p:nvPr/>
        </p:nvPicPr>
        <p:blipFill>
          <a:blip r:embed="rId2"/>
          <a:stretch/>
        </p:blipFill>
        <p:spPr>
          <a:xfrm>
            <a:off x="411120" y="1797120"/>
            <a:ext cx="79995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F2C7B2BC-5A2B-4EDA-AD80-AF25AF3BA93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e can be increased in the following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ayed quotation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alator clau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bund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disc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2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811BDC05-CEBD-423C-90FB-2B2EE27549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ternative approac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rinking the amount of product instead of raising the pric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stituting less-expensive materials or ingredie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ing or removing product featu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moving or reducing product services, such as installation or free delive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ing less-expensive packaging material or larger package siz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ing the number of sizes and models offer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ing new economy b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43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respond to a competitor’s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BD79C2B-BE60-4D37-830D-56FE1981948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365040" y="1879560"/>
            <a:ext cx="82296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needs to consider the following issu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y did the competitor change the price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es the competitor plan to make the price change temporary or permanen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will happen to the company’s market share and profits if it does not respond? Are other companies going to respond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are the competitors’ and other firms’ responses likely to be to each possible reactio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4520" y="6159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Responding to Competitors’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8" descr=""/>
          <p:cNvPicPr/>
          <p:nvPr/>
        </p:nvPicPr>
        <p:blipFill>
          <a:blip r:embed="rId1"/>
          <a:stretch/>
        </p:blipFill>
        <p:spPr>
          <a:xfrm>
            <a:off x="525600" y="5064120"/>
            <a:ext cx="7781760" cy="961920"/>
          </a:xfrm>
          <a:prstGeom prst="rect">
            <a:avLst/>
          </a:prstGeom>
          <a:ln w="0">
            <a:noFill/>
          </a:ln>
        </p:spPr>
      </p:pic>
      <p:grpSp>
        <p:nvGrpSpPr>
          <p:cNvPr id="44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441" name="TextBox 5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respond to a competitor’s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D64FE2E-307C-4783-8B58-DAD540C2A60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65040" y="1879560"/>
            <a:ext cx="82296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 leaders often face aggressive price cutting by smaller firms trying to gain market share. Possible responses includ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price and add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 price and improve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unch a low-price fighter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4520" y="6159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Responding to Competitors’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44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40520" y="50371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ess Association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ON RYAN / AP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3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diablitzimages (uk) Limit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5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eter J. Howe, “The Next Pinch: Fees to Check Bags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oston Globe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March 8, 2007; Katherine Heires, “Why It Pays to Give Away the Store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 2.0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October 2006, pp. 36–37; Kerry Capel, “Wal-Mart with Wings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Week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November 27, 2006, pp.44–45; Matthew Maier, “A Radical Fix for Airlines: Make Flying Free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 2.0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April 2006, pp.32–34; Gary Stoller, “Would You Like Some Golf Balls with That Ticket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USA Today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October 30, 199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8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dapted from Russell S. Winer, “Behavioral Perspectives on Pricing: Buyers’ Subjective Perceptions of Price Revisited,” in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Issues in Pricing: Theory and Researc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ed. Timothy Devinney (Lexington, MA: Lexington Books, 1988), pp. 35–5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9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Getty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loomberg 8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avid Kiley, “U.S. Automakers Get a Bum Rap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USA Today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January 15, 2004, p. B5. Copyright © 2004 USA TODAY. Reprinted with permis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1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zza Fahmy. Reproduced with permis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7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dapted from Thomas T. Nagle and Reed K. Holden,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The Strategy and Tactics of Pricing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3rd edn (Upper Saddle River, NJ: Prentice Hall, 2001), Chapter 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32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NameerGalal / Demotix 395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Understanding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F871AEF3-2010-4398-B913-0EBB0651424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979640"/>
            <a:ext cx="82296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ing practices have changed significantly in recent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y companies no longer follow the low-pricing trend, and have successfully traded consumers up to more expensive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357120" y="960480"/>
            <a:ext cx="82296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 Changing Pric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232000" y="4505400"/>
            <a:ext cx="380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Nescafé Cappucino was introduced at a higer price than their regular coffee sachets.</a:t>
            </a: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3" descr="image"/>
          <p:cNvPicPr/>
          <p:nvPr/>
        </p:nvPicPr>
        <p:blipFill>
          <a:blip r:embed="rId2"/>
          <a:stretch/>
        </p:blipFill>
        <p:spPr>
          <a:xfrm>
            <a:off x="6153120" y="322740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E3E6D980-1F49-44E8-9A9E-CE697E13C69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65040" y="131616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nternet allows sellers to discriminate between buyers, and buyers to discriminate between sell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Buy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t instant price comparisons from thousands of vendors. pricena,price-s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me their price and have it met. Priceline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t products free.  Microsof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ell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 customer behavior and tailor offers to individuals. 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ive certain customers access to special prices. a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Both buyers and sell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otiate prices in online auctions and exchanges. Souq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 Changing Pric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979D028-BE20-4D59-8105-AF54554B61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65040" y="131616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do their pricing in a variety of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ten it is not done well. Common pricing mistakes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Simplistically determining costs and taking traditional industry margi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Failure to revise price to capitalize on market chang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Setting price independently of the rest of the marketing mi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Failure to vary price by product item, market segment, distribution channels, and purchase occas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ve pricing strategies mus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Understand consumer pricing psycholog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Have a systematic approach to setting, adapting, and changing pri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ow Companies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0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22FCD6F-211F-4FCC-B522-5E16761FF16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65040" y="1566720"/>
            <a:ext cx="82296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derstanding how consumers arrive at their perceptions of prices is an important marketing prior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re we consider three key topic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–quality i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24DFD451-E1A3-4234-A9F8-223A162FBD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1- 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often employ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ference pric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comparing an observed price to an internal reference price they reme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137360" y="5102280"/>
            <a:ext cx="2006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2: Possible Consumer Reference Pric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1" descr="image"/>
          <p:cNvPicPr/>
          <p:nvPr/>
        </p:nvPicPr>
        <p:blipFill>
          <a:blip r:embed="rId2"/>
          <a:stretch/>
        </p:blipFill>
        <p:spPr>
          <a:xfrm>
            <a:off x="254160" y="2703600"/>
            <a:ext cx="6924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6B55B440-D5C8-4CCB-8102-18A7F9E3DE5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1- 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consumers think of one or more of these frames of reference, their perceived price can vary from the stated pr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5405400" y="3114720"/>
            <a:ext cx="266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igh reference prices in the consumer electronics industry have trained consumers to gravitate toward ‘sale’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2" descr="image"/>
          <p:cNvPicPr/>
          <p:nvPr/>
        </p:nvPicPr>
        <p:blipFill>
          <a:blip r:embed="rId2"/>
          <a:stretch/>
        </p:blipFill>
        <p:spPr>
          <a:xfrm>
            <a:off x="382680" y="2743200"/>
            <a:ext cx="4925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28T14:14:03Z</dcterms:modified>
  <cp:revision>118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