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2DA323-2A4F-4457-B511-5224D50DD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7293B3-F5C6-4C4B-B520-5F148DF0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Verdana"/>
              </a:rPr>
              <a:t>Hybri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07E896-1D25-494C-8187-EB08CD806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FBC5-6361-4A42-B9D2-CF2F8E0E7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4BB0-35BE-4D18-BD5F-07ECD179A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61C3-94FF-41E6-9469-1ACCFE80F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2F02-32C3-471C-A7E9-FC1D4EDBA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6C7A5-3FDA-4BC0-AA7D-74738CC82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00722-329E-4094-BB69-300FC55FF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7773-9987-418E-A592-ECFD0F7A4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D1A3B-E925-4205-A9AA-BE6905E28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CB2DE-C289-4DCC-9623-8DBD1468A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CB4A8-7122-4975-9D51-1612DFC8E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1DA47-AF3A-4474-9AB4-49A0AD4E9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498D-963C-4B43-80B4-388339CE1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7E1F0-015E-4B32-BF55-48383B67A2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6FE17-4ACF-468A-B430-33318D0547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0DB6-822A-4E38-8CCE-21B2BBA093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AEFD0-CC91-4601-B657-1772FF7961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E9FD3-BBE7-4E03-B89F-E88DC96CE8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A029-8CAD-40B8-B1C8-0A88C83C37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1E7E-58E0-4AD6-8FCE-673527A5D2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4862-CA29-439D-9250-B4DFA3BCD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9925-611F-414D-A4A3-E21CC1196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E2D0-3F8E-4C17-A6DE-30962C36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C76E-A41B-4C60-BDFD-C5598BA5F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F017-40DC-4A71-B482-0CFD96EE5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8711-955B-4C38-AC65-39D605AC7E6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637E-87B5-459D-8C49-34FB40A50F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46ACC03E-7FE3-42C1-9C44-BFC1A7ACCCD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34800" y="8175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ve flows are illustrated in Figure 15.2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55680" y="2271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Functions and 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47760" y="575136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2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ve Marketing Flows in the Marketing Cha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r Forklift Truck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2" descr="image"/>
          <p:cNvPicPr/>
          <p:nvPr/>
        </p:nvPicPr>
        <p:blipFill>
          <a:blip r:embed="rId2"/>
          <a:stretch/>
        </p:blipFill>
        <p:spPr>
          <a:xfrm>
            <a:off x="136440" y="1270080"/>
            <a:ext cx="8821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2D875A0C-1E97-4E43-A295-51D7CE01A8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4760" y="1305000"/>
            <a:ext cx="835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roducer and the final customer are part of every channe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umber of intermediary levels determines the length of a chan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365040" y="6634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55760" y="587052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3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onsumer and Industrial Marketing Channel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1" descr="image"/>
          <p:cNvPicPr/>
          <p:nvPr/>
        </p:nvPicPr>
        <p:blipFill>
          <a:blip r:embed="rId2"/>
          <a:stretch/>
        </p:blipFill>
        <p:spPr>
          <a:xfrm>
            <a:off x="244440" y="1976400"/>
            <a:ext cx="852156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4CCF16D-C582-4ED3-B2FA-938E861F2F4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74760" y="1647720"/>
            <a:ext cx="835632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s and ideas companies also face the problem of making their output available and accessible to target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internet and other technologies advance, service industries such as banking, insurance, travel, and stock buying and selling are operating through new chann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 Sector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-Design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4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5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6DE23786-A3B1-4E65-A9E8-588AA8B0014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12920" y="1406520"/>
            <a:ext cx="833436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igning a marketing channel system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custome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ing channel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ing major channel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major channel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’ll look at each in turn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6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9E3B6EE4-0184-4F59-83C5-69063137FF5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1- </a:t>
            </a: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nalyzing Customers’ Desir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 Output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nels produce five service outpu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 size (car rent – tax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ing/delivery time. (Fast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tial convenience. (easy to rea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variety. (greater choice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backup (credit – repair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6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14DA3A33-C9EE-440C-987D-035B6704234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- Establishing Objectives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should state their channel objectives in terms of targeted service output levels. (cost / servi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nel objectives vary with product character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sh – nonstandard- Installations – high val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factors affect channel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ntering new mar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usiness environment pressures, e.g. economic conditions, laws,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7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2EE5E5BA-6586-4169-8F7F-C71161BFE0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- Identifying and Evaluating Maj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65040" y="1889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ies can choose from a wide variety of channels for reaching customers, from sales forces to agents, distributors, dealers, direct mail, telemarketing, and th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channel has unique strengths as well as weakn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8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943235C0-DBBA-4609-B270-03E77201E7B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dentifying and Evaluating Maj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77920" y="213372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Number of Intermedi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strategies are availabl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clusive distribution (control–close partnership- new car -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ive distribution (New company- specia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nsive distribution (grocery- hard long run – price w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572000" y="5288040"/>
            <a:ext cx="407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cDonald’s Bahrain operates one of the few 24/7 McDelivery services in the worl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hannels be designed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1AA266D7-BDB9-4D17-9AE2-E2BD89A37A3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4- Evaluating the Major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12920" y="1758960"/>
            <a:ext cx="80452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ch channel alternative needs to be evaluated against economic, control, and adaptive crite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onomic criteri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ch channel alternative will produce a different level of sales and co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98440" y="5924520"/>
            <a:ext cx="8229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4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Value-Adds versus Costs of Different Channel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1" descr="image"/>
          <p:cNvPicPr/>
          <p:nvPr/>
        </p:nvPicPr>
        <p:blipFill>
          <a:blip r:embed="rId2"/>
          <a:stretch/>
        </p:blipFill>
        <p:spPr>
          <a:xfrm>
            <a:off x="2263680" y="3013200"/>
            <a:ext cx="4905360" cy="28684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365040" y="3436920"/>
            <a:ext cx="15080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z All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ranch 4.0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hone 0.5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0.2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0.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-Management Decis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95B02AED-2703-4D10-9AA4-1F22F48204C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a company has chosen a channel system, it mus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, train, motivate, and evaluate individual intermediaries for each channe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ify channel design and arrangements over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ing and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Integrated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ing chann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4195800" y="2455920"/>
            <a:ext cx="4025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lecting 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6FB24DEB-D049-4093-99B2-82BCEC7A557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any needs to decide which characteristics distinguish the better intermediaries. Criteria might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umber of years in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lines carr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owth and profit re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opera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ice repu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ture growth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e of client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5040" y="4716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raining and Motivating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0D2B5FBF-79A7-4206-916B-10745029A4C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hannel power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 the ability to alter channel members’ behavior so that they take actions they would not otherwise hav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anies can use the following types of power to gain cooper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ercive power (withdra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ward power (benefi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itimate power (warrante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t power (Knowledg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ent power (Associate with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6937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Evaluating Channel Member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decisions do companies face in managing their channe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A002547F-1418-46DF-A350-50B7B8669C9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ers must periodically evaluate intermediaries’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y can use standards such 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les quota at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verage inventory lev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 delivery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eatment of damaged and lost go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operation in promotional and training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hannel Integration and System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AD60A5F7-10AB-4E98-A043-1C2910F6943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65040" y="1627200"/>
            <a:ext cx="82296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VMS, the producer, wholesaler(s), and retailer(s) act as a unified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types of VM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porate VMS (one ownership) S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ered VMS (one member _ P&amp;G / American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ctual VMS (Independent fir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itle 1"/>
          <p:cNvSpPr/>
          <p:nvPr/>
        </p:nvSpPr>
        <p:spPr>
          <a:xfrm>
            <a:off x="365040" y="10555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Vertical Marketing Systems (VM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2"/>
          <a:stretch/>
        </p:blipFill>
        <p:spPr>
          <a:xfrm>
            <a:off x="5530680" y="4218120"/>
            <a:ext cx="3333960" cy="1728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50160" y="27957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5AFDB123-B7AD-4361-9D8E-EC02DC357E5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65040" y="1627200"/>
            <a:ext cx="82296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orizontal marketing syste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wo or more unrelated companies put together resources or programs to exploit an emerging market opport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itle 1"/>
          <p:cNvSpPr/>
          <p:nvPr/>
        </p:nvSpPr>
        <p:spPr>
          <a:xfrm>
            <a:off x="355680" y="7333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Horizontal 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3295800" y="2711520"/>
            <a:ext cx="366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Horizontal marketing systems include HDFC Bank’s arrangement with exchange houses throughout several Gulf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12" descr="image"/>
          <p:cNvPicPr/>
          <p:nvPr/>
        </p:nvPicPr>
        <p:blipFill>
          <a:blip r:embed="rId2"/>
          <a:stretch/>
        </p:blipFill>
        <p:spPr>
          <a:xfrm>
            <a:off x="393840" y="2693880"/>
            <a:ext cx="278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37610618-A68D-48FE-BAF4-631686D44D9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65040" y="1627200"/>
            <a:ext cx="822960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channel 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ccurs when a single firm uses two or more marketing channels to reach one or more customer segme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egrated marketing channel system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 one in which the same strategies and tactics of selling are used through all channe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itle 1"/>
          <p:cNvSpPr/>
          <p:nvPr/>
        </p:nvSpPr>
        <p:spPr>
          <a:xfrm>
            <a:off x="355680" y="5922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4753080" y="3537000"/>
            <a:ext cx="2919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A traveler can get flight schedule information and rates and buy a ticket through the airline’s own office, through airline appointed agents, through a travel agent, through the airline’s website, or through an online web portal or intermediar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12" descr="image"/>
          <p:cNvPicPr/>
          <p:nvPr/>
        </p:nvPicPr>
        <p:blipFill>
          <a:blip r:embed="rId2"/>
          <a:stretch/>
        </p:blipFill>
        <p:spPr>
          <a:xfrm>
            <a:off x="808200" y="3427560"/>
            <a:ext cx="3431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6327720" y="0"/>
            <a:ext cx="2816280" cy="1116000"/>
            <a:chOff x="6327720" y="0"/>
            <a:chExt cx="2816280" cy="111600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0"/>
              <a:ext cx="2816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84960" y="349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21A3720A-FBEE-46F6-9CCD-BCFC79A78FB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276120" y="20952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2"/>
          <a:stretch/>
        </p:blipFill>
        <p:spPr>
          <a:xfrm>
            <a:off x="360360" y="1015920"/>
            <a:ext cx="7763040" cy="9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769160" y="1569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1"/>
          <p:cNvSpPr/>
          <p:nvPr/>
        </p:nvSpPr>
        <p:spPr>
          <a:xfrm>
            <a:off x="441360" y="2241720"/>
            <a:ext cx="8199360" cy="35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Train all store associates on processes for online merchandise retur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List your company’s freephone number on the internet homepage, and be sure your customer-service hours of operation are easily acce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rovide an information center that is easy to navigate and includ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contact information, FAQs, guarantees, return policies, and tips for first-time custome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mplement a store locator feature that includes store locations, hours, and ev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Make store pickup for purchases an option and include real-time inventory levels, where applica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ost the store’s weekly circular online for a more complete multichannel experie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Offer gift certificates that can be redeemed online and offlin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Send e-mail notifications of the order, shipping, and return credit; include a reminder of the returns process in notifications as well as a link to your store locato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Supply all pertinent/compatible information for store return of merchandise on the packing slip or invo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FF267CC7-D9B2-4145-8181-E9B8AB043BA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itle 1"/>
          <p:cNvSpPr/>
          <p:nvPr/>
        </p:nvSpPr>
        <p:spPr>
          <a:xfrm>
            <a:off x="355680" y="5922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Integrating Multichannel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26880" y="1616040"/>
            <a:ext cx="77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igure 15.6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ows a simple grid to help make channel architecture decis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74840" y="5730840"/>
            <a:ext cx="8229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6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Hybrid Grid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11" descr="image"/>
          <p:cNvPicPr/>
          <p:nvPr/>
        </p:nvPicPr>
        <p:blipFill>
          <a:blip r:embed="rId2"/>
          <a:stretch/>
        </p:blipFill>
        <p:spPr>
          <a:xfrm>
            <a:off x="1433520" y="2200320"/>
            <a:ext cx="64008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nflict, Cooperation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petition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7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EDD8DFBD-80C9-4830-BF3D-B8D1AC6892B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06440" y="2281320"/>
            <a:ext cx="822960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nel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ccurs when one member’s actions prevent another channel from achieving its go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s of channel confli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ulticha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0360" indent="-360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itle 1"/>
          <p:cNvSpPr/>
          <p:nvPr/>
        </p:nvSpPr>
        <p:spPr>
          <a:xfrm>
            <a:off x="355680" y="156672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ypes of Conflict and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E14FDF82-A0DC-4B9D-8F32-69BE4B1B05F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auses of Channel 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365040" y="1687680"/>
            <a:ext cx="82296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lict may arise fro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in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lear roles and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s in 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mediaries’ dependence on manufactur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15-</a:t>
            </a:r>
            <a:fld id="{573B5876-6B3C-4664-96BB-506FB2B86B9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76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400" y="1608120"/>
            <a:ext cx="8111880" cy="4464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marketing channel system and value net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ork do marketing channels perfor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channels be design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ecisions do companies face in managing their chann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companies integrate channels and manage channel confli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key issues with e-commerc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8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8B2CCD17-9942-4CF8-A9A7-8BCAF85408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naging Channel 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26960" y="5527800"/>
            <a:ext cx="8229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5.3: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trategies to Manage Channel Conflic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9" descr="image"/>
          <p:cNvPicPr/>
          <p:nvPr/>
        </p:nvPicPr>
        <p:blipFill>
          <a:blip r:embed="rId2"/>
          <a:stretch/>
        </p:blipFill>
        <p:spPr>
          <a:xfrm>
            <a:off x="455760" y="1916280"/>
            <a:ext cx="8289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9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should companies integrate channels and manage channel conflic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97073944-8211-4342-91A5-BF0B84220EC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itle 1"/>
          <p:cNvSpPr/>
          <p:nvPr/>
        </p:nvSpPr>
        <p:spPr>
          <a:xfrm>
            <a:off x="344520" y="83340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ilution and Cannib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65040" y="1687680"/>
            <a:ext cx="494028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must be careful not to dilute their brands through inappropriate channe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 especially a concern with luxury brands whose images are often built on the basis of exclusivity and personalized servi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933640" y="5295960"/>
            <a:ext cx="587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Coach avoids brand dilution while enjoying multichannel distribution by keeping its full-price store shoppers separate from its discount shoppers, even locating its factory outlets a minimum of 95 kilometers from its retail st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11" descr="Untitled"/>
          <p:cNvPicPr/>
          <p:nvPr/>
        </p:nvPicPr>
        <p:blipFill>
          <a:blip r:embed="rId2"/>
          <a:stretch/>
        </p:blipFill>
        <p:spPr>
          <a:xfrm>
            <a:off x="6053040" y="1397160"/>
            <a:ext cx="25988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E-Commerce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2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0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key issues with e-commerc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2721E1A-B976-40BF-971D-602010FB4A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busines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the use of electronic means and platforms to conduct a company’s busin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commerc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a company or site offers to transact or facilitate the selling of products and services on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purchas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purchase of goods, services, and information from various online suppli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-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company efforts to inform buyers, communicate, promote, and sell its products and services over the intern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E-Commerce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41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6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key issues with e-commerce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F2963C81-B10E-4FA3-9675-FBF14408FA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1800" indent="-36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ext explores particular issues for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ure-click compan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companies that have launched a website without any previous existence as a fi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ick-and-click compan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existing companies that have added an online site for information and/or e-commer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-commerc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use of mobile phones or PDAs to access the intern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 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m Tracy Photograph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ter N. Child, Suzanne Heywood, and Michael Kliger, “Do Retail Brands Travel?,”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McKinsley Quarterly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January 2002, pp. 11–13. Reprinted by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8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chen Tack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‘The Value-Adds versus Costs of Different Channels’ adapted from Oxford Associates, Dr. Rowland T. Moriarty, Cubex Corporation. Reproduced with kind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TravelSto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9 Getty Image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dia Today Group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0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gypt Air, www.egyptair.com. Reproduced with kind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2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dapted from “Marketing Hybrid Marketing Systems”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arvard Business Review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p.150 (Moriarty, R.T., and Moran, U.), November–December 1990, copyright © 1990 by President and Fellows of Harvard College. All rights reser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36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ss Association Imag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ng lei / 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Channels and Value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Network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86EB1B03-EC13-4728-A0B3-7742E92CCFD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52440" y="1536840"/>
            <a:ext cx="83948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han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set of interdependent organizations involved in the process of making a product or service available for use or consum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hannel syste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articular set of marketing channels employed by a fi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Importance of 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B487A1F2-3766-463C-AFFE-864298B7868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79440" y="139716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ies must decide how much effort to devote to push versus pull market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sh strateg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s the manufacturer’s sales force, trade promotion money, and other means to induce intermediaries to carry, promote, and sell the product to end us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ll strateg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s advertising, promotion, and other forms of communication to persuade consumers to demand the product from intermedia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6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19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5C1FF5FB-C8F9-482D-A2EE-B2F15B5613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52440" y="1536840"/>
            <a:ext cx="83948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brid channel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use of multiple channels of distribution to reach customers in a defined mar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thin hybrid channels, customers expect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hannel integr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with features such 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ability to order a product online and pick it up at a convenient retail lo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ability to return an online-ordered product to a nearby store of the retai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The right to receive discounts and promotional offers based on total online and offline purch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5040" y="784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derstanding Customer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0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69765CFA-DBD1-4AD5-81BA-F3B8C7DAB2A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hoosing channels, marketers must be aware that different consumers have different nee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ers fall into one of four categor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bitual shoppers  (Same place – Same mann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value deal seekers (need – lowest pri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ety-loving shoppers (Info – High tech – pricel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-involvement shoppers (Info – low cost chanl-suppo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268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Understanding Customer Need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0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1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 marketing channel system and value net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8F145EEA-DA87-4329-A714-D29D79A91A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5910120"/>
            <a:ext cx="8229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5.1: What Do European Customers Value?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84880" y="1701720"/>
            <a:ext cx="3502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gure 15.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ws, customer profiles for these types of retailers differed across three markets studi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1" descr="image"/>
          <p:cNvPicPr/>
          <p:nvPr/>
        </p:nvPicPr>
        <p:blipFill>
          <a:blip r:embed="rId2"/>
          <a:stretch/>
        </p:blipFill>
        <p:spPr>
          <a:xfrm>
            <a:off x="320760" y="1135080"/>
            <a:ext cx="5018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Role of Marketing Chann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work do marketing channels perfor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5-</a:t>
            </a:r>
            <a:fld id="{4D9D7416-C477-43DC-80EA-B02DAB21CC5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6504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mbers of the marketing channel perform a number of key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365040" y="98424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 Functions and 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2120" y="5861160"/>
            <a:ext cx="8229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15.1: Channel Member Func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2" descr="image"/>
          <p:cNvPicPr/>
          <p:nvPr/>
        </p:nvPicPr>
        <p:blipFill>
          <a:blip r:embed="rId2"/>
          <a:stretch/>
        </p:blipFill>
        <p:spPr>
          <a:xfrm>
            <a:off x="387360" y="2300400"/>
            <a:ext cx="63579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2-05T13:13:05Z</dcterms:modified>
  <cp:revision>112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