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E6D683-D86B-49EC-958D-EAB979C3D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00872C-3605-4F64-92CC-2CE87D6B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Verdana"/>
              </a:rPr>
              <a:t>Hybri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AA75C3-A2DB-42F9-86B2-7107EFC46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BA4A-6036-4959-9682-008AB9464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8B52-788D-4201-885D-317F1EB34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47E0-F3C0-4AB7-AD25-4FF0EF5B2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3486-61C2-421B-B59D-17DF6C414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638AB-12AC-459B-9BC7-A6954870E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51D22-DF59-4E0E-9FA3-1EC465EE4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2073C-3F30-487A-BA8F-497BA7A2B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88D08-D18C-4D9D-AAAF-CBF8F8F351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49776-7BF4-471B-A843-0195664BC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A9F4-47C2-4E5E-9A70-446A0D064F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F7E1-1766-4085-89A9-95076A486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4967-6E8C-41C6-A128-DD06B13F7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85306-E7DE-4C5E-8F22-0F842A02E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CC077-C2E0-4ABE-8A5B-2F5E1803E7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4882-248E-411D-928B-DF3CB8B274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491A-8EC8-4D39-9FCC-67CDD8357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E6A0B-FD46-447B-AE9C-9546E94EAB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6417-EBE5-4FE8-80D9-67FAB98CA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C4F7-2F1E-40FA-896E-3188D4E5EB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FDDE-7B86-44F9-A92D-C36D36C29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4462-4E48-45A5-B14E-DB06D61EE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C589-FE06-4A81-A5B2-0BBB84116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0607-8B37-43AA-8631-AE875F2E4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EEE-79E5-4876-B7B5-2EE1D630F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816-879C-4008-BFF6-787BB1C83B4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CD51-2368-435D-94B6-C208C326900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9A27672C-9015-4EEE-90A6-E78A0CE3B7E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34800" y="8175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ve flows are illustrated in Figure 15.2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55680" y="2271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Functions and 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47760" y="575136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2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ve Marketing Flows in the Marketing Cha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r Forklift Truck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2" descr="image"/>
          <p:cNvPicPr/>
          <p:nvPr/>
        </p:nvPicPr>
        <p:blipFill>
          <a:blip r:embed="rId2"/>
          <a:stretch/>
        </p:blipFill>
        <p:spPr>
          <a:xfrm>
            <a:off x="136440" y="1270080"/>
            <a:ext cx="8821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611BAC35-F544-4539-999F-4815D408CC2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4760" y="1305000"/>
            <a:ext cx="835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roducer and the final customer are part of every channe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umber of intermediary levels determines the length of a chan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365040" y="6634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55760" y="587052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3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onsumer and Industrial Marketing Channel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1" descr="image"/>
          <p:cNvPicPr/>
          <p:nvPr/>
        </p:nvPicPr>
        <p:blipFill>
          <a:blip r:embed="rId2"/>
          <a:stretch/>
        </p:blipFill>
        <p:spPr>
          <a:xfrm>
            <a:off x="244440" y="1976400"/>
            <a:ext cx="852156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D8162FDF-55FE-4500-9B58-773CFC21D4C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74760" y="1647720"/>
            <a:ext cx="835632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s and ideas companies also face the problem of making their output available and accessible to target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internet and other technologies advance, service industries such as banking, insurance, travel, and stock buying and selling are operating through new chann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 Sector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-Design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4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5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1446E35D-6E5E-4B84-9A30-7C763A7C507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12920" y="1406520"/>
            <a:ext cx="833436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igning a marketing channel system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custome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ing channel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ing major channel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major channel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’ll look at each in turn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6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F987D7B5-B485-4A05-B5D9-BB503ACCE88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1- </a:t>
            </a: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nalyzing Customers’ Desi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 Output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nels produce five service outpu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 size (car rent – tax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ing/delivery time. (Fast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tial convenience. (easy to rea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variety. (greater choice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backup (credit – repair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6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C3AEB5FD-ACAF-4168-A70F-DEBF1193B00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- Establishing Objectives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should state their channel objectives in terms of targeted service output levels. (cost / servi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nel objectives vary with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sh – nonstandard- Installations – high val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factors affect channel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ntering new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usiness environment pressures, e.g. economic conditions, laws,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ED3CF3BB-7EE0-4805-9373-92D3F8252F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- Identifying and Evaluating Maj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ies can choose from a wide variety of channels for reaching customers, from sales forces to agents, distributors, dealers, direct mail, telemarketing, and th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channel has unique strengths as well as weakn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8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7A1AE6A6-CBCC-4721-9383-12226C8C4AA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dentifying and Evaluating Maj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77920" y="213372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Number of Intermedi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strategies are availabl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clusive distribution (control–close partnership- new car -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ive distribution (New company- specia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nsive distribution (grocery- hard long run – price w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572000" y="5288040"/>
            <a:ext cx="407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cDonald’s Bahrain operates one of the few 24/7 McDelivery services in the worl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57414F08-A043-407C-991D-59AE364C7F6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4- Evaluating the Major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12920" y="1758960"/>
            <a:ext cx="80452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ch channel alternative needs to be evaluated against economic, control, and adaptive crite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onomic criteri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ch channel alternative will produce a different level of sales and co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98440" y="5924520"/>
            <a:ext cx="8229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4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Value-Adds versus Costs of Different Channel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1" descr="image"/>
          <p:cNvPicPr/>
          <p:nvPr/>
        </p:nvPicPr>
        <p:blipFill>
          <a:blip r:embed="rId2"/>
          <a:stretch/>
        </p:blipFill>
        <p:spPr>
          <a:xfrm>
            <a:off x="2263680" y="3013200"/>
            <a:ext cx="4905360" cy="28684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365040" y="3436920"/>
            <a:ext cx="15080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z All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ranch 4.0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hone 0.5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0.2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0.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-Management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10C93B31-47BC-4A6B-B6E2-97BC501F32B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a company has chosen a channel system, it mus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, train, motivate, and evaluate individual intermediaries for each channe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ify channel design and arrangements over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ing and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Integrated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ing chann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4195800" y="2455920"/>
            <a:ext cx="4025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lecting 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B939CEC-424D-4E93-8560-03A3F6E1FF8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needs to decide which characteristics distinguish the better intermediaries. Criteria might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umber of years in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lines carr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owth and profit re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opera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ice repu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ture growth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e of client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5040" y="4716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raining and Motivating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A5FF6F17-DB91-4928-A270-FA171BF1590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hannel power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 the ability to alter channel members’ behavior so that they take actions they would not otherwise hav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can use the following types of power to gain cooper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ercive power (withdra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ward power (benefi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itimate power (warrante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t power (Knowledg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ent power (Associate with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valuating 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FCE727B2-44F4-4B46-B6CA-F9BB6E5F853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ers must periodically evaluate intermediaries’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y can use standards such 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les quota at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inventory lev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 delivery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eatment of damaged and lost go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operation in promotional and training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 Integration and System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70F001F6-E9EE-4312-93E0-8CDFEC317D4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65040" y="1627200"/>
            <a:ext cx="82296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VMS, the producer, wholesaler(s), and retailer(s) act as a unified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types of V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porate VMS (one ownership) S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ered VMS (one member _ P&amp;G / American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ctual VMS (Independent fir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itle 1"/>
          <p:cNvSpPr/>
          <p:nvPr/>
        </p:nvSpPr>
        <p:spPr>
          <a:xfrm>
            <a:off x="365040" y="10555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Vertical Marketing Systems (VM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2"/>
          <a:stretch/>
        </p:blipFill>
        <p:spPr>
          <a:xfrm>
            <a:off x="5530680" y="4218120"/>
            <a:ext cx="3333960" cy="1728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50160" y="27957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021C2AB9-CE93-496D-AA84-50B34C7057F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65040" y="1627200"/>
            <a:ext cx="82296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orizontal marketing syste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wo or more unrelated companies put together resources or programs to exploit an emerging market opport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itle 1"/>
          <p:cNvSpPr/>
          <p:nvPr/>
        </p:nvSpPr>
        <p:spPr>
          <a:xfrm>
            <a:off x="355680" y="7333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orizontal 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3295800" y="2711520"/>
            <a:ext cx="366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orizontal marketing systems include HDFC Bank’s arrangement with exchange houses throughout several Gulf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12" descr="image"/>
          <p:cNvPicPr/>
          <p:nvPr/>
        </p:nvPicPr>
        <p:blipFill>
          <a:blip r:embed="rId2"/>
          <a:stretch/>
        </p:blipFill>
        <p:spPr>
          <a:xfrm>
            <a:off x="393840" y="2693880"/>
            <a:ext cx="278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C88785F6-70BC-4AB3-BC3E-17BF2DC84A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65040" y="1627200"/>
            <a:ext cx="822960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channel 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ccurs when a single firm uses two or more marketing channels to reach one or more customer segme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egrated marketing channel system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 one in which the same strategies and tactics of selling are used through all channe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itle 1"/>
          <p:cNvSpPr/>
          <p:nvPr/>
        </p:nvSpPr>
        <p:spPr>
          <a:xfrm>
            <a:off x="355680" y="5922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4753080" y="3537000"/>
            <a:ext cx="2919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 traveler can get flight schedule information and rates and buy a ticket through the airline’s own office, through airline appointed agents, through a travel agent, through the airline’s website, or through an online web portal or intermediar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12" descr="image"/>
          <p:cNvPicPr/>
          <p:nvPr/>
        </p:nvPicPr>
        <p:blipFill>
          <a:blip r:embed="rId2"/>
          <a:stretch/>
        </p:blipFill>
        <p:spPr>
          <a:xfrm>
            <a:off x="808200" y="3427560"/>
            <a:ext cx="3431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6327720" y="0"/>
            <a:ext cx="2816280" cy="1116000"/>
            <a:chOff x="6327720" y="0"/>
            <a:chExt cx="2816280" cy="111600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0"/>
              <a:ext cx="2816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84960" y="349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708CA9BA-0D1D-400D-8F25-D2ABC2A5363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276120" y="20952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2"/>
          <a:stretch/>
        </p:blipFill>
        <p:spPr>
          <a:xfrm>
            <a:off x="360360" y="1015920"/>
            <a:ext cx="7763040" cy="9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769160" y="1569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1"/>
          <p:cNvSpPr/>
          <p:nvPr/>
        </p:nvSpPr>
        <p:spPr>
          <a:xfrm>
            <a:off x="441360" y="2241720"/>
            <a:ext cx="8199360" cy="35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Train all store associates on processes for online merchandise retur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List your company’s freephone number on the internet homepage, and be sure your customer-service hours of operation are easily acce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rovide an information center that is easy to navigate and includ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contact information, FAQs, guarantees, return policies, and tips for first-time custome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mplement a store locator feature that includes store locations, hours, and ev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Make store pickup for purchases an option and include real-time inventory levels, where applica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ost the store’s weekly circular online for a more complete multichannel experie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Offer gift certificates that can be redeemed online and offlin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Send e-mail notifications of the order, shipping, and return credit; include a reminder of the returns process in notifications as well as a link to your store locato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Supply all pertinent/compatible information for store return of merchandise on the packing slip or invo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7A1FD4D7-BBE6-4A69-A330-6EE4FA29BB9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itle 1"/>
          <p:cNvSpPr/>
          <p:nvPr/>
        </p:nvSpPr>
        <p:spPr>
          <a:xfrm>
            <a:off x="355680" y="5922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26880" y="1616040"/>
            <a:ext cx="77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igure 15.6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ows a simple grid to help make channel architecture decis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74840" y="5730840"/>
            <a:ext cx="8229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Hybrid Gr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11" descr="image"/>
          <p:cNvPicPr/>
          <p:nvPr/>
        </p:nvPicPr>
        <p:blipFill>
          <a:blip r:embed="rId2"/>
          <a:stretch/>
        </p:blipFill>
        <p:spPr>
          <a:xfrm>
            <a:off x="1433520" y="2200320"/>
            <a:ext cx="64008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nflict, Cooperation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etition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7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D21CA750-801A-4C56-8B3F-5F4A898564F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06440" y="2281320"/>
            <a:ext cx="822960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nel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ccurs when one member’s actions prevent another channel from achieving its go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s of channel confli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ulticha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itle 1"/>
          <p:cNvSpPr/>
          <p:nvPr/>
        </p:nvSpPr>
        <p:spPr>
          <a:xfrm>
            <a:off x="355680" y="156672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ypes of Conflict and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FC5A4204-BB0F-47B0-A37E-36E1245C6AA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auses of Channel 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365040" y="1687680"/>
            <a:ext cx="82296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lict may arise fro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in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roles and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mediaries’ dependence on manufactur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15-</a:t>
            </a:r>
            <a:fld id="{C33292FF-5E6F-4FCA-A894-6223EFB17C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76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400" y="1608120"/>
            <a:ext cx="8111880" cy="4464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marketing channel system and value net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ork do marketing channels perfor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channels be design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ecisions do companies face in managing their chann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companies integrate channels and manage channel confli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key issues with e-commerc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EA0F2C7-04A6-4648-8FD9-F90C8FBC6EF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naging Channel 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26960" y="5527800"/>
            <a:ext cx="8229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5.3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rategies to Manage Channel Conflic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9" descr="image"/>
          <p:cNvPicPr/>
          <p:nvPr/>
        </p:nvPicPr>
        <p:blipFill>
          <a:blip r:embed="rId2"/>
          <a:stretch/>
        </p:blipFill>
        <p:spPr>
          <a:xfrm>
            <a:off x="455760" y="1916280"/>
            <a:ext cx="8289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24EBD872-FBC1-4754-94A5-159BB0AD82F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ilution and Cannib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65040" y="1687680"/>
            <a:ext cx="49402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must be careful not to dilute their brands through inappropriate channe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 especially a concern with luxury brands whose images are often built on the basis of exclusivity and personalized servi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933640" y="5295960"/>
            <a:ext cx="587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Coach avoids brand dilution while enjoying multichannel distribution by keeping its full-price store shoppers separate from its discount shoppers, even locating its factory outlets a minimum of 95 kilometers from its retail st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11" descr="Untitled"/>
          <p:cNvPicPr/>
          <p:nvPr/>
        </p:nvPicPr>
        <p:blipFill>
          <a:blip r:embed="rId2"/>
          <a:stretch/>
        </p:blipFill>
        <p:spPr>
          <a:xfrm>
            <a:off x="6053040" y="1397160"/>
            <a:ext cx="25988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E-Commerce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key issues with e-commerc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3EEA114-673F-4750-821C-F6A00E2F5CC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busines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the use of electronic means and platforms to conduct a company’s busin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commerc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a company or site offers to transact or facilitate the selling of products and services on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purchas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purchase of goods, services, and information from various online suppl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company efforts to inform buyers, communicate, promote, and sell its products and services over the intern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E-Commerce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1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key issues with e-commerc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315700FD-37E0-4F7D-81B6-5A615D67106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ext explores particular issues for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ure-click compan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companies that have launched a website without any previous existence as a fi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ick-and-click compan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existing companies that have added an online site for information and/or e-commer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-commerc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use of mobile phones or PDAs to access the intern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m Tracy Photograph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ter N. Child, Suzanne Heywood, and Michael Kliger, “Do Retail Brands Travel?,”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McKinsley Quarterly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January 2002, pp. 11–13. Reprinted by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8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chen Tack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‘The Value-Adds versus Costs of Different Channels’ adapted from Oxford Associates, Dr. Rowland T. Moriarty, Cubex Corporation. Reproduced with kind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TravelSto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9 Getty Image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dia Today Group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gypt Air, www.egyptair.com. Reproduced with kind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2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apted from “Marketing Hybrid Marketing Systems”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arvard Business Review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.150 (Moriarty, R.T., and Moran, U.), November–December 1990, copyright © 1990 by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6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ss Association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ng lei / 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Channels and Value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Networ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EF7AAAAB-8C1C-40DB-97EC-8EE90619354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2440" y="1536840"/>
            <a:ext cx="83948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han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set of interdependent organizations involved in the process of making a product or service available for use or consum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hannel syste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articular set of marketing channels employed by a fi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Importance of 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9CBC535-0DA1-416B-A8ED-90A0FC1C05B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79440" y="139716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ies must decide how much effort to devote to push versus pull market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sh strateg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s the manufacturer’s sales force, trade promotion money, and other means to induce intermediaries to carry, promote, and sell the product to end us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ll strateg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s advertising, promotion, and other forms of communication to persuade consumers to demand the product from intermedia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3E58AA96-1234-45A3-AB47-82CEAE56A9A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52440" y="1536840"/>
            <a:ext cx="83948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brid channel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use of multiple channels of distribution to reach customers in a defined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thin hybrid channels, customers expect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hannel integr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with features such 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ability to order a product online and pick it up at a convenient retail lo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ability to return an online-ordered product to a nearby store of the retai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right to receive discounts and promotional offers based on total online and offline purch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derstanding Customer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0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46CF2F27-1F0D-47AB-BB6E-0A1336B817B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hoosing channels, marketers must be aware that different consumers have different nee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ers fall into one of four categor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bitual shoppers  (Same place – Same mann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value deal seekers (need – lowest pri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ety-loving shoppers (Info – High tech – pricel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involvement shoppers (Info – low cost chanl-suppo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268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derstanding Customer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CEFCB23D-3A12-48DF-9B9C-F308F16298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591012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1: What Do European Customers Value?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84880" y="1701720"/>
            <a:ext cx="3502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gure 15.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ws, customer profiles for these types of retailers differed across three markets studi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1" descr="image"/>
          <p:cNvPicPr/>
          <p:nvPr/>
        </p:nvPicPr>
        <p:blipFill>
          <a:blip r:embed="rId2"/>
          <a:stretch/>
        </p:blipFill>
        <p:spPr>
          <a:xfrm>
            <a:off x="320760" y="1135080"/>
            <a:ext cx="5018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Role of Marketing 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E4804445-9A3C-4B0D-96B8-0E7F56FA3DF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6504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mbers of the marketing channel perform a number of key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365040" y="98424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Functions and 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2120" y="5861160"/>
            <a:ext cx="8229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5.1: Channel Member Func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2" descr="image"/>
          <p:cNvPicPr/>
          <p:nvPr/>
        </p:nvPicPr>
        <p:blipFill>
          <a:blip r:embed="rId2"/>
          <a:stretch/>
        </p:blipFill>
        <p:spPr>
          <a:xfrm>
            <a:off x="387360" y="2300400"/>
            <a:ext cx="63579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2-05T13:13:05Z</dcterms:modified>
  <cp:revision>112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