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A755AE-CA68-4E80-A0CF-9FF857EEE7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5BF193-1FA4-4DDE-8B3D-5DC9B38CB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C4A64B-8922-4896-8212-38497F6C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CAF900-0219-4A8D-9E9C-BA964810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51C8904-705B-434C-A353-53D594D83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410B2AB-1C47-49F7-BF5F-C6D1DA44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7CA3-2AEA-44BD-A7DA-CDA093222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BB70-0C21-495F-A3A5-B157079D4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EEC9-7E81-4E0F-97F8-DBC514C0D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4047-8665-47C7-832E-70F82AE5B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38B21-0DD6-44D5-B284-0BA37FC561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7786D-E0E5-4047-968C-57221C5F5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1ADB7-90EB-4B2B-B6AC-C1E926F07B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FB666-DC57-45A7-9B21-5EC273B8F9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6E711-459D-420F-BBB1-F48C33B27B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B7528-A35A-4468-AC46-3C2AA1ED43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A0F02-966A-43A3-9A4A-EFAA462B4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FBC1-51D4-47F4-9BED-7F41247CD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9663B-2840-4DE9-A22F-068545842A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47C70-AF9D-44C1-987A-4F799153B6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51B81-5139-4226-8E19-0D00439A26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2D306-9EA5-41AE-A3A7-244A543A86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CFED4-C674-4D7A-9561-FD2EF4A4CB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63DF-4B6E-45D5-9641-CF6B552284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AAF7-AFB4-4B25-87F4-16A55685D4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D760-545F-406A-BD0F-A689D2319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5BD1-13E3-4E46-A8D1-6C0D700EA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8121-EDAB-45C1-8C4C-E00CDDD6B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B7DB-F475-4F5A-9C5D-123A55E18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57F2-36A8-4DD2-847B-AC33C286F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841F-9429-4B8F-BFA9-86E08239C20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B473-A4FE-4691-A547-BECE8F008C0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s://www.youtube.com/watch?v=-OL_BPHqv6k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7000" y="1472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Communications,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, and Sal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9" name="TextBox 5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3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6BB498C0-E087-4609-A6D3-BB99E945BE4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84120" y="5862600"/>
            <a:ext cx="6039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1: Integrating Marketing Communications to Build Brand Equity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0" descr="image"/>
          <p:cNvPicPr/>
          <p:nvPr/>
        </p:nvPicPr>
        <p:blipFill>
          <a:blip r:embed="rId2"/>
          <a:stretch/>
        </p:blipFill>
        <p:spPr>
          <a:xfrm>
            <a:off x="1050840" y="981000"/>
            <a:ext cx="63817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385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Communications Process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d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7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marketing communications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A67DF889-D8C7-403C-937E-43B777414D3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55680" y="1203480"/>
            <a:ext cx="82296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cromodel of the communications proces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1336680" y="5546880"/>
            <a:ext cx="6039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2: Elements in the Communications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10" descr="image"/>
          <p:cNvPicPr/>
          <p:nvPr/>
        </p:nvPicPr>
        <p:blipFill>
          <a:blip r:embed="rId2"/>
          <a:stretch/>
        </p:blipFill>
        <p:spPr>
          <a:xfrm>
            <a:off x="258840" y="1703520"/>
            <a:ext cx="8572320" cy="38574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1635120" y="5994360"/>
            <a:ext cx="58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ed6b06"/>
                </a:solidFill>
                <a:uFillTx/>
                <a:latin typeface="Verdana"/>
                <a:hlinkClick r:id="rId3"/>
              </a:rPr>
              <a:t>إعلانات خطأ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5040" y="5792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Communications Process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d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4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marketing communications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672BA9E6-6F89-465E-9F73-F5065081EA2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12920" y="1533600"/>
            <a:ext cx="804528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a successful marketing communications campaign, marketers must try to ensure that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ep occur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example, the ideal ad campaign would ensure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right consumer is exposed to the message at the right time and pl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causes consumer to pay atten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reflects consumer’s level of understanding and behaviors with pro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correctly positions brand in terms of points-of-difference and points-of-pa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motivates consumer to consider purchase of the br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creates strong brand associ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eveloping Effective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mun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2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5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E81516EB-808A-4AA8-8882-CE865E81CD8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365040" y="1406520"/>
            <a:ext cx="4118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gure 17.4 shows the eight steps in developing effective communic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target audi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commun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 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ide on media m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 resul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 IM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6315120" y="4241880"/>
            <a:ext cx="18511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4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eps in Developing Effective Communication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image"/>
          <p:cNvPicPr/>
          <p:nvPr/>
        </p:nvPicPr>
        <p:blipFill>
          <a:blip r:embed="rId2"/>
          <a:stretch/>
        </p:blipFill>
        <p:spPr>
          <a:xfrm>
            <a:off x="4479840" y="247680"/>
            <a:ext cx="15732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1- Identify the Target Audien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1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62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9A2F0749-415D-49E3-8468-7891303E0F7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365040" y="1652760"/>
            <a:ext cx="81788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process must start with a clear target audience in m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arget audience is a critical influence on the communicator’s decisions about what to say, how, when, where, and to who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ten useful to profile the target audience in terms of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sage  New/cur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Loyalty loyal/competitors/switch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rand knowledge Aware/not aw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2. Determine the Communications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Objectiv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8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69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C6771C70-B4F7-448D-B1DD-AD140213159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365040" y="165276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 possible communications objectives a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y nee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establishing a product or service as necessary to fill a gap. (electrical ca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 awarenes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increasing the ability to identify the brand. (Tesl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 attitud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ising the brand’s perceived ability to meet a ne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rchase inten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promoting buying a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. Design the Communication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5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76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89DFE42E-7266-4B75-998C-1D044EC4A62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365040" y="165276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ing the communications to get the desired response will require solving three problem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to say (message strategy) rational – sensory – social – ego satisfac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say it (creative strategy) informational (logic reason) – transformational (emotional – motives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o should say it (message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. Design the Communication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82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8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4F788B07-B575-4131-9C42-7C0627BD170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365040" y="1415880"/>
            <a:ext cx="822960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ive strategi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the way marketers translate their messages into a specific communic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o broad categorie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formational appe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logic reason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nsformational appe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emotional – motives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5060880" y="5288040"/>
            <a:ext cx="391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ichelin’s use of the Michelin Man brand character in its advertising helps to break through the clutter and reinforce the brand’s key safety and trust messag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2" descr="image"/>
          <p:cNvPicPr/>
          <p:nvPr/>
        </p:nvPicPr>
        <p:blipFill>
          <a:blip r:embed="rId2"/>
          <a:stretch/>
        </p:blipFill>
        <p:spPr>
          <a:xfrm>
            <a:off x="4303800" y="2197080"/>
            <a:ext cx="4444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. Design the Communication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91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92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B9CF36D4-E229-4689-B30F-0A1C673440B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365040" y="165276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essage sourc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ssages can be delivered in many different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pokespers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celebrit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en a celebrity is used, the individual must have certain characteristic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rustworth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Likeabilit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3846600" y="377352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248600" y="344484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4. Select the Communications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00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30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85183CE7-90ED-4EE1-922B-5318A49E987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365040" y="165276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munications channels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l communications 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1080" indent="-4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030a0"/>
                </a:solidFill>
                <a:latin typeface="Verdana"/>
                <a:ea typeface="Arial"/>
              </a:rPr>
              <a:t>two or more persons communicating directly face-to-face, person-to-audience, over the telephone, or through e-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-personal communications 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1080" indent="-4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7030a0"/>
                </a:solidFill>
                <a:latin typeface="Verdana"/>
                <a:ea typeface="Arial"/>
              </a:rPr>
              <a:t>media, sales promotions, events and experiences, and public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ration of communications 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1080" indent="-4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7030a0"/>
                </a:solidFill>
                <a:latin typeface="Verdana"/>
                <a:ea typeface="Arial"/>
              </a:rPr>
              <a:t>mass media may be the most effective o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ing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ing Integrated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c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4460760" y="2379600"/>
            <a:ext cx="40100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5. Establishing the Total Marketing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mmunications Budget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07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308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A93D2FF2-C5D7-464A-930F-E8C901F5FC3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65040" y="1760400"/>
            <a:ext cx="822960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do companies decide on the promotion budge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ur common method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affordable method  (Not investment – hard to pla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percentage-of-sales method (or sales price – car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ary as the company afford- relationship with cost/sal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etitive-parity method (similar to competitor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objective-and-task method (clear association with co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6120" y="139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6. Deciding on the Marketing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munications Mix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1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E9C45975-47FA-4435-AD52-6172E3278B0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itle 1"/>
          <p:cNvSpPr/>
          <p:nvPr/>
        </p:nvSpPr>
        <p:spPr>
          <a:xfrm>
            <a:off x="414360" y="110016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haracteristics of the Marketing</a:t>
            </a:r>
            <a:br>
              <a:rPr sz="2200"/>
            </a:b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ommunications Mix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33440" y="19684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munication tool has its own characteristics and co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28640" y="2959200"/>
            <a:ext cx="33591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plified 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ers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227480" y="2959200"/>
            <a:ext cx="37782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es Pro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en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5C37C2B9-7B09-4369-9F8F-8C705A35CA8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39528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haracteristics of the Marketing</a:t>
            </a:r>
            <a:br>
              <a:rPr sz="2200"/>
            </a:b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ommunications Mix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689040" y="2408400"/>
            <a:ext cx="335916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Relations and Publi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cred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ility to catch buyers off gu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mat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187880" y="2408400"/>
            <a:ext cx="37782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vents and Experi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ic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3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385AB19B-AE51-4019-8B0E-35492FAB6F1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itle 1"/>
          <p:cNvSpPr/>
          <p:nvPr/>
        </p:nvSpPr>
        <p:spPr>
          <a:xfrm>
            <a:off x="39528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haracteristics of the Marketing</a:t>
            </a:r>
            <a:br>
              <a:rPr sz="2200"/>
            </a:b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ommunications Mix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181160" y="2035080"/>
            <a:ext cx="335916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iz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-to-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a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680000" y="2035080"/>
            <a:ext cx="37782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sonal Sel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 inte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143000" y="4138560"/>
            <a:ext cx="65530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-of-Mouth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d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4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71E78A74-D5E8-488D-8AAC-447D8072392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itle 1"/>
          <p:cNvSpPr/>
          <p:nvPr/>
        </p:nvSpPr>
        <p:spPr>
          <a:xfrm>
            <a:off x="39528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Factors in Setting the Marketing</a:t>
            </a:r>
            <a:br>
              <a:rPr sz="2200"/>
            </a:b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ommunications Mix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412920" y="2016000"/>
            <a:ext cx="368424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nies must consider several factors in developing their communications mi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of product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er readiness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life cycle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4873680" y="4923000"/>
            <a:ext cx="35542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5: Cost-Effectiveness of Three Different Communications Tools at Different Buyer-Readiness Stage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2" name="Picture 12" descr="image"/>
          <p:cNvPicPr/>
          <p:nvPr/>
        </p:nvPicPr>
        <p:blipFill>
          <a:blip r:embed="rId2"/>
          <a:stretch/>
        </p:blipFill>
        <p:spPr>
          <a:xfrm>
            <a:off x="4289400" y="2000160"/>
            <a:ext cx="457344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5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4B35881E-FE92-4006-A806-A395DB30E28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39528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7. Measuring Communications Results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412920" y="1636560"/>
            <a:ext cx="82738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gure 17.6 provides an example of good feedback measureme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546120" y="5797440"/>
            <a:ext cx="774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6: Current Consumer States for Two Brand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2" descr="image"/>
          <p:cNvPicPr/>
          <p:nvPr/>
        </p:nvPicPr>
        <p:blipFill>
          <a:blip r:embed="rId2"/>
          <a:stretch/>
        </p:blipFill>
        <p:spPr>
          <a:xfrm>
            <a:off x="366840" y="1630440"/>
            <a:ext cx="85723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520" y="3430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8. Managing the Integrated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Communications Proces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4" name="TextBox 5"/>
          <p:cNvGrpSpPr/>
          <p:nvPr/>
        </p:nvGrpSpPr>
        <p:grpSpPr>
          <a:xfrm>
            <a:off x="6334200" y="12600"/>
            <a:ext cx="2852640" cy="1114560"/>
            <a:chOff x="6334200" y="12600"/>
            <a:chExt cx="2852640" cy="1114560"/>
          </a:xfrm>
        </p:grpSpPr>
        <p:pic>
          <p:nvPicPr>
            <p:cNvPr id="36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26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n integrated marketing communications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FB1AEEB3-ADBB-4C39-BAE9-B26F64F2D8C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12920" y="1636560"/>
            <a:ext cx="82738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tegrated marketing communications (IMC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s a concept of marketing communications planning that recognizes the added value of a comprehensive pl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communication too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kadiusKozer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6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Directors and TRIP Photo Library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lene Ro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17-</a:t>
            </a:r>
            <a:fld id="{5477D990-2BBC-4D18-B980-40DB49B15CB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3440" y="434520"/>
            <a:ext cx="815184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6720" y="1819080"/>
            <a:ext cx="7837560" cy="4252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ole of marketing communica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marketing communications 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major steps in developing effective communication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communications mix and how should it be s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n integrated marketing communications program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Role of Marketing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mun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8B034E3E-4D00-448B-99F2-71DC95B0761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84120" y="1542960"/>
            <a:ext cx="80740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marketing communica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 communic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the means by which firms attempt to inform, persuade, and remind consumers, directly or indirectly, about the products and brands they s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529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Communications,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, and Sal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498A697A-3245-4831-8A66-8464533CF25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84120" y="1542960"/>
            <a:ext cx="80740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ing communications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marketing communications mix consists of eight major modes of communic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84120" y="2941560"/>
            <a:ext cx="403848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es promo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nts and experi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relations and publi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575240" y="2941560"/>
            <a:ext cx="403848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activ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-of-mouth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l sel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17-</a:t>
            </a:r>
            <a:fld id="{3E295D7F-A7F3-46A5-BD3C-03DBD97B68E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64680" y="1546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and broadcast a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ckaging inse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ion pic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ochures and bookl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lboa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 disp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g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deota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6160" y="1546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les Promo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sts, ga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miu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de shows, exhi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p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b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uity pro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e-i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TextBox 7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01" name="TextBox 7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3" name="Picture 11" descr="image"/>
          <p:cNvPicPr/>
          <p:nvPr/>
        </p:nvPicPr>
        <p:blipFill>
          <a:blip r:embed="rId2"/>
          <a:stretch/>
        </p:blipFill>
        <p:spPr>
          <a:xfrm>
            <a:off x="341280" y="963720"/>
            <a:ext cx="7637400" cy="428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17-</a:t>
            </a:r>
            <a:fld id="{8EAD706A-A259-42C6-BF91-D83FE03C5C3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29040" y="1523520"/>
            <a:ext cx="1297080" cy="460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65040" y="182232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vents/ Experi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stiv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u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tory to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ny museu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et activ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556160" y="1781280"/>
            <a:ext cx="403848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Re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s k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ch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min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nual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itable don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unity re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bby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ty m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ny magaz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8" name="TextBox 13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09" name="TextBox 13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1" name="Picture 11" descr="image"/>
          <p:cNvPicPr/>
          <p:nvPr/>
        </p:nvPicPr>
        <p:blipFill>
          <a:blip r:embed="rId2"/>
          <a:stretch/>
        </p:blipFill>
        <p:spPr>
          <a:xfrm>
            <a:off x="272880" y="1065240"/>
            <a:ext cx="7637760" cy="428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17-</a:t>
            </a:r>
            <a:fld id="{259EA265-29F2-4E85-BCBE-85A0E5A230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93200" y="1279080"/>
            <a:ext cx="1296720" cy="460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84120" y="1771560"/>
            <a:ext cx="291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sonal Sel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es presen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es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entive pro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irs and trade sh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376440" y="1774800"/>
            <a:ext cx="26704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l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le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ronic sho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V sho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x m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ice m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134040" y="1779480"/>
            <a:ext cx="26701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ord-of-Mou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-to-per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t roo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7" name="TextBox 13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18" name="TextBox 13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0" name="Picture 12" descr="image"/>
          <p:cNvPicPr/>
          <p:nvPr/>
        </p:nvPicPr>
        <p:blipFill>
          <a:blip r:embed="rId2"/>
          <a:stretch/>
        </p:blipFill>
        <p:spPr>
          <a:xfrm>
            <a:off x="415800" y="922320"/>
            <a:ext cx="7637760" cy="428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5040" y="529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Communications,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, and Sal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2" name="TextBox 5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2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1E2E7C3D-81AC-441E-8898-77F29261EF4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60360" y="158904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ing communications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Figure 17.1 shows, marketing communications activities contribute to brand equity and drives sales, by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eating awareness of the brand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king the right associations to the brand image in consumers’ memory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rawing positive brand judgments or feelings; and/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cilitating a stronger consumer–brand conne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2-12T13:33:27Z</dcterms:modified>
  <cp:revision>107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