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A6B770F-B620-4C37-940B-FFCAA4FDD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CA74F5-BF49-4267-846D-7E4BC4040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66A276-3AD2-429B-B4FF-89231AE1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2FD6D7-6BC1-4083-99D6-12133119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987CA7-672A-41F3-B49C-2C6E0D71B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765B8A-9E0A-40F2-8B76-29640371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88920" y="76500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570E-3449-4C01-933B-B2C2F2355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1D0D-8944-415D-870E-35A85B92A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842D-09C6-4392-8EB0-18CBB3112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65B0-F7CC-4567-A3BA-DD4BABBEC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ED6A1-E9F1-4AB6-9D86-338C9F0EE1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3AA6B-94FB-4B48-803C-16B4FE9B7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6923E-CEAE-44D0-98C4-904D33BADC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D9F6B-70E6-477E-956F-C3D30B3C57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1BC74-5201-4670-A678-61D2548205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A65C-DD76-4484-BE88-093D3D4C7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662F6-06C1-474E-A673-1340FD697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5A2B-2B7E-4B95-864B-B7BDD5EDD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49FBC-E71A-459E-86E3-4B3B53FBED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4AD42-E1AB-40DA-BB0F-6ED2B3B3EB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3502-106A-4453-8392-4DA073C9A6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09DC1-0D2E-48C0-98EE-CCE3F42ADB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95F0-36E3-45DD-9238-B7829C1571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2069-9AA6-4DCC-BAD4-14680F7983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7795-5DB4-4C1C-A553-FA8267A149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4748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29920" y="1546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4748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29920" y="3910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CD2F-09E4-46A2-A12F-A7422F20C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A28D-05B2-4709-9E04-7A8E1E5F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C1FA-9398-4421-B886-C65A7A9B9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2080" y="3910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0577-3AF2-4DF7-BE40-5CCACE442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2080" y="1546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E610-60DA-47D7-83D4-FB23FB6FC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5228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BD2-FFA1-49B4-A3AB-7BBE617E7A1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80520" y="6544800"/>
            <a:ext cx="4984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150840" y="6544800"/>
            <a:ext cx="331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55A-F14A-49DE-A8C2-095A237F8F6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Always_Learning_Text_Green_RGB"/>
          <p:cNvPicPr/>
          <p:nvPr/>
        </p:nvPicPr>
        <p:blipFill>
          <a:blip r:embed="rId2"/>
          <a:stretch/>
        </p:blipFill>
        <p:spPr>
          <a:xfrm>
            <a:off x="957240" y="2332080"/>
            <a:ext cx="72118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0" descr="Pearson_Bound_White"/>
          <p:cNvPicPr/>
          <p:nvPr/>
        </p:nvPicPr>
        <p:blipFill>
          <a:blip r:embed="rId3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008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s://www.youtube.com/watch?v=-OL_BPHqv6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7000" y="147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Communications,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, and Sal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9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3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302D4D86-CC78-4123-AF8D-7A084ABC625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84120" y="5862600"/>
            <a:ext cx="6039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1: Integrating Marketing Communications to Build Brand Equity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" descr="image"/>
          <p:cNvPicPr/>
          <p:nvPr/>
        </p:nvPicPr>
        <p:blipFill>
          <a:blip r:embed="rId2"/>
          <a:stretch/>
        </p:blipFill>
        <p:spPr>
          <a:xfrm>
            <a:off x="1050840" y="981000"/>
            <a:ext cx="6381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385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Communications Process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d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37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38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marketing communications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14AA91B9-D289-44A3-BC2D-E246F0332F1B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55680" y="1203480"/>
            <a:ext cx="82296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cromodel of the communications proces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336680" y="5546880"/>
            <a:ext cx="6039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2: Elements in the Communications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10" descr="image"/>
          <p:cNvPicPr/>
          <p:nvPr/>
        </p:nvPicPr>
        <p:blipFill>
          <a:blip r:embed="rId2"/>
          <a:stretch/>
        </p:blipFill>
        <p:spPr>
          <a:xfrm>
            <a:off x="258840" y="1703520"/>
            <a:ext cx="8572320" cy="38574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1635120" y="599436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ed6b06"/>
                </a:solidFill>
                <a:uFillTx/>
                <a:latin typeface="Verdana"/>
                <a:hlinkClick r:id="rId3"/>
              </a:rPr>
              <a:t>إعلانات خطأ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5040" y="5792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The Communications Process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odel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46" name="TextBox 5"/>
          <p:cNvGrpSpPr/>
          <p:nvPr/>
        </p:nvGrpSpPr>
        <p:grpSpPr>
          <a:xfrm>
            <a:off x="6334200" y="12600"/>
            <a:ext cx="2816280" cy="901800"/>
            <a:chOff x="6334200" y="12600"/>
            <a:chExt cx="2816280" cy="901800"/>
          </a:xfrm>
        </p:grpSpPr>
        <p:pic>
          <p:nvPicPr>
            <p:cNvPr id="247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2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How do marketing communications work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68BCB452-0E82-4254-BE2B-057432A4DF1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12920" y="1533600"/>
            <a:ext cx="804528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a successful marketing communications campaign, marketers must try to ensure that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ep occur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 example, the ideal ad campaign would ensure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right consumer is exposed to the message at the right time and pl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causes consumer to pay atten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reflects consumer’s level of understanding and behaviors with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correctly positions brand in terms of points-of-difference and points-of-pa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motivates consumer to consider purchase of the br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Verdana"/>
              </a:rPr>
              <a:t>The ad creates strong brand associ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Developing Effective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mun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52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5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863C8385-9479-4E41-9E13-A1401801AF9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365040" y="1406520"/>
            <a:ext cx="4118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gure 17.4 shows the eight steps in developing effective communic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arget aud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commun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ide on media m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 res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 IM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6315120" y="4241880"/>
            <a:ext cx="1851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4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eps in Developing Effective Communication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image"/>
          <p:cNvPicPr/>
          <p:nvPr/>
        </p:nvPicPr>
        <p:blipFill>
          <a:blip r:embed="rId2"/>
          <a:stretch/>
        </p:blipFill>
        <p:spPr>
          <a:xfrm>
            <a:off x="4479840" y="247680"/>
            <a:ext cx="15732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1- Identify the Target Audience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1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6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5F128E4D-AD63-494B-A5F2-FE6D3B02E5E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365040" y="1652760"/>
            <a:ext cx="81788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rocess must start with a clear target audience in m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target audience is a critical influence on the communicator’s decisions about what to say, how, when, where, and to who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useful to profile the target audience in terms of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sage  New/cur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oyalty loyal/competitors/switch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rand knowledge Aware/not aw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2. Determine the Communications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Objectiv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68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69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1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2BA0C112-822B-4EEC-9113-B0271CABB3E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 possible communications objectives 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y nee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establishing a product or service as necessary to fill a gap. (electrical ca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 awarene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increasing the ability to identify the brand. (Tesl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 attitu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raising the brand’s perceived ability to meet a ne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rchase inten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promoting buying a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. Design the Communication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75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76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2C94F8A0-BF55-41E3-A040-6FA8A29F383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igning the communications to get the desired response will require solving three problem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to say (message strategy) rational – sensory – social – ego satisfac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to say it (creative strategy) informational (logic reason) – transformational (emotional – motives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o should say it (message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. Design the Communication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82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597DBCEE-D6F2-40C1-9642-46F39235076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365040" y="1415880"/>
            <a:ext cx="822960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reative strategi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e the way marketers translate their messages into a specific communic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o broad categorie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al appe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logic reason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nsformational appe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emotional – motives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5060880" y="5288040"/>
            <a:ext cx="39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Verdana"/>
              </a:rPr>
              <a:t>Michelin’s use of the Michelin Man brand character in its advertising helps to break through the clutter and reinforce the brand’s key safety and trust messag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2" descr="image"/>
          <p:cNvPicPr/>
          <p:nvPr/>
        </p:nvPicPr>
        <p:blipFill>
          <a:blip r:embed="rId2"/>
          <a:stretch/>
        </p:blipFill>
        <p:spPr>
          <a:xfrm>
            <a:off x="4303800" y="2197080"/>
            <a:ext cx="444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3. Design the Communication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91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292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9990D2FB-546C-4CF7-87FB-38B36194E70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essage sourc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ssages can be delivered in many different way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pokespers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celebri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en a celebrity is used, the individual must have certain characteristic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rustworth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53880" indent="-35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Likeabilit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3846600" y="377352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C:\Users\User\AppData\Local\Microsoft\Windows\Temporary Internet Files\Content.IE5\XHNASMRZ\MC900432586[1].png"/>
          <p:cNvPicPr/>
          <p:nvPr/>
        </p:nvPicPr>
        <p:blipFill>
          <a:blip r:embed="rId3"/>
          <a:stretch/>
        </p:blipFill>
        <p:spPr>
          <a:xfrm>
            <a:off x="7248600" y="34448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4. Select the Communications 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hannels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0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301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3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C8653EE2-4655-4780-BEFA-144523A8C6C4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365040" y="165276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munications channels inclu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 communications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1080" indent="-4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030a0"/>
                </a:solidFill>
                <a:latin typeface="Verdana"/>
                <a:ea typeface="Arial"/>
              </a:rPr>
              <a:t>two or more persons communicating directly face-to-face, person-to-audience, over the telephone, or through e-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personal communications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1080" indent="-4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7030a0"/>
                </a:solidFill>
                <a:latin typeface="Verdana"/>
                <a:ea typeface="Arial"/>
              </a:rPr>
              <a:t>media, sales promotions, events and experiences, and public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tion of communications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1080" indent="-4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7030a0"/>
                </a:solidFill>
                <a:latin typeface="Verdana"/>
                <a:ea typeface="Arial"/>
              </a:rPr>
              <a:t>mass media may be the most effective o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4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b5d"/>
                </a:solidFill>
                <a:latin typeface="Verdana"/>
              </a:rPr>
              <a:t>Marketing Management</a:t>
            </a:r>
            <a:br>
              <a:rPr sz="3600"/>
            </a:br>
            <a:endParaRPr b="1" lang="en-US" sz="36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4520" y="1019160"/>
            <a:ext cx="8407440" cy="1752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otler, Keller, Hassan, Baalbaki and Sh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22280" y="2752560"/>
            <a:ext cx="5275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ing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Integrated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" descr="image"/>
          <p:cNvPicPr/>
          <p:nvPr/>
        </p:nvPicPr>
        <p:blipFill>
          <a:blip r:embed="rId1"/>
          <a:stretch/>
        </p:blipFill>
        <p:spPr>
          <a:xfrm>
            <a:off x="4460760" y="2379600"/>
            <a:ext cx="40100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5040" y="619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5. Establishing the Total Marketing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Communications Budget</a:t>
            </a:r>
            <a:br>
              <a:rPr sz="2400"/>
            </a:b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07" name="TextBox 5"/>
          <p:cNvGrpSpPr/>
          <p:nvPr/>
        </p:nvGrpSpPr>
        <p:grpSpPr>
          <a:xfrm>
            <a:off x="6327720" y="12600"/>
            <a:ext cx="2901960" cy="1114560"/>
            <a:chOff x="6327720" y="12600"/>
            <a:chExt cx="2901960" cy="1114560"/>
          </a:xfrm>
        </p:grpSpPr>
        <p:pic>
          <p:nvPicPr>
            <p:cNvPr id="308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3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are the major steps in developing effective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3A6F9860-DC32-4393-A84C-EB0EE1E8EF1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65040" y="1760400"/>
            <a:ext cx="822960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companies decide on the promotion budget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ur common method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affordable method  (Not investment – hard to pla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ercentage-of-sales method (or sales price – ca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ry as the company afford- relationship with cost/sal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etitive-parity method (similar to competito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objective-and-task method (clear association with co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6120" y="139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6. Deciding on the Marketing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munications Mix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1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205F3702-8FE0-47FD-9196-B698A119009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414360" y="110016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haracteristics of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33440" y="19684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munication tool has its own characteristics and co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28640" y="2959200"/>
            <a:ext cx="33591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plified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ers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227480" y="2959200"/>
            <a:ext cx="377820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es 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en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2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FF1B25EF-C070-4D55-AAA7-9670022D7D7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haracteristics of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689040" y="2408400"/>
            <a:ext cx="335916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Relations and Publi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cred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ility to catch buyers off gu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mat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187880" y="2408400"/>
            <a:ext cx="37782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vents and Experi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ic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3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E430DA64-C6E7-446B-91DA-7DD166FECFF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haracteristics of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181160" y="2035080"/>
            <a:ext cx="33591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-to-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a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680000" y="2035080"/>
            <a:ext cx="37782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sonal Sel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143000" y="4138560"/>
            <a:ext cx="6553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-of-Mouth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4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EED3CA18-D049-4743-9AAD-30D485905F6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Factors in Setting the Marketing</a:t>
            </a:r>
            <a:br>
              <a:rPr sz="2200"/>
            </a:b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Communications Mix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412920" y="2016000"/>
            <a:ext cx="368424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nies must consider several factors in developing their communications mi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of product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er readiness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life cycle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4873680" y="4923000"/>
            <a:ext cx="35542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5: Cost-Effectiveness of Three Different Communications Tools at Different Buyer-Readiness Stage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2" descr="image"/>
          <p:cNvPicPr/>
          <p:nvPr/>
        </p:nvPicPr>
        <p:blipFill>
          <a:blip r:embed="rId2"/>
          <a:stretch/>
        </p:blipFill>
        <p:spPr>
          <a:xfrm>
            <a:off x="4289400" y="2000160"/>
            <a:ext cx="457344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TextBox 5"/>
          <p:cNvGrpSpPr/>
          <p:nvPr/>
        </p:nvGrpSpPr>
        <p:grpSpPr>
          <a:xfrm>
            <a:off x="6334200" y="12600"/>
            <a:ext cx="2816280" cy="1114560"/>
            <a:chOff x="6334200" y="12600"/>
            <a:chExt cx="2816280" cy="1114560"/>
          </a:xfrm>
        </p:grpSpPr>
        <p:pic>
          <p:nvPicPr>
            <p:cNvPr id="354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16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4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communications mix and how should it be set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6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DCB59DE9-3E7F-4B42-B40E-226ADC3D526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39528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030a0"/>
                </a:solidFill>
                <a:latin typeface="Verdana"/>
              </a:rPr>
              <a:t>7. Measuring Communications Results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517680" y="187488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12920" y="1636560"/>
            <a:ext cx="82738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gure 17.6 provides an example of good feedback measureme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546120" y="5797440"/>
            <a:ext cx="774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. 17.6: Current Consumer States for Two Brand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2" descr="image"/>
          <p:cNvPicPr/>
          <p:nvPr/>
        </p:nvPicPr>
        <p:blipFill>
          <a:blip r:embed="rId2"/>
          <a:stretch/>
        </p:blipFill>
        <p:spPr>
          <a:xfrm>
            <a:off x="366840" y="1630440"/>
            <a:ext cx="85723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520" y="3430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8. Managing the Integrated 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Marketing Communications Proces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364" name="TextBox 5"/>
          <p:cNvGrpSpPr/>
          <p:nvPr/>
        </p:nvGrpSpPr>
        <p:grpSpPr>
          <a:xfrm>
            <a:off x="6334200" y="12600"/>
            <a:ext cx="2852640" cy="1114560"/>
            <a:chOff x="6334200" y="12600"/>
            <a:chExt cx="2852640" cy="1114560"/>
          </a:xfrm>
        </p:grpSpPr>
        <p:pic>
          <p:nvPicPr>
            <p:cNvPr id="365" name="TextBox 5" descr=""/>
            <p:cNvPicPr/>
            <p:nvPr/>
          </p:nvPicPr>
          <p:blipFill>
            <a:blip r:embed="rId1"/>
            <a:stretch/>
          </p:blipFill>
          <p:spPr>
            <a:xfrm>
              <a:off x="6334200" y="12600"/>
              <a:ext cx="2852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391440" y="47520"/>
              <a:ext cx="2705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5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an integrated marketing communications program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7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BB3CD164-0A55-4265-B786-B102E11945A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12920" y="1636560"/>
            <a:ext cx="82738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egrated marketing communications (IMC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s a concept of marketing communications planning that recognizes the added value of a comprehensive pl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communication too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redit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amy Images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kadiusKoze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lide 16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Directors and TRIP Photo Library: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lene Ro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D508CC46-73FB-4F5E-BCFC-DFD141469CD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3440" y="434520"/>
            <a:ext cx="8151840" cy="900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Chapter Ques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6720" y="1819080"/>
            <a:ext cx="7837560" cy="4252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ole of marketing communica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marketing communications 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major steps in developing effective communication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communications mix and how should it be s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n integrated marketing communications progra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The Role of Marketing</a:t>
            </a:r>
            <a:br>
              <a:rPr sz="2400"/>
            </a:br>
            <a:r>
              <a:rPr b="1" lang="en-GB" sz="2400" spc="-1" strike="noStrike">
                <a:solidFill>
                  <a:srgbClr val="008b5d"/>
                </a:solidFill>
                <a:latin typeface="Verdana"/>
              </a:rPr>
              <a:t>Communication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2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18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1DCC2F3C-479F-4B02-8F83-302A14B7DCA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84120" y="1542960"/>
            <a:ext cx="8074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marketing communica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ing communic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the means by which firms attempt to inform, persuade, and remind consumers, directly or indirectly, about the products and brands they s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529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Communications,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, and Sal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189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190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7EE095D5-FF32-4A17-B3F0-B2759AC92D2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4120" y="1542960"/>
            <a:ext cx="8074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communications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arketing communications mix consists of eight major modes of communic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84120" y="2941560"/>
            <a:ext cx="40384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pro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nts and experi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relations and publi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575240" y="2941560"/>
            <a:ext cx="40384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activ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-of-mouth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 sel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7B5AA9A3-69CF-44AD-A31E-96EE76F5342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64680" y="1546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and broadcast a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aging inse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on pi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ochures and bookl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lboa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 disp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deota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6160" y="1546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les Promo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sts, ga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de shows, exhi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p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b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ity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e-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TextBox 7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01" name="TextBox 7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3" name="Picture 11" descr="image"/>
          <p:cNvPicPr/>
          <p:nvPr/>
        </p:nvPicPr>
        <p:blipFill>
          <a:blip r:embed="rId2"/>
          <a:stretch/>
        </p:blipFill>
        <p:spPr>
          <a:xfrm>
            <a:off x="341280" y="963720"/>
            <a:ext cx="7637400" cy="428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EC0996E8-F316-4CB0-90CD-67CA809B599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29040" y="1523520"/>
            <a:ext cx="1297080" cy="460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65040" y="18223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vents/ Experi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stiv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tory to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ny museu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et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556160" y="1781280"/>
            <a:ext cx="403848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s k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ch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min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ual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itable don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unity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bby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ty 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ny magaz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8" name="TextBox 13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09" name="TextBox 13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1" name="Picture 11" descr="image"/>
          <p:cNvPicPr/>
          <p:nvPr/>
        </p:nvPicPr>
        <p:blipFill>
          <a:blip r:embed="rId2"/>
          <a:stretch/>
        </p:blipFill>
        <p:spPr>
          <a:xfrm>
            <a:off x="272880" y="1065240"/>
            <a:ext cx="7637760" cy="42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17-</a:t>
            </a:r>
            <a:fld id="{DDEB7951-83EB-4B2B-9AED-5C7A2A9CBE6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93200" y="1279080"/>
            <a:ext cx="1296720" cy="4604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b5d"/>
                </a:solidFill>
                <a:latin typeface="Verdana"/>
              </a:rPr>
              <a:t>(cont.)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84120" y="1771560"/>
            <a:ext cx="291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onal Sel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presen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entive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rs and trade sh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376440" y="1774800"/>
            <a:ext cx="26704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il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le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nic sho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V sho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x 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ice m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134040" y="1779480"/>
            <a:ext cx="2670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ord-of-Mou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-to-per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t roo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7" name="TextBox 13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18" name="TextBox 13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0" name="Picture 12" descr="image"/>
          <p:cNvPicPr/>
          <p:nvPr/>
        </p:nvPicPr>
        <p:blipFill>
          <a:blip r:embed="rId2"/>
          <a:stretch/>
        </p:blipFill>
        <p:spPr>
          <a:xfrm>
            <a:off x="415800" y="922320"/>
            <a:ext cx="7637760" cy="428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5040" y="529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Marketing Communications,</a:t>
            </a:r>
            <a:br>
              <a:rPr sz="2400"/>
            </a:b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Brand Equity, and Sales</a:t>
            </a:r>
            <a:endParaRPr b="1" lang="en-US" sz="2400" spc="-1" strike="noStrike">
              <a:solidFill>
                <a:srgbClr val="008b5d"/>
              </a:solidFill>
              <a:latin typeface="Verdana"/>
            </a:endParaRPr>
          </a:p>
        </p:txBody>
      </p:sp>
      <p:grpSp>
        <p:nvGrpSpPr>
          <p:cNvPr id="222" name="TextBox 5"/>
          <p:cNvGrpSpPr/>
          <p:nvPr/>
        </p:nvGrpSpPr>
        <p:grpSpPr>
          <a:xfrm>
            <a:off x="6327720" y="12600"/>
            <a:ext cx="2901960" cy="901800"/>
            <a:chOff x="6327720" y="12600"/>
            <a:chExt cx="2901960" cy="901800"/>
          </a:xfrm>
        </p:grpSpPr>
        <p:pic>
          <p:nvPicPr>
            <p:cNvPr id="223" name="TextBox 5" descr=""/>
            <p:cNvPicPr/>
            <p:nvPr/>
          </p:nvPicPr>
          <p:blipFill>
            <a:blip r:embed="rId1"/>
            <a:stretch/>
          </p:blipFill>
          <p:spPr>
            <a:xfrm>
              <a:off x="6327720" y="12600"/>
              <a:ext cx="2901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391440" y="47520"/>
              <a:ext cx="270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</a:rPr>
                <a:t>Chapter Question 1:</a:t>
              </a: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Verdana"/>
                </a:rPr>
                <a:t>What is the role of marketing communications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Footer Placeholder 3"/>
          <p:cNvSpPr/>
          <p:nvPr/>
        </p:nvSpPr>
        <p:spPr>
          <a:xfrm>
            <a:off x="380880" y="6545160"/>
            <a:ext cx="498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2 Pearson Education 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             17-</a:t>
            </a:r>
            <a:fld id="{184E5441-82B8-481B-A836-DCFB9C8B7B0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65040" y="1722600"/>
            <a:ext cx="82296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46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60360" y="158904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Marketing communications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Figure 17.1 shows, marketing communications activities contribute to brand equity and drives sales, by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eating awareness of the brand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ing the right associations to the brand image in consumers’ memory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rawing positive brand judgments or feelings; and/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ilitating a stronger consumer–brand conne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0:33:38Z</dcterms:created>
  <dc:creator>fay gibbons</dc:creator>
  <dc:description>www.showcase-online.co.uk
0207 484 8080</dc:description>
  <dc:language>en-US</dc:language>
  <cp:lastModifiedBy>Sony</cp:lastModifiedBy>
  <dcterms:modified xsi:type="dcterms:W3CDTF">2017-12-12T13:33:27Z</dcterms:modified>
  <cp:revision>107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1</vt:lpwstr>
  </property>
</Properties>
</file>