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8.wmf" ContentType="image/x-wmf"/>
  <Override PartName="/ppt/media/image13.png" ContentType="image/png"/>
  <Override PartName="/ppt/media/image11.jpeg" ContentType="image/jpeg"/>
  <Override PartName="/ppt/media/image10.wmf" ContentType="image/x-wmf"/>
  <Override PartName="/ppt/media/image2.png" ContentType="image/png"/>
  <Override PartName="/ppt/media/image20.png" ContentType="image/png"/>
  <Override PartName="/ppt/media/image3.png" ContentType="image/png"/>
  <Override PartName="/ppt/media/image19.png" ContentType="image/png"/>
  <Override PartName="/ppt/media/image1.png" ContentType="image/png"/>
  <Override PartName="/ppt/media/image17.wmf" ContentType="image/x-wmf"/>
  <Override PartName="/ppt/media/image16.wmf" ContentType="image/x-wmf"/>
  <Override PartName="/ppt/media/image15.png" ContentType="image/png"/>
  <Override PartName="/ppt/media/image18.wmf" ContentType="image/x-wmf"/>
  <Override PartName="/ppt/media/image5.jpeg" ContentType="image/jpeg"/>
  <Override PartName="/ppt/media/image9.wmf" ContentType="image/x-wmf"/>
  <Override PartName="/ppt/media/image4.png" ContentType="image/png"/>
  <Override PartName="/ppt/media/image14.wmf" ContentType="image/x-wmf"/>
  <Override PartName="/ppt/media/image6.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2" name="PlaceHolder 2"/>
          <p:cNvSpPr>
            <a:spLocks noGrp="1"/>
          </p:cNvSpPr>
          <p:nvPr>
            <p:ph type="dt" idx="49"/>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6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75" name="PlaceHolder 5"/>
          <p:cNvSpPr>
            <a:spLocks noGrp="1"/>
          </p:cNvSpPr>
          <p:nvPr>
            <p:ph type="ftr" idx="5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76" name="PlaceHolder 6"/>
          <p:cNvSpPr>
            <a:spLocks noGrp="1"/>
          </p:cNvSpPr>
          <p:nvPr>
            <p:ph type="sldNum" idx="51"/>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A539E-574A-47F6-937F-DBE53DD2CB6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E154-EA9A-4A6C-8B50-465A2A93E91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9882-3283-4841-8F1D-98B5D4DCB1C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0CE5E-3A86-4804-B605-F9F3669D2E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DE80-DAF1-410F-AF84-5BF65CD1FF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9CE83-0409-443D-8CD9-B702774B018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2C8E-C632-4EA8-9918-6398C417DA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32D2-9D70-4859-90F5-FF7E7C2C66E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44515-39AA-41D7-A55C-4BC43DA9923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AE45-D636-4B31-BA5B-77D412021E1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DB9AC-5E82-4439-8A24-FFE07F723A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CC10-97E3-4771-92B7-449744012E0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018C-D9A7-475E-AA0C-75199F25BCB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D4F1-780E-4BB0-BF36-3B311389E17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7502-AD30-4773-8EAE-4D91964970F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25675-76E5-4404-AB6C-E2BF240E0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94891-3114-4FAB-9A77-E4772A20F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6611B4-3418-4154-9EA4-5B72982098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06B7CF-318B-4312-BDFA-A8ADD40EC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035A6-019E-4E2B-89D7-EAAF5C1A78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887198-3EDA-4323-A30D-E3A4E40A3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342587-B776-4DD9-B685-A49F5B3CA9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673131-4C8F-4008-8264-79F113EEA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7E79C0-B5C5-4407-A291-6A7D859539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6A9267-4962-4AB7-8F9F-597934DCC6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B933AD-C506-4057-BCD2-7F5124E301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D89D3D0-289C-4C7C-A3C5-A0640887B1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7C08C-E84E-49CF-80E9-783E02E58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B4801D-4CB2-4453-8EEF-6B949A044B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C5EAD5-F815-4F8C-8B4A-03220A0E5A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47089D-A5F1-4C7E-B450-470C6924A0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DDA17B-0189-462A-A89F-9E35425D5E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9669EC-D448-437C-A792-21CC6B25FE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F55B39-AFF1-401B-9289-EE281390BF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AD7809-C636-4447-B6E8-DE14162E48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C238C6-BE39-4B24-8688-3C050E3FDC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E1746C-FD85-4DFB-9658-10EE91E07E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E89B9E-DAFB-4891-BFE2-57FFC5C5E0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F8EF7-0844-4DBA-998C-000C507E3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44D8CE-DCA2-42AF-B817-652DA98893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8FD9A2-00E2-4B24-8FE0-9AF6442F8F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46D8F3-6357-493B-B674-C84448815A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B120C0-30FB-43C2-AC33-F31F44C2F7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B10467-D9DF-4063-89C4-44678215129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E07493-4666-4C88-B3CA-4A74AC524A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F390A4-D187-4628-9457-B61F943500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26554D-7597-411D-8957-A4B50E7094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E9484C-7383-4C03-B67B-AE350A6B92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B93417-5B92-49B5-97CB-E48728365E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B064AF-A1A2-4FCA-9A5F-949FC233C6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68A0DD-7539-4C35-9E09-FAEEB255CC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57F30E-6872-4505-974B-EA3001A94B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5C099BD-AA0D-4CFF-9BBC-ED5CEAC533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94803B-88EC-4F12-AFFF-1AB41F1FDE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1F2368-14D4-4731-9138-423440A552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C1FE9F-63CA-4A19-BB30-EA0CF94CCA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1BD990-5943-4190-9AE4-EC8C7129A6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5288F1C-9470-4497-BC3E-C1E7F9F87D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84521A-E440-4EAD-BA21-AF4E4D0C7F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24ADEE-BF7E-4919-887C-A97B6A912A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48634-9736-4973-B2E8-889E1EFC1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B62EEC-FE26-49E5-B9DB-7703C59F6A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CBC24E-1B5B-4471-BEDB-FDAEE3C5B2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2A28CA-F30C-4B88-88BC-15B2E475C4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C0B8814-DCE1-45CB-A0CB-1D437C3290F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51C3DDA-67FA-4B6A-94AF-854A9AD39CD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EDD718-DED6-486B-ACC0-749D9B2A5C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492DB3-E726-4DD0-AE57-A9EBA46C401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2E6633-7E30-4022-90E2-38F4C34C44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64008C-005A-4AB7-932D-E5C35549B1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E283F0-E530-4673-A1EB-323AAD1989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FB421-633F-4C46-B38E-1F08AC606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91C102-E644-4438-AE59-A18AD30D55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1B48DF-92A9-45D1-94CD-B3A36DE8C1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5CB54E-F682-4B9E-8279-B8D3F02848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7CE0B3-70C7-49ED-87E2-9B1E8F1A64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0347FAE-BD7F-4565-A05D-6527A3C025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95F373-547C-4E97-B577-07EA774A849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4EA5F6E-D452-4A75-9750-A4C8DF68D72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A3B56A2-76DB-45EF-B67C-9BBD8350B17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99CC26-4ACC-4A04-A241-43BE3E4CB6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C703E7-1B42-4836-B8DE-85B09D4A50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C1A7F-1E97-41B2-9814-62CF7DE97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7E1137C-DA4F-47D6-91FD-C124A3A937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DBD24F-FCA1-4023-ADBB-2E49C55A9B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75977C2-C0FA-467B-883D-F4E64503A7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9AC6BA-7235-4B97-A2F0-5F653E7364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A7C7F7-D30F-4B68-B9EB-81C7C319F6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9E4A8E-9F7C-4ACE-B2DF-5A5B2F4BD2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C04135-5494-4757-9FB0-502EF07FAC4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2AA4BF1-CA6F-4AAC-AD36-E56BBA6AB48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1764DF9-D6CC-4BF2-8DD7-34C12E2784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82C8991-C211-40BA-A63B-D9DC1C59CB7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5A38E-4052-4503-952C-33911D369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6680DA0-F878-4365-95B0-B820574222E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515EF8-B6E2-438D-9CCA-D3F58BC86CA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B4831D-3BF9-4DA6-ADB5-339D2310526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163F829-408B-4B38-AAB1-A1A316B90D4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3FF61BA-855A-41E3-BE36-5C60639572D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C67A31B-649E-4E61-A0DE-FB44BC9EFC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334D2D-8A7A-4968-9BA4-55A8681EE9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B43C7A1-BFC7-483A-8132-50308697A4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8981FCF-9775-4C15-AC71-9C973939E3C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793A965-3D63-4542-8213-69752146449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F7D20-2FE2-4C0D-936F-6B3899D59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AC533A8-4559-410C-9974-245FAF4F993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8C8563C-9C3C-4A37-9C4B-55E93453371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4980B45-CD75-44EF-9077-7C433889941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BD552D8-979B-4E25-9B4D-E9E45E0EE2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398311-E451-4EC6-A5F4-BF36AA549F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9022841-53FD-4C3D-B314-5F33B8A333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B000C2-9056-4EBB-B4AD-BDC7D848D6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1A523DE-84AC-445F-99B6-329D56D51E8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9663E7E-FC43-4685-A1BC-5441D0D0DB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DD02756-CB3C-4843-98B6-E14F1C4FB1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269F8-5E38-455D-AE31-AD04B4CEA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16CFE3F-E567-4BC5-8CCE-CEE1F6B5FD5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0C3B021-21BD-4457-AE6C-59E135F8AF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C9CE71D-F273-4AFB-93DE-17EA24F69BC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E7967-3290-4A64-8D3A-4B4572817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0F495-6080-4706-BAA1-B65D44C15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E1582-CDEF-4826-9BC1-77AE5F808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59F7D-C2B8-42A3-99C5-C583487F7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2FCD9-687A-4036-A461-749605DBE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B5A20-B6E8-4662-A80C-9F5FEBEEC6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605914-20F1-457C-9148-CF7A2B91B0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513D19-4796-4B77-8658-58F6CE1035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E8524-967C-4689-B6B0-F27420284A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BC3C1-50E1-4E4E-B258-A330E334B7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B4D425-3124-460E-8071-654C9341DC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BB607-B04E-491A-8F51-9D1B66FD2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044C92-444C-40AC-8D7B-392B06B59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21387-B1FC-4403-8D3F-91A040A36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86BC6-C1A6-41FC-AB1D-31B5D3826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8B7C2-6D2B-4008-A76F-5D2C625B0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834523-7634-48B7-94F7-25438B0971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24BD6D-C2DD-4317-BFE8-42223B9A72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E6C1F5-9390-4B17-A11F-CACD31F74E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999C19-E129-4C0B-924F-4A857B8D3C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DA0B79-E2D2-4F2E-A247-924FF88DC5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23F1C6-87B9-4241-BAA3-0CD63BB972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6C744-74C8-4132-BE59-C796AED4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1186F-81E9-4DB4-8706-F73F4F824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50D553-3FB8-4DEC-91A0-BBF42652E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BC9B1F-D5F4-4B20-BF84-562A5872BC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5DA6C2-5220-4175-8161-E1743D4AC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04DD5-A724-4A5B-BFC0-E99FEA18D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09C58-45F7-4683-8BF4-215DD4235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BCC3A-3C7F-4673-B7D9-29F77EA0AD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B71C34-011D-4F57-B11F-22BBEBB22C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8FE8E1-E1A3-4A5B-8939-47882C66A2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8C0E12-4C00-4F86-AF18-9C49734FC3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5A21D-6BD3-4D2C-9825-C41E3837B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E7C396-11A1-48A4-85AC-508D17653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A6E780-291D-4DF2-9F0C-015E3714D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7AAEB4-D5B9-45D9-870B-1359BE9FBB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8D03B4-EB4B-4766-A750-BBDC9322C8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1E170-298A-4B3B-A01E-4D425A760D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7B202-1061-45F8-9E5E-1B6E2497C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D7CD2-5B75-48F3-B975-5E331C2B0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CD5C2D-3C9C-4EF1-A04D-DAC02AF21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3A0636-FD8E-44FF-A05F-1D53B51620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EFEABB-E98D-44CC-8439-C7370FEE05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B3548-17DF-4497-BC87-8A85E91E1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C07575-1CC1-4DF2-AAB2-F1F0E433EB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643540-D71A-448A-A85C-632638BA8F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BE696C-20E8-4DDD-8F15-E5C1F12733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C5183B-FA94-47D0-875D-633B20CAE1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5FA6F6-863F-4683-B744-C266DC191B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2FC96D-D22D-48C4-8CAD-CF06B22915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095536-16BB-46AA-AC6A-2C84EB165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E70C2-E4E1-4EE1-9F9B-66BF088ECE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522BB1-57E4-41D7-BDDD-49549B781A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01FAE-A86A-4116-A439-33B15613E3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823B-5D17-4017-AD6C-1D0AA5EDD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16E985-2080-43B0-90AD-146C6F69E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483266-802D-447E-AC31-3704909371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816D7F-0C45-47E7-81BB-0113D7B210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F367AA-6EF3-4241-BCCE-943F1C688B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F7161E-7A2B-4E4C-879B-52A9FE993E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B4DFC-298E-4902-8181-CC27194167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001732-DD39-4A0F-B864-325092912E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632EC2-5F69-4DBB-ACED-014D3AF73C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51A52-D9E9-4373-A60B-69F1AADBEC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D4903-AC8F-449E-9470-9BB5FC557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EC9F8-529B-41CB-92AA-FAC63A727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58E455-FE0E-40E2-9F22-85F84F9CE7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DC916-75AC-4990-9089-153286523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B5E45-9454-4F61-A0B9-01455A89F2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EB25D6-0C95-4AFB-8FA5-B6D1B8BF26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3F2F00-3B27-4D4E-87B0-EE20FCDA89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DE53E1-969B-4B45-98CF-E4C0BCC5B9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1E4FB8-55AD-4F73-BAB9-6FD9C94935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47A6CB-351A-4A3D-862E-6319EEC159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5E8679-804C-4C39-BD17-2D18D8D6CC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C09107-274A-4887-9A04-E1C12366C8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268CD-2A18-4E82-A7DA-9F1E418CB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5B22A2-6052-4598-9326-9CECCC7753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E8379-932E-461D-8313-C82400B72B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707908-C8A2-4768-A086-C581B629A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9A30AF-5E28-4DC2-9DD7-41F95D13EF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215D07-F6A0-4246-8EB8-D871B11BA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85C5E3-1331-4EB4-9370-1F51522FE0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952703-0CC8-4823-A351-AD346D2E2A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7734FA-1A2E-4C6B-9F92-2857369E63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9636E4-B3B8-4EE9-A121-FC69241CC4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6E4ED8-DD18-4AA8-9C7E-9843E012CC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01A8-2E17-4F12-BA94-37E248096A6E}"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3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85"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E437-F59C-45F1-BA4B-79D311A0C2AB}"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26"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4245-A804-4DFE-ADC0-0656A9CC4089}"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67"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5105-1427-43CF-853A-62D2DF31C458}"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5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08"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CF3A-4CC8-4214-82E8-D5F3F0AEBAAB}"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49"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E1D0-3103-48B7-ABA0-6B9DE400C842}"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5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90"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D6DF-9AAC-4E5F-8F7E-8534C8B145D3}"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6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631"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B1D5-8F2E-46C4-BCD6-6426B031AE88}"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9B00-7F91-41F3-A370-0F7D226DC535}"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Rounded Rectangle 10"/>
          <p:cNvGrpSpPr/>
          <p:nvPr/>
        </p:nvGrpSpPr>
        <p:grpSpPr>
          <a:xfrm>
            <a:off x="420840" y="433440"/>
            <a:ext cx="8302320" cy="3108240"/>
            <a:chOff x="420840" y="433440"/>
            <a:chExt cx="8302320" cy="3108240"/>
          </a:xfrm>
        </p:grpSpPr>
        <p:pic>
          <p:nvPicPr>
            <p:cNvPr id="88" name="Rounded Rectangle 10" descr=""/>
            <p:cNvPicPr/>
            <p:nvPr/>
          </p:nvPicPr>
          <p:blipFill>
            <a:blip r:embed="rId2"/>
            <a:stretch/>
          </p:blipFill>
          <p:spPr>
            <a:xfrm>
              <a:off x="420840" y="433440"/>
              <a:ext cx="8302320" cy="3108240"/>
            </a:xfrm>
            <a:prstGeom prst="rect">
              <a:avLst/>
            </a:prstGeom>
            <a:ln w="0">
              <a:noFill/>
            </a:ln>
          </p:spPr>
        </p:pic>
        <p:sp>
          <p:nvSpPr>
            <p:cNvPr id="89"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1"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2"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547C-DCDB-4BCD-97C2-9FFB6B03AE36}"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Rounded Rectangle 10"/>
          <p:cNvGrpSpPr/>
          <p:nvPr/>
        </p:nvGrpSpPr>
        <p:grpSpPr>
          <a:xfrm>
            <a:off x="420840" y="433440"/>
            <a:ext cx="8302320" cy="4340160"/>
            <a:chOff x="420840" y="433440"/>
            <a:chExt cx="8302320" cy="4340160"/>
          </a:xfrm>
        </p:grpSpPr>
        <p:pic>
          <p:nvPicPr>
            <p:cNvPr id="133" name="Rounded Rectangle 10" descr=""/>
            <p:cNvPicPr/>
            <p:nvPr/>
          </p:nvPicPr>
          <p:blipFill>
            <a:blip r:embed="rId2"/>
            <a:stretch/>
          </p:blipFill>
          <p:spPr>
            <a:xfrm>
              <a:off x="420840" y="433440"/>
              <a:ext cx="8302320" cy="4340160"/>
            </a:xfrm>
            <a:prstGeom prst="rect">
              <a:avLst/>
            </a:prstGeom>
            <a:ln w="0">
              <a:noFill/>
            </a:ln>
          </p:spPr>
        </p:pic>
        <p:sp>
          <p:nvSpPr>
            <p:cNvPr id="134"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6"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7"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2EE25-2E16-4C9E-ABAA-6300AA64E936}"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6"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79"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0"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A719-8115-466F-A2DD-B5947B19321F}"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21"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6FF5-267A-45FC-A723-F4662761C384}"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6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4414-2C82-4974-9E65-850BB72613E8}"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3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03"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13DCB-023B-433D-81D0-53EB11EA4D03}"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3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35480" indent="-28296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3148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58400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36520" indent="-226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44"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Gulim"/>
                <a:ea typeface="Guli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83E6-590D-4F26-867A-BF8E5B8B73B8}" type="slidenum">
              <a:rPr b="0" lang="ko-KR"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wmf"/><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7.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7" name="Group 2"/>
          <p:cNvGrpSpPr/>
          <p:nvPr/>
        </p:nvGrpSpPr>
        <p:grpSpPr>
          <a:xfrm>
            <a:off x="343080" y="5918040"/>
            <a:ext cx="8457840" cy="838080"/>
            <a:chOff x="343080" y="5918040"/>
            <a:chExt cx="8457840" cy="838080"/>
          </a:xfrm>
        </p:grpSpPr>
        <p:grpSp>
          <p:nvGrpSpPr>
            <p:cNvPr id="678" name="Group 3"/>
            <p:cNvGrpSpPr/>
            <p:nvPr/>
          </p:nvGrpSpPr>
          <p:grpSpPr>
            <a:xfrm>
              <a:off x="343080" y="5918040"/>
              <a:ext cx="8457840" cy="838080"/>
              <a:chOff x="343080" y="5918040"/>
              <a:chExt cx="8457840" cy="838080"/>
            </a:xfrm>
          </p:grpSpPr>
          <p:sp>
            <p:nvSpPr>
              <p:cNvPr id="679"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0"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681" name="Group 6"/>
              <p:cNvGrpSpPr/>
              <p:nvPr/>
            </p:nvGrpSpPr>
            <p:grpSpPr>
              <a:xfrm>
                <a:off x="7874640" y="5956200"/>
                <a:ext cx="889200" cy="761760"/>
                <a:chOff x="7874640" y="5956200"/>
                <a:chExt cx="889200" cy="761760"/>
              </a:xfrm>
            </p:grpSpPr>
            <p:pic>
              <p:nvPicPr>
                <p:cNvPr id="682" name="Picture 7" descr="me%20logo2"/>
                <p:cNvPicPr/>
                <p:nvPr/>
              </p:nvPicPr>
              <p:blipFill>
                <a:blip r:embed="rId2"/>
                <a:stretch/>
              </p:blipFill>
              <p:spPr>
                <a:xfrm>
                  <a:off x="7874640" y="5956200"/>
                  <a:ext cx="889200" cy="761760"/>
                </a:xfrm>
                <a:prstGeom prst="rect">
                  <a:avLst/>
                </a:prstGeom>
                <a:ln w="0">
                  <a:noFill/>
                </a:ln>
              </p:spPr>
            </p:pic>
            <p:sp>
              <p:nvSpPr>
                <p:cNvPr id="683"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684"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685" name="Rectangle 1" descr=""/>
          <p:cNvPicPr/>
          <p:nvPr/>
        </p:nvPicPr>
        <p:blipFill>
          <a:blip r:embed="rId3"/>
          <a:stretch/>
        </p:blipFill>
        <p:spPr>
          <a:xfrm>
            <a:off x="542880" y="585720"/>
            <a:ext cx="7783560" cy="482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5" name="Group 2"/>
          <p:cNvGrpSpPr/>
          <p:nvPr/>
        </p:nvGrpSpPr>
        <p:grpSpPr>
          <a:xfrm>
            <a:off x="343080" y="5918040"/>
            <a:ext cx="8457840" cy="838080"/>
            <a:chOff x="343080" y="5918040"/>
            <a:chExt cx="8457840" cy="838080"/>
          </a:xfrm>
        </p:grpSpPr>
        <p:grpSp>
          <p:nvGrpSpPr>
            <p:cNvPr id="786" name="Group 3"/>
            <p:cNvGrpSpPr/>
            <p:nvPr/>
          </p:nvGrpSpPr>
          <p:grpSpPr>
            <a:xfrm>
              <a:off x="343080" y="5918040"/>
              <a:ext cx="8457840" cy="838080"/>
              <a:chOff x="343080" y="5918040"/>
              <a:chExt cx="8457840" cy="838080"/>
            </a:xfrm>
          </p:grpSpPr>
          <p:sp>
            <p:nvSpPr>
              <p:cNvPr id="78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89" name="Group 6"/>
              <p:cNvGrpSpPr/>
              <p:nvPr/>
            </p:nvGrpSpPr>
            <p:grpSpPr>
              <a:xfrm>
                <a:off x="7874640" y="5956200"/>
                <a:ext cx="889200" cy="761760"/>
                <a:chOff x="7874640" y="5956200"/>
                <a:chExt cx="889200" cy="761760"/>
              </a:xfrm>
            </p:grpSpPr>
            <p:pic>
              <p:nvPicPr>
                <p:cNvPr id="790" name="Picture 7" descr="me%20logo2"/>
                <p:cNvPicPr/>
                <p:nvPr/>
              </p:nvPicPr>
              <p:blipFill>
                <a:blip r:embed="rId2"/>
                <a:stretch/>
              </p:blipFill>
              <p:spPr>
                <a:xfrm>
                  <a:off x="7874640" y="5956200"/>
                  <a:ext cx="889200" cy="761760"/>
                </a:xfrm>
                <a:prstGeom prst="rect">
                  <a:avLst/>
                </a:prstGeom>
                <a:ln w="0">
                  <a:noFill/>
                </a:ln>
              </p:spPr>
            </p:pic>
            <p:sp>
              <p:nvSpPr>
                <p:cNvPr id="79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9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93" name="Picture 12" descr=""/>
          <p:cNvPicPr/>
          <p:nvPr/>
        </p:nvPicPr>
        <p:blipFill>
          <a:blip r:embed="rId3"/>
          <a:stretch/>
        </p:blipFill>
        <p:spPr>
          <a:xfrm>
            <a:off x="609480" y="457200"/>
            <a:ext cx="7874280" cy="311040"/>
          </a:xfrm>
          <a:prstGeom prst="rect">
            <a:avLst/>
          </a:prstGeom>
          <a:ln w="0">
            <a:noFill/>
          </a:ln>
        </p:spPr>
      </p:pic>
      <p:pic>
        <p:nvPicPr>
          <p:cNvPr id="794" name="Picture 13" descr=""/>
          <p:cNvPicPr/>
          <p:nvPr/>
        </p:nvPicPr>
        <p:blipFill>
          <a:blip r:embed="rId4"/>
          <a:stretch/>
        </p:blipFill>
        <p:spPr>
          <a:xfrm>
            <a:off x="609480" y="838080"/>
            <a:ext cx="800100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5" name="Group 2"/>
          <p:cNvGrpSpPr/>
          <p:nvPr/>
        </p:nvGrpSpPr>
        <p:grpSpPr>
          <a:xfrm>
            <a:off x="343080" y="5918040"/>
            <a:ext cx="8457840" cy="838080"/>
            <a:chOff x="343080" y="5918040"/>
            <a:chExt cx="8457840" cy="838080"/>
          </a:xfrm>
        </p:grpSpPr>
        <p:grpSp>
          <p:nvGrpSpPr>
            <p:cNvPr id="796" name="Group 3"/>
            <p:cNvGrpSpPr/>
            <p:nvPr/>
          </p:nvGrpSpPr>
          <p:grpSpPr>
            <a:xfrm>
              <a:off x="343080" y="5918040"/>
              <a:ext cx="8457840" cy="838080"/>
              <a:chOff x="343080" y="5918040"/>
              <a:chExt cx="8457840" cy="838080"/>
            </a:xfrm>
          </p:grpSpPr>
          <p:sp>
            <p:nvSpPr>
              <p:cNvPr id="79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99" name="Group 6"/>
              <p:cNvGrpSpPr/>
              <p:nvPr/>
            </p:nvGrpSpPr>
            <p:grpSpPr>
              <a:xfrm>
                <a:off x="7874640" y="5956200"/>
                <a:ext cx="889200" cy="761760"/>
                <a:chOff x="7874640" y="5956200"/>
                <a:chExt cx="889200" cy="761760"/>
              </a:xfrm>
            </p:grpSpPr>
            <p:pic>
              <p:nvPicPr>
                <p:cNvPr id="800" name="Picture 7" descr="me%20logo2"/>
                <p:cNvPicPr/>
                <p:nvPr/>
              </p:nvPicPr>
              <p:blipFill>
                <a:blip r:embed="rId2"/>
                <a:stretch/>
              </p:blipFill>
              <p:spPr>
                <a:xfrm>
                  <a:off x="7874640" y="5956200"/>
                  <a:ext cx="889200" cy="761760"/>
                </a:xfrm>
                <a:prstGeom prst="rect">
                  <a:avLst/>
                </a:prstGeom>
                <a:ln w="0">
                  <a:noFill/>
                </a:ln>
              </p:spPr>
            </p:pic>
            <p:sp>
              <p:nvSpPr>
                <p:cNvPr id="80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80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803" name="Picture 15" descr=""/>
          <p:cNvPicPr/>
          <p:nvPr/>
        </p:nvPicPr>
        <p:blipFill>
          <a:blip r:embed="rId3"/>
          <a:stretch/>
        </p:blipFill>
        <p:spPr>
          <a:xfrm>
            <a:off x="609480" y="457200"/>
            <a:ext cx="7874280" cy="311040"/>
          </a:xfrm>
          <a:prstGeom prst="rect">
            <a:avLst/>
          </a:prstGeom>
          <a:ln w="0">
            <a:noFill/>
          </a:ln>
        </p:spPr>
      </p:pic>
      <p:pic>
        <p:nvPicPr>
          <p:cNvPr id="804" name="Picture 16" descr=""/>
          <p:cNvPicPr/>
          <p:nvPr/>
        </p:nvPicPr>
        <p:blipFill>
          <a:blip r:embed="rId4"/>
          <a:stretch/>
        </p:blipFill>
        <p:spPr>
          <a:xfrm>
            <a:off x="685800" y="914400"/>
            <a:ext cx="7772400" cy="4952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5" name="Group 2"/>
          <p:cNvGrpSpPr/>
          <p:nvPr/>
        </p:nvGrpSpPr>
        <p:grpSpPr>
          <a:xfrm>
            <a:off x="343080" y="5918040"/>
            <a:ext cx="8457840" cy="838080"/>
            <a:chOff x="343080" y="5918040"/>
            <a:chExt cx="8457840" cy="838080"/>
          </a:xfrm>
        </p:grpSpPr>
        <p:grpSp>
          <p:nvGrpSpPr>
            <p:cNvPr id="806" name="Group 3"/>
            <p:cNvGrpSpPr/>
            <p:nvPr/>
          </p:nvGrpSpPr>
          <p:grpSpPr>
            <a:xfrm>
              <a:off x="343080" y="5918040"/>
              <a:ext cx="8457840" cy="838080"/>
              <a:chOff x="343080" y="5918040"/>
              <a:chExt cx="8457840" cy="838080"/>
            </a:xfrm>
          </p:grpSpPr>
          <p:sp>
            <p:nvSpPr>
              <p:cNvPr id="80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809" name="Group 6"/>
              <p:cNvGrpSpPr/>
              <p:nvPr/>
            </p:nvGrpSpPr>
            <p:grpSpPr>
              <a:xfrm>
                <a:off x="7874640" y="5956200"/>
                <a:ext cx="889200" cy="761760"/>
                <a:chOff x="7874640" y="5956200"/>
                <a:chExt cx="889200" cy="761760"/>
              </a:xfrm>
            </p:grpSpPr>
            <p:pic>
              <p:nvPicPr>
                <p:cNvPr id="810" name="Picture 7" descr="me%20logo2"/>
                <p:cNvPicPr/>
                <p:nvPr/>
              </p:nvPicPr>
              <p:blipFill>
                <a:blip r:embed="rId2"/>
                <a:stretch/>
              </p:blipFill>
              <p:spPr>
                <a:xfrm>
                  <a:off x="7874640" y="5956200"/>
                  <a:ext cx="889200" cy="761760"/>
                </a:xfrm>
                <a:prstGeom prst="rect">
                  <a:avLst/>
                </a:prstGeom>
                <a:ln w="0">
                  <a:noFill/>
                </a:ln>
              </p:spPr>
            </p:pic>
            <p:sp>
              <p:nvSpPr>
                <p:cNvPr id="81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81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813" name="Picture 13" descr=""/>
          <p:cNvPicPr/>
          <p:nvPr/>
        </p:nvPicPr>
        <p:blipFill>
          <a:blip r:embed="rId3"/>
          <a:stretch/>
        </p:blipFill>
        <p:spPr>
          <a:xfrm>
            <a:off x="609480" y="457200"/>
            <a:ext cx="7874280" cy="311040"/>
          </a:xfrm>
          <a:prstGeom prst="rect">
            <a:avLst/>
          </a:prstGeom>
          <a:ln w="0">
            <a:noFill/>
          </a:ln>
        </p:spPr>
      </p:pic>
      <p:pic>
        <p:nvPicPr>
          <p:cNvPr id="814" name="Picture 14" descr=""/>
          <p:cNvPicPr/>
          <p:nvPr/>
        </p:nvPicPr>
        <p:blipFill>
          <a:blip r:embed="rId4"/>
          <a:stretch/>
        </p:blipFill>
        <p:spPr>
          <a:xfrm>
            <a:off x="609480" y="838080"/>
            <a:ext cx="784872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5" name="Group 2"/>
          <p:cNvGrpSpPr/>
          <p:nvPr/>
        </p:nvGrpSpPr>
        <p:grpSpPr>
          <a:xfrm>
            <a:off x="343080" y="5918040"/>
            <a:ext cx="8457840" cy="838080"/>
            <a:chOff x="343080" y="5918040"/>
            <a:chExt cx="8457840" cy="838080"/>
          </a:xfrm>
        </p:grpSpPr>
        <p:grpSp>
          <p:nvGrpSpPr>
            <p:cNvPr id="816" name="Group 3"/>
            <p:cNvGrpSpPr/>
            <p:nvPr/>
          </p:nvGrpSpPr>
          <p:grpSpPr>
            <a:xfrm>
              <a:off x="343080" y="5918040"/>
              <a:ext cx="8457840" cy="838080"/>
              <a:chOff x="343080" y="5918040"/>
              <a:chExt cx="8457840" cy="838080"/>
            </a:xfrm>
          </p:grpSpPr>
          <p:sp>
            <p:nvSpPr>
              <p:cNvPr id="81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819" name="Group 6"/>
              <p:cNvGrpSpPr/>
              <p:nvPr/>
            </p:nvGrpSpPr>
            <p:grpSpPr>
              <a:xfrm>
                <a:off x="7874640" y="5956200"/>
                <a:ext cx="889200" cy="761760"/>
                <a:chOff x="7874640" y="5956200"/>
                <a:chExt cx="889200" cy="761760"/>
              </a:xfrm>
            </p:grpSpPr>
            <p:pic>
              <p:nvPicPr>
                <p:cNvPr id="820" name="Picture 7" descr="me%20logo2"/>
                <p:cNvPicPr/>
                <p:nvPr/>
              </p:nvPicPr>
              <p:blipFill>
                <a:blip r:embed="rId2"/>
                <a:stretch/>
              </p:blipFill>
              <p:spPr>
                <a:xfrm>
                  <a:off x="7874640" y="5956200"/>
                  <a:ext cx="889200" cy="761760"/>
                </a:xfrm>
                <a:prstGeom prst="rect">
                  <a:avLst/>
                </a:prstGeom>
                <a:ln w="0">
                  <a:noFill/>
                </a:ln>
              </p:spPr>
            </p:pic>
            <p:sp>
              <p:nvSpPr>
                <p:cNvPr id="82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82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823" name="Picture 13" descr=""/>
          <p:cNvPicPr/>
          <p:nvPr/>
        </p:nvPicPr>
        <p:blipFill>
          <a:blip r:embed="rId3"/>
          <a:stretch/>
        </p:blipFill>
        <p:spPr>
          <a:xfrm>
            <a:off x="609480" y="457200"/>
            <a:ext cx="7874280" cy="311040"/>
          </a:xfrm>
          <a:prstGeom prst="rect">
            <a:avLst/>
          </a:prstGeom>
          <a:ln w="0">
            <a:noFill/>
          </a:ln>
        </p:spPr>
      </p:pic>
      <p:pic>
        <p:nvPicPr>
          <p:cNvPr id="824" name="Picture 14" descr=""/>
          <p:cNvPicPr/>
          <p:nvPr/>
        </p:nvPicPr>
        <p:blipFill>
          <a:blip r:embed="rId4"/>
          <a:stretch/>
        </p:blipFill>
        <p:spPr>
          <a:xfrm>
            <a:off x="609480" y="838080"/>
            <a:ext cx="7925040" cy="493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5" name="Group 2"/>
          <p:cNvGrpSpPr/>
          <p:nvPr/>
        </p:nvGrpSpPr>
        <p:grpSpPr>
          <a:xfrm>
            <a:off x="343080" y="5918040"/>
            <a:ext cx="8457840" cy="838080"/>
            <a:chOff x="343080" y="5918040"/>
            <a:chExt cx="8457840" cy="838080"/>
          </a:xfrm>
        </p:grpSpPr>
        <p:grpSp>
          <p:nvGrpSpPr>
            <p:cNvPr id="826" name="Group 3"/>
            <p:cNvGrpSpPr/>
            <p:nvPr/>
          </p:nvGrpSpPr>
          <p:grpSpPr>
            <a:xfrm>
              <a:off x="343080" y="5918040"/>
              <a:ext cx="8457840" cy="838080"/>
              <a:chOff x="343080" y="5918040"/>
              <a:chExt cx="8457840" cy="838080"/>
            </a:xfrm>
          </p:grpSpPr>
          <p:sp>
            <p:nvSpPr>
              <p:cNvPr id="82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829" name="Group 6"/>
              <p:cNvGrpSpPr/>
              <p:nvPr/>
            </p:nvGrpSpPr>
            <p:grpSpPr>
              <a:xfrm>
                <a:off x="7874640" y="5956200"/>
                <a:ext cx="889200" cy="761760"/>
                <a:chOff x="7874640" y="5956200"/>
                <a:chExt cx="889200" cy="761760"/>
              </a:xfrm>
            </p:grpSpPr>
            <p:pic>
              <p:nvPicPr>
                <p:cNvPr id="830" name="Picture 7" descr="me%20logo2"/>
                <p:cNvPicPr/>
                <p:nvPr/>
              </p:nvPicPr>
              <p:blipFill>
                <a:blip r:embed="rId2"/>
                <a:stretch/>
              </p:blipFill>
              <p:spPr>
                <a:xfrm>
                  <a:off x="7874640" y="5956200"/>
                  <a:ext cx="889200" cy="761760"/>
                </a:xfrm>
                <a:prstGeom prst="rect">
                  <a:avLst/>
                </a:prstGeom>
                <a:ln w="0">
                  <a:noFill/>
                </a:ln>
              </p:spPr>
            </p:pic>
            <p:sp>
              <p:nvSpPr>
                <p:cNvPr id="83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83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833" name="Picture 10" descr=""/>
          <p:cNvPicPr/>
          <p:nvPr/>
        </p:nvPicPr>
        <p:blipFill>
          <a:blip r:embed="rId3"/>
          <a:stretch/>
        </p:blipFill>
        <p:spPr>
          <a:xfrm>
            <a:off x="609480" y="457200"/>
            <a:ext cx="7874280" cy="311040"/>
          </a:xfrm>
          <a:prstGeom prst="rect">
            <a:avLst/>
          </a:prstGeom>
          <a:ln w="0">
            <a:noFill/>
          </a:ln>
        </p:spPr>
      </p:pic>
      <p:pic>
        <p:nvPicPr>
          <p:cNvPr id="834" name="Picture 12" descr=""/>
          <p:cNvPicPr/>
          <p:nvPr/>
        </p:nvPicPr>
        <p:blipFill>
          <a:blip r:embed="rId4"/>
          <a:stretch/>
        </p:blipFill>
        <p:spPr>
          <a:xfrm>
            <a:off x="1447920" y="838080"/>
            <a:ext cx="609588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5" name="Text Box 5"/>
          <p:cNvSpPr/>
          <p:nvPr/>
        </p:nvSpPr>
        <p:spPr>
          <a:xfrm>
            <a:off x="1111680" y="230040"/>
            <a:ext cx="698688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ea typeface="Arial"/>
              </a:rPr>
              <a:t>1.1 </a:t>
            </a:r>
            <a:r>
              <a:rPr b="1" lang="en-US" sz="2800" spc="-1" strike="noStrike">
                <a:solidFill>
                  <a:srgbClr val="000000"/>
                </a:solidFill>
                <a:latin typeface="Times New Roman"/>
                <a:ea typeface="Arial"/>
              </a:rPr>
              <a:t>Introduction and Historical Development</a:t>
            </a:r>
            <a:endParaRPr b="0" lang="en-US" sz="2800" spc="-1" strike="noStrike">
              <a:solidFill>
                <a:srgbClr val="000000"/>
              </a:solidFill>
              <a:latin typeface="Arial"/>
            </a:endParaRPr>
          </a:p>
        </p:txBody>
      </p:sp>
      <p:sp>
        <p:nvSpPr>
          <p:cNvPr id="836" name="Rectangle 6"/>
          <p:cNvSpPr/>
          <p:nvPr/>
        </p:nvSpPr>
        <p:spPr>
          <a:xfrm>
            <a:off x="304920" y="762120"/>
            <a:ext cx="8610480" cy="54000"/>
          </a:xfrm>
          <a:prstGeom prst="rect">
            <a:avLst/>
          </a:prstGeom>
          <a:solidFill>
            <a:srgbClr val="3333cc"/>
          </a:soli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Group 17"/>
          <p:cNvGrpSpPr/>
          <p:nvPr/>
        </p:nvGrpSpPr>
        <p:grpSpPr>
          <a:xfrm>
            <a:off x="1057680" y="1031760"/>
            <a:ext cx="7131600" cy="5083200"/>
            <a:chOff x="1057680" y="1031760"/>
            <a:chExt cx="7131600" cy="5083200"/>
          </a:xfrm>
        </p:grpSpPr>
        <p:sp>
          <p:nvSpPr>
            <p:cNvPr id="838" name="AutoShape 16"/>
            <p:cNvSpPr/>
            <p:nvPr/>
          </p:nvSpPr>
          <p:spPr>
            <a:xfrm>
              <a:off x="6415200" y="1514520"/>
              <a:ext cx="1726920" cy="647640"/>
            </a:xfrm>
            <a:prstGeom prst="can">
              <a:avLst>
                <a:gd name="adj" fmla="val 25000"/>
              </a:avLst>
            </a:prstGeom>
            <a:solidFill>
              <a:srgbClr val="ff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Text Box 3"/>
            <p:cNvSpPr/>
            <p:nvPr/>
          </p:nvSpPr>
          <p:spPr>
            <a:xfrm>
              <a:off x="1057680" y="1641600"/>
              <a:ext cx="7131600" cy="8254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Stone age  →  Bronze age →  Iron age  →  Polymer age</a:t>
              </a:r>
              <a:r>
                <a:rPr b="0" lang="en-US" sz="2400" spc="-1" strike="noStrike">
                  <a:solidFill>
                    <a:srgbClr val="000000"/>
                  </a:solidFill>
                  <a:latin typeface="Gulim"/>
                  <a:ea typeface="Arial"/>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Text Box 7"/>
            <p:cNvSpPr/>
            <p:nvPr/>
          </p:nvSpPr>
          <p:spPr>
            <a:xfrm>
              <a:off x="1277280" y="1031760"/>
              <a:ext cx="40975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A. Development of civilization</a:t>
              </a:r>
              <a:endParaRPr b="0" lang="en-US" sz="2400" spc="-1" strike="noStrike">
                <a:solidFill>
                  <a:srgbClr val="000000"/>
                </a:solidFill>
                <a:latin typeface="Arial"/>
              </a:endParaRPr>
            </a:p>
          </p:txBody>
        </p:sp>
        <p:sp>
          <p:nvSpPr>
            <p:cNvPr id="841" name="Text Box 8"/>
            <p:cNvSpPr/>
            <p:nvPr/>
          </p:nvSpPr>
          <p:spPr>
            <a:xfrm>
              <a:off x="1295280" y="2590920"/>
              <a:ext cx="5943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B. Application of polymeric materials</a:t>
              </a:r>
              <a:endParaRPr b="0" lang="en-US" sz="2400" spc="-1" strike="noStrike">
                <a:solidFill>
                  <a:srgbClr val="000000"/>
                </a:solidFill>
                <a:latin typeface="Arial"/>
              </a:endParaRPr>
            </a:p>
          </p:txBody>
        </p:sp>
        <p:sp>
          <p:nvSpPr>
            <p:cNvPr id="842" name="Text Box 9"/>
            <p:cNvSpPr/>
            <p:nvPr/>
          </p:nvSpPr>
          <p:spPr>
            <a:xfrm>
              <a:off x="1447920" y="3276720"/>
              <a:ext cx="6553080" cy="283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Arial"/>
                </a:rPr>
                <a:t>ｏ </a:t>
              </a:r>
              <a:r>
                <a:rPr b="0" lang="en-US" sz="2000" spc="-1" strike="noStrike">
                  <a:solidFill>
                    <a:srgbClr val="000000"/>
                  </a:solidFill>
                  <a:latin typeface="Times New Roman"/>
                  <a:ea typeface="Arial"/>
                </a:rPr>
                <a:t>PE milk bottle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Arial"/>
                </a:rPr>
                <a:t>ｏ </a:t>
              </a:r>
              <a:r>
                <a:rPr b="0" lang="en-US" sz="2000" spc="-1" strike="noStrike">
                  <a:solidFill>
                    <a:srgbClr val="000000"/>
                  </a:solidFill>
                  <a:latin typeface="Times New Roman"/>
                  <a:ea typeface="Arial"/>
                </a:rPr>
                <a:t>Polyamide bulletproof vest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Arial"/>
                </a:rPr>
                <a:t>ｏ </a:t>
              </a:r>
              <a:r>
                <a:rPr b="0" lang="en-US" sz="2000" spc="-1" strike="noStrike">
                  <a:solidFill>
                    <a:srgbClr val="000000"/>
                  </a:solidFill>
                  <a:latin typeface="Times New Roman"/>
                  <a:ea typeface="Arial"/>
                </a:rPr>
                <a:t>Polyurethane artificial hear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Arial"/>
                </a:rPr>
                <a:t>ｏ </a:t>
              </a:r>
              <a:r>
                <a:rPr b="0" lang="en-US" sz="2000" spc="-1" strike="noStrike">
                  <a:solidFill>
                    <a:srgbClr val="000000"/>
                  </a:solidFill>
                  <a:latin typeface="Times New Roman"/>
                  <a:ea typeface="Arial"/>
                </a:rPr>
                <a:t>Fluorinated phosphazene elastomer for arctic environment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43" name="Picture 10" descr=""/>
          <p:cNvPicPr/>
          <p:nvPr/>
        </p:nvPicPr>
        <p:blipFill>
          <a:blip r:embed="rId1"/>
          <a:stretch/>
        </p:blipFill>
        <p:spPr>
          <a:xfrm>
            <a:off x="351000" y="5802480"/>
            <a:ext cx="8474040" cy="84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1828800" y="762120"/>
            <a:ext cx="5029200" cy="76176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7" name="Group 2"/>
          <p:cNvGrpSpPr/>
          <p:nvPr/>
        </p:nvGrpSpPr>
        <p:grpSpPr>
          <a:xfrm>
            <a:off x="343080" y="5918040"/>
            <a:ext cx="8457840" cy="838080"/>
            <a:chOff x="343080" y="5918040"/>
            <a:chExt cx="8457840" cy="838080"/>
          </a:xfrm>
        </p:grpSpPr>
        <p:grpSp>
          <p:nvGrpSpPr>
            <p:cNvPr id="688" name="Group 3"/>
            <p:cNvGrpSpPr/>
            <p:nvPr/>
          </p:nvGrpSpPr>
          <p:grpSpPr>
            <a:xfrm>
              <a:off x="343080" y="5918040"/>
              <a:ext cx="8457840" cy="838080"/>
              <a:chOff x="343080" y="5918040"/>
              <a:chExt cx="8457840" cy="838080"/>
            </a:xfrm>
          </p:grpSpPr>
          <p:sp>
            <p:nvSpPr>
              <p:cNvPr id="689"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0"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691" name="Group 6"/>
              <p:cNvGrpSpPr/>
              <p:nvPr/>
            </p:nvGrpSpPr>
            <p:grpSpPr>
              <a:xfrm>
                <a:off x="7874640" y="5956200"/>
                <a:ext cx="889200" cy="761760"/>
                <a:chOff x="7874640" y="5956200"/>
                <a:chExt cx="889200" cy="761760"/>
              </a:xfrm>
            </p:grpSpPr>
            <p:pic>
              <p:nvPicPr>
                <p:cNvPr id="692" name="Picture 7" descr="me%20logo2"/>
                <p:cNvPicPr/>
                <p:nvPr/>
              </p:nvPicPr>
              <p:blipFill>
                <a:blip r:embed="rId2"/>
                <a:stretch/>
              </p:blipFill>
              <p:spPr>
                <a:xfrm>
                  <a:off x="7874640" y="5956200"/>
                  <a:ext cx="889200" cy="761760"/>
                </a:xfrm>
                <a:prstGeom prst="rect">
                  <a:avLst/>
                </a:prstGeom>
                <a:ln w="0">
                  <a:noFill/>
                </a:ln>
              </p:spPr>
            </p:pic>
            <p:sp>
              <p:nvSpPr>
                <p:cNvPr id="693"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694"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sp>
        <p:nvSpPr>
          <p:cNvPr id="695" name="Rectangle 1"/>
          <p:cNvSpPr/>
          <p:nvPr/>
        </p:nvSpPr>
        <p:spPr>
          <a:xfrm>
            <a:off x="2246400" y="914400"/>
            <a:ext cx="4178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HighlanderITC-Bold"/>
                <a:ea typeface="Arial"/>
              </a:rPr>
              <a:t>CLASSIFICATION OF MATERIALS</a:t>
            </a:r>
            <a:endParaRPr b="0" lang="en-US" sz="2000" spc="-1" strike="noStrike">
              <a:solidFill>
                <a:srgbClr val="000000"/>
              </a:solidFill>
              <a:latin typeface="Arial"/>
            </a:endParaRPr>
          </a:p>
        </p:txBody>
      </p:sp>
      <p:cxnSp>
        <p:nvCxnSpPr>
          <p:cNvPr id="696" name="Straight Arrow Connector 4"/>
          <p:cNvCxnSpPr>
            <a:stCxn id="686" idx="2"/>
          </p:cNvCxnSpPr>
          <p:nvPr/>
        </p:nvCxnSpPr>
        <p:spPr>
          <a:xfrm>
            <a:off x="4343040" y="1523880"/>
            <a:ext cx="1080" cy="572400"/>
          </a:xfrm>
          <a:prstGeom prst="straightConnector1">
            <a:avLst/>
          </a:prstGeom>
          <a:ln w="22320">
            <a:solidFill>
              <a:srgbClr val="ff8000"/>
            </a:solidFill>
            <a:miter/>
            <a:tailEnd len="med" type="arrow" w="med"/>
          </a:ln>
        </p:spPr>
      </p:cxnSp>
      <p:sp>
        <p:nvSpPr>
          <p:cNvPr id="697" name="Straight Connector 6"/>
          <p:cNvSpPr/>
          <p:nvPr/>
        </p:nvSpPr>
        <p:spPr>
          <a:xfrm>
            <a:off x="1447920" y="4221000"/>
            <a:ext cx="6019560" cy="0"/>
          </a:xfrm>
          <a:prstGeom prst="line">
            <a:avLst/>
          </a:prstGeom>
          <a:ln w="25560">
            <a:solidFill>
              <a:srgbClr val="ff8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8" name="Straight Arrow Connector 8"/>
          <p:cNvCxnSpPr/>
          <p:nvPr/>
        </p:nvCxnSpPr>
        <p:spPr>
          <a:xfrm>
            <a:off x="1447560" y="4221000"/>
            <a:ext cx="1080" cy="915120"/>
          </a:xfrm>
          <a:prstGeom prst="straightConnector1">
            <a:avLst/>
          </a:prstGeom>
          <a:ln w="25560">
            <a:solidFill>
              <a:srgbClr val="ff8000"/>
            </a:solidFill>
            <a:miter/>
            <a:tailEnd len="med" type="triangle" w="med"/>
          </a:ln>
        </p:spPr>
      </p:cxnSp>
      <p:cxnSp>
        <p:nvCxnSpPr>
          <p:cNvPr id="699" name="Straight Arrow Connector 10"/>
          <p:cNvCxnSpPr/>
          <p:nvPr/>
        </p:nvCxnSpPr>
        <p:spPr>
          <a:xfrm>
            <a:off x="3320640" y="4221000"/>
            <a:ext cx="1080" cy="915120"/>
          </a:xfrm>
          <a:prstGeom prst="straightConnector1">
            <a:avLst/>
          </a:prstGeom>
          <a:ln w="25560">
            <a:solidFill>
              <a:srgbClr val="ff8000"/>
            </a:solidFill>
            <a:miter/>
            <a:tailEnd len="med" type="triangle" w="med"/>
          </a:ln>
        </p:spPr>
      </p:cxnSp>
      <p:cxnSp>
        <p:nvCxnSpPr>
          <p:cNvPr id="700" name="Straight Arrow Connector 12"/>
          <p:cNvCxnSpPr/>
          <p:nvPr/>
        </p:nvCxnSpPr>
        <p:spPr>
          <a:xfrm>
            <a:off x="5073120" y="4221000"/>
            <a:ext cx="1080" cy="915120"/>
          </a:xfrm>
          <a:prstGeom prst="straightConnector1">
            <a:avLst/>
          </a:prstGeom>
          <a:ln w="25560">
            <a:solidFill>
              <a:srgbClr val="ff8000"/>
            </a:solidFill>
            <a:miter/>
            <a:tailEnd len="med" type="triangle" w="med"/>
          </a:ln>
        </p:spPr>
      </p:cxnSp>
      <p:sp>
        <p:nvSpPr>
          <p:cNvPr id="701" name="TextBox 14"/>
          <p:cNvSpPr/>
          <p:nvPr/>
        </p:nvSpPr>
        <p:spPr>
          <a:xfrm>
            <a:off x="851040" y="5116680"/>
            <a:ext cx="1458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etals</a:t>
            </a:r>
            <a:endParaRPr b="0" lang="en-US" sz="1800" spc="-1" strike="noStrike">
              <a:solidFill>
                <a:srgbClr val="000000"/>
              </a:solidFill>
              <a:latin typeface="Arial"/>
            </a:endParaRPr>
          </a:p>
        </p:txBody>
      </p:sp>
      <p:sp>
        <p:nvSpPr>
          <p:cNvPr id="702" name="TextBox 23"/>
          <p:cNvSpPr/>
          <p:nvPr/>
        </p:nvSpPr>
        <p:spPr>
          <a:xfrm>
            <a:off x="2590920" y="5092560"/>
            <a:ext cx="14605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eramics</a:t>
            </a:r>
            <a:endParaRPr b="0" lang="en-US" sz="1800" spc="-1" strike="noStrike">
              <a:solidFill>
                <a:srgbClr val="000000"/>
              </a:solidFill>
              <a:latin typeface="Arial"/>
            </a:endParaRPr>
          </a:p>
        </p:txBody>
      </p:sp>
      <p:sp>
        <p:nvSpPr>
          <p:cNvPr id="703" name="TextBox 24"/>
          <p:cNvSpPr/>
          <p:nvPr/>
        </p:nvSpPr>
        <p:spPr>
          <a:xfrm>
            <a:off x="4343400" y="5084640"/>
            <a:ext cx="14605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Polymers</a:t>
            </a:r>
            <a:endParaRPr b="0" lang="en-US" sz="1800" spc="-1" strike="noStrike">
              <a:solidFill>
                <a:srgbClr val="000000"/>
              </a:solidFill>
              <a:latin typeface="Arial"/>
            </a:endParaRPr>
          </a:p>
        </p:txBody>
      </p:sp>
      <p:grpSp>
        <p:nvGrpSpPr>
          <p:cNvPr id="704" name="Group 20"/>
          <p:cNvGrpSpPr/>
          <p:nvPr/>
        </p:nvGrpSpPr>
        <p:grpSpPr>
          <a:xfrm>
            <a:off x="849240" y="2045880"/>
            <a:ext cx="7346880" cy="1264320"/>
            <a:chOff x="849240" y="2045880"/>
            <a:chExt cx="7346880" cy="1264320"/>
          </a:xfrm>
        </p:grpSpPr>
        <p:sp>
          <p:nvSpPr>
            <p:cNvPr id="705" name="Straight Connector 21"/>
            <p:cNvSpPr/>
            <p:nvPr/>
          </p:nvSpPr>
          <p:spPr>
            <a:xfrm>
              <a:off x="1446120" y="2046240"/>
              <a:ext cx="6019920" cy="0"/>
            </a:xfrm>
            <a:prstGeom prst="line">
              <a:avLst/>
            </a:prstGeom>
            <a:ln w="25560">
              <a:solidFill>
                <a:srgbClr val="ff8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6" name="Straight Arrow Connector 22"/>
            <p:cNvCxnSpPr/>
            <p:nvPr/>
          </p:nvCxnSpPr>
          <p:spPr>
            <a:xfrm>
              <a:off x="1445760" y="2045880"/>
              <a:ext cx="1080" cy="915480"/>
            </a:xfrm>
            <a:prstGeom prst="straightConnector1">
              <a:avLst/>
            </a:prstGeom>
            <a:ln w="25560">
              <a:solidFill>
                <a:srgbClr val="ff8000"/>
              </a:solidFill>
              <a:miter/>
              <a:tailEnd len="med" type="triangle" w="med"/>
            </a:ln>
          </p:spPr>
        </p:cxnSp>
        <p:cxnSp>
          <p:nvCxnSpPr>
            <p:cNvPr id="707" name="Straight Arrow Connector 23"/>
            <p:cNvCxnSpPr/>
            <p:nvPr/>
          </p:nvCxnSpPr>
          <p:spPr>
            <a:xfrm>
              <a:off x="4341240" y="2045880"/>
              <a:ext cx="1080" cy="915480"/>
            </a:xfrm>
            <a:prstGeom prst="straightConnector1">
              <a:avLst/>
            </a:prstGeom>
            <a:ln w="25560">
              <a:solidFill>
                <a:srgbClr val="ff8000"/>
              </a:solidFill>
              <a:miter/>
              <a:tailEnd len="med" type="triangle" w="med"/>
            </a:ln>
          </p:spPr>
        </p:cxnSp>
        <p:cxnSp>
          <p:nvCxnSpPr>
            <p:cNvPr id="708" name="Straight Arrow Connector 24"/>
            <p:cNvCxnSpPr/>
            <p:nvPr/>
          </p:nvCxnSpPr>
          <p:spPr>
            <a:xfrm>
              <a:off x="7465680" y="2045880"/>
              <a:ext cx="1080" cy="915480"/>
            </a:xfrm>
            <a:prstGeom prst="straightConnector1">
              <a:avLst/>
            </a:prstGeom>
            <a:ln w="25560">
              <a:solidFill>
                <a:srgbClr val="ff8000"/>
              </a:solidFill>
              <a:miter/>
              <a:tailEnd len="med" type="triangle" w="med"/>
            </a:ln>
          </p:spPr>
        </p:cxnSp>
        <p:sp>
          <p:nvSpPr>
            <p:cNvPr id="709" name="TextBox 14"/>
            <p:cNvSpPr/>
            <p:nvPr/>
          </p:nvSpPr>
          <p:spPr>
            <a:xfrm>
              <a:off x="849240" y="2941920"/>
              <a:ext cx="14587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Gas</a:t>
              </a:r>
              <a:endParaRPr b="0" lang="en-US" sz="1800" spc="-1" strike="noStrike">
                <a:solidFill>
                  <a:srgbClr val="000000"/>
                </a:solidFill>
                <a:latin typeface="Arial"/>
              </a:endParaRPr>
            </a:p>
          </p:txBody>
        </p:sp>
        <p:sp>
          <p:nvSpPr>
            <p:cNvPr id="710" name="TextBox 23"/>
            <p:cNvSpPr/>
            <p:nvPr/>
          </p:nvSpPr>
          <p:spPr>
            <a:xfrm>
              <a:off x="3611520" y="2917800"/>
              <a:ext cx="14605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Liquid</a:t>
              </a:r>
              <a:endParaRPr b="0" lang="en-US" sz="1800" spc="-1" strike="noStrike">
                <a:solidFill>
                  <a:srgbClr val="000000"/>
                </a:solidFill>
                <a:latin typeface="Arial"/>
              </a:endParaRPr>
            </a:p>
          </p:txBody>
        </p:sp>
        <p:sp>
          <p:nvSpPr>
            <p:cNvPr id="711" name="TextBox 24"/>
            <p:cNvSpPr/>
            <p:nvPr/>
          </p:nvSpPr>
          <p:spPr>
            <a:xfrm>
              <a:off x="6735600" y="2909880"/>
              <a:ext cx="14605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olid</a:t>
              </a:r>
              <a:endParaRPr b="0" lang="en-US" sz="1800" spc="-1" strike="noStrike">
                <a:solidFill>
                  <a:srgbClr val="000000"/>
                </a:solidFill>
                <a:latin typeface="Arial"/>
              </a:endParaRPr>
            </a:p>
          </p:txBody>
        </p:sp>
      </p:grpSp>
      <p:sp>
        <p:nvSpPr>
          <p:cNvPr id="712" name="Straight Connector 7"/>
          <p:cNvSpPr/>
          <p:nvPr/>
        </p:nvSpPr>
        <p:spPr>
          <a:xfrm>
            <a:off x="7466040" y="3278160"/>
            <a:ext cx="0" cy="455760"/>
          </a:xfrm>
          <a:prstGeom prst="line">
            <a:avLst/>
          </a:prstGeom>
          <a:ln w="25560">
            <a:solidFill>
              <a:srgbClr val="ff8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Straight Connector 11"/>
          <p:cNvSpPr/>
          <p:nvPr/>
        </p:nvSpPr>
        <p:spPr>
          <a:xfrm flipH="1">
            <a:off x="4343400" y="3733920"/>
            <a:ext cx="3122640" cy="0"/>
          </a:xfrm>
          <a:prstGeom prst="line">
            <a:avLst/>
          </a:prstGeom>
          <a:ln w="25560">
            <a:solidFill>
              <a:srgbClr val="ff8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4" name="Straight Arrow Connector 14"/>
          <p:cNvCxnSpPr/>
          <p:nvPr/>
        </p:nvCxnSpPr>
        <p:spPr>
          <a:xfrm>
            <a:off x="4335480" y="3733560"/>
            <a:ext cx="7200" cy="487800"/>
          </a:xfrm>
          <a:prstGeom prst="straightConnector1">
            <a:avLst/>
          </a:prstGeom>
          <a:ln w="25560">
            <a:solidFill>
              <a:srgbClr val="ff8000"/>
            </a:solidFill>
            <a:miter/>
            <a:tailEnd len="med" type="triangle" w="med"/>
          </a:ln>
        </p:spPr>
      </p:cxnSp>
      <p:cxnSp>
        <p:nvCxnSpPr>
          <p:cNvPr id="715" name="Straight Arrow Connector 35"/>
          <p:cNvCxnSpPr/>
          <p:nvPr/>
        </p:nvCxnSpPr>
        <p:spPr>
          <a:xfrm>
            <a:off x="7422840" y="4191120"/>
            <a:ext cx="1080" cy="915120"/>
          </a:xfrm>
          <a:prstGeom prst="straightConnector1">
            <a:avLst/>
          </a:prstGeom>
          <a:ln w="25560">
            <a:solidFill>
              <a:srgbClr val="ff8000"/>
            </a:solidFill>
            <a:miter/>
            <a:tailEnd len="med" type="triangle" w="med"/>
          </a:ln>
        </p:spPr>
      </p:cxnSp>
      <p:sp>
        <p:nvSpPr>
          <p:cNvPr id="716" name="TextBox 23"/>
          <p:cNvSpPr/>
          <p:nvPr/>
        </p:nvSpPr>
        <p:spPr>
          <a:xfrm>
            <a:off x="6483240" y="5062680"/>
            <a:ext cx="1670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mpos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7" name="Group 2"/>
          <p:cNvGrpSpPr/>
          <p:nvPr/>
        </p:nvGrpSpPr>
        <p:grpSpPr>
          <a:xfrm>
            <a:off x="343080" y="5918040"/>
            <a:ext cx="8457840" cy="838080"/>
            <a:chOff x="343080" y="5918040"/>
            <a:chExt cx="8457840" cy="838080"/>
          </a:xfrm>
        </p:grpSpPr>
        <p:grpSp>
          <p:nvGrpSpPr>
            <p:cNvPr id="718" name="Group 3"/>
            <p:cNvGrpSpPr/>
            <p:nvPr/>
          </p:nvGrpSpPr>
          <p:grpSpPr>
            <a:xfrm>
              <a:off x="343080" y="5918040"/>
              <a:ext cx="8457840" cy="838080"/>
              <a:chOff x="343080" y="5918040"/>
              <a:chExt cx="8457840" cy="838080"/>
            </a:xfrm>
          </p:grpSpPr>
          <p:sp>
            <p:nvSpPr>
              <p:cNvPr id="719"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21" name="Group 6"/>
              <p:cNvGrpSpPr/>
              <p:nvPr/>
            </p:nvGrpSpPr>
            <p:grpSpPr>
              <a:xfrm>
                <a:off x="7874640" y="5956200"/>
                <a:ext cx="889200" cy="761760"/>
                <a:chOff x="7874640" y="5956200"/>
                <a:chExt cx="889200" cy="761760"/>
              </a:xfrm>
            </p:grpSpPr>
            <p:pic>
              <p:nvPicPr>
                <p:cNvPr id="722" name="Picture 7" descr="me%20logo2"/>
                <p:cNvPicPr/>
                <p:nvPr/>
              </p:nvPicPr>
              <p:blipFill>
                <a:blip r:embed="rId2"/>
                <a:stretch/>
              </p:blipFill>
              <p:spPr>
                <a:xfrm>
                  <a:off x="7874640" y="5956200"/>
                  <a:ext cx="889200" cy="761760"/>
                </a:xfrm>
                <a:prstGeom prst="rect">
                  <a:avLst/>
                </a:prstGeom>
                <a:ln w="0">
                  <a:noFill/>
                </a:ln>
              </p:spPr>
            </p:pic>
            <p:sp>
              <p:nvSpPr>
                <p:cNvPr id="723"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24"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25" name="Picture 11" descr=""/>
          <p:cNvPicPr/>
          <p:nvPr/>
        </p:nvPicPr>
        <p:blipFill>
          <a:blip r:embed="rId3"/>
          <a:stretch/>
        </p:blipFill>
        <p:spPr>
          <a:xfrm>
            <a:off x="838080" y="457200"/>
            <a:ext cx="7134480" cy="455760"/>
          </a:xfrm>
          <a:prstGeom prst="rect">
            <a:avLst/>
          </a:prstGeom>
          <a:ln w="0">
            <a:noFill/>
          </a:ln>
        </p:spPr>
      </p:pic>
      <p:pic>
        <p:nvPicPr>
          <p:cNvPr id="726" name="Picture 3" descr=""/>
          <p:cNvPicPr/>
          <p:nvPr/>
        </p:nvPicPr>
        <p:blipFill>
          <a:blip r:embed="rId4"/>
          <a:stretch/>
        </p:blipFill>
        <p:spPr>
          <a:xfrm>
            <a:off x="938160" y="1427040"/>
            <a:ext cx="7267680" cy="40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Group 2"/>
          <p:cNvGrpSpPr/>
          <p:nvPr/>
        </p:nvGrpSpPr>
        <p:grpSpPr>
          <a:xfrm>
            <a:off x="343080" y="5918040"/>
            <a:ext cx="8457840" cy="838080"/>
            <a:chOff x="343080" y="5918040"/>
            <a:chExt cx="8457840" cy="838080"/>
          </a:xfrm>
        </p:grpSpPr>
        <p:grpSp>
          <p:nvGrpSpPr>
            <p:cNvPr id="728" name="Group 3"/>
            <p:cNvGrpSpPr/>
            <p:nvPr/>
          </p:nvGrpSpPr>
          <p:grpSpPr>
            <a:xfrm>
              <a:off x="343080" y="5918040"/>
              <a:ext cx="8457840" cy="838080"/>
              <a:chOff x="343080" y="5918040"/>
              <a:chExt cx="8457840" cy="838080"/>
            </a:xfrm>
          </p:grpSpPr>
          <p:sp>
            <p:nvSpPr>
              <p:cNvPr id="729"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0"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31" name="Group 6"/>
              <p:cNvGrpSpPr/>
              <p:nvPr/>
            </p:nvGrpSpPr>
            <p:grpSpPr>
              <a:xfrm>
                <a:off x="7874640" y="5956200"/>
                <a:ext cx="889200" cy="761760"/>
                <a:chOff x="7874640" y="5956200"/>
                <a:chExt cx="889200" cy="761760"/>
              </a:xfrm>
            </p:grpSpPr>
            <p:pic>
              <p:nvPicPr>
                <p:cNvPr id="732" name="Picture 7" descr="me%20logo2"/>
                <p:cNvPicPr/>
                <p:nvPr/>
              </p:nvPicPr>
              <p:blipFill>
                <a:blip r:embed="rId2"/>
                <a:stretch/>
              </p:blipFill>
              <p:spPr>
                <a:xfrm>
                  <a:off x="7874640" y="5956200"/>
                  <a:ext cx="889200" cy="761760"/>
                </a:xfrm>
                <a:prstGeom prst="rect">
                  <a:avLst/>
                </a:prstGeom>
                <a:ln w="0">
                  <a:noFill/>
                </a:ln>
              </p:spPr>
            </p:pic>
            <p:sp>
              <p:nvSpPr>
                <p:cNvPr id="733"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34"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sp>
        <p:nvSpPr>
          <p:cNvPr id="735" name="Rectangle 1"/>
          <p:cNvSpPr/>
          <p:nvPr/>
        </p:nvSpPr>
        <p:spPr>
          <a:xfrm>
            <a:off x="1104840" y="914400"/>
            <a:ext cx="6769080" cy="4665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Atoms in metals and their alloys are arranged in a very orderly manner and in comparison to the ceramics and polymers, are relatively dense.</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With regard to mechanical characteristics, these materials are relatively stiff and strong, yet are ductile, (capable of large amounts of deformation without fracture), and are resistant to fracture, which accounts for their widespread use in structural applications.</a:t>
            </a: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Group 2"/>
          <p:cNvGrpSpPr/>
          <p:nvPr/>
        </p:nvGrpSpPr>
        <p:grpSpPr>
          <a:xfrm>
            <a:off x="343080" y="5918040"/>
            <a:ext cx="8457840" cy="838080"/>
            <a:chOff x="343080" y="5918040"/>
            <a:chExt cx="8457840" cy="838080"/>
          </a:xfrm>
        </p:grpSpPr>
        <p:grpSp>
          <p:nvGrpSpPr>
            <p:cNvPr id="737" name="Group 3"/>
            <p:cNvGrpSpPr/>
            <p:nvPr/>
          </p:nvGrpSpPr>
          <p:grpSpPr>
            <a:xfrm>
              <a:off x="343080" y="5918040"/>
              <a:ext cx="8457840" cy="838080"/>
              <a:chOff x="343080" y="5918040"/>
              <a:chExt cx="8457840" cy="838080"/>
            </a:xfrm>
          </p:grpSpPr>
          <p:sp>
            <p:nvSpPr>
              <p:cNvPr id="738"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9"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40" name="Group 6"/>
              <p:cNvGrpSpPr/>
              <p:nvPr/>
            </p:nvGrpSpPr>
            <p:grpSpPr>
              <a:xfrm>
                <a:off x="7874640" y="5956200"/>
                <a:ext cx="889200" cy="761760"/>
                <a:chOff x="7874640" y="5956200"/>
                <a:chExt cx="889200" cy="761760"/>
              </a:xfrm>
            </p:grpSpPr>
            <p:pic>
              <p:nvPicPr>
                <p:cNvPr id="741" name="Picture 7" descr="me%20logo2"/>
                <p:cNvPicPr/>
                <p:nvPr/>
              </p:nvPicPr>
              <p:blipFill>
                <a:blip r:embed="rId2"/>
                <a:stretch/>
              </p:blipFill>
              <p:spPr>
                <a:xfrm>
                  <a:off x="7874640" y="5956200"/>
                  <a:ext cx="889200" cy="761760"/>
                </a:xfrm>
                <a:prstGeom prst="rect">
                  <a:avLst/>
                </a:prstGeom>
                <a:ln w="0">
                  <a:noFill/>
                </a:ln>
              </p:spPr>
            </p:pic>
            <p:sp>
              <p:nvSpPr>
                <p:cNvPr id="742"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43"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44" name="Picture 11" descr=""/>
          <p:cNvPicPr/>
          <p:nvPr/>
        </p:nvPicPr>
        <p:blipFill>
          <a:blip r:embed="rId3"/>
          <a:stretch/>
        </p:blipFill>
        <p:spPr>
          <a:xfrm>
            <a:off x="838080" y="457200"/>
            <a:ext cx="7134480" cy="455760"/>
          </a:xfrm>
          <a:prstGeom prst="rect">
            <a:avLst/>
          </a:prstGeom>
          <a:ln w="0">
            <a:noFill/>
          </a:ln>
        </p:spPr>
      </p:pic>
      <p:pic>
        <p:nvPicPr>
          <p:cNvPr id="745" name="Picture 2" descr=""/>
          <p:cNvPicPr/>
          <p:nvPr/>
        </p:nvPicPr>
        <p:blipFill>
          <a:blip r:embed="rId4"/>
          <a:stretch/>
        </p:blipFill>
        <p:spPr>
          <a:xfrm>
            <a:off x="938160" y="1170000"/>
            <a:ext cx="7267680" cy="452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6" name="Group 2"/>
          <p:cNvGrpSpPr/>
          <p:nvPr/>
        </p:nvGrpSpPr>
        <p:grpSpPr>
          <a:xfrm>
            <a:off x="343080" y="5918040"/>
            <a:ext cx="8457840" cy="838080"/>
            <a:chOff x="343080" y="5918040"/>
            <a:chExt cx="8457840" cy="838080"/>
          </a:xfrm>
        </p:grpSpPr>
        <p:grpSp>
          <p:nvGrpSpPr>
            <p:cNvPr id="747" name="Group 3"/>
            <p:cNvGrpSpPr/>
            <p:nvPr/>
          </p:nvGrpSpPr>
          <p:grpSpPr>
            <a:xfrm>
              <a:off x="343080" y="5918040"/>
              <a:ext cx="8457840" cy="838080"/>
              <a:chOff x="343080" y="5918040"/>
              <a:chExt cx="8457840" cy="838080"/>
            </a:xfrm>
          </p:grpSpPr>
          <p:sp>
            <p:nvSpPr>
              <p:cNvPr id="748"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9"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50" name="Group 6"/>
              <p:cNvGrpSpPr/>
              <p:nvPr/>
            </p:nvGrpSpPr>
            <p:grpSpPr>
              <a:xfrm>
                <a:off x="7874640" y="5956200"/>
                <a:ext cx="889200" cy="761760"/>
                <a:chOff x="7874640" y="5956200"/>
                <a:chExt cx="889200" cy="761760"/>
              </a:xfrm>
            </p:grpSpPr>
            <p:pic>
              <p:nvPicPr>
                <p:cNvPr id="751" name="Picture 7" descr="me%20logo2"/>
                <p:cNvPicPr/>
                <p:nvPr/>
              </p:nvPicPr>
              <p:blipFill>
                <a:blip r:embed="rId2"/>
                <a:stretch/>
              </p:blipFill>
              <p:spPr>
                <a:xfrm>
                  <a:off x="7874640" y="5956200"/>
                  <a:ext cx="889200" cy="761760"/>
                </a:xfrm>
                <a:prstGeom prst="rect">
                  <a:avLst/>
                </a:prstGeom>
                <a:ln w="0">
                  <a:noFill/>
                </a:ln>
              </p:spPr>
            </p:pic>
            <p:sp>
              <p:nvSpPr>
                <p:cNvPr id="752"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53"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54" name="Picture 11" descr=""/>
          <p:cNvPicPr/>
          <p:nvPr/>
        </p:nvPicPr>
        <p:blipFill>
          <a:blip r:embed="rId3"/>
          <a:stretch/>
        </p:blipFill>
        <p:spPr>
          <a:xfrm>
            <a:off x="838080" y="457200"/>
            <a:ext cx="7134480" cy="455760"/>
          </a:xfrm>
          <a:prstGeom prst="rect">
            <a:avLst/>
          </a:prstGeom>
          <a:ln w="0">
            <a:noFill/>
          </a:ln>
        </p:spPr>
      </p:pic>
      <p:pic>
        <p:nvPicPr>
          <p:cNvPr id="755" name="Picture 2" descr=""/>
          <p:cNvPicPr/>
          <p:nvPr/>
        </p:nvPicPr>
        <p:blipFill>
          <a:blip r:embed="rId4"/>
          <a:stretch/>
        </p:blipFill>
        <p:spPr>
          <a:xfrm>
            <a:off x="919080" y="1455840"/>
            <a:ext cx="7305840" cy="395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Group 2"/>
          <p:cNvGrpSpPr/>
          <p:nvPr/>
        </p:nvGrpSpPr>
        <p:grpSpPr>
          <a:xfrm>
            <a:off x="343080" y="5918040"/>
            <a:ext cx="8457840" cy="838080"/>
            <a:chOff x="343080" y="5918040"/>
            <a:chExt cx="8457840" cy="838080"/>
          </a:xfrm>
        </p:grpSpPr>
        <p:grpSp>
          <p:nvGrpSpPr>
            <p:cNvPr id="757" name="Group 3"/>
            <p:cNvGrpSpPr/>
            <p:nvPr/>
          </p:nvGrpSpPr>
          <p:grpSpPr>
            <a:xfrm>
              <a:off x="343080" y="5918040"/>
              <a:ext cx="8457840" cy="838080"/>
              <a:chOff x="343080" y="5918040"/>
              <a:chExt cx="8457840" cy="838080"/>
            </a:xfrm>
          </p:grpSpPr>
          <p:sp>
            <p:nvSpPr>
              <p:cNvPr id="758"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9"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60" name="Group 6"/>
              <p:cNvGrpSpPr/>
              <p:nvPr/>
            </p:nvGrpSpPr>
            <p:grpSpPr>
              <a:xfrm>
                <a:off x="7874640" y="5956200"/>
                <a:ext cx="889200" cy="761760"/>
                <a:chOff x="7874640" y="5956200"/>
                <a:chExt cx="889200" cy="761760"/>
              </a:xfrm>
            </p:grpSpPr>
            <p:pic>
              <p:nvPicPr>
                <p:cNvPr id="761" name="Picture 7" descr="me%20logo2"/>
                <p:cNvPicPr/>
                <p:nvPr/>
              </p:nvPicPr>
              <p:blipFill>
                <a:blip r:embed="rId2"/>
                <a:stretch/>
              </p:blipFill>
              <p:spPr>
                <a:xfrm>
                  <a:off x="7874640" y="5956200"/>
                  <a:ext cx="889200" cy="761760"/>
                </a:xfrm>
                <a:prstGeom prst="rect">
                  <a:avLst/>
                </a:prstGeom>
                <a:ln w="0">
                  <a:noFill/>
                </a:ln>
              </p:spPr>
            </p:pic>
            <p:sp>
              <p:nvSpPr>
                <p:cNvPr id="762"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63"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sp>
        <p:nvSpPr>
          <p:cNvPr id="764" name="Rectangle 2"/>
          <p:cNvSpPr/>
          <p:nvPr/>
        </p:nvSpPr>
        <p:spPr>
          <a:xfrm>
            <a:off x="844560" y="1447920"/>
            <a:ext cx="7475400" cy="4483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Ten-Roman"/>
                <a:ea typeface="Arial"/>
              </a:rPr>
              <a:t>Polymers include the familiar plastic and rubber materials. Many of them are organic compounds that are chemically based on carbon, hydrogen, and other nonmetallic elements (O, N, and Si).</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Arial"/>
              </a:rPr>
              <a:t>As with metals and ceramics, the properties of polymers are intricately related to the structural elements of the material.</a:t>
            </a:r>
            <a:endParaRPr b="0" lang="en-US" sz="2400" spc="-1" strike="noStrike">
              <a:solidFill>
                <a:srgbClr val="000000"/>
              </a:solidFill>
              <a:latin typeface="Arial"/>
            </a:endParaRPr>
          </a:p>
        </p:txBody>
      </p:sp>
      <p:sp>
        <p:nvSpPr>
          <p:cNvPr id="765" name="Rectangle 3"/>
          <p:cNvSpPr/>
          <p:nvPr/>
        </p:nvSpPr>
        <p:spPr>
          <a:xfrm>
            <a:off x="3076560" y="692280"/>
            <a:ext cx="207036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HighlanderITC-Bold"/>
                <a:ea typeface="Arial"/>
              </a:rPr>
              <a:t>Poly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6" name="Group 2"/>
          <p:cNvGrpSpPr/>
          <p:nvPr/>
        </p:nvGrpSpPr>
        <p:grpSpPr>
          <a:xfrm>
            <a:off x="343080" y="5918040"/>
            <a:ext cx="8457840" cy="838080"/>
            <a:chOff x="343080" y="5918040"/>
            <a:chExt cx="8457840" cy="838080"/>
          </a:xfrm>
        </p:grpSpPr>
        <p:grpSp>
          <p:nvGrpSpPr>
            <p:cNvPr id="767" name="Group 3"/>
            <p:cNvGrpSpPr/>
            <p:nvPr/>
          </p:nvGrpSpPr>
          <p:grpSpPr>
            <a:xfrm>
              <a:off x="343080" y="5918040"/>
              <a:ext cx="8457840" cy="838080"/>
              <a:chOff x="343080" y="5918040"/>
              <a:chExt cx="8457840" cy="838080"/>
            </a:xfrm>
          </p:grpSpPr>
          <p:sp>
            <p:nvSpPr>
              <p:cNvPr id="768"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70" name="Group 6"/>
              <p:cNvGrpSpPr/>
              <p:nvPr/>
            </p:nvGrpSpPr>
            <p:grpSpPr>
              <a:xfrm>
                <a:off x="7874640" y="5956200"/>
                <a:ext cx="889200" cy="761760"/>
                <a:chOff x="7874640" y="5956200"/>
                <a:chExt cx="889200" cy="761760"/>
              </a:xfrm>
            </p:grpSpPr>
            <p:pic>
              <p:nvPicPr>
                <p:cNvPr id="771" name="Picture 7" descr="me%20logo2"/>
                <p:cNvPicPr/>
                <p:nvPr/>
              </p:nvPicPr>
              <p:blipFill>
                <a:blip r:embed="rId2"/>
                <a:stretch/>
              </p:blipFill>
              <p:spPr>
                <a:xfrm>
                  <a:off x="7874640" y="5956200"/>
                  <a:ext cx="889200" cy="761760"/>
                </a:xfrm>
                <a:prstGeom prst="rect">
                  <a:avLst/>
                </a:prstGeom>
                <a:ln w="0">
                  <a:noFill/>
                </a:ln>
              </p:spPr>
            </p:pic>
            <p:sp>
              <p:nvSpPr>
                <p:cNvPr id="772"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73"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74" name="Picture 186" descr=""/>
          <p:cNvPicPr/>
          <p:nvPr/>
        </p:nvPicPr>
        <p:blipFill>
          <a:blip r:embed="rId3"/>
          <a:stretch/>
        </p:blipFill>
        <p:spPr>
          <a:xfrm>
            <a:off x="609480" y="533520"/>
            <a:ext cx="7848720" cy="533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2"/>
          <p:cNvGrpSpPr/>
          <p:nvPr/>
        </p:nvGrpSpPr>
        <p:grpSpPr>
          <a:xfrm>
            <a:off x="343080" y="5918040"/>
            <a:ext cx="8457840" cy="838080"/>
            <a:chOff x="343080" y="5918040"/>
            <a:chExt cx="8457840" cy="838080"/>
          </a:xfrm>
        </p:grpSpPr>
        <p:grpSp>
          <p:nvGrpSpPr>
            <p:cNvPr id="776" name="Group 3"/>
            <p:cNvGrpSpPr/>
            <p:nvPr/>
          </p:nvGrpSpPr>
          <p:grpSpPr>
            <a:xfrm>
              <a:off x="343080" y="5918040"/>
              <a:ext cx="8457840" cy="838080"/>
              <a:chOff x="343080" y="5918040"/>
              <a:chExt cx="8457840" cy="838080"/>
            </a:xfrm>
          </p:grpSpPr>
          <p:sp>
            <p:nvSpPr>
              <p:cNvPr id="777"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779" name="Group 6"/>
              <p:cNvGrpSpPr/>
              <p:nvPr/>
            </p:nvGrpSpPr>
            <p:grpSpPr>
              <a:xfrm>
                <a:off x="7874640" y="5956200"/>
                <a:ext cx="889200" cy="761760"/>
                <a:chOff x="7874640" y="5956200"/>
                <a:chExt cx="889200" cy="761760"/>
              </a:xfrm>
            </p:grpSpPr>
            <p:pic>
              <p:nvPicPr>
                <p:cNvPr id="780" name="Picture 7" descr="me%20logo2"/>
                <p:cNvPicPr/>
                <p:nvPr/>
              </p:nvPicPr>
              <p:blipFill>
                <a:blip r:embed="rId2"/>
                <a:stretch/>
              </p:blipFill>
              <p:spPr>
                <a:xfrm>
                  <a:off x="7874640" y="5956200"/>
                  <a:ext cx="889200" cy="761760"/>
                </a:xfrm>
                <a:prstGeom prst="rect">
                  <a:avLst/>
                </a:prstGeom>
                <a:ln w="0">
                  <a:noFill/>
                </a:ln>
              </p:spPr>
            </p:pic>
            <p:sp>
              <p:nvSpPr>
                <p:cNvPr id="781"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rmAutofit fontScale="6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782"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Arial"/>
                </a:rPr>
                <a:t>Mechanical Engineering Department, King Saud University, P.O. Box 800, Riyadh 11421, Saudi Arabia</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pic>
        <p:nvPicPr>
          <p:cNvPr id="783" name="Picture 12" descr=""/>
          <p:cNvPicPr/>
          <p:nvPr/>
        </p:nvPicPr>
        <p:blipFill>
          <a:blip r:embed="rId3"/>
          <a:stretch/>
        </p:blipFill>
        <p:spPr>
          <a:xfrm>
            <a:off x="609480" y="457200"/>
            <a:ext cx="7874280" cy="311040"/>
          </a:xfrm>
          <a:prstGeom prst="rect">
            <a:avLst/>
          </a:prstGeom>
          <a:ln w="0">
            <a:noFill/>
          </a:ln>
        </p:spPr>
      </p:pic>
      <p:pic>
        <p:nvPicPr>
          <p:cNvPr id="784" name="Picture 13" descr=""/>
          <p:cNvPicPr/>
          <p:nvPr/>
        </p:nvPicPr>
        <p:blipFill>
          <a:blip r:embed="rId4"/>
          <a:stretch/>
        </p:blipFill>
        <p:spPr>
          <a:xfrm>
            <a:off x="609480" y="838080"/>
            <a:ext cx="7925040" cy="503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8:28:30Z</dcterms:created>
  <dc:creator>Dr. Khalil</dc:creator>
  <dc:description/>
  <dc:language>en-US</dc:language>
  <cp:lastModifiedBy>Plimmer</cp:lastModifiedBy>
  <dcterms:modified xsi:type="dcterms:W3CDTF">2016-01-24T20:55:25Z</dcterms:modified>
  <cp:revision>407</cp:revision>
  <dc:subject/>
  <dc:title>Slide 1</dc:title>
</cp:coreProperties>
</file>