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8.wmf" ContentType="image/x-wmf"/>
  <Override PartName="/ppt/media/image13.png" ContentType="image/png"/>
  <Override PartName="/ppt/media/image11.jpeg" ContentType="image/jpeg"/>
  <Override PartName="/ppt/media/image10.wmf" ContentType="image/x-wmf"/>
  <Override PartName="/ppt/media/image2.png" ContentType="image/png"/>
  <Override PartName="/ppt/media/image20.png" ContentType="image/png"/>
  <Override PartName="/ppt/media/image3.png" ContentType="image/png"/>
  <Override PartName="/ppt/media/image19.png" ContentType="image/png"/>
  <Override PartName="/ppt/media/image1.png" ContentType="image/png"/>
  <Override PartName="/ppt/media/image17.wmf" ContentType="image/x-wmf"/>
  <Override PartName="/ppt/media/image16.wmf" ContentType="image/x-wmf"/>
  <Override PartName="/ppt/media/image15.png" ContentType="image/png"/>
  <Override PartName="/ppt/media/image18.wmf" ContentType="image/x-wmf"/>
  <Override PartName="/ppt/media/image5.jpeg" ContentType="image/jpeg"/>
  <Override PartName="/ppt/media/image9.wmf" ContentType="image/x-wmf"/>
  <Override PartName="/ppt/media/image4.png" ContentType="image/png"/>
  <Override PartName="/ppt/media/image14.wmf" ContentType="image/x-wmf"/>
  <Override PartName="/ppt/media/image6.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2" name="PlaceHolder 2"/>
          <p:cNvSpPr>
            <a:spLocks noGrp="1"/>
          </p:cNvSpPr>
          <p:nvPr>
            <p:ph type="dt" idx="49"/>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6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75" name="PlaceHolder 5"/>
          <p:cNvSpPr>
            <a:spLocks noGrp="1"/>
          </p:cNvSpPr>
          <p:nvPr>
            <p:ph type="ftr" idx="50"/>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76" name="PlaceHolder 6"/>
          <p:cNvSpPr>
            <a:spLocks noGrp="1"/>
          </p:cNvSpPr>
          <p:nvPr>
            <p:ph type="sldNum" idx="51"/>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2C7C-8F47-495C-9F0F-294D95A89B2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3C2F-DCA2-4F2B-9457-FB7CC65467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AC7E-7ACC-4A8F-875E-CEB20CAF88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6BA1-7031-42C1-91BD-A60B2996C4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7FE2-7B69-4E2D-8C3C-8217C7CDA5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0032-BA15-447D-B3CE-854FE304B01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BA5C-9B60-47AC-A0C6-91EB59647F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A28B-11CA-4B48-821D-BE583EFB858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CAD6-114D-4110-AD39-645413F054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C97E-305A-4840-B236-DC5929F3E3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74D5-7737-4093-AF6A-D768D13AB3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E1A0-3292-470E-8A56-F93D2DDE2D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F10A-A954-4584-8044-4F0AEDFAE0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04EB-56DD-4F83-A7DB-39E3E6E96CA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6391-24A9-49CA-8889-997FF2E324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1E60E-1326-473C-8FCA-4EDACDAFC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5DD57-E79E-42E7-B886-E26651D72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E8880E-4307-41A7-B459-36F7B4C6C5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7AD976-717F-4F8C-BF11-2CE84DEFEA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213451-9FDF-429B-9CCE-ED2F3A47B0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0A443E-C67B-4262-B1D9-9991BFD6FF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0B5D67-8185-4047-B257-CAAF0A9D0F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8698E3-C46D-4889-8833-055A29650F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7672FD-75EC-4317-8A0C-96A5B09C11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18D1F9-46DD-4D06-B05B-26EAE740FD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2321B5-8AD2-490C-BA97-37E7615E22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F3ACF6-B04D-44FD-9A84-A4CAAD9F09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88625-045C-4C3B-A31D-F67EBA9D5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F0E215-4076-45CD-90D5-45DEF901B8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4840FB-4397-4472-A667-B91D6EE7D3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B95FA3-957D-4467-99CC-C16A3D5FF8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5F9DBA-123D-4A7D-A3DD-21A2794BDB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139262-8062-4475-AE74-45471F64DE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BF5976-5F86-47EA-AEB1-4C867A7938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4B96CE-0112-4940-8D4B-3A5F41D080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4105F1-B7F0-4052-8EC8-7DAEFA16D4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06523A-A9B9-4BD1-8AA3-A87440C961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C7BD5FF-7AD3-43BC-95DE-0BB5A31D99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5B74C-7544-4D4B-9C2E-24C0D6685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88021C-406F-4F3B-8C27-BCB6091239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A91B06D-2EDE-4BF4-9593-DC1E6BFA8F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E05421-882C-4CBD-993E-7DC0443926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09D62A-0D12-4D6D-81FE-2863DCCE67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347C38-FFBB-4152-888B-7B40346457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77B70E-1242-4DD7-BC53-892E824A5D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9E2500-E888-459B-A0D4-609777EA16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230C52-6B72-42B3-8A02-64DA005C82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7A3208-40CD-4B8E-9B07-3B39142533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237F10-F58F-4D1F-AD35-F2B90D9D7A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019D7-CFDE-4FA9-B167-7A58E2ACA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5B3B45-F08C-42B5-825E-F8C962FA80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1CDB6C-0EAA-434B-8F14-7039BEAAC2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3CC13FA-FB6C-450A-A4E7-CE674E2061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87332F8-193C-40A2-AA63-9DE5CF329F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974BB8-B9B3-430F-8C3D-0AE34D3079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83BE6C-9F22-40DA-AA34-8ED98D9C4B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78437C-727F-48A9-B263-DEC760652E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4797B9-FA2D-4726-AF7F-AF4568ADEA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4A68F5-2653-46DA-86DA-B2508A6543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7DB9B5-CDC8-4A31-8B8B-2B378288CC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918B0-596E-4D43-A6BA-168FC1077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968B12-1B77-4C3A-AAE5-4CA6B9345B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D0A2ED-5459-4559-9020-504782AF61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963499-41D9-481A-B0F8-A5F645DD17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C7FA28-8B0A-456F-A674-EA34C195865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2360F5C-9379-470B-8153-E1CE59CFC4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71FFBA8-AF05-4E0A-ABC0-3C816B1A21E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B322E2-0C45-4528-8639-95677C2CF7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BA9E01-9D69-44A3-8135-19D1703B9F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F7B34E9-9D9C-4945-90D6-094758DC99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73B381-89B0-4ACB-8BE3-5DE4FD05D6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70FAA-3FF3-4777-BECC-E3511ABD8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B3C6F7-7085-45D2-9353-5DF3EEBC326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F477EB-8C99-4101-8086-49EE85BC92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451CBA-A765-4E03-976D-46FF2B2683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CCFA18-DB48-4FB7-B25B-A54F285683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70AFD75-1BFD-4697-9292-51D5BC8A02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AFC4AA5-D5EF-4070-B29E-C30BDEE938C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6B632AB-B7C6-443C-8441-3EF1357284B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35E2907-DCB0-417A-AAB8-2C194E43D54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E5C8395-5780-4C9E-8C56-1A5D42BBDA3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53084A8-4CF5-4C53-9EA5-570C5486D1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994F6-D89D-40A5-85CB-ADF3A9A61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64DA3F-9865-4139-AB42-05990AB17AF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8BCF752-78CE-4CF6-A79B-9DF5E26EC0E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276872-B0C3-44F0-8C03-C5B367AC42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A7B316-8B28-4766-AA36-3D8A785236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3B4144-2EE0-4314-AC2C-31F7ED6702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F1B140-6F09-420E-9FE0-D81FA6945B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0C2500-635A-4427-B043-E29753DFE78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6F75AD8-828C-42AE-83C3-271EFD76AB1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DEF205D-FB51-4E7A-BDB3-885DBAA07CB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D289AB6-E514-47A9-A909-2063F40206E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39B69-3B2A-441F-87E0-E0E64C66C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D32436C-DE2E-4CC5-90E3-78AF6D60BA3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4B6344A-3632-4F7E-AF4B-92C42852511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99AAB14-5FB1-4A00-AC6F-46E9E7AAFD1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2BE5857-A018-479F-A142-E81108FC561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436993-3C84-4248-AC6D-21A8F8A6577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7766BF-031D-42ED-80F3-B4A387482E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DC6256-0781-4E5B-885A-3F173BA30F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4C47E12-0CF1-4444-8356-B0926BC328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1499421-F4CF-4DE0-80BC-288CD498D79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869C58E-A6FC-4541-A9FB-BDEC9CD2052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244DC-772E-4D58-84E9-7C57E01F9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4E3FE50-BBE5-4D2F-953C-CB38403B946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E1CEC58-702B-422A-AB61-6D354DD1BB8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59C5DC7-7D8F-4665-BAC5-04969635C9F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A29D011-E964-4BC7-AAE6-4217141CD07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002B57D-456B-4B22-B684-15E87CDB664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A547B7B-49EC-49D9-9EB7-0DD12FBB8F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CACE59F-E761-4566-9240-0B0D3242C92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26DEF5-83F7-4BB3-873F-D8DC47A924A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09844EB-4D75-4FD7-B977-566573A9A21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5D98E0-CAEC-4925-BE11-0E120872E3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C4240-F877-410B-967F-CB10FA32D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FDCBB0E-FE23-4E51-A3EC-4A1B750B8EB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EA1C13F-5000-4E02-A365-813CEB584CC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D0AB673-DCDB-4D76-A039-FE42331AB96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B8AF2-8B58-44C6-81E5-2B94F44F2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D91FE-0CC7-474E-A304-F6955E99D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1FCF7-4A24-4A73-82F1-BBDCCFF2C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5958E-C8E1-4853-A74F-8FBCB2343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224190-EC4E-4462-BB07-AFB4BCA3A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158B0-D55C-4FFF-B7E9-8CF0CF5A4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157D30-4889-45C3-8379-1BDCCC72EB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98870C-19C2-4B9C-8C53-C1A83E0BE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8D6F77-BC41-4585-BDEC-A690269C7E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2ED604-E4A5-41B8-8F39-E68E88CD85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714BBB-0AE8-479A-A951-F51A293AB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985DA-E243-45C5-81FE-61448D25E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7F2927-958D-4D85-875E-C7759AD28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51879-1229-4A43-A819-79EFD8DE6A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7E7DB5-E6F4-44DA-9BF2-AB7A382D2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780C8-52A3-4D39-A49E-9D216E866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BB7B8D-20FD-4653-A215-C447655139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15ABE1-B731-46A3-A749-6FC0FD6A91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E35FC4-211A-4E5A-BB26-BCA73A404B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C3DF51-5FD3-4CEF-B4A4-F272CC281A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1800C2-784E-40D3-A6D3-C8A4B1C7D7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155D7D-79C7-4D1D-B5F5-AF133B97CC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E0BCF-D6B0-4BEE-B344-3D1328BCC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ADCA50-1716-41AF-BD92-4DF9062971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242D84-C59B-4CB3-B8F5-F4B9136AA5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6C82F6-12D4-4014-BCB5-2046C1C4A2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068B3-E1BA-42DB-92B1-43C0B5F42F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BEAC3-574F-4754-8AE7-CCC663642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B6B84-303F-4E82-8749-FB86DC1E1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81E73C-3891-49A7-8F9A-1ACB688018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BEDF1E-E0CF-40F9-B353-ACDA99D1A9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40DFAC-55BD-4A17-A6C5-D5D6686858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EB1FEC-0E7E-42A5-A8C8-CA88BCB834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B4B9C-091A-47B0-95C2-3F1E83969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4CC401-63D5-4F99-91A9-88DE922C45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D30894-5FB4-4DE7-8FA5-FE09B03EB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EF04B3-625B-479C-AEE1-5E612107A4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66E28B-9605-4D80-97C4-E2F7CA1BD3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2B403D-B22B-43BD-B68C-3130633618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32200-FD9C-4014-8C54-F84D64055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A26521-66DD-4D47-B817-CE4779805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D9FB38-BADA-4222-8541-CDDEA3BE8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C261E4-DD24-402A-BD96-5210A994FF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A6DC4F-7F42-4BD7-99ED-B30A379A5F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4CE95-A6D9-44B4-BF33-3F7471CB5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332969-6C5D-4153-BF0A-6BBDAF2AC9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6FCCFD-9423-4AD8-B36C-5AEA8515CE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DA5B7F-20C2-4C83-B0C5-63A0782530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AE306B-F695-4BFA-8EE3-39E57DAF1F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F5A576-62F4-4891-8083-CCF2868162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2BCE04-0DDC-4220-86C0-23AC154E7E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7084A6-30A2-47DF-94C2-C6738604B0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F26378-C0E0-45D8-BBCA-D59B811527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6FECC3-A0B2-48DD-8A06-9A1B958651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7E0BF7-CE8E-4EF2-AAA4-1C68D27A38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38DD0-33EF-449D-8FAD-0380AF882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C8BBCE-38FD-424C-A653-F4D2942E78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686B89-BC8A-431C-ADB1-BCAC511BEC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918FE4-738B-4CBA-8E4F-5B1B5E0818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8F83C6-9902-488A-A748-10D954CA79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2DA0F0-357E-434E-9824-C9CDA5FFDD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EDFD80-F105-4CB3-957A-1D006BF10F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677F4F-ADFF-4D7F-9F11-2F08732257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C95DD0-BA69-45D5-BD56-7C86D6B090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3F05BC-AF35-47C9-9714-83D0B3EB68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7BAFA-BFA6-4A5F-A14B-67709D4B2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C0C8-28DA-496D-8F7A-8EEF237DD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A688C-BE0A-4900-A9F8-A79F29C644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46AA32-2AA7-4150-97B9-76B4C1225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3BE121-DA8E-4620-9461-A9F1B59A2E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C48E24-0DC2-4EBE-9EC8-FE6DFB6FB5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FB3324-9F87-4BE0-940C-9C025F1832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96E63A-892D-4233-B7CC-486B88565A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7B23C0-8A6A-40DF-BB91-9C26B92271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C9ED51-0374-4D18-83EB-6C6751ABF1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EF5C72-6F8E-47F3-A84E-6D70A28163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DAF669-67E1-41E6-8274-1B02407B12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FC61D-5957-455C-8D43-8B85E9CBF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407359-97E5-4667-9F4E-80B743C64D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E84936-9AB3-4F39-9A5A-341884F06B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172E3D-F30A-4FCB-97C2-3D85108D0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733C84-BBFF-4898-BEEA-A778EFE29F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0D2D01-5CCE-4B92-86E0-ABCA9784AA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BE4C69-E1E0-4E06-9B2A-967C11751C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F59948-A427-4923-A403-D6BD5FD7A0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E1370C-0229-410D-AFCE-1F71079644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2628A9-5B73-442F-B150-34FA11779A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FFFFDC-EE11-4AB8-B8E9-EE1BBBD37D8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20840" y="433440"/>
            <a:ext cx="8302320" cy="5486400"/>
            <a:chOff x="420840" y="433440"/>
            <a:chExt cx="8302320" cy="5486400"/>
          </a:xfrm>
        </p:grpSpPr>
        <p:pic>
          <p:nvPicPr>
            <p:cNvPr id="2" name="Rounded Rectangle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43B7-22CC-4395-9BEF-C7EB8D918CDB}"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3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85"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D373-92AB-4617-BAC1-6FAEB9145895}"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26"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5D50-57BC-4F2D-A071-19C2E6284CE7}"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7"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1531-3C6E-4F0C-8AA5-5C82712306D7}"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50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08"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534E-606B-4CD1-8667-6C381A1F2FE1}"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49"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B32DD-A2BC-4137-80E7-0BDA14E0A720}"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5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90"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CF8E-34F5-405C-811C-7B2884BD2D2E}"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6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631"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7A0E-66FB-4B84-AE51-B2AA28DDD6A6}"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1693-5AD1-4CD2-A167-77D75D9AE8C2}"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Rounded Rectangle 10"/>
          <p:cNvGrpSpPr/>
          <p:nvPr/>
        </p:nvGrpSpPr>
        <p:grpSpPr>
          <a:xfrm>
            <a:off x="420840" y="433440"/>
            <a:ext cx="8302320" cy="3108240"/>
            <a:chOff x="420840" y="433440"/>
            <a:chExt cx="8302320" cy="3108240"/>
          </a:xfrm>
        </p:grpSpPr>
        <p:pic>
          <p:nvPicPr>
            <p:cNvPr id="88" name="Rounded Rectangle 10" descr=""/>
            <p:cNvPicPr/>
            <p:nvPr/>
          </p:nvPicPr>
          <p:blipFill>
            <a:blip r:embed="rId2"/>
            <a:stretch/>
          </p:blipFill>
          <p:spPr>
            <a:xfrm>
              <a:off x="420840" y="433440"/>
              <a:ext cx="8302320" cy="3108240"/>
            </a:xfrm>
            <a:prstGeom prst="rect">
              <a:avLst/>
            </a:prstGeom>
            <a:ln w="0">
              <a:noFill/>
            </a:ln>
          </p:spPr>
        </p:pic>
        <p:sp>
          <p:nvSpPr>
            <p:cNvPr id="8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EF9C-2CCE-4E1E-AE32-C3A6BFA35120}"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Rounded Rectangle 10"/>
          <p:cNvGrpSpPr/>
          <p:nvPr/>
        </p:nvGrpSpPr>
        <p:grpSpPr>
          <a:xfrm>
            <a:off x="420840" y="433440"/>
            <a:ext cx="8302320" cy="4340160"/>
            <a:chOff x="420840" y="433440"/>
            <a:chExt cx="8302320" cy="4340160"/>
          </a:xfrm>
        </p:grpSpPr>
        <p:pic>
          <p:nvPicPr>
            <p:cNvPr id="133" name="Rounded Rectangle 10" descr=""/>
            <p:cNvPicPr/>
            <p:nvPr/>
          </p:nvPicPr>
          <p:blipFill>
            <a:blip r:embed="rId2"/>
            <a:stretch/>
          </p:blipFill>
          <p:spPr>
            <a:xfrm>
              <a:off x="420840" y="433440"/>
              <a:ext cx="8302320" cy="4340160"/>
            </a:xfrm>
            <a:prstGeom prst="rect">
              <a:avLst/>
            </a:prstGeom>
            <a:ln w="0">
              <a:noFill/>
            </a:ln>
          </p:spPr>
        </p:pic>
        <p:sp>
          <p:nvSpPr>
            <p:cNvPr id="13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6632-3873-4576-98D1-02C3DB79DB2B}"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7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7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0"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F298-1085-44BC-91E7-0BE43CE5057C}"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A3C6-3BD2-45BC-9DBC-42F925B4B37E}"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6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F2A1-FBBE-4431-B466-2256BBF6B681}"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3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03"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E31A-B330-4BDF-A4F7-FD1E1E339EA4}"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3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44"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028C-91D1-47B4-AA68-785FA2982181}"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7.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7" name="Group 2"/>
          <p:cNvGrpSpPr/>
          <p:nvPr/>
        </p:nvGrpSpPr>
        <p:grpSpPr>
          <a:xfrm>
            <a:off x="343080" y="5918040"/>
            <a:ext cx="8457840" cy="838080"/>
            <a:chOff x="343080" y="5918040"/>
            <a:chExt cx="8457840" cy="838080"/>
          </a:xfrm>
        </p:grpSpPr>
        <p:grpSp>
          <p:nvGrpSpPr>
            <p:cNvPr id="678" name="Group 3"/>
            <p:cNvGrpSpPr/>
            <p:nvPr/>
          </p:nvGrpSpPr>
          <p:grpSpPr>
            <a:xfrm>
              <a:off x="343080" y="5918040"/>
              <a:ext cx="8457840" cy="838080"/>
              <a:chOff x="343080" y="5918040"/>
              <a:chExt cx="8457840" cy="838080"/>
            </a:xfrm>
          </p:grpSpPr>
          <p:sp>
            <p:nvSpPr>
              <p:cNvPr id="679"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0"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681" name="Group 6"/>
              <p:cNvGrpSpPr/>
              <p:nvPr/>
            </p:nvGrpSpPr>
            <p:grpSpPr>
              <a:xfrm>
                <a:off x="7874640" y="5956200"/>
                <a:ext cx="889200" cy="761760"/>
                <a:chOff x="7874640" y="5956200"/>
                <a:chExt cx="889200" cy="761760"/>
              </a:xfrm>
            </p:grpSpPr>
            <p:pic>
              <p:nvPicPr>
                <p:cNvPr id="682" name="Picture 7" descr="me%20logo2"/>
                <p:cNvPicPr/>
                <p:nvPr/>
              </p:nvPicPr>
              <p:blipFill>
                <a:blip r:embed="rId2"/>
                <a:stretch/>
              </p:blipFill>
              <p:spPr>
                <a:xfrm>
                  <a:off x="7874640" y="5956200"/>
                  <a:ext cx="889200" cy="761760"/>
                </a:xfrm>
                <a:prstGeom prst="rect">
                  <a:avLst/>
                </a:prstGeom>
                <a:ln w="0">
                  <a:noFill/>
                </a:ln>
              </p:spPr>
            </p:pic>
            <p:sp>
              <p:nvSpPr>
                <p:cNvPr id="683"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684"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685" name="Rectangle 1" descr=""/>
          <p:cNvPicPr/>
          <p:nvPr/>
        </p:nvPicPr>
        <p:blipFill>
          <a:blip r:embed="rId3"/>
          <a:stretch/>
        </p:blipFill>
        <p:spPr>
          <a:xfrm>
            <a:off x="542880" y="585720"/>
            <a:ext cx="7783560" cy="482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5" name="Group 2"/>
          <p:cNvGrpSpPr/>
          <p:nvPr/>
        </p:nvGrpSpPr>
        <p:grpSpPr>
          <a:xfrm>
            <a:off x="343080" y="5918040"/>
            <a:ext cx="8457840" cy="838080"/>
            <a:chOff x="343080" y="5918040"/>
            <a:chExt cx="8457840" cy="838080"/>
          </a:xfrm>
        </p:grpSpPr>
        <p:grpSp>
          <p:nvGrpSpPr>
            <p:cNvPr id="786" name="Group 3"/>
            <p:cNvGrpSpPr/>
            <p:nvPr/>
          </p:nvGrpSpPr>
          <p:grpSpPr>
            <a:xfrm>
              <a:off x="343080" y="5918040"/>
              <a:ext cx="8457840" cy="838080"/>
              <a:chOff x="343080" y="5918040"/>
              <a:chExt cx="8457840" cy="838080"/>
            </a:xfrm>
          </p:grpSpPr>
          <p:sp>
            <p:nvSpPr>
              <p:cNvPr id="787"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89" name="Group 6"/>
              <p:cNvGrpSpPr/>
              <p:nvPr/>
            </p:nvGrpSpPr>
            <p:grpSpPr>
              <a:xfrm>
                <a:off x="7874640" y="5956200"/>
                <a:ext cx="889200" cy="761760"/>
                <a:chOff x="7874640" y="5956200"/>
                <a:chExt cx="889200" cy="761760"/>
              </a:xfrm>
            </p:grpSpPr>
            <p:pic>
              <p:nvPicPr>
                <p:cNvPr id="790" name="Picture 7" descr="me%20logo2"/>
                <p:cNvPicPr/>
                <p:nvPr/>
              </p:nvPicPr>
              <p:blipFill>
                <a:blip r:embed="rId2"/>
                <a:stretch/>
              </p:blipFill>
              <p:spPr>
                <a:xfrm>
                  <a:off x="7874640" y="5956200"/>
                  <a:ext cx="889200" cy="761760"/>
                </a:xfrm>
                <a:prstGeom prst="rect">
                  <a:avLst/>
                </a:prstGeom>
                <a:ln w="0">
                  <a:noFill/>
                </a:ln>
              </p:spPr>
            </p:pic>
            <p:sp>
              <p:nvSpPr>
                <p:cNvPr id="791"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92"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793" name="Picture 12" descr=""/>
          <p:cNvPicPr/>
          <p:nvPr/>
        </p:nvPicPr>
        <p:blipFill>
          <a:blip r:embed="rId3"/>
          <a:stretch/>
        </p:blipFill>
        <p:spPr>
          <a:xfrm>
            <a:off x="609480" y="457200"/>
            <a:ext cx="7874280" cy="311040"/>
          </a:xfrm>
          <a:prstGeom prst="rect">
            <a:avLst/>
          </a:prstGeom>
          <a:ln w="0">
            <a:noFill/>
          </a:ln>
        </p:spPr>
      </p:pic>
      <p:pic>
        <p:nvPicPr>
          <p:cNvPr id="794" name="Picture 13" descr=""/>
          <p:cNvPicPr/>
          <p:nvPr/>
        </p:nvPicPr>
        <p:blipFill>
          <a:blip r:embed="rId4"/>
          <a:stretch/>
        </p:blipFill>
        <p:spPr>
          <a:xfrm>
            <a:off x="609480" y="838080"/>
            <a:ext cx="8001000" cy="510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2"/>
          <p:cNvGrpSpPr/>
          <p:nvPr/>
        </p:nvGrpSpPr>
        <p:grpSpPr>
          <a:xfrm>
            <a:off x="343080" y="5918040"/>
            <a:ext cx="8457840" cy="838080"/>
            <a:chOff x="343080" y="5918040"/>
            <a:chExt cx="8457840" cy="838080"/>
          </a:xfrm>
        </p:grpSpPr>
        <p:grpSp>
          <p:nvGrpSpPr>
            <p:cNvPr id="796" name="Group 3"/>
            <p:cNvGrpSpPr/>
            <p:nvPr/>
          </p:nvGrpSpPr>
          <p:grpSpPr>
            <a:xfrm>
              <a:off x="343080" y="5918040"/>
              <a:ext cx="8457840" cy="838080"/>
              <a:chOff x="343080" y="5918040"/>
              <a:chExt cx="8457840" cy="838080"/>
            </a:xfrm>
          </p:grpSpPr>
          <p:sp>
            <p:nvSpPr>
              <p:cNvPr id="797"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99" name="Group 6"/>
              <p:cNvGrpSpPr/>
              <p:nvPr/>
            </p:nvGrpSpPr>
            <p:grpSpPr>
              <a:xfrm>
                <a:off x="7874640" y="5956200"/>
                <a:ext cx="889200" cy="761760"/>
                <a:chOff x="7874640" y="5956200"/>
                <a:chExt cx="889200" cy="761760"/>
              </a:xfrm>
            </p:grpSpPr>
            <p:pic>
              <p:nvPicPr>
                <p:cNvPr id="800" name="Picture 7" descr="me%20logo2"/>
                <p:cNvPicPr/>
                <p:nvPr/>
              </p:nvPicPr>
              <p:blipFill>
                <a:blip r:embed="rId2"/>
                <a:stretch/>
              </p:blipFill>
              <p:spPr>
                <a:xfrm>
                  <a:off x="7874640" y="5956200"/>
                  <a:ext cx="889200" cy="761760"/>
                </a:xfrm>
                <a:prstGeom prst="rect">
                  <a:avLst/>
                </a:prstGeom>
                <a:ln w="0">
                  <a:noFill/>
                </a:ln>
              </p:spPr>
            </p:pic>
            <p:sp>
              <p:nvSpPr>
                <p:cNvPr id="801"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802"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803" name="Picture 15" descr=""/>
          <p:cNvPicPr/>
          <p:nvPr/>
        </p:nvPicPr>
        <p:blipFill>
          <a:blip r:embed="rId3"/>
          <a:stretch/>
        </p:blipFill>
        <p:spPr>
          <a:xfrm>
            <a:off x="609480" y="457200"/>
            <a:ext cx="7874280" cy="311040"/>
          </a:xfrm>
          <a:prstGeom prst="rect">
            <a:avLst/>
          </a:prstGeom>
          <a:ln w="0">
            <a:noFill/>
          </a:ln>
        </p:spPr>
      </p:pic>
      <p:pic>
        <p:nvPicPr>
          <p:cNvPr id="804" name="Picture 16" descr=""/>
          <p:cNvPicPr/>
          <p:nvPr/>
        </p:nvPicPr>
        <p:blipFill>
          <a:blip r:embed="rId4"/>
          <a:stretch/>
        </p:blipFill>
        <p:spPr>
          <a:xfrm>
            <a:off x="685800" y="914400"/>
            <a:ext cx="777240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5" name="Group 2"/>
          <p:cNvGrpSpPr/>
          <p:nvPr/>
        </p:nvGrpSpPr>
        <p:grpSpPr>
          <a:xfrm>
            <a:off x="343080" y="5918040"/>
            <a:ext cx="8457840" cy="838080"/>
            <a:chOff x="343080" y="5918040"/>
            <a:chExt cx="8457840" cy="838080"/>
          </a:xfrm>
        </p:grpSpPr>
        <p:grpSp>
          <p:nvGrpSpPr>
            <p:cNvPr id="806" name="Group 3"/>
            <p:cNvGrpSpPr/>
            <p:nvPr/>
          </p:nvGrpSpPr>
          <p:grpSpPr>
            <a:xfrm>
              <a:off x="343080" y="5918040"/>
              <a:ext cx="8457840" cy="838080"/>
              <a:chOff x="343080" y="5918040"/>
              <a:chExt cx="8457840" cy="838080"/>
            </a:xfrm>
          </p:grpSpPr>
          <p:sp>
            <p:nvSpPr>
              <p:cNvPr id="807"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809" name="Group 6"/>
              <p:cNvGrpSpPr/>
              <p:nvPr/>
            </p:nvGrpSpPr>
            <p:grpSpPr>
              <a:xfrm>
                <a:off x="7874640" y="5956200"/>
                <a:ext cx="889200" cy="761760"/>
                <a:chOff x="7874640" y="5956200"/>
                <a:chExt cx="889200" cy="761760"/>
              </a:xfrm>
            </p:grpSpPr>
            <p:pic>
              <p:nvPicPr>
                <p:cNvPr id="810" name="Picture 7" descr="me%20logo2"/>
                <p:cNvPicPr/>
                <p:nvPr/>
              </p:nvPicPr>
              <p:blipFill>
                <a:blip r:embed="rId2"/>
                <a:stretch/>
              </p:blipFill>
              <p:spPr>
                <a:xfrm>
                  <a:off x="7874640" y="5956200"/>
                  <a:ext cx="889200" cy="761760"/>
                </a:xfrm>
                <a:prstGeom prst="rect">
                  <a:avLst/>
                </a:prstGeom>
                <a:ln w="0">
                  <a:noFill/>
                </a:ln>
              </p:spPr>
            </p:pic>
            <p:sp>
              <p:nvSpPr>
                <p:cNvPr id="811"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812"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813" name="Picture 13" descr=""/>
          <p:cNvPicPr/>
          <p:nvPr/>
        </p:nvPicPr>
        <p:blipFill>
          <a:blip r:embed="rId3"/>
          <a:stretch/>
        </p:blipFill>
        <p:spPr>
          <a:xfrm>
            <a:off x="609480" y="457200"/>
            <a:ext cx="7874280" cy="311040"/>
          </a:xfrm>
          <a:prstGeom prst="rect">
            <a:avLst/>
          </a:prstGeom>
          <a:ln w="0">
            <a:noFill/>
          </a:ln>
        </p:spPr>
      </p:pic>
      <p:pic>
        <p:nvPicPr>
          <p:cNvPr id="814" name="Picture 14" descr=""/>
          <p:cNvPicPr/>
          <p:nvPr/>
        </p:nvPicPr>
        <p:blipFill>
          <a:blip r:embed="rId4"/>
          <a:stretch/>
        </p:blipFill>
        <p:spPr>
          <a:xfrm>
            <a:off x="609480" y="838080"/>
            <a:ext cx="784872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5" name="Group 2"/>
          <p:cNvGrpSpPr/>
          <p:nvPr/>
        </p:nvGrpSpPr>
        <p:grpSpPr>
          <a:xfrm>
            <a:off x="343080" y="5918040"/>
            <a:ext cx="8457840" cy="838080"/>
            <a:chOff x="343080" y="5918040"/>
            <a:chExt cx="8457840" cy="838080"/>
          </a:xfrm>
        </p:grpSpPr>
        <p:grpSp>
          <p:nvGrpSpPr>
            <p:cNvPr id="816" name="Group 3"/>
            <p:cNvGrpSpPr/>
            <p:nvPr/>
          </p:nvGrpSpPr>
          <p:grpSpPr>
            <a:xfrm>
              <a:off x="343080" y="5918040"/>
              <a:ext cx="8457840" cy="838080"/>
              <a:chOff x="343080" y="5918040"/>
              <a:chExt cx="8457840" cy="838080"/>
            </a:xfrm>
          </p:grpSpPr>
          <p:sp>
            <p:nvSpPr>
              <p:cNvPr id="817"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819" name="Group 6"/>
              <p:cNvGrpSpPr/>
              <p:nvPr/>
            </p:nvGrpSpPr>
            <p:grpSpPr>
              <a:xfrm>
                <a:off x="7874640" y="5956200"/>
                <a:ext cx="889200" cy="761760"/>
                <a:chOff x="7874640" y="5956200"/>
                <a:chExt cx="889200" cy="761760"/>
              </a:xfrm>
            </p:grpSpPr>
            <p:pic>
              <p:nvPicPr>
                <p:cNvPr id="820" name="Picture 7" descr="me%20logo2"/>
                <p:cNvPicPr/>
                <p:nvPr/>
              </p:nvPicPr>
              <p:blipFill>
                <a:blip r:embed="rId2"/>
                <a:stretch/>
              </p:blipFill>
              <p:spPr>
                <a:xfrm>
                  <a:off x="7874640" y="5956200"/>
                  <a:ext cx="889200" cy="761760"/>
                </a:xfrm>
                <a:prstGeom prst="rect">
                  <a:avLst/>
                </a:prstGeom>
                <a:ln w="0">
                  <a:noFill/>
                </a:ln>
              </p:spPr>
            </p:pic>
            <p:sp>
              <p:nvSpPr>
                <p:cNvPr id="821"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822"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823" name="Picture 13" descr=""/>
          <p:cNvPicPr/>
          <p:nvPr/>
        </p:nvPicPr>
        <p:blipFill>
          <a:blip r:embed="rId3"/>
          <a:stretch/>
        </p:blipFill>
        <p:spPr>
          <a:xfrm>
            <a:off x="609480" y="457200"/>
            <a:ext cx="7874280" cy="311040"/>
          </a:xfrm>
          <a:prstGeom prst="rect">
            <a:avLst/>
          </a:prstGeom>
          <a:ln w="0">
            <a:noFill/>
          </a:ln>
        </p:spPr>
      </p:pic>
      <p:pic>
        <p:nvPicPr>
          <p:cNvPr id="824" name="Picture 14" descr=""/>
          <p:cNvPicPr/>
          <p:nvPr/>
        </p:nvPicPr>
        <p:blipFill>
          <a:blip r:embed="rId4"/>
          <a:stretch/>
        </p:blipFill>
        <p:spPr>
          <a:xfrm>
            <a:off x="609480" y="838080"/>
            <a:ext cx="7925040" cy="493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Group 2"/>
          <p:cNvGrpSpPr/>
          <p:nvPr/>
        </p:nvGrpSpPr>
        <p:grpSpPr>
          <a:xfrm>
            <a:off x="343080" y="5918040"/>
            <a:ext cx="8457840" cy="838080"/>
            <a:chOff x="343080" y="5918040"/>
            <a:chExt cx="8457840" cy="838080"/>
          </a:xfrm>
        </p:grpSpPr>
        <p:grpSp>
          <p:nvGrpSpPr>
            <p:cNvPr id="826" name="Group 3"/>
            <p:cNvGrpSpPr/>
            <p:nvPr/>
          </p:nvGrpSpPr>
          <p:grpSpPr>
            <a:xfrm>
              <a:off x="343080" y="5918040"/>
              <a:ext cx="8457840" cy="838080"/>
              <a:chOff x="343080" y="5918040"/>
              <a:chExt cx="8457840" cy="838080"/>
            </a:xfrm>
          </p:grpSpPr>
          <p:sp>
            <p:nvSpPr>
              <p:cNvPr id="827"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829" name="Group 6"/>
              <p:cNvGrpSpPr/>
              <p:nvPr/>
            </p:nvGrpSpPr>
            <p:grpSpPr>
              <a:xfrm>
                <a:off x="7874640" y="5956200"/>
                <a:ext cx="889200" cy="761760"/>
                <a:chOff x="7874640" y="5956200"/>
                <a:chExt cx="889200" cy="761760"/>
              </a:xfrm>
            </p:grpSpPr>
            <p:pic>
              <p:nvPicPr>
                <p:cNvPr id="830" name="Picture 7" descr="me%20logo2"/>
                <p:cNvPicPr/>
                <p:nvPr/>
              </p:nvPicPr>
              <p:blipFill>
                <a:blip r:embed="rId2"/>
                <a:stretch/>
              </p:blipFill>
              <p:spPr>
                <a:xfrm>
                  <a:off x="7874640" y="5956200"/>
                  <a:ext cx="889200" cy="761760"/>
                </a:xfrm>
                <a:prstGeom prst="rect">
                  <a:avLst/>
                </a:prstGeom>
                <a:ln w="0">
                  <a:noFill/>
                </a:ln>
              </p:spPr>
            </p:pic>
            <p:sp>
              <p:nvSpPr>
                <p:cNvPr id="831"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832"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833" name="Picture 10" descr=""/>
          <p:cNvPicPr/>
          <p:nvPr/>
        </p:nvPicPr>
        <p:blipFill>
          <a:blip r:embed="rId3"/>
          <a:stretch/>
        </p:blipFill>
        <p:spPr>
          <a:xfrm>
            <a:off x="609480" y="457200"/>
            <a:ext cx="7874280" cy="311040"/>
          </a:xfrm>
          <a:prstGeom prst="rect">
            <a:avLst/>
          </a:prstGeom>
          <a:ln w="0">
            <a:noFill/>
          </a:ln>
        </p:spPr>
      </p:pic>
      <p:pic>
        <p:nvPicPr>
          <p:cNvPr id="834" name="Picture 12" descr=""/>
          <p:cNvPicPr/>
          <p:nvPr/>
        </p:nvPicPr>
        <p:blipFill>
          <a:blip r:embed="rId4"/>
          <a:stretch/>
        </p:blipFill>
        <p:spPr>
          <a:xfrm>
            <a:off x="1447920" y="838080"/>
            <a:ext cx="609588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5" name="Text Box 5"/>
          <p:cNvSpPr/>
          <p:nvPr/>
        </p:nvSpPr>
        <p:spPr>
          <a:xfrm>
            <a:off x="1111680" y="230040"/>
            <a:ext cx="698688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ea typeface="Arial"/>
              </a:rPr>
              <a:t>1.1 </a:t>
            </a:r>
            <a:r>
              <a:rPr b="1" lang="en-US" sz="2800" spc="-1" strike="noStrike">
                <a:solidFill>
                  <a:srgbClr val="000000"/>
                </a:solidFill>
                <a:latin typeface="Times New Roman"/>
                <a:ea typeface="Arial"/>
              </a:rPr>
              <a:t>Introduction and Historical Development</a:t>
            </a:r>
            <a:endParaRPr b="0" lang="en-US" sz="2800" spc="-1" strike="noStrike">
              <a:solidFill>
                <a:srgbClr val="000000"/>
              </a:solidFill>
              <a:latin typeface="Arial"/>
            </a:endParaRPr>
          </a:p>
        </p:txBody>
      </p:sp>
      <p:sp>
        <p:nvSpPr>
          <p:cNvPr id="836" name="Rectangle 6"/>
          <p:cNvSpPr/>
          <p:nvPr/>
        </p:nvSpPr>
        <p:spPr>
          <a:xfrm>
            <a:off x="304920" y="762120"/>
            <a:ext cx="8610480" cy="54000"/>
          </a:xfrm>
          <a:prstGeom prst="rect">
            <a:avLst/>
          </a:prstGeom>
          <a:solidFill>
            <a:srgbClr val="3333cc"/>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7" name="Group 17"/>
          <p:cNvGrpSpPr/>
          <p:nvPr/>
        </p:nvGrpSpPr>
        <p:grpSpPr>
          <a:xfrm>
            <a:off x="1057680" y="1031760"/>
            <a:ext cx="7131600" cy="5083200"/>
            <a:chOff x="1057680" y="1031760"/>
            <a:chExt cx="7131600" cy="5083200"/>
          </a:xfrm>
        </p:grpSpPr>
        <p:sp>
          <p:nvSpPr>
            <p:cNvPr id="838" name="AutoShape 16"/>
            <p:cNvSpPr/>
            <p:nvPr/>
          </p:nvSpPr>
          <p:spPr>
            <a:xfrm>
              <a:off x="6415200" y="1514520"/>
              <a:ext cx="1726920" cy="647640"/>
            </a:xfrm>
            <a:prstGeom prst="can">
              <a:avLst>
                <a:gd name="adj" fmla="val 25000"/>
              </a:avLst>
            </a:prstGeom>
            <a:solidFill>
              <a:srgbClr val="ff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Text Box 3"/>
            <p:cNvSpPr/>
            <p:nvPr/>
          </p:nvSpPr>
          <p:spPr>
            <a:xfrm>
              <a:off x="1057680" y="1641600"/>
              <a:ext cx="7131600" cy="825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tone age  →  Bronze age →  Iron age  →  Polymer age</a:t>
              </a:r>
              <a:r>
                <a:rPr b="0" lang="en-US" sz="2400" spc="-1" strike="noStrike">
                  <a:solidFill>
                    <a:srgbClr val="000000"/>
                  </a:solidFill>
                  <a:latin typeface="Gulim"/>
                  <a:ea typeface="Arial"/>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Text Box 7"/>
            <p:cNvSpPr/>
            <p:nvPr/>
          </p:nvSpPr>
          <p:spPr>
            <a:xfrm>
              <a:off x="1277280" y="1031760"/>
              <a:ext cx="40975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 Development of civilization</a:t>
              </a:r>
              <a:endParaRPr b="0" lang="en-US" sz="2400" spc="-1" strike="noStrike">
                <a:solidFill>
                  <a:srgbClr val="000000"/>
                </a:solidFill>
                <a:latin typeface="Arial"/>
              </a:endParaRPr>
            </a:p>
          </p:txBody>
        </p:sp>
        <p:sp>
          <p:nvSpPr>
            <p:cNvPr id="841" name="Text Box 8"/>
            <p:cNvSpPr/>
            <p:nvPr/>
          </p:nvSpPr>
          <p:spPr>
            <a:xfrm>
              <a:off x="1295280" y="2590920"/>
              <a:ext cx="5943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B. Application of polymeric materials</a:t>
              </a:r>
              <a:endParaRPr b="0" lang="en-US" sz="2400" spc="-1" strike="noStrike">
                <a:solidFill>
                  <a:srgbClr val="000000"/>
                </a:solidFill>
                <a:latin typeface="Arial"/>
              </a:endParaRPr>
            </a:p>
          </p:txBody>
        </p:sp>
        <p:sp>
          <p:nvSpPr>
            <p:cNvPr id="842" name="Text Box 9"/>
            <p:cNvSpPr/>
            <p:nvPr/>
          </p:nvSpPr>
          <p:spPr>
            <a:xfrm>
              <a:off x="1447920" y="3276720"/>
              <a:ext cx="655308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Arial"/>
                </a:rPr>
                <a:t>ｏ </a:t>
              </a:r>
              <a:r>
                <a:rPr b="0" lang="en-US" sz="2000" spc="-1" strike="noStrike">
                  <a:solidFill>
                    <a:srgbClr val="000000"/>
                  </a:solidFill>
                  <a:latin typeface="Times New Roman"/>
                  <a:ea typeface="Arial"/>
                </a:rPr>
                <a:t>PE milk bottle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Arial"/>
                </a:rPr>
                <a:t>ｏ </a:t>
              </a:r>
              <a:r>
                <a:rPr b="0" lang="en-US" sz="2000" spc="-1" strike="noStrike">
                  <a:solidFill>
                    <a:srgbClr val="000000"/>
                  </a:solidFill>
                  <a:latin typeface="Times New Roman"/>
                  <a:ea typeface="Arial"/>
                </a:rPr>
                <a:t>Polyamide bulletproof vest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Arial"/>
                </a:rPr>
                <a:t>ｏ </a:t>
              </a:r>
              <a:r>
                <a:rPr b="0" lang="en-US" sz="2000" spc="-1" strike="noStrike">
                  <a:solidFill>
                    <a:srgbClr val="000000"/>
                  </a:solidFill>
                  <a:latin typeface="Times New Roman"/>
                  <a:ea typeface="Arial"/>
                </a:rPr>
                <a:t>Polyurethane artificial hear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Arial"/>
                </a:rPr>
                <a:t>ｏ </a:t>
              </a:r>
              <a:r>
                <a:rPr b="0" lang="en-US" sz="2000" spc="-1" strike="noStrike">
                  <a:solidFill>
                    <a:srgbClr val="000000"/>
                  </a:solidFill>
                  <a:latin typeface="Times New Roman"/>
                  <a:ea typeface="Arial"/>
                </a:rPr>
                <a:t>Fluorinated phosphazene elastomer for arctic environment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43" name="Picture 10" descr=""/>
          <p:cNvPicPr/>
          <p:nvPr/>
        </p:nvPicPr>
        <p:blipFill>
          <a:blip r:embed="rId1"/>
          <a:stretch/>
        </p:blipFill>
        <p:spPr>
          <a:xfrm>
            <a:off x="351000" y="5802480"/>
            <a:ext cx="8474040" cy="84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1828800" y="762120"/>
            <a:ext cx="5029200" cy="76176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7" name="Group 2"/>
          <p:cNvGrpSpPr/>
          <p:nvPr/>
        </p:nvGrpSpPr>
        <p:grpSpPr>
          <a:xfrm>
            <a:off x="343080" y="5918040"/>
            <a:ext cx="8457840" cy="838080"/>
            <a:chOff x="343080" y="5918040"/>
            <a:chExt cx="8457840" cy="838080"/>
          </a:xfrm>
        </p:grpSpPr>
        <p:grpSp>
          <p:nvGrpSpPr>
            <p:cNvPr id="688" name="Group 3"/>
            <p:cNvGrpSpPr/>
            <p:nvPr/>
          </p:nvGrpSpPr>
          <p:grpSpPr>
            <a:xfrm>
              <a:off x="343080" y="5918040"/>
              <a:ext cx="8457840" cy="838080"/>
              <a:chOff x="343080" y="5918040"/>
              <a:chExt cx="8457840" cy="838080"/>
            </a:xfrm>
          </p:grpSpPr>
          <p:sp>
            <p:nvSpPr>
              <p:cNvPr id="689"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0"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691" name="Group 6"/>
              <p:cNvGrpSpPr/>
              <p:nvPr/>
            </p:nvGrpSpPr>
            <p:grpSpPr>
              <a:xfrm>
                <a:off x="7874640" y="5956200"/>
                <a:ext cx="889200" cy="761760"/>
                <a:chOff x="7874640" y="5956200"/>
                <a:chExt cx="889200" cy="761760"/>
              </a:xfrm>
            </p:grpSpPr>
            <p:pic>
              <p:nvPicPr>
                <p:cNvPr id="692" name="Picture 7" descr="me%20logo2"/>
                <p:cNvPicPr/>
                <p:nvPr/>
              </p:nvPicPr>
              <p:blipFill>
                <a:blip r:embed="rId2"/>
                <a:stretch/>
              </p:blipFill>
              <p:spPr>
                <a:xfrm>
                  <a:off x="7874640" y="5956200"/>
                  <a:ext cx="889200" cy="761760"/>
                </a:xfrm>
                <a:prstGeom prst="rect">
                  <a:avLst/>
                </a:prstGeom>
                <a:ln w="0">
                  <a:noFill/>
                </a:ln>
              </p:spPr>
            </p:pic>
            <p:sp>
              <p:nvSpPr>
                <p:cNvPr id="693"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694"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sp>
        <p:nvSpPr>
          <p:cNvPr id="695" name="Rectangle 1"/>
          <p:cNvSpPr/>
          <p:nvPr/>
        </p:nvSpPr>
        <p:spPr>
          <a:xfrm>
            <a:off x="2246400" y="914400"/>
            <a:ext cx="4178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HighlanderITC-Bold"/>
                <a:ea typeface="Arial"/>
              </a:rPr>
              <a:t>CLASSIFICATION OF MATERIALS</a:t>
            </a:r>
            <a:endParaRPr b="0" lang="en-US" sz="2000" spc="-1" strike="noStrike">
              <a:solidFill>
                <a:srgbClr val="000000"/>
              </a:solidFill>
              <a:latin typeface="Arial"/>
            </a:endParaRPr>
          </a:p>
        </p:txBody>
      </p:sp>
      <p:cxnSp>
        <p:nvCxnSpPr>
          <p:cNvPr id="696" name="Straight Arrow Connector 4"/>
          <p:cNvCxnSpPr>
            <a:stCxn id="686" idx="2"/>
          </p:cNvCxnSpPr>
          <p:nvPr/>
        </p:nvCxnSpPr>
        <p:spPr>
          <a:xfrm>
            <a:off x="4343040" y="1523880"/>
            <a:ext cx="1080" cy="572400"/>
          </a:xfrm>
          <a:prstGeom prst="straightConnector1">
            <a:avLst/>
          </a:prstGeom>
          <a:ln w="22320">
            <a:solidFill>
              <a:srgbClr val="ff8000"/>
            </a:solidFill>
            <a:miter/>
            <a:tailEnd len="med" type="arrow" w="med"/>
          </a:ln>
        </p:spPr>
      </p:cxnSp>
      <p:sp>
        <p:nvSpPr>
          <p:cNvPr id="697" name="Straight Connector 6"/>
          <p:cNvSpPr/>
          <p:nvPr/>
        </p:nvSpPr>
        <p:spPr>
          <a:xfrm>
            <a:off x="1447920" y="4221000"/>
            <a:ext cx="6019560" cy="0"/>
          </a:xfrm>
          <a:prstGeom prst="line">
            <a:avLst/>
          </a:prstGeom>
          <a:ln w="25560">
            <a:solidFill>
              <a:srgbClr val="ff8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8" name="Straight Arrow Connector 8"/>
          <p:cNvCxnSpPr/>
          <p:nvPr/>
        </p:nvCxnSpPr>
        <p:spPr>
          <a:xfrm>
            <a:off x="1447560" y="4221000"/>
            <a:ext cx="1080" cy="915120"/>
          </a:xfrm>
          <a:prstGeom prst="straightConnector1">
            <a:avLst/>
          </a:prstGeom>
          <a:ln w="25560">
            <a:solidFill>
              <a:srgbClr val="ff8000"/>
            </a:solidFill>
            <a:miter/>
            <a:tailEnd len="med" type="triangle" w="med"/>
          </a:ln>
        </p:spPr>
      </p:cxnSp>
      <p:cxnSp>
        <p:nvCxnSpPr>
          <p:cNvPr id="699" name="Straight Arrow Connector 10"/>
          <p:cNvCxnSpPr/>
          <p:nvPr/>
        </p:nvCxnSpPr>
        <p:spPr>
          <a:xfrm>
            <a:off x="3320640" y="4221000"/>
            <a:ext cx="1080" cy="915120"/>
          </a:xfrm>
          <a:prstGeom prst="straightConnector1">
            <a:avLst/>
          </a:prstGeom>
          <a:ln w="25560">
            <a:solidFill>
              <a:srgbClr val="ff8000"/>
            </a:solidFill>
            <a:miter/>
            <a:tailEnd len="med" type="triangle" w="med"/>
          </a:ln>
        </p:spPr>
      </p:cxnSp>
      <p:cxnSp>
        <p:nvCxnSpPr>
          <p:cNvPr id="700" name="Straight Arrow Connector 12"/>
          <p:cNvCxnSpPr/>
          <p:nvPr/>
        </p:nvCxnSpPr>
        <p:spPr>
          <a:xfrm>
            <a:off x="5073120" y="4221000"/>
            <a:ext cx="1080" cy="915120"/>
          </a:xfrm>
          <a:prstGeom prst="straightConnector1">
            <a:avLst/>
          </a:prstGeom>
          <a:ln w="25560">
            <a:solidFill>
              <a:srgbClr val="ff8000"/>
            </a:solidFill>
            <a:miter/>
            <a:tailEnd len="med" type="triangle" w="med"/>
          </a:ln>
        </p:spPr>
      </p:cxnSp>
      <p:sp>
        <p:nvSpPr>
          <p:cNvPr id="701" name="TextBox 14"/>
          <p:cNvSpPr/>
          <p:nvPr/>
        </p:nvSpPr>
        <p:spPr>
          <a:xfrm>
            <a:off x="851040" y="5116680"/>
            <a:ext cx="1458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etals</a:t>
            </a:r>
            <a:endParaRPr b="0" lang="en-US" sz="1800" spc="-1" strike="noStrike">
              <a:solidFill>
                <a:srgbClr val="000000"/>
              </a:solidFill>
              <a:latin typeface="Arial"/>
            </a:endParaRPr>
          </a:p>
        </p:txBody>
      </p:sp>
      <p:sp>
        <p:nvSpPr>
          <p:cNvPr id="702" name="TextBox 23"/>
          <p:cNvSpPr/>
          <p:nvPr/>
        </p:nvSpPr>
        <p:spPr>
          <a:xfrm>
            <a:off x="2590920" y="5092560"/>
            <a:ext cx="14605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eramics</a:t>
            </a:r>
            <a:endParaRPr b="0" lang="en-US" sz="1800" spc="-1" strike="noStrike">
              <a:solidFill>
                <a:srgbClr val="000000"/>
              </a:solidFill>
              <a:latin typeface="Arial"/>
            </a:endParaRPr>
          </a:p>
        </p:txBody>
      </p:sp>
      <p:sp>
        <p:nvSpPr>
          <p:cNvPr id="703" name="TextBox 24"/>
          <p:cNvSpPr/>
          <p:nvPr/>
        </p:nvSpPr>
        <p:spPr>
          <a:xfrm>
            <a:off x="4343400" y="5084640"/>
            <a:ext cx="14605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Polymers</a:t>
            </a:r>
            <a:endParaRPr b="0" lang="en-US" sz="1800" spc="-1" strike="noStrike">
              <a:solidFill>
                <a:srgbClr val="000000"/>
              </a:solidFill>
              <a:latin typeface="Arial"/>
            </a:endParaRPr>
          </a:p>
        </p:txBody>
      </p:sp>
      <p:grpSp>
        <p:nvGrpSpPr>
          <p:cNvPr id="704" name="Group 20"/>
          <p:cNvGrpSpPr/>
          <p:nvPr/>
        </p:nvGrpSpPr>
        <p:grpSpPr>
          <a:xfrm>
            <a:off x="849240" y="2045880"/>
            <a:ext cx="7346880" cy="1264320"/>
            <a:chOff x="849240" y="2045880"/>
            <a:chExt cx="7346880" cy="1264320"/>
          </a:xfrm>
        </p:grpSpPr>
        <p:sp>
          <p:nvSpPr>
            <p:cNvPr id="705" name="Straight Connector 21"/>
            <p:cNvSpPr/>
            <p:nvPr/>
          </p:nvSpPr>
          <p:spPr>
            <a:xfrm>
              <a:off x="1446120" y="2046240"/>
              <a:ext cx="6019920" cy="0"/>
            </a:xfrm>
            <a:prstGeom prst="line">
              <a:avLst/>
            </a:prstGeom>
            <a:ln w="25560">
              <a:solidFill>
                <a:srgbClr val="ff8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6" name="Straight Arrow Connector 22"/>
            <p:cNvCxnSpPr/>
            <p:nvPr/>
          </p:nvCxnSpPr>
          <p:spPr>
            <a:xfrm>
              <a:off x="1445760" y="2045880"/>
              <a:ext cx="1080" cy="915480"/>
            </a:xfrm>
            <a:prstGeom prst="straightConnector1">
              <a:avLst/>
            </a:prstGeom>
            <a:ln w="25560">
              <a:solidFill>
                <a:srgbClr val="ff8000"/>
              </a:solidFill>
              <a:miter/>
              <a:tailEnd len="med" type="triangle" w="med"/>
            </a:ln>
          </p:spPr>
        </p:cxnSp>
        <p:cxnSp>
          <p:nvCxnSpPr>
            <p:cNvPr id="707" name="Straight Arrow Connector 23"/>
            <p:cNvCxnSpPr/>
            <p:nvPr/>
          </p:nvCxnSpPr>
          <p:spPr>
            <a:xfrm>
              <a:off x="4341240" y="2045880"/>
              <a:ext cx="1080" cy="915480"/>
            </a:xfrm>
            <a:prstGeom prst="straightConnector1">
              <a:avLst/>
            </a:prstGeom>
            <a:ln w="25560">
              <a:solidFill>
                <a:srgbClr val="ff8000"/>
              </a:solidFill>
              <a:miter/>
              <a:tailEnd len="med" type="triangle" w="med"/>
            </a:ln>
          </p:spPr>
        </p:cxnSp>
        <p:cxnSp>
          <p:nvCxnSpPr>
            <p:cNvPr id="708" name="Straight Arrow Connector 24"/>
            <p:cNvCxnSpPr/>
            <p:nvPr/>
          </p:nvCxnSpPr>
          <p:spPr>
            <a:xfrm>
              <a:off x="7465680" y="2045880"/>
              <a:ext cx="1080" cy="915480"/>
            </a:xfrm>
            <a:prstGeom prst="straightConnector1">
              <a:avLst/>
            </a:prstGeom>
            <a:ln w="25560">
              <a:solidFill>
                <a:srgbClr val="ff8000"/>
              </a:solidFill>
              <a:miter/>
              <a:tailEnd len="med" type="triangle" w="med"/>
            </a:ln>
          </p:spPr>
        </p:cxnSp>
        <p:sp>
          <p:nvSpPr>
            <p:cNvPr id="709" name="TextBox 14"/>
            <p:cNvSpPr/>
            <p:nvPr/>
          </p:nvSpPr>
          <p:spPr>
            <a:xfrm>
              <a:off x="849240" y="2941920"/>
              <a:ext cx="1458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Gas</a:t>
              </a:r>
              <a:endParaRPr b="0" lang="en-US" sz="1800" spc="-1" strike="noStrike">
                <a:solidFill>
                  <a:srgbClr val="000000"/>
                </a:solidFill>
                <a:latin typeface="Arial"/>
              </a:endParaRPr>
            </a:p>
          </p:txBody>
        </p:sp>
        <p:sp>
          <p:nvSpPr>
            <p:cNvPr id="710" name="TextBox 23"/>
            <p:cNvSpPr/>
            <p:nvPr/>
          </p:nvSpPr>
          <p:spPr>
            <a:xfrm>
              <a:off x="3611520" y="2917800"/>
              <a:ext cx="14605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Liquid</a:t>
              </a:r>
              <a:endParaRPr b="0" lang="en-US" sz="1800" spc="-1" strike="noStrike">
                <a:solidFill>
                  <a:srgbClr val="000000"/>
                </a:solidFill>
                <a:latin typeface="Arial"/>
              </a:endParaRPr>
            </a:p>
          </p:txBody>
        </p:sp>
        <p:sp>
          <p:nvSpPr>
            <p:cNvPr id="711" name="TextBox 24"/>
            <p:cNvSpPr/>
            <p:nvPr/>
          </p:nvSpPr>
          <p:spPr>
            <a:xfrm>
              <a:off x="6735600" y="2909880"/>
              <a:ext cx="14605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olid</a:t>
              </a:r>
              <a:endParaRPr b="0" lang="en-US" sz="1800" spc="-1" strike="noStrike">
                <a:solidFill>
                  <a:srgbClr val="000000"/>
                </a:solidFill>
                <a:latin typeface="Arial"/>
              </a:endParaRPr>
            </a:p>
          </p:txBody>
        </p:sp>
      </p:grpSp>
      <p:sp>
        <p:nvSpPr>
          <p:cNvPr id="712" name="Straight Connector 7"/>
          <p:cNvSpPr/>
          <p:nvPr/>
        </p:nvSpPr>
        <p:spPr>
          <a:xfrm>
            <a:off x="7466040" y="3278160"/>
            <a:ext cx="0" cy="455760"/>
          </a:xfrm>
          <a:prstGeom prst="line">
            <a:avLst/>
          </a:prstGeom>
          <a:ln w="25560">
            <a:solidFill>
              <a:srgbClr val="ff8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Straight Connector 11"/>
          <p:cNvSpPr/>
          <p:nvPr/>
        </p:nvSpPr>
        <p:spPr>
          <a:xfrm flipH="1">
            <a:off x="4343400" y="3733920"/>
            <a:ext cx="3122640" cy="0"/>
          </a:xfrm>
          <a:prstGeom prst="line">
            <a:avLst/>
          </a:prstGeom>
          <a:ln w="25560">
            <a:solidFill>
              <a:srgbClr val="ff8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4" name="Straight Arrow Connector 14"/>
          <p:cNvCxnSpPr/>
          <p:nvPr/>
        </p:nvCxnSpPr>
        <p:spPr>
          <a:xfrm>
            <a:off x="4335480" y="3733560"/>
            <a:ext cx="7200" cy="487800"/>
          </a:xfrm>
          <a:prstGeom prst="straightConnector1">
            <a:avLst/>
          </a:prstGeom>
          <a:ln w="25560">
            <a:solidFill>
              <a:srgbClr val="ff8000"/>
            </a:solidFill>
            <a:miter/>
            <a:tailEnd len="med" type="triangle" w="med"/>
          </a:ln>
        </p:spPr>
      </p:cxnSp>
      <p:cxnSp>
        <p:nvCxnSpPr>
          <p:cNvPr id="715" name="Straight Arrow Connector 35"/>
          <p:cNvCxnSpPr/>
          <p:nvPr/>
        </p:nvCxnSpPr>
        <p:spPr>
          <a:xfrm>
            <a:off x="7422840" y="4191120"/>
            <a:ext cx="1080" cy="915120"/>
          </a:xfrm>
          <a:prstGeom prst="straightConnector1">
            <a:avLst/>
          </a:prstGeom>
          <a:ln w="25560">
            <a:solidFill>
              <a:srgbClr val="ff8000"/>
            </a:solidFill>
            <a:miter/>
            <a:tailEnd len="med" type="triangle" w="med"/>
          </a:ln>
        </p:spPr>
      </p:cxnSp>
      <p:sp>
        <p:nvSpPr>
          <p:cNvPr id="716" name="TextBox 23"/>
          <p:cNvSpPr/>
          <p:nvPr/>
        </p:nvSpPr>
        <p:spPr>
          <a:xfrm>
            <a:off x="6483240" y="5062680"/>
            <a:ext cx="1670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mpos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7" name="Group 2"/>
          <p:cNvGrpSpPr/>
          <p:nvPr/>
        </p:nvGrpSpPr>
        <p:grpSpPr>
          <a:xfrm>
            <a:off x="343080" y="5918040"/>
            <a:ext cx="8457840" cy="838080"/>
            <a:chOff x="343080" y="5918040"/>
            <a:chExt cx="8457840" cy="838080"/>
          </a:xfrm>
        </p:grpSpPr>
        <p:grpSp>
          <p:nvGrpSpPr>
            <p:cNvPr id="718" name="Group 3"/>
            <p:cNvGrpSpPr/>
            <p:nvPr/>
          </p:nvGrpSpPr>
          <p:grpSpPr>
            <a:xfrm>
              <a:off x="343080" y="5918040"/>
              <a:ext cx="8457840" cy="838080"/>
              <a:chOff x="343080" y="5918040"/>
              <a:chExt cx="8457840" cy="838080"/>
            </a:xfrm>
          </p:grpSpPr>
          <p:sp>
            <p:nvSpPr>
              <p:cNvPr id="719"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0"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21" name="Group 6"/>
              <p:cNvGrpSpPr/>
              <p:nvPr/>
            </p:nvGrpSpPr>
            <p:grpSpPr>
              <a:xfrm>
                <a:off x="7874640" y="5956200"/>
                <a:ext cx="889200" cy="761760"/>
                <a:chOff x="7874640" y="5956200"/>
                <a:chExt cx="889200" cy="761760"/>
              </a:xfrm>
            </p:grpSpPr>
            <p:pic>
              <p:nvPicPr>
                <p:cNvPr id="722" name="Picture 7" descr="me%20logo2"/>
                <p:cNvPicPr/>
                <p:nvPr/>
              </p:nvPicPr>
              <p:blipFill>
                <a:blip r:embed="rId2"/>
                <a:stretch/>
              </p:blipFill>
              <p:spPr>
                <a:xfrm>
                  <a:off x="7874640" y="5956200"/>
                  <a:ext cx="889200" cy="761760"/>
                </a:xfrm>
                <a:prstGeom prst="rect">
                  <a:avLst/>
                </a:prstGeom>
                <a:ln w="0">
                  <a:noFill/>
                </a:ln>
              </p:spPr>
            </p:pic>
            <p:sp>
              <p:nvSpPr>
                <p:cNvPr id="723"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24"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725" name="Picture 11" descr=""/>
          <p:cNvPicPr/>
          <p:nvPr/>
        </p:nvPicPr>
        <p:blipFill>
          <a:blip r:embed="rId3"/>
          <a:stretch/>
        </p:blipFill>
        <p:spPr>
          <a:xfrm>
            <a:off x="838080" y="457200"/>
            <a:ext cx="7134480" cy="455760"/>
          </a:xfrm>
          <a:prstGeom prst="rect">
            <a:avLst/>
          </a:prstGeom>
          <a:ln w="0">
            <a:noFill/>
          </a:ln>
        </p:spPr>
      </p:pic>
      <p:pic>
        <p:nvPicPr>
          <p:cNvPr id="726" name="Picture 3" descr=""/>
          <p:cNvPicPr/>
          <p:nvPr/>
        </p:nvPicPr>
        <p:blipFill>
          <a:blip r:embed="rId4"/>
          <a:stretch/>
        </p:blipFill>
        <p:spPr>
          <a:xfrm>
            <a:off x="938160" y="1427040"/>
            <a:ext cx="7267680" cy="40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Group 2"/>
          <p:cNvGrpSpPr/>
          <p:nvPr/>
        </p:nvGrpSpPr>
        <p:grpSpPr>
          <a:xfrm>
            <a:off x="343080" y="5918040"/>
            <a:ext cx="8457840" cy="838080"/>
            <a:chOff x="343080" y="5918040"/>
            <a:chExt cx="8457840" cy="838080"/>
          </a:xfrm>
        </p:grpSpPr>
        <p:grpSp>
          <p:nvGrpSpPr>
            <p:cNvPr id="728" name="Group 3"/>
            <p:cNvGrpSpPr/>
            <p:nvPr/>
          </p:nvGrpSpPr>
          <p:grpSpPr>
            <a:xfrm>
              <a:off x="343080" y="5918040"/>
              <a:ext cx="8457840" cy="838080"/>
              <a:chOff x="343080" y="5918040"/>
              <a:chExt cx="8457840" cy="838080"/>
            </a:xfrm>
          </p:grpSpPr>
          <p:sp>
            <p:nvSpPr>
              <p:cNvPr id="729"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0"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31" name="Group 6"/>
              <p:cNvGrpSpPr/>
              <p:nvPr/>
            </p:nvGrpSpPr>
            <p:grpSpPr>
              <a:xfrm>
                <a:off x="7874640" y="5956200"/>
                <a:ext cx="889200" cy="761760"/>
                <a:chOff x="7874640" y="5956200"/>
                <a:chExt cx="889200" cy="761760"/>
              </a:xfrm>
            </p:grpSpPr>
            <p:pic>
              <p:nvPicPr>
                <p:cNvPr id="732" name="Picture 7" descr="me%20logo2"/>
                <p:cNvPicPr/>
                <p:nvPr/>
              </p:nvPicPr>
              <p:blipFill>
                <a:blip r:embed="rId2"/>
                <a:stretch/>
              </p:blipFill>
              <p:spPr>
                <a:xfrm>
                  <a:off x="7874640" y="5956200"/>
                  <a:ext cx="889200" cy="761760"/>
                </a:xfrm>
                <a:prstGeom prst="rect">
                  <a:avLst/>
                </a:prstGeom>
                <a:ln w="0">
                  <a:noFill/>
                </a:ln>
              </p:spPr>
            </p:pic>
            <p:sp>
              <p:nvSpPr>
                <p:cNvPr id="733"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34"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sp>
        <p:nvSpPr>
          <p:cNvPr id="735" name="Rectangle 1"/>
          <p:cNvSpPr/>
          <p:nvPr/>
        </p:nvSpPr>
        <p:spPr>
          <a:xfrm>
            <a:off x="1104840" y="914400"/>
            <a:ext cx="6769080" cy="4665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toms in metals and their alloys are arranged in a very orderly manner and in comparison to the ceramics and polymers, are relatively dense.</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With regard to mechanical characteristics, these materials are relatively stiff and strong, yet are ductile, (capable of large amounts of deformation without fracture), and are resistant to fracture, which accounts for their widespread use in structural application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Group 2"/>
          <p:cNvGrpSpPr/>
          <p:nvPr/>
        </p:nvGrpSpPr>
        <p:grpSpPr>
          <a:xfrm>
            <a:off x="343080" y="5918040"/>
            <a:ext cx="8457840" cy="838080"/>
            <a:chOff x="343080" y="5918040"/>
            <a:chExt cx="8457840" cy="838080"/>
          </a:xfrm>
        </p:grpSpPr>
        <p:grpSp>
          <p:nvGrpSpPr>
            <p:cNvPr id="737" name="Group 3"/>
            <p:cNvGrpSpPr/>
            <p:nvPr/>
          </p:nvGrpSpPr>
          <p:grpSpPr>
            <a:xfrm>
              <a:off x="343080" y="5918040"/>
              <a:ext cx="8457840" cy="838080"/>
              <a:chOff x="343080" y="5918040"/>
              <a:chExt cx="8457840" cy="838080"/>
            </a:xfrm>
          </p:grpSpPr>
          <p:sp>
            <p:nvSpPr>
              <p:cNvPr id="738"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9"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40" name="Group 6"/>
              <p:cNvGrpSpPr/>
              <p:nvPr/>
            </p:nvGrpSpPr>
            <p:grpSpPr>
              <a:xfrm>
                <a:off x="7874640" y="5956200"/>
                <a:ext cx="889200" cy="761760"/>
                <a:chOff x="7874640" y="5956200"/>
                <a:chExt cx="889200" cy="761760"/>
              </a:xfrm>
            </p:grpSpPr>
            <p:pic>
              <p:nvPicPr>
                <p:cNvPr id="741" name="Picture 7" descr="me%20logo2"/>
                <p:cNvPicPr/>
                <p:nvPr/>
              </p:nvPicPr>
              <p:blipFill>
                <a:blip r:embed="rId2"/>
                <a:stretch/>
              </p:blipFill>
              <p:spPr>
                <a:xfrm>
                  <a:off x="7874640" y="5956200"/>
                  <a:ext cx="889200" cy="761760"/>
                </a:xfrm>
                <a:prstGeom prst="rect">
                  <a:avLst/>
                </a:prstGeom>
                <a:ln w="0">
                  <a:noFill/>
                </a:ln>
              </p:spPr>
            </p:pic>
            <p:sp>
              <p:nvSpPr>
                <p:cNvPr id="742"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43"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744" name="Picture 11" descr=""/>
          <p:cNvPicPr/>
          <p:nvPr/>
        </p:nvPicPr>
        <p:blipFill>
          <a:blip r:embed="rId3"/>
          <a:stretch/>
        </p:blipFill>
        <p:spPr>
          <a:xfrm>
            <a:off x="838080" y="457200"/>
            <a:ext cx="7134480" cy="455760"/>
          </a:xfrm>
          <a:prstGeom prst="rect">
            <a:avLst/>
          </a:prstGeom>
          <a:ln w="0">
            <a:noFill/>
          </a:ln>
        </p:spPr>
      </p:pic>
      <p:pic>
        <p:nvPicPr>
          <p:cNvPr id="745" name="Picture 2" descr=""/>
          <p:cNvPicPr/>
          <p:nvPr/>
        </p:nvPicPr>
        <p:blipFill>
          <a:blip r:embed="rId4"/>
          <a:stretch/>
        </p:blipFill>
        <p:spPr>
          <a:xfrm>
            <a:off x="938160" y="1170000"/>
            <a:ext cx="7267680" cy="45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6" name="Group 2"/>
          <p:cNvGrpSpPr/>
          <p:nvPr/>
        </p:nvGrpSpPr>
        <p:grpSpPr>
          <a:xfrm>
            <a:off x="343080" y="5918040"/>
            <a:ext cx="8457840" cy="838080"/>
            <a:chOff x="343080" y="5918040"/>
            <a:chExt cx="8457840" cy="838080"/>
          </a:xfrm>
        </p:grpSpPr>
        <p:grpSp>
          <p:nvGrpSpPr>
            <p:cNvPr id="747" name="Group 3"/>
            <p:cNvGrpSpPr/>
            <p:nvPr/>
          </p:nvGrpSpPr>
          <p:grpSpPr>
            <a:xfrm>
              <a:off x="343080" y="5918040"/>
              <a:ext cx="8457840" cy="838080"/>
              <a:chOff x="343080" y="5918040"/>
              <a:chExt cx="8457840" cy="838080"/>
            </a:xfrm>
          </p:grpSpPr>
          <p:sp>
            <p:nvSpPr>
              <p:cNvPr id="748"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9"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50" name="Group 6"/>
              <p:cNvGrpSpPr/>
              <p:nvPr/>
            </p:nvGrpSpPr>
            <p:grpSpPr>
              <a:xfrm>
                <a:off x="7874640" y="5956200"/>
                <a:ext cx="889200" cy="761760"/>
                <a:chOff x="7874640" y="5956200"/>
                <a:chExt cx="889200" cy="761760"/>
              </a:xfrm>
            </p:grpSpPr>
            <p:pic>
              <p:nvPicPr>
                <p:cNvPr id="751" name="Picture 7" descr="me%20logo2"/>
                <p:cNvPicPr/>
                <p:nvPr/>
              </p:nvPicPr>
              <p:blipFill>
                <a:blip r:embed="rId2"/>
                <a:stretch/>
              </p:blipFill>
              <p:spPr>
                <a:xfrm>
                  <a:off x="7874640" y="5956200"/>
                  <a:ext cx="889200" cy="761760"/>
                </a:xfrm>
                <a:prstGeom prst="rect">
                  <a:avLst/>
                </a:prstGeom>
                <a:ln w="0">
                  <a:noFill/>
                </a:ln>
              </p:spPr>
            </p:pic>
            <p:sp>
              <p:nvSpPr>
                <p:cNvPr id="752"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53"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754" name="Picture 11" descr=""/>
          <p:cNvPicPr/>
          <p:nvPr/>
        </p:nvPicPr>
        <p:blipFill>
          <a:blip r:embed="rId3"/>
          <a:stretch/>
        </p:blipFill>
        <p:spPr>
          <a:xfrm>
            <a:off x="838080" y="457200"/>
            <a:ext cx="7134480" cy="455760"/>
          </a:xfrm>
          <a:prstGeom prst="rect">
            <a:avLst/>
          </a:prstGeom>
          <a:ln w="0">
            <a:noFill/>
          </a:ln>
        </p:spPr>
      </p:pic>
      <p:pic>
        <p:nvPicPr>
          <p:cNvPr id="755" name="Picture 2" descr=""/>
          <p:cNvPicPr/>
          <p:nvPr/>
        </p:nvPicPr>
        <p:blipFill>
          <a:blip r:embed="rId4"/>
          <a:stretch/>
        </p:blipFill>
        <p:spPr>
          <a:xfrm>
            <a:off x="919080" y="1455840"/>
            <a:ext cx="7305840" cy="395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Group 2"/>
          <p:cNvGrpSpPr/>
          <p:nvPr/>
        </p:nvGrpSpPr>
        <p:grpSpPr>
          <a:xfrm>
            <a:off x="343080" y="5918040"/>
            <a:ext cx="8457840" cy="838080"/>
            <a:chOff x="343080" y="5918040"/>
            <a:chExt cx="8457840" cy="838080"/>
          </a:xfrm>
        </p:grpSpPr>
        <p:grpSp>
          <p:nvGrpSpPr>
            <p:cNvPr id="757" name="Group 3"/>
            <p:cNvGrpSpPr/>
            <p:nvPr/>
          </p:nvGrpSpPr>
          <p:grpSpPr>
            <a:xfrm>
              <a:off x="343080" y="5918040"/>
              <a:ext cx="8457840" cy="838080"/>
              <a:chOff x="343080" y="5918040"/>
              <a:chExt cx="8457840" cy="838080"/>
            </a:xfrm>
          </p:grpSpPr>
          <p:sp>
            <p:nvSpPr>
              <p:cNvPr id="758"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9"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60" name="Group 6"/>
              <p:cNvGrpSpPr/>
              <p:nvPr/>
            </p:nvGrpSpPr>
            <p:grpSpPr>
              <a:xfrm>
                <a:off x="7874640" y="5956200"/>
                <a:ext cx="889200" cy="761760"/>
                <a:chOff x="7874640" y="5956200"/>
                <a:chExt cx="889200" cy="761760"/>
              </a:xfrm>
            </p:grpSpPr>
            <p:pic>
              <p:nvPicPr>
                <p:cNvPr id="761" name="Picture 7" descr="me%20logo2"/>
                <p:cNvPicPr/>
                <p:nvPr/>
              </p:nvPicPr>
              <p:blipFill>
                <a:blip r:embed="rId2"/>
                <a:stretch/>
              </p:blipFill>
              <p:spPr>
                <a:xfrm>
                  <a:off x="7874640" y="5956200"/>
                  <a:ext cx="889200" cy="761760"/>
                </a:xfrm>
                <a:prstGeom prst="rect">
                  <a:avLst/>
                </a:prstGeom>
                <a:ln w="0">
                  <a:noFill/>
                </a:ln>
              </p:spPr>
            </p:pic>
            <p:sp>
              <p:nvSpPr>
                <p:cNvPr id="762"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63"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sp>
        <p:nvSpPr>
          <p:cNvPr id="764" name="Rectangle 2"/>
          <p:cNvSpPr/>
          <p:nvPr/>
        </p:nvSpPr>
        <p:spPr>
          <a:xfrm>
            <a:off x="844560" y="1447920"/>
            <a:ext cx="7475400" cy="4483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Ten-Roman"/>
                <a:ea typeface="Arial"/>
              </a:rPr>
              <a:t>Polymers include the familiar plastic and rubber materials. Many of them are organic compounds that are chemically based on carbon, hydrogen, and other nonmetallic elements (O, N, and Si).</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Arial"/>
              </a:rPr>
              <a:t>As with metals and ceramics, the properties of polymers are intricately related to the structural elements of the material.</a:t>
            </a:r>
            <a:endParaRPr b="0" lang="en-US" sz="2400" spc="-1" strike="noStrike">
              <a:solidFill>
                <a:srgbClr val="000000"/>
              </a:solidFill>
              <a:latin typeface="Arial"/>
            </a:endParaRPr>
          </a:p>
        </p:txBody>
      </p:sp>
      <p:sp>
        <p:nvSpPr>
          <p:cNvPr id="765" name="Rectangle 3"/>
          <p:cNvSpPr/>
          <p:nvPr/>
        </p:nvSpPr>
        <p:spPr>
          <a:xfrm>
            <a:off x="3076560" y="692280"/>
            <a:ext cx="20703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HighlanderITC-Bold"/>
                <a:ea typeface="Arial"/>
              </a:rPr>
              <a:t>Poly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6" name="Group 2"/>
          <p:cNvGrpSpPr/>
          <p:nvPr/>
        </p:nvGrpSpPr>
        <p:grpSpPr>
          <a:xfrm>
            <a:off x="343080" y="5918040"/>
            <a:ext cx="8457840" cy="838080"/>
            <a:chOff x="343080" y="5918040"/>
            <a:chExt cx="8457840" cy="838080"/>
          </a:xfrm>
        </p:grpSpPr>
        <p:grpSp>
          <p:nvGrpSpPr>
            <p:cNvPr id="767" name="Group 3"/>
            <p:cNvGrpSpPr/>
            <p:nvPr/>
          </p:nvGrpSpPr>
          <p:grpSpPr>
            <a:xfrm>
              <a:off x="343080" y="5918040"/>
              <a:ext cx="8457840" cy="838080"/>
              <a:chOff x="343080" y="5918040"/>
              <a:chExt cx="8457840" cy="838080"/>
            </a:xfrm>
          </p:grpSpPr>
          <p:sp>
            <p:nvSpPr>
              <p:cNvPr id="768"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70" name="Group 6"/>
              <p:cNvGrpSpPr/>
              <p:nvPr/>
            </p:nvGrpSpPr>
            <p:grpSpPr>
              <a:xfrm>
                <a:off x="7874640" y="5956200"/>
                <a:ext cx="889200" cy="761760"/>
                <a:chOff x="7874640" y="5956200"/>
                <a:chExt cx="889200" cy="761760"/>
              </a:xfrm>
            </p:grpSpPr>
            <p:pic>
              <p:nvPicPr>
                <p:cNvPr id="771" name="Picture 7" descr="me%20logo2"/>
                <p:cNvPicPr/>
                <p:nvPr/>
              </p:nvPicPr>
              <p:blipFill>
                <a:blip r:embed="rId2"/>
                <a:stretch/>
              </p:blipFill>
              <p:spPr>
                <a:xfrm>
                  <a:off x="7874640" y="5956200"/>
                  <a:ext cx="889200" cy="761760"/>
                </a:xfrm>
                <a:prstGeom prst="rect">
                  <a:avLst/>
                </a:prstGeom>
                <a:ln w="0">
                  <a:noFill/>
                </a:ln>
              </p:spPr>
            </p:pic>
            <p:sp>
              <p:nvSpPr>
                <p:cNvPr id="772"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73"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774" name="Picture 186" descr=""/>
          <p:cNvPicPr/>
          <p:nvPr/>
        </p:nvPicPr>
        <p:blipFill>
          <a:blip r:embed="rId3"/>
          <a:stretch/>
        </p:blipFill>
        <p:spPr>
          <a:xfrm>
            <a:off x="609480" y="533520"/>
            <a:ext cx="7848720" cy="533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2"/>
          <p:cNvGrpSpPr/>
          <p:nvPr/>
        </p:nvGrpSpPr>
        <p:grpSpPr>
          <a:xfrm>
            <a:off x="343080" y="5918040"/>
            <a:ext cx="8457840" cy="838080"/>
            <a:chOff x="343080" y="5918040"/>
            <a:chExt cx="8457840" cy="838080"/>
          </a:xfrm>
        </p:grpSpPr>
        <p:grpSp>
          <p:nvGrpSpPr>
            <p:cNvPr id="776" name="Group 3"/>
            <p:cNvGrpSpPr/>
            <p:nvPr/>
          </p:nvGrpSpPr>
          <p:grpSpPr>
            <a:xfrm>
              <a:off x="343080" y="5918040"/>
              <a:ext cx="8457840" cy="838080"/>
              <a:chOff x="343080" y="5918040"/>
              <a:chExt cx="8457840" cy="838080"/>
            </a:xfrm>
          </p:grpSpPr>
          <p:sp>
            <p:nvSpPr>
              <p:cNvPr id="777"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79" name="Group 6"/>
              <p:cNvGrpSpPr/>
              <p:nvPr/>
            </p:nvGrpSpPr>
            <p:grpSpPr>
              <a:xfrm>
                <a:off x="7874640" y="5956200"/>
                <a:ext cx="889200" cy="761760"/>
                <a:chOff x="7874640" y="5956200"/>
                <a:chExt cx="889200" cy="761760"/>
              </a:xfrm>
            </p:grpSpPr>
            <p:pic>
              <p:nvPicPr>
                <p:cNvPr id="780" name="Picture 7" descr="me%20logo2"/>
                <p:cNvPicPr/>
                <p:nvPr/>
              </p:nvPicPr>
              <p:blipFill>
                <a:blip r:embed="rId2"/>
                <a:stretch/>
              </p:blipFill>
              <p:spPr>
                <a:xfrm>
                  <a:off x="7874640" y="5956200"/>
                  <a:ext cx="889200" cy="761760"/>
                </a:xfrm>
                <a:prstGeom prst="rect">
                  <a:avLst/>
                </a:prstGeom>
                <a:ln w="0">
                  <a:noFill/>
                </a:ln>
              </p:spPr>
            </p:pic>
            <p:sp>
              <p:nvSpPr>
                <p:cNvPr id="781"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82"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783" name="Picture 12" descr=""/>
          <p:cNvPicPr/>
          <p:nvPr/>
        </p:nvPicPr>
        <p:blipFill>
          <a:blip r:embed="rId3"/>
          <a:stretch/>
        </p:blipFill>
        <p:spPr>
          <a:xfrm>
            <a:off x="609480" y="457200"/>
            <a:ext cx="7874280" cy="311040"/>
          </a:xfrm>
          <a:prstGeom prst="rect">
            <a:avLst/>
          </a:prstGeom>
          <a:ln w="0">
            <a:noFill/>
          </a:ln>
        </p:spPr>
      </p:pic>
      <p:pic>
        <p:nvPicPr>
          <p:cNvPr id="784" name="Picture 13" descr=""/>
          <p:cNvPicPr/>
          <p:nvPr/>
        </p:nvPicPr>
        <p:blipFill>
          <a:blip r:embed="rId4"/>
          <a:stretch/>
        </p:blipFill>
        <p:spPr>
          <a:xfrm>
            <a:off x="609480" y="838080"/>
            <a:ext cx="792504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08:28:30Z</dcterms:created>
  <dc:creator>Dr. Khalil</dc:creator>
  <dc:description/>
  <dc:language>en-US</dc:language>
  <cp:lastModifiedBy>Plimmer</cp:lastModifiedBy>
  <dcterms:modified xsi:type="dcterms:W3CDTF">2016-01-24T20:55:25Z</dcterms:modified>
  <cp:revision>407</cp:revision>
  <dc:subject/>
  <dc:title>Slide 1</dc:title>
</cp:coreProperties>
</file>