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FD0E0B-AFF6-4326-B56C-92011C9C3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09B935-1D76-46FB-B4FA-A05EAB7AF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raditionally, a market was a physical place where buyers and sellers gathered to buy and sell goods. Economists describe a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arket as a collection of buyers and sellers who transact 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particular product or product class (such as the housing market or the grain market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rketers often use the term market to cover various groupings of customers. They view sellers as constituting the industry, and buyers as constituting the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F71958-13A8-418F-9C65-26CFF82B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1B8C77-2820-44A8-9572-8D938F095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115493-8BD8-4FFE-B668-2D702814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011D83-9FF3-4DF7-8DC9-1F382254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70E84A-C226-49FB-8422-0EF05AE4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B01C05-DEF5-4BAD-8142-305A1660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46E201-B4AF-4B85-871E-146DEA1F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7B9BC5C-0B73-4E3D-9D6F-9C75BDC69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9685841-DB0D-4E92-8991-1BE6E0302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D667FE-4B47-44F1-8D90-06FB29F3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B2DA-64DB-4FC8-8C15-F8AE268A9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1BC6-9AF5-4055-8155-431D38D0E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217C-5E42-4088-A951-0FEE0AAD9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0038-A07B-42B4-B707-04301D6BC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A956B-D880-4F33-9D86-641F0AA1CC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12374-525D-43E4-89D4-97D572937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98B7C-22A2-46E5-B094-8607E738E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CEBEA-66CF-4F84-B09E-8B944DF280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5FF95-F4D3-487D-8DD1-7898944EA7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71D07-AA69-4800-B824-A82B8ADB7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2D01F-7B15-431C-B018-62FD1FB30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E08B-5075-4249-AB91-1A37B1663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8EE7E-12E7-4D5C-9021-8B5C699012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551DA-F132-4BE8-A9E3-E53F7FC458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70954-B513-4AA2-B4F5-6D3822382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F1BA2-2CF8-4AC5-9DD0-5443013A85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10B80-E98A-4301-81EE-A06A38339C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05BD-86D9-45D9-81BF-44149E5977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808A-0E25-415D-9EC3-9F9656331A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1F54-2DE3-40AC-831F-3700D7F3E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E088-3746-4F98-974B-3D1A2F25A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2FA1-3189-442D-AF54-9800E7AFC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CB49-6C38-41FB-A5B8-7DA3AB844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FB5E-89D5-4205-A756-8CDD21A51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8094-D5FF-4A54-9D3A-30700A5024E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42C2-2DD8-450D-B6CE-089BF32B173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396EFC09-9D31-4E05-9DFE-7758AE91C4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25200" y="678960"/>
            <a:ext cx="766908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Definition of a market?</a:t>
            </a:r>
            <a:endParaRPr b="1" lang="en-US" sz="20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7480" y="160020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tional    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hysical pla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sts   :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buyers and sell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e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oup of customers Industry/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TextBox 4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24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140FE5D3-226F-4F7C-8DE7-7E1A7C28B1A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720" y="121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.1: Structure of Flows in a Modern Exchange Economy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8" name="TextBox 3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29" name="TextBox 3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1" name="Picture 8" descr="Untitled"/>
          <p:cNvPicPr/>
          <p:nvPr/>
        </p:nvPicPr>
        <p:blipFill>
          <a:blip r:embed="rId2"/>
          <a:stretch/>
        </p:blipFill>
        <p:spPr>
          <a:xfrm>
            <a:off x="770040" y="1459080"/>
            <a:ext cx="7319880" cy="4659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8930CAE3-6740-4483-B984-B76174ABEDA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TextBox 3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34" name="TextBox 3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Rectangle 2"/>
          <p:cNvSpPr/>
          <p:nvPr/>
        </p:nvSpPr>
        <p:spPr>
          <a:xfrm>
            <a:off x="396720" y="1214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.2: A Simple Marketing System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9" descr="Untitled"/>
          <p:cNvPicPr/>
          <p:nvPr/>
        </p:nvPicPr>
        <p:blipFill>
          <a:blip r:embed="rId2"/>
          <a:stretch/>
        </p:blipFill>
        <p:spPr>
          <a:xfrm>
            <a:off x="619200" y="2120760"/>
            <a:ext cx="7943760" cy="338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20AC3060-4416-4252-B903-ED6D699F00F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5920" y="636120"/>
            <a:ext cx="784836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Key Customer Markets</a:t>
            </a:r>
            <a:endParaRPr b="1" lang="en-US" sz="20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5920" y="1546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profit/Government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TextBox 4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42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8A8A60F6-17C2-4C94-BC8F-4C2CD337987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3040" y="461520"/>
            <a:ext cx="781344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Marketing in Practi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6" name="TextBox 9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47" name="TextBox 9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Rectangle 3"/>
          <p:cNvSpPr/>
          <p:nvPr/>
        </p:nvSpPr>
        <p:spPr>
          <a:xfrm>
            <a:off x="762120" y="144792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x 1.1: Improving CMO Su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the mission and responsibilities cl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t the role to the marketing culture and struc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sure the CMO is compatible with the CE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member that showpeople don’t succe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ch the personality with the CMO typ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ke line managers marketing hero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iltrate the line organ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 right-brain and left-brain skil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Rectangle 3"/>
          <p:cNvSpPr/>
          <p:nvPr/>
        </p:nvSpPr>
        <p:spPr>
          <a:xfrm>
            <a:off x="1155600" y="2017800"/>
            <a:ext cx="7169400" cy="37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understand the marketing function, we need to understand some core concept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D6250B67-854B-4F9B-825A-7C7399307A8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5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Rectangle 3"/>
          <p:cNvSpPr/>
          <p:nvPr/>
        </p:nvSpPr>
        <p:spPr>
          <a:xfrm>
            <a:off x="473040" y="1252440"/>
            <a:ext cx="8250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Needs, Wants and Dem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Need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the basic human require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Want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shaped by our socie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emand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wants for specific products backed by the ability to p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ive types of nee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Stated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ants an inexpensive ca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Real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ants a car, the operating cost of which, not initial price, is low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Unstated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expects good service from the deale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Delight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ould like the dealer to include an onboard navigation system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Secret need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he customer wants friends to see him as a savvy consumer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5137F256-3A8C-4026-A605-382943BD1FF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3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Rectangle 3"/>
          <p:cNvSpPr/>
          <p:nvPr/>
        </p:nvSpPr>
        <p:spPr>
          <a:xfrm>
            <a:off x="473040" y="1619280"/>
            <a:ext cx="825012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Target Markets, Positioning, and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vide the market into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Targe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egments presenting the greatest opportun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Positio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ir products in the minds of target buyers as delivering key benef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363C613-B499-4DAF-BDF2-86338990AE5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4708440" y="5622840"/>
            <a:ext cx="405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Carrefour stores are designed to appeal to shoppers looking for a rich shopping experience at affordable pr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11" descr="Untitled"/>
          <p:cNvPicPr/>
          <p:nvPr/>
        </p:nvPicPr>
        <p:blipFill>
          <a:blip r:embed="rId2"/>
          <a:stretch/>
        </p:blipFill>
        <p:spPr>
          <a:xfrm>
            <a:off x="5291280" y="3832200"/>
            <a:ext cx="3004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Further Core Marketing Concep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7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some fundamental marketing concep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Rectangle 3"/>
          <p:cNvSpPr/>
          <p:nvPr/>
        </p:nvSpPr>
        <p:spPr>
          <a:xfrm>
            <a:off x="473040" y="1619280"/>
            <a:ext cx="825012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Offerings and br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Value and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Marketing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Market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Marketing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12BA7A85-EC4B-4153-ACE6-B206AC8BF93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New Marketing Real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93720" y="112500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8000"/>
          </a:bodyPr>
          <a:p>
            <a:pPr marL="335880" indent="-335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Major societal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work information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reg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ghtened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converg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ail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interme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7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72CBA681-E9C3-4F7A-84E8-882F1915A42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808020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ng 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the Arab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image"/>
          <p:cNvPicPr/>
          <p:nvPr/>
        </p:nvPicPr>
        <p:blipFill>
          <a:blip r:embed="rId1"/>
          <a:stretch/>
        </p:blipFill>
        <p:spPr>
          <a:xfrm>
            <a:off x="4240080" y="2403360"/>
            <a:ext cx="399276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New Marketing Real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New Consumer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ubstantial increase in buying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reater variety of available goods an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reat amount of information about practically anyt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ease of interacting, placing and receiving 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bility to compare notes on products an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mplified voice to influence public opi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8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7C7C39B6-AABC-4593-8C77-3B9B53B9576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New Marketing Real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2560" y="1230480"/>
            <a:ext cx="791208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5000"/>
          </a:bodyPr>
          <a:p>
            <a:pPr marL="325800" indent="-32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New Company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zation of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wards and promo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zation of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s from using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training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F8955CBB-76BF-4B03-BFB2-C18F37CF01F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5738760" y="5475240"/>
            <a:ext cx="312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ore companies can produce individually differentiated go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12" descr="Untitled"/>
          <p:cNvPicPr/>
          <p:nvPr/>
        </p:nvPicPr>
        <p:blipFill>
          <a:blip r:embed="rId2"/>
          <a:stretch/>
        </p:blipFill>
        <p:spPr>
          <a:xfrm>
            <a:off x="5853240" y="930240"/>
            <a:ext cx="28620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0880" y="1976040"/>
            <a:ext cx="7943760" cy="4095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Production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Produc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Sell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Market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A7DC7DAC-1C98-41B5-816F-B32D0AE648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Holistic Market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gnizes that ‘everything matters’ in market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that a broad, integrated perspective is often necess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0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58A7CB28-74D8-4D72-91FD-6307EC1B207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44600" y="152676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The Holistic Marketing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1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F2913355-2DDA-4B7D-B4C6-74129FE01F4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9" descr="Untitled"/>
          <p:cNvPicPr/>
          <p:nvPr/>
        </p:nvPicPr>
        <p:blipFill>
          <a:blip r:embed="rId2"/>
          <a:stretch/>
        </p:blipFill>
        <p:spPr>
          <a:xfrm>
            <a:off x="1351080" y="1960560"/>
            <a:ext cx="6286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Relationship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ing mutually satisfying long-term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th key parties, in order to earn and retain their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1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C05F11A5-7C99-498A-8DEB-7A81C6D38F0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ntegrate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6" name="Rectangle 3"/>
          <p:cNvSpPr/>
          <p:nvPr/>
        </p:nvSpPr>
        <p:spPr>
          <a:xfrm>
            <a:off x="514440" y="2324160"/>
            <a:ext cx="30798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 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030a0"/>
                </a:solidFill>
                <a:latin typeface="Verdana"/>
              </a:rPr>
              <a:t>These represent the seller’s view of marketing too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130640" y="2319480"/>
            <a:ext cx="47293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lution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ow can I solve my problem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here can I learn more about i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lue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hat is my total sacrifice to get this solut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cess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here can I find i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030a0"/>
                </a:solidFill>
                <a:latin typeface="Verdana"/>
              </a:rPr>
              <a:t>Customer questions, corresponding to the 4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C9AA75FB-3526-486F-A79A-992D7CC2EDB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74480" y="1406160"/>
            <a:ext cx="808956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ntegrate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1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3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17289634-715B-4059-991E-C41B7CB5F50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9" descr="Untitled"/>
          <p:cNvPicPr/>
          <p:nvPr/>
        </p:nvPicPr>
        <p:blipFill>
          <a:blip r:embed="rId2"/>
          <a:stretch/>
        </p:blipFill>
        <p:spPr>
          <a:xfrm>
            <a:off x="1614600" y="1901880"/>
            <a:ext cx="5884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nternal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suring that everyone in the organization embraces appropriate marketing principles, especially senior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3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681F5449-E4C6-4A30-823D-8D7FB7173EF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any Orientation Towar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Marketpla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4720" y="159660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Performanc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7" name="Rectangle 6"/>
          <p:cNvSpPr/>
          <p:nvPr/>
        </p:nvSpPr>
        <p:spPr>
          <a:xfrm>
            <a:off x="493560" y="2185920"/>
            <a:ext cx="4078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Accoun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Responsibility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34920" y="3036960"/>
            <a:ext cx="78598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Initi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social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philanthr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community invol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ly responsible business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17B37EBD-37A7-404D-9352-AF84E4E058D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C061E2EC-06F5-4113-B751-450BB296C58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is marketing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scope of marke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What are some fundamental marketing concep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has marketing management chang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tasks necessary for successful marketing manag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How does marketing in the Arab world differ from marketing in other parts of the wor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Management Task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tasks necessary for successful marketing manageme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4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market strategies and pl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ing marketing ins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ng with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ing strong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ping market offe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ing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ng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 long-term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8E1616A6-B8C8-45D1-9085-0A72E729B38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Management Task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5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tasks necessary for successful marketing manageme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5BAE0F38-9147-469E-8DBE-47F123C35F3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6720" y="177156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rketing Memo: Marketers’ Frequently Asked Ques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9" descr="Untitled"/>
          <p:cNvPicPr/>
          <p:nvPr/>
        </p:nvPicPr>
        <p:blipFill>
          <a:blip r:embed="rId2"/>
          <a:stretch/>
        </p:blipFill>
        <p:spPr>
          <a:xfrm>
            <a:off x="181080" y="2203560"/>
            <a:ext cx="89629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6966C1A4-550D-4FFC-AA64-EC36D08974F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Functions of CMO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ening the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ing marketing effec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ing new product development based on customer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thering meaningful customer ins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ing new marketing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6" name="TextBox 4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67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tasks necessary for successful marketing manageme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 Word About Marketing in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Arab World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0" name="TextBox 5"/>
          <p:cNvGrpSpPr/>
          <p:nvPr/>
        </p:nvGrpSpPr>
        <p:grpSpPr>
          <a:xfrm>
            <a:off x="6334200" y="12600"/>
            <a:ext cx="2852640" cy="1219320"/>
            <a:chOff x="6334200" y="12600"/>
            <a:chExt cx="2852640" cy="1219320"/>
          </a:xfrm>
        </p:grpSpPr>
        <p:pic>
          <p:nvPicPr>
            <p:cNvPr id="3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26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6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in the Arab world differ from marketing elsewher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3" name=""/>
          <p:cNvSpPr txBox="1"/>
          <p:nvPr/>
        </p:nvSpPr>
        <p:spPr>
          <a:xfrm>
            <a:off x="365040" y="1733400"/>
            <a:ext cx="8229600" cy="4338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ab world is a huge potential market for interna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companies have to keep several factors in mind when targeting the Arab audien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, religion, language, reading from right to left, and politics are among a few key issues to take into conside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F97154AE-25AC-4D5B-99C1-6F2EB4464E3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Alamy Image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. O’Ka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7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erStock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leksiyMaksymenko / 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tostoc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ox 1.1 on page 12 from “The Fall and Rise of the CMO”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trategy+busines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Gail McGovern and John A. Quelch, 2004), Winter 2004, published by Booz &amp; Company Inc. copyright © 2004. All rights reserved. www.strategy-busines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6 Corbis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niel Karmann / dp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20 Copyright (c) H. J. Heinz Compan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Importanc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ing is essential for a company to define itsel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ing aims t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ain what makes the company/product diffe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stand what customers are looking 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and deliver the company’s value propos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ncial success often depends on marketing abi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1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391440" y="47520"/>
              <a:ext cx="27050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y is marketing importan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DBAC4E60-EF5A-4BF4-BB76-5D542C5DA48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Scop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prepare to be a marketer, you need to understan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marketing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it wor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s marketed,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o does the mark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C72FD51E-A35A-4388-908F-8FDEC19C26C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2BC450E0-F2F2-41CC-9C24-39D1BDB5FDB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at is Marketing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485640" y="1295280"/>
            <a:ext cx="7848720" cy="472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cess of planning and execut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onception, pricing, promotion, and distribu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ideas, goods, and services to create exchanges t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tisfy individual and organizational go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8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Marketing is about identifying and meeting human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social need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8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A short definition: “</a:t>
            </a:r>
            <a:r>
              <a:rPr b="0" i="1" lang="en-GB" sz="1800" spc="-1" strike="noStrike">
                <a:solidFill>
                  <a:srgbClr val="006846"/>
                </a:solidFill>
                <a:latin typeface="Verdana"/>
              </a:rPr>
              <a:t>meeting needs profitably</a:t>
            </a:r>
            <a:r>
              <a:rPr b="0" lang="en-GB" sz="1800" spc="-1" strike="noStrike">
                <a:solidFill>
                  <a:srgbClr val="006846"/>
                </a:solidFill>
                <a:latin typeface="Verdana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TextBox 6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197" name="TextBox 6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2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737BCB32-5537-4B94-9048-2A72F3A8B62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828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at is Marketing Management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066680" y="1371600"/>
            <a:ext cx="7315200" cy="431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 and scie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hoosing target marke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etting, keeping, and grow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s throu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, delivering, and communic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customer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0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BDE0A8C4-44DC-47E7-8DD0-B963B03DA1B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3040" y="461520"/>
            <a:ext cx="781344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at is Marketed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26640" y="154620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and experi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0720" y="1546200"/>
            <a:ext cx="353052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s and prope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TextBox 7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10" name="TextBox 7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2" name="Picture 13" descr="Untitled"/>
          <p:cNvPicPr/>
          <p:nvPr/>
        </p:nvPicPr>
        <p:blipFill>
          <a:blip r:embed="rId2"/>
          <a:stretch/>
        </p:blipFill>
        <p:spPr>
          <a:xfrm>
            <a:off x="966960" y="349092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Untitled"/>
          <p:cNvPicPr/>
          <p:nvPr/>
        </p:nvPicPr>
        <p:blipFill>
          <a:blip r:embed="rId3"/>
          <a:stretch/>
        </p:blipFill>
        <p:spPr>
          <a:xfrm>
            <a:off x="5041800" y="3529080"/>
            <a:ext cx="3144960" cy="2090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2F701A70-EE0A-4DB9-AB73-AE4A0A1BE15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3040" y="473040"/>
            <a:ext cx="781344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ho Markets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4360" y="1546200"/>
            <a:ext cx="755028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ers and prosp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ers are responsible for demand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ght demand states ar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gative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xistent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t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lining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rregular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ll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full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6532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wholesome dem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TextBox 9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18" name="TextBox 9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scope of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09-19T13:50:10Z</dcterms:modified>
  <cp:revision>84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