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3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1.jpeg" ContentType="image/jpeg"/>
  <Override PartName="/ppt/media/image9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12.png" ContentType="image/png"/>
  <Override PartName="/ppt/media/image20.jpeg" ContentType="image/jpeg"/>
  <Override PartName="/ppt/media/image21.png" ContentType="image/png"/>
  <Override PartName="/ppt/media/image3.wmf" ContentType="image/x-wmf"/>
  <Override PartName="/ppt/media/image19.jpeg" ContentType="image/jpeg"/>
  <Override PartName="/ppt/media/image18.jpeg" ContentType="image/jpeg"/>
  <Override PartName="/ppt/media/image7.png" ContentType="image/png"/>
  <Override PartName="/ppt/media/image17.jpeg" ContentType="image/jpeg"/>
  <Override PartName="/ppt/media/image16.png" ContentType="image/png"/>
  <Override PartName="/ppt/media/image15.png" ContentType="image/png"/>
  <Override PartName="/ppt/media/image14.jpeg" ContentType="image/jpeg"/>
  <Override PartName="/ppt/media/image1.wmf" ContentType="image/x-wmf"/>
  <Override PartName="/ppt/media/image2.png" ContentType="image/png"/>
  <Override PartName="/ppt/media/image4.jpeg" ContentType="image/jpe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dt" idx="5"/>
          </p:nvPr>
        </p:nvSpPr>
        <p:spPr>
          <a:xfrm>
            <a:off x="402120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Img"/>
          </p:nvPr>
        </p:nvSpPr>
        <p:spPr>
          <a:xfrm>
            <a:off x="988920" y="765000"/>
            <a:ext cx="5121360" cy="3840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b5d"/>
                </a:solidFill>
                <a:latin typeface="Verdana"/>
              </a:rPr>
              <a:t>Click to move the slide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ftr" idx="6"/>
          </p:nvPr>
        </p:nvSpPr>
        <p:spPr>
          <a:xfrm>
            <a:off x="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 type="sldNum" idx="7"/>
          </p:nvPr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7C1F66C4-60BF-4A81-8307-294FC93682C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7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139A33CD-3463-42CF-8C4B-12DF941A26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988920" y="765000"/>
            <a:ext cx="5121360" cy="384048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Traditionally, a market was a physical place where buyers and sellers gathered to buy and sell goods. Economists describe a </a:t>
            </a:r>
            <a:r>
              <a:rPr b="0" i="1" lang="en-GB" sz="1200" spc="-1" strike="noStrike">
                <a:solidFill>
                  <a:srgbClr val="000000"/>
                </a:solidFill>
                <a:latin typeface="Verdana"/>
              </a:rPr>
              <a:t>market as a collection of buyers and sellers who transact over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a particular product or product class (such as the housing market or the grain market)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Marketers often use the term market to cover various groupings of customers. They view sellers as constituting the industry, and buyers as constituting the marke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7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3A342C06-8710-4A46-9C01-42B2CE7102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988920" y="765000"/>
            <a:ext cx="5121360" cy="384048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7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B75E2D8A-93C6-40AF-BF7B-8EEEBFD3F0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988920" y="765000"/>
            <a:ext cx="5121360" cy="384048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7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749C1AFB-9D70-44AC-9061-BFF33600DD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988920" y="765000"/>
            <a:ext cx="5121360" cy="384048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7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F290F151-7BD2-4A0D-BB05-2F8E407788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988920" y="765000"/>
            <a:ext cx="5121360" cy="384048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7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6541B5D8-1D89-4DB6-88C3-09EEABDD9E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988920" y="765000"/>
            <a:ext cx="5121360" cy="384048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7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062C715A-EA9F-45E2-AF9B-6D8B2D2614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988920" y="765000"/>
            <a:ext cx="5121360" cy="384048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7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DD37DAA1-980B-43E6-A37D-BC660CA36F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988920" y="765000"/>
            <a:ext cx="5121360" cy="384048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7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6B02FF58-7B49-4F5D-BF16-5DF2C5BF45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988920" y="765000"/>
            <a:ext cx="5121360" cy="384048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7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C73CD888-4BB8-448D-A3F6-DC2B689452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988920" y="765000"/>
            <a:ext cx="5121360" cy="384048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7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89C3AE83-1B57-4E7B-ADB4-78D5F6C4E5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988920" y="765000"/>
            <a:ext cx="5121360" cy="384048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B75F42-16C8-4D0B-9910-6543F1FFCB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65040" y="3910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1CF91D-9857-4FA3-844E-B2CA6C35D0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8208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82080" y="3910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51C3F1-124D-4BC9-97C0-4FBFE10F97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47480" y="1546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29920" y="1546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65040" y="3910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47480" y="3910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29920" y="3910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5E7C2A-0D85-466C-81CA-A537CAE96A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A2E567-831A-4D67-9E59-B2C4B53B9DE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6504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89F64B-BE1B-4803-9B1E-4B5FE68D43E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0DE46B-8730-4476-A23B-0D869BC98EE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582080" y="1546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E97EAB-3F07-46D5-8381-32A8AB3CB63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E8F75F-C701-40F7-9786-B7827FC6D33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65040" y="395280"/>
            <a:ext cx="822960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0E352F-7EDF-4835-86E7-A4754774F74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82080" y="1546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67B82C-5805-4908-BFEF-6111F28A7EB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6504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E717A0-8405-4DAF-B462-4891D51950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8208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82080" y="3910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C10A94-649B-4066-B60B-CD4D98E0C9D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8208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D978F0-B1DF-4C2C-AA9B-9234A73578E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65040" y="3910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3EE56A-42E8-49B5-A550-D06DEB7CC1D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8208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82080" y="3910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5DD76C-7A8B-4FC1-B8FA-9E9581B606D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47480" y="1546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29920" y="1546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365040" y="3910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47480" y="3910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29920" y="3910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E7F0F1-5F83-45B3-A406-532FD80B3211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36504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582080" y="1546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609D60-8218-47EA-847A-723DADDA566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365040" y="395280"/>
            <a:ext cx="822960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82080" y="1546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8208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82080" y="3910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8208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65040" y="3910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8208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82080" y="3910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147480" y="1546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929920" y="1546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365040" y="3910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147480" y="3910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929920" y="3910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6504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82080" y="1546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6BD369-4E93-4617-B927-F9AEEFB53A77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82080" y="1546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365040" y="395280"/>
            <a:ext cx="822960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82080" y="1546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8208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82080" y="3910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8208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65040" y="3910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8208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82080" y="3910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147480" y="1546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929920" y="1546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365040" y="3910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147480" y="3910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929920" y="3910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DCF473-C9C9-4261-A079-B276351B6E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5040" y="395280"/>
            <a:ext cx="822960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C2F5FB-8AC9-4734-93FA-17A797CA20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82080" y="1546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603DED-1B94-4847-9B58-2171208720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8208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82080" y="3910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08F1A3-532D-4242-BA1A-E57E3D996C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8208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9A245A-696C-4FA0-8924-8F42D0A7E2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image" Target="../media/image1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1"/>
          <p:cNvSpPr/>
          <p:nvPr/>
        </p:nvSpPr>
        <p:spPr>
          <a:xfrm>
            <a:off x="0" y="6397560"/>
            <a:ext cx="9145440" cy="460440"/>
          </a:xfrm>
          <a:prstGeom prst="rect">
            <a:avLst/>
          </a:prstGeom>
          <a:solidFill>
            <a:srgbClr val="008b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b5d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6504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79280" indent="-17784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351000" indent="-169920"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541440" indent="-189000"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380520" y="6544800"/>
            <a:ext cx="4984920" cy="1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Presentation Title runs here  l  00/00/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152280" y="6544800"/>
            <a:ext cx="331920" cy="1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21BCF-73A0-43FD-8A5F-C3000AE4AF12}" type="slidenum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12" descr="Pearson_Bound_White"/>
          <p:cNvPicPr/>
          <p:nvPr/>
        </p:nvPicPr>
        <p:blipFill>
          <a:blip r:embed="rId2"/>
          <a:stretch/>
        </p:blipFill>
        <p:spPr>
          <a:xfrm>
            <a:off x="7488360" y="6356520"/>
            <a:ext cx="1655640" cy="493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8"/>
          <p:cNvSpPr/>
          <p:nvPr/>
        </p:nvSpPr>
        <p:spPr>
          <a:xfrm>
            <a:off x="0" y="6397560"/>
            <a:ext cx="9145440" cy="460440"/>
          </a:xfrm>
          <a:prstGeom prst="rect">
            <a:avLst/>
          </a:prstGeom>
          <a:solidFill>
            <a:srgbClr val="008b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b5d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6504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79280" indent="-17784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351000" indent="-169920"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541440" indent="-189000"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80520" y="6544800"/>
            <a:ext cx="4984920" cy="1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Presentation Title runs here  l  00/00/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150840" y="6544800"/>
            <a:ext cx="331920" cy="1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FB6BC-E7F2-4E57-BC2C-D17FBA806167}" type="slidenum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9" descr="Pearson_Bound_White"/>
          <p:cNvPicPr/>
          <p:nvPr/>
        </p:nvPicPr>
        <p:blipFill>
          <a:blip r:embed="rId2"/>
          <a:stretch/>
        </p:blipFill>
        <p:spPr>
          <a:xfrm>
            <a:off x="7488360" y="6356520"/>
            <a:ext cx="1655640" cy="493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5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15" descr="Always_Learning_Text_Green_RGB"/>
          <p:cNvPicPr/>
          <p:nvPr/>
        </p:nvPicPr>
        <p:blipFill>
          <a:blip r:embed="rId2"/>
          <a:stretch/>
        </p:blipFill>
        <p:spPr>
          <a:xfrm>
            <a:off x="957240" y="2332080"/>
            <a:ext cx="7211880" cy="173844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4"/>
          <p:cNvSpPr/>
          <p:nvPr/>
        </p:nvSpPr>
        <p:spPr>
          <a:xfrm>
            <a:off x="0" y="6397560"/>
            <a:ext cx="9145440" cy="460440"/>
          </a:xfrm>
          <a:prstGeom prst="rect">
            <a:avLst/>
          </a:prstGeom>
          <a:solidFill>
            <a:srgbClr val="008b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6" name="Picture 10" descr="Pearson_Bound_White"/>
          <p:cNvPicPr/>
          <p:nvPr/>
        </p:nvPicPr>
        <p:blipFill>
          <a:blip r:embed="rId3"/>
          <a:stretch/>
        </p:blipFill>
        <p:spPr>
          <a:xfrm>
            <a:off x="7488360" y="6356520"/>
            <a:ext cx="1655640" cy="4935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2" descr="Pearson_Strap_Bound_White"/>
          <p:cNvPicPr/>
          <p:nvPr/>
        </p:nvPicPr>
        <p:blipFill>
          <a:blip r:embed="rId4"/>
          <a:stretch/>
        </p:blipFill>
        <p:spPr>
          <a:xfrm>
            <a:off x="0" y="6356520"/>
            <a:ext cx="1908000" cy="49356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b5d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36504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79280" indent="-17784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351000" indent="-169920"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541440" indent="-189000"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5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9"/>
          <p:cNvSpPr/>
          <p:nvPr/>
        </p:nvSpPr>
        <p:spPr>
          <a:xfrm>
            <a:off x="0" y="6397560"/>
            <a:ext cx="9145440" cy="460440"/>
          </a:xfrm>
          <a:prstGeom prst="rect">
            <a:avLst/>
          </a:prstGeom>
          <a:solidFill>
            <a:srgbClr val="008b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7" name="Picture 10" descr="Pearson_Bound_White"/>
          <p:cNvPicPr/>
          <p:nvPr/>
        </p:nvPicPr>
        <p:blipFill>
          <a:blip r:embed="rId2"/>
          <a:stretch/>
        </p:blipFill>
        <p:spPr>
          <a:xfrm>
            <a:off x="7488360" y="6356520"/>
            <a:ext cx="1655640" cy="4935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1" descr="Pearson_Strap_Bound_White"/>
          <p:cNvPicPr/>
          <p:nvPr/>
        </p:nvPicPr>
        <p:blipFill>
          <a:blip r:embed="rId3"/>
          <a:stretch/>
        </p:blipFill>
        <p:spPr>
          <a:xfrm>
            <a:off x="0" y="6356520"/>
            <a:ext cx="1908000" cy="49356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b5d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36504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79280" indent="-17784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351000" indent="-169920"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541440" indent="-189000"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Footer Placeholder 4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1-</a:t>
            </a:r>
            <a:fld id="{ABFFF336-AA3A-475A-9B9E-3805F911B4E3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25200" y="678960"/>
            <a:ext cx="7669080" cy="90036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i="1" lang="en-US" sz="2000" spc="-1" strike="noStrike">
                <a:solidFill>
                  <a:srgbClr val="002060"/>
                </a:solidFill>
                <a:latin typeface="Verdana"/>
              </a:rPr>
              <a:t>Definition of a market?</a:t>
            </a:r>
            <a:endParaRPr b="1" lang="en-US" sz="20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87480" y="1600200"/>
            <a:ext cx="8431200" cy="457200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raditional    :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physical place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conomists   : </a:t>
            </a:r>
            <a:r>
              <a:rPr b="0" i="1" lang="en-GB" sz="2000" spc="-1" strike="noStrike">
                <a:solidFill>
                  <a:srgbClr val="000000"/>
                </a:solidFill>
                <a:latin typeface="Verdana"/>
              </a:rPr>
              <a:t>buyers and sellers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rketer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: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Group of customers Industry/Marke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23" name="TextBox 4"/>
          <p:cNvGrpSpPr/>
          <p:nvPr/>
        </p:nvGrpSpPr>
        <p:grpSpPr>
          <a:xfrm>
            <a:off x="6334200" y="12600"/>
            <a:ext cx="2816280" cy="1005120"/>
            <a:chOff x="6334200" y="12600"/>
            <a:chExt cx="2816280" cy="1005120"/>
          </a:xfrm>
        </p:grpSpPr>
        <p:pic>
          <p:nvPicPr>
            <p:cNvPr id="224" name="TextBox 4" descr=""/>
            <p:cNvPicPr/>
            <p:nvPr/>
          </p:nvPicPr>
          <p:blipFill>
            <a:blip r:embed="rId1"/>
            <a:stretch/>
          </p:blipFill>
          <p:spPr>
            <a:xfrm>
              <a:off x="6334200" y="12600"/>
              <a:ext cx="2816280" cy="100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" name=""/>
            <p:cNvSpPr/>
            <p:nvPr/>
          </p:nvSpPr>
          <p:spPr>
            <a:xfrm>
              <a:off x="6391440" y="47520"/>
              <a:ext cx="2705040" cy="84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2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What is the scope of marketing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transition>
    <p:cover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Footer Placeholder 4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1-</a:t>
            </a:r>
            <a:fld id="{7B790F4F-0A24-4AD8-A99E-92C3C15C40D4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96720" y="1213920"/>
            <a:ext cx="8229600" cy="90036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ig. 1.1: Structure of Flows in a Modern Exchange Economy</a:t>
            </a:r>
            <a:br>
              <a:rPr sz="1400"/>
            </a:br>
            <a:br>
              <a:rPr sz="1400"/>
            </a:br>
            <a:endParaRPr b="1" lang="en-US" sz="1400" spc="-1" strike="noStrike">
              <a:solidFill>
                <a:srgbClr val="008b5d"/>
              </a:solidFill>
              <a:latin typeface="Verdana"/>
            </a:endParaRPr>
          </a:p>
        </p:txBody>
      </p:sp>
      <p:grpSp>
        <p:nvGrpSpPr>
          <p:cNvPr id="228" name="TextBox 3"/>
          <p:cNvGrpSpPr/>
          <p:nvPr/>
        </p:nvGrpSpPr>
        <p:grpSpPr>
          <a:xfrm>
            <a:off x="6334200" y="12600"/>
            <a:ext cx="2816280" cy="1005120"/>
            <a:chOff x="6334200" y="12600"/>
            <a:chExt cx="2816280" cy="1005120"/>
          </a:xfrm>
        </p:grpSpPr>
        <p:pic>
          <p:nvPicPr>
            <p:cNvPr id="229" name="TextBox 3" descr=""/>
            <p:cNvPicPr/>
            <p:nvPr/>
          </p:nvPicPr>
          <p:blipFill>
            <a:blip r:embed="rId1"/>
            <a:stretch/>
          </p:blipFill>
          <p:spPr>
            <a:xfrm>
              <a:off x="6334200" y="12600"/>
              <a:ext cx="2816280" cy="100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"/>
            <p:cNvSpPr/>
            <p:nvPr/>
          </p:nvSpPr>
          <p:spPr>
            <a:xfrm>
              <a:off x="6391440" y="47520"/>
              <a:ext cx="2705040" cy="84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2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What is the scope of marketing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231" name="Picture 8" descr="Untitled"/>
          <p:cNvPicPr/>
          <p:nvPr/>
        </p:nvPicPr>
        <p:blipFill>
          <a:blip r:embed="rId2"/>
          <a:stretch/>
        </p:blipFill>
        <p:spPr>
          <a:xfrm>
            <a:off x="770040" y="1459080"/>
            <a:ext cx="7319880" cy="465912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Footer Placeholder 4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1-</a:t>
            </a:r>
            <a:fld id="{9AF20BC5-4438-4399-A96E-19FFEAD97143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33" name="TextBox 3"/>
          <p:cNvGrpSpPr/>
          <p:nvPr/>
        </p:nvGrpSpPr>
        <p:grpSpPr>
          <a:xfrm>
            <a:off x="6334200" y="12600"/>
            <a:ext cx="2816280" cy="1005120"/>
            <a:chOff x="6334200" y="12600"/>
            <a:chExt cx="2816280" cy="1005120"/>
          </a:xfrm>
        </p:grpSpPr>
        <p:pic>
          <p:nvPicPr>
            <p:cNvPr id="234" name="TextBox 3" descr=""/>
            <p:cNvPicPr/>
            <p:nvPr/>
          </p:nvPicPr>
          <p:blipFill>
            <a:blip r:embed="rId1"/>
            <a:stretch/>
          </p:blipFill>
          <p:spPr>
            <a:xfrm>
              <a:off x="6334200" y="12600"/>
              <a:ext cx="2816280" cy="100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5" name=""/>
            <p:cNvSpPr/>
            <p:nvPr/>
          </p:nvSpPr>
          <p:spPr>
            <a:xfrm>
              <a:off x="6391440" y="47520"/>
              <a:ext cx="2705040" cy="84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2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What is the scope of marketing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36" name="Rectangle 2"/>
          <p:cNvSpPr/>
          <p:nvPr/>
        </p:nvSpPr>
        <p:spPr>
          <a:xfrm>
            <a:off x="396720" y="1214280"/>
            <a:ext cx="822960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ig. 1.2: A Simple Marketing System</a:t>
            </a: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7" name="Picture 9" descr="Untitled"/>
          <p:cNvPicPr/>
          <p:nvPr/>
        </p:nvPicPr>
        <p:blipFill>
          <a:blip r:embed="rId2"/>
          <a:stretch/>
        </p:blipFill>
        <p:spPr>
          <a:xfrm>
            <a:off x="619200" y="2120760"/>
            <a:ext cx="7943760" cy="338472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1-</a:t>
            </a:r>
            <a:fld id="{A3747CA6-C836-4A53-9A69-AD00A44F3786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745920" y="636120"/>
            <a:ext cx="7848360" cy="90036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i="1" lang="en-US" sz="2000" spc="-1" strike="noStrike">
                <a:solidFill>
                  <a:srgbClr val="002060"/>
                </a:solidFill>
                <a:latin typeface="Verdana"/>
              </a:rPr>
              <a:t>Key Customer Markets</a:t>
            </a:r>
            <a:endParaRPr b="1" lang="en-US" sz="20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745920" y="1546200"/>
            <a:ext cx="7848360" cy="45259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sumer marke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usiness marke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lobal marke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nprofit/Government marke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41" name="TextBox 4"/>
          <p:cNvGrpSpPr/>
          <p:nvPr/>
        </p:nvGrpSpPr>
        <p:grpSpPr>
          <a:xfrm>
            <a:off x="6334200" y="12600"/>
            <a:ext cx="2816280" cy="1005120"/>
            <a:chOff x="6334200" y="12600"/>
            <a:chExt cx="2816280" cy="1005120"/>
          </a:xfrm>
        </p:grpSpPr>
        <p:pic>
          <p:nvPicPr>
            <p:cNvPr id="242" name="TextBox 4" descr=""/>
            <p:cNvPicPr/>
            <p:nvPr/>
          </p:nvPicPr>
          <p:blipFill>
            <a:blip r:embed="rId1"/>
            <a:stretch/>
          </p:blipFill>
          <p:spPr>
            <a:xfrm>
              <a:off x="6334200" y="12600"/>
              <a:ext cx="2816280" cy="100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"/>
            <p:cNvSpPr/>
            <p:nvPr/>
          </p:nvSpPr>
          <p:spPr>
            <a:xfrm>
              <a:off x="6391440" y="47520"/>
              <a:ext cx="2705040" cy="84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2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What is the scope of marketing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transition>
    <p:cover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Footer Placeholder 4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1-</a:t>
            </a:r>
            <a:fld id="{F2FAA547-7C89-4D17-9E26-AFB1D40058EA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743040" y="461520"/>
            <a:ext cx="7813440" cy="90036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7030a0"/>
                </a:solidFill>
                <a:latin typeface="Verdana"/>
              </a:rPr>
              <a:t>Marketing in Practice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grpSp>
        <p:nvGrpSpPr>
          <p:cNvPr id="246" name="TextBox 9"/>
          <p:cNvGrpSpPr/>
          <p:nvPr/>
        </p:nvGrpSpPr>
        <p:grpSpPr>
          <a:xfrm>
            <a:off x="6334200" y="12600"/>
            <a:ext cx="2816280" cy="1005120"/>
            <a:chOff x="6334200" y="12600"/>
            <a:chExt cx="2816280" cy="1005120"/>
          </a:xfrm>
        </p:grpSpPr>
        <p:pic>
          <p:nvPicPr>
            <p:cNvPr id="247" name="TextBox 9" descr=""/>
            <p:cNvPicPr/>
            <p:nvPr/>
          </p:nvPicPr>
          <p:blipFill>
            <a:blip r:embed="rId1"/>
            <a:stretch/>
          </p:blipFill>
          <p:spPr>
            <a:xfrm>
              <a:off x="6334200" y="12600"/>
              <a:ext cx="2816280" cy="100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8" name=""/>
            <p:cNvSpPr/>
            <p:nvPr/>
          </p:nvSpPr>
          <p:spPr>
            <a:xfrm>
              <a:off x="6391440" y="47520"/>
              <a:ext cx="2705040" cy="84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2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What is the scope of marketing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49" name="Rectangle 3"/>
          <p:cNvSpPr/>
          <p:nvPr/>
        </p:nvSpPr>
        <p:spPr>
          <a:xfrm>
            <a:off x="762120" y="1447920"/>
            <a:ext cx="769608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Box 1.1: Improving CMO Succes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1125"/>
              </a:spcBef>
              <a:buClr>
                <a:srgbClr val="000000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ake the mission and responsibilities clear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1125"/>
              </a:spcBef>
              <a:buClr>
                <a:srgbClr val="000000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t the role to the marketing culture and structur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1125"/>
              </a:spcBef>
              <a:buClr>
                <a:srgbClr val="000000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nsure the CMO is compatible with the CEO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1125"/>
              </a:spcBef>
              <a:buClr>
                <a:srgbClr val="000000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member that showpeople don’t succeed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1125"/>
              </a:spcBef>
              <a:buClr>
                <a:srgbClr val="000000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atch the personality with the CMO typ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1125"/>
              </a:spcBef>
              <a:buClr>
                <a:srgbClr val="000000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ake line managers marketing heroe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1125"/>
              </a:spcBef>
              <a:buClr>
                <a:srgbClr val="000000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filtrate the line organiz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1125"/>
              </a:spcBef>
              <a:buClr>
                <a:srgbClr val="000000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quire right-brain and left-brain skill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ver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8b5d"/>
                </a:solidFill>
                <a:latin typeface="Verdana"/>
              </a:rPr>
              <a:t>Core Marketing Concepts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grpSp>
        <p:nvGrpSpPr>
          <p:cNvPr id="251" name="TextBox 5"/>
          <p:cNvGrpSpPr/>
          <p:nvPr/>
        </p:nvGrpSpPr>
        <p:grpSpPr>
          <a:xfrm>
            <a:off x="6334200" y="12600"/>
            <a:ext cx="2816280" cy="1219320"/>
            <a:chOff x="6334200" y="12600"/>
            <a:chExt cx="2816280" cy="1219320"/>
          </a:xfrm>
        </p:grpSpPr>
        <p:pic>
          <p:nvPicPr>
            <p:cNvPr id="252" name="TextBox 5" descr=""/>
            <p:cNvPicPr/>
            <p:nvPr/>
          </p:nvPicPr>
          <p:blipFill>
            <a:blip r:embed="rId1"/>
            <a:stretch/>
          </p:blipFill>
          <p:spPr>
            <a:xfrm>
              <a:off x="6334200" y="12600"/>
              <a:ext cx="281628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" name=""/>
            <p:cNvSpPr/>
            <p:nvPr/>
          </p:nvSpPr>
          <p:spPr>
            <a:xfrm>
              <a:off x="6391440" y="47520"/>
              <a:ext cx="2705040" cy="84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3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What are some fundamental marketing concepts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54" name="Rectangle 3"/>
          <p:cNvSpPr/>
          <p:nvPr/>
        </p:nvSpPr>
        <p:spPr>
          <a:xfrm>
            <a:off x="1155600" y="2017800"/>
            <a:ext cx="7169400" cy="37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 understand the marketing function, we need to understand some core concepts…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1-</a:t>
            </a:r>
            <a:fld id="{66A843DF-C4E0-4AB3-A33B-F879BCEFA7E4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8b5d"/>
                </a:solidFill>
                <a:latin typeface="Verdana"/>
              </a:rPr>
              <a:t>Core Marketing Concepts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grpSp>
        <p:nvGrpSpPr>
          <p:cNvPr id="257" name="TextBox 5"/>
          <p:cNvGrpSpPr/>
          <p:nvPr/>
        </p:nvGrpSpPr>
        <p:grpSpPr>
          <a:xfrm>
            <a:off x="6334200" y="12600"/>
            <a:ext cx="2816280" cy="1219320"/>
            <a:chOff x="6334200" y="12600"/>
            <a:chExt cx="2816280" cy="1219320"/>
          </a:xfrm>
        </p:grpSpPr>
        <p:pic>
          <p:nvPicPr>
            <p:cNvPr id="258" name="TextBox 5" descr=""/>
            <p:cNvPicPr/>
            <p:nvPr/>
          </p:nvPicPr>
          <p:blipFill>
            <a:blip r:embed="rId1"/>
            <a:stretch/>
          </p:blipFill>
          <p:spPr>
            <a:xfrm>
              <a:off x="6334200" y="12600"/>
              <a:ext cx="281628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9" name=""/>
            <p:cNvSpPr/>
            <p:nvPr/>
          </p:nvSpPr>
          <p:spPr>
            <a:xfrm>
              <a:off x="6391440" y="47520"/>
              <a:ext cx="2705040" cy="84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3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What are some fundamental marketing concepts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60" name="Rectangle 3"/>
          <p:cNvSpPr/>
          <p:nvPr/>
        </p:nvSpPr>
        <p:spPr>
          <a:xfrm>
            <a:off x="473040" y="1252440"/>
            <a:ext cx="82501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Verdana"/>
              </a:rPr>
              <a:t>Needs, Wants and Demand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Verdana"/>
              </a:rPr>
              <a:t>Needs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are the basic human requirement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Verdana"/>
              </a:rPr>
              <a:t>Wants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are shaped by our society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Verdana"/>
              </a:rPr>
              <a:t>Demands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are wants for specific products backed by the ability to pay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Five types of need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1. Stated needs </a:t>
            </a: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(the customer wants an inexpensive car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2. Real needs </a:t>
            </a: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(the customer wants a car, the operating cost of which, not initial price, is low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3. Unstated needs </a:t>
            </a: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(the customer expects good service from the dealer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4. Delight needs </a:t>
            </a: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(the customer would like the dealer to include an onboard navigation system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5. Secret needs </a:t>
            </a: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(the customer wants friends to see him as a savvy consumer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1-</a:t>
            </a:r>
            <a:fld id="{77FF082D-17BE-442D-9377-FBDFC39F048F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8b5d"/>
                </a:solidFill>
                <a:latin typeface="Verdana"/>
              </a:rPr>
              <a:t>Core Marketing Concepts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grpSp>
        <p:nvGrpSpPr>
          <p:cNvPr id="263" name="TextBox 5"/>
          <p:cNvGrpSpPr/>
          <p:nvPr/>
        </p:nvGrpSpPr>
        <p:grpSpPr>
          <a:xfrm>
            <a:off x="6334200" y="12600"/>
            <a:ext cx="2816280" cy="1219320"/>
            <a:chOff x="6334200" y="12600"/>
            <a:chExt cx="2816280" cy="1219320"/>
          </a:xfrm>
        </p:grpSpPr>
        <p:pic>
          <p:nvPicPr>
            <p:cNvPr id="264" name="TextBox 5" descr=""/>
            <p:cNvPicPr/>
            <p:nvPr/>
          </p:nvPicPr>
          <p:blipFill>
            <a:blip r:embed="rId1"/>
            <a:stretch/>
          </p:blipFill>
          <p:spPr>
            <a:xfrm>
              <a:off x="6334200" y="12600"/>
              <a:ext cx="281628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5" name=""/>
            <p:cNvSpPr/>
            <p:nvPr/>
          </p:nvSpPr>
          <p:spPr>
            <a:xfrm>
              <a:off x="6391440" y="47520"/>
              <a:ext cx="2705040" cy="84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3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What are some fundamental marketing concepts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66" name="Rectangle 3"/>
          <p:cNvSpPr/>
          <p:nvPr/>
        </p:nvSpPr>
        <p:spPr>
          <a:xfrm>
            <a:off x="473040" y="1619280"/>
            <a:ext cx="8250120" cy="41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Verdana"/>
              </a:rPr>
              <a:t>Target Markets, Positioning, and Segment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Marketers: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Divide the market into </a:t>
            </a:r>
            <a:r>
              <a:rPr b="1" i="1" lang="en-GB" sz="1800" spc="-1" strike="noStrike">
                <a:solidFill>
                  <a:srgbClr val="000000"/>
                </a:solidFill>
                <a:latin typeface="Verdana"/>
              </a:rPr>
              <a:t>segment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Verdana"/>
              </a:rPr>
              <a:t>Target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the segments presenting the greatest opportunit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Verdana"/>
              </a:rPr>
              <a:t>Position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their products in the minds of target buyers as delivering key benefit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1-</a:t>
            </a:r>
            <a:fld id="{372EA058-D0EA-4F14-83E8-19274F53CA79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4708440" y="5622840"/>
            <a:ext cx="40575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70c0"/>
                </a:solidFill>
                <a:latin typeface="Verdana"/>
              </a:rPr>
              <a:t>Carrefour stores are designed to appeal to shoppers looking for a rich shopping experience at affordable pric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9" name="Picture 11" descr="Untitled"/>
          <p:cNvPicPr/>
          <p:nvPr/>
        </p:nvPicPr>
        <p:blipFill>
          <a:blip r:embed="rId2"/>
          <a:stretch/>
        </p:blipFill>
        <p:spPr>
          <a:xfrm>
            <a:off x="5291280" y="3832200"/>
            <a:ext cx="3004920" cy="170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8b5d"/>
                </a:solidFill>
                <a:latin typeface="Verdana"/>
              </a:rPr>
              <a:t>Further Core Marketing Concepts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grpSp>
        <p:nvGrpSpPr>
          <p:cNvPr id="271" name="TextBox 5"/>
          <p:cNvGrpSpPr/>
          <p:nvPr/>
        </p:nvGrpSpPr>
        <p:grpSpPr>
          <a:xfrm>
            <a:off x="6334200" y="12600"/>
            <a:ext cx="2816280" cy="1219320"/>
            <a:chOff x="6334200" y="12600"/>
            <a:chExt cx="2816280" cy="1219320"/>
          </a:xfrm>
        </p:grpSpPr>
        <p:pic>
          <p:nvPicPr>
            <p:cNvPr id="272" name="TextBox 5" descr=""/>
            <p:cNvPicPr/>
            <p:nvPr/>
          </p:nvPicPr>
          <p:blipFill>
            <a:blip r:embed="rId1"/>
            <a:stretch/>
          </p:blipFill>
          <p:spPr>
            <a:xfrm>
              <a:off x="6334200" y="12600"/>
              <a:ext cx="281628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3" name=""/>
            <p:cNvSpPr/>
            <p:nvPr/>
          </p:nvSpPr>
          <p:spPr>
            <a:xfrm>
              <a:off x="6391440" y="47520"/>
              <a:ext cx="2705040" cy="84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3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What are some fundamental marketing concepts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74" name="Rectangle 3"/>
          <p:cNvSpPr/>
          <p:nvPr/>
        </p:nvSpPr>
        <p:spPr>
          <a:xfrm>
            <a:off x="473040" y="1619280"/>
            <a:ext cx="8250120" cy="41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spcBef>
                <a:spcPts val="150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7030a0"/>
                </a:solidFill>
                <a:latin typeface="Verdana"/>
              </a:rPr>
              <a:t>Offerings and brand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7030a0"/>
                </a:solidFill>
                <a:latin typeface="Verdana"/>
              </a:rPr>
              <a:t>Value and satisfa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7030a0"/>
                </a:solidFill>
                <a:latin typeface="Verdana"/>
              </a:rPr>
              <a:t>Marketing channe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7030a0"/>
                </a:solidFill>
                <a:latin typeface="Verdana"/>
              </a:rPr>
              <a:t>Supply chai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7030a0"/>
                </a:solidFill>
                <a:latin typeface="Verdana"/>
              </a:rPr>
              <a:t>Competi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7030a0"/>
                </a:solidFill>
                <a:latin typeface="Verdana"/>
              </a:rPr>
              <a:t>Marketing environ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7030a0"/>
                </a:solidFill>
                <a:latin typeface="Verdana"/>
              </a:rPr>
              <a:t>Marketing plann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1-</a:t>
            </a:r>
            <a:fld id="{96ED6023-051B-4C55-9755-5AE13E887F79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8b5d"/>
                </a:solidFill>
                <a:latin typeface="Verdana"/>
              </a:rPr>
              <a:t>The New Marketing Realities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693720" y="1125000"/>
            <a:ext cx="7848720" cy="45262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 fontScale="98000"/>
          </a:bodyPr>
          <a:p>
            <a:pPr marL="335880" indent="-3358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Verdana"/>
              </a:rPr>
              <a:t>Major societal for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etwork information technolog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lobaliz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regul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ivatiz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eightened competi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dustry convergen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sumer resistan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tail transform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isintermedi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78" name="TextBox 5"/>
          <p:cNvGrpSpPr/>
          <p:nvPr/>
        </p:nvGrpSpPr>
        <p:grpSpPr>
          <a:xfrm>
            <a:off x="6334200" y="12600"/>
            <a:ext cx="2816280" cy="1005120"/>
            <a:chOff x="6334200" y="12600"/>
            <a:chExt cx="2816280" cy="1005120"/>
          </a:xfrm>
        </p:grpSpPr>
        <p:pic>
          <p:nvPicPr>
            <p:cNvPr id="279" name="TextBox 5" descr=""/>
            <p:cNvPicPr/>
            <p:nvPr/>
          </p:nvPicPr>
          <p:blipFill>
            <a:blip r:embed="rId1"/>
            <a:stretch/>
          </p:blipFill>
          <p:spPr>
            <a:xfrm>
              <a:off x="6334200" y="12600"/>
              <a:ext cx="2816280" cy="100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0" name=""/>
            <p:cNvSpPr/>
            <p:nvPr/>
          </p:nvSpPr>
          <p:spPr>
            <a:xfrm>
              <a:off x="6391440" y="47520"/>
              <a:ext cx="2705040" cy="84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4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How has marketing management changed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81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1-</a:t>
            </a:r>
            <a:fld id="{0A51A851-F624-4BEA-9364-3E11405FFAFA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65040" y="394920"/>
            <a:ext cx="8407440" cy="114444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8b5d"/>
                </a:solidFill>
                <a:latin typeface="Verdana"/>
              </a:rPr>
              <a:t>Marketing Management</a:t>
            </a:r>
            <a:br>
              <a:rPr sz="3600"/>
            </a:br>
            <a:endParaRPr b="1" lang="en-US" sz="36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344520" y="1019160"/>
            <a:ext cx="8407440" cy="17524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8b5d"/>
                </a:solidFill>
                <a:latin typeface="Verdana"/>
              </a:rPr>
              <a:t>Arab World Edi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Kotler, Keller, Hassan, Baalbaki and Shamm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Text Box 5"/>
          <p:cNvSpPr/>
          <p:nvPr/>
        </p:nvSpPr>
        <p:spPr>
          <a:xfrm>
            <a:off x="422280" y="2752560"/>
            <a:ext cx="8080200" cy="14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Chapter 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efining Marketing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or the Arab Worl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7" name="Picture 9" descr="image"/>
          <p:cNvPicPr/>
          <p:nvPr/>
        </p:nvPicPr>
        <p:blipFill>
          <a:blip r:embed="rId1"/>
          <a:stretch/>
        </p:blipFill>
        <p:spPr>
          <a:xfrm>
            <a:off x="4240080" y="2403360"/>
            <a:ext cx="3992760" cy="29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8b5d"/>
                </a:solidFill>
                <a:latin typeface="Verdana"/>
              </a:rPr>
              <a:t>The New Marketing Realities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36504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Verdana"/>
              </a:rPr>
              <a:t>New Consumer Capabili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substantial increase in buying pow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greater variety of available goods and servic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great amount of information about practically anyth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reater ease of interacting, placing and receiving orde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 ability to compare notes on products and servic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 amplified voice to influence public opin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84" name="TextBox 5"/>
          <p:cNvGrpSpPr/>
          <p:nvPr/>
        </p:nvGrpSpPr>
        <p:grpSpPr>
          <a:xfrm>
            <a:off x="6334200" y="12600"/>
            <a:ext cx="2816280" cy="1005120"/>
            <a:chOff x="6334200" y="12600"/>
            <a:chExt cx="2816280" cy="1005120"/>
          </a:xfrm>
        </p:grpSpPr>
        <p:pic>
          <p:nvPicPr>
            <p:cNvPr id="285" name="TextBox 5" descr=""/>
            <p:cNvPicPr/>
            <p:nvPr/>
          </p:nvPicPr>
          <p:blipFill>
            <a:blip r:embed="rId1"/>
            <a:stretch/>
          </p:blipFill>
          <p:spPr>
            <a:xfrm>
              <a:off x="6334200" y="12600"/>
              <a:ext cx="2816280" cy="100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6" name=""/>
            <p:cNvSpPr/>
            <p:nvPr/>
          </p:nvSpPr>
          <p:spPr>
            <a:xfrm>
              <a:off x="6391440" y="47520"/>
              <a:ext cx="2705040" cy="84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4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How has marketing management changed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87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1-</a:t>
            </a:r>
            <a:fld id="{9683A974-2D2E-4262-AE05-390F619EF74E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8b5d"/>
                </a:solidFill>
                <a:latin typeface="Verdana"/>
              </a:rPr>
              <a:t>The New Marketing Realities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2560" y="1230480"/>
            <a:ext cx="7912080" cy="45259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 fontScale="95000"/>
          </a:bodyPr>
          <a:p>
            <a:pPr marL="325800" indent="-3258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Verdana"/>
              </a:rPr>
              <a:t>New Company Capabili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terne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rketing research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ternal communic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ternal communic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ersonalization of messag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wards and promo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bile market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ersonalization of produc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avings from using the interne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nline training produc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90" name="TextBox 5"/>
          <p:cNvGrpSpPr/>
          <p:nvPr/>
        </p:nvGrpSpPr>
        <p:grpSpPr>
          <a:xfrm>
            <a:off x="6334200" y="12600"/>
            <a:ext cx="2816280" cy="1005120"/>
            <a:chOff x="6334200" y="12600"/>
            <a:chExt cx="2816280" cy="1005120"/>
          </a:xfrm>
        </p:grpSpPr>
        <p:pic>
          <p:nvPicPr>
            <p:cNvPr id="291" name="TextBox 5" descr=""/>
            <p:cNvPicPr/>
            <p:nvPr/>
          </p:nvPicPr>
          <p:blipFill>
            <a:blip r:embed="rId1"/>
            <a:stretch/>
          </p:blipFill>
          <p:spPr>
            <a:xfrm>
              <a:off x="6334200" y="12600"/>
              <a:ext cx="2816280" cy="100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2" name=""/>
            <p:cNvSpPr/>
            <p:nvPr/>
          </p:nvSpPr>
          <p:spPr>
            <a:xfrm>
              <a:off x="6391440" y="47520"/>
              <a:ext cx="2705040" cy="84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4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How has marketing management changed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93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1-</a:t>
            </a:r>
            <a:fld id="{F7E51137-3DA2-4562-9625-3E5F993E61B3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TextBox 7"/>
          <p:cNvSpPr/>
          <p:nvPr/>
        </p:nvSpPr>
        <p:spPr>
          <a:xfrm>
            <a:off x="5738760" y="5475240"/>
            <a:ext cx="3121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70c0"/>
                </a:solidFill>
                <a:latin typeface="Verdana"/>
              </a:rPr>
              <a:t>More companies can produce individually differentiated good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5" name="Picture 12" descr="Untitled"/>
          <p:cNvPicPr/>
          <p:nvPr/>
        </p:nvPicPr>
        <p:blipFill>
          <a:blip r:embed="rId2"/>
          <a:stretch/>
        </p:blipFill>
        <p:spPr>
          <a:xfrm>
            <a:off x="5853240" y="930240"/>
            <a:ext cx="2862000" cy="45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8b5d"/>
                </a:solidFill>
                <a:latin typeface="Verdana"/>
              </a:rPr>
              <a:t>Company Orientation Toward</a:t>
            </a:r>
            <a:br>
              <a:rPr sz="2400"/>
            </a:br>
            <a:r>
              <a:rPr b="1" lang="en-GB" sz="2400" spc="-1" strike="noStrike">
                <a:solidFill>
                  <a:srgbClr val="008b5d"/>
                </a:solidFill>
                <a:latin typeface="Verdana"/>
              </a:rPr>
              <a:t>the Marketplace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50880" y="1976040"/>
            <a:ext cx="7943760" cy="40957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343080" indent="-343080">
              <a:spcBef>
                <a:spcPts val="1250"/>
              </a:spcBef>
              <a:buClr>
                <a:srgbClr val="7030a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Verdana"/>
              </a:rPr>
              <a:t>The Production Concep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7030a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Verdana"/>
              </a:rPr>
              <a:t>The Product Concep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7030a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Verdana"/>
              </a:rPr>
              <a:t>The Selling Concep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7030a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Verdana"/>
              </a:rPr>
              <a:t>The Marketing Concep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98" name="TextBox 5"/>
          <p:cNvGrpSpPr/>
          <p:nvPr/>
        </p:nvGrpSpPr>
        <p:grpSpPr>
          <a:xfrm>
            <a:off x="6334200" y="12600"/>
            <a:ext cx="2816280" cy="1005120"/>
            <a:chOff x="6334200" y="12600"/>
            <a:chExt cx="2816280" cy="1005120"/>
          </a:xfrm>
        </p:grpSpPr>
        <p:pic>
          <p:nvPicPr>
            <p:cNvPr id="299" name="TextBox 5" descr=""/>
            <p:cNvPicPr/>
            <p:nvPr/>
          </p:nvPicPr>
          <p:blipFill>
            <a:blip r:embed="rId1"/>
            <a:stretch/>
          </p:blipFill>
          <p:spPr>
            <a:xfrm>
              <a:off x="6334200" y="12600"/>
              <a:ext cx="2816280" cy="100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0" name=""/>
            <p:cNvSpPr/>
            <p:nvPr/>
          </p:nvSpPr>
          <p:spPr>
            <a:xfrm>
              <a:off x="6391440" y="47520"/>
              <a:ext cx="2705040" cy="84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4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How has marketing management changed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01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1-</a:t>
            </a:r>
            <a:fld id="{7A6EBE6C-C2CC-4C46-988C-3549B2811775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8b5d"/>
                </a:solidFill>
                <a:latin typeface="Verdana"/>
              </a:rPr>
              <a:t>Company Orientation Toward</a:t>
            </a:r>
            <a:br>
              <a:rPr sz="2400"/>
            </a:br>
            <a:r>
              <a:rPr b="1" lang="en-GB" sz="2400" spc="-1" strike="noStrike">
                <a:solidFill>
                  <a:srgbClr val="008b5d"/>
                </a:solidFill>
                <a:latin typeface="Verdana"/>
              </a:rPr>
              <a:t>the Marketplace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504720" y="1596600"/>
            <a:ext cx="8089920" cy="447516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343080" indent="-343080">
              <a:spcBef>
                <a:spcPts val="1250"/>
              </a:spcBef>
              <a:buClr>
                <a:srgbClr val="7030a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Verdana"/>
              </a:rPr>
              <a:t>The Holistic Marketing Concep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ecognizes that ‘everything matters’ in marketing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d that a broad, integrated perspective is often necessary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04" name="TextBox 5"/>
          <p:cNvGrpSpPr/>
          <p:nvPr/>
        </p:nvGrpSpPr>
        <p:grpSpPr>
          <a:xfrm>
            <a:off x="6334200" y="12600"/>
            <a:ext cx="2816280" cy="1005120"/>
            <a:chOff x="6334200" y="12600"/>
            <a:chExt cx="2816280" cy="1005120"/>
          </a:xfrm>
        </p:grpSpPr>
        <p:pic>
          <p:nvPicPr>
            <p:cNvPr id="305" name="TextBox 5" descr=""/>
            <p:cNvPicPr/>
            <p:nvPr/>
          </p:nvPicPr>
          <p:blipFill>
            <a:blip r:embed="rId1"/>
            <a:stretch/>
          </p:blipFill>
          <p:spPr>
            <a:xfrm>
              <a:off x="6334200" y="12600"/>
              <a:ext cx="2816280" cy="100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6" name=""/>
            <p:cNvSpPr/>
            <p:nvPr/>
          </p:nvSpPr>
          <p:spPr>
            <a:xfrm>
              <a:off x="6391440" y="47520"/>
              <a:ext cx="2705040" cy="84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4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How has marketing management changed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07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1-</a:t>
            </a:r>
            <a:fld id="{4984E19F-1A7E-4317-9CD7-C6413B308AA9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8b5d"/>
                </a:solidFill>
                <a:latin typeface="Verdana"/>
              </a:rPr>
              <a:t>Company Orientation Toward</a:t>
            </a:r>
            <a:br>
              <a:rPr sz="2400"/>
            </a:br>
            <a:r>
              <a:rPr b="1" lang="en-GB" sz="2400" spc="-1" strike="noStrike">
                <a:solidFill>
                  <a:srgbClr val="008b5d"/>
                </a:solidFill>
                <a:latin typeface="Verdana"/>
              </a:rPr>
              <a:t>the Marketplace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444600" y="1526760"/>
            <a:ext cx="8089920" cy="447516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343080" indent="-343080">
              <a:spcBef>
                <a:spcPts val="1250"/>
              </a:spcBef>
              <a:buClr>
                <a:srgbClr val="7030a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Verdana"/>
              </a:rPr>
              <a:t>The Holistic Marketing Concep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10" name="TextBox 5"/>
          <p:cNvGrpSpPr/>
          <p:nvPr/>
        </p:nvGrpSpPr>
        <p:grpSpPr>
          <a:xfrm>
            <a:off x="6334200" y="12600"/>
            <a:ext cx="2816280" cy="1005120"/>
            <a:chOff x="6334200" y="12600"/>
            <a:chExt cx="2816280" cy="1005120"/>
          </a:xfrm>
        </p:grpSpPr>
        <p:pic>
          <p:nvPicPr>
            <p:cNvPr id="311" name="TextBox 5" descr=""/>
            <p:cNvPicPr/>
            <p:nvPr/>
          </p:nvPicPr>
          <p:blipFill>
            <a:blip r:embed="rId1"/>
            <a:stretch/>
          </p:blipFill>
          <p:spPr>
            <a:xfrm>
              <a:off x="6334200" y="12600"/>
              <a:ext cx="2816280" cy="100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2" name=""/>
            <p:cNvSpPr/>
            <p:nvPr/>
          </p:nvSpPr>
          <p:spPr>
            <a:xfrm>
              <a:off x="6391440" y="47520"/>
              <a:ext cx="2705040" cy="84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4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How has marketing management changed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13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1-</a:t>
            </a:r>
            <a:fld id="{9BBCC4F5-5365-4122-9162-45EBF6F7CE6A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4" name="Picture 9" descr="Untitled"/>
          <p:cNvPicPr/>
          <p:nvPr/>
        </p:nvPicPr>
        <p:blipFill>
          <a:blip r:embed="rId2"/>
          <a:stretch/>
        </p:blipFill>
        <p:spPr>
          <a:xfrm>
            <a:off x="1351080" y="1960560"/>
            <a:ext cx="6286320" cy="42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8b5d"/>
                </a:solidFill>
                <a:latin typeface="Verdana"/>
              </a:rPr>
              <a:t>Company Orientation Toward</a:t>
            </a:r>
            <a:br>
              <a:rPr sz="2400"/>
            </a:br>
            <a:r>
              <a:rPr b="1" lang="en-GB" sz="2400" spc="-1" strike="noStrike">
                <a:solidFill>
                  <a:srgbClr val="008b5d"/>
                </a:solidFill>
                <a:latin typeface="Verdana"/>
              </a:rPr>
              <a:t>the Marketplace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504720" y="1596600"/>
            <a:ext cx="8089920" cy="447516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343080" indent="-343080">
              <a:spcBef>
                <a:spcPts val="1250"/>
              </a:spcBef>
              <a:buClr>
                <a:srgbClr val="7030a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Verdana"/>
              </a:rPr>
              <a:t>Relationship Market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building mutually satisfying long-term relationship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with key parties, in order to earn and retain their busines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17" name="TextBox 5"/>
          <p:cNvGrpSpPr/>
          <p:nvPr/>
        </p:nvGrpSpPr>
        <p:grpSpPr>
          <a:xfrm>
            <a:off x="6334200" y="12600"/>
            <a:ext cx="2816280" cy="1005120"/>
            <a:chOff x="6334200" y="12600"/>
            <a:chExt cx="2816280" cy="1005120"/>
          </a:xfrm>
        </p:grpSpPr>
        <p:pic>
          <p:nvPicPr>
            <p:cNvPr id="318" name="TextBox 5" descr=""/>
            <p:cNvPicPr/>
            <p:nvPr/>
          </p:nvPicPr>
          <p:blipFill>
            <a:blip r:embed="rId1"/>
            <a:stretch/>
          </p:blipFill>
          <p:spPr>
            <a:xfrm>
              <a:off x="6334200" y="12600"/>
              <a:ext cx="2816280" cy="100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9" name=""/>
            <p:cNvSpPr/>
            <p:nvPr/>
          </p:nvSpPr>
          <p:spPr>
            <a:xfrm>
              <a:off x="6391440" y="47520"/>
              <a:ext cx="2705040" cy="84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4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How has marketing management changed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20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1-</a:t>
            </a:r>
            <a:fld id="{6EA53A87-5D81-48F3-A1C2-401E02C2FF5A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8b5d"/>
                </a:solidFill>
                <a:latin typeface="Verdana"/>
              </a:rPr>
              <a:t>Company Orientation Toward</a:t>
            </a:r>
            <a:br>
              <a:rPr sz="2400"/>
            </a:br>
            <a:r>
              <a:rPr b="1" lang="en-GB" sz="2400" spc="-1" strike="noStrike">
                <a:solidFill>
                  <a:srgbClr val="008b5d"/>
                </a:solidFill>
                <a:latin typeface="Verdana"/>
              </a:rPr>
              <a:t>the Marketplace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504720" y="1596600"/>
            <a:ext cx="8089920" cy="447516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343080" indent="-343080">
              <a:spcBef>
                <a:spcPts val="1250"/>
              </a:spcBef>
              <a:buClr>
                <a:srgbClr val="7030a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Verdana"/>
              </a:rPr>
              <a:t>Integrated Market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23" name="TextBox 5"/>
          <p:cNvGrpSpPr/>
          <p:nvPr/>
        </p:nvGrpSpPr>
        <p:grpSpPr>
          <a:xfrm>
            <a:off x="6334200" y="12600"/>
            <a:ext cx="2816280" cy="1005120"/>
            <a:chOff x="6334200" y="12600"/>
            <a:chExt cx="2816280" cy="1005120"/>
          </a:xfrm>
        </p:grpSpPr>
        <p:pic>
          <p:nvPicPr>
            <p:cNvPr id="324" name="TextBox 5" descr=""/>
            <p:cNvPicPr/>
            <p:nvPr/>
          </p:nvPicPr>
          <p:blipFill>
            <a:blip r:embed="rId1"/>
            <a:stretch/>
          </p:blipFill>
          <p:spPr>
            <a:xfrm>
              <a:off x="6334200" y="12600"/>
              <a:ext cx="2816280" cy="100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6391440" y="47520"/>
              <a:ext cx="2705040" cy="84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4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How has marketing management changed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26" name="Rectangle 3"/>
          <p:cNvSpPr/>
          <p:nvPr/>
        </p:nvSpPr>
        <p:spPr>
          <a:xfrm>
            <a:off x="514440" y="2324160"/>
            <a:ext cx="3079800" cy="33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Four P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oduc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ic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lac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omo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7030a0"/>
                </a:solidFill>
                <a:latin typeface="Verdana"/>
              </a:rPr>
              <a:t>These represent the seller’s view of marketing tool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Rectangle 3"/>
          <p:cNvSpPr/>
          <p:nvPr/>
        </p:nvSpPr>
        <p:spPr>
          <a:xfrm>
            <a:off x="4130640" y="2319480"/>
            <a:ext cx="4729320" cy="32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IV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Solution: </a:t>
            </a: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how can I solve my problem?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Information: </a:t>
            </a: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where can I learn more about it?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Value: </a:t>
            </a: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what is my total sacrifice to get this solution?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Access: </a:t>
            </a: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where can I find it?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7030a0"/>
                </a:solidFill>
                <a:latin typeface="Verdana"/>
              </a:rPr>
              <a:t>Customer questions, corresponding to the 4P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1-</a:t>
            </a:r>
            <a:fld id="{1C0F5E46-19D4-4B24-8AA1-0BA581EE5E92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8b5d"/>
                </a:solidFill>
                <a:latin typeface="Verdana"/>
              </a:rPr>
              <a:t>Company Orientation Toward</a:t>
            </a:r>
            <a:br>
              <a:rPr sz="2400"/>
            </a:br>
            <a:r>
              <a:rPr b="1" lang="en-GB" sz="2400" spc="-1" strike="noStrike">
                <a:solidFill>
                  <a:srgbClr val="008b5d"/>
                </a:solidFill>
                <a:latin typeface="Verdana"/>
              </a:rPr>
              <a:t>the Marketplace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474480" y="1406160"/>
            <a:ext cx="8089560" cy="447516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343080" indent="-343080">
              <a:spcBef>
                <a:spcPts val="1250"/>
              </a:spcBef>
              <a:buClr>
                <a:srgbClr val="7030a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Verdana"/>
              </a:rPr>
              <a:t>Integrated Market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31" name="TextBox 5"/>
          <p:cNvGrpSpPr/>
          <p:nvPr/>
        </p:nvGrpSpPr>
        <p:grpSpPr>
          <a:xfrm>
            <a:off x="6334200" y="12600"/>
            <a:ext cx="2816280" cy="1005120"/>
            <a:chOff x="6334200" y="12600"/>
            <a:chExt cx="2816280" cy="1005120"/>
          </a:xfrm>
        </p:grpSpPr>
        <p:pic>
          <p:nvPicPr>
            <p:cNvPr id="332" name="TextBox 5" descr=""/>
            <p:cNvPicPr/>
            <p:nvPr/>
          </p:nvPicPr>
          <p:blipFill>
            <a:blip r:embed="rId1"/>
            <a:stretch/>
          </p:blipFill>
          <p:spPr>
            <a:xfrm>
              <a:off x="6334200" y="12600"/>
              <a:ext cx="2816280" cy="100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3" name=""/>
            <p:cNvSpPr/>
            <p:nvPr/>
          </p:nvSpPr>
          <p:spPr>
            <a:xfrm>
              <a:off x="6391440" y="47520"/>
              <a:ext cx="2705040" cy="84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4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How has marketing management changed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34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1-</a:t>
            </a:r>
            <a:fld id="{0CEDB90C-A151-4130-B099-728E90BB599F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5" name="Picture 9" descr="Untitled"/>
          <p:cNvPicPr/>
          <p:nvPr/>
        </p:nvPicPr>
        <p:blipFill>
          <a:blip r:embed="rId2"/>
          <a:stretch/>
        </p:blipFill>
        <p:spPr>
          <a:xfrm>
            <a:off x="1614600" y="1901880"/>
            <a:ext cx="5884920" cy="44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8b5d"/>
                </a:solidFill>
                <a:latin typeface="Verdana"/>
              </a:rPr>
              <a:t>Company Orientation Toward</a:t>
            </a:r>
            <a:br>
              <a:rPr sz="2400"/>
            </a:br>
            <a:r>
              <a:rPr b="1" lang="en-GB" sz="2400" spc="-1" strike="noStrike">
                <a:solidFill>
                  <a:srgbClr val="008b5d"/>
                </a:solidFill>
                <a:latin typeface="Verdana"/>
              </a:rPr>
              <a:t>the Marketplace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504720" y="1596600"/>
            <a:ext cx="8089920" cy="447516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343080" indent="-343080">
              <a:spcBef>
                <a:spcPts val="1250"/>
              </a:spcBef>
              <a:buClr>
                <a:srgbClr val="7030a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Verdana"/>
              </a:rPr>
              <a:t>Internal Market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nsuring that everyone in the organization embraces appropriate marketing principles, especially senior manage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38" name="TextBox 5"/>
          <p:cNvGrpSpPr/>
          <p:nvPr/>
        </p:nvGrpSpPr>
        <p:grpSpPr>
          <a:xfrm>
            <a:off x="6334200" y="12600"/>
            <a:ext cx="2816280" cy="1005120"/>
            <a:chOff x="6334200" y="12600"/>
            <a:chExt cx="2816280" cy="1005120"/>
          </a:xfrm>
        </p:grpSpPr>
        <p:pic>
          <p:nvPicPr>
            <p:cNvPr id="339" name="TextBox 5" descr=""/>
            <p:cNvPicPr/>
            <p:nvPr/>
          </p:nvPicPr>
          <p:blipFill>
            <a:blip r:embed="rId1"/>
            <a:stretch/>
          </p:blipFill>
          <p:spPr>
            <a:xfrm>
              <a:off x="6334200" y="12600"/>
              <a:ext cx="2816280" cy="100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0" name=""/>
            <p:cNvSpPr/>
            <p:nvPr/>
          </p:nvSpPr>
          <p:spPr>
            <a:xfrm>
              <a:off x="6391440" y="47520"/>
              <a:ext cx="2705040" cy="84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4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How has marketing management changed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41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1-</a:t>
            </a:r>
            <a:fld id="{B144AE09-29F3-45EF-BD37-332554460FBA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8b5d"/>
                </a:solidFill>
                <a:latin typeface="Verdana"/>
              </a:rPr>
              <a:t>Company Orientation Toward</a:t>
            </a:r>
            <a:br>
              <a:rPr sz="2400"/>
            </a:br>
            <a:r>
              <a:rPr b="1" lang="en-GB" sz="2400" spc="-1" strike="noStrike">
                <a:solidFill>
                  <a:srgbClr val="008b5d"/>
                </a:solidFill>
                <a:latin typeface="Verdana"/>
              </a:rPr>
              <a:t>the Marketplace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504720" y="1596600"/>
            <a:ext cx="8089920" cy="447516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343080" indent="-343080">
              <a:spcBef>
                <a:spcPts val="1250"/>
              </a:spcBef>
              <a:buClr>
                <a:srgbClr val="7030a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Verdana"/>
              </a:rPr>
              <a:t>Performance Market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44" name="TextBox 5"/>
          <p:cNvGrpSpPr/>
          <p:nvPr/>
        </p:nvGrpSpPr>
        <p:grpSpPr>
          <a:xfrm>
            <a:off x="6334200" y="12600"/>
            <a:ext cx="2816280" cy="1005120"/>
            <a:chOff x="6334200" y="12600"/>
            <a:chExt cx="2816280" cy="1005120"/>
          </a:xfrm>
        </p:grpSpPr>
        <p:pic>
          <p:nvPicPr>
            <p:cNvPr id="345" name="TextBox 5" descr=""/>
            <p:cNvPicPr/>
            <p:nvPr/>
          </p:nvPicPr>
          <p:blipFill>
            <a:blip r:embed="rId1"/>
            <a:stretch/>
          </p:blipFill>
          <p:spPr>
            <a:xfrm>
              <a:off x="6334200" y="12600"/>
              <a:ext cx="2816280" cy="100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6" name=""/>
            <p:cNvSpPr/>
            <p:nvPr/>
          </p:nvSpPr>
          <p:spPr>
            <a:xfrm>
              <a:off x="6391440" y="47520"/>
              <a:ext cx="2705040" cy="84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4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How has marketing management changed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47" name="Rectangle 6"/>
          <p:cNvSpPr/>
          <p:nvPr/>
        </p:nvSpPr>
        <p:spPr>
          <a:xfrm>
            <a:off x="493560" y="2185920"/>
            <a:ext cx="40784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nancial Accountabilit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ocial Responsibility Market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Rectangle 7"/>
          <p:cNvSpPr/>
          <p:nvPr/>
        </p:nvSpPr>
        <p:spPr>
          <a:xfrm>
            <a:off x="934920" y="3036960"/>
            <a:ext cx="7859880" cy="32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ocial Initiativ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rporate social market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use market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rporate philanthrop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rporate community involve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ocially responsible business practic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1-</a:t>
            </a:r>
            <a:fld id="{A87A963D-FFA3-4067-B230-E5521FBD9006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1-</a:t>
            </a:r>
            <a:fld id="{3DD9EA4F-B485-4D81-A698-AD42150BD197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008b5d"/>
                </a:solidFill>
                <a:latin typeface="Verdana"/>
              </a:rPr>
              <a:t>Chapter Questions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7696080" cy="480060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y is marketing important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at is the scope of marketing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3. What are some fundamental marketing concepts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ow has marketing management changed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5.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at are the tasks necessary for successful marketing management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6. How does marketing in the Arab world differ from marketing in other parts of the world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ver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8b5d"/>
                </a:solidFill>
                <a:latin typeface="Verdana"/>
              </a:rPr>
              <a:t>Marketing Management Tasks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grpSp>
        <p:nvGrpSpPr>
          <p:cNvPr id="351" name="TextBox 5"/>
          <p:cNvGrpSpPr/>
          <p:nvPr/>
        </p:nvGrpSpPr>
        <p:grpSpPr>
          <a:xfrm>
            <a:off x="6334200" y="12600"/>
            <a:ext cx="2816280" cy="1219320"/>
            <a:chOff x="6334200" y="12600"/>
            <a:chExt cx="2816280" cy="1219320"/>
          </a:xfrm>
        </p:grpSpPr>
        <p:pic>
          <p:nvPicPr>
            <p:cNvPr id="352" name="TextBox 5" descr=""/>
            <p:cNvPicPr/>
            <p:nvPr/>
          </p:nvPicPr>
          <p:blipFill>
            <a:blip r:embed="rId1"/>
            <a:stretch/>
          </p:blipFill>
          <p:spPr>
            <a:xfrm>
              <a:off x="6334200" y="12600"/>
              <a:ext cx="281628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3" name=""/>
            <p:cNvSpPr/>
            <p:nvPr/>
          </p:nvSpPr>
          <p:spPr>
            <a:xfrm>
              <a:off x="6391440" y="47520"/>
              <a:ext cx="2705040" cy="105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5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What are the tasks necessary for successful marketing management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54" name="Rectangle 3"/>
          <p:cNvSpPr/>
          <p:nvPr/>
        </p:nvSpPr>
        <p:spPr>
          <a:xfrm>
            <a:off x="36504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veloping market strategies and pla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pturing marketing insigh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necting with custome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uilding strong brand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haping market offering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livering valu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mmunicating valu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reating long-term growth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1-</a:t>
            </a:r>
            <a:fld id="{6F9BA383-3CFA-48D1-BBA6-1B9D26A92591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3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3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3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8b5d"/>
                </a:solidFill>
                <a:latin typeface="Verdana"/>
              </a:rPr>
              <a:t>Marketing Management Tasks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grpSp>
        <p:nvGrpSpPr>
          <p:cNvPr id="357" name="TextBox 5"/>
          <p:cNvGrpSpPr/>
          <p:nvPr/>
        </p:nvGrpSpPr>
        <p:grpSpPr>
          <a:xfrm>
            <a:off x="6334200" y="12600"/>
            <a:ext cx="2816280" cy="1219320"/>
            <a:chOff x="6334200" y="12600"/>
            <a:chExt cx="2816280" cy="1219320"/>
          </a:xfrm>
        </p:grpSpPr>
        <p:pic>
          <p:nvPicPr>
            <p:cNvPr id="358" name="TextBox 5" descr=""/>
            <p:cNvPicPr/>
            <p:nvPr/>
          </p:nvPicPr>
          <p:blipFill>
            <a:blip r:embed="rId1"/>
            <a:stretch/>
          </p:blipFill>
          <p:spPr>
            <a:xfrm>
              <a:off x="6334200" y="12600"/>
              <a:ext cx="281628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9" name=""/>
            <p:cNvSpPr/>
            <p:nvPr/>
          </p:nvSpPr>
          <p:spPr>
            <a:xfrm>
              <a:off x="6391440" y="47520"/>
              <a:ext cx="2705040" cy="105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5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What are the tasks necessary for successful marketing management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60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1-</a:t>
            </a:r>
            <a:fld id="{8D2F112E-8D90-491D-B8E7-89775783DB31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1" name="Rectangle 2"/>
          <p:cNvSpPr/>
          <p:nvPr/>
        </p:nvSpPr>
        <p:spPr>
          <a:xfrm>
            <a:off x="396720" y="1771560"/>
            <a:ext cx="822960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Marketing Memo: Marketers’ Frequently Asked Questions</a:t>
            </a: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2" name="Picture 9" descr="Untitled"/>
          <p:cNvPicPr/>
          <p:nvPr/>
        </p:nvPicPr>
        <p:blipFill>
          <a:blip r:embed="rId2"/>
          <a:stretch/>
        </p:blipFill>
        <p:spPr>
          <a:xfrm>
            <a:off x="181080" y="2203560"/>
            <a:ext cx="8962920" cy="37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1-</a:t>
            </a:r>
            <a:fld id="{E2DD4D06-8274-426C-85E1-76DBCE03C69D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008b5d"/>
                </a:solidFill>
                <a:latin typeface="Verdana"/>
              </a:rPr>
              <a:t>Functions of CMOs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rengthening the brand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easuring marketing effectivenes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riving new product development based on customer need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athering meaningful customer insigh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tilizing new marketing technolog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66" name="TextBox 4"/>
          <p:cNvGrpSpPr/>
          <p:nvPr/>
        </p:nvGrpSpPr>
        <p:grpSpPr>
          <a:xfrm>
            <a:off x="6334200" y="12600"/>
            <a:ext cx="2816280" cy="1219320"/>
            <a:chOff x="6334200" y="12600"/>
            <a:chExt cx="2816280" cy="1219320"/>
          </a:xfrm>
        </p:grpSpPr>
        <p:pic>
          <p:nvPicPr>
            <p:cNvPr id="367" name="TextBox 4" descr=""/>
            <p:cNvPicPr/>
            <p:nvPr/>
          </p:nvPicPr>
          <p:blipFill>
            <a:blip r:embed="rId1"/>
            <a:stretch/>
          </p:blipFill>
          <p:spPr>
            <a:xfrm>
              <a:off x="6334200" y="12600"/>
              <a:ext cx="281628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"/>
            <p:cNvSpPr/>
            <p:nvPr/>
          </p:nvSpPr>
          <p:spPr>
            <a:xfrm>
              <a:off x="6391440" y="47520"/>
              <a:ext cx="2705040" cy="105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5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What are the tasks necessary for successful marketing management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transition>
    <p:cover dir="l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8b5d"/>
                </a:solidFill>
                <a:latin typeface="Verdana"/>
              </a:rPr>
              <a:t>A Word About Marketing in</a:t>
            </a:r>
            <a:br>
              <a:rPr sz="2400"/>
            </a:br>
            <a:r>
              <a:rPr b="1" lang="en-GB" sz="2400" spc="-1" strike="noStrike">
                <a:solidFill>
                  <a:srgbClr val="008b5d"/>
                </a:solidFill>
                <a:latin typeface="Verdana"/>
              </a:rPr>
              <a:t>the Arab World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grpSp>
        <p:nvGrpSpPr>
          <p:cNvPr id="370" name="TextBox 5"/>
          <p:cNvGrpSpPr/>
          <p:nvPr/>
        </p:nvGrpSpPr>
        <p:grpSpPr>
          <a:xfrm>
            <a:off x="6334200" y="12600"/>
            <a:ext cx="2852640" cy="1219320"/>
            <a:chOff x="6334200" y="12600"/>
            <a:chExt cx="2852640" cy="1219320"/>
          </a:xfrm>
        </p:grpSpPr>
        <p:pic>
          <p:nvPicPr>
            <p:cNvPr id="371" name="TextBox 5" descr=""/>
            <p:cNvPicPr/>
            <p:nvPr/>
          </p:nvPicPr>
          <p:blipFill>
            <a:blip r:embed="rId1"/>
            <a:stretch/>
          </p:blipFill>
          <p:spPr>
            <a:xfrm>
              <a:off x="6334200" y="12600"/>
              <a:ext cx="285264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"/>
            <p:cNvSpPr/>
            <p:nvPr/>
          </p:nvSpPr>
          <p:spPr>
            <a:xfrm>
              <a:off x="6391440" y="47520"/>
              <a:ext cx="2705040" cy="105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6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How does marketing in the Arab world differ from marketing elsewhere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73" name=""/>
          <p:cNvSpPr txBox="1"/>
          <p:nvPr/>
        </p:nvSpPr>
        <p:spPr>
          <a:xfrm>
            <a:off x="365040" y="1733400"/>
            <a:ext cx="8229600" cy="43387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Arab world is a huge potential market for internationa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mpanie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owever, companies have to keep several factors in mind when targeting the Arab audienc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alues, religion, language, reading from right to left, and politics are among a few key issues to take into consideratio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1-</a:t>
            </a:r>
            <a:fld id="{042F6026-9407-4144-860B-B5F20DE7D9BB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8b5d"/>
                </a:solidFill>
                <a:latin typeface="Verdana"/>
              </a:rPr>
              <a:t>Credits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343080" indent="-343080" algn="ctr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Slide 1 Alamy Images: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B. O’Kane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Slide 7: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lamy Imag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Slide 7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uperStock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OleksiyMaksymenko / age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fotostock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Slide 13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Box 1.1 on page 12 from “The Fall and Rise of the CMO”, </a:t>
            </a:r>
            <a:r>
              <a:rPr b="0" i="1" lang="en-GB" sz="2000" spc="-1" strike="noStrike">
                <a:solidFill>
                  <a:srgbClr val="000000"/>
                </a:solidFill>
                <a:latin typeface="Verdana"/>
              </a:rPr>
              <a:t>strategy+business,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(Gail McGovern and John A. Quelch, 2004), Winter 2004, published by Booz &amp; Company Inc. copyright © 2004. All rights reserved. www.strategy-business.co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Slide 16 Corbis: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aniel Karmann / dpa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Slide 20 Copyright (c) H. J. Heinz Company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8b5d"/>
                </a:solidFill>
                <a:latin typeface="Verdana"/>
              </a:rPr>
              <a:t>The Importance of Marketing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6504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arketing is essential for a company to define itself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arketing aims to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541440" indent="-189000"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xplain what makes the company/product differ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541440" indent="-189000"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Understand what customers are looking f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efine and deliver the company’s value propositio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Financial success often depends on marketing ability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3" name="TextBox 5"/>
          <p:cNvGrpSpPr/>
          <p:nvPr/>
        </p:nvGrpSpPr>
        <p:grpSpPr>
          <a:xfrm>
            <a:off x="6334200" y="12600"/>
            <a:ext cx="2816280" cy="1005120"/>
            <a:chOff x="6334200" y="12600"/>
            <a:chExt cx="2816280" cy="1005120"/>
          </a:xfrm>
        </p:grpSpPr>
        <p:pic>
          <p:nvPicPr>
            <p:cNvPr id="184" name="TextBox 5" descr=""/>
            <p:cNvPicPr/>
            <p:nvPr/>
          </p:nvPicPr>
          <p:blipFill>
            <a:blip r:embed="rId1"/>
            <a:stretch/>
          </p:blipFill>
          <p:spPr>
            <a:xfrm>
              <a:off x="6334200" y="12600"/>
              <a:ext cx="2816280" cy="100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"/>
            <p:cNvSpPr/>
            <p:nvPr/>
          </p:nvSpPr>
          <p:spPr>
            <a:xfrm>
              <a:off x="6391440" y="47520"/>
              <a:ext cx="2705040" cy="63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1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Why is marketing important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86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1-</a:t>
            </a:r>
            <a:fld id="{AD88D2E8-3C00-493B-A7F6-B32CC5400B15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8b5d"/>
                </a:solidFill>
                <a:latin typeface="Verdana"/>
              </a:rPr>
              <a:t>The Scope of Marketing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6504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o prepare to be a marketer, you need to understand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what marketing is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how it works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what is marketed, and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who does the marketing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9" name="TextBox 5"/>
          <p:cNvGrpSpPr/>
          <p:nvPr/>
        </p:nvGrpSpPr>
        <p:grpSpPr>
          <a:xfrm>
            <a:off x="6334200" y="12600"/>
            <a:ext cx="2816280" cy="1005120"/>
            <a:chOff x="6334200" y="12600"/>
            <a:chExt cx="2816280" cy="1005120"/>
          </a:xfrm>
        </p:grpSpPr>
        <p:pic>
          <p:nvPicPr>
            <p:cNvPr id="190" name="TextBox 5" descr=""/>
            <p:cNvPicPr/>
            <p:nvPr/>
          </p:nvPicPr>
          <p:blipFill>
            <a:blip r:embed="rId1"/>
            <a:stretch/>
          </p:blipFill>
          <p:spPr>
            <a:xfrm>
              <a:off x="6334200" y="12600"/>
              <a:ext cx="2816280" cy="100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" name=""/>
            <p:cNvSpPr/>
            <p:nvPr/>
          </p:nvSpPr>
          <p:spPr>
            <a:xfrm>
              <a:off x="6391440" y="47520"/>
              <a:ext cx="2705040" cy="84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2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What is the scope of marketing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92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1-</a:t>
            </a:r>
            <a:fld id="{19F00ABD-D683-4930-B831-A4A7D09DBFAC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Footer Placeholder 2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1-</a:t>
            </a:r>
            <a:fld id="{52C5D7F2-4906-4A0B-AB3C-C4A3D91E4B98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7030a0"/>
                </a:solidFill>
                <a:latin typeface="Verdana"/>
              </a:rPr>
              <a:t>What is Marketing?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195" name="AutoShape 3"/>
          <p:cNvSpPr/>
          <p:nvPr/>
        </p:nvSpPr>
        <p:spPr>
          <a:xfrm>
            <a:off x="485640" y="1295280"/>
            <a:ext cx="7848720" cy="47246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arketing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is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process of planning and executing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conception, pricing, promotion, and distribu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of ideas, goods, and services to create exchanges th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atisfy individual and organizational goal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0068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6846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006846"/>
                </a:solidFill>
                <a:latin typeface="Verdana"/>
              </a:rPr>
              <a:t>Marketing is about identifying and meeting human and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6846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06846"/>
                </a:solidFill>
                <a:latin typeface="Verdana"/>
              </a:rPr>
              <a:t>social needs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0068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6846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006846"/>
                </a:solidFill>
                <a:latin typeface="Verdana"/>
              </a:rPr>
              <a:t>A short definition: “</a:t>
            </a:r>
            <a:r>
              <a:rPr b="0" i="1" lang="en-GB" sz="1800" spc="-1" strike="noStrike">
                <a:solidFill>
                  <a:srgbClr val="006846"/>
                </a:solidFill>
                <a:latin typeface="Verdana"/>
              </a:rPr>
              <a:t>meeting needs profitably</a:t>
            </a:r>
            <a:r>
              <a:rPr b="0" lang="en-GB" sz="1800" spc="-1" strike="noStrike">
                <a:solidFill>
                  <a:srgbClr val="006846"/>
                </a:solidFill>
                <a:latin typeface="Verdana"/>
              </a:rPr>
              <a:t>.”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96" name="TextBox 6"/>
          <p:cNvGrpSpPr/>
          <p:nvPr/>
        </p:nvGrpSpPr>
        <p:grpSpPr>
          <a:xfrm>
            <a:off x="6334200" y="12600"/>
            <a:ext cx="2816280" cy="1005120"/>
            <a:chOff x="6334200" y="12600"/>
            <a:chExt cx="2816280" cy="1005120"/>
          </a:xfrm>
        </p:grpSpPr>
        <p:pic>
          <p:nvPicPr>
            <p:cNvPr id="197" name="TextBox 6" descr=""/>
            <p:cNvPicPr/>
            <p:nvPr/>
          </p:nvPicPr>
          <p:blipFill>
            <a:blip r:embed="rId1"/>
            <a:stretch/>
          </p:blipFill>
          <p:spPr>
            <a:xfrm>
              <a:off x="6334200" y="12600"/>
              <a:ext cx="2816280" cy="100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8" name=""/>
            <p:cNvSpPr/>
            <p:nvPr/>
          </p:nvSpPr>
          <p:spPr>
            <a:xfrm>
              <a:off x="6391440" y="47520"/>
              <a:ext cx="2705040" cy="84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2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What is the scope of marketing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transition>
    <p:cover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Footer Placeholder 2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1-</a:t>
            </a:r>
            <a:fld id="{9ACC14D2-13D6-4ACE-84F4-476D485A00CB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62120" y="828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7030a0"/>
                </a:solidFill>
                <a:latin typeface="Verdana"/>
              </a:rPr>
              <a:t>What is Marketing Management?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201" name="AutoShape 3"/>
          <p:cNvSpPr/>
          <p:nvPr/>
        </p:nvSpPr>
        <p:spPr>
          <a:xfrm>
            <a:off x="1066680" y="1371600"/>
            <a:ext cx="7315200" cy="43149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arketing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anagement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s th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art and scienc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f choosing target markets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d getting, keeping, and growing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stomers through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reating, delivering, and communicat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uperior customer valu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02" name="TextBox 5"/>
          <p:cNvGrpSpPr/>
          <p:nvPr/>
        </p:nvGrpSpPr>
        <p:grpSpPr>
          <a:xfrm>
            <a:off x="6334200" y="12600"/>
            <a:ext cx="2816280" cy="1005120"/>
            <a:chOff x="6334200" y="12600"/>
            <a:chExt cx="2816280" cy="1005120"/>
          </a:xfrm>
        </p:grpSpPr>
        <p:pic>
          <p:nvPicPr>
            <p:cNvPr id="203" name="TextBox 5" descr=""/>
            <p:cNvPicPr/>
            <p:nvPr/>
          </p:nvPicPr>
          <p:blipFill>
            <a:blip r:embed="rId1"/>
            <a:stretch/>
          </p:blipFill>
          <p:spPr>
            <a:xfrm>
              <a:off x="6334200" y="12600"/>
              <a:ext cx="2816280" cy="100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"/>
            <p:cNvSpPr/>
            <p:nvPr/>
          </p:nvSpPr>
          <p:spPr>
            <a:xfrm>
              <a:off x="6391440" y="47520"/>
              <a:ext cx="2705040" cy="84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2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What is the scope of marketing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transition>
    <p:cover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Footer Placeholder 4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1-</a:t>
            </a:r>
            <a:fld id="{D4937CAC-2E4A-4D96-8E9E-653F14737C39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743040" y="461520"/>
            <a:ext cx="7813440" cy="90036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7030a0"/>
                </a:solidFill>
                <a:latin typeface="Verdana"/>
              </a:rPr>
              <a:t>What is Marketed?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26640" y="1546200"/>
            <a:ext cx="3692520" cy="45259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ood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vents and experienc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ers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860720" y="1546200"/>
            <a:ext cx="3530520" cy="45259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laces and properti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rganiza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form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09" name="TextBox 7"/>
          <p:cNvGrpSpPr/>
          <p:nvPr/>
        </p:nvGrpSpPr>
        <p:grpSpPr>
          <a:xfrm>
            <a:off x="6334200" y="12600"/>
            <a:ext cx="2816280" cy="1005120"/>
            <a:chOff x="6334200" y="12600"/>
            <a:chExt cx="2816280" cy="1005120"/>
          </a:xfrm>
        </p:grpSpPr>
        <p:pic>
          <p:nvPicPr>
            <p:cNvPr id="210" name="TextBox 7" descr=""/>
            <p:cNvPicPr/>
            <p:nvPr/>
          </p:nvPicPr>
          <p:blipFill>
            <a:blip r:embed="rId1"/>
            <a:stretch/>
          </p:blipFill>
          <p:spPr>
            <a:xfrm>
              <a:off x="6334200" y="12600"/>
              <a:ext cx="2816280" cy="100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>
              <a:off x="6391440" y="47520"/>
              <a:ext cx="2705040" cy="84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2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What is the scope of marketing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212" name="Picture 13" descr="Untitled"/>
          <p:cNvPicPr/>
          <p:nvPr/>
        </p:nvPicPr>
        <p:blipFill>
          <a:blip r:embed="rId2"/>
          <a:stretch/>
        </p:blipFill>
        <p:spPr>
          <a:xfrm>
            <a:off x="966960" y="3490920"/>
            <a:ext cx="3271680" cy="245412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14" descr="Untitled"/>
          <p:cNvPicPr/>
          <p:nvPr/>
        </p:nvPicPr>
        <p:blipFill>
          <a:blip r:embed="rId3"/>
          <a:stretch/>
        </p:blipFill>
        <p:spPr>
          <a:xfrm>
            <a:off x="5041800" y="3529080"/>
            <a:ext cx="3144960" cy="209052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Footer Placeholder 4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1-</a:t>
            </a:r>
            <a:fld id="{F9B9EA47-EF12-4C7B-89FC-B15F35459C10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743040" y="473040"/>
            <a:ext cx="7813440" cy="90000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7030a0"/>
                </a:solidFill>
                <a:latin typeface="Verdana"/>
              </a:rPr>
              <a:t>Who Markets?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774360" y="1546200"/>
            <a:ext cx="7550280" cy="45259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arketers and prospec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rketers are responsible for demand manage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ight demand states are possib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27120" indent="-265320">
              <a:spcBef>
                <a:spcPts val="1001"/>
              </a:spcBef>
              <a:buClr>
                <a:srgbClr val="000000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egative demand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27120" indent="-265320">
              <a:spcBef>
                <a:spcPts val="1001"/>
              </a:spcBef>
              <a:buClr>
                <a:srgbClr val="000000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onexistent demand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27120" indent="-265320">
              <a:spcBef>
                <a:spcPts val="1001"/>
              </a:spcBef>
              <a:buClr>
                <a:srgbClr val="000000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atent demand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27120" indent="-265320">
              <a:spcBef>
                <a:spcPts val="1001"/>
              </a:spcBef>
              <a:buClr>
                <a:srgbClr val="000000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eclining demand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27120" indent="-265320">
              <a:spcBef>
                <a:spcPts val="1001"/>
              </a:spcBef>
              <a:buClr>
                <a:srgbClr val="000000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rregular demand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27120" indent="-265320">
              <a:spcBef>
                <a:spcPts val="1001"/>
              </a:spcBef>
              <a:buClr>
                <a:srgbClr val="000000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ull demand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27120" indent="-265320">
              <a:spcBef>
                <a:spcPts val="1001"/>
              </a:spcBef>
              <a:buClr>
                <a:srgbClr val="000000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Overfull demand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27120" indent="-265320">
              <a:spcBef>
                <a:spcPts val="1001"/>
              </a:spcBef>
              <a:buClr>
                <a:srgbClr val="000000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nwholesome demand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7" name="TextBox 9"/>
          <p:cNvGrpSpPr/>
          <p:nvPr/>
        </p:nvGrpSpPr>
        <p:grpSpPr>
          <a:xfrm>
            <a:off x="6334200" y="12600"/>
            <a:ext cx="2816280" cy="1005120"/>
            <a:chOff x="6334200" y="12600"/>
            <a:chExt cx="2816280" cy="1005120"/>
          </a:xfrm>
        </p:grpSpPr>
        <p:pic>
          <p:nvPicPr>
            <p:cNvPr id="218" name="TextBox 9" descr=""/>
            <p:cNvPicPr/>
            <p:nvPr/>
          </p:nvPicPr>
          <p:blipFill>
            <a:blip r:embed="rId1"/>
            <a:stretch/>
          </p:blipFill>
          <p:spPr>
            <a:xfrm>
              <a:off x="6334200" y="12600"/>
              <a:ext cx="2816280" cy="100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"/>
            <p:cNvSpPr/>
            <p:nvPr/>
          </p:nvSpPr>
          <p:spPr>
            <a:xfrm>
              <a:off x="6391440" y="47520"/>
              <a:ext cx="2705040" cy="84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2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What is the scope of marketing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transition>
    <p:cover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2T10:33:38Z</dcterms:created>
  <dc:creator>fay gibbons</dc:creator>
  <dc:description>www.showcase-online.co.uk
0207 484 8080</dc:description>
  <dc:language>en-US</dc:language>
  <cp:lastModifiedBy>Sony</cp:lastModifiedBy>
  <dcterms:modified xsi:type="dcterms:W3CDTF">2017-09-19T13:50:10Z</dcterms:modified>
  <cp:revision>84</cp:revision>
  <dc:subject/>
  <dc:title>Slide 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S_version">
    <vt:lpwstr>v1.0.1</vt:lpwstr>
  </property>
</Properties>
</file>