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C0CB-FAFD-476E-9660-C312F0234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B1E8-422A-46D2-9E2E-8D6B53DA5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3368-F176-4588-81CD-F9ACFF541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3546-FDFB-4E41-966A-BF7BC9E0E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76A-640E-4884-9B77-237DC05D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B3E-C013-47E1-9952-DB36D670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7A1-3D64-4286-8B5B-D394C1EF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165-5DC7-448F-B36E-E86BB325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E240-4DC4-487E-BDA2-C7C76EC7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5419-42B1-4C49-B9C2-3CFE300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6F6D-CD29-48DF-B620-16679A8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FA7-4ED2-4CCA-90A5-C135EF9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285-51A2-4184-9834-5DA7D44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139-F49F-46ED-A98B-0EF555C5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6C2A-DD8B-4F7A-895C-4F304DE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069-F616-4C6D-9326-15984B2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F0D0-2544-496F-8F3C-C0F7A89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37C3-FD95-410C-900B-D410E2E4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55F9-94AB-4C94-A77F-C94B49B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C29A-9011-499F-8A75-1EA561D4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ABC9-2454-4691-B7E9-E4AEBAB9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F377-9A3F-4AA5-AA05-B764697B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184A-0924-4E7D-B151-C5B6B3DB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99A1-8F88-4969-967D-3641E3B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F4831-DCC5-40C8-8D98-0A1309A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52CD-1AE2-4B3C-9B2C-668DD322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0E8-D6F4-43B5-B18B-E894C6A4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FD71-0987-4D84-897C-CFF7688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9280-61EE-487A-BFA2-B2276AB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CB7F-C8F7-4B71-A6F2-C53BF37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D5D3-243F-42C4-AE32-F5320EE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65E5-07AE-431B-997C-37B3065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056A-2EA4-48BF-B83F-5F6BF2DC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7B3A-C14A-4330-AA6F-81354112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68BB-7651-47F2-9EDA-D0D3F51D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A923-4BDB-4463-B4EC-DE7A01A1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92B4E-3EA7-4430-9F39-824370DB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33D-4889-4069-82B1-893EA53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D854-101E-40A7-9DD2-FCCC2DF0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1CD0-8391-473C-AFC0-F064506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525B-8021-46A0-9B84-7A19773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C24F-D5D2-4A9E-9BF2-08F19EC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3375B-886D-4934-A493-64F84AB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12E18-BD4E-4BB0-87B1-B479EAC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C13F-20AA-466B-B139-581348A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3DFF-7500-4418-B9E6-32020BA3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AB6F-8937-4329-A533-2848E614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9A94-E553-4DDF-A703-D60944E2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6A0-EE29-48D4-8C30-A96EDEF1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36EE-1DD6-43A5-81DF-4E9EB78A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D51B-04BD-493F-AE65-7554EF4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B47B4-2E9C-4C42-8E49-6F293B9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8259-EC89-46D6-8440-87662C6D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10E2-2F56-49F7-AC9E-AAAA4CB2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90B5-F11D-45BA-AC0D-3E34CBD0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E1869-95FA-4D1F-B0B2-C3601A4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0DF7-981D-4A4D-B2D8-B878F70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88EA-6C02-4A05-9AF8-A31BA1B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3C80-4F4B-4244-95E2-5B1A6F8E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A1A-39F1-47EF-868F-B6E6B091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25C3-2E60-41F0-ACC3-7CBB64BF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7293-03CC-4F62-A514-6812645C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AFC7-A0DC-4123-B4B9-96ADD68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1BC4-4C3D-429C-BE20-AB4776DD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7FFA-523B-4B6E-88DE-AB758C1C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9D37-5514-4331-B82D-32CCAC00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7B88-3FD2-4DBA-8F7C-EB7EC46E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51375-A52E-46DC-96A8-AA29CB6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90AA-2098-4D2A-BBAA-D132563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7D65-5E3F-419B-B799-50CCE27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C8A-0B36-4E1E-BB3B-B97A7297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98E6-0934-4796-AA1E-AADC84BC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3F0EE-BBD6-4F5E-B3C3-1027EE83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500D-25A2-4FDF-9CF7-8EB64DDB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C7109-9E02-4BBE-83CC-8373915E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A29F8-54B5-4134-91EC-049E30FD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68D5-196C-4796-ABB6-D857541A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A71E-CB59-4A76-8706-ED5E932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D85CD-E052-471F-B50A-FC7172F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3A027-56C7-4BBF-80BF-8C2BC65E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F59B6-1442-4531-AFC4-7D4F703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327-7D73-456B-B3BD-F3AE081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74C06-D765-4D0D-B77D-F2B2072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EF9B-59EC-43D0-866F-3F0E2FC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1D6E2-0330-4FAE-878D-4200B6F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8C60E-3F9A-447C-ADC0-A31C045D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8E43-7887-48FF-B9F7-66FB802B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D26-80F1-4962-8E1E-C9D55085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749A-066F-4BED-B4DE-9B635B8D55F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DCC0-2202-4E55-9826-F265CAEFB6B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C5A-A28A-4026-8815-F8EA1A76B05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BD79-1471-4444-9795-EBD85DB51D8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C2C-6F29-47D3-90B8-3318C900CFF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551-ED41-4DBE-A288-B0A1CC8694A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9CCD-1F8C-4748-A370-DAA526F2BE2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64087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72314"/>
                </a:solidFill>
                <a:latin typeface="Gill Sans MT"/>
                <a:cs typeface="Majalla UI"/>
              </a:rPr>
              <a:t>بسم الله الرحمن الرحيم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58560" y="2636640"/>
            <a:ext cx="74293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Majalla UI"/>
              </a:rPr>
              <a:t>Prof. Magdy  Moh. Ghanna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Majalla UI"/>
              </a:rPr>
              <a:t>Prof. of Physics and  Medical Physic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Majalla UI"/>
              </a:rPr>
              <a:t>Office: </a:t>
            </a:r>
            <a:r>
              <a:rPr b="1" lang="en-US" sz="4000" spc="-1" strike="noStrike">
                <a:solidFill>
                  <a:srgbClr val="000000"/>
                </a:solidFill>
                <a:latin typeface="Agency FB"/>
                <a:ea typeface="Majalla UI"/>
              </a:rPr>
              <a:t>AA16 ( B4 )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  <a:cs typeface="Majalla UI"/>
              </a:rPr>
              <a:t>الضغط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468360" y="162864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dvertisingMedium"/>
              </a:rPr>
              <a:t>هو القوة المؤثرة على وحدة المساحة من المائع، وهو كمية قياسية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5"/>
          <p:cNvGrpSpPr/>
          <p:nvPr/>
        </p:nvGrpSpPr>
        <p:grpSpPr>
          <a:xfrm>
            <a:off x="1835280" y="2133720"/>
            <a:ext cx="5905440" cy="4380480"/>
            <a:chOff x="1835280" y="2133720"/>
            <a:chExt cx="5905440" cy="4380480"/>
          </a:xfrm>
        </p:grpSpPr>
        <mc:AlternateContent>
          <mc:Choice xmlns:a14="http://schemas.microsoft.com/office/drawing/2010/main" Requires="a14">
            <p:sp>
              <p:nvSpPr>
                <p:cNvPr id="355" name="Content Placeholder 3"/>
                <p:cNvSpPr txBox="1"/>
                <p:nvPr/>
              </p:nvSpPr>
              <p:spPr>
                <a:xfrm>
                  <a:off x="3059640" y="2133720"/>
                  <a:ext cx="2439360" cy="25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356" name="Straight Arrow Connector 8" descr=""/>
            <p:cNvPicPr/>
            <p:nvPr/>
          </p:nvPicPr>
          <p:blipFill>
            <a:blip r:embed="rId1"/>
            <a:stretch/>
          </p:blipFill>
          <p:spPr>
            <a:xfrm>
              <a:off x="2511360" y="3657600"/>
              <a:ext cx="7131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Straight Arrow Connector 9" descr=""/>
            <p:cNvPicPr/>
            <p:nvPr/>
          </p:nvPicPr>
          <p:blipFill>
            <a:blip r:embed="rId2"/>
            <a:stretch/>
          </p:blipFill>
          <p:spPr>
            <a:xfrm>
              <a:off x="4736520" y="4529520"/>
              <a:ext cx="3837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5065920" y="2718720"/>
              <a:ext cx="200556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11"/>
            <p:cNvSpPr/>
            <p:nvPr/>
          </p:nvSpPr>
          <p:spPr>
            <a:xfrm>
              <a:off x="1835280" y="4508640"/>
              <a:ext cx="13683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ضغ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2"/>
            <p:cNvSpPr/>
            <p:nvPr/>
          </p:nvSpPr>
          <p:spPr>
            <a:xfrm>
              <a:off x="4378320" y="5445360"/>
              <a:ext cx="148896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مساح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3"/>
            <p:cNvSpPr/>
            <p:nvPr/>
          </p:nvSpPr>
          <p:spPr>
            <a:xfrm>
              <a:off x="6444000" y="4149720"/>
              <a:ext cx="12967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قو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6360" y="2732400"/>
            <a:ext cx="8720640" cy="391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HYS 104  (General Physics 2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  Electricity &amp; Magnetis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1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Gill Sans MT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1437-1438 H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ections:     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21767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(9-10 :  A41 B31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21771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11:12 :  A03 B31)</a:t>
            </a: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976320" y="0"/>
            <a:ext cx="7724880" cy="1895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403280" y="1770120"/>
            <a:ext cx="5600880" cy="771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6300720" y="1662120"/>
            <a:ext cx="3003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1214280" y="1571760"/>
            <a:ext cx="7643880" cy="235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Units and Dim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071800" y="500040"/>
          <a:ext cx="6072120" cy="6694560"/>
        </p:xfrm>
        <a:graphic>
          <a:graphicData uri="http://schemas.openxmlformats.org/drawingml/2006/table">
            <a:tbl>
              <a:tblPr/>
              <a:tblGrid>
                <a:gridCol w="1276200"/>
                <a:gridCol w="1400040"/>
                <a:gridCol w="1911600"/>
                <a:gridCol w="1484280"/>
              </a:tblGrid>
              <a:tr h="430200">
                <a:tc>
                  <a:txBody>
                    <a:bodyPr lIns="36360" rIns="363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Abbr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Ex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P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Te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or V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 or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xxx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fem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4"/>
          <p:cNvSpPr/>
          <p:nvPr/>
        </p:nvSpPr>
        <p:spPr>
          <a:xfrm>
            <a:off x="1147680" y="29160"/>
            <a:ext cx="68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 Prefixes for Powers Used with “Metric” (SI and cgs)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213920" y="428400"/>
            <a:ext cx="77202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MENSIONAL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physics, the wor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imension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denotes the physical nature of a quanti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ymbols that we use in this section to specify the dimensions of length L ,   mass M,  and time 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0, an international committee agreed on a standard system of units for the fundamental quantities of science, called SI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y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International). Its units of length (meter), mass (kilogram) and time are the meter (second):(mks unit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tance between two points, can be measured in feet and met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115560"/>
            <a:ext cx="7603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system of units for the fundamental quantities of scien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y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International). Its units of length (meter), mass (kilogram) and time are the meter (second):(mks units)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Table 4" descr=""/>
          <p:cNvPicPr/>
          <p:nvPr/>
        </p:nvPicPr>
        <p:blipFill>
          <a:blip r:embed="rId1"/>
          <a:stretch/>
        </p:blipFill>
        <p:spPr>
          <a:xfrm>
            <a:off x="1182600" y="1079640"/>
            <a:ext cx="7712280" cy="5686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&#9;01T06.jpg                                                      000454C6_x0007_smeagol                        B7464D7A:"/>
          <p:cNvPicPr/>
          <p:nvPr/>
        </p:nvPicPr>
        <p:blipFill>
          <a:blip r:embed="rId1"/>
          <a:stretch/>
        </p:blipFill>
        <p:spPr>
          <a:xfrm>
            <a:off x="88920" y="1052640"/>
            <a:ext cx="896616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03236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Volume of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78920" y="1699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ube of side L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 = 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MT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Gill Sans MT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here of Radius r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11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ylinder of Radius L and Height H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446360" y="-214200"/>
            <a:ext cx="2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469400" y="425520"/>
            <a:ext cx="20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5796000" y="2852640"/>
            <a:ext cx="1512720" cy="812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1008360" cy="6494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1763640" y="671400"/>
            <a:ext cx="554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  <a:cs typeface="Majalla UI"/>
              </a:rPr>
              <a:t>الكثاف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  <a:cs typeface="Majalla UI"/>
              </a:rPr>
              <a:t>في الكميات الصغيرة من المائع يمكن كتابة الصيغة الرياضية في الصورة التال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  <a:cs typeface="Majalla UI"/>
              </a:rPr>
              <a:t>وحدة قياس الكثاف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2627280" y="2805120"/>
                <a:ext cx="31860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m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3138480" y="4797360"/>
                <a:ext cx="21956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22:27Z</dcterms:created>
  <dc:creator>Reem Al-Tuwirqi</dc:creator>
  <dc:description/>
  <dc:language>en-US</dc:language>
  <cp:lastModifiedBy>Radiation</cp:lastModifiedBy>
  <dcterms:modified xsi:type="dcterms:W3CDTF">2016-09-24T14:54:53Z</dcterms:modified>
  <cp:revision>164</cp:revision>
  <dc:subject/>
  <dc:title>Slide 1</dc:title>
</cp:coreProperties>
</file>