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6963-5495-4C3C-AEA2-28593537A2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8770-2B5B-4F60-9F8A-066A4C9406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F1D6-8BCD-4231-B79C-E8E1755233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8CD9-6B9E-4219-9A0E-28EEE9B64D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066E-2495-4407-A2DD-6DEA8FDDC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1A67-20BB-48CC-9A15-28348D7E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72C0-E4BA-4821-ADB6-5F5A4EFF2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4711-0F48-4FAD-A892-B583245C3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A7B7-8371-41F1-B520-84E846F2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8DA5-9FC8-4520-8F41-DD9FEE86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0EA5-8859-4A56-9857-51646DAD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7ED9-E80D-46D0-8971-D86D3F24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26D5-D52B-45E7-A2EB-D434EE83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83E4-9FCF-4129-A7BF-EC5D8055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8CFB-D80D-43EA-86A6-1DDC8807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DA10-70E2-4437-94E3-6FC34B34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AAC0-0117-4771-A373-32AC29F3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45BF-CCFD-4BF7-BA5E-263174AF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352E-51BE-471D-8B17-B15BF10A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2DAB-90C8-4130-B941-4272635B0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B27D-310C-4B00-9764-ADD41C46B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7BC5F-4F4A-48EB-883D-79BEC2305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83098-16E7-464E-AE29-EA0BC9F7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74C59-6996-4406-A52E-191666F7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77706-B0FA-4376-8617-9960CB87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E309F-6731-4B3B-A60A-77A055C3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C7CB-51DB-4571-ADEE-F0532688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259F3-A9EC-461B-B28B-1703805F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2AB99-E1FF-4547-9313-D1F3601A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D07FC-1060-4F15-BA12-B671C180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B910B-7E73-4C70-AF2E-D62AAAB6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F6EF2-0CE7-4760-96EC-F3B61E83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B274A-8A18-4D6F-BC16-7CB6C81E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660A3-6644-4847-A3FE-15464F375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7EA3F-0C40-41D3-A6E6-59770C46C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15977-9083-4354-8587-BAB8F19A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EFABB-44A8-461C-9FFE-CE8EAB81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F2C7-6E44-41AA-8498-E432969D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3CB0D-14B7-4A17-A3FC-55D9E4B1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DBFCA-7207-4DBD-A2C0-D7A6A1AA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08908-0E59-42A0-ADBA-44D790E1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5B117-1805-4ED4-B8C2-405FE3E6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ED7A7-2C54-4670-BBA7-60FFCC2B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629CF-40FC-4D48-8850-DC06C195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7FFAE-EB37-4A7A-9D5D-4BFF8A73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D1747-E732-4080-B00F-BD18B3984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3E6E0-9488-4014-92C0-42E96C6AB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ECF14-C9F9-4433-B392-3A45026C1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605C-A97E-410C-90E2-61ADFF1F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C68AB-395B-4E40-8551-0FB30F39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26045-B080-4C8F-B68F-A33FD9DA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E03D8-D9DA-4AE9-BC4A-4CFF53EF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78A4A-1DD2-4C4E-9B9E-B58743BB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0FEBC-4FF4-4014-B59B-E69AF0CD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CAEED-D7E0-46DF-948C-31CA839B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45CF7-7972-4780-B1D4-85EE38C7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A1EEC-6582-4355-B9D3-88E4FB03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EF62D-67B0-4663-8DD9-25FE1835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960EC-58DA-4B49-9075-DDD113B00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BCD8-2C0C-4DDB-81FA-569C2CE8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72CDB-9C14-4D5F-830F-2542E6B07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D1AA1-A146-45C3-A21E-F856BD4E5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DCF9F-422A-442A-876C-BF15DC41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DDA16-7CAB-49D9-BF6F-DCAC3F88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9C6C2-A983-4F5F-88D0-3F99EB31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26723-2384-431F-9A46-7AA3D4BB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34AEB-7ABA-4B78-B326-89BA4CDB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59F95-AB46-4BB3-AE81-B2E448A8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9F638-5063-4D68-A8FC-F18CBC73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1C360-2314-47D1-BE28-235D24A0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6B3D-BFA9-4A51-8B9F-09E647B8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1C32B-6BD0-48DB-BC0C-EDA6D942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606F1-8D97-424D-B18B-5CF9DD376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5AE0F-2AFE-4220-89F0-8EDBDC06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AD734-A0EF-43A9-9E3D-F67080F5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89213-ACC2-4FC3-A55B-044D6C7C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ABA42-CF8E-44FD-A6BD-B6881283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75172-1B45-4952-80F7-504AA7A4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6F909-C384-4B4B-919B-F2466E8B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A82FF-8F4A-457D-A9CF-0213718C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D0031-4106-40FC-82DD-54115732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4001-A43E-41C8-A809-E46D6DBA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BEAE8-CB02-46D7-8C08-F172F87C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D0A9B-CE80-444A-9E2B-96C96A7B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FECC2-7BCF-4227-BA51-EC8DC6B3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31AEE-B045-4695-86A9-EFD711916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DB255-862B-4870-BA64-424015A01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AC45-BC90-45BA-856C-5EFE5188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76C3-3D1C-4A30-9266-06F806390FB6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631B-EEE2-4E26-A0F8-ECA43B1EA811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04E8-53D1-4741-9694-D37DBCF10B64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7C3B-36EF-4F60-9C50-5C74E1EBF1A7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8348-2494-4A90-A3A2-9412AD4AFEBC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4331-D7C4-4FF1-903A-C2A0DEBFF035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204F-1303-46D7-852D-581496C3E84F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35280" y="764640"/>
            <a:ext cx="6408720" cy="11430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572314"/>
                </a:solidFill>
                <a:latin typeface="Gill Sans MT"/>
                <a:cs typeface="Majalla UI"/>
              </a:rPr>
              <a:t>بسم الله الرحمن الرحيم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258560" y="2636640"/>
            <a:ext cx="74293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"/>
                <a:ea typeface="Majalla UI"/>
              </a:rPr>
              <a:t>Prof. Magdy  Moh. Ghannam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  <a:ea typeface="Majalla UI"/>
              </a:rPr>
              <a:t>Prof. of Physics and  Medical Physic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  <a:ea typeface="Majalla UI"/>
              </a:rPr>
              <a:t>Office: </a:t>
            </a:r>
            <a:r>
              <a:rPr b="1" lang="en-US" sz="4000" spc="-1" strike="noStrike">
                <a:solidFill>
                  <a:srgbClr val="000000"/>
                </a:solidFill>
                <a:latin typeface="Agency FB"/>
                <a:ea typeface="Majalla UI"/>
              </a:rPr>
              <a:t>AA16 ( B4 )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572314"/>
                </a:solidFill>
                <a:latin typeface="Gill Sans MT"/>
                <a:cs typeface="Majalla UI"/>
              </a:rPr>
              <a:t>الضغط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TextBox 6"/>
          <p:cNvSpPr/>
          <p:nvPr/>
        </p:nvSpPr>
        <p:spPr>
          <a:xfrm>
            <a:off x="468360" y="1628640"/>
            <a:ext cx="820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cs typeface="AdvertisingMedium"/>
              </a:rPr>
              <a:t>هو القوة المؤثرة على وحدة المساحة من المائع، وهو كمية قياسية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5"/>
          <p:cNvGrpSpPr/>
          <p:nvPr/>
        </p:nvGrpSpPr>
        <p:grpSpPr>
          <a:xfrm>
            <a:off x="1835280" y="2133720"/>
            <a:ext cx="5905440" cy="4380480"/>
            <a:chOff x="1835280" y="2133720"/>
            <a:chExt cx="5905440" cy="4380480"/>
          </a:xfrm>
        </p:grpSpPr>
        <mc:AlternateContent>
          <mc:Choice xmlns:a14="http://schemas.microsoft.com/office/drawing/2010/main" Requires="a14">
            <p:sp>
              <p:nvSpPr>
                <p:cNvPr id="355" name="Content Placeholder 3"/>
                <p:cNvSpPr txBox="1"/>
                <p:nvPr/>
              </p:nvSpPr>
              <p:spPr>
                <a:xfrm>
                  <a:off x="3059640" y="2133720"/>
                  <a:ext cx="2439360" cy="251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F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pic>
          <p:nvPicPr>
            <p:cNvPr id="356" name="Straight Arrow Connector 8" descr=""/>
            <p:cNvPicPr/>
            <p:nvPr/>
          </p:nvPicPr>
          <p:blipFill>
            <a:blip r:embed="rId1"/>
            <a:stretch/>
          </p:blipFill>
          <p:spPr>
            <a:xfrm>
              <a:off x="2511360" y="3657600"/>
              <a:ext cx="713160" cy="107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Straight Arrow Connector 9" descr=""/>
            <p:cNvPicPr/>
            <p:nvPr/>
          </p:nvPicPr>
          <p:blipFill>
            <a:blip r:embed="rId2"/>
            <a:stretch/>
          </p:blipFill>
          <p:spPr>
            <a:xfrm>
              <a:off x="4736520" y="4529520"/>
              <a:ext cx="383760" cy="10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Straight Arrow Connector 10" descr=""/>
            <p:cNvPicPr/>
            <p:nvPr/>
          </p:nvPicPr>
          <p:blipFill>
            <a:blip r:embed="rId3"/>
            <a:stretch/>
          </p:blipFill>
          <p:spPr>
            <a:xfrm>
              <a:off x="5065920" y="2718720"/>
              <a:ext cx="2005560" cy="164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TextBox 11"/>
            <p:cNvSpPr/>
            <p:nvPr/>
          </p:nvSpPr>
          <p:spPr>
            <a:xfrm>
              <a:off x="1835280" y="4508640"/>
              <a:ext cx="1368360" cy="581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000000"/>
                  </a:solidFill>
                  <a:latin typeface="Gill Sans MT"/>
                  <a:cs typeface="Majalla UI"/>
                </a:rPr>
                <a:t>الضغ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Box 12"/>
            <p:cNvSpPr/>
            <p:nvPr/>
          </p:nvSpPr>
          <p:spPr>
            <a:xfrm>
              <a:off x="4378320" y="5445360"/>
              <a:ext cx="1488960" cy="1068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000000"/>
                  </a:solidFill>
                  <a:latin typeface="Gill Sans MT"/>
                  <a:cs typeface="Majalla UI"/>
                </a:rPr>
                <a:t>المساح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Box 13"/>
            <p:cNvSpPr/>
            <p:nvPr/>
          </p:nvSpPr>
          <p:spPr>
            <a:xfrm>
              <a:off x="6444000" y="4149720"/>
              <a:ext cx="1296720" cy="581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91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000000"/>
                  </a:solidFill>
                  <a:latin typeface="Gill Sans MT"/>
                  <a:cs typeface="Majalla UI"/>
                </a:rPr>
                <a:t>القو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216360" y="2732400"/>
            <a:ext cx="8720640" cy="391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Gill Sans MT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PHYS 104  (General Physics 2)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    Electricity &amp; Magnetism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"/>
              </a:rPr>
              <a:t>1</a:t>
            </a:r>
            <a:r>
              <a:rPr b="1" lang="en-US" sz="3600" spc="-1" strike="noStrike" u="sng" baseline="30000">
                <a:solidFill>
                  <a:srgbClr val="000000"/>
                </a:solidFill>
                <a:uFillTx/>
                <a:latin typeface="Gill Sans MT"/>
              </a:rPr>
              <a:t>st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 1437-1438 H</a:t>
            </a:r>
            <a:br>
              <a:rPr sz="3600"/>
            </a:b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Sections:     </a:t>
            </a:r>
            <a:r>
              <a:rPr b="1" lang="en-US" sz="3600" spc="-1" strike="noStrike">
                <a:solidFill>
                  <a:srgbClr val="ff0000"/>
                </a:solidFill>
                <a:latin typeface="Gill Sans MT"/>
              </a:rPr>
              <a:t>21767 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(9-10 :  A41 B31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Gill Sans MT"/>
              </a:rPr>
              <a:t>21771 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(11:12 :  A03 B31)</a:t>
            </a:r>
            <a:br>
              <a:rPr sz="3200"/>
            </a:br>
            <a:br>
              <a:rPr sz="25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976320" y="0"/>
            <a:ext cx="7724880" cy="18954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2"/>
          <a:stretch/>
        </p:blipFill>
        <p:spPr>
          <a:xfrm>
            <a:off x="1403280" y="1770120"/>
            <a:ext cx="5600880" cy="77148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4"/>
          <p:cNvSpPr/>
          <p:nvPr/>
        </p:nvSpPr>
        <p:spPr>
          <a:xfrm>
            <a:off x="6300720" y="1662120"/>
            <a:ext cx="30034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6</a:t>
            </a:r>
            <a:r>
              <a:rPr b="1" lang="en-US" sz="32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E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ounded Rectangle 4"/>
          <p:cNvSpPr/>
          <p:nvPr/>
        </p:nvSpPr>
        <p:spPr>
          <a:xfrm>
            <a:off x="1214280" y="1571760"/>
            <a:ext cx="7643880" cy="235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Units and Dim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"/>
          <p:cNvGraphicFramePr/>
          <p:nvPr/>
        </p:nvGraphicFramePr>
        <p:xfrm>
          <a:off x="2071800" y="500040"/>
          <a:ext cx="6072120" cy="6694560"/>
        </p:xfrm>
        <a:graphic>
          <a:graphicData uri="http://schemas.openxmlformats.org/drawingml/2006/table">
            <a:tbl>
              <a:tblPr/>
              <a:tblGrid>
                <a:gridCol w="1276200"/>
                <a:gridCol w="1400040"/>
                <a:gridCol w="1911600"/>
                <a:gridCol w="1484280"/>
              </a:tblGrid>
              <a:tr h="430200">
                <a:tc>
                  <a:txBody>
                    <a:bodyPr lIns="36360" rIns="363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NewBaskerville-Bold"/>
                          <a:ea typeface="Times New Roman"/>
                        </a:rPr>
                        <a:t>P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NewBaskerville-Bold"/>
                          <a:ea typeface="Times New Roman"/>
                        </a:rPr>
                        <a:t>Pref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NewBaskerville-Bold"/>
                          <a:ea typeface="Times New Roman"/>
                        </a:rPr>
                        <a:t>Abbrevi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Baskerville-Roman"/>
                          <a:ea typeface="Times New Roman"/>
                        </a:rPr>
                        <a:t>Ex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Baskerville-Roman"/>
                          <a:ea typeface="Times New Roman"/>
                        </a:rPr>
                        <a:t>P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320"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Baskerville-Roman"/>
                          <a:ea typeface="Times New Roman"/>
                        </a:rPr>
                        <a:t>Ter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or Vi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 or 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Baskerville-Roman"/>
                          <a:ea typeface="Times New Roman"/>
                        </a:rPr>
                        <a:t>Gi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Baskerville-Roman"/>
                          <a:ea typeface="Times New Roman"/>
                        </a:rPr>
                        <a:t>Me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Baskerville-Roman"/>
                          <a:ea typeface="Times New Roman"/>
                        </a:rPr>
                        <a:t>Ki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Baskerville-Roman"/>
                          <a:ea typeface="Times New Roman"/>
                        </a:rPr>
                        <a:t>De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=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xxxxx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Baskerville-Roman"/>
                          <a:ea typeface="Times New Roman"/>
                        </a:rPr>
                        <a:t>de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Baskerville-Roman"/>
                          <a:ea typeface="Times New Roman"/>
                        </a:rPr>
                        <a:t>cen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Baskerville-Roman"/>
                          <a:ea typeface="Times New Roman"/>
                        </a:rPr>
                        <a:t>mil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Baskerville-Roman"/>
                          <a:ea typeface="Times New Roman"/>
                        </a:rPr>
                        <a:t>mic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Baskerville-Roman"/>
                          <a:ea typeface="Times New Roman"/>
                        </a:rPr>
                        <a:t>n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Baskerville-Roman"/>
                          <a:ea typeface="Times New Roman"/>
                        </a:rPr>
                        <a:t>p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Baskerville-Roman"/>
                          <a:ea typeface="Times New Roman"/>
                        </a:rPr>
                        <a:t>fem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NewBaskerville-Roman"/>
                          <a:ea typeface="Times New Roman"/>
                        </a:rPr>
                        <a:t>at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Rectangle 4"/>
          <p:cNvSpPr/>
          <p:nvPr/>
        </p:nvSpPr>
        <p:spPr>
          <a:xfrm>
            <a:off x="1147680" y="29160"/>
            <a:ext cx="684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ome Prefixes for Powers Used with “Metric” (SI and cgs)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1213920" y="428400"/>
            <a:ext cx="77202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IMENSIONAL ANALYSI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 physics, the word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dimension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 denotes the physical nature of a quantity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symbols that we use in this section to specify the dimensions of length L ,   mass M,  and time 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1960, an international committee agreed on a standard system of units for the fundamental quantities of science, called SI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ys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 International). Its units of length (meter), mass (kilogram) and time are the meter (second):(mks units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r example,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stance between two points, can be measured in feet and meter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71720" y="115560"/>
            <a:ext cx="76039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system of units for the fundamental quantities of science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yst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è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 International). Its units of length (meter), mass (kilogram) and time are the meter (second):(mks units)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br>
              <a:rPr sz="1800"/>
            </a:br>
            <a:br>
              <a:rPr sz="1600"/>
            </a:br>
            <a:endParaRPr b="0" lang="en-US" sz="1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6" name="Table 4" descr=""/>
          <p:cNvPicPr/>
          <p:nvPr/>
        </p:nvPicPr>
        <p:blipFill>
          <a:blip r:embed="rId1"/>
          <a:stretch/>
        </p:blipFill>
        <p:spPr>
          <a:xfrm>
            <a:off x="1182600" y="1079640"/>
            <a:ext cx="7712280" cy="56862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&#9;01T06.jpg                                                      000454C6_x0007_smeagol                        B7464D7A:"/>
          <p:cNvPicPr/>
          <p:nvPr/>
        </p:nvPicPr>
        <p:blipFill>
          <a:blip r:embed="rId1"/>
          <a:stretch/>
        </p:blipFill>
        <p:spPr>
          <a:xfrm>
            <a:off x="88920" y="1052640"/>
            <a:ext cx="896616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771280" y="274320"/>
            <a:ext cx="4032360" cy="11430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Volume of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78920" y="1699920"/>
            <a:ext cx="87138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Cube of side L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) = L</a:t>
            </a:r>
            <a:r>
              <a:rPr b="1" lang="en-US" sz="3600" spc="-1" strike="noStrike" baseline="30000">
                <a:solidFill>
                  <a:srgbClr val="000000"/>
                </a:solidFill>
                <a:latin typeface="Gill Sans MT"/>
              </a:rPr>
              <a:t>3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Gill Sans MT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phere of Radius r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) =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11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Cylinder of Radius L and Height H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   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=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4446360" y="-214200"/>
            <a:ext cx="25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4469400" y="425520"/>
            <a:ext cx="205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dvertisingMedium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6" descr=""/>
          <p:cNvPicPr/>
          <p:nvPr/>
        </p:nvPicPr>
        <p:blipFill>
          <a:blip r:embed="rId1"/>
          <a:stretch/>
        </p:blipFill>
        <p:spPr>
          <a:xfrm>
            <a:off x="5796000" y="2852640"/>
            <a:ext cx="1512720" cy="81288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9" descr=""/>
          <p:cNvPicPr/>
          <p:nvPr/>
        </p:nvPicPr>
        <p:blipFill>
          <a:blip r:embed="rId2"/>
          <a:stretch/>
        </p:blipFill>
        <p:spPr>
          <a:xfrm>
            <a:off x="5867280" y="4941720"/>
            <a:ext cx="1008360" cy="64944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11"/>
          <p:cNvSpPr/>
          <p:nvPr/>
        </p:nvSpPr>
        <p:spPr>
          <a:xfrm>
            <a:off x="1763640" y="671400"/>
            <a:ext cx="5545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572314"/>
                </a:solidFill>
                <a:latin typeface="Gill Sans MT"/>
                <a:cs typeface="Majalla UI"/>
              </a:rPr>
              <a:t>الكثافة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6840" y="1773000"/>
            <a:ext cx="821844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  <a:cs typeface="Majalla UI"/>
              </a:rPr>
              <a:t>في الكميات الصغيرة من المائع يمكن كتابة الصيغة الرياضية في الصورة التالية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  <a:cs typeface="Majalla UI"/>
              </a:rPr>
              <a:t>وحدة قياس الكثافة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Object 2"/>
              <p:cNvSpPr txBox="1"/>
              <p:nvPr/>
            </p:nvSpPr>
            <p:spPr>
              <a:xfrm>
                <a:off x="2627280" y="2805120"/>
                <a:ext cx="3186000" cy="15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m</m:t>
                        </m:r>
                      </m:num>
                      <m:den>
                        <m:r>
                          <m:t xml:space="preserve">Δ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3"/>
              <p:cNvSpPr txBox="1"/>
              <p:nvPr/>
            </p:nvSpPr>
            <p:spPr>
              <a:xfrm>
                <a:off x="3138480" y="4797360"/>
                <a:ext cx="219564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7:22:27Z</dcterms:created>
  <dc:creator>Reem Al-Tuwirqi</dc:creator>
  <dc:description/>
  <dc:language>en-US</dc:language>
  <cp:lastModifiedBy>Radiation</cp:lastModifiedBy>
  <dcterms:modified xsi:type="dcterms:W3CDTF">2016-09-24T14:54:53Z</dcterms:modified>
  <cp:revision>164</cp:revision>
  <dc:subject/>
  <dc:title>Slide 1</dc:title>
</cp:coreProperties>
</file>