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9.png" ContentType="image/png"/>
  <Override PartName="/ppt/media/image10.png" ContentType="image/png"/>
  <Override PartName="/ppt/media/CAMERA.WAV" ContentType="audio/x-wav"/>
  <Override PartName="/ppt/media/Jungle%20Menu%20Command.wav" ContentType="audio/x-wav"/>
  <Override PartName="/ppt/media/image5.png" ContentType="image/png"/>
  <Override PartName="/ppt/media/click.wav" ContentType="audio/x-wav"/>
  <Override PartName="/ppt/media/image1.jpeg" ContentType="image/jpeg"/>
  <Override PartName="/ppt/media/image7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WHOOSH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  <p:sldId id="266" r:id="rId75"/>
    <p:sldId id="267" r:id="rId76"/>
    <p:sldId id="268" r:id="rId77"/>
    <p:sldId id="269" r:id="rId78"/>
    <p:sldId id="270" r:id="rId79"/>
    <p:sldId id="271" r:id="rId80"/>
    <p:sldId id="272" r:id="rId81"/>
    <p:sldId id="273" r:id="rId82"/>
    <p:sldId id="274" r:id="rId83"/>
    <p:sldId id="275" r:id="rId84"/>
    <p:sldId id="276" r:id="rId85"/>
    <p:sldId id="277" r:id="rId86"/>
    <p:sldId id="278" r:id="rId87"/>
    <p:sldId id="279" r:id="rId88"/>
    <p:sldId id="280" r:id="rId89"/>
    <p:sldId id="281" r:id="rId90"/>
    <p:sldId id="282" r:id="rId91"/>
    <p:sldId id="283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slide" Target="slides/slide11.xml"/><Relationship Id="rId76" Type="http://schemas.openxmlformats.org/officeDocument/2006/relationships/slide" Target="slides/slide12.xml"/><Relationship Id="rId77" Type="http://schemas.openxmlformats.org/officeDocument/2006/relationships/slide" Target="slides/slide13.xml"/><Relationship Id="rId78" Type="http://schemas.openxmlformats.org/officeDocument/2006/relationships/slide" Target="slides/slide14.xml"/><Relationship Id="rId79" Type="http://schemas.openxmlformats.org/officeDocument/2006/relationships/slide" Target="slides/slide15.xml"/><Relationship Id="rId80" Type="http://schemas.openxmlformats.org/officeDocument/2006/relationships/slide" Target="slides/slide16.xml"/><Relationship Id="rId81" Type="http://schemas.openxmlformats.org/officeDocument/2006/relationships/slide" Target="slides/slide17.xml"/><Relationship Id="rId82" Type="http://schemas.openxmlformats.org/officeDocument/2006/relationships/slide" Target="slides/slide18.xml"/><Relationship Id="rId83" Type="http://schemas.openxmlformats.org/officeDocument/2006/relationships/slide" Target="slides/slide19.xml"/><Relationship Id="rId84" Type="http://schemas.openxmlformats.org/officeDocument/2006/relationships/slide" Target="slides/slide20.xml"/><Relationship Id="rId85" Type="http://schemas.openxmlformats.org/officeDocument/2006/relationships/slide" Target="slides/slide21.xml"/><Relationship Id="rId86" Type="http://schemas.openxmlformats.org/officeDocument/2006/relationships/slide" Target="slides/slide22.xml"/><Relationship Id="rId87" Type="http://schemas.openxmlformats.org/officeDocument/2006/relationships/slide" Target="slides/slide23.xml"/><Relationship Id="rId88" Type="http://schemas.openxmlformats.org/officeDocument/2006/relationships/slide" Target="slides/slide24.xml"/><Relationship Id="rId89" Type="http://schemas.openxmlformats.org/officeDocument/2006/relationships/slide" Target="slides/slide25.xml"/><Relationship Id="rId90" Type="http://schemas.openxmlformats.org/officeDocument/2006/relationships/slide" Target="slides/slide26.xml"/><Relationship Id="rId91" Type="http://schemas.openxmlformats.org/officeDocument/2006/relationships/slide" Target="slides/slide27.xml"/><Relationship Id="rId92" Type="http://schemas.openxmlformats.org/officeDocument/2006/relationships/slide" Target="slides/slide28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dt" idx="18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5"/>
          <p:cNvSpPr>
            <a:spLocks noGrp="1"/>
          </p:cNvSpPr>
          <p:nvPr>
            <p:ph type="ftr" idx="18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PlaceHolder 6"/>
          <p:cNvSpPr>
            <a:spLocks noGrp="1"/>
          </p:cNvSpPr>
          <p:nvPr>
            <p:ph type="sldNum" idx="18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D081-77AE-4AA3-9948-82439E4E6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Rectangle 1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F9FF-C402-45E5-A06F-326F916C2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Rectangle 1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4B93-FF7E-4E63-907A-468060E8D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7C92-EC29-4CE9-83E1-7C2A0DC3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EB8F-987E-44D0-BE3E-8A78CF5F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DBC11-625D-41D8-8E69-B3B1220A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89C54-9C14-401E-B5CE-BDE521F4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EF577-1F14-42D9-A4E8-ADFE3D10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D2DCA-13FD-406C-A5D5-73BF40CF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D05DD-85D2-42E6-BAE4-B7253C33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8B740-A000-4DE6-BB76-7642234D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3BBF8-43AE-4B24-9C24-6AC1D4B9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630CC-12EC-47A1-8DE6-DA0C2B2C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7A0F7-26C2-4738-9731-36E8FA79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72FC3-241F-4FB3-8B52-C32E71E2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BE1-7742-498D-B947-2F420A7A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977D4-BAC0-441C-BA5D-1DDF032C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12A7D-B6FE-4CDD-9E15-CFD8CC39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2F8E5-F6DA-43ED-B13B-DE532846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B0941-2CBC-4F0C-99FA-466E6207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47509-F782-487F-824F-479E22A8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8AC6F-3AE9-4516-B1E8-B2F6EF5A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EAD8C-9AC2-4B4A-BD1E-98D8BA66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C50F4-381C-41A8-9D0B-7635AA02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1D7A8-741C-428E-A432-FD490404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576C8-5A57-4984-A406-BFE74C7F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80E-97F0-4966-8213-42470145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E2249-6597-4B73-A986-3C01F746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1C1D9-4C00-4903-86CB-2CC2B806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89E7D-1298-4803-8458-0E17465B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17CAA-5E19-455F-9ED0-9D003BE2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EBECA-2D6F-4149-BE5A-CB0A7AD4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ACE1A-4D7E-4D40-9D40-00620533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4B05F-0837-4C45-995A-8475BB5F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946B7-8FB5-4565-AA95-A68B00A7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15CBB-6F2B-4591-870E-33E90C3C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3E1A8-DB0C-475D-877E-CD7AF775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C6C0-1305-4C36-B5DB-B79B0B65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85479-4EE5-4E73-846D-E903760B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C93E6-A692-49F8-8332-4DBB7792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C5243-B4A8-48A5-A129-2CF579EC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491F4-BEF3-4DB7-8085-1F089404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A784A-ACB1-46DB-9077-DFCB6AC5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7E9CB-EAF3-4629-9179-E80437F9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98E67-1EA6-49E0-8C7E-1B12CE70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DC14A-CA71-427F-AFEB-813EADF7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5C6EF-729A-4076-8471-4107DD29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84FAC-4108-4F1D-BC79-020428B0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8448-B256-467A-ABA5-BEECA025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06514-24CB-4204-AF2C-06243870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E432F-9A62-4C2C-9ED4-56CCA52D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931FB-A915-40D4-916B-DC764BC1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A695D-B6DA-4F94-AFF3-5F6E028A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A1F91-99C7-45ED-A7C4-64DBCD3B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031DF7-738A-40C1-9B8D-370C86EB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60731-64EF-4DA1-BDB4-C4457B1D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CF4FB-A58A-4670-84FD-584A0A76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AC0F7-5AC1-489E-951B-0E59825F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6D3E26-8DC0-477F-9FB1-32B76059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674D-CAF3-47E1-A6F5-F00424CB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EE9DB-A189-4491-A5D9-C15129AF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8F307C-07B7-4FE0-AE03-F046A17C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52F28-C9A1-4EFD-8FDF-8833AB23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D5745-938D-421E-B576-905CC7F6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44DD5-A1DB-4AB7-8DD0-B0BDEA82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6A18E-039F-4C70-8735-0EF25B58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626F4-11ED-4EEC-8D86-A85EAFFC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F7A5E3-B3CC-4582-B0CB-ACEC7F20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C91B3B-5D30-44AE-9B95-50FBF705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F23EAD-E42E-4C6A-A848-9E0E7FA6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621D-AE06-4DE0-AB84-D7A5A186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7884C9-B021-4882-BD59-467015F6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E0FE17-2B41-4C8D-A73D-8CD25756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3F24A1-FB36-4985-9993-93EA7791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67B142-AED2-4A12-93E9-22D188A2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C7CE85-5780-44FC-BAF4-E945C0AC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E22202-2169-40E1-BBC1-D4C959D7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0A3C95-5D41-48F0-8578-3CDF1091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99934D-B3B1-4928-A03D-C88105F9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31F90-1A89-4456-9C75-216B4F17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607B14-8BEB-4F16-AF67-35536842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D63C-C7E5-4ED9-AA8F-C43225A5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C323D9-4A78-458B-9944-41205FBF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C2EF51-EB46-478C-80F8-EB081208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063982-D202-4EB9-B4A0-CFA0B5FF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3DC573-CCB1-4595-9FC1-91D5C70A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805F5E-DCF4-4004-9F58-DE84A660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0D82E-6FB1-42AA-BDFB-6714E964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EA389F-021F-447C-8FDA-4DDB71CF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9261F4-6EF0-4533-AFFF-905E8260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6CDAFD-6EE2-4BC0-9CEE-6CB33347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021711-E1CF-4EE5-A580-9F88EB80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9E1E-697E-4566-9FCE-8ECF6D15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8EAABC-96C5-431C-931F-374B0B25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C55F23-CCC2-4373-AD65-6E1D7AD1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06664A-BAAA-40AE-9223-1EEE3AAD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34286D-7FA6-447F-8B40-A20F72FE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DAC16F-3D61-4E0E-8ECD-34BB13CD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AE02EB-A121-476A-88F9-103C8F8E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366FBA-1F08-4FC4-8600-BB14B2FB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38D99D-EDE6-4A36-B940-9465C612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BDC607-795F-4553-8369-E98D60EC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A41273-413B-4612-90DA-8C63C727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D103-7112-4CCE-BF90-A35F132E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9EDC8F-2903-45AD-BD86-3DC7E42B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0743B6-C40F-4ECE-8EEE-EABA7520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6B9CF1-7AD1-4D32-A46A-48408DC0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278EEB-A47F-4A9C-B901-84959A14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294C32-F5DE-476D-9150-C35997A1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0933CB-FB87-43FA-B5A2-E68E4A09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C93868-9ACA-4214-92C6-B3B0922A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4FDA1D-7AB5-45DE-A6A8-906C8B8E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E3BD71-FFDD-4AA8-A24C-6DF40751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A2CA27-0709-46A0-9682-648C229D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4DE-9DC8-4985-8156-50468DBA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B4FE-BE65-4974-911C-4E013FDA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0566C4-CE3E-4BD7-AAC7-89B2FA7D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B24C23-DE22-409F-B17B-E922977C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C74453-1046-4C1E-A5FE-B4E3409A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7D7C0D-A97D-4DD8-9AD3-543BAC4F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D49C79-B5A4-4639-9A13-31776FF9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30DCC4-F0B3-4EC3-919C-2E048CC0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8AFFB1-ACF8-4C50-BBCF-C2D7B1AD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79231D-3272-4132-A1D7-4F7B661D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916157-4674-4672-A94C-0E8A36FF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3500CB-AB77-4210-9CAD-B7C68494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289F-FA17-4978-B27B-4CCD74F9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B8B30F-6D47-4479-AC83-20B2B2A3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AAFC91-4A89-4CDB-A081-18178AEA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4ABFA4-6FC2-44A1-9BCB-9630E415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A02F03-74F1-445E-80C0-75F41E81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4E031C-59EF-462D-ACBB-A330F251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ED20A0-DECC-4D7E-818C-9F9B4307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9D5D97-4743-4FF0-ACB2-1EBE7E0A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C7639D-F1C9-407E-9867-142469EE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C4BEFE-D5A6-442C-9C6F-21C7ABBC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3B12F1-2823-499D-A0DC-BE70ECF3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E903-6C90-43DC-AFE5-FC402AE6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66EEEA-06D9-40FC-97D4-97D4FCE4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FE0010-7401-470B-9971-785BDD6C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83074E-6140-4807-8A19-307E55FE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825B3A-C46D-4150-A852-271B8E0C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C0FC4C-8673-4B0E-8DCC-F2C5C434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B304C9-F605-4DD3-9D5D-8AD3060B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E451E3-0A24-4A21-8B71-E849812F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1B79F5-8F4B-46EA-8E8C-65436E9C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7DE797-5B19-4403-94AB-4E60D01C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CA48C5-E9BF-457C-AD68-250B4528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2CB8-7922-48A4-9E64-A699C06C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658F62-8E5E-4A01-8109-626226A0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D04462-F2DA-499B-B9C7-501F3E81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E7B842-7BBE-4918-BCC1-0EE26C57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061228-146E-4660-B2A3-B78A1D0F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22E12C-9E4C-4E00-B34B-15D25B8D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5C2212-1724-4A9F-8412-5E20A9FF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7415C1-8FA7-431C-BAB0-590DBD74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E5351C-717A-4ABD-8851-00F54333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889A4C-94A6-4092-9F8A-60596609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50ADEA-AF87-4FD9-BE71-121A9029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330E-E20A-41ED-9833-6FA34861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CD681D-D975-46C9-A979-94A11E16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329BD2-726D-4690-BF95-142BDD78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23CF77-523F-4C8B-A9F8-BDE6C32C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5D87DD-6C55-4109-AAC3-4D97EE68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52C863-F983-48F9-AC56-96FE4450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0A7098-379E-440A-840B-CE69674D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D4E162-5DE1-4A16-A55C-22FE435A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C3FF97-93B3-4946-84EF-5B7F598B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0147DB-2A94-4B7C-B54E-2023E4CB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9FC5ED-BF4A-4D15-8612-F1B1BEB8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815C0-C46D-40BF-B07A-C8561595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C7206C-16A8-4F64-8C88-F3291760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4EBC07-EB7C-4EF7-8D5C-93D73CB0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FF40B6-227C-4A05-91B0-03E4D95E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93DE5B-E2BD-4A69-816F-FD5DF61C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891729-F989-4331-BBC2-06F0D81F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A70806-6E3D-44FA-AD03-E230B43E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780E6A-1CCB-4BDA-A4B3-FB6273B3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99DFC0-ECE3-49A4-B991-61DD26A5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B37D4B-6811-43AB-A32D-B3E1C5F1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7E6041-B5E5-4037-A504-39A06B3D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CAC57-52AA-4E59-9F52-EBEE84A3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06FAF5-ED17-446D-A4D0-E0B8F718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133C7B-2D4D-4DD0-883F-FE037240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5D62DB-E64D-4F7C-80A3-421DA53F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DF3FAA-FAB6-4616-9FEF-D97E2697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22BB8F-1CDA-414A-A7B6-14C97A30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B97CEC-7B18-4CF2-ACEE-862D2DB0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A91EB6-B2AA-4F18-987F-45AC7AC6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28A073-4332-4A3B-98FD-C3A5B4F7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B927DD-E5E9-4585-9267-20BDB8BB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0D655E-9ADD-4C1A-A487-A0466716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6F4FE-8D79-4275-A6E3-3478DE30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7DC161-D979-41E3-A09F-B9B07909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FD3779-CF3D-4B3B-905A-97C9C648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C42C40-C9F7-4CF3-AD8B-FDD743A8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6744F0-F92E-4E24-8E6B-C223C181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2E539A-7F2C-41DC-ACA4-4E787E57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1FDD5E-46DA-48FA-ACF2-1605B684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B93A3D-D338-493E-BCE0-56C3B18C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A208C9-D6F9-467A-96EE-1E8BF6D9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38A2B6-2EFB-4252-96F3-F04CB548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398E8A-B26E-402B-A62C-A5DFDBFF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21EF3-F7F4-4B84-84B9-0D9A8F28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D1ED97-976C-431A-8F92-3B26179F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54B2FE-37A3-4890-99BD-61463D0E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23459F-CE5D-4429-8FEA-C77427B8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E69145-E9AD-4CDA-A9AC-71A0E0AB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F8F4B2-9C4C-4561-AC02-AEF59D61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2311CC-0E16-4F16-A705-25F24C76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F516FF-421D-446F-81CB-C4CD7A90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2142FF-8890-4214-8B49-F18EE315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B9E6A5-11DA-446C-BB44-F535FB6D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DBF384-BEA2-47D3-89B2-A5076476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9F0AE-E3DC-4203-8331-DF0BA65A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FD27D8-D560-49C9-97AC-81CA1133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244B5E-E94E-469D-9439-516DFBB3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1C168C-759F-4E4C-B50F-A556E9F1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B2D6E4-929D-44B7-B280-5435C936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A1EF28-06D9-4737-B44B-7DAAF067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9697AB-7CFC-4597-A7E3-B11210F4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125B62-C7F0-4DDD-B6B7-EBDC2C2A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DBB921-84AA-4428-B00A-5184F0B8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D9B6DE-607A-4B8D-8B02-DFF88BF3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60B41D-2858-4578-852B-CF9F07BB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FA7A-060E-4F1F-AC94-4817C5EB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10216-839D-4112-B09C-24DF4E34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4CF97D-C411-4D13-B77B-B4129B1F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1179FF-E539-481F-9E28-398B3F7A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662380-39A0-453A-BA83-E6AC5477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6F5E87-661D-4978-ADA7-838821B3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3238CF-AF2A-423F-ABA2-62D4D66A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438DE7-D5B8-42A4-B6E3-60122B69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FA78ED-B41B-44D4-A685-5E971271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9C16D5-B2FB-4E0F-BB96-6F557B59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BF6535-0918-4CB2-AD7E-5146A8CB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98FEF6-4ECF-463D-8128-B2C1542A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B1C45-6213-425B-9EFF-416CCBF1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BD2B83-EE4F-46D4-A739-21A01B86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284344-9A1F-4D2E-8B8A-CD578FBE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4B1B90-D28B-46E8-9C6E-8E62405D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B6E2F3-83E8-469E-8EC1-357A9CEB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E85AAC-C381-4A2A-B6B0-BA2E6842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3E86E7-417A-4051-A1A3-E05A5F11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1FFCE3-792F-45D3-9B21-36C09838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1218E9-89C6-4827-B42D-44077819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EC4DC6-4DE5-472A-9B3B-0BDF539C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A3E90A-1421-4D30-BCCB-4DEF06AA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FFECF-6AE8-4275-97E1-B698890F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E421E6-9DCD-451D-90C7-55A8B237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C73CF4-3F74-41C3-B37D-2447B4CA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F0E76F-FA45-45CD-A31F-3737CABC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239A74-113C-4BD2-ACA9-F6180B45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87557D-55ED-4B09-AD31-BB77267C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C9FF0F-097E-4324-AD34-08D7A8E6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1C3E5C-293C-4298-B8DF-697BCDDA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98CCBB-205A-4DAB-BED6-15DD4897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A72394-4689-430B-9625-151FC0F8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71475C-6AD1-492A-9FD7-5E6DA1BB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F0191-CE5F-4BCF-9F19-87C1F429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06A2AD-9235-4618-80FE-5EF87E73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487BA9-5D7E-46B8-8EB6-80765370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1FEB28-94FC-4DCF-9FBA-67E74951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C9C543-E900-4679-9F93-821E0E1D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B1CEF9-1F10-44AB-B135-FECC86D7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57148C-CA5E-4820-8567-16E8CAAF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3D38FB-DD79-46EA-B2C5-8174FE45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EA7F29-3617-4A29-82E9-4FE9B5FC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DC44D3-F9D0-4A96-B7B0-04482910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C4ED82-494D-44C4-9C2E-986814ED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31C7C-4431-42BF-910C-17C06E8E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DCA2F0-2B11-4EA6-853C-670F8BE4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6A2A4B-60D1-4885-B883-5B3753B7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D295DB-46ED-4A94-8BC2-F3147AB1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324266-B674-4D1F-BBDC-01D8C295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F6D24B-CB63-4672-B5E0-940BCE48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8E1D0E-F037-4DFB-B21E-8E3C9F6D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B1F44D-FC46-4FE8-B801-9E2372DB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B1731F-87B2-4081-830D-06C14EF8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43D569-9CB1-46A9-8D40-148C5FE1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167E24-2CA8-4B92-9289-6FF1331B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8BE9D-EAC1-4BDC-89A3-EF488940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C7B66E-2DBB-42B9-9078-69C5B911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03AF323-33A2-49EA-A49E-E53749B7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F86B48-40BC-4485-AC21-B847165B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1B4FD8-8F83-4E87-914A-64F18759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D130D8-9639-4E62-8CA2-1BE1D897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0A7A44-2880-4D15-9586-005CF0CC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4534DF-73E2-4BDA-AD3C-84C1F7AE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B7FB04-DAA9-444E-A5FF-03805BD2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3A7C33-0D3B-4C1E-96A1-F59C93F0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6BF570-94AC-422C-83AF-58597CBF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7576A-2D7B-4015-B5E3-4008C7D7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EE87D7-25AA-4F38-9C41-5C086A57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702D80-A69E-43C2-B780-E6989EE5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6879A7-3F8F-4DEA-BCF0-DF57C1F9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CC6274-35A2-4A5C-ABD0-2E4F2FC9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379036-7103-4498-82D9-80AEAA34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D9D532-0CBB-4029-A446-D3D0DD62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922681-42E4-417F-8B91-DFCE93AE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E3C483-53EF-4DF9-8503-69686FC1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07D0BE-C3B0-47FF-BBA4-EF560F50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384BDC-CD03-4867-A4A4-63DB013B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70FC6-80B1-431A-BEF2-3C1361A6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A2F746-60BA-4E3F-8800-2C405677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C71274-DF39-48A4-BD9D-ED46E01C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0F92FB-F581-43E8-9422-4E4CA3C0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5524F91-1012-4467-9297-31CBF9A2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968E89-E56B-4585-B79C-C6005B6D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FE64E9-0E8C-4193-B92C-DEFCB875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A54C8F-5A63-48B1-B47E-5461E056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06FE53-EB61-4F13-8025-BE40242F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570C20D-7244-460D-9B29-5CD0F6A2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6483F9-5DFB-4675-A18D-3955A52A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5DE11-B9B8-4C36-8356-2FD2824E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6ECA8A-165F-4D2B-BD01-9D449673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5582C0-13D9-4951-9EE6-FBE8E565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CCBF83-7F00-4986-B98B-C9A8B210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3A867AF-D2BC-4588-B9CD-90381D02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8B0793F-4E5B-4661-AB0E-9A81666A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AB5C38F-5959-42D5-861D-076E6B08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4B550C-3A1F-4973-94F1-521DB705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5345382-3DF0-4005-8A22-E4864577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A36A9A-1BC9-46D0-827F-F8D6E70B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3327FFB-EED3-4A4B-B7A9-F14A29EE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00230-81E1-454F-99F1-AD44F9A8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E3C72F-0BA6-495A-8141-F4FCC603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8DFD50-CBA2-4119-A01F-E055E669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079B46-4A94-4659-85B6-25C010F6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37CC22-3A3D-4144-87C3-54C45C5C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1137C37-DE22-4216-A04E-38D510C9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376353-5739-4B5C-9671-639C5ACF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FF4E4E7-B522-4AE8-BAAD-FB65F456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A89C8F-10A6-474C-BED6-628E108E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3709872-2139-4761-8D8C-32A531C5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2A054B1-0BA3-4E8F-BFBC-24D92048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3178-CB44-456C-B212-E70B9D5E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7921E-9809-4277-AC53-317B4894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DF6B4B-7451-4CFF-9438-F28D97EB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CCCD7A-E1D7-4A9F-9507-04BA5E17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2F4142C-5D6E-4E2F-AD6D-F4D13DD6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DB85D8-5F6B-4A01-BC1B-37E8AA98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D58DC70-3F52-4868-AD40-ED86A935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0D7FC2A-C6CF-4331-AEB7-890B6AEA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3CFEDB-4E6B-451E-B2CA-8547F5C8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685AAA5-B87A-4FA0-B63E-D7CBC71A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75AE12E-40CC-4D3F-B046-768F356F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06D7FDA-B635-4FF0-ABC4-4C6868F0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E6D8C-6D0A-4CD7-9B86-AFA0A980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4390BDF-F0E0-47EB-AE6E-4597E841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E5CD5B6-4C26-4F1F-8EB6-A328DEFB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9695F5-72B2-4B2E-BA61-28F34964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1C41173-77DD-412E-B26C-7D55CED3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B821A3A-FCEB-4928-B3BB-BE0481EA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B3CCB03-ADFD-4568-A1DE-9F5A54F6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F5CF221-C101-4F76-BE32-AE3BD211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C9D3541-3D62-41E4-8D01-D4BFB29B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CB96B15-A8DC-46B7-A273-9103A90D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E3A15B7-EEA8-482E-BD1F-9F57F4CF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B473C-17BB-4781-A42E-59AF870B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5D5C5C1-4A9B-4554-A415-C87B2341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354579-982F-49BF-81B7-CF674960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9AC7543-28B5-4CA4-AB70-7872C60F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44CA6C1-E4B1-4AEE-9588-AE05C9AE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851EFE8-4A98-4475-928A-E515F73B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76A273-AC3A-4836-AA2A-8BE0C582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58983E2-B02D-4BDE-9D8A-B0465353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8661AEF-CEAE-4B5D-91EB-F12F91CE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93E1892-12DE-426F-810A-FB17742C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A802C2-3FAB-4C61-9989-04B81F77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3D90B-5D65-4828-AF36-C25A12FF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1880E15-4C7E-4224-A05C-400A504E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64A5FA5-1867-48CD-A3B3-EE5A5C9C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70E788-CA05-4732-A429-3A9B884A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6FBFF2D-97CF-45B6-9890-92CF5325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B61AEC0-5F26-491D-972C-9738E85A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B7B314D-B82F-411C-AF13-65BDD8C3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0CE9B5E-406C-432E-912C-E3D140CF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9C3BC2F-8C56-4888-9259-609E4922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8D37A8D-2480-468E-BE13-FACE1ABA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0953CF6-6B5F-44B3-A3CF-CCC07782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423F2-F883-4CBA-B972-E08116E8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37D67A0-CB6A-4644-B8CB-07EC03E0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447292A-5AA6-41ED-A947-6C01E29D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8C086FA-ED21-456F-9FC1-0C6B17F1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AAC6006-0BE4-4A88-9050-053F55ED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8A7702A-348D-4584-903B-603FC8E4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2743759-F82A-4A68-AC14-88707374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DA9845B-302C-468B-88BD-52D7676D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038F8D-0441-4806-815A-A0E1188D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BE64F67-59FF-44DB-B734-6C5EBBFA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7ADC112-F31A-4459-B1CF-E87D2F04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33D5E-15BF-46E5-978C-70ACC095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4945729-1D04-4426-8342-EA2CA6E3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3741D01-F607-4A1E-9492-BED0C276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2F63018-A8E5-4A59-B258-21009860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87D4DAA-5623-4A16-8BC0-67F14212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E675FDC-28E2-4B28-A778-5504F8CA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AE037F5-6C3D-4F71-8DB7-6D7BAACC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0DF1B8A-7D14-4047-A9AF-D39F441A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BBB23D7-95DC-415F-A011-B7C01C6D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438384A-9A22-469E-96D3-8BE748F9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56AD3E1-1D32-40B4-A9FF-4A9BCD15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C6787-884D-4F35-A75B-3B90C251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962916C-F414-4FAB-A8BD-9E7CEE29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50AC78E-C185-4E36-BBCE-A85722E9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E813737-DFF1-4014-B86E-1FAA5B6C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D46A7CD-5BB6-4433-BAA2-89B88D2E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591D131-C923-4CCD-8DBF-682EC725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4EABE59-1759-411B-8D27-7A03CEA3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C0509A8-BAC9-4745-AAD5-7274AACF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1ECF281-1697-4D8F-9836-E5024181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B7BF822-E25A-450C-9E37-501F605E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C3A1807-6591-4226-9608-52B50D98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A276D-A2E3-4A16-A1C1-395BC55A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2132007-F5FF-4353-AE5C-9FEB0E4E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430C14B-2B13-4714-86BA-8AA77E16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5E3060E-689F-4C56-954D-8A45A7F8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36D6088-2C14-4C45-B368-F73343C4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8773900-CFA4-4D21-A9C8-FC843AF5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8961927-2DB2-4255-8B3D-59C86AFF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2A3BAA0-154B-43B5-B02C-25E276B2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C7370D3-0D7B-4F4A-ABB6-37F1C4C3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D2B84BB-FE1D-4E4F-806B-39CAE4E3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F8A0766-72DE-44E6-A1F8-3BA17568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C2C37-669C-40DA-B3AC-9E15C599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20C2956-AA1F-41EC-B2EB-19AD10D1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0C17FDF-0E1B-4FD7-AD37-ADC893A4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1F4DC3E-1D7E-48D1-967B-59CA7531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379138C-5052-4E17-99C6-0BDD899F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E0683B4-0AF3-436D-9967-1C7233F5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C95142F-9B9D-45CE-B042-059C93BC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81C18E4-161C-4FAA-B061-C7210C6E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DA93085-265F-4CC1-B805-1B429538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37CE210-B439-4398-A063-A69F2E8F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CB20079-A057-4E3E-905A-1B7FD0AF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4DC04-5BA3-4070-81F9-8CCC460A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91731EA-E727-492E-A089-B6776CB1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76CB705-5038-4E07-A67A-7EFDD22F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29EAF93-0AA0-463D-871F-CC7EF96C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C33E09E-363E-4210-8BD1-16FC82D1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B4483F6-EFFA-48CD-A5BE-83554D52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A08A6A5-29F5-4624-8814-B4554182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C044FB4-086D-4C09-943C-16493A2A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142D47C-3391-4D5E-9195-E9BF1736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47A8841-7D3C-4D1F-A661-E21D103F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2662840-7135-481D-AA65-ADB5CBB1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9D3-EFAF-4117-A70A-2D6CE08E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C87CB-0CC4-4F2A-AD82-CC68EBD1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8D61A24-28DC-49F6-91FF-53984992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10E6408-3DCC-4AD4-ACD7-D60F6DC2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FAA7388-73DB-4A47-99A4-7312B8DA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2C9911E-A842-4264-BE6C-5B1DB537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D971D73-2733-4AC3-9A73-7574E660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9944612-6E18-4147-9DB5-6437C838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104C978-EC2F-493D-9387-C03EEC6D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53601C5-4512-4892-AABB-0082AA07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8CD6596-C522-4E7E-8172-677646AD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84A234A-C665-499A-AB77-7876D620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EC68E-952A-445D-B770-6370E9FA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DB4D034-A01C-434E-8F45-92A4EC54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E232AFB-2A6E-4ACB-B057-F193243E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D8359FD-D402-4C6A-95DC-4EA4250A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5F018B2-337E-49DD-B569-9F81CA60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8924D95-2B52-4606-81A9-06BF49AA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25DF2DC-CEB8-4198-95D7-92DFB261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69E57B9-6A80-40CE-A6DC-1319BB50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1FA5121-ADC8-42EE-BB91-79221E33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F93299C-F66F-47BB-859C-1C0D9608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40F11CA-7964-4E24-AE40-B0DBCECC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B0F92-15C3-4EE8-B5EC-00B315A8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A8D451C-9B49-4317-BE1D-5B542496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AC225EE-BD2C-4FBE-9EDB-0AF78F52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FA000A9-1F20-460C-A035-CD71C991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722A300-0FDB-42E5-A52C-E7B794DA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58B5B2A-A321-4740-89AF-D34D8B99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AED710E-6E15-47CE-84F7-7721296A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4BF924D-891C-48A3-8B58-08707C0F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4823D0C-EF46-4520-8CE6-DDC991B8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33B6513-8DA2-4944-AE57-B43405B7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7DC51D7-F786-4191-B13B-BBA03D88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2449C-CE82-4FEC-990F-CD0388AD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3D3F9CA-B34F-4665-9993-26C8A861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64355CF-369A-4819-8949-FC7DB78C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EB83E08-CBB7-4B5E-9C7A-1EE48C97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1B231E2-E441-4B0B-81AF-DA8B1DCB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A9F1DD8-0D4D-4C9F-AEB6-CBE1E370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63E99CF-2798-40E0-99DF-37A95068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43EC756-C9D4-486B-9081-000F3B09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1672B21-761A-49D9-B253-5D2B68D0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8046FF9-535C-4F29-BD48-6F453D51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E26C2E7-A918-46F5-B9D0-8069FD20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8887D-869E-4469-AB67-F57D9144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F2C238B-C1F4-4021-A10F-4F422347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297CEA4-A794-4C0F-9ACE-78C10A86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DC0186A-A684-43CD-A2D7-0686F333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F4BD153-AC9C-467D-8A7E-85055862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87490F7-AC0A-459F-BD90-B97E0327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E7622E5-8D19-4552-8E2E-140A65DB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7F1CACF-3229-4980-B193-54887C25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70F8767-ADAB-4642-9A4F-4250E0DF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45EE128-A1DD-48A0-B61B-D4338196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BDCFAB2-3F3F-4BEA-A2B4-04E2FB9F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A6644-D14D-4AA5-B04C-0DE0A442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1D54C32-6FEA-4B7F-A896-975EDE01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E203CAC-11E2-4BC1-AB33-05A8DF8D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FF81282-368C-4BE1-8863-FA822BD4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83BB643-6DB1-4873-9829-7F0C671D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989D6A5-2ABB-4EBE-9CA1-FF5DDDD0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0F5F10C-F0A6-42F5-BCF6-7BC1BA2E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A1D9C10-9CF5-420B-BF92-E96AA04B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D092A84-90BD-44E2-9C69-EE5254AC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50FDCAE-20DB-418F-B6D4-19AECE4B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1AEF2F9-12E0-40FE-879D-C121EC81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49162-884A-4804-B9F4-24690452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A51387C-4D48-41E2-A64A-724CD87F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22FA5D7-0D04-41A6-BBE9-17AA6E8A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E1C2F26-9CD3-4630-9176-135BB776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3ED34DE-5D9C-4A1D-81E6-ECCC200A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17DD47A-ADAB-4547-BD99-13AD9CF7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DE472FD-6A47-449F-BA0C-5A9BF642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40B1653-6EA4-4A41-A071-4E10BE4D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4F94008-0EBD-4B7E-B211-D3F15D58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87EA572-6B99-4BD1-A3FE-37B8104F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5244389-A758-49A0-97C9-F4E618B0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D1D72-3DAB-4368-A4C2-252481D0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B5D0527-B962-4BBF-A70C-CF155CAB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6318993-FEF5-48D0-B998-579EBD49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FA954B4-0C9A-4CB5-90EE-A765BEBE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F289B40-E832-4F63-8CCF-A5948300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2160EC5-6C21-40CE-88E7-406407FD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0A3B1E0-5CB5-42DF-BA7F-3E3466AF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D7555E6-F3AC-4137-B5FA-437DC68B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CBAA3C6-7C0A-4197-A5EE-7F903FAB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C9EB3F2-BFB6-4E36-A0D5-7EBFA804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9DA070B-058C-4803-AF8E-2B973D99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BA03F-105F-4857-988B-0389746D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8C7AC1E-C82D-479A-B6BA-D517E5B4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6328F8C-145E-43B0-A20F-F1F535D6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4902CFC-A39B-43E5-9982-E23D3AA2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BCC7CF7-128A-4960-AFCE-F567BD7D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65643DD-3E32-4D9B-A6C6-D55BE3F1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B2ED54D-8A23-4C2C-AA09-158440B7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6A6B906-5D39-445E-BA1C-3559B487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CE85AFA-7CB7-4A9E-B1D2-6A3495CB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D802B4A-5028-4DDA-B4B3-216AA22A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8047784-DEED-4D60-AFCE-7891E92D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B6C86-BE7F-4115-83CC-4BF31885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C49F1CF-C4A7-4CF2-BA80-F6053F2B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571A4AD-CCDC-48F2-B932-282542EE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12040A8-659B-4B0F-806B-D60BA53A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11099D3-F3CC-42CF-A50D-0DE6068D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7035180-4EFE-464A-AEA6-2E0CB9F6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E9A83D0-7AA3-4D8C-ABF9-0FA3DE1D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D7D1669-021E-49F6-8D73-216AD50C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1649294-E025-47DA-AC73-ACADECAD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9C455E1-31FB-4DFF-B2B5-AE72C3F6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865545A-7DDB-4D23-94E0-6410A768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6AE-1084-4DA2-9776-2B928E51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5B9FB-12B8-45CE-BF13-DBCAA0D6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8F01AD9-6118-402B-8F5E-3585D1E8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ADC4E94-DDAB-49E0-B295-E2CC73FD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6028CDE-F0EC-4120-B188-CB1E3374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B8D2FF2-0BB0-4119-84B0-0A3683D7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56C55B9-1C10-4E0F-B1DD-B72D5F7D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879C3D5-3C3E-408F-9CB7-C953BF8B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FAF37D6-63E7-4D74-99EC-A34174CC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65B2DBB-C73C-452C-9B0F-7239C333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6695080-7989-4EB0-9430-073F5EAC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A4C7B93-1EF2-4A65-A53D-CB89F2CE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2ACCE-6EA3-41EC-A78A-DEFC8618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3EF58F3-A0C6-43DA-9CFB-BC8C42A6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81BB174-1FD0-4BDC-83FD-CEB568B5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1BBFC43-40C7-427C-A89C-68C0043B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1D17951-BD34-4A12-8F8D-F08F1015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2505632-C41C-484E-B898-64DB40B7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E12F45D-C433-49D4-9279-D92899FB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7F4A97E-078F-4293-BE94-133F5E77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B852D5D-1C0C-4DB0-AD54-02957BCD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625DBC8-F0AD-4C5A-9D7C-4BED0B03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E549FA2-7DED-4D5F-855B-6849AC94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14EFB-C325-4354-9769-6490880B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EDF421B-FFA4-46A3-9000-470B1301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B9ABA95-737F-4706-BEE7-25CADC55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BC5FA71-FE2B-436B-B4E5-27D904AE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BCFA14F-C49B-4A93-AF41-1A7CEF0C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E85705F-5C8B-4B63-8202-73E6B6B2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08C6066-5260-4536-966E-C39C3C55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2E4B0BC-77C1-4E5E-A7B8-ABD577A9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49776D2-2B01-465F-9DC8-96C8E949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F545EF9-659B-4DA7-B2EE-8C33E86D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B5FAEF5-3DF2-49DD-9BA1-9BB5A26E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A67AA-121E-4433-BF12-A6A1DC4D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B2B3343-7F13-4F74-87AF-FB21E77E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BA0021C-92DD-4A9D-8128-537EF2BA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E2E089B-C1F5-42A2-92B4-ACE43615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B88A1F2-4B01-427B-A432-CE831779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DB31367-C999-41CC-8486-1D28B023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D40F39D-223D-46FA-82F5-0EC4A221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D12EFE0-D75A-44F6-B84E-E3759DDA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27A5EF2-84E1-4020-9114-284A84C1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99DBF4C-D3CA-4760-B31B-5674FDE6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68E9F1A-6B12-4F40-914B-18F23169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4DC19-BA26-4234-80EC-C016F6F2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170AFE3-1E8B-4A67-8192-D4AF8A46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FE516A0-3B0C-4CD6-B8F4-8B393554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18C2AA3-9B9B-4FE1-B045-2478DA16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4EC89BC-FAED-49BB-97FA-52063F1C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EFE2ECA-E097-480E-9DC6-FFD1B59E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65C2250-E097-42DD-8F90-3D9ACA22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DEB71A1-B6C7-4C53-8754-C6B3E860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5815940-BE33-47DC-B03E-96D441B1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D4F3A17-AEC7-4CFF-AEBC-96CA3B91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C6F0423-EA6E-4786-9B7C-16E6A915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ABB67-CA55-46E2-AA37-6781DD62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447BD95-5730-4EBB-977F-F26D97FF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A586014-2087-4622-9046-0C694C04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11001A5-A0B4-4030-B38E-7F4B096A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3DF9C7D-67B9-489D-B819-9709C64E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FDFE84B-7900-4E69-9FAC-E34393C7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71DBED7-E52F-4F98-8AE2-0B0C2ED2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04C5287-A54F-44EA-8891-0D9C55CE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B375A61-479C-4A45-8134-8E8B2BB4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364FD9D-135F-441B-B9E8-4A34C322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F80BFCE-B13F-4EE1-ACD6-D73B56E2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BFA28-3F27-4D41-8E69-19D21F18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5F77CAA-0650-48D6-9FFF-4681A1D7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C23E2D2-E852-4402-B2C0-8F0DC9DC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2942792-E4D8-4B36-93A7-AA87315A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52E4A18-A222-45B5-8F23-74BD23A7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3926B76-C55F-4070-9685-9090A1D1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7C67753-B7DD-459A-9B4E-A1AC3C6A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491A67B-028D-4A46-8E12-880DED9A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2F13D57-0050-49C6-BAD0-AF0FBD16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F6714D7-22D3-45C7-8817-24F9C615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E82B4E1-A6AB-4442-AED6-84D1B892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50523-BF45-4282-A0F8-1E7DC119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D9A5F9A-419F-4870-91D2-B445F00F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481381F-40F9-4336-806A-A816DFC7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AE8484C-3093-4AF2-9615-6D901F25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FE77E87-476B-48DD-A3A3-F3A300B9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DF739CE-B443-406C-B49D-D3000F18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1910A06-8C21-4453-A3CF-643AD6BF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8BDDC37-7B97-43D7-8495-DE773BC2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42C8CFA-C32F-49D4-83D9-15A30760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4540965-CB32-4E07-8BD9-CFF6D42D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F8AC68B-D2BD-4FA3-8485-12C71DFE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8DE14-7C4F-4C6A-95D6-1C99D3B3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C8979D0-28A8-48B9-BBB9-F1B6CF64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1B11543-CE01-43C0-994F-735CF889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E437F37-250B-4CDE-8654-448FA924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2411877-0E00-4D94-A315-599C893A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4C9C774-1F2A-416D-A544-D2050F4A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59D7E5F-0906-4DBD-9599-267C019B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3E26D03-DCE6-43FA-BD32-FB9B6CE4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D44749F-84C5-4F16-8247-1277E6D9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2B0A8E9-C41D-4401-9AEB-6E6402D6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A3DFD78-FFDE-4579-9E4C-63DB7A7F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53F11-6786-4C10-B955-4B7ED572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C542AA9-CA7E-4FDC-BFF8-7D4D9C29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AF6AE83-5FCD-40ED-ACAB-5612E346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CDC5FBE-10AD-4D2D-92D9-562B56A7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1653FF7-A50B-43CD-802A-59981F33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079850E-30B4-4720-8C4D-D83E643E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E3C64C7-7EE3-4E7F-BFCD-729184F1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D5130C0-5C2E-42D7-8BF8-189056BD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77AECC0-2C86-413C-B0AD-6C0AAA84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07FC379-AC5E-44FB-9C51-2553C6F5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8E7D618-1349-443C-8404-A972E5D2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F8F4-2E94-4323-A600-B75EFCEB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0D396-F11C-4C33-8B11-34BDFC7C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49E64EC-46FC-4385-8F39-3E31FC51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B6D35F8-536D-4E58-A3EF-E00912BF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D1FC035-838C-40F6-9E4E-B53968EC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7FAD5F7-E67D-4216-9E61-969F2AD7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1716869-7993-49F0-8CAA-2AAD1F76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18DFE44-DC5B-4816-AB48-6DA07C5C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5719476-4EA5-4CF6-B68A-17E0EDAB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031A97F-9490-45C8-AB75-441F25F5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67B6BDF-CEB7-443A-8109-04FAA182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AB7061D-53F4-45EA-8F87-B6408345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9BBA9-AF2C-41D8-A7D3-99376E8B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E9F7E16-B2F6-4DAB-95B8-5961725F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10BEE5D-C4C1-48B9-B85E-7D5A9A43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C783160-5827-40E2-96B2-F0250690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D560FD8-CE6C-47DA-A4CC-0492C378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132F5CD-99B2-400D-9653-93171461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4EDFFA9-E6F0-400D-84EB-44AC2F4D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F80889D-00AF-41C5-9746-B3755E2D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7420C6F-9F97-4F3C-BBA3-550D0C3B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0C7DDBC-F831-41E4-8A5D-638DF87C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A599CC0-C74D-45B5-9E91-E525534F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5961C-D82A-4FA3-AF16-D327FB07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ADC4D51-7BB1-4616-823F-AB411164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96B3FEA-E0AC-4A6B-A278-3A10EC00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1578E84-A614-4856-AFF0-C434D5E2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C9CA177-FFF7-4B81-A97B-7B8FD0B6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C96DA9C-737C-461A-879F-92515CF6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F75C26A-7932-4458-8A5C-B1266BAE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6CD843E-1E8D-4BE4-A615-077E4365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CA24D05-4477-442C-A55F-1D51D6E4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A1FE0CC-E23E-4810-8E4B-402A0A73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A0BBB67-9A9D-4517-A94D-9F8FF8CE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4C59A-2D97-42C9-B75D-F7C5C8BB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3F17D3D-3DA8-410F-8B9E-760F02E8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D9E041D-3B52-4CA4-B6EE-039AD49B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78873FA-0D93-43BC-8BB4-93BC69B4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2C38726-36F4-4E83-A752-684D4AF1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D533BA4-A08D-4624-8491-2FCA6A4F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87DCEBF-0004-4CF0-8464-9948FB71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84EBF7F-BBB2-452D-8242-49F8C34C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C48CBAC-6EFD-42CB-A8DD-7AC1E9F2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EC7379D-E382-4FEF-B158-597449A2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997001F-F4D7-476C-BB92-E1A5768A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D263E-D7E0-445C-89EA-F493E8F8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53E6A88-FC47-480F-98BD-D683567E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146F72A-E11F-4FD4-AC40-4A77533C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D04A8DB-4FC1-4C27-871E-8FD5A4FB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A9A77E2-E87C-4777-8C50-5B3B512E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64C0F2A-2B2E-44D2-96E1-038F1593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C16F0-5531-48F0-B64D-2BF4E85E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123FE-0CB1-46F9-872B-A2F8B9C3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8D137-8A75-4861-BB9C-FA435C23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42BEF-FF67-4043-B7CE-4781227E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22F7E-43C1-4B1F-A1DD-3B3D2727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E545-622E-4E19-85C9-5338813B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D27EA-4F98-42EF-8209-06EF3201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A1D87-BF0D-41F4-AC18-C0F6AFE1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49DAA-B187-480D-8346-C2F79C95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2DCAF-40A2-4E10-A70E-0100E84F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4C219-CB3D-4AD6-A97B-0239389F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2D0EE-E5FB-4906-91AC-F9540A95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C86DF-DFCE-444D-B4AB-C10B9254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93D1B-DCE1-494B-AE2A-69B96863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190FF-731D-4F71-B23F-86CC327B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FC514-154E-4A27-A533-B951D735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728-797D-491E-9927-F1066924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D28EA-414E-42C2-BC38-A6ECDF33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80B7F-82B1-437D-BA2B-3E6E9CAF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B949D-7097-4610-A2E1-0F691DBC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C7FB0-74E0-47AE-B784-35D64997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E6159-8914-4A36-8DDD-2050EE8A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4E5EB-FF78-49E9-A4A6-DF56B8F2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C44CF-9A51-408F-8526-EE229F85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2B51B-E1B7-49D1-9D07-62275EC1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26E52-F765-40F3-97FF-64825EAA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53F0C-5849-4347-BD63-0D6C24CD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6D9F-1F2C-497B-B0B0-45E74A66238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FC48-5AAB-4037-BE25-D038060EDD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49E2-DBDD-4ED0-9CEE-A3BC123F1A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DFBD-1E50-471F-84E6-B4D08DBB9C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8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9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62FB-FC56-4E44-AB80-02C7CA877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1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2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3A38-1FD9-4430-8EB7-9E2AB85C42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3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4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5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6BAF-0C17-43AD-8B4A-3680320195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6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47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48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BD0E-C597-4109-B371-E75990219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49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50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51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0D2C-E2C6-4EA0-8693-8A85DA37C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52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3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4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C1F7-2D76-4B53-B305-74E96A1D89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5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6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55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6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57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3B58-8AE7-45DA-BF02-67438EF739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16D0-BD30-4A60-AB98-986F4AF5635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58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59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60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373A-221E-4F96-848A-3496797BF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6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6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6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42D2-B8A8-4355-9EDD-2DEE7BEA4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6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6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6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35D3-DF4A-427D-B706-24494B42AD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dt" idx="67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 type="ftr" idx="68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 type="sldNum" idx="69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A403-B1AC-41AB-B29F-CD9DC5DAC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70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71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72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F6E1-6076-4B5D-8A88-E861A996C5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dt" idx="73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ftr" idx="74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 type="sldNum" idx="75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7679-13B4-4025-8C3C-704DAF8E59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76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77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78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D63E-4801-4C85-9602-844CAC7C65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dt" idx="79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ftr" idx="80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 type="sldNum" idx="81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6008-5EA8-459F-99C4-C0E89FE4B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2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3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84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3C36-5D24-4201-A844-8DCF8BC9D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85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86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87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FEA0-C427-4669-807C-A4915CF875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3D36-07F1-4199-A6AE-3962F38C879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5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6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88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89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90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6822-A42A-4853-AA4B-D0C000BAC5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9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9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9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FDEB-D0DA-49A5-9393-229FA3A00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dt" idx="9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ftr" idx="9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sldNum" idx="9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D624-7E58-4186-B364-1B43AFEE8F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 type="dt" idx="97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 type="ftr" idx="98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 type="sldNum" idx="99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A446-8F6E-4332-8E1D-4DE27D11E1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 type="dt" idx="100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 type="ftr" idx="101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 type="sldNum" idx="102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21BE-C69B-4FE6-96E6-22C92B6526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 type="dt" idx="103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 type="ftr" idx="104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 type="sldNum" idx="105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A249-B0AF-4453-87B9-987416EAB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 type="dt" idx="106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 type="ftr" idx="107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 type="sldNum" idx="108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96A2-B937-40B2-84B5-06B0FC8C55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 type="dt" idx="109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 type="ftr" idx="110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 type="sldNum" idx="111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1593-0E43-44D7-A28B-67836A216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 type="dt" idx="112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 type="ftr" idx="113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 type="sldNum" idx="114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1E11-7D13-4989-A560-F9F7C75260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 type="dt" idx="115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 type="ftr" idx="116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 type="sldNum" idx="117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30BE-F3C0-4F26-B95B-99981B02A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573D-87AC-46F9-B448-6FEE401F8F6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 type="dt" idx="118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 type="ftr" idx="119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 type="sldNum" idx="120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DCB4-3527-4FA3-B944-21E744D1F0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5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6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 type="dt" idx="12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 type="ftr" idx="12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 type="sldNum" idx="12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15A8-E014-4729-8954-1EE100395E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 type="dt" idx="12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 type="ftr" idx="12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 type="sldNum" idx="12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CDA9-C61C-40F9-AFB8-5214DAF42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 type="dt" idx="127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 type="ftr" idx="128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 type="sldNum" idx="129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B1E1-E8D4-47A2-9DA2-FA955234A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130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 type="ftr" idx="131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 type="sldNum" idx="132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014E-6B61-4D4D-8CF1-6F508CEF2C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 type="dt" idx="133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 type="ftr" idx="134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 type="sldNum" idx="135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E068-250D-4F60-8081-7F53D3E750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 type="dt" idx="136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 type="ftr" idx="137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5"/>
          <p:cNvSpPr>
            <a:spLocks noGrp="1"/>
          </p:cNvSpPr>
          <p:nvPr>
            <p:ph type="sldNum" idx="138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7CE3-B200-4B82-8E3B-BA281B0CEC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 type="dt" idx="139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 type="ftr" idx="140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 type="sldNum" idx="141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74C0-FFB0-4DB0-B3D3-35DE378902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 type="dt" idx="142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 type="ftr" idx="143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 type="sldNum" idx="144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C93E-2065-4392-A862-115C1F506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 type="dt" idx="145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 type="ftr" idx="146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5"/>
          <p:cNvSpPr>
            <a:spLocks noGrp="1"/>
          </p:cNvSpPr>
          <p:nvPr>
            <p:ph type="sldNum" idx="147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0DAD-F000-44C5-8D0A-BAF4C9E26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77AF-1D8C-4CB3-BB11-90208549E1C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 type="dt" idx="148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 type="ftr" idx="149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 type="sldNum" idx="150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7214-9967-4E08-9B4D-54EE989DBF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 type="dt" idx="15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 type="ftr" idx="15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5"/>
          <p:cNvSpPr>
            <a:spLocks noGrp="1"/>
          </p:cNvSpPr>
          <p:nvPr>
            <p:ph type="sldNum" idx="15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E205-3693-4BEC-A522-2C8632439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Rectangle 5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Rectangle 6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7" name="PlaceHolder 3"/>
          <p:cNvSpPr>
            <a:spLocks noGrp="1"/>
          </p:cNvSpPr>
          <p:nvPr>
            <p:ph type="dt" idx="15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4"/>
          <p:cNvSpPr>
            <a:spLocks noGrp="1"/>
          </p:cNvSpPr>
          <p:nvPr>
            <p:ph type="ftr" idx="15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5"/>
          <p:cNvSpPr>
            <a:spLocks noGrp="1"/>
          </p:cNvSpPr>
          <p:nvPr>
            <p:ph type="sldNum" idx="15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2B99-6894-49EE-AA07-100452100F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 type="dt" idx="157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 type="ftr" idx="158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 type="sldNum" idx="159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1E98-32DA-4D60-A44E-58B53DF972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 type="dt" idx="160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 type="ftr" idx="161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 type="sldNum" idx="162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039C-7750-469C-AB37-6347125784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9" name="PlaceHolder 3"/>
          <p:cNvSpPr>
            <a:spLocks noGrp="1"/>
          </p:cNvSpPr>
          <p:nvPr>
            <p:ph type="dt" idx="163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4"/>
          <p:cNvSpPr>
            <a:spLocks noGrp="1"/>
          </p:cNvSpPr>
          <p:nvPr>
            <p:ph type="ftr" idx="164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5"/>
          <p:cNvSpPr>
            <a:spLocks noGrp="1"/>
          </p:cNvSpPr>
          <p:nvPr>
            <p:ph type="sldNum" idx="165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4798-633E-4691-9960-0554734E4A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 type="dt" idx="166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 type="ftr" idx="167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5"/>
          <p:cNvSpPr>
            <a:spLocks noGrp="1"/>
          </p:cNvSpPr>
          <p:nvPr>
            <p:ph type="sldNum" idx="168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B3F0-E792-409E-8B0D-43E7DFEB53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 type="dt" idx="169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 type="ftr" idx="170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5"/>
          <p:cNvSpPr>
            <a:spLocks noGrp="1"/>
          </p:cNvSpPr>
          <p:nvPr>
            <p:ph type="sldNum" idx="171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056F-AA4E-4217-A274-4CC4C6BDE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 type="dt" idx="172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4"/>
          <p:cNvSpPr>
            <a:spLocks noGrp="1"/>
          </p:cNvSpPr>
          <p:nvPr>
            <p:ph type="ftr" idx="173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PlaceHolder 5"/>
          <p:cNvSpPr>
            <a:spLocks noGrp="1"/>
          </p:cNvSpPr>
          <p:nvPr>
            <p:ph type="sldNum" idx="174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A0ED-EA35-4A60-8D5E-EE4E034E21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5" name="PlaceHolder 3"/>
          <p:cNvSpPr>
            <a:spLocks noGrp="1"/>
          </p:cNvSpPr>
          <p:nvPr>
            <p:ph type="dt" idx="175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PlaceHolder 4"/>
          <p:cNvSpPr>
            <a:spLocks noGrp="1"/>
          </p:cNvSpPr>
          <p:nvPr>
            <p:ph type="ftr" idx="176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5"/>
          <p:cNvSpPr>
            <a:spLocks noGrp="1"/>
          </p:cNvSpPr>
          <p:nvPr>
            <p:ph type="sldNum" idx="177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C0EE-2AB8-4F79-AE1E-81E3E0FC69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3E5B-A5FD-4BDA-90D7-D70E2AB0C2E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 type="dt" idx="178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 type="ftr" idx="179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5"/>
          <p:cNvSpPr>
            <a:spLocks noGrp="1"/>
          </p:cNvSpPr>
          <p:nvPr>
            <p:ph type="sldNum" idx="180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62A2-0D88-4F27-9073-62C47F003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 type="dt" idx="18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 type="ftr" idx="18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PlaceHolder 5"/>
          <p:cNvSpPr>
            <a:spLocks noGrp="1"/>
          </p:cNvSpPr>
          <p:nvPr>
            <p:ph type="sldNum" idx="18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42D7-9DFB-44D2-9972-9097BDC930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7" name="PlaceHolder 3"/>
          <p:cNvSpPr>
            <a:spLocks noGrp="1"/>
          </p:cNvSpPr>
          <p:nvPr>
            <p:ph type="dt" idx="18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4"/>
          <p:cNvSpPr>
            <a:spLocks noGrp="1"/>
          </p:cNvSpPr>
          <p:nvPr>
            <p:ph type="ftr" idx="18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PlaceHolder 5"/>
          <p:cNvSpPr>
            <a:spLocks noGrp="1"/>
          </p:cNvSpPr>
          <p:nvPr>
            <p:ph type="sldNum" idx="18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A999-99A0-4229-913B-F7112253C2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A5FA-96AE-4889-8E98-C9086478BB8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5864-24A8-4D9E-A459-94898447C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E222-0CA4-4526-8E0C-0C6112421D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ungle%20Menu%20Command.wav"/><Relationship Id="rId3" Type="http://schemas.openxmlformats.org/officeDocument/2006/relationships/audio" Target="../media/Jungle%20Menu%20Command.wav"/><Relationship Id="rId4" Type="http://schemas.openxmlformats.org/officeDocument/2006/relationships/audio" Target="../media/Jungle%20Menu%20Command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lick.wav"/><Relationship Id="rId3" Type="http://schemas.openxmlformats.org/officeDocument/2006/relationships/audio" Target="../media/Jungle%20Menu%20Command.wav"/><Relationship Id="rId4" Type="http://schemas.openxmlformats.org/officeDocument/2006/relationships/audio" Target="../media/Jungle%20Menu%20Command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ungle%20Menu%20Command.wav"/><Relationship Id="rId3" Type="http://schemas.openxmlformats.org/officeDocument/2006/relationships/audio" Target="../media/Jungle%20Menu%20Command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ungle%20Menu%20Command.wav"/><Relationship Id="rId3" Type="http://schemas.openxmlformats.org/officeDocument/2006/relationships/audio" Target="../media/Jungle%20Menu%20Command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ungle%20Menu%20Command.wav"/><Relationship Id="rId3" Type="http://schemas.openxmlformats.org/officeDocument/2006/relationships/audio" Target="../media/Jungle%20Menu%20Command.wav"/><Relationship Id="rId4" Type="http://schemas.openxmlformats.org/officeDocument/2006/relationships/audio" Target="../media/Jungle%20Menu%20Command.wav"/><Relationship Id="rId5" Type="http://schemas.openxmlformats.org/officeDocument/2006/relationships/audio" Target="../media/Jungle%20Menu%20Command.wav"/><Relationship Id="rId6" Type="http://schemas.openxmlformats.org/officeDocument/2006/relationships/audio" Target="../media/Jungle%20Menu%20Command.wav"/><Relationship Id="rId7" Type="http://schemas.openxmlformats.org/officeDocument/2006/relationships/audio" Target="../media/Jungle%20Menu%20Command.wav"/><Relationship Id="rId8" Type="http://schemas.openxmlformats.org/officeDocument/2006/relationships/audio" Target="../media/Jungle%20Menu%20Command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ungle%20Menu%20Command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Jungle%20Menu%20Command.wav"/><Relationship Id="rId4" Type="http://schemas.openxmlformats.org/officeDocument/2006/relationships/audio" Target="../media/Jungle%20Menu%20Command.wav"/><Relationship Id="rId5" Type="http://schemas.openxmlformats.org/officeDocument/2006/relationships/audio" Target="../media/Jungle%20Menu%20Command.wav"/><Relationship Id="rId6" Type="http://schemas.openxmlformats.org/officeDocument/2006/relationships/audio" Target="../media/Jungle%20Menu%20Command.wav"/><Relationship Id="rId7" Type="http://schemas.openxmlformats.org/officeDocument/2006/relationships/audio" Target="../media/Jungle%20Menu%20Command.wav"/><Relationship Id="rId8" Type="http://schemas.openxmlformats.org/officeDocument/2006/relationships/audio" Target="../media/Jungle%20Menu%20Command.wav"/><Relationship Id="rId9" Type="http://schemas.openxmlformats.org/officeDocument/2006/relationships/slideLayout" Target="../slideLayouts/slideLayout4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ungle%20Menu%20Command.wav"/><Relationship Id="rId3" Type="http://schemas.openxmlformats.org/officeDocument/2006/relationships/audio" Target="../media/Jungle%20Menu%20Command.wav"/><Relationship Id="rId4" Type="http://schemas.openxmlformats.org/officeDocument/2006/relationships/audio" Target="../media/Jungle%20Menu%20Command.wav"/><Relationship Id="rId5" Type="http://schemas.openxmlformats.org/officeDocument/2006/relationships/audio" Target="../media/Jungle%20Menu%20Command.wav"/><Relationship Id="rId6" Type="http://schemas.openxmlformats.org/officeDocument/2006/relationships/audio" Target="../media/WHOOSH.WAV"/><Relationship Id="rId7" Type="http://schemas.openxmlformats.org/officeDocument/2006/relationships/audio" Target="../media/Jungle%20Menu%20Command.wav"/><Relationship Id="rId8" Type="http://schemas.openxmlformats.org/officeDocument/2006/relationships/slideLayout" Target="../slideLayouts/slideLayout54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audio" Target="../media/CAMERA.WAV"/><Relationship Id="rId5" Type="http://schemas.openxmlformats.org/officeDocument/2006/relationships/audio" Target="../media/Jungle%20Menu%20Command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6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Vectors and Scalar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ear, searching for food wanders 35 meters east then 20 meters north. Frustrated, he wanders another 12 meters west then 6 meters south. Calculate the bear's displac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Text Box 4"/>
          <p:cNvSpPr/>
          <p:nvPr/>
        </p:nvSpPr>
        <p:spPr>
          <a:xfrm>
            <a:off x="1280880" y="4456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m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Line 5"/>
          <p:cNvSpPr/>
          <p:nvPr/>
        </p:nvSpPr>
        <p:spPr>
          <a:xfrm flipV="1">
            <a:off x="2666880" y="3200040"/>
            <a:ext cx="0" cy="10666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Text Box 6"/>
          <p:cNvSpPr/>
          <p:nvPr/>
        </p:nvSpPr>
        <p:spPr>
          <a:xfrm>
            <a:off x="2652480" y="35416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Line 7"/>
          <p:cNvSpPr/>
          <p:nvPr/>
        </p:nvSpPr>
        <p:spPr>
          <a:xfrm flipH="1">
            <a:off x="2057040" y="3200400"/>
            <a:ext cx="609480" cy="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Text Box 8"/>
          <p:cNvSpPr/>
          <p:nvPr/>
        </p:nvSpPr>
        <p:spPr>
          <a:xfrm>
            <a:off x="2118960" y="2703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m,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Line 9"/>
          <p:cNvSpPr/>
          <p:nvPr/>
        </p:nvSpPr>
        <p:spPr>
          <a:xfrm>
            <a:off x="2057400" y="3200400"/>
            <a:ext cx="0" cy="30492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Text Box 10"/>
          <p:cNvSpPr/>
          <p:nvPr/>
        </p:nvSpPr>
        <p:spPr>
          <a:xfrm>
            <a:off x="1144080" y="32004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m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Line 11"/>
          <p:cNvSpPr/>
          <p:nvPr/>
        </p:nvSpPr>
        <p:spPr>
          <a:xfrm>
            <a:off x="914400" y="434340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Line 12"/>
          <p:cNvSpPr/>
          <p:nvPr/>
        </p:nvSpPr>
        <p:spPr>
          <a:xfrm>
            <a:off x="3429000" y="228600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Text Box 13"/>
          <p:cNvSpPr/>
          <p:nvPr/>
        </p:nvSpPr>
        <p:spPr>
          <a:xfrm>
            <a:off x="5243400" y="1865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Line 14"/>
          <p:cNvSpPr/>
          <p:nvPr/>
        </p:nvSpPr>
        <p:spPr>
          <a:xfrm flipH="1">
            <a:off x="4571640" y="2438280"/>
            <a:ext cx="609480" cy="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Text Box 15"/>
          <p:cNvSpPr/>
          <p:nvPr/>
        </p:nvSpPr>
        <p:spPr>
          <a:xfrm>
            <a:off x="5623920" y="1941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Line 16"/>
          <p:cNvSpPr/>
          <p:nvPr/>
        </p:nvSpPr>
        <p:spPr>
          <a:xfrm>
            <a:off x="6095880" y="22096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Text Box 17"/>
          <p:cNvSpPr/>
          <p:nvPr/>
        </p:nvSpPr>
        <p:spPr>
          <a:xfrm>
            <a:off x="6310080" y="17128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m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Line 18"/>
          <p:cNvSpPr/>
          <p:nvPr/>
        </p:nvSpPr>
        <p:spPr>
          <a:xfrm flipV="1">
            <a:off x="4343400" y="2819160"/>
            <a:ext cx="0" cy="10666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Line 19"/>
          <p:cNvSpPr/>
          <p:nvPr/>
        </p:nvSpPr>
        <p:spPr>
          <a:xfrm>
            <a:off x="4419720" y="2819520"/>
            <a:ext cx="0" cy="30456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Text Box 20"/>
          <p:cNvSpPr/>
          <p:nvPr/>
        </p:nvSpPr>
        <p:spPr>
          <a:xfrm>
            <a:off x="4495680" y="2819520"/>
            <a:ext cx="2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Text Box 21"/>
          <p:cNvSpPr/>
          <p:nvPr/>
        </p:nvSpPr>
        <p:spPr>
          <a:xfrm>
            <a:off x="4801680" y="2819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Line 22"/>
          <p:cNvSpPr/>
          <p:nvPr/>
        </p:nvSpPr>
        <p:spPr>
          <a:xfrm flipV="1">
            <a:off x="5257800" y="30481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Text Box 23"/>
          <p:cNvSpPr/>
          <p:nvPr/>
        </p:nvSpPr>
        <p:spPr>
          <a:xfrm>
            <a:off x="5319720" y="30081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m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Line 24"/>
          <p:cNvSpPr/>
          <p:nvPr/>
        </p:nvSpPr>
        <p:spPr>
          <a:xfrm>
            <a:off x="3276720" y="51814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Line 25"/>
          <p:cNvSpPr/>
          <p:nvPr/>
        </p:nvSpPr>
        <p:spPr>
          <a:xfrm flipV="1">
            <a:off x="4419720" y="426672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Text Box 26"/>
          <p:cNvSpPr/>
          <p:nvPr/>
        </p:nvSpPr>
        <p:spPr>
          <a:xfrm>
            <a:off x="3354120" y="5334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m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Text Box 27"/>
          <p:cNvSpPr/>
          <p:nvPr/>
        </p:nvSpPr>
        <p:spPr>
          <a:xfrm>
            <a:off x="4497120" y="44197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m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Line 28"/>
          <p:cNvSpPr/>
          <p:nvPr/>
        </p:nvSpPr>
        <p:spPr>
          <a:xfrm flipV="1">
            <a:off x="3276720" y="4266720"/>
            <a:ext cx="1066680" cy="8384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1" name="Object 29"/>
              <p:cNvSpPr txBox="1"/>
              <p:nvPr/>
            </p:nvSpPr>
            <p:spPr>
              <a:xfrm>
                <a:off x="5715000" y="3755880"/>
                <a:ext cx="2971800" cy="16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87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8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62" name="Text Box 30"/>
          <p:cNvSpPr/>
          <p:nvPr/>
        </p:nvSpPr>
        <p:spPr>
          <a:xfrm>
            <a:off x="825120" y="575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nal Answer: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6.93 m, 31.3 degrees NORTH or 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Text Box 31"/>
          <p:cNvSpPr/>
          <p:nvPr/>
        </p:nvSpPr>
        <p:spPr>
          <a:xfrm>
            <a:off x="3262680" y="445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Text Box 32"/>
          <p:cNvSpPr/>
          <p:nvPr/>
        </p:nvSpPr>
        <p:spPr>
          <a:xfrm>
            <a:off x="3430080" y="487692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autoRev="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-0.12214 E">
                                      <p:cBhvr>
                                        <p:cTn id="559" dur="2000" fill="hold"/>
                                        <p:tgtEl>
                                          <p:spTgt spid="2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-0.12214 E">
                                      <p:cBhvr>
                                        <p:cTn id="561" dur="2000" fill="hold"/>
                                        <p:tgtEl>
                                          <p:spTgt spid="2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-0.12214 E">
                                      <p:cBhvr>
                                        <p:cTn id="563" dur="2000" fill="hold"/>
                                        <p:tgtEl>
                                          <p:spTgt spid="2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-0.12214 E">
                                      <p:cBhvr>
                                        <p:cTn id="565" dur="2000" fill="hold"/>
                                        <p:tgtEl>
                                          <p:spTgt spid="2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-0.12214 E">
                                      <p:cBhvr>
                                        <p:cTn id="567" dur="2000" fill="hold"/>
                                        <p:tgtEl>
                                          <p:spTgt spid="2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boat moves with a velocity of 15 m/s, N in a river which flows with a velocity of 8.0 m/s, west. Calculate the boat's resultant velocity with respect to due no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Line 4"/>
          <p:cNvSpPr/>
          <p:nvPr/>
        </p:nvSpPr>
        <p:spPr>
          <a:xfrm>
            <a:off x="1844640" y="3036960"/>
            <a:ext cx="0" cy="213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Line 5"/>
          <p:cNvSpPr/>
          <p:nvPr/>
        </p:nvSpPr>
        <p:spPr>
          <a:xfrm>
            <a:off x="853920" y="4179960"/>
            <a:ext cx="1905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Line 6"/>
          <p:cNvSpPr/>
          <p:nvPr/>
        </p:nvSpPr>
        <p:spPr>
          <a:xfrm flipV="1">
            <a:off x="1844640" y="3036600"/>
            <a:ext cx="0" cy="10666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Text Box 7"/>
          <p:cNvSpPr/>
          <p:nvPr/>
        </p:nvSpPr>
        <p:spPr>
          <a:xfrm>
            <a:off x="1904040" y="304812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m/s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Line 8"/>
          <p:cNvSpPr/>
          <p:nvPr/>
        </p:nvSpPr>
        <p:spPr>
          <a:xfrm flipH="1">
            <a:off x="1234800" y="3036960"/>
            <a:ext cx="6094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Text Box 9"/>
          <p:cNvSpPr/>
          <p:nvPr/>
        </p:nvSpPr>
        <p:spPr>
          <a:xfrm>
            <a:off x="1217880" y="266688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0 m/s,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Line 10"/>
          <p:cNvSpPr/>
          <p:nvPr/>
        </p:nvSpPr>
        <p:spPr>
          <a:xfrm flipH="1" flipV="1">
            <a:off x="1158480" y="3036600"/>
            <a:ext cx="685800" cy="1066680"/>
          </a:xfrm>
          <a:prstGeom prst="line">
            <a:avLst/>
          </a:prstGeom>
          <a:ln w="25560">
            <a:solidFill>
              <a:srgbClr val="800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Text Box 11"/>
          <p:cNvSpPr/>
          <p:nvPr/>
        </p:nvSpPr>
        <p:spPr>
          <a:xfrm>
            <a:off x="1073160" y="345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Text Box 12"/>
          <p:cNvSpPr/>
          <p:nvPr/>
        </p:nvSpPr>
        <p:spPr>
          <a:xfrm>
            <a:off x="1617120" y="357012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6" name="Object 13"/>
              <p:cNvSpPr txBox="1"/>
              <p:nvPr/>
            </p:nvSpPr>
            <p:spPr>
              <a:xfrm>
                <a:off x="3809880" y="2057400"/>
                <a:ext cx="4038840" cy="23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8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33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3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77" name="Text Box 14"/>
          <p:cNvSpPr/>
          <p:nvPr/>
        </p:nvSpPr>
        <p:spPr>
          <a:xfrm>
            <a:off x="2424240" y="4989600"/>
            <a:ext cx="62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nal Answer :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7 m/s, @ 28.1 degrees West of N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lane moves with a velocity of 63.5 m/s at 32 degrees South of East. Calculate the plane's horizontal and vertical velocity compon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Line 4"/>
          <p:cNvSpPr/>
          <p:nvPr/>
        </p:nvSpPr>
        <p:spPr>
          <a:xfrm>
            <a:off x="1143000" y="2057400"/>
            <a:ext cx="0" cy="2514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Line 5"/>
          <p:cNvSpPr/>
          <p:nvPr/>
        </p:nvSpPr>
        <p:spPr>
          <a:xfrm>
            <a:off x="380880" y="3276720"/>
            <a:ext cx="2514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Line 6"/>
          <p:cNvSpPr/>
          <p:nvPr/>
        </p:nvSpPr>
        <p:spPr>
          <a:xfrm>
            <a:off x="1143000" y="3276720"/>
            <a:ext cx="144792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Text Box 7"/>
          <p:cNvSpPr/>
          <p:nvPr/>
        </p:nvSpPr>
        <p:spPr>
          <a:xfrm>
            <a:off x="1294560" y="38098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.5 m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Text Box 8"/>
          <p:cNvSpPr/>
          <p:nvPr/>
        </p:nvSpPr>
        <p:spPr>
          <a:xfrm>
            <a:off x="1677600" y="3276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Line 9"/>
          <p:cNvSpPr/>
          <p:nvPr/>
        </p:nvSpPr>
        <p:spPr>
          <a:xfrm>
            <a:off x="1143000" y="3276720"/>
            <a:ext cx="1447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Text Box 10"/>
          <p:cNvSpPr/>
          <p:nvPr/>
        </p:nvSpPr>
        <p:spPr>
          <a:xfrm>
            <a:off x="1508400" y="283068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.C. =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Line 11"/>
          <p:cNvSpPr/>
          <p:nvPr/>
        </p:nvSpPr>
        <p:spPr>
          <a:xfrm>
            <a:off x="2590920" y="3276720"/>
            <a:ext cx="0" cy="7617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Text Box 12"/>
          <p:cNvSpPr/>
          <p:nvPr/>
        </p:nvSpPr>
        <p:spPr>
          <a:xfrm>
            <a:off x="2650680" y="344016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.C. =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9" name="Object 13"/>
              <p:cNvSpPr txBox="1"/>
              <p:nvPr/>
            </p:nvSpPr>
            <p:spPr>
              <a:xfrm>
                <a:off x="3429000" y="2438280"/>
                <a:ext cx="5105520" cy="22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ine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djace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otenuse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e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osit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otenus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90" name="Rectangle 14"/>
          <p:cNvSpPr/>
          <p:nvPr/>
        </p:nvSpPr>
        <p:spPr>
          <a:xfrm>
            <a:off x="6095880" y="3886200"/>
            <a:ext cx="1676520" cy="1066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2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2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dentifying Dire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696080" cy="1143000"/>
          </a:xfrm>
          <a:prstGeom prst="rect">
            <a:avLst/>
          </a:prstGeom>
          <a:solidFill>
            <a:srgbClr val="3b812f"/>
          </a:solidFill>
          <a:ln w="38160">
            <a:solidFill>
              <a:srgbClr val="cc99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angles shown below by using references to east, south, west, no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3" name="Group 69"/>
          <p:cNvGrpSpPr/>
          <p:nvPr/>
        </p:nvGrpSpPr>
        <p:grpSpPr>
          <a:xfrm>
            <a:off x="4952880" y="2438280"/>
            <a:ext cx="2743200" cy="2819520"/>
            <a:chOff x="4952880" y="2438280"/>
            <a:chExt cx="2743200" cy="2819520"/>
          </a:xfrm>
        </p:grpSpPr>
        <p:sp>
          <p:nvSpPr>
            <p:cNvPr id="2894" name="Rectangle 39"/>
            <p:cNvSpPr/>
            <p:nvPr/>
          </p:nvSpPr>
          <p:spPr>
            <a:xfrm>
              <a:off x="4952880" y="2438280"/>
              <a:ext cx="2743200" cy="2819520"/>
            </a:xfrm>
            <a:prstGeom prst="rect">
              <a:avLst/>
            </a:prstGeom>
            <a:solidFill>
              <a:srgbClr val="3b812f"/>
            </a:solidFill>
            <a:ln w="381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Line 41"/>
            <p:cNvSpPr/>
            <p:nvPr/>
          </p:nvSpPr>
          <p:spPr>
            <a:xfrm>
              <a:off x="5410080" y="4419720"/>
              <a:ext cx="20574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Line 42"/>
            <p:cNvSpPr/>
            <p:nvPr/>
          </p:nvSpPr>
          <p:spPr>
            <a:xfrm>
              <a:off x="6705360" y="3048120"/>
              <a:ext cx="0" cy="1904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Text Box 43"/>
            <p:cNvSpPr/>
            <p:nvPr/>
          </p:nvSpPr>
          <p:spPr>
            <a:xfrm>
              <a:off x="7086600" y="38862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Text Box 44"/>
            <p:cNvSpPr/>
            <p:nvPr/>
          </p:nvSpPr>
          <p:spPr>
            <a:xfrm>
              <a:off x="5181480" y="38862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Text Box 45"/>
            <p:cNvSpPr/>
            <p:nvPr/>
          </p:nvSpPr>
          <p:spPr>
            <a:xfrm>
              <a:off x="6172200" y="4648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Text Box 46"/>
            <p:cNvSpPr/>
            <p:nvPr/>
          </p:nvSpPr>
          <p:spPr>
            <a:xfrm>
              <a:off x="6705360" y="28195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Oval 52"/>
            <p:cNvSpPr/>
            <p:nvPr/>
          </p:nvSpPr>
          <p:spPr>
            <a:xfrm>
              <a:off x="5486400" y="32004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Line 53"/>
            <p:cNvSpPr/>
            <p:nvPr/>
          </p:nvSpPr>
          <p:spPr>
            <a:xfrm flipH="1" flipV="1">
              <a:off x="5715000" y="3429000"/>
              <a:ext cx="9144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Text Box 57"/>
            <p:cNvSpPr/>
            <p:nvPr/>
          </p:nvSpPr>
          <p:spPr>
            <a:xfrm>
              <a:off x="586728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Freeform 58"/>
            <p:cNvSpPr/>
            <p:nvPr/>
          </p:nvSpPr>
          <p:spPr>
            <a:xfrm flipH="1">
              <a:off x="6171480" y="3429000"/>
              <a:ext cx="533160" cy="457200"/>
            </a:xfrm>
            <a:custGeom>
              <a:avLst/>
              <a:gdLst/>
              <a:ahLst/>
              <a:rect l="l" t="t" r="r" b="b"/>
              <a:pathLst>
                <a:path w="424" h="472">
                  <a:moveTo>
                    <a:pt x="424" y="472"/>
                  </a:moveTo>
                  <a:cubicBezTo>
                    <a:pt x="404" y="380"/>
                    <a:pt x="384" y="288"/>
                    <a:pt x="328" y="232"/>
                  </a:cubicBezTo>
                  <a:cubicBezTo>
                    <a:pt x="272" y="176"/>
                    <a:pt x="0" y="0"/>
                    <a:pt x="88" y="136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Group 68"/>
          <p:cNvGrpSpPr/>
          <p:nvPr/>
        </p:nvGrpSpPr>
        <p:grpSpPr>
          <a:xfrm>
            <a:off x="1600200" y="2438280"/>
            <a:ext cx="2743200" cy="2895840"/>
            <a:chOff x="1600200" y="2438280"/>
            <a:chExt cx="2743200" cy="2895840"/>
          </a:xfrm>
        </p:grpSpPr>
        <p:sp>
          <p:nvSpPr>
            <p:cNvPr id="2906" name="Rectangle 2"/>
            <p:cNvSpPr/>
            <p:nvPr/>
          </p:nvSpPr>
          <p:spPr>
            <a:xfrm>
              <a:off x="1600200" y="2438280"/>
              <a:ext cx="2743200" cy="2895840"/>
            </a:xfrm>
            <a:prstGeom prst="rect">
              <a:avLst/>
            </a:prstGeom>
            <a:solidFill>
              <a:srgbClr val="3b812f"/>
            </a:solidFill>
            <a:ln w="381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Line 8"/>
            <p:cNvSpPr/>
            <p:nvPr/>
          </p:nvSpPr>
          <p:spPr>
            <a:xfrm>
              <a:off x="1828800" y="3886200"/>
              <a:ext cx="2286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Line 9"/>
            <p:cNvSpPr/>
            <p:nvPr/>
          </p:nvSpPr>
          <p:spPr>
            <a:xfrm>
              <a:off x="2743200" y="304812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Text Box 10"/>
            <p:cNvSpPr/>
            <p:nvPr/>
          </p:nvSpPr>
          <p:spPr>
            <a:xfrm>
              <a:off x="3504960" y="32767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Text Box 11"/>
            <p:cNvSpPr/>
            <p:nvPr/>
          </p:nvSpPr>
          <p:spPr>
            <a:xfrm>
              <a:off x="1752480" y="32767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Text Box 13"/>
            <p:cNvSpPr/>
            <p:nvPr/>
          </p:nvSpPr>
          <p:spPr>
            <a:xfrm>
              <a:off x="2743200" y="26668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Oval 27"/>
            <p:cNvSpPr/>
            <p:nvPr/>
          </p:nvSpPr>
          <p:spPr>
            <a:xfrm>
              <a:off x="3352680" y="4724280"/>
              <a:ext cx="228600" cy="228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Line 35"/>
            <p:cNvSpPr/>
            <p:nvPr/>
          </p:nvSpPr>
          <p:spPr>
            <a:xfrm>
              <a:off x="2743200" y="3886200"/>
              <a:ext cx="68580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4" name="Group 36"/>
            <p:cNvGrpSpPr/>
            <p:nvPr/>
          </p:nvGrpSpPr>
          <p:grpSpPr>
            <a:xfrm>
              <a:off x="2971800" y="3886200"/>
              <a:ext cx="685800" cy="533520"/>
              <a:chOff x="2971800" y="3886200"/>
              <a:chExt cx="685800" cy="533520"/>
            </a:xfrm>
          </p:grpSpPr>
          <p:sp>
            <p:nvSpPr>
              <p:cNvPr id="2915" name="Text Box 37"/>
              <p:cNvSpPr/>
              <p:nvPr/>
            </p:nvSpPr>
            <p:spPr>
              <a:xfrm>
                <a:off x="2971800" y="38862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Arc 38"/>
              <p:cNvSpPr/>
              <p:nvPr/>
            </p:nvSpPr>
            <p:spPr>
              <a:xfrm flipV="1">
                <a:off x="3276720" y="39625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7" name="Text Box 67"/>
            <p:cNvSpPr/>
            <p:nvPr/>
          </p:nvSpPr>
          <p:spPr>
            <a:xfrm>
              <a:off x="2133360" y="44197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8" name="Text Box 70"/>
          <p:cNvSpPr/>
          <p:nvPr/>
        </p:nvSpPr>
        <p:spPr>
          <a:xfrm>
            <a:off x="457200" y="5678640"/>
            <a:ext cx="1981080" cy="3682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 of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Text Box 71"/>
          <p:cNvSpPr/>
          <p:nvPr/>
        </p:nvSpPr>
        <p:spPr>
          <a:xfrm>
            <a:off x="5334120" y="5715000"/>
            <a:ext cx="2209680" cy="3682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 of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0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1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ctors and Polar Coordinat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1" name="Text Box 37"/>
          <p:cNvSpPr/>
          <p:nvPr/>
        </p:nvSpPr>
        <p:spPr>
          <a:xfrm>
            <a:off x="762120" y="1143000"/>
            <a:ext cx="7238880" cy="1373760"/>
          </a:xfrm>
          <a:prstGeom prst="rect">
            <a:avLst/>
          </a:prstGeom>
          <a:solidFill>
            <a:srgbClr val="3b812f"/>
          </a:solidFill>
          <a:ln w="38160">
            <a:solidFill>
              <a:srgbClr val="00663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 coordinates (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,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re an excellent way to express vectors. Consider the vector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0 m, 5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ahoma"/>
              </a:rPr>
              <a:t>0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 of 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ex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2" name="Group 71"/>
          <p:cNvGrpSpPr/>
          <p:nvPr/>
        </p:nvGrpSpPr>
        <p:grpSpPr>
          <a:xfrm>
            <a:off x="838080" y="2895480"/>
            <a:ext cx="3200400" cy="2819520"/>
            <a:chOff x="838080" y="2895480"/>
            <a:chExt cx="3200400" cy="2819520"/>
          </a:xfrm>
        </p:grpSpPr>
        <p:sp>
          <p:nvSpPr>
            <p:cNvPr id="2923" name="Rectangle 3"/>
            <p:cNvSpPr/>
            <p:nvPr/>
          </p:nvSpPr>
          <p:spPr>
            <a:xfrm>
              <a:off x="838080" y="2895480"/>
              <a:ext cx="3200400" cy="2819520"/>
            </a:xfrm>
            <a:prstGeom prst="rect">
              <a:avLst/>
            </a:prstGeom>
            <a:solidFill>
              <a:srgbClr val="3b812f"/>
            </a:solidFill>
            <a:ln w="381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Line 28"/>
            <p:cNvSpPr/>
            <p:nvPr/>
          </p:nvSpPr>
          <p:spPr>
            <a:xfrm>
              <a:off x="1295280" y="457200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Line 29"/>
            <p:cNvSpPr/>
            <p:nvPr/>
          </p:nvSpPr>
          <p:spPr>
            <a:xfrm>
              <a:off x="2362320" y="320040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Text Box 30"/>
            <p:cNvSpPr/>
            <p:nvPr/>
          </p:nvSpPr>
          <p:spPr>
            <a:xfrm>
              <a:off x="3200400" y="4648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Text Box 31"/>
            <p:cNvSpPr/>
            <p:nvPr/>
          </p:nvSpPr>
          <p:spPr>
            <a:xfrm>
              <a:off x="990720" y="40384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Text Box 32"/>
            <p:cNvSpPr/>
            <p:nvPr/>
          </p:nvSpPr>
          <p:spPr>
            <a:xfrm>
              <a:off x="1447920" y="4952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7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Text Box 33"/>
            <p:cNvSpPr/>
            <p:nvPr/>
          </p:nvSpPr>
          <p:spPr>
            <a:xfrm>
              <a:off x="1600200" y="3048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0" name="Group 68"/>
          <p:cNvGrpSpPr/>
          <p:nvPr/>
        </p:nvGrpSpPr>
        <p:grpSpPr>
          <a:xfrm>
            <a:off x="4876920" y="2895480"/>
            <a:ext cx="3200400" cy="2819520"/>
            <a:chOff x="4876920" y="2895480"/>
            <a:chExt cx="3200400" cy="2819520"/>
          </a:xfrm>
        </p:grpSpPr>
        <p:sp>
          <p:nvSpPr>
            <p:cNvPr id="2931" name="Rectangle 55"/>
            <p:cNvSpPr/>
            <p:nvPr/>
          </p:nvSpPr>
          <p:spPr>
            <a:xfrm>
              <a:off x="4876920" y="2895480"/>
              <a:ext cx="3200400" cy="2819520"/>
            </a:xfrm>
            <a:prstGeom prst="rect">
              <a:avLst/>
            </a:prstGeom>
            <a:solidFill>
              <a:srgbClr val="3b812f"/>
            </a:solidFill>
            <a:ln w="381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Oval 56"/>
            <p:cNvSpPr/>
            <p:nvPr/>
          </p:nvSpPr>
          <p:spPr>
            <a:xfrm>
              <a:off x="7391520" y="3352680"/>
              <a:ext cx="228600" cy="228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Line 57"/>
            <p:cNvSpPr/>
            <p:nvPr/>
          </p:nvSpPr>
          <p:spPr>
            <a:xfrm flipV="1">
              <a:off x="6345360" y="3580920"/>
              <a:ext cx="1046160" cy="9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4" name="Group 58"/>
            <p:cNvGrpSpPr/>
            <p:nvPr/>
          </p:nvGrpSpPr>
          <p:grpSpPr>
            <a:xfrm>
              <a:off x="6629400" y="3886200"/>
              <a:ext cx="672840" cy="688320"/>
              <a:chOff x="6629400" y="3886200"/>
              <a:chExt cx="672840" cy="688320"/>
            </a:xfrm>
          </p:grpSpPr>
          <p:sp>
            <p:nvSpPr>
              <p:cNvPr id="2935" name="Text Box 59"/>
              <p:cNvSpPr/>
              <p:nvPr/>
            </p:nvSpPr>
            <p:spPr>
              <a:xfrm>
                <a:off x="6629400" y="4114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Freeform 60"/>
              <p:cNvSpPr/>
              <p:nvPr/>
            </p:nvSpPr>
            <p:spPr>
              <a:xfrm>
                <a:off x="6629400" y="3886200"/>
                <a:ext cx="672840" cy="673200"/>
              </a:xfrm>
              <a:custGeom>
                <a:avLst/>
                <a:gdLst/>
                <a:ahLst/>
                <a:rect l="l" t="t" r="r" b="b"/>
                <a:pathLst>
                  <a:path w="424" h="472">
                    <a:moveTo>
                      <a:pt x="424" y="472"/>
                    </a:moveTo>
                    <a:cubicBezTo>
                      <a:pt x="404" y="380"/>
                      <a:pt x="384" y="288"/>
                      <a:pt x="328" y="232"/>
                    </a:cubicBezTo>
                    <a:cubicBezTo>
                      <a:pt x="272" y="176"/>
                      <a:pt x="0" y="0"/>
                      <a:pt x="88" y="136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7" name="Line 61"/>
            <p:cNvSpPr/>
            <p:nvPr/>
          </p:nvSpPr>
          <p:spPr>
            <a:xfrm>
              <a:off x="5257800" y="457200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Line 62"/>
            <p:cNvSpPr/>
            <p:nvPr/>
          </p:nvSpPr>
          <p:spPr>
            <a:xfrm>
              <a:off x="6324480" y="320040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Text Box 63"/>
            <p:cNvSpPr/>
            <p:nvPr/>
          </p:nvSpPr>
          <p:spPr>
            <a:xfrm>
              <a:off x="7162920" y="4648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Text Box 64"/>
            <p:cNvSpPr/>
            <p:nvPr/>
          </p:nvSpPr>
          <p:spPr>
            <a:xfrm>
              <a:off x="4952880" y="40384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Text Box 65"/>
            <p:cNvSpPr/>
            <p:nvPr/>
          </p:nvSpPr>
          <p:spPr>
            <a:xfrm>
              <a:off x="5410080" y="49528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7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Text Box 66"/>
            <p:cNvSpPr/>
            <p:nvPr/>
          </p:nvSpPr>
          <p:spPr>
            <a:xfrm>
              <a:off x="5562720" y="3048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Text Box 67"/>
            <p:cNvSpPr/>
            <p:nvPr/>
          </p:nvSpPr>
          <p:spPr>
            <a:xfrm>
              <a:off x="6477120" y="35053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4" name="Text Box 69"/>
          <p:cNvSpPr/>
          <p:nvPr/>
        </p:nvSpPr>
        <p:spPr>
          <a:xfrm>
            <a:off x="1066680" y="58672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gnitu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r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Oval 72"/>
          <p:cNvSpPr/>
          <p:nvPr/>
        </p:nvSpPr>
        <p:spPr>
          <a:xfrm>
            <a:off x="3429000" y="33526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Line 73"/>
          <p:cNvSpPr/>
          <p:nvPr/>
        </p:nvSpPr>
        <p:spPr>
          <a:xfrm flipV="1">
            <a:off x="2382840" y="3505320"/>
            <a:ext cx="1122480" cy="1030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Text Box 74"/>
          <p:cNvSpPr/>
          <p:nvPr/>
        </p:nvSpPr>
        <p:spPr>
          <a:xfrm>
            <a:off x="23623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8" name="Group 75"/>
          <p:cNvGrpSpPr/>
          <p:nvPr/>
        </p:nvGrpSpPr>
        <p:grpSpPr>
          <a:xfrm>
            <a:off x="2666880" y="3886200"/>
            <a:ext cx="622440" cy="688320"/>
            <a:chOff x="2666880" y="3886200"/>
            <a:chExt cx="622440" cy="688320"/>
          </a:xfrm>
        </p:grpSpPr>
        <p:sp>
          <p:nvSpPr>
            <p:cNvPr id="2949" name="Text Box 76"/>
            <p:cNvSpPr/>
            <p:nvPr/>
          </p:nvSpPr>
          <p:spPr>
            <a:xfrm>
              <a:off x="2666880" y="4114800"/>
              <a:ext cx="62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Freeform 77"/>
            <p:cNvSpPr/>
            <p:nvPr/>
          </p:nvSpPr>
          <p:spPr>
            <a:xfrm>
              <a:off x="2819520" y="3886200"/>
              <a:ext cx="457200" cy="685800"/>
            </a:xfrm>
            <a:custGeom>
              <a:avLst/>
              <a:gdLst/>
              <a:ahLst/>
              <a:rect l="l" t="t" r="r" b="b"/>
              <a:pathLst>
                <a:path w="424" h="472">
                  <a:moveTo>
                    <a:pt x="424" y="472"/>
                  </a:moveTo>
                  <a:cubicBezTo>
                    <a:pt x="404" y="380"/>
                    <a:pt x="384" y="288"/>
                    <a:pt x="328" y="232"/>
                  </a:cubicBezTo>
                  <a:cubicBezTo>
                    <a:pt x="272" y="176"/>
                    <a:pt x="0" y="0"/>
                    <a:pt x="88" y="136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0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2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20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2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2D Coordinate Spa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2" name=""/>
          <p:cNvSpPr txBox="1"/>
          <p:nvPr/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that really matters are the numb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bstract version of this is called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2D Cartesian coordinate sp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apter 1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3D Math Primer for Graphics &amp; Game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88F2-0701-4C14-85F2-7960463A4B6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6" name="Picture 4" descr="c:\Users\ian\Desktop\figs_jpg\2d_cartesian_space.jpg"/>
          <p:cNvPicPr/>
          <p:nvPr/>
        </p:nvPicPr>
        <p:blipFill>
          <a:blip r:embed="rId1"/>
          <a:stretch/>
        </p:blipFill>
        <p:spPr>
          <a:xfrm>
            <a:off x="5029200" y="1913040"/>
            <a:ext cx="350532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1" descr="C:\Users\ian\Desktop\figs_jpg\2d_labeled_points.jpg"/>
          <p:cNvPicPr/>
          <p:nvPr/>
        </p:nvPicPr>
        <p:blipFill>
          <a:blip r:embed="rId1"/>
          <a:stretch/>
        </p:blipFill>
        <p:spPr>
          <a:xfrm>
            <a:off x="2629080" y="1450800"/>
            <a:ext cx="3886200" cy="3956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38EC-49F6-45DE-BD26-824F729C6BE1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6F06-6F76-4893-B030-5D5261001015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0" name="Picture 4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333600" cy="3971880"/>
          </a:xfrm>
          <a:prstGeom prst="rect">
            <a:avLst/>
          </a:prstGeom>
          <a:ln w="0">
            <a:noFill/>
          </a:ln>
        </p:spPr>
      </p:pic>
      <p:sp>
        <p:nvSpPr>
          <p:cNvPr id="2961" name="Rectangle 6"/>
          <p:cNvSpPr/>
          <p:nvPr/>
        </p:nvSpPr>
        <p:spPr>
          <a:xfrm>
            <a:off x="228600" y="2286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the right triangle in Figure 3.2b, we ﬁnd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n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θ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a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s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θ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refore, starting with the plane polar coordinates of any point, we can obtain the Cartesian coordinates by using th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2" name="Picture 7" descr=""/>
          <p:cNvPicPr/>
          <p:nvPr/>
        </p:nvPicPr>
        <p:blipFill>
          <a:blip r:embed="rId2"/>
          <a:stretch/>
        </p:blipFill>
        <p:spPr>
          <a:xfrm>
            <a:off x="990720" y="3429000"/>
            <a:ext cx="1600200" cy="979560"/>
          </a:xfrm>
          <a:prstGeom prst="rect">
            <a:avLst/>
          </a:prstGeom>
          <a:ln w="0">
            <a:noFill/>
          </a:ln>
        </p:spPr>
      </p:pic>
      <p:pic>
        <p:nvPicPr>
          <p:cNvPr id="2963" name="Picture 10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49356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33"/>
                </a:solidFill>
                <a:uFillTx/>
                <a:latin typeface="Garamond"/>
              </a:rPr>
              <a:t>Example 2 (Cont.):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400-m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alk in a direction of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3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N of E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.  How far is the displacement east and how far north?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5" name="Text Box 25"/>
          <p:cNvSpPr/>
          <p:nvPr/>
        </p:nvSpPr>
        <p:spPr>
          <a:xfrm>
            <a:off x="556272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x = 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s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Text Box 35"/>
          <p:cNvSpPr/>
          <p:nvPr/>
        </p:nvSpPr>
        <p:spPr>
          <a:xfrm>
            <a:off x="762120" y="52578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00 m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+346 m,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7" name="Group 58"/>
          <p:cNvGrpSpPr/>
          <p:nvPr/>
        </p:nvGrpSpPr>
        <p:grpSpPr>
          <a:xfrm>
            <a:off x="609480" y="1905120"/>
            <a:ext cx="4038840" cy="3124080"/>
            <a:chOff x="609480" y="1905120"/>
            <a:chExt cx="4038840" cy="3124080"/>
          </a:xfrm>
        </p:grpSpPr>
        <p:grpSp>
          <p:nvGrpSpPr>
            <p:cNvPr id="2968" name="Group 42"/>
            <p:cNvGrpSpPr/>
            <p:nvPr/>
          </p:nvGrpSpPr>
          <p:grpSpPr>
            <a:xfrm>
              <a:off x="609480" y="1905120"/>
              <a:ext cx="4038840" cy="3124080"/>
              <a:chOff x="609480" y="1905120"/>
              <a:chExt cx="4038840" cy="3124080"/>
            </a:xfrm>
          </p:grpSpPr>
          <p:sp>
            <p:nvSpPr>
              <p:cNvPr id="2969" name="Rectangle 41"/>
              <p:cNvSpPr/>
              <p:nvPr/>
            </p:nvSpPr>
            <p:spPr>
              <a:xfrm>
                <a:off x="609480" y="1905120"/>
                <a:ext cx="3733920" cy="3124080"/>
              </a:xfrm>
              <a:prstGeom prst="rect">
                <a:avLst/>
              </a:prstGeom>
              <a:solidFill>
                <a:srgbClr val="3b812f"/>
              </a:solidFill>
              <a:ln w="38160">
                <a:solidFill>
                  <a:srgbClr val="006633"/>
                </a:solidFill>
                <a:miter/>
              </a:ln>
              <a:effectLst>
                <a:outerShdw dist="107932" dir="2700000" blurRad="0" rotWithShape="0">
                  <a:srgbClr val="5f5f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Line 13"/>
              <p:cNvSpPr/>
              <p:nvPr/>
            </p:nvSpPr>
            <p:spPr>
              <a:xfrm>
                <a:off x="1066680" y="2133720"/>
                <a:ext cx="0" cy="27432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Line 14"/>
              <p:cNvSpPr/>
              <p:nvPr/>
            </p:nvSpPr>
            <p:spPr>
              <a:xfrm>
                <a:off x="685800" y="3886200"/>
                <a:ext cx="29718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Line 15"/>
              <p:cNvSpPr/>
              <p:nvPr/>
            </p:nvSpPr>
            <p:spPr>
              <a:xfrm flipV="1">
                <a:off x="1066680" y="2742840"/>
                <a:ext cx="198144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Line 16"/>
              <p:cNvSpPr/>
              <p:nvPr/>
            </p:nvSpPr>
            <p:spPr>
              <a:xfrm>
                <a:off x="3048120" y="281952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Text Box 17"/>
              <p:cNvSpPr/>
              <p:nvPr/>
            </p:nvSpPr>
            <p:spPr>
              <a:xfrm>
                <a:off x="1752480" y="396252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 = 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Text Box 18"/>
              <p:cNvSpPr/>
              <p:nvPr/>
            </p:nvSpPr>
            <p:spPr>
              <a:xfrm>
                <a:off x="3200400" y="297180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y = 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Text Box 19"/>
              <p:cNvSpPr/>
              <p:nvPr/>
            </p:nvSpPr>
            <p:spPr>
              <a:xfrm>
                <a:off x="990720" y="259092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00 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Text Box 20"/>
              <p:cNvSpPr/>
              <p:nvPr/>
            </p:nvSpPr>
            <p:spPr>
              <a:xfrm>
                <a:off x="1676520" y="335268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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Text Box 21"/>
              <p:cNvSpPr/>
              <p:nvPr/>
            </p:nvSpPr>
            <p:spPr>
              <a:xfrm>
                <a:off x="3657600" y="358128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Text Box 22"/>
              <p:cNvSpPr/>
              <p:nvPr/>
            </p:nvSpPr>
            <p:spPr>
              <a:xfrm>
                <a:off x="1219320" y="19051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0" name="Line 43"/>
            <p:cNvSpPr/>
            <p:nvPr/>
          </p:nvSpPr>
          <p:spPr>
            <a:xfrm>
              <a:off x="1066680" y="3886200"/>
              <a:ext cx="1981440" cy="0"/>
            </a:xfrm>
            <a:prstGeom prst="line">
              <a:avLst/>
            </a:prstGeom>
            <a:ln w="3816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Line 44"/>
            <p:cNvSpPr/>
            <p:nvPr/>
          </p:nvSpPr>
          <p:spPr>
            <a:xfrm flipV="1">
              <a:off x="3048120" y="2742840"/>
              <a:ext cx="0" cy="1066680"/>
            </a:xfrm>
            <a:prstGeom prst="line">
              <a:avLst/>
            </a:prstGeom>
            <a:ln w="3816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2" name="Text Box 46"/>
          <p:cNvSpPr/>
          <p:nvPr/>
        </p:nvSpPr>
        <p:spPr>
          <a:xfrm>
            <a:off x="4648320" y="2057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ide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djac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angl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Text Box 48"/>
          <p:cNvSpPr/>
          <p:nvPr/>
        </p:nvSpPr>
        <p:spPr>
          <a:xfrm>
            <a:off x="4648320" y="356544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D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HYP x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4" name="Group 52"/>
          <p:cNvGrpSpPr/>
          <p:nvPr/>
        </p:nvGrpSpPr>
        <p:grpSpPr>
          <a:xfrm>
            <a:off x="5029200" y="3276360"/>
            <a:ext cx="2285280" cy="228600"/>
            <a:chOff x="5029200" y="3276360"/>
            <a:chExt cx="2285280" cy="228600"/>
          </a:xfrm>
        </p:grpSpPr>
        <p:sp>
          <p:nvSpPr>
            <p:cNvPr id="2985" name="Line 49"/>
            <p:cNvSpPr/>
            <p:nvPr/>
          </p:nvSpPr>
          <p:spPr>
            <a:xfrm flipV="1">
              <a:off x="5029200" y="3276360"/>
              <a:ext cx="368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Line 50"/>
            <p:cNvSpPr/>
            <p:nvPr/>
          </p:nvSpPr>
          <p:spPr>
            <a:xfrm>
              <a:off x="5397480" y="3276720"/>
              <a:ext cx="1548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Line 51"/>
            <p:cNvSpPr/>
            <p:nvPr/>
          </p:nvSpPr>
          <p:spPr>
            <a:xfrm flipH="1" flipV="1">
              <a:off x="6946200" y="3276360"/>
              <a:ext cx="368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8" name="Group 59"/>
          <p:cNvGrpSpPr/>
          <p:nvPr/>
        </p:nvGrpSpPr>
        <p:grpSpPr>
          <a:xfrm>
            <a:off x="4952880" y="5181480"/>
            <a:ext cx="3962520" cy="1371600"/>
            <a:chOff x="4952880" y="5181480"/>
            <a:chExt cx="3962520" cy="1371600"/>
          </a:xfrm>
        </p:grpSpPr>
        <p:sp>
          <p:nvSpPr>
            <p:cNvPr id="2989" name="Rectangle 57"/>
            <p:cNvSpPr/>
            <p:nvPr/>
          </p:nvSpPr>
          <p:spPr>
            <a:xfrm>
              <a:off x="4952880" y="5181480"/>
              <a:ext cx="3962520" cy="13716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Text Box 53"/>
            <p:cNvSpPr/>
            <p:nvPr/>
          </p:nvSpPr>
          <p:spPr>
            <a:xfrm>
              <a:off x="4952880" y="5241960"/>
              <a:ext cx="388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The x-component i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Text Box 54"/>
            <p:cNvSpPr/>
            <p:nvPr/>
          </p:nvSpPr>
          <p:spPr>
            <a:xfrm>
              <a:off x="5410080" y="5867280"/>
              <a:ext cx="2743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00"/>
                  </a:solidFill>
                  <a:latin typeface="Arial"/>
                </a:rPr>
                <a:t>R</a:t>
              </a:r>
              <a:r>
                <a:rPr b="0" i="1" lang="en-US" sz="1800" spc="-1" strike="noStrike" baseline="-25000">
                  <a:solidFill>
                    <a:srgbClr val="003300"/>
                  </a:solidFill>
                  <a:latin typeface="Arial"/>
                </a:rPr>
                <a:t>x</a:t>
              </a:r>
              <a:r>
                <a:rPr b="0" i="1" lang="en-US" sz="1800" spc="-1" strike="noStrike">
                  <a:solidFill>
                    <a:srgbClr val="003300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+346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33"/>
                </a:solidFill>
                <a:uFillTx/>
                <a:latin typeface="Garamond"/>
              </a:rPr>
              <a:t>Example 2 (Cont.):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400-m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walk in a direction of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3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N of E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.  How far is the displacement east and how far north?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3" name="Text Box 16"/>
          <p:cNvSpPr/>
          <p:nvPr/>
        </p:nvSpPr>
        <p:spPr>
          <a:xfrm>
            <a:off x="5448240" y="4267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y = 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n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Text Box 19"/>
          <p:cNvSpPr/>
          <p:nvPr/>
        </p:nvSpPr>
        <p:spPr>
          <a:xfrm>
            <a:off x="609480" y="52578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(400 m) sin 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+ 200 m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5" name="Group 45"/>
          <p:cNvGrpSpPr/>
          <p:nvPr/>
        </p:nvGrpSpPr>
        <p:grpSpPr>
          <a:xfrm>
            <a:off x="609480" y="1905120"/>
            <a:ext cx="4038840" cy="3124080"/>
            <a:chOff x="609480" y="1905120"/>
            <a:chExt cx="4038840" cy="3124080"/>
          </a:xfrm>
        </p:grpSpPr>
        <p:grpSp>
          <p:nvGrpSpPr>
            <p:cNvPr id="2996" name="Group 3"/>
            <p:cNvGrpSpPr/>
            <p:nvPr/>
          </p:nvGrpSpPr>
          <p:grpSpPr>
            <a:xfrm>
              <a:off x="609480" y="1905120"/>
              <a:ext cx="4038840" cy="3124080"/>
              <a:chOff x="609480" y="1905120"/>
              <a:chExt cx="4038840" cy="3124080"/>
            </a:xfrm>
          </p:grpSpPr>
          <p:sp>
            <p:nvSpPr>
              <p:cNvPr id="2997" name="Rectangle 4"/>
              <p:cNvSpPr/>
              <p:nvPr/>
            </p:nvSpPr>
            <p:spPr>
              <a:xfrm>
                <a:off x="609480" y="1905120"/>
                <a:ext cx="3733920" cy="3124080"/>
              </a:xfrm>
              <a:prstGeom prst="rect">
                <a:avLst/>
              </a:prstGeom>
              <a:solidFill>
                <a:srgbClr val="3b812f"/>
              </a:solidFill>
              <a:ln w="38160">
                <a:solidFill>
                  <a:srgbClr val="006633"/>
                </a:solidFill>
                <a:miter/>
              </a:ln>
              <a:effectLst>
                <a:outerShdw dist="107932" dir="2700000" blurRad="0" rotWithShape="0">
                  <a:srgbClr val="5f5f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Line 5"/>
              <p:cNvSpPr/>
              <p:nvPr/>
            </p:nvSpPr>
            <p:spPr>
              <a:xfrm>
                <a:off x="1066680" y="2133720"/>
                <a:ext cx="0" cy="27432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Line 6"/>
              <p:cNvSpPr/>
              <p:nvPr/>
            </p:nvSpPr>
            <p:spPr>
              <a:xfrm>
                <a:off x="685800" y="3886200"/>
                <a:ext cx="29718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Line 7"/>
              <p:cNvSpPr/>
              <p:nvPr/>
            </p:nvSpPr>
            <p:spPr>
              <a:xfrm flipV="1">
                <a:off x="1066680" y="2742840"/>
                <a:ext cx="198144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Line 8"/>
              <p:cNvSpPr/>
              <p:nvPr/>
            </p:nvSpPr>
            <p:spPr>
              <a:xfrm>
                <a:off x="3048120" y="281952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Text Box 9"/>
              <p:cNvSpPr/>
              <p:nvPr/>
            </p:nvSpPr>
            <p:spPr>
              <a:xfrm>
                <a:off x="1752480" y="396252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 = 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Text Box 10"/>
              <p:cNvSpPr/>
              <p:nvPr/>
            </p:nvSpPr>
            <p:spPr>
              <a:xfrm>
                <a:off x="3200400" y="297180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y = 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Text Box 11"/>
              <p:cNvSpPr/>
              <p:nvPr/>
            </p:nvSpPr>
            <p:spPr>
              <a:xfrm>
                <a:off x="990720" y="259092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00 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Text Box 12"/>
              <p:cNvSpPr/>
              <p:nvPr/>
            </p:nvSpPr>
            <p:spPr>
              <a:xfrm>
                <a:off x="1676520" y="335268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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Text Box 13"/>
              <p:cNvSpPr/>
              <p:nvPr/>
            </p:nvSpPr>
            <p:spPr>
              <a:xfrm>
                <a:off x="3657600" y="358128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Text Box 14"/>
              <p:cNvSpPr/>
              <p:nvPr/>
            </p:nvSpPr>
            <p:spPr>
              <a:xfrm>
                <a:off x="1219320" y="19051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8" name="Group 44"/>
            <p:cNvGrpSpPr/>
            <p:nvPr/>
          </p:nvGrpSpPr>
          <p:grpSpPr>
            <a:xfrm>
              <a:off x="1066680" y="2742840"/>
              <a:ext cx="1981440" cy="1143360"/>
              <a:chOff x="1066680" y="2742840"/>
              <a:chExt cx="1981440" cy="1143360"/>
            </a:xfrm>
          </p:grpSpPr>
          <p:sp>
            <p:nvSpPr>
              <p:cNvPr id="3009" name="Line 20"/>
              <p:cNvSpPr/>
              <p:nvPr/>
            </p:nvSpPr>
            <p:spPr>
              <a:xfrm>
                <a:off x="1066680" y="3886200"/>
                <a:ext cx="1981440" cy="0"/>
              </a:xfrm>
              <a:prstGeom prst="line">
                <a:avLst/>
              </a:prstGeom>
              <a:ln w="38160">
                <a:solidFill>
                  <a:srgbClr val="66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Line 21"/>
              <p:cNvSpPr/>
              <p:nvPr/>
            </p:nvSpPr>
            <p:spPr>
              <a:xfrm flipV="1">
                <a:off x="3048120" y="2742840"/>
                <a:ext cx="0" cy="1066680"/>
              </a:xfrm>
              <a:prstGeom prst="line">
                <a:avLst/>
              </a:prstGeom>
              <a:ln w="38160">
                <a:solidFill>
                  <a:srgbClr val="66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1" name="Text Box 35"/>
          <p:cNvSpPr/>
          <p:nvPr/>
        </p:nvSpPr>
        <p:spPr>
          <a:xfrm>
            <a:off x="4648320" y="356544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P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HYP x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S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2" name="Group 36"/>
          <p:cNvGrpSpPr/>
          <p:nvPr/>
        </p:nvGrpSpPr>
        <p:grpSpPr>
          <a:xfrm>
            <a:off x="5029200" y="3276360"/>
            <a:ext cx="2285280" cy="228600"/>
            <a:chOff x="5029200" y="3276360"/>
            <a:chExt cx="2285280" cy="228600"/>
          </a:xfrm>
        </p:grpSpPr>
        <p:sp>
          <p:nvSpPr>
            <p:cNvPr id="3013" name="Line 37"/>
            <p:cNvSpPr/>
            <p:nvPr/>
          </p:nvSpPr>
          <p:spPr>
            <a:xfrm flipV="1">
              <a:off x="5029200" y="3276360"/>
              <a:ext cx="368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Line 38"/>
            <p:cNvSpPr/>
            <p:nvPr/>
          </p:nvSpPr>
          <p:spPr>
            <a:xfrm>
              <a:off x="5397480" y="3276720"/>
              <a:ext cx="1548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Line 39"/>
            <p:cNvSpPr/>
            <p:nvPr/>
          </p:nvSpPr>
          <p:spPr>
            <a:xfrm flipH="1" flipV="1">
              <a:off x="6946200" y="3276360"/>
              <a:ext cx="3682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6" name="Group 43"/>
          <p:cNvGrpSpPr/>
          <p:nvPr/>
        </p:nvGrpSpPr>
        <p:grpSpPr>
          <a:xfrm>
            <a:off x="4800600" y="5181480"/>
            <a:ext cx="4038480" cy="1371600"/>
            <a:chOff x="4800600" y="5181480"/>
            <a:chExt cx="4038480" cy="1371600"/>
          </a:xfrm>
        </p:grpSpPr>
        <p:sp>
          <p:nvSpPr>
            <p:cNvPr id="3017" name="Rectangle 32"/>
            <p:cNvSpPr/>
            <p:nvPr/>
          </p:nvSpPr>
          <p:spPr>
            <a:xfrm>
              <a:off x="4800600" y="5181480"/>
              <a:ext cx="3962520" cy="13716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Text Box 40"/>
            <p:cNvSpPr/>
            <p:nvPr/>
          </p:nvSpPr>
          <p:spPr>
            <a:xfrm>
              <a:off x="4952880" y="5241960"/>
              <a:ext cx="388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The y-component i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Text Box 41"/>
            <p:cNvSpPr/>
            <p:nvPr/>
          </p:nvSpPr>
          <p:spPr>
            <a:xfrm>
              <a:off x="5410080" y="5867280"/>
              <a:ext cx="2743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00"/>
                  </a:solidFill>
                  <a:latin typeface="Arial"/>
                </a:rPr>
                <a:t>R</a:t>
              </a:r>
              <a:r>
                <a:rPr b="0" i="1" lang="en-US" sz="1800" spc="-1" strike="noStrike" baseline="-25000">
                  <a:solidFill>
                    <a:srgbClr val="003300"/>
                  </a:solidFill>
                  <a:latin typeface="Arial"/>
                </a:rPr>
                <a:t>y</a:t>
              </a:r>
              <a:r>
                <a:rPr b="0" i="1" lang="en-US" sz="1800" spc="-1" strike="noStrike">
                  <a:solidFill>
                    <a:srgbClr val="003300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+200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0" name="Text Box 42"/>
          <p:cNvSpPr/>
          <p:nvPr/>
        </p:nvSpPr>
        <p:spPr>
          <a:xfrm>
            <a:off x="4648320" y="2057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ide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ppos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angl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0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ala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CAL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NY quantity in physics that has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MAGNITU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but NOT a direction associated with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Magnitu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A numerical value with uni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7" name=""/>
          <p:cNvGraphicFramePr/>
          <p:nvPr/>
        </p:nvGraphicFramePr>
        <p:xfrm>
          <a:off x="4572000" y="1219320"/>
          <a:ext cx="4038480" cy="45306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calar Examp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gnitud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/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year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calor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Finding Resultant: (Cont.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grpSp>
        <p:nvGrpSpPr>
          <p:cNvPr id="3022" name="Group 3"/>
          <p:cNvGrpSpPr/>
          <p:nvPr/>
        </p:nvGrpSpPr>
        <p:grpSpPr>
          <a:xfrm>
            <a:off x="380880" y="1752480"/>
            <a:ext cx="4038480" cy="2514240"/>
            <a:chOff x="380880" y="1752480"/>
            <a:chExt cx="4038480" cy="2514240"/>
          </a:xfrm>
        </p:grpSpPr>
        <p:sp>
          <p:nvSpPr>
            <p:cNvPr id="3023" name="Line 4"/>
            <p:cNvSpPr/>
            <p:nvPr/>
          </p:nvSpPr>
          <p:spPr>
            <a:xfrm>
              <a:off x="1703520" y="2017080"/>
              <a:ext cx="0" cy="2249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Line 5"/>
            <p:cNvSpPr/>
            <p:nvPr/>
          </p:nvSpPr>
          <p:spPr>
            <a:xfrm>
              <a:off x="937800" y="2414160"/>
              <a:ext cx="3342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Line 6"/>
            <p:cNvSpPr/>
            <p:nvPr/>
          </p:nvSpPr>
          <p:spPr>
            <a:xfrm>
              <a:off x="1703520" y="2414160"/>
              <a:ext cx="2369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Line 7"/>
            <p:cNvSpPr/>
            <p:nvPr/>
          </p:nvSpPr>
          <p:spPr>
            <a:xfrm>
              <a:off x="1703520" y="2414160"/>
              <a:ext cx="0" cy="13896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Line 8"/>
            <p:cNvSpPr/>
            <p:nvPr/>
          </p:nvSpPr>
          <p:spPr>
            <a:xfrm>
              <a:off x="2191320" y="2280240"/>
              <a:ext cx="0" cy="199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Line 9"/>
            <p:cNvSpPr/>
            <p:nvPr/>
          </p:nvSpPr>
          <p:spPr>
            <a:xfrm>
              <a:off x="2818080" y="2280240"/>
              <a:ext cx="0" cy="199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Line 10"/>
            <p:cNvSpPr/>
            <p:nvPr/>
          </p:nvSpPr>
          <p:spPr>
            <a:xfrm>
              <a:off x="3444840" y="2280240"/>
              <a:ext cx="0" cy="199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Line 11"/>
            <p:cNvSpPr/>
            <p:nvPr/>
          </p:nvSpPr>
          <p:spPr>
            <a:xfrm>
              <a:off x="1564560" y="2878920"/>
              <a:ext cx="2786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Line 12"/>
            <p:cNvSpPr/>
            <p:nvPr/>
          </p:nvSpPr>
          <p:spPr>
            <a:xfrm>
              <a:off x="1564560" y="3276000"/>
              <a:ext cx="2786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Text Box 13"/>
            <p:cNvSpPr/>
            <p:nvPr/>
          </p:nvSpPr>
          <p:spPr>
            <a:xfrm>
              <a:off x="3235680" y="1752480"/>
              <a:ext cx="1183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4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Text Box 14"/>
            <p:cNvSpPr/>
            <p:nvPr/>
          </p:nvSpPr>
          <p:spPr>
            <a:xfrm>
              <a:off x="380880" y="3472920"/>
              <a:ext cx="1183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3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4" name="Group 28"/>
          <p:cNvGrpSpPr/>
          <p:nvPr/>
        </p:nvGrpSpPr>
        <p:grpSpPr>
          <a:xfrm>
            <a:off x="4595760" y="1752480"/>
            <a:ext cx="4284720" cy="2227320"/>
            <a:chOff x="4595760" y="1752480"/>
            <a:chExt cx="4284720" cy="2227320"/>
          </a:xfrm>
        </p:grpSpPr>
        <p:sp>
          <p:nvSpPr>
            <p:cNvPr id="3035" name="Line 16"/>
            <p:cNvSpPr/>
            <p:nvPr/>
          </p:nvSpPr>
          <p:spPr>
            <a:xfrm>
              <a:off x="5257800" y="190512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Line 17"/>
            <p:cNvSpPr/>
            <p:nvPr/>
          </p:nvSpPr>
          <p:spPr>
            <a:xfrm>
              <a:off x="4595760" y="2414520"/>
              <a:ext cx="3341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Line 18"/>
            <p:cNvSpPr/>
            <p:nvPr/>
          </p:nvSpPr>
          <p:spPr>
            <a:xfrm>
              <a:off x="5361120" y="2414520"/>
              <a:ext cx="2368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Line 19"/>
            <p:cNvSpPr/>
            <p:nvPr/>
          </p:nvSpPr>
          <p:spPr>
            <a:xfrm>
              <a:off x="7620120" y="2514600"/>
              <a:ext cx="0" cy="1389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Line 20"/>
            <p:cNvSpPr/>
            <p:nvPr/>
          </p:nvSpPr>
          <p:spPr>
            <a:xfrm>
              <a:off x="5848200" y="2281320"/>
              <a:ext cx="0" cy="199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Line 21"/>
            <p:cNvSpPr/>
            <p:nvPr/>
          </p:nvSpPr>
          <p:spPr>
            <a:xfrm>
              <a:off x="6475320" y="2281320"/>
              <a:ext cx="0" cy="199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Line 22"/>
            <p:cNvSpPr/>
            <p:nvPr/>
          </p:nvSpPr>
          <p:spPr>
            <a:xfrm>
              <a:off x="7102440" y="2281320"/>
              <a:ext cx="0" cy="199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Line 23"/>
            <p:cNvSpPr/>
            <p:nvPr/>
          </p:nvSpPr>
          <p:spPr>
            <a:xfrm>
              <a:off x="7467480" y="2895480"/>
              <a:ext cx="2779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Line 24"/>
            <p:cNvSpPr/>
            <p:nvPr/>
          </p:nvSpPr>
          <p:spPr>
            <a:xfrm>
              <a:off x="7467480" y="3352680"/>
              <a:ext cx="2779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Text Box 25"/>
            <p:cNvSpPr/>
            <p:nvPr/>
          </p:nvSpPr>
          <p:spPr>
            <a:xfrm>
              <a:off x="6892920" y="1752480"/>
              <a:ext cx="118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4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Text Box 26"/>
            <p:cNvSpPr/>
            <p:nvPr/>
          </p:nvSpPr>
          <p:spPr>
            <a:xfrm>
              <a:off x="7696080" y="3429000"/>
              <a:ext cx="118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3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6" name="Text Box 27"/>
          <p:cNvSpPr/>
          <p:nvPr/>
        </p:nvSpPr>
        <p:spPr>
          <a:xfrm>
            <a:off x="914400" y="9144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Finding (</a:t>
            </a:r>
            <a:r>
              <a:rPr b="0" i="1" lang="en-US" sz="3000" spc="-1" strike="noStrike">
                <a:solidFill>
                  <a:srgbClr val="ffff00"/>
                </a:solidFill>
                <a:latin typeface="Tahoma"/>
              </a:rPr>
              <a:t>R,</a:t>
            </a:r>
            <a:r>
              <a:rPr b="0" i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) from given (</a:t>
            </a:r>
            <a:r>
              <a:rPr b="0" i="1" lang="en-US" sz="3000" spc="-1" strike="noStrike">
                <a:solidFill>
                  <a:srgbClr val="ffff00"/>
                </a:solidFill>
                <a:latin typeface="Tahoma"/>
              </a:rPr>
              <a:t>x,y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) = (+40, -3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Line 29"/>
          <p:cNvSpPr/>
          <p:nvPr/>
        </p:nvSpPr>
        <p:spPr>
          <a:xfrm>
            <a:off x="5257800" y="2362320"/>
            <a:ext cx="2362320" cy="16761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Text Box 30"/>
          <p:cNvSpPr/>
          <p:nvPr/>
        </p:nvSpPr>
        <p:spPr>
          <a:xfrm>
            <a:off x="6248520" y="342900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66"/>
                </a:solidFill>
                <a:latin typeface="Tahoma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9" name="Group 42"/>
          <p:cNvGrpSpPr/>
          <p:nvPr/>
        </p:nvGrpSpPr>
        <p:grpSpPr>
          <a:xfrm>
            <a:off x="4572000" y="1752480"/>
            <a:ext cx="1676520" cy="1084320"/>
            <a:chOff x="4572000" y="1752480"/>
            <a:chExt cx="1676520" cy="1084320"/>
          </a:xfrm>
        </p:grpSpPr>
        <p:grpSp>
          <p:nvGrpSpPr>
            <p:cNvPr id="3050" name="Group 39"/>
            <p:cNvGrpSpPr/>
            <p:nvPr/>
          </p:nvGrpSpPr>
          <p:grpSpPr>
            <a:xfrm>
              <a:off x="4952520" y="2057400"/>
              <a:ext cx="609840" cy="609480"/>
              <a:chOff x="4952520" y="2057400"/>
              <a:chExt cx="609840" cy="609480"/>
            </a:xfrm>
          </p:grpSpPr>
          <p:sp>
            <p:nvSpPr>
              <p:cNvPr id="3051" name="Arc 34"/>
              <p:cNvSpPr/>
              <p:nvPr/>
            </p:nvSpPr>
            <p:spPr>
              <a:xfrm>
                <a:off x="5257800" y="2057400"/>
                <a:ext cx="304560" cy="304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Arc 35"/>
              <p:cNvSpPr/>
              <p:nvPr/>
            </p:nvSpPr>
            <p:spPr>
              <a:xfrm flipH="1">
                <a:off x="4952160" y="2057400"/>
                <a:ext cx="304920" cy="304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Arc 36"/>
              <p:cNvSpPr/>
              <p:nvPr/>
            </p:nvSpPr>
            <p:spPr>
              <a:xfrm flipH="1" flipV="1">
                <a:off x="4952160" y="2362320"/>
                <a:ext cx="304920" cy="3045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Arc 38"/>
              <p:cNvSpPr/>
              <p:nvPr/>
            </p:nvSpPr>
            <p:spPr>
              <a:xfrm flipV="1">
                <a:off x="5257800" y="2513880"/>
                <a:ext cx="228600" cy="152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66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5" name="Text Box 40"/>
            <p:cNvSpPr/>
            <p:nvPr/>
          </p:nvSpPr>
          <p:spPr>
            <a:xfrm>
              <a:off x="5791320" y="22860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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Text Box 41"/>
            <p:cNvSpPr/>
            <p:nvPr/>
          </p:nvSpPr>
          <p:spPr>
            <a:xfrm>
              <a:off x="4572000" y="175248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7" name="Text Box 45"/>
          <p:cNvSpPr/>
          <p:nvPr/>
        </p:nvSpPr>
        <p:spPr>
          <a:xfrm>
            <a:off x="7772400" y="2666880"/>
            <a:ext cx="914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ffcc"/>
                </a:solidFill>
                <a:latin typeface="Tahoma"/>
              </a:rPr>
              <a:t>R</a:t>
            </a:r>
            <a:r>
              <a:rPr b="0" i="1" lang="en-US" sz="3000" spc="-1" strike="noStrike" baseline="-25000">
                <a:solidFill>
                  <a:srgbClr val="66ffcc"/>
                </a:solidFill>
                <a:latin typeface="Tahoma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Text Box 46"/>
          <p:cNvSpPr/>
          <p:nvPr/>
        </p:nvSpPr>
        <p:spPr>
          <a:xfrm>
            <a:off x="6019920" y="1676520"/>
            <a:ext cx="838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ffcc"/>
                </a:solidFill>
                <a:latin typeface="Tahoma"/>
              </a:rPr>
              <a:t>R</a:t>
            </a:r>
            <a:r>
              <a:rPr b="0" i="1" lang="en-US" sz="3000" spc="-1" strike="noStrike" baseline="-25000">
                <a:solidFill>
                  <a:srgbClr val="66ffcc"/>
                </a:solidFill>
                <a:latin typeface="Tahoma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9" name="Group 68"/>
          <p:cNvGrpSpPr/>
          <p:nvPr/>
        </p:nvGrpSpPr>
        <p:grpSpPr>
          <a:xfrm>
            <a:off x="914400" y="4647960"/>
            <a:ext cx="2895480" cy="551160"/>
            <a:chOff x="914400" y="4647960"/>
            <a:chExt cx="2895480" cy="551160"/>
          </a:xfrm>
        </p:grpSpPr>
        <p:sp>
          <p:nvSpPr>
            <p:cNvPr id="3060" name="Text Box 48"/>
            <p:cNvSpPr/>
            <p:nvPr/>
          </p:nvSpPr>
          <p:spPr>
            <a:xfrm>
              <a:off x="914400" y="4648320"/>
              <a:ext cx="2895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 =     x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 + y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1" name="Group 49"/>
            <p:cNvGrpSpPr/>
            <p:nvPr/>
          </p:nvGrpSpPr>
          <p:grpSpPr>
            <a:xfrm>
              <a:off x="1752480" y="4647960"/>
              <a:ext cx="1752480" cy="533520"/>
              <a:chOff x="1752480" y="4647960"/>
              <a:chExt cx="1752480" cy="533520"/>
            </a:xfrm>
          </p:grpSpPr>
          <p:sp>
            <p:nvSpPr>
              <p:cNvPr id="3062" name="Line 50"/>
              <p:cNvSpPr/>
              <p:nvPr/>
            </p:nvSpPr>
            <p:spPr>
              <a:xfrm>
                <a:off x="1752480" y="4876920"/>
                <a:ext cx="228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Line 51"/>
              <p:cNvSpPr/>
              <p:nvPr/>
            </p:nvSpPr>
            <p:spPr>
              <a:xfrm>
                <a:off x="1981080" y="4876920"/>
                <a:ext cx="75960" cy="304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Line 52"/>
              <p:cNvSpPr/>
              <p:nvPr/>
            </p:nvSpPr>
            <p:spPr>
              <a:xfrm flipV="1">
                <a:off x="2057040" y="4647960"/>
                <a:ext cx="7632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Line 53"/>
              <p:cNvSpPr/>
              <p:nvPr/>
            </p:nvSpPr>
            <p:spPr>
              <a:xfrm>
                <a:off x="2133360" y="4648320"/>
                <a:ext cx="1371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66" name="Group 61"/>
          <p:cNvGrpSpPr/>
          <p:nvPr/>
        </p:nvGrpSpPr>
        <p:grpSpPr>
          <a:xfrm>
            <a:off x="3962520" y="4572000"/>
            <a:ext cx="5181480" cy="550800"/>
            <a:chOff x="3962520" y="4572000"/>
            <a:chExt cx="5181480" cy="550800"/>
          </a:xfrm>
        </p:grpSpPr>
        <p:sp>
          <p:nvSpPr>
            <p:cNvPr id="3067" name="Text Box 54"/>
            <p:cNvSpPr/>
            <p:nvPr/>
          </p:nvSpPr>
          <p:spPr>
            <a:xfrm>
              <a:off x="3962520" y="457200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ahoma"/>
                </a:rPr>
                <a:t>R </a:t>
              </a: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=    (40)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 + (30)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 = </a:t>
              </a:r>
              <a:r>
                <a:rPr b="0" lang="en-US" sz="3000" spc="-1" strike="noStrike">
                  <a:solidFill>
                    <a:srgbClr val="ffff00"/>
                  </a:solidFill>
                  <a:latin typeface="Tahoma"/>
                </a:rPr>
                <a:t>5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Line 56"/>
            <p:cNvSpPr/>
            <p:nvPr/>
          </p:nvSpPr>
          <p:spPr>
            <a:xfrm>
              <a:off x="4724280" y="480060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Line 57"/>
            <p:cNvSpPr/>
            <p:nvPr/>
          </p:nvSpPr>
          <p:spPr>
            <a:xfrm>
              <a:off x="4952880" y="4800600"/>
              <a:ext cx="7632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Line 58"/>
            <p:cNvSpPr/>
            <p:nvPr/>
          </p:nvSpPr>
          <p:spPr>
            <a:xfrm flipV="1">
              <a:off x="5029200" y="4572000"/>
              <a:ext cx="7632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Line 59"/>
            <p:cNvSpPr/>
            <p:nvPr/>
          </p:nvSpPr>
          <p:spPr>
            <a:xfrm>
              <a:off x="5105520" y="4572000"/>
              <a:ext cx="2286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2" name="Group 67"/>
          <p:cNvGrpSpPr/>
          <p:nvPr/>
        </p:nvGrpSpPr>
        <p:grpSpPr>
          <a:xfrm>
            <a:off x="838080" y="5410080"/>
            <a:ext cx="2895840" cy="1245600"/>
            <a:chOff x="838080" y="5410080"/>
            <a:chExt cx="2895840" cy="1245600"/>
          </a:xfrm>
        </p:grpSpPr>
        <p:sp>
          <p:nvSpPr>
            <p:cNvPr id="3073" name="Text Box 62"/>
            <p:cNvSpPr/>
            <p:nvPr/>
          </p:nvSpPr>
          <p:spPr>
            <a:xfrm>
              <a:off x="838080" y="5715000"/>
              <a:ext cx="2895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tan </a:t>
              </a:r>
              <a:r>
                <a:rPr b="0" lang="en-US" sz="3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</a:t>
              </a: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=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Line 63"/>
            <p:cNvSpPr/>
            <p:nvPr/>
          </p:nvSpPr>
          <p:spPr>
            <a:xfrm>
              <a:off x="2362320" y="6019920"/>
              <a:ext cx="99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Text Box 64"/>
            <p:cNvSpPr/>
            <p:nvPr/>
          </p:nvSpPr>
          <p:spPr>
            <a:xfrm>
              <a:off x="2362320" y="5410080"/>
              <a:ext cx="990360" cy="12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-3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40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6" name="Text Box 65"/>
          <p:cNvSpPr/>
          <p:nvPr/>
        </p:nvSpPr>
        <p:spPr>
          <a:xfrm>
            <a:off x="4038480" y="571500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= -36.9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Text Box 66"/>
          <p:cNvSpPr/>
          <p:nvPr/>
        </p:nvSpPr>
        <p:spPr>
          <a:xfrm>
            <a:off x="6477120" y="5562720"/>
            <a:ext cx="2286000" cy="731520"/>
          </a:xfrm>
          <a:prstGeom prst="rect">
            <a:avLst/>
          </a:prstGeom>
          <a:solidFill>
            <a:srgbClr val="ffffcc"/>
          </a:solidFill>
          <a:ln w="4140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= 323.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0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1" dur="500"/>
                                        <p:tgtEl>
                                          <p:spTgt spid="3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0" dur="500"/>
                                        <p:tgtEl>
                                          <p:spTgt spid="3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5" dur="500"/>
                                        <p:tgtEl>
                                          <p:spTgt spid="3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3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3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3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3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3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Four Quadrants: (Cont.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grpSp>
        <p:nvGrpSpPr>
          <p:cNvPr id="3079" name="Group 178"/>
          <p:cNvGrpSpPr/>
          <p:nvPr/>
        </p:nvGrpSpPr>
        <p:grpSpPr>
          <a:xfrm>
            <a:off x="4859280" y="3581280"/>
            <a:ext cx="4284720" cy="2286000"/>
            <a:chOff x="4859280" y="3581280"/>
            <a:chExt cx="4284720" cy="2286000"/>
          </a:xfrm>
        </p:grpSpPr>
        <p:grpSp>
          <p:nvGrpSpPr>
            <p:cNvPr id="3080" name="Group 15"/>
            <p:cNvGrpSpPr/>
            <p:nvPr/>
          </p:nvGrpSpPr>
          <p:grpSpPr>
            <a:xfrm>
              <a:off x="4859280" y="3581280"/>
              <a:ext cx="4284720" cy="2227320"/>
              <a:chOff x="4859280" y="3581280"/>
              <a:chExt cx="4284720" cy="2227320"/>
            </a:xfrm>
          </p:grpSpPr>
          <p:sp>
            <p:nvSpPr>
              <p:cNvPr id="3081" name="Line 16"/>
              <p:cNvSpPr/>
              <p:nvPr/>
            </p:nvSpPr>
            <p:spPr>
              <a:xfrm>
                <a:off x="5521320" y="3733920"/>
                <a:ext cx="0" cy="20574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Line 17"/>
              <p:cNvSpPr/>
              <p:nvPr/>
            </p:nvSpPr>
            <p:spPr>
              <a:xfrm>
                <a:off x="4859280" y="4243320"/>
                <a:ext cx="33418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Line 18"/>
              <p:cNvSpPr/>
              <p:nvPr/>
            </p:nvSpPr>
            <p:spPr>
              <a:xfrm>
                <a:off x="5624640" y="4243320"/>
                <a:ext cx="2368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Line 19"/>
              <p:cNvSpPr/>
              <p:nvPr/>
            </p:nvSpPr>
            <p:spPr>
              <a:xfrm>
                <a:off x="7883640" y="4343400"/>
                <a:ext cx="0" cy="13892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Line 20"/>
              <p:cNvSpPr/>
              <p:nvPr/>
            </p:nvSpPr>
            <p:spPr>
              <a:xfrm>
                <a:off x="6111720" y="4110120"/>
                <a:ext cx="0" cy="199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Line 21"/>
              <p:cNvSpPr/>
              <p:nvPr/>
            </p:nvSpPr>
            <p:spPr>
              <a:xfrm>
                <a:off x="6738840" y="4110120"/>
                <a:ext cx="0" cy="199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Line 22"/>
              <p:cNvSpPr/>
              <p:nvPr/>
            </p:nvSpPr>
            <p:spPr>
              <a:xfrm>
                <a:off x="7365960" y="4110120"/>
                <a:ext cx="0" cy="199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Line 23"/>
              <p:cNvSpPr/>
              <p:nvPr/>
            </p:nvSpPr>
            <p:spPr>
              <a:xfrm>
                <a:off x="7731000" y="4724280"/>
                <a:ext cx="27792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Line 24"/>
              <p:cNvSpPr/>
              <p:nvPr/>
            </p:nvSpPr>
            <p:spPr>
              <a:xfrm>
                <a:off x="7731000" y="5181480"/>
                <a:ext cx="27792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Text Box 25"/>
              <p:cNvSpPr/>
              <p:nvPr/>
            </p:nvSpPr>
            <p:spPr>
              <a:xfrm>
                <a:off x="7156440" y="3581280"/>
                <a:ext cx="1184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ahoma"/>
                  </a:rPr>
                  <a:t>40 lb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Text Box 26"/>
              <p:cNvSpPr/>
              <p:nvPr/>
            </p:nvSpPr>
            <p:spPr>
              <a:xfrm>
                <a:off x="7959600" y="5257800"/>
                <a:ext cx="1184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ahoma"/>
                  </a:rPr>
                  <a:t>30 lb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2" name="Group 28"/>
            <p:cNvGrpSpPr/>
            <p:nvPr/>
          </p:nvGrpSpPr>
          <p:grpSpPr>
            <a:xfrm>
              <a:off x="5562720" y="4191120"/>
              <a:ext cx="2361960" cy="1676160"/>
              <a:chOff x="5562720" y="4191120"/>
              <a:chExt cx="2361960" cy="1676160"/>
            </a:xfrm>
          </p:grpSpPr>
          <p:sp>
            <p:nvSpPr>
              <p:cNvPr id="3093" name="Line 29"/>
              <p:cNvSpPr/>
              <p:nvPr/>
            </p:nvSpPr>
            <p:spPr>
              <a:xfrm>
                <a:off x="5562720" y="4191120"/>
                <a:ext cx="2361960" cy="16761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Text Box 30"/>
              <p:cNvSpPr/>
              <p:nvPr/>
            </p:nvSpPr>
            <p:spPr>
              <a:xfrm>
                <a:off x="6553080" y="5257800"/>
                <a:ext cx="609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ahoma"/>
                  </a:rPr>
                  <a:t>R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5" name="Group 31"/>
            <p:cNvGrpSpPr/>
            <p:nvPr/>
          </p:nvGrpSpPr>
          <p:grpSpPr>
            <a:xfrm>
              <a:off x="4876920" y="3657600"/>
              <a:ext cx="1675800" cy="1083960"/>
              <a:chOff x="4876920" y="3657600"/>
              <a:chExt cx="1675800" cy="1083960"/>
            </a:xfrm>
          </p:grpSpPr>
          <p:grpSp>
            <p:nvGrpSpPr>
              <p:cNvPr id="3096" name="Group 32"/>
              <p:cNvGrpSpPr/>
              <p:nvPr/>
            </p:nvGrpSpPr>
            <p:grpSpPr>
              <a:xfrm>
                <a:off x="5257080" y="3962160"/>
                <a:ext cx="609840" cy="608760"/>
                <a:chOff x="5257080" y="3962160"/>
                <a:chExt cx="609840" cy="608760"/>
              </a:xfrm>
            </p:grpSpPr>
            <p:sp>
              <p:nvSpPr>
                <p:cNvPr id="3097" name="Arc 33"/>
                <p:cNvSpPr/>
                <p:nvPr/>
              </p:nvSpPr>
              <p:spPr>
                <a:xfrm>
                  <a:off x="5562360" y="3962160"/>
                  <a:ext cx="304560" cy="304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8" name="Arc 34"/>
                <p:cNvSpPr/>
                <p:nvPr/>
              </p:nvSpPr>
              <p:spPr>
                <a:xfrm flipH="1">
                  <a:off x="5256720" y="3962160"/>
                  <a:ext cx="304920" cy="304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9" name="Arc 35"/>
                <p:cNvSpPr/>
                <p:nvPr/>
              </p:nvSpPr>
              <p:spPr>
                <a:xfrm flipH="1" flipV="1">
                  <a:off x="5256720" y="4266000"/>
                  <a:ext cx="304920" cy="304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0" name="Arc 36"/>
                <p:cNvSpPr/>
                <p:nvPr/>
              </p:nvSpPr>
              <p:spPr>
                <a:xfrm flipV="1">
                  <a:off x="5562360" y="4419000"/>
                  <a:ext cx="228600" cy="151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66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1" name="Text Box 37"/>
              <p:cNvSpPr/>
              <p:nvPr/>
            </p:nvSpPr>
            <p:spPr>
              <a:xfrm>
                <a:off x="6095880" y="4190760"/>
                <a:ext cx="456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66ffcc"/>
                    </a:solidFill>
                    <a:latin typeface="Symbol"/>
                    <a:ea typeface="Symbol"/>
                  </a:rPr>
                  <a:t>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Text Box 38"/>
              <p:cNvSpPr/>
              <p:nvPr/>
            </p:nvSpPr>
            <p:spPr>
              <a:xfrm>
                <a:off x="4876920" y="3657600"/>
                <a:ext cx="456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66ffcc"/>
                    </a:solidFill>
                    <a:latin typeface="Symbol"/>
                    <a:ea typeface="Symbol"/>
                  </a:rPr>
                  <a:t>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3" name="Text Box 39"/>
            <p:cNvSpPr/>
            <p:nvPr/>
          </p:nvSpPr>
          <p:spPr>
            <a:xfrm>
              <a:off x="8001000" y="4648320"/>
              <a:ext cx="9144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Text Box 40"/>
            <p:cNvSpPr/>
            <p:nvPr/>
          </p:nvSpPr>
          <p:spPr>
            <a:xfrm>
              <a:off x="6248520" y="3581280"/>
              <a:ext cx="8380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5" name="Group 175"/>
          <p:cNvGrpSpPr/>
          <p:nvPr/>
        </p:nvGrpSpPr>
        <p:grpSpPr>
          <a:xfrm>
            <a:off x="339480" y="3581280"/>
            <a:ext cx="4056120" cy="2355840"/>
            <a:chOff x="339480" y="3581280"/>
            <a:chExt cx="4056120" cy="2355840"/>
          </a:xfrm>
        </p:grpSpPr>
        <p:sp>
          <p:nvSpPr>
            <p:cNvPr id="3106" name="Line 61"/>
            <p:cNvSpPr/>
            <p:nvPr/>
          </p:nvSpPr>
          <p:spPr>
            <a:xfrm>
              <a:off x="3733920" y="380988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Line 62"/>
            <p:cNvSpPr/>
            <p:nvPr/>
          </p:nvSpPr>
          <p:spPr>
            <a:xfrm flipH="1">
              <a:off x="1053720" y="4319640"/>
              <a:ext cx="3341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Line 63"/>
            <p:cNvSpPr/>
            <p:nvPr/>
          </p:nvSpPr>
          <p:spPr>
            <a:xfrm flipH="1">
              <a:off x="1261800" y="4319640"/>
              <a:ext cx="2368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Line 64"/>
            <p:cNvSpPr/>
            <p:nvPr/>
          </p:nvSpPr>
          <p:spPr>
            <a:xfrm>
              <a:off x="1371600" y="4419720"/>
              <a:ext cx="0" cy="1388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Line 65"/>
            <p:cNvSpPr/>
            <p:nvPr/>
          </p:nvSpPr>
          <p:spPr>
            <a:xfrm>
              <a:off x="3143160" y="418608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Line 66"/>
            <p:cNvSpPr/>
            <p:nvPr/>
          </p:nvSpPr>
          <p:spPr>
            <a:xfrm>
              <a:off x="2516040" y="418608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Line 67"/>
            <p:cNvSpPr/>
            <p:nvPr/>
          </p:nvSpPr>
          <p:spPr>
            <a:xfrm>
              <a:off x="1889280" y="418608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Line 68"/>
            <p:cNvSpPr/>
            <p:nvPr/>
          </p:nvSpPr>
          <p:spPr>
            <a:xfrm flipH="1">
              <a:off x="1245960" y="4802040"/>
              <a:ext cx="27756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Line 69"/>
            <p:cNvSpPr/>
            <p:nvPr/>
          </p:nvSpPr>
          <p:spPr>
            <a:xfrm flipH="1">
              <a:off x="1245960" y="5257800"/>
              <a:ext cx="27756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Text Box 70"/>
            <p:cNvSpPr/>
            <p:nvPr/>
          </p:nvSpPr>
          <p:spPr>
            <a:xfrm flipH="1">
              <a:off x="914400" y="3657600"/>
              <a:ext cx="118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4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Text Box 71"/>
            <p:cNvSpPr/>
            <p:nvPr/>
          </p:nvSpPr>
          <p:spPr>
            <a:xfrm flipH="1">
              <a:off x="339120" y="5234040"/>
              <a:ext cx="118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3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Line 73"/>
            <p:cNvSpPr/>
            <p:nvPr/>
          </p:nvSpPr>
          <p:spPr>
            <a:xfrm flipH="1">
              <a:off x="1371240" y="4319640"/>
              <a:ext cx="2397240" cy="1547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Text Box 74"/>
            <p:cNvSpPr/>
            <p:nvPr/>
          </p:nvSpPr>
          <p:spPr>
            <a:xfrm flipH="1">
              <a:off x="2320200" y="53863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Text Box 81"/>
            <p:cNvSpPr/>
            <p:nvPr/>
          </p:nvSpPr>
          <p:spPr>
            <a:xfrm flipH="1">
              <a:off x="2778120" y="42433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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Text Box 82"/>
            <p:cNvSpPr/>
            <p:nvPr/>
          </p:nvSpPr>
          <p:spPr>
            <a:xfrm flipH="1">
              <a:off x="2930400" y="363384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Text Box 83"/>
            <p:cNvSpPr/>
            <p:nvPr/>
          </p:nvSpPr>
          <p:spPr>
            <a:xfrm flipH="1">
              <a:off x="644400" y="4624560"/>
              <a:ext cx="9144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lang="en-US" sz="3000" spc="-1" strike="noStrike" baseline="-25000">
                  <a:solidFill>
                    <a:srgbClr val="66ffcc"/>
                  </a:solidFill>
                  <a:latin typeface="Tahoma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Text Box 84"/>
            <p:cNvSpPr/>
            <p:nvPr/>
          </p:nvSpPr>
          <p:spPr>
            <a:xfrm flipH="1">
              <a:off x="2092320" y="3581280"/>
              <a:ext cx="8380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Arc 85"/>
            <p:cNvSpPr/>
            <p:nvPr/>
          </p:nvSpPr>
          <p:spPr>
            <a:xfrm>
              <a:off x="3616200" y="3938760"/>
              <a:ext cx="304920" cy="304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Arc 86"/>
            <p:cNvSpPr/>
            <p:nvPr/>
          </p:nvSpPr>
          <p:spPr>
            <a:xfrm flipH="1">
              <a:off x="3311640" y="3938760"/>
              <a:ext cx="304560" cy="304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Arc 87"/>
            <p:cNvSpPr/>
            <p:nvPr/>
          </p:nvSpPr>
          <p:spPr>
            <a:xfrm flipH="1" flipV="1">
              <a:off x="3311640" y="4241880"/>
              <a:ext cx="304560" cy="255600"/>
            </a:xfrm>
            <a:custGeom>
              <a:avLst/>
              <a:gdLst/>
              <a:ahLst/>
              <a:rect l="l" t="t" r="r" b="b"/>
              <a:pathLst>
                <a:path fill="none" w="21600" h="18068">
                  <a:moveTo>
                    <a:pt x="11836" y="0"/>
                  </a:moveTo>
                  <a:cubicBezTo>
                    <a:pt x="17929" y="3991"/>
                    <a:pt x="21600" y="10784"/>
                    <a:pt x="21600" y="18068"/>
                  </a:cubicBezTo>
                </a:path>
                <a:path stroke="0" w="21600" h="18068">
                  <a:moveTo>
                    <a:pt x="11836" y="0"/>
                  </a:moveTo>
                  <a:cubicBezTo>
                    <a:pt x="17929" y="3991"/>
                    <a:pt x="21600" y="10784"/>
                    <a:pt x="21600" y="18068"/>
                  </a:cubicBezTo>
                  <a:lnTo>
                    <a:pt x="0" y="18068"/>
                  </a:lnTo>
                  <a:lnTo>
                    <a:pt x="11836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6" name="Group 167"/>
          <p:cNvGrpSpPr/>
          <p:nvPr/>
        </p:nvGrpSpPr>
        <p:grpSpPr>
          <a:xfrm>
            <a:off x="4859280" y="1142640"/>
            <a:ext cx="4284720" cy="2303640"/>
            <a:chOff x="4859280" y="1142640"/>
            <a:chExt cx="4284720" cy="2303640"/>
          </a:xfrm>
        </p:grpSpPr>
        <p:sp>
          <p:nvSpPr>
            <p:cNvPr id="3127" name="Line 102"/>
            <p:cNvSpPr/>
            <p:nvPr/>
          </p:nvSpPr>
          <p:spPr>
            <a:xfrm flipV="1">
              <a:off x="5521320" y="123480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Line 103"/>
            <p:cNvSpPr/>
            <p:nvPr/>
          </p:nvSpPr>
          <p:spPr>
            <a:xfrm>
              <a:off x="4859280" y="2782800"/>
              <a:ext cx="3341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Line 104"/>
            <p:cNvSpPr/>
            <p:nvPr/>
          </p:nvSpPr>
          <p:spPr>
            <a:xfrm>
              <a:off x="5624640" y="2782800"/>
              <a:ext cx="2368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Line 105"/>
            <p:cNvSpPr/>
            <p:nvPr/>
          </p:nvSpPr>
          <p:spPr>
            <a:xfrm flipV="1">
              <a:off x="7883640" y="1293840"/>
              <a:ext cx="0" cy="1388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106"/>
            <p:cNvSpPr/>
            <p:nvPr/>
          </p:nvSpPr>
          <p:spPr>
            <a:xfrm flipV="1">
              <a:off x="611172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107"/>
            <p:cNvSpPr/>
            <p:nvPr/>
          </p:nvSpPr>
          <p:spPr>
            <a:xfrm flipV="1">
              <a:off x="673884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108"/>
            <p:cNvSpPr/>
            <p:nvPr/>
          </p:nvSpPr>
          <p:spPr>
            <a:xfrm flipV="1">
              <a:off x="736596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109"/>
            <p:cNvSpPr/>
            <p:nvPr/>
          </p:nvSpPr>
          <p:spPr>
            <a:xfrm>
              <a:off x="7731000" y="2301840"/>
              <a:ext cx="2779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110"/>
            <p:cNvSpPr/>
            <p:nvPr/>
          </p:nvSpPr>
          <p:spPr>
            <a:xfrm>
              <a:off x="7731000" y="1844640"/>
              <a:ext cx="2779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Text Box 111"/>
            <p:cNvSpPr/>
            <p:nvPr/>
          </p:nvSpPr>
          <p:spPr>
            <a:xfrm>
              <a:off x="7156440" y="2895480"/>
              <a:ext cx="118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4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Text Box 112"/>
            <p:cNvSpPr/>
            <p:nvPr/>
          </p:nvSpPr>
          <p:spPr>
            <a:xfrm>
              <a:off x="7959600" y="1219320"/>
              <a:ext cx="118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3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Line 114"/>
            <p:cNvSpPr/>
            <p:nvPr/>
          </p:nvSpPr>
          <p:spPr>
            <a:xfrm flipV="1">
              <a:off x="5486400" y="1142640"/>
              <a:ext cx="2362320" cy="1676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Text Box 115"/>
            <p:cNvSpPr/>
            <p:nvPr/>
          </p:nvSpPr>
          <p:spPr>
            <a:xfrm>
              <a:off x="6248520" y="13716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Text Box 123"/>
            <p:cNvSpPr/>
            <p:nvPr/>
          </p:nvSpPr>
          <p:spPr>
            <a:xfrm flipV="1">
              <a:off x="6019920" y="2284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Text Box 124"/>
            <p:cNvSpPr/>
            <p:nvPr/>
          </p:nvSpPr>
          <p:spPr>
            <a:xfrm>
              <a:off x="8077320" y="1828800"/>
              <a:ext cx="9144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Text Box 125"/>
            <p:cNvSpPr/>
            <p:nvPr/>
          </p:nvSpPr>
          <p:spPr>
            <a:xfrm>
              <a:off x="6400800" y="2743200"/>
              <a:ext cx="8380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Arc 128"/>
            <p:cNvSpPr/>
            <p:nvPr/>
          </p:nvSpPr>
          <p:spPr>
            <a:xfrm>
              <a:off x="6400800" y="2209680"/>
              <a:ext cx="304920" cy="457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4" name="Group 168"/>
          <p:cNvGrpSpPr/>
          <p:nvPr/>
        </p:nvGrpSpPr>
        <p:grpSpPr>
          <a:xfrm>
            <a:off x="762120" y="762120"/>
            <a:ext cx="3798720" cy="2760480"/>
            <a:chOff x="762120" y="762120"/>
            <a:chExt cx="3798720" cy="2760480"/>
          </a:xfrm>
        </p:grpSpPr>
        <p:sp>
          <p:nvSpPr>
            <p:cNvPr id="3145" name="Arc 77"/>
            <p:cNvSpPr/>
            <p:nvPr/>
          </p:nvSpPr>
          <p:spPr>
            <a:xfrm>
              <a:off x="3429000" y="2362320"/>
              <a:ext cx="304920" cy="304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Arc 78"/>
            <p:cNvSpPr/>
            <p:nvPr/>
          </p:nvSpPr>
          <p:spPr>
            <a:xfrm flipH="1">
              <a:off x="3199680" y="2362320"/>
              <a:ext cx="228600" cy="99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Text Box 122"/>
            <p:cNvSpPr/>
            <p:nvPr/>
          </p:nvSpPr>
          <p:spPr>
            <a:xfrm flipV="1">
              <a:off x="1981080" y="228456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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Line 146"/>
            <p:cNvSpPr/>
            <p:nvPr/>
          </p:nvSpPr>
          <p:spPr>
            <a:xfrm flipV="1">
              <a:off x="3505320" y="1218960"/>
              <a:ext cx="0" cy="2057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Line 147"/>
            <p:cNvSpPr/>
            <p:nvPr/>
          </p:nvSpPr>
          <p:spPr>
            <a:xfrm flipH="1">
              <a:off x="1219320" y="2819520"/>
              <a:ext cx="3341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Line 148"/>
            <p:cNvSpPr/>
            <p:nvPr/>
          </p:nvSpPr>
          <p:spPr>
            <a:xfrm flipH="1">
              <a:off x="1204560" y="2782800"/>
              <a:ext cx="2368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Line 150"/>
            <p:cNvSpPr/>
            <p:nvPr/>
          </p:nvSpPr>
          <p:spPr>
            <a:xfrm flipV="1">
              <a:off x="169236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Line 151"/>
            <p:cNvSpPr/>
            <p:nvPr/>
          </p:nvSpPr>
          <p:spPr>
            <a:xfrm flipV="1">
              <a:off x="231948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152"/>
            <p:cNvSpPr/>
            <p:nvPr/>
          </p:nvSpPr>
          <p:spPr>
            <a:xfrm flipV="1">
              <a:off x="2946240" y="2716200"/>
              <a:ext cx="0" cy="200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Text Box 155"/>
            <p:cNvSpPr/>
            <p:nvPr/>
          </p:nvSpPr>
          <p:spPr>
            <a:xfrm flipH="1">
              <a:off x="1218600" y="2971800"/>
              <a:ext cx="118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4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Text Box 156"/>
            <p:cNvSpPr/>
            <p:nvPr/>
          </p:nvSpPr>
          <p:spPr>
            <a:xfrm flipH="1">
              <a:off x="1066680" y="762120"/>
              <a:ext cx="118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3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Line 157"/>
            <p:cNvSpPr/>
            <p:nvPr/>
          </p:nvSpPr>
          <p:spPr>
            <a:xfrm flipH="1" flipV="1">
              <a:off x="1294920" y="1295280"/>
              <a:ext cx="2210040" cy="1524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158"/>
            <p:cNvSpPr/>
            <p:nvPr/>
          </p:nvSpPr>
          <p:spPr>
            <a:xfrm flipH="1">
              <a:off x="2056680" y="13716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Text Box 159"/>
            <p:cNvSpPr/>
            <p:nvPr/>
          </p:nvSpPr>
          <p:spPr>
            <a:xfrm flipH="1" flipV="1">
              <a:off x="3048120" y="182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Symbol"/>
                  <a:ea typeface="Symbol"/>
                </a:rPr>
                <a:t>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Text Box 160"/>
            <p:cNvSpPr/>
            <p:nvPr/>
          </p:nvSpPr>
          <p:spPr>
            <a:xfrm flipH="1">
              <a:off x="762120" y="1828800"/>
              <a:ext cx="9144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lang="en-US" sz="3000" spc="-1" strike="noStrike" baseline="-25000">
                  <a:solidFill>
                    <a:srgbClr val="66ffcc"/>
                  </a:solidFill>
                  <a:latin typeface="Tahoma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Text Box 161"/>
            <p:cNvSpPr/>
            <p:nvPr/>
          </p:nvSpPr>
          <p:spPr>
            <a:xfrm flipH="1">
              <a:off x="2208960" y="2743200"/>
              <a:ext cx="8384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66ffcc"/>
                  </a:solidFill>
                  <a:latin typeface="Tahoma"/>
                </a:rPr>
                <a:t>R</a:t>
              </a:r>
              <a:r>
                <a:rPr b="0" i="1" lang="en-US" sz="3000" spc="-1" strike="noStrike" baseline="-25000">
                  <a:solidFill>
                    <a:srgbClr val="66ffcc"/>
                  </a:solidFill>
                  <a:latin typeface="Tahoma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Line 163"/>
            <p:cNvSpPr/>
            <p:nvPr/>
          </p:nvSpPr>
          <p:spPr>
            <a:xfrm flipV="1">
              <a:off x="1295280" y="1294920"/>
              <a:ext cx="0" cy="1389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Line 165"/>
            <p:cNvSpPr/>
            <p:nvPr/>
          </p:nvSpPr>
          <p:spPr>
            <a:xfrm>
              <a:off x="1143000" y="2303640"/>
              <a:ext cx="2779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Line 166"/>
            <p:cNvSpPr/>
            <p:nvPr/>
          </p:nvSpPr>
          <p:spPr>
            <a:xfrm>
              <a:off x="1143000" y="1846440"/>
              <a:ext cx="2779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4" name="Text Box 173"/>
          <p:cNvSpPr/>
          <p:nvPr/>
        </p:nvSpPr>
        <p:spPr>
          <a:xfrm>
            <a:off x="1066680" y="6019920"/>
            <a:ext cx="7696440" cy="5508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= 36.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= 36.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; 143.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; 216.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; 323.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5" name="Group 177"/>
          <p:cNvGrpSpPr/>
          <p:nvPr/>
        </p:nvGrpSpPr>
        <p:grpSpPr>
          <a:xfrm>
            <a:off x="3733920" y="1600200"/>
            <a:ext cx="1904760" cy="3979800"/>
            <a:chOff x="3733920" y="1600200"/>
            <a:chExt cx="1904760" cy="3979800"/>
          </a:xfrm>
        </p:grpSpPr>
        <p:sp>
          <p:nvSpPr>
            <p:cNvPr id="3166" name="Text Box 171"/>
            <p:cNvSpPr/>
            <p:nvPr/>
          </p:nvSpPr>
          <p:spPr>
            <a:xfrm>
              <a:off x="3809880" y="5029200"/>
              <a:ext cx="1828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00"/>
                  </a:solidFill>
                  <a:latin typeface="Tahoma"/>
                </a:rPr>
                <a:t>R = 5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Text Box 176"/>
            <p:cNvSpPr/>
            <p:nvPr/>
          </p:nvSpPr>
          <p:spPr>
            <a:xfrm>
              <a:off x="3733920" y="1600200"/>
              <a:ext cx="1828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00"/>
                  </a:solidFill>
                  <a:latin typeface="Tahoma"/>
                </a:rPr>
                <a:t>R = 50 l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0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5" dur="500"/>
                                        <p:tgtEl>
                                          <p:spTgt spid="3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9" dur="500"/>
                                        <p:tgtEl>
                                          <p:spTgt spid="3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4" dur="500"/>
                                        <p:tgtEl>
                                          <p:spTgt spid="3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9" dur="500"/>
                                        <p:tgtEl>
                                          <p:spTgt spid="3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3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3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Unit vector notation (</a:t>
            </a: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,j,k</a:t>
            </a: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grpSp>
        <p:nvGrpSpPr>
          <p:cNvPr id="3169" name="Group 10"/>
          <p:cNvGrpSpPr/>
          <p:nvPr/>
        </p:nvGrpSpPr>
        <p:grpSpPr>
          <a:xfrm>
            <a:off x="914400" y="1600200"/>
            <a:ext cx="3048120" cy="2913120"/>
            <a:chOff x="914400" y="1600200"/>
            <a:chExt cx="3048120" cy="2913120"/>
          </a:xfrm>
        </p:grpSpPr>
        <p:sp>
          <p:nvSpPr>
            <p:cNvPr id="3170" name="Line 3"/>
            <p:cNvSpPr/>
            <p:nvPr/>
          </p:nvSpPr>
          <p:spPr>
            <a:xfrm>
              <a:off x="2057400" y="2057400"/>
              <a:ext cx="0" cy="2438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Line 4"/>
            <p:cNvSpPr/>
            <p:nvPr/>
          </p:nvSpPr>
          <p:spPr>
            <a:xfrm>
              <a:off x="914400" y="3200400"/>
              <a:ext cx="2362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Text Box 5"/>
            <p:cNvSpPr/>
            <p:nvPr/>
          </p:nvSpPr>
          <p:spPr>
            <a:xfrm>
              <a:off x="3429000" y="28195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Text Box 6"/>
            <p:cNvSpPr/>
            <p:nvPr/>
          </p:nvSpPr>
          <p:spPr>
            <a:xfrm>
              <a:off x="990720" y="396252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Text Box 7"/>
            <p:cNvSpPr/>
            <p:nvPr/>
          </p:nvSpPr>
          <p:spPr>
            <a:xfrm>
              <a:off x="1600200" y="16002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Line 8"/>
            <p:cNvSpPr/>
            <p:nvPr/>
          </p:nvSpPr>
          <p:spPr>
            <a:xfrm flipH="1">
              <a:off x="1447560" y="2438280"/>
              <a:ext cx="1143000" cy="1600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6" name="Text Box 9"/>
          <p:cNvSpPr/>
          <p:nvPr/>
        </p:nvSpPr>
        <p:spPr>
          <a:xfrm>
            <a:off x="4267080" y="1752480"/>
            <a:ext cx="457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nsider 3D axes (x, y, 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Text Box 11"/>
          <p:cNvSpPr/>
          <p:nvPr/>
        </p:nvSpPr>
        <p:spPr>
          <a:xfrm>
            <a:off x="4267080" y="2514600"/>
            <a:ext cx="487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fine unit vectors, 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, j, 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8" name="Group 14"/>
          <p:cNvGrpSpPr/>
          <p:nvPr/>
        </p:nvGrpSpPr>
        <p:grpSpPr>
          <a:xfrm>
            <a:off x="2057400" y="2666880"/>
            <a:ext cx="914400" cy="550800"/>
            <a:chOff x="2057400" y="2666880"/>
            <a:chExt cx="914400" cy="550800"/>
          </a:xfrm>
        </p:grpSpPr>
        <p:sp>
          <p:nvSpPr>
            <p:cNvPr id="3179" name="Line 12"/>
            <p:cNvSpPr/>
            <p:nvPr/>
          </p:nvSpPr>
          <p:spPr>
            <a:xfrm>
              <a:off x="2057400" y="320040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Text Box 13"/>
            <p:cNvSpPr/>
            <p:nvPr/>
          </p:nvSpPr>
          <p:spPr>
            <a:xfrm>
              <a:off x="2438280" y="2666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00"/>
                  </a:solidFill>
                  <a:latin typeface="Tahoma"/>
                </a:rPr>
                <a:t>i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1" name="Group 17"/>
          <p:cNvGrpSpPr/>
          <p:nvPr/>
        </p:nvGrpSpPr>
        <p:grpSpPr>
          <a:xfrm>
            <a:off x="1676520" y="2438280"/>
            <a:ext cx="533160" cy="762120"/>
            <a:chOff x="1676520" y="2438280"/>
            <a:chExt cx="533160" cy="762120"/>
          </a:xfrm>
        </p:grpSpPr>
        <p:sp>
          <p:nvSpPr>
            <p:cNvPr id="3182" name="Line 15"/>
            <p:cNvSpPr/>
            <p:nvPr/>
          </p:nvSpPr>
          <p:spPr>
            <a:xfrm flipV="1">
              <a:off x="2057400" y="27432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Text Box 16"/>
            <p:cNvSpPr/>
            <p:nvPr/>
          </p:nvSpPr>
          <p:spPr>
            <a:xfrm>
              <a:off x="1676520" y="24382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00"/>
                  </a:solidFill>
                  <a:latin typeface="Tahoma"/>
                </a:rPr>
                <a:t>j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4" name="Group 20"/>
          <p:cNvGrpSpPr/>
          <p:nvPr/>
        </p:nvGrpSpPr>
        <p:grpSpPr>
          <a:xfrm>
            <a:off x="1295280" y="3200400"/>
            <a:ext cx="761760" cy="703080"/>
            <a:chOff x="1295280" y="3200400"/>
            <a:chExt cx="761760" cy="703080"/>
          </a:xfrm>
        </p:grpSpPr>
        <p:sp>
          <p:nvSpPr>
            <p:cNvPr id="3185" name="Line 18"/>
            <p:cNvSpPr/>
            <p:nvPr/>
          </p:nvSpPr>
          <p:spPr>
            <a:xfrm flipH="1">
              <a:off x="1828440" y="3200400"/>
              <a:ext cx="22860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Text Box 19"/>
            <p:cNvSpPr/>
            <p:nvPr/>
          </p:nvSpPr>
          <p:spPr>
            <a:xfrm>
              <a:off x="1295280" y="3352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00"/>
                  </a:solidFill>
                  <a:latin typeface="Tahoma"/>
                </a:rPr>
                <a:t>k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7" name="Text Box 21"/>
          <p:cNvSpPr/>
          <p:nvPr/>
        </p:nvSpPr>
        <p:spPr>
          <a:xfrm>
            <a:off x="4648320" y="3352680"/>
            <a:ext cx="3200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Examples of U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Text Box 22"/>
          <p:cNvSpPr/>
          <p:nvPr/>
        </p:nvSpPr>
        <p:spPr>
          <a:xfrm>
            <a:off x="2743200" y="4114800"/>
            <a:ext cx="640080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40 m, E = 40 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   40 m, W = -40 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30 m, N = 30 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j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   30 m, S = -30 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20 m, out = 20 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k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20 m, in = -20 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nodeType="clickEffect" fill="hold">
                      <p:stCondLst>
                        <p:cond delay="0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3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7" dur="500"/>
                                        <p:tgtEl>
                                          <p:spTgt spid="3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3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3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3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0" dur="500"/>
                                        <p:tgtEl>
                                          <p:spTgt spid="3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5" dur="500"/>
                                        <p:tgtEl>
                                          <p:spTgt spid="3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0" dur="500"/>
                                        <p:tgtEl>
                                          <p:spTgt spid="3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5" dur="500"/>
                                        <p:tgtEl>
                                          <p:spTgt spid="3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Tahoma"/>
              </a:rPr>
              <a:t>Example 4:</a:t>
            </a: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oman walks 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30 m, 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then 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40 m, 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Write her displacement</a:t>
            </a: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</a:t>
            </a: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,j</a:t>
            </a: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ation and in</a:t>
            </a: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,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ation.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190" name="Line 3"/>
          <p:cNvSpPr/>
          <p:nvPr/>
        </p:nvSpPr>
        <p:spPr>
          <a:xfrm>
            <a:off x="1143000" y="4114800"/>
            <a:ext cx="2362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Line 4"/>
          <p:cNvSpPr/>
          <p:nvPr/>
        </p:nvSpPr>
        <p:spPr>
          <a:xfrm>
            <a:off x="2971800" y="2286000"/>
            <a:ext cx="0" cy="22096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2" name="Group 5"/>
          <p:cNvGrpSpPr/>
          <p:nvPr/>
        </p:nvGrpSpPr>
        <p:grpSpPr>
          <a:xfrm>
            <a:off x="1523880" y="4114800"/>
            <a:ext cx="1676520" cy="627120"/>
            <a:chOff x="1523880" y="4114800"/>
            <a:chExt cx="1676520" cy="627120"/>
          </a:xfrm>
        </p:grpSpPr>
        <p:sp>
          <p:nvSpPr>
            <p:cNvPr id="3193" name="Line 6"/>
            <p:cNvSpPr/>
            <p:nvPr/>
          </p:nvSpPr>
          <p:spPr>
            <a:xfrm flipH="1">
              <a:off x="1523880" y="4114800"/>
              <a:ext cx="1447920" cy="0"/>
            </a:xfrm>
            <a:prstGeom prst="line">
              <a:avLst/>
            </a:prstGeom>
            <a:ln w="3816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Text Box 7"/>
            <p:cNvSpPr/>
            <p:nvPr/>
          </p:nvSpPr>
          <p:spPr>
            <a:xfrm>
              <a:off x="1752480" y="4191120"/>
              <a:ext cx="144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-30 m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5" name="Group 8"/>
          <p:cNvGrpSpPr/>
          <p:nvPr/>
        </p:nvGrpSpPr>
        <p:grpSpPr>
          <a:xfrm>
            <a:off x="228600" y="2286000"/>
            <a:ext cx="1523880" cy="1828800"/>
            <a:chOff x="228600" y="2286000"/>
            <a:chExt cx="1523880" cy="1828800"/>
          </a:xfrm>
        </p:grpSpPr>
        <p:sp>
          <p:nvSpPr>
            <p:cNvPr id="3196" name="Line 9"/>
            <p:cNvSpPr/>
            <p:nvPr/>
          </p:nvSpPr>
          <p:spPr>
            <a:xfrm flipV="1">
              <a:off x="1523880" y="2286000"/>
              <a:ext cx="0" cy="1828800"/>
            </a:xfrm>
            <a:prstGeom prst="line">
              <a:avLst/>
            </a:prstGeom>
            <a:ln w="3816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Text Box 10"/>
            <p:cNvSpPr/>
            <p:nvPr/>
          </p:nvSpPr>
          <p:spPr>
            <a:xfrm>
              <a:off x="228600" y="266688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+40 m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8" name="Group 11"/>
          <p:cNvGrpSpPr/>
          <p:nvPr/>
        </p:nvGrpSpPr>
        <p:grpSpPr>
          <a:xfrm>
            <a:off x="1523880" y="2286000"/>
            <a:ext cx="1371600" cy="1770120"/>
            <a:chOff x="1523880" y="2286000"/>
            <a:chExt cx="1371600" cy="1770120"/>
          </a:xfrm>
        </p:grpSpPr>
        <p:sp>
          <p:nvSpPr>
            <p:cNvPr id="3199" name="Line 12"/>
            <p:cNvSpPr/>
            <p:nvPr/>
          </p:nvSpPr>
          <p:spPr>
            <a:xfrm flipH="1" flipV="1">
              <a:off x="1523880" y="2286000"/>
              <a:ext cx="1371600" cy="1752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Text Box 13"/>
            <p:cNvSpPr/>
            <p:nvPr/>
          </p:nvSpPr>
          <p:spPr>
            <a:xfrm>
              <a:off x="2057400" y="2590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Text Box 14"/>
            <p:cNvSpPr/>
            <p:nvPr/>
          </p:nvSpPr>
          <p:spPr>
            <a:xfrm>
              <a:off x="2209680" y="3505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2" name="Text Box 15"/>
          <p:cNvSpPr/>
          <p:nvPr/>
        </p:nvSpPr>
        <p:spPr>
          <a:xfrm>
            <a:off x="4343400" y="2743200"/>
            <a:ext cx="25909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 = R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+ R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ahoma"/>
              </a:rPr>
              <a:t>y 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Text Box 16"/>
          <p:cNvSpPr/>
          <p:nvPr/>
        </p:nvSpPr>
        <p:spPr>
          <a:xfrm>
            <a:off x="4343400" y="4343400"/>
            <a:ext cx="3276720" cy="7315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 = -30 i + 40 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Text Box 17"/>
          <p:cNvSpPr/>
          <p:nvPr/>
        </p:nvSpPr>
        <p:spPr>
          <a:xfrm>
            <a:off x="3581280" y="3505320"/>
            <a:ext cx="23623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= - 3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Text Box 18"/>
          <p:cNvSpPr/>
          <p:nvPr/>
        </p:nvSpPr>
        <p:spPr>
          <a:xfrm>
            <a:off x="6248520" y="3505320"/>
            <a:ext cx="23619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= + 4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Text Box 19"/>
          <p:cNvSpPr/>
          <p:nvPr/>
        </p:nvSpPr>
        <p:spPr>
          <a:xfrm>
            <a:off x="3581280" y="205740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 i,j notation, we hav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Text Box 20"/>
          <p:cNvSpPr/>
          <p:nvPr/>
        </p:nvSpPr>
        <p:spPr>
          <a:xfrm>
            <a:off x="1371600" y="5486400"/>
            <a:ext cx="6934320" cy="10076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Displacement is 30 m west and 40 m north of the starting posi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0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2" dur="500"/>
                                        <p:tgtEl>
                                          <p:spTgt spid="3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7" dur="5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00"/>
                                        <p:tgtEl>
                                          <p:spTgt spid="3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5" dur="500"/>
                                        <p:tgtEl>
                                          <p:spTgt spid="3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3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Tahoma"/>
              </a:rPr>
              <a:t>Example 4 (Cont.):</a:t>
            </a: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 we find her displacement</a:t>
            </a: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</a:t>
            </a: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,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ation.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grpSp>
        <p:nvGrpSpPr>
          <p:cNvPr id="3209" name="Group 36"/>
          <p:cNvGrpSpPr/>
          <p:nvPr/>
        </p:nvGrpSpPr>
        <p:grpSpPr>
          <a:xfrm>
            <a:off x="838080" y="1523880"/>
            <a:ext cx="2743200" cy="2514600"/>
            <a:chOff x="838080" y="1523880"/>
            <a:chExt cx="2743200" cy="2514600"/>
          </a:xfrm>
        </p:grpSpPr>
        <p:sp>
          <p:nvSpPr>
            <p:cNvPr id="3210" name="Rectangle 33"/>
            <p:cNvSpPr/>
            <p:nvPr/>
          </p:nvSpPr>
          <p:spPr>
            <a:xfrm>
              <a:off x="914400" y="1523880"/>
              <a:ext cx="2666880" cy="2514600"/>
            </a:xfrm>
            <a:prstGeom prst="rect">
              <a:avLst/>
            </a:prstGeom>
            <a:solidFill>
              <a:srgbClr val="800000"/>
            </a:solidFill>
            <a:ln w="5724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Line 4"/>
            <p:cNvSpPr/>
            <p:nvPr/>
          </p:nvSpPr>
          <p:spPr>
            <a:xfrm>
              <a:off x="1506600" y="3224160"/>
              <a:ext cx="19224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Line 5"/>
            <p:cNvSpPr/>
            <p:nvPr/>
          </p:nvSpPr>
          <p:spPr>
            <a:xfrm>
              <a:off x="2995560" y="1676520"/>
              <a:ext cx="0" cy="1869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Line 7"/>
            <p:cNvSpPr/>
            <p:nvPr/>
          </p:nvSpPr>
          <p:spPr>
            <a:xfrm flipH="1">
              <a:off x="1792440" y="3224160"/>
              <a:ext cx="1179360" cy="0"/>
            </a:xfrm>
            <a:prstGeom prst="line">
              <a:avLst/>
            </a:prstGeom>
            <a:ln w="3816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Text Box 8"/>
            <p:cNvSpPr/>
            <p:nvPr/>
          </p:nvSpPr>
          <p:spPr>
            <a:xfrm>
              <a:off x="1785960" y="3287880"/>
              <a:ext cx="117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-30 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Line 10"/>
            <p:cNvSpPr/>
            <p:nvPr/>
          </p:nvSpPr>
          <p:spPr>
            <a:xfrm flipV="1">
              <a:off x="1816200" y="1676160"/>
              <a:ext cx="0" cy="1547640"/>
            </a:xfrm>
            <a:prstGeom prst="line">
              <a:avLst/>
            </a:prstGeom>
            <a:ln w="3816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Text Box 11"/>
            <p:cNvSpPr/>
            <p:nvPr/>
          </p:nvSpPr>
          <p:spPr>
            <a:xfrm>
              <a:off x="838080" y="1981080"/>
              <a:ext cx="1067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+40 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Line 13"/>
            <p:cNvSpPr/>
            <p:nvPr/>
          </p:nvSpPr>
          <p:spPr>
            <a:xfrm flipH="1" flipV="1">
              <a:off x="1816200" y="1676520"/>
              <a:ext cx="1116000" cy="1482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Text Box 14"/>
            <p:cNvSpPr/>
            <p:nvPr/>
          </p:nvSpPr>
          <p:spPr>
            <a:xfrm>
              <a:off x="2249640" y="1933560"/>
              <a:ext cx="496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Text Box 15"/>
            <p:cNvSpPr/>
            <p:nvPr/>
          </p:nvSpPr>
          <p:spPr>
            <a:xfrm>
              <a:off x="2374920" y="2708280"/>
              <a:ext cx="495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0" name="Text Box 26"/>
          <p:cNvSpPr/>
          <p:nvPr/>
        </p:nvSpPr>
        <p:spPr>
          <a:xfrm>
            <a:off x="4724280" y="3581280"/>
            <a:ext cx="2210040" cy="5814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126.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Text Box 29"/>
          <p:cNvSpPr/>
          <p:nvPr/>
        </p:nvSpPr>
        <p:spPr>
          <a:xfrm>
            <a:off x="2286000" y="5791320"/>
            <a:ext cx="4800600" cy="5814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R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= (50 m, 126.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2" name="Object 31"/>
          <p:cNvGraphicFramePr/>
          <p:nvPr/>
        </p:nvGraphicFramePr>
        <p:xfrm>
          <a:off x="1143000" y="4648320"/>
          <a:ext cx="4191120" cy="91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3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648320"/>
                    <a:ext cx="419112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4" name="Text Box 32"/>
          <p:cNvSpPr/>
          <p:nvPr/>
        </p:nvSpPr>
        <p:spPr>
          <a:xfrm>
            <a:off x="5867280" y="4800600"/>
            <a:ext cx="1981440" cy="5814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5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Text Box 35"/>
          <p:cNvSpPr/>
          <p:nvPr/>
        </p:nvSpPr>
        <p:spPr>
          <a:xfrm>
            <a:off x="4495680" y="2743200"/>
            <a:ext cx="335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= 18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– 53.13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6" name="TextBox 1" descr=""/>
          <p:cNvPicPr/>
          <p:nvPr/>
        </p:nvPicPr>
        <p:blipFill>
          <a:blip r:embed="rId3"/>
          <a:stretch/>
        </p:blipFill>
        <p:spPr>
          <a:xfrm>
            <a:off x="4419720" y="1450800"/>
            <a:ext cx="4346280" cy="6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0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9" dur="500"/>
                                        <p:tgtEl>
                                          <p:spTgt spid="3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3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5D81-EE63-4BDD-ACBE-136DD46A8A62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5D45-76E2-41A7-8522-FF82CA24DDDA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9" name="Picture 2" descr=""/>
          <p:cNvPicPr/>
          <p:nvPr/>
        </p:nvPicPr>
        <p:blipFill>
          <a:blip r:embed="rId1"/>
          <a:stretch/>
        </p:blipFill>
        <p:spPr>
          <a:xfrm>
            <a:off x="20520" y="609480"/>
            <a:ext cx="912348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0" name="Picture 2" descr=""/>
          <p:cNvPicPr/>
          <p:nvPr/>
        </p:nvPicPr>
        <p:blipFill>
          <a:blip r:embed="rId1"/>
          <a:stretch/>
        </p:blipFill>
        <p:spPr>
          <a:xfrm>
            <a:off x="14400" y="1719360"/>
            <a:ext cx="911520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TextBox 1"/>
          <p:cNvSpPr/>
          <p:nvPr/>
        </p:nvSpPr>
        <p:spPr>
          <a:xfrm>
            <a:off x="2743200" y="3808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2" name="Picture 2" descr=""/>
          <p:cNvPicPr/>
          <p:nvPr/>
        </p:nvPicPr>
        <p:blipFill>
          <a:blip r:embed="rId1"/>
          <a:stretch/>
        </p:blipFill>
        <p:spPr>
          <a:xfrm>
            <a:off x="990720" y="1424160"/>
            <a:ext cx="7238880" cy="704520"/>
          </a:xfrm>
          <a:prstGeom prst="rect">
            <a:avLst/>
          </a:prstGeom>
          <a:ln w="0">
            <a:noFill/>
          </a:ln>
        </p:spPr>
      </p:pic>
      <p:sp>
        <p:nvSpPr>
          <p:cNvPr id="3233" name="TextBox 3"/>
          <p:cNvSpPr/>
          <p:nvPr/>
        </p:nvSpPr>
        <p:spPr>
          <a:xfrm>
            <a:off x="5257800" y="3809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itude =4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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DA06-CA6C-496A-A468-988F08A36D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verting Polar to Rectangula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236" name="Rectangle 3" descr=""/>
          <p:cNvPicPr/>
          <p:nvPr/>
        </p:nvPicPr>
        <p:blipFill>
          <a:blip r:embed="rId1"/>
          <a:stretch/>
        </p:blipFill>
        <p:spPr>
          <a:xfrm>
            <a:off x="407880" y="1523880"/>
            <a:ext cx="8309160" cy="4608720"/>
          </a:xfrm>
          <a:prstGeom prst="rect">
            <a:avLst/>
          </a:prstGeom>
          <a:ln w="0">
            <a:noFill/>
          </a:ln>
        </p:spPr>
      </p:pic>
      <p:sp>
        <p:nvSpPr>
          <p:cNvPr id="3237" name="Line 4"/>
          <p:cNvSpPr/>
          <p:nvPr/>
        </p:nvSpPr>
        <p:spPr>
          <a:xfrm>
            <a:off x="7094520" y="2589120"/>
            <a:ext cx="0" cy="160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Line 5"/>
          <p:cNvSpPr/>
          <p:nvPr/>
        </p:nvSpPr>
        <p:spPr>
          <a:xfrm>
            <a:off x="6377040" y="3726000"/>
            <a:ext cx="238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Text Box 6"/>
          <p:cNvSpPr/>
          <p:nvPr/>
        </p:nvSpPr>
        <p:spPr>
          <a:xfrm>
            <a:off x="7878600" y="27338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Line 7"/>
          <p:cNvSpPr/>
          <p:nvPr/>
        </p:nvSpPr>
        <p:spPr>
          <a:xfrm flipV="1">
            <a:off x="7068960" y="3021120"/>
            <a:ext cx="900360" cy="704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Line 8"/>
          <p:cNvSpPr/>
          <p:nvPr/>
        </p:nvSpPr>
        <p:spPr>
          <a:xfrm>
            <a:off x="8048520" y="3033720"/>
            <a:ext cx="0" cy="692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Text Box 9"/>
          <p:cNvSpPr/>
          <p:nvPr/>
        </p:nvSpPr>
        <p:spPr>
          <a:xfrm>
            <a:off x="7261200" y="343692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Text Box 10"/>
          <p:cNvSpPr/>
          <p:nvPr/>
        </p:nvSpPr>
        <p:spPr>
          <a:xfrm>
            <a:off x="7396200" y="295272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AutoShape 11"/>
          <p:cNvSpPr/>
          <p:nvPr/>
        </p:nvSpPr>
        <p:spPr>
          <a:xfrm rot="5400000">
            <a:off x="7491960" y="3418560"/>
            <a:ext cx="182520" cy="939960"/>
          </a:xfrm>
          <a:custGeom>
            <a:avLst/>
            <a:gdLst>
              <a:gd name="textAreaLeft" fmla="*/ 0 w 182520"/>
              <a:gd name="textAreaRight" fmla="*/ 65880 w 182520"/>
              <a:gd name="textAreaTop" fmla="*/ 24480 h 939960"/>
              <a:gd name="textAreaBottom" fmla="*/ 91548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Text Box 12"/>
          <p:cNvSpPr/>
          <p:nvPr/>
        </p:nvSpPr>
        <p:spPr>
          <a:xfrm>
            <a:off x="7461360" y="398772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AutoShape 13"/>
          <p:cNvSpPr/>
          <p:nvPr/>
        </p:nvSpPr>
        <p:spPr>
          <a:xfrm>
            <a:off x="8153280" y="3006720"/>
            <a:ext cx="142920" cy="692280"/>
          </a:xfrm>
          <a:custGeom>
            <a:avLst/>
            <a:gdLst>
              <a:gd name="textAreaLeft" fmla="*/ 0 w 142920"/>
              <a:gd name="textAreaRight" fmla="*/ 51480 w 142920"/>
              <a:gd name="textAreaTop" fmla="*/ 18000 h 692280"/>
              <a:gd name="textAreaBottom" fmla="*/ 67428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Text Box 14"/>
          <p:cNvSpPr/>
          <p:nvPr/>
        </p:nvSpPr>
        <p:spPr>
          <a:xfrm>
            <a:off x="8298000" y="3149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VECT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NY quantity in physics that has BOTH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MAGNITU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DIR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0" name=""/>
          <p:cNvGraphicFramePr/>
          <p:nvPr/>
        </p:nvGraphicFramePr>
        <p:xfrm>
          <a:off x="4648320" y="1600200"/>
          <a:ext cx="4038480" cy="25257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884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ct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gnitude &amp; Dire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/s, 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/s/s, 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N, We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741" name="Object 21"/>
              <p:cNvSpPr txBox="1"/>
              <p:nvPr/>
            </p:nvSpPr>
            <p:spPr>
              <a:xfrm>
                <a:off x="762120" y="4419720"/>
                <a:ext cx="328428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742" name="Text Box 22"/>
          <p:cNvSpPr/>
          <p:nvPr/>
        </p:nvSpPr>
        <p:spPr>
          <a:xfrm>
            <a:off x="4403880" y="4456080"/>
            <a:ext cx="420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ctors are typically illustrated by drawing an ARROW above the symbol. The arrow is used to convey direction and magnitu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s of Vec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VECTOR ADDI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– If 2 similar vectors point in the SAME direction, add the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ample: A man walks 54.5 meters east, then another 30 meters east. Calculate his displacement relative to where he starte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Line 4"/>
          <p:cNvSpPr/>
          <p:nvPr/>
        </p:nvSpPr>
        <p:spPr>
          <a:xfrm>
            <a:off x="1066680" y="4038480"/>
            <a:ext cx="24386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Line 5"/>
          <p:cNvSpPr/>
          <p:nvPr/>
        </p:nvSpPr>
        <p:spPr>
          <a:xfrm>
            <a:off x="3505320" y="403848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6"/>
          <p:cNvSpPr/>
          <p:nvPr/>
        </p:nvSpPr>
        <p:spPr>
          <a:xfrm>
            <a:off x="1661760" y="35416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.5 m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Text Box 7"/>
          <p:cNvSpPr/>
          <p:nvPr/>
        </p:nvSpPr>
        <p:spPr>
          <a:xfrm>
            <a:off x="3795480" y="35416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m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Text Box 8"/>
          <p:cNvSpPr/>
          <p:nvPr/>
        </p:nvSpPr>
        <p:spPr>
          <a:xfrm>
            <a:off x="3261960" y="3465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Line 9"/>
          <p:cNvSpPr/>
          <p:nvPr/>
        </p:nvSpPr>
        <p:spPr>
          <a:xfrm>
            <a:off x="914400" y="4952880"/>
            <a:ext cx="4419720" cy="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Text Box 10"/>
          <p:cNvSpPr/>
          <p:nvPr/>
        </p:nvSpPr>
        <p:spPr>
          <a:xfrm>
            <a:off x="2576160" y="453240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.5 m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Text Box 11"/>
          <p:cNvSpPr/>
          <p:nvPr/>
        </p:nvSpPr>
        <p:spPr>
          <a:xfrm>
            <a:off x="6080040" y="3618000"/>
            <a:ext cx="260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SIZE of the arrow convey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GNITU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he way it was drawn convey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s of Vec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ECTOR SUBT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f 2 vectors are going in opposite directions, you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BTR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A man walks 54.5 meters east, then 30 meters west. Calculate his displacement relative to where he sta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Line 4"/>
          <p:cNvSpPr/>
          <p:nvPr/>
        </p:nvSpPr>
        <p:spPr>
          <a:xfrm>
            <a:off x="1066680" y="4495680"/>
            <a:ext cx="24386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Text Box 5"/>
          <p:cNvSpPr/>
          <p:nvPr/>
        </p:nvSpPr>
        <p:spPr>
          <a:xfrm>
            <a:off x="1677960" y="40384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.5 m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Line 6"/>
          <p:cNvSpPr/>
          <p:nvPr/>
        </p:nvSpPr>
        <p:spPr>
          <a:xfrm flipH="1">
            <a:off x="1981080" y="4572000"/>
            <a:ext cx="14479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Text Box 7"/>
          <p:cNvSpPr/>
          <p:nvPr/>
        </p:nvSpPr>
        <p:spPr>
          <a:xfrm>
            <a:off x="2423520" y="45324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m,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Text Box 8"/>
          <p:cNvSpPr/>
          <p:nvPr/>
        </p:nvSpPr>
        <p:spPr>
          <a:xfrm>
            <a:off x="3566880" y="4227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Line 9"/>
          <p:cNvSpPr/>
          <p:nvPr/>
        </p:nvSpPr>
        <p:spPr>
          <a:xfrm>
            <a:off x="1066680" y="5105520"/>
            <a:ext cx="914400" cy="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Text Box 10"/>
          <p:cNvSpPr/>
          <p:nvPr/>
        </p:nvSpPr>
        <p:spPr>
          <a:xfrm>
            <a:off x="1068120" y="51055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.5 m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n-Collinear Vec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2 vectors ar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erpendicul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you must use t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ythagorean theore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Line 4"/>
          <p:cNvSpPr/>
          <p:nvPr/>
        </p:nvSpPr>
        <p:spPr>
          <a:xfrm>
            <a:off x="838080" y="4800600"/>
            <a:ext cx="2819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Text Box 5"/>
          <p:cNvSpPr/>
          <p:nvPr/>
        </p:nvSpPr>
        <p:spPr>
          <a:xfrm>
            <a:off x="1678320" y="48769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 km,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Line 6"/>
          <p:cNvSpPr/>
          <p:nvPr/>
        </p:nvSpPr>
        <p:spPr>
          <a:xfrm flipV="1">
            <a:off x="3657600" y="3200040"/>
            <a:ext cx="0" cy="15238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Text Box 7"/>
          <p:cNvSpPr/>
          <p:nvPr/>
        </p:nvSpPr>
        <p:spPr>
          <a:xfrm>
            <a:off x="3795840" y="36180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 km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AutoShape 8"/>
          <p:cNvSpPr/>
          <p:nvPr/>
        </p:nvSpPr>
        <p:spPr>
          <a:xfrm>
            <a:off x="533520" y="4876920"/>
            <a:ext cx="609480" cy="914400"/>
          </a:xfrm>
          <a:prstGeom prst="upArrowCallout">
            <a:avLst>
              <a:gd name="adj1" fmla="val 25002"/>
              <a:gd name="adj2" fmla="val 25000"/>
              <a:gd name="adj3" fmla="val 25005"/>
              <a:gd name="adj4" fmla="val 666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AutoShape 9"/>
          <p:cNvSpPr/>
          <p:nvPr/>
        </p:nvSpPr>
        <p:spPr>
          <a:xfrm>
            <a:off x="3352680" y="2286000"/>
            <a:ext cx="609840" cy="914400"/>
          </a:xfrm>
          <a:prstGeom prst="downArrowCallout">
            <a:avLst>
              <a:gd name="adj1" fmla="val 25002"/>
              <a:gd name="adj2" fmla="val 25000"/>
              <a:gd name="adj3" fmla="val 24990"/>
              <a:gd name="adj4" fmla="val 6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Text Box 10"/>
          <p:cNvSpPr/>
          <p:nvPr/>
        </p:nvSpPr>
        <p:spPr>
          <a:xfrm>
            <a:off x="4876920" y="19051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n walks 95 km, East then 55 km, north. Calculate his RESULTANT DISPLAC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Line 11"/>
          <p:cNvSpPr/>
          <p:nvPr/>
        </p:nvSpPr>
        <p:spPr>
          <a:xfrm flipV="1">
            <a:off x="838080" y="3200040"/>
            <a:ext cx="2743200" cy="1523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Text Box 12"/>
          <p:cNvSpPr/>
          <p:nvPr/>
        </p:nvSpPr>
        <p:spPr>
          <a:xfrm>
            <a:off x="304920" y="24382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ypotenuse in Physics is called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SUL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Line 13"/>
          <p:cNvSpPr/>
          <p:nvPr/>
        </p:nvSpPr>
        <p:spPr>
          <a:xfrm>
            <a:off x="1676520" y="3048120"/>
            <a:ext cx="60948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Text Box 14"/>
          <p:cNvSpPr/>
          <p:nvPr/>
        </p:nvSpPr>
        <p:spPr>
          <a:xfrm>
            <a:off x="1374840" y="5562720"/>
            <a:ext cx="58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GS of the triangle are called th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Line 15"/>
          <p:cNvSpPr/>
          <p:nvPr/>
        </p:nvSpPr>
        <p:spPr>
          <a:xfrm flipH="1" flipV="1">
            <a:off x="3123720" y="495288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Text Box 16"/>
          <p:cNvSpPr/>
          <p:nvPr/>
        </p:nvSpPr>
        <p:spPr>
          <a:xfrm>
            <a:off x="1220760" y="4419720"/>
            <a:ext cx="21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rizontal 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Line 17"/>
          <p:cNvSpPr/>
          <p:nvPr/>
        </p:nvSpPr>
        <p:spPr>
          <a:xfrm flipH="1" flipV="1">
            <a:off x="3733560" y="4267080"/>
            <a:ext cx="53316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Text Box 18"/>
          <p:cNvSpPr/>
          <p:nvPr/>
        </p:nvSpPr>
        <p:spPr>
          <a:xfrm>
            <a:off x="3962520" y="40384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tical 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9" name="Object 19"/>
              <p:cNvSpPr txBox="1"/>
              <p:nvPr/>
            </p:nvSpPr>
            <p:spPr>
              <a:xfrm>
                <a:off x="5234040" y="2971800"/>
                <a:ext cx="339876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Resultant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05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5" dur="500"/>
                                        <p:tgtEl>
                                          <p:spTgt spid="2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/>
                                        <p:tgtEl>
                                          <p:spTgt spid="2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2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T……what about the directio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revious example, DISPLACEMENT was asked for and since it is a VECTOR we should include a DIRECTION on our final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Line 4"/>
          <p:cNvSpPr/>
          <p:nvPr/>
        </p:nvSpPr>
        <p:spPr>
          <a:xfrm>
            <a:off x="838080" y="4800600"/>
            <a:ext cx="2819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Line 5"/>
          <p:cNvSpPr/>
          <p:nvPr/>
        </p:nvSpPr>
        <p:spPr>
          <a:xfrm flipV="1">
            <a:off x="3657600" y="3200040"/>
            <a:ext cx="0" cy="15238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Line 6"/>
          <p:cNvSpPr/>
          <p:nvPr/>
        </p:nvSpPr>
        <p:spPr>
          <a:xfrm flipV="1">
            <a:off x="838080" y="3200040"/>
            <a:ext cx="2743200" cy="1523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Text Box 7"/>
          <p:cNvSpPr/>
          <p:nvPr/>
        </p:nvSpPr>
        <p:spPr>
          <a:xfrm>
            <a:off x="669960" y="5065560"/>
            <a:ext cx="474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drawing a right triangle that conveys some type of motion, you MUST draw your component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AD TO TO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Oval 8"/>
          <p:cNvSpPr/>
          <p:nvPr/>
        </p:nvSpPr>
        <p:spPr>
          <a:xfrm>
            <a:off x="3200400" y="4343400"/>
            <a:ext cx="83808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Line 9"/>
          <p:cNvSpPr/>
          <p:nvPr/>
        </p:nvSpPr>
        <p:spPr>
          <a:xfrm flipH="1" flipV="1">
            <a:off x="3657240" y="4724280"/>
            <a:ext cx="1522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Line 10"/>
          <p:cNvSpPr/>
          <p:nvPr/>
        </p:nvSpPr>
        <p:spPr>
          <a:xfrm>
            <a:off x="6629400" y="3124080"/>
            <a:ext cx="0" cy="2590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Line 11"/>
          <p:cNvSpPr/>
          <p:nvPr/>
        </p:nvSpPr>
        <p:spPr>
          <a:xfrm>
            <a:off x="5181480" y="4419720"/>
            <a:ext cx="2971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Text Box 12"/>
          <p:cNvSpPr/>
          <p:nvPr/>
        </p:nvSpPr>
        <p:spPr>
          <a:xfrm>
            <a:off x="6463080" y="2703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Text Box 13"/>
          <p:cNvSpPr/>
          <p:nvPr/>
        </p:nvSpPr>
        <p:spPr>
          <a:xfrm>
            <a:off x="647892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Text Box 14"/>
          <p:cNvSpPr/>
          <p:nvPr/>
        </p:nvSpPr>
        <p:spPr>
          <a:xfrm>
            <a:off x="8139240" y="4227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Text Box 15"/>
          <p:cNvSpPr/>
          <p:nvPr/>
        </p:nvSpPr>
        <p:spPr>
          <a:xfrm>
            <a:off x="4649760" y="4267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16"/>
          <p:cNvSpPr/>
          <p:nvPr/>
        </p:nvSpPr>
        <p:spPr>
          <a:xfrm flipV="1">
            <a:off x="6705720" y="3276360"/>
            <a:ext cx="12189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Arc 17"/>
          <p:cNvSpPr/>
          <p:nvPr/>
        </p:nvSpPr>
        <p:spPr>
          <a:xfrm>
            <a:off x="7162920" y="3962520"/>
            <a:ext cx="7596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Text Box 18"/>
          <p:cNvSpPr/>
          <p:nvPr/>
        </p:nvSpPr>
        <p:spPr>
          <a:xfrm>
            <a:off x="7377120" y="36939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of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Text Box 19"/>
          <p:cNvSpPr/>
          <p:nvPr/>
        </p:nvSpPr>
        <p:spPr>
          <a:xfrm>
            <a:off x="6615000" y="33130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of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Line 20"/>
          <p:cNvSpPr/>
          <p:nvPr/>
        </p:nvSpPr>
        <p:spPr>
          <a:xfrm flipH="1">
            <a:off x="5409720" y="449568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Text Box 21"/>
          <p:cNvSpPr/>
          <p:nvPr/>
        </p:nvSpPr>
        <p:spPr>
          <a:xfrm>
            <a:off x="5395320" y="4532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f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Text Box 22"/>
          <p:cNvSpPr/>
          <p:nvPr/>
        </p:nvSpPr>
        <p:spPr>
          <a:xfrm>
            <a:off x="5699880" y="52941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of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Line 23"/>
          <p:cNvSpPr/>
          <p:nvPr/>
        </p:nvSpPr>
        <p:spPr>
          <a:xfrm flipH="1" flipV="1">
            <a:off x="5105160" y="3352680"/>
            <a:ext cx="1447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Text Box 24"/>
          <p:cNvSpPr/>
          <p:nvPr/>
        </p:nvSpPr>
        <p:spPr>
          <a:xfrm>
            <a:off x="5243040" y="392256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of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Text Box 25"/>
          <p:cNvSpPr/>
          <p:nvPr/>
        </p:nvSpPr>
        <p:spPr>
          <a:xfrm>
            <a:off x="5547960" y="323676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of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Line 26"/>
          <p:cNvSpPr/>
          <p:nvPr/>
        </p:nvSpPr>
        <p:spPr>
          <a:xfrm>
            <a:off x="6705720" y="4495680"/>
            <a:ext cx="12189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Text Box 27"/>
          <p:cNvSpPr/>
          <p:nvPr/>
        </p:nvSpPr>
        <p:spPr>
          <a:xfrm>
            <a:off x="7300440" y="45324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f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Text Box 28"/>
          <p:cNvSpPr/>
          <p:nvPr/>
        </p:nvSpPr>
        <p:spPr>
          <a:xfrm>
            <a:off x="6690960" y="529416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of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Text Box 29"/>
          <p:cNvSpPr/>
          <p:nvPr/>
        </p:nvSpPr>
        <p:spPr>
          <a:xfrm>
            <a:off x="1449360" y="4419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of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5" dur="5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0" dur="20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2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BUT…..what about the VALUE of the angle??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putting North of East on the answer is NOT specific enough for the direction. We MUST find the VALUE of the ang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Line 4"/>
          <p:cNvSpPr/>
          <p:nvPr/>
        </p:nvSpPr>
        <p:spPr>
          <a:xfrm>
            <a:off x="838080" y="4800600"/>
            <a:ext cx="2819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Line 5"/>
          <p:cNvSpPr/>
          <p:nvPr/>
        </p:nvSpPr>
        <p:spPr>
          <a:xfrm flipV="1">
            <a:off x="3657600" y="3200040"/>
            <a:ext cx="0" cy="15238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Line 6"/>
          <p:cNvSpPr/>
          <p:nvPr/>
        </p:nvSpPr>
        <p:spPr>
          <a:xfrm flipV="1">
            <a:off x="838080" y="3200040"/>
            <a:ext cx="2743200" cy="1523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Text Box 7"/>
          <p:cNvSpPr/>
          <p:nvPr/>
        </p:nvSpPr>
        <p:spPr>
          <a:xfrm>
            <a:off x="1449360" y="4419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of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Text Box 8"/>
          <p:cNvSpPr/>
          <p:nvPr/>
        </p:nvSpPr>
        <p:spPr>
          <a:xfrm>
            <a:off x="3795840" y="36180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 km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Text Box 9"/>
          <p:cNvSpPr/>
          <p:nvPr/>
        </p:nvSpPr>
        <p:spPr>
          <a:xfrm>
            <a:off x="1678320" y="48769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 km,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Text Box 10"/>
          <p:cNvSpPr/>
          <p:nvPr/>
        </p:nvSpPr>
        <p:spPr>
          <a:xfrm>
            <a:off x="5105520" y="2666880"/>
            <a:ext cx="29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nd the value of the angle we use a Trig function called TANG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7" name="Object 11"/>
              <p:cNvSpPr txBox="1"/>
              <p:nvPr/>
            </p:nvSpPr>
            <p:spPr>
              <a:xfrm>
                <a:off x="4495680" y="4038480"/>
                <a:ext cx="40388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osit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djace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89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89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8" name="Text Box 12"/>
          <p:cNvSpPr/>
          <p:nvPr/>
        </p:nvSpPr>
        <p:spPr>
          <a:xfrm>
            <a:off x="1144800" y="44197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Text Box 13"/>
          <p:cNvSpPr/>
          <p:nvPr/>
        </p:nvSpPr>
        <p:spPr>
          <a:xfrm>
            <a:off x="1510200" y="33894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9.8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Text Box 14"/>
          <p:cNvSpPr/>
          <p:nvPr/>
        </p:nvSpPr>
        <p:spPr>
          <a:xfrm>
            <a:off x="444240" y="5675400"/>
            <a:ext cx="77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COMPLETE final answer is :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9.8 km, 30 degrees North of 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if you are missing a component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se a person walked 65 m, 25 degrees East of North. What were his horizontal and vertical componen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Line 4"/>
          <p:cNvSpPr/>
          <p:nvPr/>
        </p:nvSpPr>
        <p:spPr>
          <a:xfrm>
            <a:off x="1219320" y="2209680"/>
            <a:ext cx="0" cy="2514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Line 5"/>
          <p:cNvSpPr/>
          <p:nvPr/>
        </p:nvSpPr>
        <p:spPr>
          <a:xfrm>
            <a:off x="380880" y="3505320"/>
            <a:ext cx="2057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Line 6"/>
          <p:cNvSpPr/>
          <p:nvPr/>
        </p:nvSpPr>
        <p:spPr>
          <a:xfrm flipV="1">
            <a:off x="1219320" y="2209320"/>
            <a:ext cx="91440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Text Box 7"/>
          <p:cNvSpPr/>
          <p:nvPr/>
        </p:nvSpPr>
        <p:spPr>
          <a:xfrm>
            <a:off x="1679040" y="28432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Text Box 8"/>
          <p:cNvSpPr/>
          <p:nvPr/>
        </p:nvSpPr>
        <p:spPr>
          <a:xfrm>
            <a:off x="1144440" y="27669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Line 9"/>
          <p:cNvSpPr/>
          <p:nvPr/>
        </p:nvSpPr>
        <p:spPr>
          <a:xfrm>
            <a:off x="1219320" y="2209680"/>
            <a:ext cx="8380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Text Box 10"/>
          <p:cNvSpPr/>
          <p:nvPr/>
        </p:nvSpPr>
        <p:spPr>
          <a:xfrm>
            <a:off x="1143000" y="1828800"/>
            <a:ext cx="10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.C. =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Line 11"/>
          <p:cNvSpPr/>
          <p:nvPr/>
        </p:nvSpPr>
        <p:spPr>
          <a:xfrm flipV="1">
            <a:off x="1219320" y="2209320"/>
            <a:ext cx="0" cy="1295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Text Box 12"/>
          <p:cNvSpPr/>
          <p:nvPr/>
        </p:nvSpPr>
        <p:spPr>
          <a:xfrm>
            <a:off x="380880" y="251460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.C =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Text Box 13"/>
          <p:cNvSpPr/>
          <p:nvPr/>
        </p:nvSpPr>
        <p:spPr>
          <a:xfrm>
            <a:off x="3581280" y="1600200"/>
            <a:ext cx="4587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al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WAYS MAKE A RIGHT TRIANG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solve for components, we often use the trig functions since and cos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3" name="Object 14"/>
              <p:cNvSpPr txBox="1"/>
              <p:nvPr/>
            </p:nvSpPr>
            <p:spPr>
              <a:xfrm>
                <a:off x="3124080" y="3048120"/>
                <a:ext cx="5486400" cy="24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ine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djace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otenuse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e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osit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otenus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2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15:56:29Z</dcterms:created>
  <dc:creator>Kenneth Bowles</dc:creator>
  <dc:description/>
  <dc:language>en-US</dc:language>
  <cp:lastModifiedBy>User</cp:lastModifiedBy>
  <dcterms:modified xsi:type="dcterms:W3CDTF">2015-02-10T06:11:18Z</dcterms:modified>
  <cp:revision>15</cp:revision>
  <dc:subject/>
  <dc:title>Vectors and Scalars</dc:title>
</cp:coreProperties>
</file>