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9.png" ContentType="image/png"/>
  <Override PartName="/ppt/media/image10.png" ContentType="image/png"/>
  <Override PartName="/ppt/media/CAMERA.WAV" ContentType="audio/x-wav"/>
  <Override PartName="/ppt/media/Jungle%20Menu%20Command.wav" ContentType="audio/x-wav"/>
  <Override PartName="/ppt/media/image5.png" ContentType="image/png"/>
  <Override PartName="/ppt/media/click.wav" ContentType="audio/x-wav"/>
  <Override PartName="/ppt/media/image1.jpeg" ContentType="image/jpeg"/>
  <Override PartName="/ppt/media/image7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WHOOSH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  <p:sldId id="266" r:id="rId75"/>
    <p:sldId id="267" r:id="rId76"/>
    <p:sldId id="268" r:id="rId77"/>
    <p:sldId id="269" r:id="rId78"/>
    <p:sldId id="270" r:id="rId79"/>
    <p:sldId id="271" r:id="rId80"/>
    <p:sldId id="272" r:id="rId81"/>
    <p:sldId id="273" r:id="rId82"/>
    <p:sldId id="274" r:id="rId83"/>
    <p:sldId id="275" r:id="rId84"/>
    <p:sldId id="276" r:id="rId85"/>
    <p:sldId id="277" r:id="rId86"/>
    <p:sldId id="278" r:id="rId87"/>
    <p:sldId id="279" r:id="rId88"/>
    <p:sldId id="280" r:id="rId89"/>
    <p:sldId id="281" r:id="rId90"/>
    <p:sldId id="282" r:id="rId91"/>
    <p:sldId id="283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slide" Target="slides/slide11.xml"/><Relationship Id="rId76" Type="http://schemas.openxmlformats.org/officeDocument/2006/relationships/slide" Target="slides/slide12.xml"/><Relationship Id="rId77" Type="http://schemas.openxmlformats.org/officeDocument/2006/relationships/slide" Target="slides/slide13.xml"/><Relationship Id="rId78" Type="http://schemas.openxmlformats.org/officeDocument/2006/relationships/slide" Target="slides/slide14.xml"/><Relationship Id="rId79" Type="http://schemas.openxmlformats.org/officeDocument/2006/relationships/slide" Target="slides/slide15.xml"/><Relationship Id="rId80" Type="http://schemas.openxmlformats.org/officeDocument/2006/relationships/slide" Target="slides/slide16.xml"/><Relationship Id="rId81" Type="http://schemas.openxmlformats.org/officeDocument/2006/relationships/slide" Target="slides/slide17.xml"/><Relationship Id="rId82" Type="http://schemas.openxmlformats.org/officeDocument/2006/relationships/slide" Target="slides/slide18.xml"/><Relationship Id="rId83" Type="http://schemas.openxmlformats.org/officeDocument/2006/relationships/slide" Target="slides/slide19.xml"/><Relationship Id="rId84" Type="http://schemas.openxmlformats.org/officeDocument/2006/relationships/slide" Target="slides/slide20.xml"/><Relationship Id="rId85" Type="http://schemas.openxmlformats.org/officeDocument/2006/relationships/slide" Target="slides/slide21.xml"/><Relationship Id="rId86" Type="http://schemas.openxmlformats.org/officeDocument/2006/relationships/slide" Target="slides/slide22.xml"/><Relationship Id="rId87" Type="http://schemas.openxmlformats.org/officeDocument/2006/relationships/slide" Target="slides/slide23.xml"/><Relationship Id="rId88" Type="http://schemas.openxmlformats.org/officeDocument/2006/relationships/slide" Target="slides/slide24.xml"/><Relationship Id="rId89" Type="http://schemas.openxmlformats.org/officeDocument/2006/relationships/slide" Target="slides/slide25.xml"/><Relationship Id="rId90" Type="http://schemas.openxmlformats.org/officeDocument/2006/relationships/slide" Target="slides/slide26.xml"/><Relationship Id="rId91" Type="http://schemas.openxmlformats.org/officeDocument/2006/relationships/slide" Target="slides/slide27.xml"/><Relationship Id="rId92" Type="http://schemas.openxmlformats.org/officeDocument/2006/relationships/slide" Target="slides/slide28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dt" idx="18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5"/>
          <p:cNvSpPr>
            <a:spLocks noGrp="1"/>
          </p:cNvSpPr>
          <p:nvPr>
            <p:ph type="ftr" idx="18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6"/>
          <p:cNvSpPr>
            <a:spLocks noGrp="1"/>
          </p:cNvSpPr>
          <p:nvPr>
            <p:ph type="sldNum" idx="18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FC7A-3678-4DBD-A50F-C2199D9A6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Rectangle 1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FA92-C023-407E-A6E5-6AA68FC2F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Rectangle 1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CFF0-A870-46AA-938D-8F297F37A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4EC-D7F0-4109-AC63-6FA626D9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B0F-D38C-42BD-8280-DB80CDE7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418E1-3E16-45DC-B3CA-C62975E6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42696-B4A1-4EEF-A102-2FC64FBF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84FCE-3B66-48E9-9300-3C9FC00A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F78DE-6E84-4367-953E-A2F6EB15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22792-BDF1-43A2-9324-8A0D39F4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BF9E2-0207-4D56-94CE-2F9CE374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79614-3829-4077-BC05-E112A4F6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A8787-9E6E-447E-B3E2-EFA045E5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3B3A0-9172-4CB2-A3A2-CE20D2D0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48697-8347-4995-8E79-CB82F67D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F31F-8B3B-4F4A-83CB-4AF0345B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55423-AF21-4C5E-A886-9AF7190A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97AFC-71D7-4545-952D-330483C4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FE7B9-B97D-46A7-84F8-03520371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BD8BE-B0BC-4321-B0C9-18031D18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9E906-7864-491D-8692-F6300757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AE3FF-EE34-4B83-8961-1403F555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269E0-9F92-44D3-A154-19A90D37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0C976-5AD8-4A07-8454-9702FD6B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20E21-4D16-4174-9077-D7038C50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E202E-C8C4-4B74-B4A7-3CF88531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B81-8709-43A2-820B-05C020BF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59A69-63DA-4206-83DF-FC97B310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9F7E1-50E9-4252-ADAC-A0F1656B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6FDD4-7DA3-4410-A05B-DB763288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612FB-3BF5-4F33-975E-A4297674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8C8A7-62B5-43C7-8D72-E3E919CA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5CFBD-7D28-41BB-B9DB-B7B307E5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64328-4D2B-4B10-9F04-9254DB42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F53FF-C2E5-443D-9D50-D96CA281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64E85-7303-41B9-8098-E6509D13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97D3C-5556-409F-9217-31C55B61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6917-4227-4E43-92DB-E7FD1267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E5C83-5911-43C8-AA89-3FA2940E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7FCD2-A13C-45F7-A324-6C59B838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B0D5C-1D83-4DD9-A5E0-4F907DEB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560DD-E8E4-44CC-A1AD-B29431B9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F9393-0A26-4B77-B865-83C61F5C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72C24-D211-4002-9528-6AF037CB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4B86E-B658-4826-8C36-2BD882FA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8B370-4F49-4A7C-AE85-1B464601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73E21-A07A-46CE-A76B-72D742DF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3A953-E1FA-4B8E-9CBA-AFD76B6A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5971-5801-4067-BF33-16372106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2A0FA-5120-4A0A-A4CB-E1B3CB65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ED2DA-564C-475C-9483-E75C7B4C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DA833-481C-4248-A82D-F8E2C0FA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82343-9ECF-4EB6-8AAB-6BABECB2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7A69F-3027-45D6-A5DC-F9357091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B0327-089B-44E4-8C9E-5DFA1645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A3572-CE20-47FE-840A-3E30B0E6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653B9-6C0B-4193-8A60-1F258C4D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0F899-7D92-4995-9048-3CBA50CB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D3CF0-B80F-4016-8A1B-F8225821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0DBB-0318-4228-8706-3B417B66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80578-AEE5-4C98-811D-ED704D80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2774A-8CE1-4DDC-8558-FBA4A8F0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B18C9-E9D6-430E-90B8-BCEBBE15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3D907-CD92-4B5D-8E26-200D232F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41567-280F-4019-AC93-92A85AC4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0F085-E873-4222-94FA-FA91E91B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89868-EB10-4C26-BBD7-3E2517EB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ABDC8E-296E-4D25-9D10-1CBEEFEF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A5743E-E8E8-45FE-A59A-E4A3B06B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A34003-2129-4580-94E6-8495CE06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371C-B45D-475A-B5E5-31B83C5A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DA51FD-7F2F-464B-8D3D-26E434F6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342B8B-C3E3-4085-AB5D-DFA3039A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7A3EE3-AFD8-4569-830F-EC0111F7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5081F5-C11E-4B89-9252-097E9847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58178A-E306-4B2C-833D-CFD6D89E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C13119-AC65-45C6-BC53-B04A2C6A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C9C40C-5C50-4098-93CF-0E95F411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4B75AD-8152-4AFF-A4CF-D8430CBC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381411-0335-47C8-927E-30EFC70D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43C584-5C66-4DC8-AB78-0AB7F6EF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6585-75A4-4ADC-9338-8FA2426C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C9FB49-D2D1-4773-84B6-010A4D68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F02269-99AC-416E-B8CC-A9E061DD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7060C3-79F9-40E8-907F-A3490D04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F41C13-AB9F-4B86-9B8E-6AFFAD61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5C7240-2538-4EE5-8649-6D0AB3D5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62D7F7-6C30-406F-9E6A-95B5CD9B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82E9B0-9DD9-4645-914F-D8286821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03EA66-FEBE-414F-8D9E-97A42FA0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4D6051-142E-4736-BBF0-27359CBB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E42EEA-DBE4-4797-B74A-49A08413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1301-E92F-4C43-B6B2-64DE8680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045C86-5092-464A-92C2-54576562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CDD46C-C6E5-418F-8007-869737DB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677BD0-698E-4E69-9FA7-BD0BCE18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483829-DF23-45CF-9362-B35434E6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3554AE-41CF-4B12-BB38-75B4791D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BF6204-F539-4933-B1C1-5351FB5A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0C1926-5561-4B2F-995C-E1FB65FA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8CBC21-89ED-43FA-82EE-182B9BBE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A74500-315D-481C-AAAD-CB437175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E22428-CB7F-4C6B-8DC6-7F049DAD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444B-FC03-4FA8-949D-9B5F3F54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E2DA33-F8C8-4E9C-B6FC-36384052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B02DBA-27E3-4207-BBAF-7A0A4FAD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FE0C7F-623D-4AC9-8ED2-FC52885A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298F1A-4E00-4B6B-95D3-9909E4BE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6F63C9-667F-401A-BE84-8D848926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37E4E8-1627-4DD5-B09C-FB5B5CEF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3773A3-7117-44F1-921F-6AACBF42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A480BE-6A11-483E-B4DB-8B4E5A50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5C8741-804E-4D72-9E7F-5AF8C5A8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A08F58-9DEB-48A1-8C96-E58155B9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7037-0DBF-419A-B254-B96F0791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DDF1-987E-4FEB-A450-CB0E4D18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1D7809-AF1E-40F1-B6F1-E804C3DC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94E651-C1E0-48D4-ADC0-6040DEC0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67C5FE-AB2B-4911-81CA-B2246C86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90492F-CD57-4C25-80F9-F07DDC85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134026-843A-4C7E-8C5A-854D66BB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451CAB-893C-481D-A3E6-FE52B899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1D732E-E9B2-41A1-902F-37CB37F4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686839-5636-4BCB-98A8-22B22A7B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B62F1F-FD1C-4EA7-9FC4-B6FD84F8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D81A40-0C21-4D5B-96BB-5B621764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D921-C86F-4764-BA51-BD22B86B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64BEF9-69EA-4AB8-95C9-7B6FF267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2045B5-FCD3-4D4E-A5DD-51894A32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5A700A-30F4-4457-916C-0C680D7D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FA32B-B04D-4EB0-9218-D10DC5EC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ECF126-B254-4FAE-8C9B-E9C1AE38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1E081B-38BD-470B-AE2E-1A45E4F6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FB8712-052F-414D-B07A-86344EED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AD734F-D741-411C-8194-507BA4DC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5C894B-D221-4F26-AD1B-575400DC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AB8A6B-D378-41C7-A5CC-5B004446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DB42-19B3-4850-A5B8-322AC58B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72058A-C082-4B4A-8D1A-4E86BF9E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9FE4F7-888A-43B8-9B8F-EAFD2549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CAE6EB-C250-423B-A63D-2177FAE1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15FA26-C476-401D-8877-A3F62497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E58DA9-D500-4DFD-9C28-ACAB6AD7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A025D9-8FCD-45AB-A85E-281EE825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C44FAC-D447-4D6F-8D24-E01EB635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1DFC89-2824-4406-BD0A-560D39A8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5DFAF8-F180-44B7-BAA8-D9079ACD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B41DE8-D4FE-405E-95B9-5CF885C4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C919-F474-41A1-851D-491E4968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6BCE82-6418-4E08-86DA-328E2A1F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EA083D-C6FA-44F8-9BD8-D23CABBD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BB6239-2FEF-4A1B-87E1-C9EAB27B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246CFF-C79E-42B3-839A-75FA4573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77755-3983-4034-997B-405F04FB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3B0E82-FF9C-4C41-9B3B-AE1E4F45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BC9543-18DB-478F-AC9C-EE997484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DAE093-D37E-4D44-85FF-50889ED5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DC3FFA-1B95-4CD2-9F7C-5F62EA6B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A9F819-BAE0-4A86-A9BD-58D9BF63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37F5-41A6-4F15-A6E9-83C41A0D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4536FA-BCC1-456C-9DAD-FE357C76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E64586-4F83-4D7B-A36F-19037B23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52B19F-EEBD-4244-AAB4-62A5A2EE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A0BA44-6327-4F1E-8A31-42EC002E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6ADBF7-4BEB-4C1E-A7E0-DB02322B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A7F465-67CF-48C3-8BD2-D7523424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954207-30D2-4487-9E99-00789374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8C3011-6B18-43B1-82D7-69D7B9E6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140A63-7663-4F9C-9424-B972BF1E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357295-8DBC-4AFE-8E56-AB4021F8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A7247-4CDE-4A54-97C0-95DC4E85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A6E161-BDAD-4546-85EA-8F6DC198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AC4E1F-704A-4FC8-A472-3D92CF9A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5DE324-5DFE-4F46-8B91-385B0C8F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A068F9-4E11-4AEC-BE5E-76FDCCA4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80B61B-EF3C-4485-8135-296E1DEC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F91B7F-5D83-49B7-A96E-FF7DC69C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E805A8-EDBC-4232-972A-988402FC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420319-87B6-4865-92A7-1DDCF74F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EFAC79-40E4-45CA-8629-3CE80EC6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B8C4FA-4399-4D7B-916E-57644162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51695-05FC-4847-9EC2-C68761EC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1BE9B4-8073-4145-A421-924C88D2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8019DA-8FC7-4C0F-B1B4-9D504A80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EF1A95-6B39-4B72-A414-AC3E0B43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766DB0-6683-49C2-B9A6-5DF16520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2FBFBD-0ED0-4211-870C-7DFCFCE0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67F1DF-C982-43ED-B651-42898BAE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3EB83A-3A1E-4734-8702-3F6B9607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4D1AA7-F6D3-40D1-9A3B-2D9CF870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FA564C-AC9D-4D95-9764-1C041DC3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BF1F5E-DC4D-4733-A998-803229A0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08477-EC88-4A4B-9680-9CE3204F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6E1D32-F967-476D-9859-9B9F917F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7C4754-FACB-4159-B974-F5803DD4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100075-13AD-48A6-8AE6-AB0C7432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EE7EDD-AD75-49AC-9DF9-F37491F0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C8A197-7A7E-4930-B47D-A589D60B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AA00EA-0B6B-4080-8D11-AE433423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1CA702-BF38-4639-87E4-5DED0657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D909F1-790A-438A-98BE-5A010598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4EE598-D229-4B2A-96CB-100E4661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49EC31-15E7-4262-BDDC-00748CF8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1039-DF99-4F75-BF7D-245384FA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D9564B-378F-4A21-A77E-D9B9E2A6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122322-4277-45A7-BF68-A55AFB9B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C41E57-6513-4E14-BADA-EA160448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23FE12-AE3E-443B-9463-C16A9407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0E2A83-54E4-4051-AF8C-A030614C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354CCA-341D-4851-B0D9-9B024792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7ABC1C-7030-4797-A109-0379FB93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28999A-15E7-475D-B464-29F4B169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086DC2-4214-49FD-99B4-F923DEF2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522B59-3906-43A3-9BF2-194DED9E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59E7E-915C-4ED9-8520-3C04E8AF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D4381F-2D48-4418-9C41-9C6695F2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64C1B0-CC1A-4790-8671-A10A0237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BE4502-D889-45BD-89A8-7A5B1095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2E37D4-D1FE-42C5-8837-E8176E50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7E0FB4-5650-44F6-A5DC-CDE668F8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67A648-D04F-49B2-A705-7B206197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E4AF5F-BDA0-4B0C-A9B2-3D96E0FE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A97D32-81D6-4FBD-9121-E871DB91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D5B557-8FC8-4F98-B3A4-88A60C9E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BC4ECC-D257-4F62-A25A-8A9CE2B9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48E9-B98C-4804-A209-B3BC7A21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A97D-0D2F-4564-811A-CC1B6EED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A5006E-59AD-429A-9746-E66A9D02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91C0F8-5BE1-4C8F-AD13-6F2F7693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E29811-B60F-4519-B664-21487017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343538-E30A-465A-BC54-F1D81EEF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3B8A58-06B7-4A38-83DC-D72DCB8F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B27F3E-D2FB-4A12-AEDE-474A24E2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B86A54-3DB7-4480-87CD-20FCD2CB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A02A75-42B8-4D53-BE95-89F6C4FC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0E25F6-2CC8-42E6-B743-DAE940D5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7E6D28-F188-4371-AC7C-9B2D83DF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0ED84-3BDC-4EB4-BA0B-2F3E16C2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ECE07E-437B-4818-B6DA-CF3EC19C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A27BF8-31DC-426E-92FC-D470E7D7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1D405F-9005-4FD9-BDCD-78594801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FBBEC8-413E-4E61-B291-531728B5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9BD392-31BA-48A0-9840-54C0ADB1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3299E5-7C7D-46E1-8E1D-91FFA80A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E6C638-A647-4A6A-9A0F-C701BAFB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25775C-C366-4DCD-B0E4-0A210051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4F08BF-BEDB-462B-A4B7-1D1A647F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885203-331B-490E-83EE-DBDBAE64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A84FF-01D5-4D3B-B13A-2979563B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9E99D9-F7E8-4537-AAC2-EA07D17A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A05EEC-585D-411B-9F7D-DF140A3E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AF8480-0A8C-4C63-A0FE-196E2E4D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688516-FDD3-4702-AB31-9918EB25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F90E8B-B812-4E45-8C97-D43939C6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C3AA4A-01E1-4746-9D00-2F69B802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2D52FE-DC5C-493C-B854-A6CAD187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B4A46B-5707-4E3F-B543-1CDA6AC8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AB96C8-7A13-46C5-A7A7-9CE9FA3C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2FDF23-0C48-4076-8823-F895C2BD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229A1-1B51-4C4A-9AAA-D2D10148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B39668-B150-4CA3-9A8C-5E5063B7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45F3D0-1B38-4C5F-A783-AE41E32B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148FA0-A996-426F-B472-25B70371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82A9D8-7B26-4C9D-B1F3-82A375B7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0C0A6D-7ABF-47EE-A001-0C7A1579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A49AB3-DCDB-4FE1-A874-A849AF8A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FE0364-545A-460D-87F6-56F11113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CE346E-DD60-4FE9-9F9F-85CBD98A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56F0BB-D707-463F-8E19-9B2D44F9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BD3434-596B-4B36-827F-7A86632D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39A22-9485-4A43-B3DF-13F22622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7188AF-E3D7-4687-B40C-2FA56018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7D4931-4B6A-4141-9462-CC4270F3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62B592-78D5-464E-A906-42E81842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454B1D-D9FA-4B05-A8F7-079A2C3E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01DEC7-3D15-49FF-9041-336AD90D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B9F8C3-581B-40D2-9813-96110E4B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E8F36E-40B8-497E-9368-7FC0C82D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F65FC8-BD48-4350-96B9-36B7BD69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CD07E8-BCFF-49BA-B7E3-C13E941C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B7DB86-03F8-438C-BBB6-C33FE8EC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01A7-2B78-413D-8CF9-08631619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3D31FA-CFE9-4416-B21E-69007820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4409AF-0D39-4D4C-9DD9-2A43B3D2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F98258-E1DE-47B4-A817-4EDC5B97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75441C-D075-4A25-8923-0C5F3A41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D07B45-76E6-4F53-A307-01158D15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20B783-A334-432C-9B66-ADC6D521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D20BFB-6552-4E1B-95F5-ED8F3E33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AFF59D-2DD3-4EDD-A5E5-B1F38F02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EAE8DA-7B93-42C2-8062-AEBB5CEA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89CEDB-3917-406C-B837-A9746441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F786A-7EA8-4F60-9209-F2B4DBC2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CAF8A3-B4FF-4F96-8911-A5222209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476175-BC0E-4C4E-9D40-216390DA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44EC57-2A94-4AF1-B5E7-31D1C42A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76C107-6BC6-4773-BA76-863E1796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DE5FFF-88C7-4BDB-B01F-6CCE883E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F32DF2-0E59-4058-934C-0BBA5906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A5308E-3CBB-4E2D-9B7D-F4169C37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5EB64C-7F33-4764-97A7-1328058B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7548DA-C6A9-46EF-B21B-69FC6517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EDC0A5-1734-4B60-9871-4F12F7E2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8FE28-5F59-44C7-8CB4-8DF55534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FA226C-27F3-4DC6-8D14-63B81568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46CF24-B8A2-4F75-896D-B9E00D5E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EED4B9-5B8C-4B58-B555-3CD0F232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4E5ED8-AE42-4582-B0FC-E6B0ED11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EBFE3B-8AF5-482D-B17A-13B5558B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2F438B-0881-416F-ABD2-31578A10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5104E3-C263-4EEA-A04A-1D29FC61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637B3D-0D90-4958-B82E-BE6EA0CF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ABDDDD-131C-476C-9450-3677ED24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7E9C57-45AB-4555-B37C-38C6F723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A9743-6CE3-4DB0-9B6E-45410FD5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04D2DC-6A91-419D-97EC-BE7422A1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3BE8C5-7D03-4FAD-9A09-30ED622D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1F3573-062D-4A93-9DF9-00C3058A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8AAD9C-D18D-45DA-BAAC-7380AEF9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348CC8-99D4-45F5-A133-1DC3C8B8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7B60C4-47DE-42DC-93F6-C731FD4B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32BD37-DBD5-4F27-8295-B5B0DBDB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325AFC-AF53-4E9F-B491-D2BB1981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791F91-EAF0-4DFC-872B-7FFA1D1D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8267DF-B888-455F-A480-F421B7BF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1F09F-5467-458D-835E-AA1A6DFD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F98C07-1770-473C-B297-4FB75C63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8C006A-AEEF-4A16-A0A1-A6D56BEC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EB0D87-5DE3-4F1A-B830-14285ADD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36E07B-B433-4CD3-9216-2576150F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C04072-3C40-4D0A-A10F-6305C0B7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76D08B-9433-4C6E-9C20-2E0D95B7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902014-B12B-4366-B18A-8AC92407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0F84BA-CCD5-4F88-A061-F7362BE2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E2BD39-842A-49AD-8AA2-C85A1942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2B4F09-E132-45D6-B6E1-9EC0A0CF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37F-DA0A-43CD-9026-10F7E51D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076EE-7A5B-4111-AC80-F1644E14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DAF3BD-A652-4808-B12F-9DF279E7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6349D6-721C-428E-9E51-FA3766C6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7F23C1-6B7F-496C-AF29-6D2EE98E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950BFB-26A6-4899-B3BC-BE46159F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22A187-9182-45DC-BFD4-626A0ADF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85947A-7ADF-41DA-AF2F-A9133B0F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C67B76-CECF-4A68-891B-7064449E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CCE11D9-2D1B-4D88-971E-F17C6749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515540-71A5-40DE-9DBF-AF7083C6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F69EAC-DAA4-4EC9-99EE-2872A40A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8319A-734E-40AD-8708-1A157505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0698B0F-CC33-4AAA-81AC-F9A845A4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925113-B9D1-462B-86C9-CA654340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52115A-295B-41A5-ACA1-EA0CA616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80618F9-FD80-4AD3-837A-533C18A9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D3398C-1A8C-4F8A-9E20-7BD3EEAD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BB57D15-7A3D-480C-9C94-B91B0AE7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A1A8668-8CA8-4FFF-8B55-87054E87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9549CE6-999C-49FC-A9F9-578859C9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2ABE7C-89EE-455E-A9D6-B6A02A02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EEE03D-906F-401A-8FA3-14015CC4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463EC-B25C-4EF3-8881-8C480259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2B9CB6-5A6A-4871-BE99-5442C933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197969-CCEC-41DC-A29B-CA1DCF56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66BF11D-90B3-4237-9DC3-BCC19139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E019712-8392-4CEA-B95A-8DFF93E9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DC78CC5-7C0A-43DE-B9B5-3794E58A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FA87BB5-156C-460D-839E-427C8C53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78D783-8DEA-4849-8900-C8FF3D3C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FD33AC8-8EDA-4B21-B5B9-6ED72A04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9601D5-CBF2-4904-A82F-689C8CC0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A559E2E-A87E-4EB6-BB3D-74A43602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96C57-0482-442E-B35D-09B39788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1C7735-E2B1-42B0-9B21-2C518DEC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189A78-AE38-45D7-BFD5-14313DB0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504334-E086-4314-B90E-DA76478E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2531CA6-9CE2-454B-9B33-47A87FAB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8C39C38-09A3-4FA6-9154-5C96F0C7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EF10E13-A7E4-4895-ACC2-1DAB2138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BFD9278-2DBC-4197-81C2-4BE2B378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FF9C71-C4C3-4DBE-B266-4E973F55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046CA99-B270-4951-83EB-AC704989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CBFAF3-EBEE-486E-89EE-14CC4BF9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EEEEA-4B3C-46C2-89F2-71B375DD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61BB398-B415-45FA-B864-18D132AA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C9D2AAB-0089-40C9-BDEE-A3C0783A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98A152B-6C4C-4043-B4EF-C2B8739B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7F7632-FE5C-487B-A6F0-162A96DA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D5685A4-E9E6-4D0B-9A8B-BD672155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746919-D5DB-4610-9737-9AA0A447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A2122E9-E3D1-4D1E-BA12-68134F70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B343252-748C-4F42-AA04-99EBA1FC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6E5C231-1202-4097-8B8F-4FF75F52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929D7E2-5481-4884-BBE2-A31414F6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A4D1A-53FF-49EF-BB22-5C363114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E6175E8-69E9-40A7-864A-A82C0675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D310EDD-B268-49CA-9461-40A31BF4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FA517F-AEFA-4A6E-AB3B-37006347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C0704BB-8E83-4F37-BE8C-42540EA5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C7A393B-81E1-4D79-B02B-89378717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82B3C7E-AC47-45E3-8934-20538B77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D13307B-0548-4535-A1EE-2A1B0875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9CFD08D-5A63-497E-B754-C94B7A0E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E0616C8-A345-4290-9216-9B92FA10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23C2BE3-CF9B-466B-B63C-C1010AE5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B0C31-0500-46C7-A098-A7C917F3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344326-578C-4AE3-9406-F913CAEB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1AD2BC9-CB20-4E68-A184-8C43B559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28F8C35-94F2-4618-97C2-A0A8099A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4F00D7D-D1F6-4999-A25F-3E116617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1837146-2910-4972-9626-163109F0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2801A2B-61D5-4F73-A228-ADBF217D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AE0F820-09A5-411B-9E14-D3CEA6A6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2ABAF09-AACF-45E4-98B2-C40656D2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8C3AD85-5245-4773-944C-3CD68557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E83CB4C-33CE-4AA5-A5D2-C8C69C2F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554F6-378F-4D16-9B2F-6D854CBE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274BD15-A1CF-42FF-8935-534E7D3E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633CEF9-FA2F-4924-9CFB-08B9AD3F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CCC9613-8675-4FB4-89F1-EE64F27C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3E52E1C-C635-449C-8C44-C2F9D1D8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40A7F7A-74BC-48DA-B24C-2B83010C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4E41C6-AA61-41C9-A11F-A22DEA9F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6A03742-65B6-4A6D-9E77-7056B8D4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78099B6-590A-48EE-A821-0E0CBC4C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49B82D8-1A8D-48D6-81A8-DCEEA58C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D4BF35F-5173-40D7-AA2A-AC6D3896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FB413-D467-4607-BA2C-FFAF6EC3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71D7A8F-6A6A-46FA-9C2C-7D8A6472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55F34E9-839C-4404-8E26-30B6324E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C7D7342-8AA4-45C7-A473-75D3094E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EF9772F-936E-41AF-B124-C157A4B5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1A9C026-2607-4262-BD04-643BD1DE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F55A404-861B-44BC-AC8A-24F903B8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239A748-4656-4426-BFAD-22DA03E9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DAED782-E2E9-4232-9EDB-14B62E1F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28C5799-3E36-4785-8663-7673155F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E305343-DF76-4F63-9812-0E2C3105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86525-CC7C-487D-A483-929ADC97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34D5ED-F834-4337-89B8-5B77D941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93CE1E2-BB99-448D-9F0E-77865299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F86D6CC-5A37-4CED-BC1C-F9CA160C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EEF7583-59A5-48DB-9C7C-02752406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40A1603-9400-4F05-BAC4-C1B51B19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0B76278-EFA1-4337-9372-C44FFFFD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5496DE9-7E4B-49BF-B0A0-7CC4E962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A04911A-4222-41F2-A6C3-D3E44EE9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E3C25E5-F2B0-468D-A7AF-E13E60B9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58A3B85-B83A-4BF6-8BE8-6344A903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42E-085C-4532-B4E0-25EFB6C1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7875B-CDCC-4082-8114-1365DE2A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A577040-6DB2-4F54-8275-8261A37A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814B2EF-68A9-4DC9-8AAA-C86D9622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DAE9E49-3181-42E4-A7EB-AB1E6242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A4CE846-F8C5-4713-A6CC-0B2EFCB9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D282A77-41A5-43B3-945A-422332C4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F37676E-920B-4A94-8F41-C2F093EB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93E9EB7-9676-42D3-9336-970078F6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D96C2EB-1DE5-4404-9717-B69C628C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7EA986F-15BD-44EB-BC37-837EAD1B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E37EA1D-9380-4D3C-8258-4D932A4E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26B52-A908-45B4-965F-F81A7B41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6586B2B-1AAB-4A45-B24B-A7861FEB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AAD92E6-F763-43BF-8FF7-C1C69FD7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6EE0639-D723-442A-9AFE-C164AA32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E234680-80FF-4C23-8848-90DBD82E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99D2EDC-EBEB-4B02-B779-9B07D8DB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EE0E9A1-3C80-467D-99C3-DBB5A74B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399E8B8-B2A2-4AEF-9112-7447BB74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6F61607-ABFB-4ED2-8B75-7860F96C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D701A6A-878C-46AA-BFCC-017CB47B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EF5DC8C-D48F-4669-89FD-B871B902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0BB7E-D28D-4A6B-B734-BF7DA3C6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2A0E233-F1AA-4A3A-8913-4FAA7636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7B248EC-58DA-4540-BFA6-13E3D665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A368B35-3EAF-4E14-8113-2FBE88DC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22A4440-BEC3-4F8A-B19C-22C2B5FF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D28CC9E-7993-40E1-9B57-5FA9F8FD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8B8BA88-B526-4942-917E-62177A7A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0BF73E3-A6B9-4A58-B8A3-C2709DA9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5D56E71-4403-406F-853D-C252CDC4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6AFA5E8-754D-4B28-B8F2-1C55D5D5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042D9C7-900A-4F2F-B72F-7496E82C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FF8E5-DDE1-4A2B-AFE5-B1534EDA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56E141F-A17C-4989-8E17-EE2FAECB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5588480-426B-41CB-BAA7-F7F63A64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0684EF0-A09E-452C-9250-9A5E6A4A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0FC76C5-2141-47F4-A594-BAA180E9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5503E68-898B-4AD2-AF79-EA5C07D1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29B12E7-E78F-4965-9FF7-C6025C73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7335BEF-8631-4E00-883F-6CE4B34A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2A72726-CDDA-4B85-A1A0-52E4B99C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DB2D41F-184A-4269-8ECD-473317E1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CDE3B24-9058-4162-A0FC-E4FBC833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D8063-437A-48D4-8B3D-07851106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FFDB14A-B275-4E72-A178-18BE2A18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E618807-4250-4C1E-AA6C-8787A5D2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8EAF588-4D7C-40DC-8FCA-9A0685B1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E655697-5F4C-485A-A580-9C079A92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98CFB8F-191C-497B-B434-3D37CCFB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EEBE0EA-B54D-4925-9D81-97462F49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1EB7FE5-BCA0-46D3-B68C-62E25144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E47FF84-92D8-4129-BCF4-9F6A09C9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36E472D-5910-469E-8BF6-58E95827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393CF27-DC27-4781-931F-4A351814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E8A95-1F25-4C07-BDC1-8BB1F4E6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096B15D-E6F4-4A4F-BCF1-CF286902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A5079BF-6EEE-47AF-990F-112DD3FA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E97B1BD-F632-48AD-8CD0-CBCE43E3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B4B7274-3D66-40E6-B260-747F0501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21FBA79-FEB5-452D-B29F-C74965D4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8D97587-F682-4680-A7DE-86B93D87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B808294-C612-4A43-8C3B-03341E70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AE0F259-8B40-489F-87EA-4F4329A2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4E920B9-A81F-468E-B91F-01F762B5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46FD8B1-3E13-4605-A0A2-72CF8C1D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6C8A0-FD11-4389-866C-6C4E6E5C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D97ABF4-30DC-48A4-94D3-C52C70C6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64F18D8-3583-4C22-802A-5C66C66E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AB708BC-02D7-4EE1-AAE2-E20F4077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30118CB-5840-47B2-A7F5-C97F287E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8D3DF86-6DD9-41BA-B3BB-2174883A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25FFF28-47A3-4734-84AD-5A399D09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06C3877-1200-4E10-AAEE-FC66C80F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41F3023-1AB3-46B4-8238-2DEC6D5D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F717065-2B60-4B95-A1EB-EBBF3FEF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C3A6A2E-615D-40FE-B972-D477D9D9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83BB1-4488-46E9-8675-60F51F74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FAC7398-0A32-4756-BD31-A73FE90A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0F4EC8A-C72E-433D-85EE-3A7885CB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28D3520-0096-4504-A3EF-982B060F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4A9B805-BBED-40FD-82C5-A088A9FA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461A9E8-9E93-44BE-8BCE-63DAD667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E8FA26D-F113-43C8-A26B-4B8C4440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F4FE2CB-B311-4332-9016-7D814897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2A614CE-388E-470F-B97E-C1547464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16D8AA4-2392-4BA3-A2D1-FA84F2CA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F3F6B70-F9C3-43AE-91DB-0C1C92C5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1BEC2-38EC-44A3-90CB-FB5679DC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C0B1564-CE3F-41FE-ADE2-14FD6213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1A5FDBF-6B27-4491-AF17-4338938D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A5AF07D-4DB3-431D-AD63-24F59D52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C0A10E5-8B87-4E45-BA5B-F28DB016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1800A53-1C7A-4331-8D33-5A2616F0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D5391D9-124C-43A5-849E-4F82BA87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169A6C6-4412-4311-B2CC-62E1ABF0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632267F-D166-4607-93CA-01FEFC97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EB929A3-A137-4E3C-BA53-9C718F07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96101EC-0533-4F19-86DF-36D46D05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BA184-5201-48C6-88EE-46B1DF75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A078A08-7DFB-48EC-891F-77CFFF1B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4CC713C-EE24-4E73-8601-3269D83D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E805A57-8B06-4849-96C8-47C0CA48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26947FA-331D-4BB0-AEFA-7393E484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040DE6F-0E16-48A2-8345-76F6335A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4228AF1-9760-4769-B6C9-7BF20043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453506C-1CC7-41CD-90C7-2B623D3F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D4DFE87-74DE-42CE-A884-C862B2ED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5F516E6-3802-4B1B-AD36-3AA944D2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6046AAD-186A-4CCF-9CD1-5D150D9D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7B6-27DE-49AA-A6D8-CC21B016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84AFD-DA9E-4D06-A1C0-C2348CB1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F55CB68-3E21-4A9C-AAFB-1615C28E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FD5FCCF-7B2E-4061-AF2D-4579589B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7DC3C30-3AA6-42AF-87B0-E2BC7345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322BF1E-CB16-469C-96A7-125480CF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3305C90-3C77-4042-A48A-BA43053C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93DA9CF-AF23-47D8-AB76-6EB31B1F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822194B-0C76-4836-89F7-B941586B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B1A5051-C4C9-4D7B-92DC-53C104DB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C7FD44C-C07E-49C3-84BC-0A90A6AA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ABADE17-46A5-48EA-BD0B-BC585ADE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34972-9980-4FCE-9E27-798A4B9A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1588BB5-1728-43FD-8789-CFCAFC7B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DF50073-A9E7-4F5C-BAFC-293B7534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7A9EC54-443C-4787-BB1F-646F8FC0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1AF46F0-9709-4077-B41D-170E3206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22FD775-7D93-4F76-924C-8761F029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65E9022-0A7F-4EB9-9578-45D6C63C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22F8682-6FED-468F-948E-759CCBFD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E45E9F4-3AC3-4BED-904B-C31655AF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F0E9278-59D6-4926-AC8A-F8387BC7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B599F4C-548B-4FF4-8C89-21094723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19CB7-8A57-417A-AC7C-E6EA5564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41F0186-AF22-4B38-8777-B5F4CC3F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A6BFA92-259E-4449-8EDA-20B80F05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66C1F69-5238-4971-92F9-9CA2A4F5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887A29E-8412-4633-AF9B-9939B737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6D8487C-9B46-40DC-9596-BD42783D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E519921-3E16-47DA-BD25-DA9813E1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015DBE7-AED3-48C8-A39C-594A096C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C21D2C5-84B9-46FB-83CB-3A982F31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9AEA9A6-6389-4A6B-9BFC-8DBD09D7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7874F5D-FA5D-452B-B447-59154330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79C69-D1FD-460D-ADD7-C6DFFCE6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77B7571-9B21-4A81-831B-4AF0DC8E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9883ACA-88A6-430A-A254-3D885C3C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DB0DAC8-8569-41FC-B8E3-39DE31C6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6ED026A-FA5A-4F61-A903-23E11004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78B72E8-C22D-4023-85E8-22277AD9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14E346E-EE01-4642-B9D7-829FF3A9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278F66C-C71C-4BB3-9FFF-2F4B7BE3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515436A-E113-4D83-92AB-BAD885D7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A746216-FFEF-4365-8F6E-DA4A2E41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6BA99C5-DA51-4F0B-980A-4AA335E9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58FC1-6C1F-4881-8821-6D8F7F18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ED23114-4FD8-4A4E-9B68-3B504DD2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307C368-F780-49BB-A5E8-36300F09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0A256DB-F3A2-4911-94B3-D14709E0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CCF477F-C035-4F20-A9FF-1A87FA55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65939AA-5999-45FC-96D4-3F0C9CDD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30B7009-E37C-4FB1-9B00-F1B63262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390DF11-A0F5-4D0D-A768-96EB4EE0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DA9A126-4F51-4165-99EA-F6CAF204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F6D990C-985F-4ACE-8AA4-0F687A57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390AC9D-5B6B-48F0-9524-5640F2FF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C6813-AF23-441A-88B3-0BDC0721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30BF4A6-A507-44B5-A1B3-54707341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95B4742-816A-43B3-B8A7-9D871C48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F5C5DC8-E3AD-4255-85F9-921AE6DD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0599F61-72B0-4A21-9D16-CB54CDBF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79FA15B-CCAF-4036-9B89-409CB6D9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A9DFB29-362E-4CBB-8FEB-9F5E5C71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4D2E07F-CCF2-4EC6-AB88-3C6E7710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922F29C-760C-4F85-86F5-EA3040EB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EE4E0AF-C754-4638-92E4-5FF81DA6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36D8C89-9463-403D-98F8-BC91EC50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FE73E-FAC1-40DE-B9B6-457BB795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C63D4A4-A6C4-4AB9-A5C3-069F05D8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ACE3A7A-33EC-476C-9357-B7238219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F5A4367-ED7A-4FE1-A46B-A52C5A24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3F6B185-AE37-4AD4-A17A-92039AD7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356B95B-8950-400F-A387-6F315991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75F7F41-7E39-476E-A8CF-07FED6C9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0E45013-3BDA-4B29-B3F3-93E77185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C14413C-09F1-4A41-932A-D8EB70C8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DFBA677-9B78-4AFE-96C9-7DB0C6CD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13731BD-E8E9-472F-AB04-39D46126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72681-88B5-41BF-B6EF-85EA8106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9F68239-A0EC-48CB-8DB1-9CE48165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BD517D4-BD57-4B08-86BE-FED49AB7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FEBAACB-2D73-482D-8E2B-1EFB4595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FD2611B-EDAB-4ECC-8223-1207064B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CEF74CC-3295-4729-8833-322DFF2D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1BFB69A-B1D4-4616-BA6E-08E1438C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9F392B7-B743-4D43-90B1-328E0801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2A72A84-E2A1-4F3B-AB2D-71F27A53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C2FC382-489F-48C8-93D4-E363E205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38DA0AB-8EBD-4DDD-91EE-B47A9A6A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6C71C-20F7-446D-B56E-4CC33AA6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1EE82E5-496D-47E7-A62B-66DDE77C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171FF23-4F3A-4362-9FBF-2B432012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D8F77A6-DE65-4203-8E23-72A190F9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0A9AFE8-3329-4068-AA24-90F03CE8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A843344-ACE0-4982-BB82-7E2B9BE0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BFCDC4C-0775-4DED-90F7-9B6C321C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6696207-45B0-4020-8411-C66C084D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AB5A0E7-E494-493B-AF0A-A19EC0EF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C55ED5E-6FE9-462F-8EEE-189D4BE7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2BB954E-4139-4441-BB64-D164206C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E7BA6-5DB4-4ED0-BB83-3787C5B7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4F518A1-38B1-4AED-B812-CF5EDA84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3E4F2F6-1196-4A9F-9C81-1E09CBB6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9AE9A5C-4990-4D94-9770-88261220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E9444C5-AB83-48A7-B98E-9E86DCE1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730D54E-BA67-466C-A0C3-F3415629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9AE4F03-9C79-4DED-9EA2-D63CC2F4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153E898-2927-43D6-BC38-FE4ADD65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6C3DA6D-82A5-4F02-98E3-1B225571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CA8DE28-272B-4885-A597-023EC1E1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F6780EB-3E09-4665-9E35-CCF3393D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516-A690-4BF4-908C-9F9B3F0F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CFEC6-3579-4CA2-B922-BBE57DB0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7E6A0D6-8905-4773-B688-6ACC36F2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3A3C1A0-EC10-414B-9120-8DC5FD39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7EA97FE-91AD-48AD-B99E-E7FE4AF8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0C2D13C-0541-4117-8CC9-57C2809E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F131599-13C8-4D8C-82D1-3937600C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685F990-836C-4F8A-9F9E-3C223BE5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A2C7CB7-2152-4670-A15F-4C238905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FA54320-510B-45E7-B77F-3CB0A758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332B62B-19FE-4269-8B00-FA2E1676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5CBA8C5-A857-47BF-B6F8-472268A4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E4020-9799-4F71-8415-18515259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1F772D3-20B7-489F-B966-435BD5AE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AA5BD2F-86A0-4C87-B167-E65768F6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7F68295-43BD-4A90-9754-250D86DB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109F423-2CB6-4656-9D44-6BCD71D2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6AD9442-7E6F-4F13-B543-5FC2EB17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BCECCB0-E304-4D94-A586-617C0CFB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2528472-1148-429D-B350-182C8CB9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6AF72E8-A081-4AEE-9EBD-B3E8F19C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8D22CDC-3F5A-431D-BA07-27E0A41B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2A049EF-E714-4C62-9ED0-1DCD26C5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867A2-FC27-46D9-A9AD-40EE1569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913ADA1-B617-4FE6-B48B-7E81782E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E2C444A-3138-4E89-B984-14E18506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BA10F14-CBF1-4E81-BD1F-AFAC1DF1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9ECDB76-28D5-4BDB-A0FD-B87E0B70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3EEA1DA-2221-42E5-9A30-1F586854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DAC81DB-B350-494D-AD97-E6ED94F0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D112869-A709-405C-8BA8-357C600F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09E4CB8-633C-4068-B7DD-D4C862C0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034628D-6B95-412C-9AED-5500403B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48470A7-9D87-4DD0-BBB6-51C54058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C7B44-1AF8-49C8-9948-F815D327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335D71B-DDAF-4F73-84EE-F591BDD3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2F426C5-3A7E-4DDA-A53D-606CB3A1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686D9F0-A220-4EBB-A31C-95EF0E6E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38EDCA1-CBA7-49FA-AAC1-FCE0CF46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494D38E-09E3-49A6-8EBD-73EC8082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86387EF-43C0-4372-9098-3D9EB668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48E406E-CB81-460D-B3DB-DF83F9F1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A31251C-E5C7-4231-B767-759FCAC7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5B5A6B5-044D-47F8-9216-6D96ED9F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D021BED-42DB-4E1D-A1C3-2D00C46B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76D45-9063-422E-A169-0F656BA4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F0A6CC5-7D00-4655-8B79-F365F0B6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DE33133-E1CB-4E9C-9468-4F8FF4A2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0E87A25-0052-4B43-9E79-7E17543F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0CAE896-19AD-44EC-9766-3260A9A4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246417C-0123-40B4-AE51-5902CFCD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89BE9-3927-4E69-BF5A-DD03CB98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8CC54-BE23-4227-8C3E-4BDB04CC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DEA9A-47A9-4272-BF82-2CB630F8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2957D-A7D7-4A23-9116-61CF1149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CFBD3-5AA9-4D40-B05E-B2A2776F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12B-D81B-4377-8DD9-ED9E14F2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0019D-CA99-4BF4-B8C0-FAD386D4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37625-D12F-4A08-8BDF-376F856C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87A22-CFE6-4A37-A762-396231EA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4A6CD-8C95-40B1-8BCE-829E9ED2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1B94A-91B3-487A-90E5-96AC251E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B13B0-1BBD-41C6-8D44-19F8242F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42A94-C109-4DF1-A30A-D1A0AD2E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CA3EB-5D66-453D-B1B4-941A7F75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338BE-B49A-4AA8-8217-5699A762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16818-A0C1-42BE-B255-BF2FAB64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67C-C793-44C4-9C70-451306ED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17C39-A823-43D3-BA14-81172F78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B627B-AEA8-4DAF-B917-4E789E2D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DEFA2-EC80-4314-B887-4931926C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A789C-7270-4C67-AB0F-391AC30E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8979A-EAFA-4D2E-B838-8395E8F8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CE119-FA78-4DAA-8B61-2FC75356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7AD01-3F11-4A0C-8486-26F78DF8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0C0D7-C1A8-4D9F-9980-0E02E661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8CAA8-C021-450D-83CB-4179B295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10BB9-5E2F-4D42-A294-A21DD537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B470-AE6C-4895-9C6C-DB20DB9FBC3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294E-3F29-4FEA-8CDF-FA4ED96203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9EC7-2AD3-402F-8F79-D29C848C7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EE58-5B3F-4AB3-B993-64650A442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8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9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F1DC-D415-4305-A49D-2B6449FA94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4B4B-CA9D-4E6C-B278-32D4BF123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5C42-3BEA-4AC2-8C09-B94DF7D213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6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47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48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AF32-4A89-4B37-89DB-83CC39693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49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50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51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BDAA-BE68-4776-A508-50976C9B5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52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3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4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6C89-6A2B-4F2B-8413-1175F14BB9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5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6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5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6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57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972E-32BD-4924-9108-6842F8A3BD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99AC-F79C-40A6-BF1B-8C1658CAF13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58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59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60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34F8-AF0C-4CCC-A931-516DB3C6B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6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6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6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61BB-D348-4DF1-8E72-B7C5EB78D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6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6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6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5A3B-0E84-4BFF-8C03-A0A96013D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dt" idx="67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ftr" idx="68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 type="sldNum" idx="69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E3E6-9709-4779-8677-166AEAA7B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7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7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7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B992-2FC9-4394-857C-7D0E9EF9B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dt" idx="7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ftr" idx="7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 type="sldNum" idx="7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6E83-FFD5-4DC0-BB72-15E1DF9BD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6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77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78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18BE-3E82-46B7-9223-D4F56B6EF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dt" idx="79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80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 type="sldNum" idx="81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615F-2942-474E-8D2B-90C9FC0A6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2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3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84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C26A-BDBC-4EAD-964C-7740E203CF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85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86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87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BD95-6BEA-463D-8021-9397A1B77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EE99-FE9C-43D2-A254-1BA0EA868FB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5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6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88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89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90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31CE-EE93-42E6-BD70-2B97C7CEC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9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9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9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27E8-FA15-48B6-955B-5F5B2DFDE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9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9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9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7F12-5978-430D-849B-EC514DEEC7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97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98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99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22ED-735D-463F-BF3E-1F090A898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 type="dt" idx="10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 type="ftr" idx="10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 type="sldNum" idx="10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09F6-A651-4F55-B194-EADFC2DBE9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 type="dt" idx="10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 type="ftr" idx="10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 type="sldNum" idx="10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BADD-FEE7-4DA4-9908-10F0FE68F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 type="dt" idx="106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 type="ftr" idx="107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 type="sldNum" idx="108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192A-8973-435E-A117-1A9882BC6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 type="dt" idx="109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 type="ftr" idx="110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 type="sldNum" idx="111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9140-234A-4DF7-9E2B-7880FDDEB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 type="dt" idx="112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 type="ftr" idx="113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 type="sldNum" idx="114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1D46-E49B-48E6-9E58-D0BFB56D8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 type="dt" idx="115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 type="ftr" idx="116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 type="sldNum" idx="117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479C-0E90-4189-A30F-0BC3F19FD2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C8DA-C96E-4299-A685-7BE9F93FA02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 type="dt" idx="118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 type="ftr" idx="119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 type="sldNum" idx="120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0A69-55DB-46EF-871D-0304C8488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5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6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 type="dt" idx="12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 type="ftr" idx="12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 type="sldNum" idx="12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6AC9-CE9B-4D99-9E2F-B25C1FE87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 type="dt" idx="12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 type="ftr" idx="12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 type="sldNum" idx="12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47DD-2B81-4278-8774-47A22A8D0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 type="dt" idx="127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 type="ftr" idx="128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 type="sldNum" idx="129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32B0-24D0-4075-8410-3022CD955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13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 type="ftr" idx="13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 type="sldNum" idx="13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9834-D6F6-47D1-9015-4E3DDA8B3F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 type="dt" idx="13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 type="ftr" idx="13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 type="sldNum" idx="13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ECC6-FDB5-416E-A337-C3914A227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 type="dt" idx="136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 type="ftr" idx="137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5"/>
          <p:cNvSpPr>
            <a:spLocks noGrp="1"/>
          </p:cNvSpPr>
          <p:nvPr>
            <p:ph type="sldNum" idx="138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72B5-C3F9-4F54-9A0F-F74D44AA8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 type="dt" idx="139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 type="ftr" idx="140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 type="sldNum" idx="141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2D79-C9DA-4491-BD71-9B231815C0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 type="dt" idx="142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 type="ftr" idx="143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 type="sldNum" idx="144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6EC1-D451-4573-B8AB-106BA8404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 type="dt" idx="145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 type="ftr" idx="146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5"/>
          <p:cNvSpPr>
            <a:spLocks noGrp="1"/>
          </p:cNvSpPr>
          <p:nvPr>
            <p:ph type="sldNum" idx="147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9AC7-795E-4FA6-8B22-718393F7BF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80BC-F614-4082-BBB1-11B2CEE6004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 type="dt" idx="148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 type="ftr" idx="149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 type="sldNum" idx="150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F374-E45D-4A04-91FE-4B0A90649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 type="dt" idx="15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 type="ftr" idx="15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 type="sldNum" idx="15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AF36-0C39-48DC-B2A0-F58CEC796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Rectangle 5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Rectangle 6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7" name="PlaceHolder 3"/>
          <p:cNvSpPr>
            <a:spLocks noGrp="1"/>
          </p:cNvSpPr>
          <p:nvPr>
            <p:ph type="dt" idx="15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4"/>
          <p:cNvSpPr>
            <a:spLocks noGrp="1"/>
          </p:cNvSpPr>
          <p:nvPr>
            <p:ph type="ftr" idx="15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5"/>
          <p:cNvSpPr>
            <a:spLocks noGrp="1"/>
          </p:cNvSpPr>
          <p:nvPr>
            <p:ph type="sldNum" idx="15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1D94-12E9-4467-9436-EC79B52F32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 type="dt" idx="157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 type="ftr" idx="158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 type="sldNum" idx="159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E798-2AAB-483A-AB17-0669B11A9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 type="dt" idx="16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 type="ftr" idx="16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 type="sldNum" idx="16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EEC3-88BC-4CC9-825E-E845BAA768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 type="dt" idx="16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4"/>
          <p:cNvSpPr>
            <a:spLocks noGrp="1"/>
          </p:cNvSpPr>
          <p:nvPr>
            <p:ph type="ftr" idx="16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5"/>
          <p:cNvSpPr>
            <a:spLocks noGrp="1"/>
          </p:cNvSpPr>
          <p:nvPr>
            <p:ph type="sldNum" idx="16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E53B-5CE6-4808-B6C3-4A6521647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 type="dt" idx="166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 type="ftr" idx="167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5"/>
          <p:cNvSpPr>
            <a:spLocks noGrp="1"/>
          </p:cNvSpPr>
          <p:nvPr>
            <p:ph type="sldNum" idx="168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B653-9AAD-4E33-9D69-23E34B70C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 type="dt" idx="169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 type="ftr" idx="170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5"/>
          <p:cNvSpPr>
            <a:spLocks noGrp="1"/>
          </p:cNvSpPr>
          <p:nvPr>
            <p:ph type="sldNum" idx="171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1003-2CD9-42C9-8C45-13E9FA66BD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 type="dt" idx="172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4"/>
          <p:cNvSpPr>
            <a:spLocks noGrp="1"/>
          </p:cNvSpPr>
          <p:nvPr>
            <p:ph type="ftr" idx="173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PlaceHolder 5"/>
          <p:cNvSpPr>
            <a:spLocks noGrp="1"/>
          </p:cNvSpPr>
          <p:nvPr>
            <p:ph type="sldNum" idx="174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8DFE-53B2-4DFB-BD26-69EE7DA1B4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5" name="PlaceHolder 3"/>
          <p:cNvSpPr>
            <a:spLocks noGrp="1"/>
          </p:cNvSpPr>
          <p:nvPr>
            <p:ph type="dt" idx="175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PlaceHolder 4"/>
          <p:cNvSpPr>
            <a:spLocks noGrp="1"/>
          </p:cNvSpPr>
          <p:nvPr>
            <p:ph type="ftr" idx="176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5"/>
          <p:cNvSpPr>
            <a:spLocks noGrp="1"/>
          </p:cNvSpPr>
          <p:nvPr>
            <p:ph type="sldNum" idx="177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C453-8F1C-4F76-ADEE-23D4D42C01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56FC-A877-49CC-9C2B-1EF42B2F0E7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 type="dt" idx="178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 type="ftr" idx="179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5"/>
          <p:cNvSpPr>
            <a:spLocks noGrp="1"/>
          </p:cNvSpPr>
          <p:nvPr>
            <p:ph type="sldNum" idx="180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62EE-3131-4366-B43B-AD8690D28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 type="dt" idx="18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 type="ftr" idx="18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PlaceHolder 5"/>
          <p:cNvSpPr>
            <a:spLocks noGrp="1"/>
          </p:cNvSpPr>
          <p:nvPr>
            <p:ph type="sldNum" idx="18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9291-2345-4197-AF63-98090035D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7" name="PlaceHolder 3"/>
          <p:cNvSpPr>
            <a:spLocks noGrp="1"/>
          </p:cNvSpPr>
          <p:nvPr>
            <p:ph type="dt" idx="18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4"/>
          <p:cNvSpPr>
            <a:spLocks noGrp="1"/>
          </p:cNvSpPr>
          <p:nvPr>
            <p:ph type="ftr" idx="18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5"/>
          <p:cNvSpPr>
            <a:spLocks noGrp="1"/>
          </p:cNvSpPr>
          <p:nvPr>
            <p:ph type="sldNum" idx="18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8AEC-9F52-4AB5-88B9-D5D9464E1D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7B7C-79B2-4FF1-96A1-A14FCAE30C8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A399-9614-4954-B36F-24A1436B2B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BFBD-BDD4-408F-B764-E6AD9DEDCF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ungle%20Menu%20Command.wav"/><Relationship Id="rId3" Type="http://schemas.openxmlformats.org/officeDocument/2006/relationships/audio" Target="../media/Jungle%20Menu%20Command.wav"/><Relationship Id="rId4" Type="http://schemas.openxmlformats.org/officeDocument/2006/relationships/audio" Target="../media/Jungle%20Menu%20Command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lick.wav"/><Relationship Id="rId3" Type="http://schemas.openxmlformats.org/officeDocument/2006/relationships/audio" Target="../media/Jungle%20Menu%20Command.wav"/><Relationship Id="rId4" Type="http://schemas.openxmlformats.org/officeDocument/2006/relationships/audio" Target="../media/Jungle%20Menu%20Command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ungle%20Menu%20Command.wav"/><Relationship Id="rId3" Type="http://schemas.openxmlformats.org/officeDocument/2006/relationships/audio" Target="../media/Jungle%20Menu%20Command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ungle%20Menu%20Command.wav"/><Relationship Id="rId3" Type="http://schemas.openxmlformats.org/officeDocument/2006/relationships/audio" Target="../media/Jungle%20Menu%20Command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ungle%20Menu%20Command.wav"/><Relationship Id="rId3" Type="http://schemas.openxmlformats.org/officeDocument/2006/relationships/audio" Target="../media/Jungle%20Menu%20Command.wav"/><Relationship Id="rId4" Type="http://schemas.openxmlformats.org/officeDocument/2006/relationships/audio" Target="../media/Jungle%20Menu%20Command.wav"/><Relationship Id="rId5" Type="http://schemas.openxmlformats.org/officeDocument/2006/relationships/audio" Target="../media/Jungle%20Menu%20Command.wav"/><Relationship Id="rId6" Type="http://schemas.openxmlformats.org/officeDocument/2006/relationships/audio" Target="../media/Jungle%20Menu%20Command.wav"/><Relationship Id="rId7" Type="http://schemas.openxmlformats.org/officeDocument/2006/relationships/audio" Target="../media/Jungle%20Menu%20Command.wav"/><Relationship Id="rId8" Type="http://schemas.openxmlformats.org/officeDocument/2006/relationships/audio" Target="../media/Jungle%20Menu%20Command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ungle%20Menu%20Command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Jungle%20Menu%20Command.wav"/><Relationship Id="rId4" Type="http://schemas.openxmlformats.org/officeDocument/2006/relationships/audio" Target="../media/Jungle%20Menu%20Command.wav"/><Relationship Id="rId5" Type="http://schemas.openxmlformats.org/officeDocument/2006/relationships/audio" Target="../media/Jungle%20Menu%20Command.wav"/><Relationship Id="rId6" Type="http://schemas.openxmlformats.org/officeDocument/2006/relationships/audio" Target="../media/Jungle%20Menu%20Command.wav"/><Relationship Id="rId7" Type="http://schemas.openxmlformats.org/officeDocument/2006/relationships/audio" Target="../media/Jungle%20Menu%20Command.wav"/><Relationship Id="rId8" Type="http://schemas.openxmlformats.org/officeDocument/2006/relationships/audio" Target="../media/Jungle%20Menu%20Command.wav"/><Relationship Id="rId9" Type="http://schemas.openxmlformats.org/officeDocument/2006/relationships/slideLayout" Target="../slideLayouts/slideLayout4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ungle%20Menu%20Command.wav"/><Relationship Id="rId3" Type="http://schemas.openxmlformats.org/officeDocument/2006/relationships/audio" Target="../media/Jungle%20Menu%20Command.wav"/><Relationship Id="rId4" Type="http://schemas.openxmlformats.org/officeDocument/2006/relationships/audio" Target="../media/Jungle%20Menu%20Command.wav"/><Relationship Id="rId5" Type="http://schemas.openxmlformats.org/officeDocument/2006/relationships/audio" Target="../media/Jungle%20Menu%20Command.wav"/><Relationship Id="rId6" Type="http://schemas.openxmlformats.org/officeDocument/2006/relationships/audio" Target="../media/WHOOSH.WAV"/><Relationship Id="rId7" Type="http://schemas.openxmlformats.org/officeDocument/2006/relationships/audio" Target="../media/Jungle%20Menu%20Command.wav"/><Relationship Id="rId8" Type="http://schemas.openxmlformats.org/officeDocument/2006/relationships/slideLayout" Target="../slideLayouts/slideLayout5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audio" Target="../media/CAMERA.WAV"/><Relationship Id="rId5" Type="http://schemas.openxmlformats.org/officeDocument/2006/relationships/audio" Target="../media/Jungle%20Menu%20Command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6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Vectors and Scalar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ear, searching for food wanders 35 meters east then 20 meters north. Frustrated, he wanders another 12 meters west then 6 meters south. Calculate the bear's displac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Text Box 4"/>
          <p:cNvSpPr/>
          <p:nvPr/>
        </p:nvSpPr>
        <p:spPr>
          <a:xfrm>
            <a:off x="1280880" y="4456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Line 5"/>
          <p:cNvSpPr/>
          <p:nvPr/>
        </p:nvSpPr>
        <p:spPr>
          <a:xfrm flipV="1">
            <a:off x="2666880" y="3200040"/>
            <a:ext cx="0" cy="10666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Text Box 6"/>
          <p:cNvSpPr/>
          <p:nvPr/>
        </p:nvSpPr>
        <p:spPr>
          <a:xfrm>
            <a:off x="2652480" y="35416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Line 7"/>
          <p:cNvSpPr/>
          <p:nvPr/>
        </p:nvSpPr>
        <p:spPr>
          <a:xfrm flipH="1">
            <a:off x="2057040" y="3200400"/>
            <a:ext cx="609480" cy="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Text Box 8"/>
          <p:cNvSpPr/>
          <p:nvPr/>
        </p:nvSpPr>
        <p:spPr>
          <a:xfrm>
            <a:off x="2118960" y="2703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m,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Line 9"/>
          <p:cNvSpPr/>
          <p:nvPr/>
        </p:nvSpPr>
        <p:spPr>
          <a:xfrm>
            <a:off x="2057400" y="3200400"/>
            <a:ext cx="0" cy="30492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Text Box 10"/>
          <p:cNvSpPr/>
          <p:nvPr/>
        </p:nvSpPr>
        <p:spPr>
          <a:xfrm>
            <a:off x="1144080" y="32004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m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Line 11"/>
          <p:cNvSpPr/>
          <p:nvPr/>
        </p:nvSpPr>
        <p:spPr>
          <a:xfrm>
            <a:off x="914400" y="434340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Line 12"/>
          <p:cNvSpPr/>
          <p:nvPr/>
        </p:nvSpPr>
        <p:spPr>
          <a:xfrm>
            <a:off x="3429000" y="228600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Text Box 13"/>
          <p:cNvSpPr/>
          <p:nvPr/>
        </p:nvSpPr>
        <p:spPr>
          <a:xfrm>
            <a:off x="5243400" y="1865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Line 14"/>
          <p:cNvSpPr/>
          <p:nvPr/>
        </p:nvSpPr>
        <p:spPr>
          <a:xfrm flipH="1">
            <a:off x="4571640" y="2438280"/>
            <a:ext cx="609480" cy="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Text Box 15"/>
          <p:cNvSpPr/>
          <p:nvPr/>
        </p:nvSpPr>
        <p:spPr>
          <a:xfrm>
            <a:off x="5623920" y="1941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Line 16"/>
          <p:cNvSpPr/>
          <p:nvPr/>
        </p:nvSpPr>
        <p:spPr>
          <a:xfrm>
            <a:off x="6095880" y="22096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Text Box 17"/>
          <p:cNvSpPr/>
          <p:nvPr/>
        </p:nvSpPr>
        <p:spPr>
          <a:xfrm>
            <a:off x="6310080" y="17128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18"/>
          <p:cNvSpPr/>
          <p:nvPr/>
        </p:nvSpPr>
        <p:spPr>
          <a:xfrm flipV="1">
            <a:off x="4343400" y="2819160"/>
            <a:ext cx="0" cy="10666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Line 19"/>
          <p:cNvSpPr/>
          <p:nvPr/>
        </p:nvSpPr>
        <p:spPr>
          <a:xfrm>
            <a:off x="4419720" y="2819520"/>
            <a:ext cx="0" cy="3045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Text Box 20"/>
          <p:cNvSpPr/>
          <p:nvPr/>
        </p:nvSpPr>
        <p:spPr>
          <a:xfrm>
            <a:off x="4495680" y="2819520"/>
            <a:ext cx="2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Text Box 21"/>
          <p:cNvSpPr/>
          <p:nvPr/>
        </p:nvSpPr>
        <p:spPr>
          <a:xfrm>
            <a:off x="4801680" y="2819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Line 22"/>
          <p:cNvSpPr/>
          <p:nvPr/>
        </p:nvSpPr>
        <p:spPr>
          <a:xfrm flipV="1">
            <a:off x="5257800" y="30481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Text Box 23"/>
          <p:cNvSpPr/>
          <p:nvPr/>
        </p:nvSpPr>
        <p:spPr>
          <a:xfrm>
            <a:off x="5319720" y="30081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m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Line 24"/>
          <p:cNvSpPr/>
          <p:nvPr/>
        </p:nvSpPr>
        <p:spPr>
          <a:xfrm>
            <a:off x="3276720" y="51814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Line 25"/>
          <p:cNvSpPr/>
          <p:nvPr/>
        </p:nvSpPr>
        <p:spPr>
          <a:xfrm flipV="1">
            <a:off x="4419720" y="426672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Text Box 26"/>
          <p:cNvSpPr/>
          <p:nvPr/>
        </p:nvSpPr>
        <p:spPr>
          <a:xfrm>
            <a:off x="3354120" y="5334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Text Box 27"/>
          <p:cNvSpPr/>
          <p:nvPr/>
        </p:nvSpPr>
        <p:spPr>
          <a:xfrm>
            <a:off x="4497120" y="44197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m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Line 28"/>
          <p:cNvSpPr/>
          <p:nvPr/>
        </p:nvSpPr>
        <p:spPr>
          <a:xfrm flipV="1">
            <a:off x="3276720" y="4266720"/>
            <a:ext cx="1066680" cy="838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1" name="Object 29"/>
              <p:cNvSpPr txBox="1"/>
              <p:nvPr/>
            </p:nvSpPr>
            <p:spPr>
              <a:xfrm>
                <a:off x="5715000" y="3755880"/>
                <a:ext cx="2971800" cy="16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87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8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62" name="Text Box 30"/>
          <p:cNvSpPr/>
          <p:nvPr/>
        </p:nvSpPr>
        <p:spPr>
          <a:xfrm>
            <a:off x="825120" y="575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nal Answer: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6.93 m, 31.3 degrees NORTH or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Text Box 31"/>
          <p:cNvSpPr/>
          <p:nvPr/>
        </p:nvSpPr>
        <p:spPr>
          <a:xfrm>
            <a:off x="3262680" y="445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Text Box 32"/>
          <p:cNvSpPr/>
          <p:nvPr/>
        </p:nvSpPr>
        <p:spPr>
          <a:xfrm>
            <a:off x="3430080" y="487692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autoRev="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-0.12214 E">
                                      <p:cBhvr>
                                        <p:cTn id="559" dur="2000" fill="hold"/>
                                        <p:tgtEl>
                                          <p:spTgt spid="2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-0.12214 E">
                                      <p:cBhvr>
                                        <p:cTn id="561" dur="2000" fill="hold"/>
                                        <p:tgtEl>
                                          <p:spTgt spid="2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-0.12214 E">
                                      <p:cBhvr>
                                        <p:cTn id="563" dur="2000" fill="hold"/>
                                        <p:tgtEl>
                                          <p:spTgt spid="2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-0.12214 E">
                                      <p:cBhvr>
                                        <p:cTn id="565" dur="2000" fill="hold"/>
                                        <p:tgtEl>
                                          <p:spTgt spid="2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-0.12214 E">
                                      <p:cBhvr>
                                        <p:cTn id="567" dur="2000" fill="hold"/>
                                        <p:tgtEl>
                                          <p:spTgt spid="2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boat moves with a velocity of 15 m/s, N in a river which flows with a velocity of 8.0 m/s, west. Calculate the boat's resultant velocity with respect to due no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Line 4"/>
          <p:cNvSpPr/>
          <p:nvPr/>
        </p:nvSpPr>
        <p:spPr>
          <a:xfrm>
            <a:off x="1844640" y="3036960"/>
            <a:ext cx="0" cy="213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Line 5"/>
          <p:cNvSpPr/>
          <p:nvPr/>
        </p:nvSpPr>
        <p:spPr>
          <a:xfrm>
            <a:off x="853920" y="4179960"/>
            <a:ext cx="1905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Line 6"/>
          <p:cNvSpPr/>
          <p:nvPr/>
        </p:nvSpPr>
        <p:spPr>
          <a:xfrm flipV="1">
            <a:off x="1844640" y="3036600"/>
            <a:ext cx="0" cy="10666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Text Box 7"/>
          <p:cNvSpPr/>
          <p:nvPr/>
        </p:nvSpPr>
        <p:spPr>
          <a:xfrm>
            <a:off x="1904040" y="304812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m/s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Line 8"/>
          <p:cNvSpPr/>
          <p:nvPr/>
        </p:nvSpPr>
        <p:spPr>
          <a:xfrm flipH="1">
            <a:off x="1234800" y="3036960"/>
            <a:ext cx="6094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Text Box 9"/>
          <p:cNvSpPr/>
          <p:nvPr/>
        </p:nvSpPr>
        <p:spPr>
          <a:xfrm>
            <a:off x="1217880" y="26668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0 m/s,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Line 10"/>
          <p:cNvSpPr/>
          <p:nvPr/>
        </p:nvSpPr>
        <p:spPr>
          <a:xfrm flipH="1" flipV="1">
            <a:off x="1158480" y="3036600"/>
            <a:ext cx="685800" cy="1066680"/>
          </a:xfrm>
          <a:prstGeom prst="line">
            <a:avLst/>
          </a:prstGeom>
          <a:ln w="25560">
            <a:solidFill>
              <a:srgbClr val="8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Text Box 11"/>
          <p:cNvSpPr/>
          <p:nvPr/>
        </p:nvSpPr>
        <p:spPr>
          <a:xfrm>
            <a:off x="1073160" y="345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Text Box 12"/>
          <p:cNvSpPr/>
          <p:nvPr/>
        </p:nvSpPr>
        <p:spPr>
          <a:xfrm>
            <a:off x="1617120" y="357012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6" name="Object 13"/>
              <p:cNvSpPr txBox="1"/>
              <p:nvPr/>
            </p:nvSpPr>
            <p:spPr>
              <a:xfrm>
                <a:off x="3809880" y="2057400"/>
                <a:ext cx="4038840" cy="23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33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3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7" name="Text Box 14"/>
          <p:cNvSpPr/>
          <p:nvPr/>
        </p:nvSpPr>
        <p:spPr>
          <a:xfrm>
            <a:off x="2424240" y="4989600"/>
            <a:ext cx="62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nal Answer :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7 m/s, @ 28.1 degrees West of N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lane moves with a velocity of 63.5 m/s at 32 degrees South of East. Calculate the plane's horizontal and vertical velocity compon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Line 4"/>
          <p:cNvSpPr/>
          <p:nvPr/>
        </p:nvSpPr>
        <p:spPr>
          <a:xfrm>
            <a:off x="1143000" y="2057400"/>
            <a:ext cx="0" cy="2514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Line 5"/>
          <p:cNvSpPr/>
          <p:nvPr/>
        </p:nvSpPr>
        <p:spPr>
          <a:xfrm>
            <a:off x="380880" y="327672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Line 6"/>
          <p:cNvSpPr/>
          <p:nvPr/>
        </p:nvSpPr>
        <p:spPr>
          <a:xfrm>
            <a:off x="1143000" y="3276720"/>
            <a:ext cx="144792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Text Box 7"/>
          <p:cNvSpPr/>
          <p:nvPr/>
        </p:nvSpPr>
        <p:spPr>
          <a:xfrm>
            <a:off x="1294560" y="38098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.5 m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Text Box 8"/>
          <p:cNvSpPr/>
          <p:nvPr/>
        </p:nvSpPr>
        <p:spPr>
          <a:xfrm>
            <a:off x="1677600" y="3276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Line 9"/>
          <p:cNvSpPr/>
          <p:nvPr/>
        </p:nvSpPr>
        <p:spPr>
          <a:xfrm>
            <a:off x="1143000" y="3276720"/>
            <a:ext cx="1447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Text Box 10"/>
          <p:cNvSpPr/>
          <p:nvPr/>
        </p:nvSpPr>
        <p:spPr>
          <a:xfrm>
            <a:off x="1508400" y="28306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C. =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Line 11"/>
          <p:cNvSpPr/>
          <p:nvPr/>
        </p:nvSpPr>
        <p:spPr>
          <a:xfrm>
            <a:off x="2590920" y="3276720"/>
            <a:ext cx="0" cy="7617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Text Box 12"/>
          <p:cNvSpPr/>
          <p:nvPr/>
        </p:nvSpPr>
        <p:spPr>
          <a:xfrm>
            <a:off x="2650680" y="344016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.C. =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9" name="Object 13"/>
              <p:cNvSpPr txBox="1"/>
              <p:nvPr/>
            </p:nvSpPr>
            <p:spPr>
              <a:xfrm>
                <a:off x="3429000" y="2438280"/>
                <a:ext cx="5105520" cy="22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ine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djace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otenuse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e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osit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otenus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90" name="Rectangle 14"/>
          <p:cNvSpPr/>
          <p:nvPr/>
        </p:nvSpPr>
        <p:spPr>
          <a:xfrm>
            <a:off x="6095880" y="3886200"/>
            <a:ext cx="167652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2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dentifying Dir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696080" cy="1143000"/>
          </a:xfrm>
          <a:prstGeom prst="rect">
            <a:avLst/>
          </a:prstGeom>
          <a:solidFill>
            <a:srgbClr val="3b812f"/>
          </a:solidFill>
          <a:ln w="38160">
            <a:solidFill>
              <a:srgbClr val="cc99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angles shown below by using references to east, south, west, n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3" name="Group 69"/>
          <p:cNvGrpSpPr/>
          <p:nvPr/>
        </p:nvGrpSpPr>
        <p:grpSpPr>
          <a:xfrm>
            <a:off x="4952880" y="2438280"/>
            <a:ext cx="2743200" cy="2819520"/>
            <a:chOff x="4952880" y="2438280"/>
            <a:chExt cx="2743200" cy="2819520"/>
          </a:xfrm>
        </p:grpSpPr>
        <p:sp>
          <p:nvSpPr>
            <p:cNvPr id="2894" name="Rectangle 39"/>
            <p:cNvSpPr/>
            <p:nvPr/>
          </p:nvSpPr>
          <p:spPr>
            <a:xfrm>
              <a:off x="4952880" y="2438280"/>
              <a:ext cx="2743200" cy="2819520"/>
            </a:xfrm>
            <a:prstGeom prst="rect">
              <a:avLst/>
            </a:prstGeom>
            <a:solidFill>
              <a:srgbClr val="3b812f"/>
            </a:solidFill>
            <a:ln w="381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Line 41"/>
            <p:cNvSpPr/>
            <p:nvPr/>
          </p:nvSpPr>
          <p:spPr>
            <a:xfrm>
              <a:off x="5410080" y="4419720"/>
              <a:ext cx="20574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Line 42"/>
            <p:cNvSpPr/>
            <p:nvPr/>
          </p:nvSpPr>
          <p:spPr>
            <a:xfrm>
              <a:off x="6705360" y="3048120"/>
              <a:ext cx="0" cy="1904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Text Box 43"/>
            <p:cNvSpPr/>
            <p:nvPr/>
          </p:nvSpPr>
          <p:spPr>
            <a:xfrm>
              <a:off x="7086600" y="38862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Text Box 44"/>
            <p:cNvSpPr/>
            <p:nvPr/>
          </p:nvSpPr>
          <p:spPr>
            <a:xfrm>
              <a:off x="5181480" y="38862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Text Box 45"/>
            <p:cNvSpPr/>
            <p:nvPr/>
          </p:nvSpPr>
          <p:spPr>
            <a:xfrm>
              <a:off x="6172200" y="4648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Text Box 46"/>
            <p:cNvSpPr/>
            <p:nvPr/>
          </p:nvSpPr>
          <p:spPr>
            <a:xfrm>
              <a:off x="6705360" y="28195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Oval 52"/>
            <p:cNvSpPr/>
            <p:nvPr/>
          </p:nvSpPr>
          <p:spPr>
            <a:xfrm>
              <a:off x="5486400" y="32004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Line 53"/>
            <p:cNvSpPr/>
            <p:nvPr/>
          </p:nvSpPr>
          <p:spPr>
            <a:xfrm flipH="1" flipV="1">
              <a:off x="5715000" y="3429000"/>
              <a:ext cx="9144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Text Box 57"/>
            <p:cNvSpPr/>
            <p:nvPr/>
          </p:nvSpPr>
          <p:spPr>
            <a:xfrm>
              <a:off x="586728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Freeform 58"/>
            <p:cNvSpPr/>
            <p:nvPr/>
          </p:nvSpPr>
          <p:spPr>
            <a:xfrm flipH="1">
              <a:off x="6171480" y="3429000"/>
              <a:ext cx="533160" cy="457200"/>
            </a:xfrm>
            <a:custGeom>
              <a:avLst/>
              <a:gdLst/>
              <a:ahLst/>
              <a:rect l="l" t="t" r="r" b="b"/>
              <a:pathLst>
                <a:path w="424" h="472">
                  <a:moveTo>
                    <a:pt x="424" y="472"/>
                  </a:moveTo>
                  <a:cubicBezTo>
                    <a:pt x="404" y="380"/>
                    <a:pt x="384" y="288"/>
                    <a:pt x="328" y="232"/>
                  </a:cubicBezTo>
                  <a:cubicBezTo>
                    <a:pt x="272" y="176"/>
                    <a:pt x="0" y="0"/>
                    <a:pt x="88" y="136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Group 68"/>
          <p:cNvGrpSpPr/>
          <p:nvPr/>
        </p:nvGrpSpPr>
        <p:grpSpPr>
          <a:xfrm>
            <a:off x="1600200" y="2438280"/>
            <a:ext cx="2743200" cy="2895840"/>
            <a:chOff x="1600200" y="2438280"/>
            <a:chExt cx="2743200" cy="2895840"/>
          </a:xfrm>
        </p:grpSpPr>
        <p:sp>
          <p:nvSpPr>
            <p:cNvPr id="2906" name="Rectangle 2"/>
            <p:cNvSpPr/>
            <p:nvPr/>
          </p:nvSpPr>
          <p:spPr>
            <a:xfrm>
              <a:off x="1600200" y="2438280"/>
              <a:ext cx="2743200" cy="2895840"/>
            </a:xfrm>
            <a:prstGeom prst="rect">
              <a:avLst/>
            </a:prstGeom>
            <a:solidFill>
              <a:srgbClr val="3b812f"/>
            </a:solidFill>
            <a:ln w="381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Line 8"/>
            <p:cNvSpPr/>
            <p:nvPr/>
          </p:nvSpPr>
          <p:spPr>
            <a:xfrm>
              <a:off x="1828800" y="3886200"/>
              <a:ext cx="2286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Line 9"/>
            <p:cNvSpPr/>
            <p:nvPr/>
          </p:nvSpPr>
          <p:spPr>
            <a:xfrm>
              <a:off x="2743200" y="304812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Text Box 10"/>
            <p:cNvSpPr/>
            <p:nvPr/>
          </p:nvSpPr>
          <p:spPr>
            <a:xfrm>
              <a:off x="3504960" y="32767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Text Box 11"/>
            <p:cNvSpPr/>
            <p:nvPr/>
          </p:nvSpPr>
          <p:spPr>
            <a:xfrm>
              <a:off x="1752480" y="3276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Text Box 13"/>
            <p:cNvSpPr/>
            <p:nvPr/>
          </p:nvSpPr>
          <p:spPr>
            <a:xfrm>
              <a:off x="2743200" y="26668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Oval 27"/>
            <p:cNvSpPr/>
            <p:nvPr/>
          </p:nvSpPr>
          <p:spPr>
            <a:xfrm>
              <a:off x="3352680" y="4724280"/>
              <a:ext cx="228600" cy="228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Line 35"/>
            <p:cNvSpPr/>
            <p:nvPr/>
          </p:nvSpPr>
          <p:spPr>
            <a:xfrm>
              <a:off x="2743200" y="3886200"/>
              <a:ext cx="68580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4" name="Group 36"/>
            <p:cNvGrpSpPr/>
            <p:nvPr/>
          </p:nvGrpSpPr>
          <p:grpSpPr>
            <a:xfrm>
              <a:off x="2971800" y="3886200"/>
              <a:ext cx="685800" cy="533520"/>
              <a:chOff x="2971800" y="3886200"/>
              <a:chExt cx="685800" cy="533520"/>
            </a:xfrm>
          </p:grpSpPr>
          <p:sp>
            <p:nvSpPr>
              <p:cNvPr id="2915" name="Text Box 37"/>
              <p:cNvSpPr/>
              <p:nvPr/>
            </p:nvSpPr>
            <p:spPr>
              <a:xfrm>
                <a:off x="2971800" y="38862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Arc 38"/>
              <p:cNvSpPr/>
              <p:nvPr/>
            </p:nvSpPr>
            <p:spPr>
              <a:xfrm flipV="1">
                <a:off x="3276720" y="39625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7" name="Text Box 67"/>
            <p:cNvSpPr/>
            <p:nvPr/>
          </p:nvSpPr>
          <p:spPr>
            <a:xfrm>
              <a:off x="2133360" y="44197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8" name="Text Box 70"/>
          <p:cNvSpPr/>
          <p:nvPr/>
        </p:nvSpPr>
        <p:spPr>
          <a:xfrm>
            <a:off x="457200" y="5678640"/>
            <a:ext cx="1981080" cy="3682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of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Text Box 71"/>
          <p:cNvSpPr/>
          <p:nvPr/>
        </p:nvSpPr>
        <p:spPr>
          <a:xfrm>
            <a:off x="5334120" y="5715000"/>
            <a:ext cx="2209680" cy="3682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 of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0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1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ctors and Polar Coordinat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1" name="Text Box 37"/>
          <p:cNvSpPr/>
          <p:nvPr/>
        </p:nvSpPr>
        <p:spPr>
          <a:xfrm>
            <a:off x="762120" y="1143000"/>
            <a:ext cx="7238880" cy="1373760"/>
          </a:xfrm>
          <a:prstGeom prst="rect">
            <a:avLst/>
          </a:prstGeom>
          <a:solidFill>
            <a:srgbClr val="3b812f"/>
          </a:solidFill>
          <a:ln w="38160">
            <a:solidFill>
              <a:srgbClr val="00663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 coordinates (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,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re an excellent way to express vectors. Consider the vector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0 m, 5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ahoma"/>
              </a:rPr>
              <a:t>0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 of 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2" name="Group 71"/>
          <p:cNvGrpSpPr/>
          <p:nvPr/>
        </p:nvGrpSpPr>
        <p:grpSpPr>
          <a:xfrm>
            <a:off x="838080" y="2895480"/>
            <a:ext cx="3200400" cy="2819520"/>
            <a:chOff x="838080" y="2895480"/>
            <a:chExt cx="3200400" cy="2819520"/>
          </a:xfrm>
        </p:grpSpPr>
        <p:sp>
          <p:nvSpPr>
            <p:cNvPr id="2923" name="Rectangle 3"/>
            <p:cNvSpPr/>
            <p:nvPr/>
          </p:nvSpPr>
          <p:spPr>
            <a:xfrm>
              <a:off x="838080" y="2895480"/>
              <a:ext cx="3200400" cy="2819520"/>
            </a:xfrm>
            <a:prstGeom prst="rect">
              <a:avLst/>
            </a:prstGeom>
            <a:solidFill>
              <a:srgbClr val="3b812f"/>
            </a:solidFill>
            <a:ln w="381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Line 28"/>
            <p:cNvSpPr/>
            <p:nvPr/>
          </p:nvSpPr>
          <p:spPr>
            <a:xfrm>
              <a:off x="1295280" y="457200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Line 29"/>
            <p:cNvSpPr/>
            <p:nvPr/>
          </p:nvSpPr>
          <p:spPr>
            <a:xfrm>
              <a:off x="2362320" y="320040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Text Box 30"/>
            <p:cNvSpPr/>
            <p:nvPr/>
          </p:nvSpPr>
          <p:spPr>
            <a:xfrm>
              <a:off x="3200400" y="4648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Text Box 31"/>
            <p:cNvSpPr/>
            <p:nvPr/>
          </p:nvSpPr>
          <p:spPr>
            <a:xfrm>
              <a:off x="990720" y="40384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Text Box 32"/>
            <p:cNvSpPr/>
            <p:nvPr/>
          </p:nvSpPr>
          <p:spPr>
            <a:xfrm>
              <a:off x="1447920" y="4952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7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Text Box 33"/>
            <p:cNvSpPr/>
            <p:nvPr/>
          </p:nvSpPr>
          <p:spPr>
            <a:xfrm>
              <a:off x="1600200" y="3048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0" name="Group 68"/>
          <p:cNvGrpSpPr/>
          <p:nvPr/>
        </p:nvGrpSpPr>
        <p:grpSpPr>
          <a:xfrm>
            <a:off x="4876920" y="2895480"/>
            <a:ext cx="3200400" cy="2819520"/>
            <a:chOff x="4876920" y="2895480"/>
            <a:chExt cx="3200400" cy="2819520"/>
          </a:xfrm>
        </p:grpSpPr>
        <p:sp>
          <p:nvSpPr>
            <p:cNvPr id="2931" name="Rectangle 55"/>
            <p:cNvSpPr/>
            <p:nvPr/>
          </p:nvSpPr>
          <p:spPr>
            <a:xfrm>
              <a:off x="4876920" y="2895480"/>
              <a:ext cx="3200400" cy="2819520"/>
            </a:xfrm>
            <a:prstGeom prst="rect">
              <a:avLst/>
            </a:prstGeom>
            <a:solidFill>
              <a:srgbClr val="3b812f"/>
            </a:solidFill>
            <a:ln w="381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Oval 56"/>
            <p:cNvSpPr/>
            <p:nvPr/>
          </p:nvSpPr>
          <p:spPr>
            <a:xfrm>
              <a:off x="7391520" y="3352680"/>
              <a:ext cx="228600" cy="228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Line 57"/>
            <p:cNvSpPr/>
            <p:nvPr/>
          </p:nvSpPr>
          <p:spPr>
            <a:xfrm flipV="1">
              <a:off x="6345360" y="3580920"/>
              <a:ext cx="1046160" cy="9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4" name="Group 58"/>
            <p:cNvGrpSpPr/>
            <p:nvPr/>
          </p:nvGrpSpPr>
          <p:grpSpPr>
            <a:xfrm>
              <a:off x="6629400" y="3886200"/>
              <a:ext cx="672840" cy="688320"/>
              <a:chOff x="6629400" y="3886200"/>
              <a:chExt cx="672840" cy="688320"/>
            </a:xfrm>
          </p:grpSpPr>
          <p:sp>
            <p:nvSpPr>
              <p:cNvPr id="2935" name="Text Box 59"/>
              <p:cNvSpPr/>
              <p:nvPr/>
            </p:nvSpPr>
            <p:spPr>
              <a:xfrm>
                <a:off x="6629400" y="411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60"/>
              <p:cNvSpPr/>
              <p:nvPr/>
            </p:nvSpPr>
            <p:spPr>
              <a:xfrm>
                <a:off x="6629400" y="3886200"/>
                <a:ext cx="672840" cy="673200"/>
              </a:xfrm>
              <a:custGeom>
                <a:avLst/>
                <a:gdLst/>
                <a:ahLst/>
                <a:rect l="l" t="t" r="r" b="b"/>
                <a:pathLst>
                  <a:path w="424" h="472">
                    <a:moveTo>
                      <a:pt x="424" y="472"/>
                    </a:moveTo>
                    <a:cubicBezTo>
                      <a:pt x="404" y="380"/>
                      <a:pt x="384" y="288"/>
                      <a:pt x="328" y="232"/>
                    </a:cubicBezTo>
                    <a:cubicBezTo>
                      <a:pt x="272" y="176"/>
                      <a:pt x="0" y="0"/>
                      <a:pt x="88" y="136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7" name="Line 61"/>
            <p:cNvSpPr/>
            <p:nvPr/>
          </p:nvSpPr>
          <p:spPr>
            <a:xfrm>
              <a:off x="5257800" y="457200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Line 62"/>
            <p:cNvSpPr/>
            <p:nvPr/>
          </p:nvSpPr>
          <p:spPr>
            <a:xfrm>
              <a:off x="6324480" y="320040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Text Box 63"/>
            <p:cNvSpPr/>
            <p:nvPr/>
          </p:nvSpPr>
          <p:spPr>
            <a:xfrm>
              <a:off x="7162920" y="4648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Text Box 64"/>
            <p:cNvSpPr/>
            <p:nvPr/>
          </p:nvSpPr>
          <p:spPr>
            <a:xfrm>
              <a:off x="4952880" y="40384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Text Box 65"/>
            <p:cNvSpPr/>
            <p:nvPr/>
          </p:nvSpPr>
          <p:spPr>
            <a:xfrm>
              <a:off x="5410080" y="49528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7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Text Box 66"/>
            <p:cNvSpPr/>
            <p:nvPr/>
          </p:nvSpPr>
          <p:spPr>
            <a:xfrm>
              <a:off x="5562720" y="3048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Text Box 67"/>
            <p:cNvSpPr/>
            <p:nvPr/>
          </p:nvSpPr>
          <p:spPr>
            <a:xfrm>
              <a:off x="6477120" y="35053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4" name="Text Box 69"/>
          <p:cNvSpPr/>
          <p:nvPr/>
        </p:nvSpPr>
        <p:spPr>
          <a:xfrm>
            <a:off x="1066680" y="58672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gnitu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r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Oval 72"/>
          <p:cNvSpPr/>
          <p:nvPr/>
        </p:nvSpPr>
        <p:spPr>
          <a:xfrm>
            <a:off x="3429000" y="33526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Line 73"/>
          <p:cNvSpPr/>
          <p:nvPr/>
        </p:nvSpPr>
        <p:spPr>
          <a:xfrm flipV="1">
            <a:off x="2382840" y="3505320"/>
            <a:ext cx="1122480" cy="103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Text Box 74"/>
          <p:cNvSpPr/>
          <p:nvPr/>
        </p:nvSpPr>
        <p:spPr>
          <a:xfrm>
            <a:off x="23623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8" name="Group 75"/>
          <p:cNvGrpSpPr/>
          <p:nvPr/>
        </p:nvGrpSpPr>
        <p:grpSpPr>
          <a:xfrm>
            <a:off x="2666880" y="3886200"/>
            <a:ext cx="622440" cy="688320"/>
            <a:chOff x="2666880" y="3886200"/>
            <a:chExt cx="622440" cy="688320"/>
          </a:xfrm>
        </p:grpSpPr>
        <p:sp>
          <p:nvSpPr>
            <p:cNvPr id="2949" name="Text Box 76"/>
            <p:cNvSpPr/>
            <p:nvPr/>
          </p:nvSpPr>
          <p:spPr>
            <a:xfrm>
              <a:off x="2666880" y="4114800"/>
              <a:ext cx="62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Freeform 77"/>
            <p:cNvSpPr/>
            <p:nvPr/>
          </p:nvSpPr>
          <p:spPr>
            <a:xfrm>
              <a:off x="2819520" y="3886200"/>
              <a:ext cx="457200" cy="685800"/>
            </a:xfrm>
            <a:custGeom>
              <a:avLst/>
              <a:gdLst/>
              <a:ahLst/>
              <a:rect l="l" t="t" r="r" b="b"/>
              <a:pathLst>
                <a:path w="424" h="472">
                  <a:moveTo>
                    <a:pt x="424" y="472"/>
                  </a:moveTo>
                  <a:cubicBezTo>
                    <a:pt x="404" y="380"/>
                    <a:pt x="384" y="288"/>
                    <a:pt x="328" y="232"/>
                  </a:cubicBezTo>
                  <a:cubicBezTo>
                    <a:pt x="272" y="176"/>
                    <a:pt x="0" y="0"/>
                    <a:pt x="88" y="136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2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20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2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2D Coordinate Spa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2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that really matters are the numb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bstract version of this is called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2D Cartesian coordinate sp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apter 1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3D Math Primer for Graphics &amp; Game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278F-5831-4570-A104-8E71CACADF1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6" name="Picture 4" descr="c:\Users\ian\Desktop\figs_jpg\2d_cartesian_space.jpg"/>
          <p:cNvPicPr/>
          <p:nvPr/>
        </p:nvPicPr>
        <p:blipFill>
          <a:blip r:embed="rId1"/>
          <a:stretch/>
        </p:blipFill>
        <p:spPr>
          <a:xfrm>
            <a:off x="5029200" y="1913040"/>
            <a:ext cx="350532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1" descr="C:\Users\ian\Desktop\figs_jpg\2d_labeled_points.jpg"/>
          <p:cNvPicPr/>
          <p:nvPr/>
        </p:nvPicPr>
        <p:blipFill>
          <a:blip r:embed="rId1"/>
          <a:stretch/>
        </p:blipFill>
        <p:spPr>
          <a:xfrm>
            <a:off x="2629080" y="1450800"/>
            <a:ext cx="3886200" cy="3956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AA71-F898-463A-86A0-CBC2AFCE8F55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01CF-04B5-45CD-8548-24B029A6125D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0" name="Picture 4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333600" cy="3971880"/>
          </a:xfrm>
          <a:prstGeom prst="rect">
            <a:avLst/>
          </a:prstGeom>
          <a:ln w="0">
            <a:noFill/>
          </a:ln>
        </p:spPr>
      </p:pic>
      <p:sp>
        <p:nvSpPr>
          <p:cNvPr id="2961" name="Rectangle 6"/>
          <p:cNvSpPr/>
          <p:nvPr/>
        </p:nvSpPr>
        <p:spPr>
          <a:xfrm>
            <a:off x="228600" y="2286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the right triangle in Figure 3.2b, we ﬁnd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n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a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s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refore, starting with the plane polar coordinates of any point, we can obtain the Cartesian coordinates by using th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2" name="Picture 7" descr=""/>
          <p:cNvPicPr/>
          <p:nvPr/>
        </p:nvPicPr>
        <p:blipFill>
          <a:blip r:embed="rId2"/>
          <a:stretch/>
        </p:blipFill>
        <p:spPr>
          <a:xfrm>
            <a:off x="990720" y="3429000"/>
            <a:ext cx="1600200" cy="979560"/>
          </a:xfrm>
          <a:prstGeom prst="rect">
            <a:avLst/>
          </a:prstGeom>
          <a:ln w="0">
            <a:noFill/>
          </a:ln>
        </p:spPr>
      </p:pic>
      <p:pic>
        <p:nvPicPr>
          <p:cNvPr id="2963" name="Picture 10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49356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33"/>
                </a:solidFill>
                <a:uFillTx/>
                <a:latin typeface="Garamond"/>
              </a:rPr>
              <a:t>Example 2 (Cont.):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400-m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alk in a direction of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3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N of E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  How far is the displacement east and how far north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5" name="Text Box 25"/>
          <p:cNvSpPr/>
          <p:nvPr/>
        </p:nvSpPr>
        <p:spPr>
          <a:xfrm>
            <a:off x="556272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x = 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s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Text Box 35"/>
          <p:cNvSpPr/>
          <p:nvPr/>
        </p:nvSpPr>
        <p:spPr>
          <a:xfrm>
            <a:off x="762120" y="5257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00 m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+346 m,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7" name="Group 58"/>
          <p:cNvGrpSpPr/>
          <p:nvPr/>
        </p:nvGrpSpPr>
        <p:grpSpPr>
          <a:xfrm>
            <a:off x="609480" y="1905120"/>
            <a:ext cx="4038840" cy="3124080"/>
            <a:chOff x="609480" y="1905120"/>
            <a:chExt cx="4038840" cy="3124080"/>
          </a:xfrm>
        </p:grpSpPr>
        <p:grpSp>
          <p:nvGrpSpPr>
            <p:cNvPr id="2968" name="Group 42"/>
            <p:cNvGrpSpPr/>
            <p:nvPr/>
          </p:nvGrpSpPr>
          <p:grpSpPr>
            <a:xfrm>
              <a:off x="609480" y="1905120"/>
              <a:ext cx="4038840" cy="3124080"/>
              <a:chOff x="609480" y="1905120"/>
              <a:chExt cx="4038840" cy="3124080"/>
            </a:xfrm>
          </p:grpSpPr>
          <p:sp>
            <p:nvSpPr>
              <p:cNvPr id="2969" name="Rectangle 41"/>
              <p:cNvSpPr/>
              <p:nvPr/>
            </p:nvSpPr>
            <p:spPr>
              <a:xfrm>
                <a:off x="609480" y="1905120"/>
                <a:ext cx="3733920" cy="3124080"/>
              </a:xfrm>
              <a:prstGeom prst="rect">
                <a:avLst/>
              </a:prstGeom>
              <a:solidFill>
                <a:srgbClr val="3b812f"/>
              </a:solidFill>
              <a:ln w="38160">
                <a:solidFill>
                  <a:srgbClr val="006633"/>
                </a:solidFill>
                <a:miter/>
              </a:ln>
              <a:effectLst>
                <a:outerShdw dist="107932" dir="2700000" blurRad="0" rotWithShape="0">
                  <a:srgbClr val="5f5f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Line 13"/>
              <p:cNvSpPr/>
              <p:nvPr/>
            </p:nvSpPr>
            <p:spPr>
              <a:xfrm>
                <a:off x="1066680" y="2133720"/>
                <a:ext cx="0" cy="27432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Line 14"/>
              <p:cNvSpPr/>
              <p:nvPr/>
            </p:nvSpPr>
            <p:spPr>
              <a:xfrm>
                <a:off x="685800" y="3886200"/>
                <a:ext cx="29718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Line 15"/>
              <p:cNvSpPr/>
              <p:nvPr/>
            </p:nvSpPr>
            <p:spPr>
              <a:xfrm flipV="1">
                <a:off x="1066680" y="2742840"/>
                <a:ext cx="198144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Line 16"/>
              <p:cNvSpPr/>
              <p:nvPr/>
            </p:nvSpPr>
            <p:spPr>
              <a:xfrm>
                <a:off x="3048120" y="281952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Text Box 17"/>
              <p:cNvSpPr/>
              <p:nvPr/>
            </p:nvSpPr>
            <p:spPr>
              <a:xfrm>
                <a:off x="1752480" y="396252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 = 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Text Box 18"/>
              <p:cNvSpPr/>
              <p:nvPr/>
            </p:nvSpPr>
            <p:spPr>
              <a:xfrm>
                <a:off x="3200400" y="297180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y = 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Text Box 19"/>
              <p:cNvSpPr/>
              <p:nvPr/>
            </p:nvSpPr>
            <p:spPr>
              <a:xfrm>
                <a:off x="990720" y="259092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00 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Text Box 20"/>
              <p:cNvSpPr/>
              <p:nvPr/>
            </p:nvSpPr>
            <p:spPr>
              <a:xfrm>
                <a:off x="1676520" y="335268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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Text Box 21"/>
              <p:cNvSpPr/>
              <p:nvPr/>
            </p:nvSpPr>
            <p:spPr>
              <a:xfrm>
                <a:off x="3657600" y="35812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Text Box 22"/>
              <p:cNvSpPr/>
              <p:nvPr/>
            </p:nvSpPr>
            <p:spPr>
              <a:xfrm>
                <a:off x="1219320" y="19051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0" name="Line 43"/>
            <p:cNvSpPr/>
            <p:nvPr/>
          </p:nvSpPr>
          <p:spPr>
            <a:xfrm>
              <a:off x="1066680" y="3886200"/>
              <a:ext cx="1981440" cy="0"/>
            </a:xfrm>
            <a:prstGeom prst="line">
              <a:avLst/>
            </a:prstGeom>
            <a:ln w="3816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Line 44"/>
            <p:cNvSpPr/>
            <p:nvPr/>
          </p:nvSpPr>
          <p:spPr>
            <a:xfrm flipV="1">
              <a:off x="3048120" y="2742840"/>
              <a:ext cx="0" cy="1066680"/>
            </a:xfrm>
            <a:prstGeom prst="line">
              <a:avLst/>
            </a:prstGeom>
            <a:ln w="3816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2" name="Text Box 46"/>
          <p:cNvSpPr/>
          <p:nvPr/>
        </p:nvSpPr>
        <p:spPr>
          <a:xfrm>
            <a:off x="4648320" y="2057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ide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djac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angl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Text Box 48"/>
          <p:cNvSpPr/>
          <p:nvPr/>
        </p:nvSpPr>
        <p:spPr>
          <a:xfrm>
            <a:off x="4648320" y="356544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D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HYP x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4" name="Group 52"/>
          <p:cNvGrpSpPr/>
          <p:nvPr/>
        </p:nvGrpSpPr>
        <p:grpSpPr>
          <a:xfrm>
            <a:off x="5029200" y="3276360"/>
            <a:ext cx="2285280" cy="228600"/>
            <a:chOff x="5029200" y="3276360"/>
            <a:chExt cx="2285280" cy="228600"/>
          </a:xfrm>
        </p:grpSpPr>
        <p:sp>
          <p:nvSpPr>
            <p:cNvPr id="2985" name="Line 49"/>
            <p:cNvSpPr/>
            <p:nvPr/>
          </p:nvSpPr>
          <p:spPr>
            <a:xfrm flipV="1">
              <a:off x="5029200" y="3276360"/>
              <a:ext cx="368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Line 50"/>
            <p:cNvSpPr/>
            <p:nvPr/>
          </p:nvSpPr>
          <p:spPr>
            <a:xfrm>
              <a:off x="5397480" y="3276720"/>
              <a:ext cx="1548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Line 51"/>
            <p:cNvSpPr/>
            <p:nvPr/>
          </p:nvSpPr>
          <p:spPr>
            <a:xfrm flipH="1" flipV="1">
              <a:off x="6946200" y="3276360"/>
              <a:ext cx="368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8" name="Group 59"/>
          <p:cNvGrpSpPr/>
          <p:nvPr/>
        </p:nvGrpSpPr>
        <p:grpSpPr>
          <a:xfrm>
            <a:off x="4952880" y="5181480"/>
            <a:ext cx="3962520" cy="1371600"/>
            <a:chOff x="4952880" y="5181480"/>
            <a:chExt cx="3962520" cy="1371600"/>
          </a:xfrm>
        </p:grpSpPr>
        <p:sp>
          <p:nvSpPr>
            <p:cNvPr id="2989" name="Rectangle 57"/>
            <p:cNvSpPr/>
            <p:nvPr/>
          </p:nvSpPr>
          <p:spPr>
            <a:xfrm>
              <a:off x="4952880" y="5181480"/>
              <a:ext cx="3962520" cy="13716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Text Box 53"/>
            <p:cNvSpPr/>
            <p:nvPr/>
          </p:nvSpPr>
          <p:spPr>
            <a:xfrm>
              <a:off x="4952880" y="5241960"/>
              <a:ext cx="388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The x-component i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Text Box 54"/>
            <p:cNvSpPr/>
            <p:nvPr/>
          </p:nvSpPr>
          <p:spPr>
            <a:xfrm>
              <a:off x="5410080" y="5867280"/>
              <a:ext cx="2743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00"/>
                  </a:solidFill>
                  <a:latin typeface="Arial"/>
                </a:rPr>
                <a:t>R</a:t>
              </a:r>
              <a:r>
                <a:rPr b="0" i="1" lang="en-US" sz="1800" spc="-1" strike="noStrike" baseline="-25000">
                  <a:solidFill>
                    <a:srgbClr val="003300"/>
                  </a:solidFill>
                  <a:latin typeface="Arial"/>
                </a:rPr>
                <a:t>x</a:t>
              </a:r>
              <a:r>
                <a:rPr b="0" i="1" lang="en-US" sz="1800" spc="-1" strike="noStrike">
                  <a:solidFill>
                    <a:srgbClr val="003300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+346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33"/>
                </a:solidFill>
                <a:uFillTx/>
                <a:latin typeface="Garamond"/>
              </a:rPr>
              <a:t>Example 2 (Cont.):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400-m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walk in a direction of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3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N of E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  How far is the displacement east and how far north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3" name="Text Box 16"/>
          <p:cNvSpPr/>
          <p:nvPr/>
        </p:nvSpPr>
        <p:spPr>
          <a:xfrm>
            <a:off x="5448240" y="4267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y = 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n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Text Box 19"/>
          <p:cNvSpPr/>
          <p:nvPr/>
        </p:nvSpPr>
        <p:spPr>
          <a:xfrm>
            <a:off x="609480" y="5257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(400 m) sin 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+ 200 m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5" name="Group 45"/>
          <p:cNvGrpSpPr/>
          <p:nvPr/>
        </p:nvGrpSpPr>
        <p:grpSpPr>
          <a:xfrm>
            <a:off x="609480" y="1905120"/>
            <a:ext cx="4038840" cy="3124080"/>
            <a:chOff x="609480" y="1905120"/>
            <a:chExt cx="4038840" cy="3124080"/>
          </a:xfrm>
        </p:grpSpPr>
        <p:grpSp>
          <p:nvGrpSpPr>
            <p:cNvPr id="2996" name="Group 3"/>
            <p:cNvGrpSpPr/>
            <p:nvPr/>
          </p:nvGrpSpPr>
          <p:grpSpPr>
            <a:xfrm>
              <a:off x="609480" y="1905120"/>
              <a:ext cx="4038840" cy="3124080"/>
              <a:chOff x="609480" y="1905120"/>
              <a:chExt cx="4038840" cy="3124080"/>
            </a:xfrm>
          </p:grpSpPr>
          <p:sp>
            <p:nvSpPr>
              <p:cNvPr id="2997" name="Rectangle 4"/>
              <p:cNvSpPr/>
              <p:nvPr/>
            </p:nvSpPr>
            <p:spPr>
              <a:xfrm>
                <a:off x="609480" y="1905120"/>
                <a:ext cx="3733920" cy="3124080"/>
              </a:xfrm>
              <a:prstGeom prst="rect">
                <a:avLst/>
              </a:prstGeom>
              <a:solidFill>
                <a:srgbClr val="3b812f"/>
              </a:solidFill>
              <a:ln w="38160">
                <a:solidFill>
                  <a:srgbClr val="006633"/>
                </a:solidFill>
                <a:miter/>
              </a:ln>
              <a:effectLst>
                <a:outerShdw dist="107932" dir="2700000" blurRad="0" rotWithShape="0">
                  <a:srgbClr val="5f5f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Line 5"/>
              <p:cNvSpPr/>
              <p:nvPr/>
            </p:nvSpPr>
            <p:spPr>
              <a:xfrm>
                <a:off x="1066680" y="2133720"/>
                <a:ext cx="0" cy="27432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Line 6"/>
              <p:cNvSpPr/>
              <p:nvPr/>
            </p:nvSpPr>
            <p:spPr>
              <a:xfrm>
                <a:off x="685800" y="3886200"/>
                <a:ext cx="29718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Line 7"/>
              <p:cNvSpPr/>
              <p:nvPr/>
            </p:nvSpPr>
            <p:spPr>
              <a:xfrm flipV="1">
                <a:off x="1066680" y="2742840"/>
                <a:ext cx="198144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Line 8"/>
              <p:cNvSpPr/>
              <p:nvPr/>
            </p:nvSpPr>
            <p:spPr>
              <a:xfrm>
                <a:off x="3048120" y="281952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Text Box 9"/>
              <p:cNvSpPr/>
              <p:nvPr/>
            </p:nvSpPr>
            <p:spPr>
              <a:xfrm>
                <a:off x="1752480" y="396252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 = 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Text Box 10"/>
              <p:cNvSpPr/>
              <p:nvPr/>
            </p:nvSpPr>
            <p:spPr>
              <a:xfrm>
                <a:off x="3200400" y="297180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y = 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Text Box 11"/>
              <p:cNvSpPr/>
              <p:nvPr/>
            </p:nvSpPr>
            <p:spPr>
              <a:xfrm>
                <a:off x="990720" y="259092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00 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Text Box 12"/>
              <p:cNvSpPr/>
              <p:nvPr/>
            </p:nvSpPr>
            <p:spPr>
              <a:xfrm>
                <a:off x="1676520" y="335268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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Text Box 13"/>
              <p:cNvSpPr/>
              <p:nvPr/>
            </p:nvSpPr>
            <p:spPr>
              <a:xfrm>
                <a:off x="3657600" y="35812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Text Box 14"/>
              <p:cNvSpPr/>
              <p:nvPr/>
            </p:nvSpPr>
            <p:spPr>
              <a:xfrm>
                <a:off x="1219320" y="19051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8" name="Group 44"/>
            <p:cNvGrpSpPr/>
            <p:nvPr/>
          </p:nvGrpSpPr>
          <p:grpSpPr>
            <a:xfrm>
              <a:off x="1066680" y="2742840"/>
              <a:ext cx="1981440" cy="1143360"/>
              <a:chOff x="1066680" y="2742840"/>
              <a:chExt cx="1981440" cy="1143360"/>
            </a:xfrm>
          </p:grpSpPr>
          <p:sp>
            <p:nvSpPr>
              <p:cNvPr id="3009" name="Line 20"/>
              <p:cNvSpPr/>
              <p:nvPr/>
            </p:nvSpPr>
            <p:spPr>
              <a:xfrm>
                <a:off x="1066680" y="3886200"/>
                <a:ext cx="1981440" cy="0"/>
              </a:xfrm>
              <a:prstGeom prst="line">
                <a:avLst/>
              </a:prstGeom>
              <a:ln w="38160">
                <a:solidFill>
                  <a:srgbClr val="66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Line 21"/>
              <p:cNvSpPr/>
              <p:nvPr/>
            </p:nvSpPr>
            <p:spPr>
              <a:xfrm flipV="1">
                <a:off x="3048120" y="2742840"/>
                <a:ext cx="0" cy="1066680"/>
              </a:xfrm>
              <a:prstGeom prst="line">
                <a:avLst/>
              </a:prstGeom>
              <a:ln w="38160">
                <a:solidFill>
                  <a:srgbClr val="66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1" name="Text Box 35"/>
          <p:cNvSpPr/>
          <p:nvPr/>
        </p:nvSpPr>
        <p:spPr>
          <a:xfrm>
            <a:off x="4648320" y="356544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P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HYP x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2" name="Group 36"/>
          <p:cNvGrpSpPr/>
          <p:nvPr/>
        </p:nvGrpSpPr>
        <p:grpSpPr>
          <a:xfrm>
            <a:off x="5029200" y="3276360"/>
            <a:ext cx="2285280" cy="228600"/>
            <a:chOff x="5029200" y="3276360"/>
            <a:chExt cx="2285280" cy="228600"/>
          </a:xfrm>
        </p:grpSpPr>
        <p:sp>
          <p:nvSpPr>
            <p:cNvPr id="3013" name="Line 37"/>
            <p:cNvSpPr/>
            <p:nvPr/>
          </p:nvSpPr>
          <p:spPr>
            <a:xfrm flipV="1">
              <a:off x="5029200" y="3276360"/>
              <a:ext cx="368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Line 38"/>
            <p:cNvSpPr/>
            <p:nvPr/>
          </p:nvSpPr>
          <p:spPr>
            <a:xfrm>
              <a:off x="5397480" y="3276720"/>
              <a:ext cx="1548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Line 39"/>
            <p:cNvSpPr/>
            <p:nvPr/>
          </p:nvSpPr>
          <p:spPr>
            <a:xfrm flipH="1" flipV="1">
              <a:off x="6946200" y="3276360"/>
              <a:ext cx="368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6" name="Group 43"/>
          <p:cNvGrpSpPr/>
          <p:nvPr/>
        </p:nvGrpSpPr>
        <p:grpSpPr>
          <a:xfrm>
            <a:off x="4800600" y="5181480"/>
            <a:ext cx="4038480" cy="1371600"/>
            <a:chOff x="4800600" y="5181480"/>
            <a:chExt cx="4038480" cy="1371600"/>
          </a:xfrm>
        </p:grpSpPr>
        <p:sp>
          <p:nvSpPr>
            <p:cNvPr id="3017" name="Rectangle 32"/>
            <p:cNvSpPr/>
            <p:nvPr/>
          </p:nvSpPr>
          <p:spPr>
            <a:xfrm>
              <a:off x="4800600" y="5181480"/>
              <a:ext cx="3962520" cy="13716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Text Box 40"/>
            <p:cNvSpPr/>
            <p:nvPr/>
          </p:nvSpPr>
          <p:spPr>
            <a:xfrm>
              <a:off x="4952880" y="5241960"/>
              <a:ext cx="388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The y-component i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Text Box 41"/>
            <p:cNvSpPr/>
            <p:nvPr/>
          </p:nvSpPr>
          <p:spPr>
            <a:xfrm>
              <a:off x="5410080" y="5867280"/>
              <a:ext cx="2743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00"/>
                  </a:solidFill>
                  <a:latin typeface="Arial"/>
                </a:rPr>
                <a:t>R</a:t>
              </a:r>
              <a:r>
                <a:rPr b="0" i="1" lang="en-US" sz="1800" spc="-1" strike="noStrike" baseline="-25000">
                  <a:solidFill>
                    <a:srgbClr val="003300"/>
                  </a:solidFill>
                  <a:latin typeface="Arial"/>
                </a:rPr>
                <a:t>y</a:t>
              </a:r>
              <a:r>
                <a:rPr b="0" i="1" lang="en-US" sz="1800" spc="-1" strike="noStrike">
                  <a:solidFill>
                    <a:srgbClr val="003300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+200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0" name="Text Box 42"/>
          <p:cNvSpPr/>
          <p:nvPr/>
        </p:nvSpPr>
        <p:spPr>
          <a:xfrm>
            <a:off x="4648320" y="2057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ide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ppos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angl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0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al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CAL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NY quantity in physics that ha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AGNITU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but NOT a direction associated with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agnitu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A numerical value with uni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7" name=""/>
          <p:cNvGraphicFramePr/>
          <p:nvPr/>
        </p:nvGraphicFramePr>
        <p:xfrm>
          <a:off x="4572000" y="1219320"/>
          <a:ext cx="4038480" cy="4530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calar Examp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gnitud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/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yea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calo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Finding Resultant: (Cont.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grpSp>
        <p:nvGrpSpPr>
          <p:cNvPr id="3022" name="Group 3"/>
          <p:cNvGrpSpPr/>
          <p:nvPr/>
        </p:nvGrpSpPr>
        <p:grpSpPr>
          <a:xfrm>
            <a:off x="380880" y="1752480"/>
            <a:ext cx="4038480" cy="2514240"/>
            <a:chOff x="380880" y="1752480"/>
            <a:chExt cx="4038480" cy="2514240"/>
          </a:xfrm>
        </p:grpSpPr>
        <p:sp>
          <p:nvSpPr>
            <p:cNvPr id="3023" name="Line 4"/>
            <p:cNvSpPr/>
            <p:nvPr/>
          </p:nvSpPr>
          <p:spPr>
            <a:xfrm>
              <a:off x="1703520" y="2017080"/>
              <a:ext cx="0" cy="2249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Line 5"/>
            <p:cNvSpPr/>
            <p:nvPr/>
          </p:nvSpPr>
          <p:spPr>
            <a:xfrm>
              <a:off x="937800" y="2414160"/>
              <a:ext cx="3342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Line 6"/>
            <p:cNvSpPr/>
            <p:nvPr/>
          </p:nvSpPr>
          <p:spPr>
            <a:xfrm>
              <a:off x="1703520" y="2414160"/>
              <a:ext cx="2369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Line 7"/>
            <p:cNvSpPr/>
            <p:nvPr/>
          </p:nvSpPr>
          <p:spPr>
            <a:xfrm>
              <a:off x="1703520" y="2414160"/>
              <a:ext cx="0" cy="13896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Line 8"/>
            <p:cNvSpPr/>
            <p:nvPr/>
          </p:nvSpPr>
          <p:spPr>
            <a:xfrm>
              <a:off x="2191320" y="2280240"/>
              <a:ext cx="0" cy="199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Line 9"/>
            <p:cNvSpPr/>
            <p:nvPr/>
          </p:nvSpPr>
          <p:spPr>
            <a:xfrm>
              <a:off x="2818080" y="2280240"/>
              <a:ext cx="0" cy="199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Line 10"/>
            <p:cNvSpPr/>
            <p:nvPr/>
          </p:nvSpPr>
          <p:spPr>
            <a:xfrm>
              <a:off x="3444840" y="2280240"/>
              <a:ext cx="0" cy="199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Line 11"/>
            <p:cNvSpPr/>
            <p:nvPr/>
          </p:nvSpPr>
          <p:spPr>
            <a:xfrm>
              <a:off x="1564560" y="2878920"/>
              <a:ext cx="2786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Line 12"/>
            <p:cNvSpPr/>
            <p:nvPr/>
          </p:nvSpPr>
          <p:spPr>
            <a:xfrm>
              <a:off x="1564560" y="3276000"/>
              <a:ext cx="2786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Text Box 13"/>
            <p:cNvSpPr/>
            <p:nvPr/>
          </p:nvSpPr>
          <p:spPr>
            <a:xfrm>
              <a:off x="3235680" y="1752480"/>
              <a:ext cx="1183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4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Text Box 14"/>
            <p:cNvSpPr/>
            <p:nvPr/>
          </p:nvSpPr>
          <p:spPr>
            <a:xfrm>
              <a:off x="380880" y="3472920"/>
              <a:ext cx="1183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3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4" name="Group 28"/>
          <p:cNvGrpSpPr/>
          <p:nvPr/>
        </p:nvGrpSpPr>
        <p:grpSpPr>
          <a:xfrm>
            <a:off x="4595760" y="1752480"/>
            <a:ext cx="4284720" cy="2227320"/>
            <a:chOff x="4595760" y="1752480"/>
            <a:chExt cx="4284720" cy="2227320"/>
          </a:xfrm>
        </p:grpSpPr>
        <p:sp>
          <p:nvSpPr>
            <p:cNvPr id="3035" name="Line 16"/>
            <p:cNvSpPr/>
            <p:nvPr/>
          </p:nvSpPr>
          <p:spPr>
            <a:xfrm>
              <a:off x="5257800" y="190512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Line 17"/>
            <p:cNvSpPr/>
            <p:nvPr/>
          </p:nvSpPr>
          <p:spPr>
            <a:xfrm>
              <a:off x="4595760" y="2414520"/>
              <a:ext cx="3341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Line 18"/>
            <p:cNvSpPr/>
            <p:nvPr/>
          </p:nvSpPr>
          <p:spPr>
            <a:xfrm>
              <a:off x="5361120" y="2414520"/>
              <a:ext cx="2368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Line 19"/>
            <p:cNvSpPr/>
            <p:nvPr/>
          </p:nvSpPr>
          <p:spPr>
            <a:xfrm>
              <a:off x="7620120" y="2514600"/>
              <a:ext cx="0" cy="1389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Line 20"/>
            <p:cNvSpPr/>
            <p:nvPr/>
          </p:nvSpPr>
          <p:spPr>
            <a:xfrm>
              <a:off x="5848200" y="2281320"/>
              <a:ext cx="0" cy="199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Line 21"/>
            <p:cNvSpPr/>
            <p:nvPr/>
          </p:nvSpPr>
          <p:spPr>
            <a:xfrm>
              <a:off x="6475320" y="2281320"/>
              <a:ext cx="0" cy="199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Line 22"/>
            <p:cNvSpPr/>
            <p:nvPr/>
          </p:nvSpPr>
          <p:spPr>
            <a:xfrm>
              <a:off x="7102440" y="2281320"/>
              <a:ext cx="0" cy="199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Line 23"/>
            <p:cNvSpPr/>
            <p:nvPr/>
          </p:nvSpPr>
          <p:spPr>
            <a:xfrm>
              <a:off x="7467480" y="289548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Line 24"/>
            <p:cNvSpPr/>
            <p:nvPr/>
          </p:nvSpPr>
          <p:spPr>
            <a:xfrm>
              <a:off x="7467480" y="335268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Text Box 25"/>
            <p:cNvSpPr/>
            <p:nvPr/>
          </p:nvSpPr>
          <p:spPr>
            <a:xfrm>
              <a:off x="6892920" y="1752480"/>
              <a:ext cx="118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4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Text Box 26"/>
            <p:cNvSpPr/>
            <p:nvPr/>
          </p:nvSpPr>
          <p:spPr>
            <a:xfrm>
              <a:off x="7696080" y="3429000"/>
              <a:ext cx="118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3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6" name="Text Box 27"/>
          <p:cNvSpPr/>
          <p:nvPr/>
        </p:nvSpPr>
        <p:spPr>
          <a:xfrm>
            <a:off x="914400" y="9144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Finding (</a:t>
            </a:r>
            <a:r>
              <a:rPr b="0" i="1" lang="en-US" sz="3000" spc="-1" strike="noStrike">
                <a:solidFill>
                  <a:srgbClr val="ffff00"/>
                </a:solidFill>
                <a:latin typeface="Tahoma"/>
              </a:rPr>
              <a:t>R,</a:t>
            </a:r>
            <a:r>
              <a:rPr b="0" i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) from given (</a:t>
            </a:r>
            <a:r>
              <a:rPr b="0" i="1" lang="en-US" sz="3000" spc="-1" strike="noStrike">
                <a:solidFill>
                  <a:srgbClr val="ffff00"/>
                </a:solidFill>
                <a:latin typeface="Tahoma"/>
              </a:rPr>
              <a:t>x,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) = (+40, -3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Line 29"/>
          <p:cNvSpPr/>
          <p:nvPr/>
        </p:nvSpPr>
        <p:spPr>
          <a:xfrm>
            <a:off x="5257800" y="2362320"/>
            <a:ext cx="2362320" cy="16761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Text Box 30"/>
          <p:cNvSpPr/>
          <p:nvPr/>
        </p:nvSpPr>
        <p:spPr>
          <a:xfrm>
            <a:off x="6248520" y="342900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66"/>
                </a:solidFill>
                <a:latin typeface="Tahoma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9" name="Group 42"/>
          <p:cNvGrpSpPr/>
          <p:nvPr/>
        </p:nvGrpSpPr>
        <p:grpSpPr>
          <a:xfrm>
            <a:off x="4572000" y="1752480"/>
            <a:ext cx="1676520" cy="1084320"/>
            <a:chOff x="4572000" y="1752480"/>
            <a:chExt cx="1676520" cy="1084320"/>
          </a:xfrm>
        </p:grpSpPr>
        <p:grpSp>
          <p:nvGrpSpPr>
            <p:cNvPr id="3050" name="Group 39"/>
            <p:cNvGrpSpPr/>
            <p:nvPr/>
          </p:nvGrpSpPr>
          <p:grpSpPr>
            <a:xfrm>
              <a:off x="4952520" y="2057400"/>
              <a:ext cx="609840" cy="609480"/>
              <a:chOff x="4952520" y="2057400"/>
              <a:chExt cx="609840" cy="609480"/>
            </a:xfrm>
          </p:grpSpPr>
          <p:sp>
            <p:nvSpPr>
              <p:cNvPr id="3051" name="Arc 34"/>
              <p:cNvSpPr/>
              <p:nvPr/>
            </p:nvSpPr>
            <p:spPr>
              <a:xfrm>
                <a:off x="5257800" y="2057400"/>
                <a:ext cx="304560" cy="304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Arc 35"/>
              <p:cNvSpPr/>
              <p:nvPr/>
            </p:nvSpPr>
            <p:spPr>
              <a:xfrm flipH="1">
                <a:off x="4952160" y="2057400"/>
                <a:ext cx="304920" cy="304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Arc 36"/>
              <p:cNvSpPr/>
              <p:nvPr/>
            </p:nvSpPr>
            <p:spPr>
              <a:xfrm flipH="1" flipV="1">
                <a:off x="4952160" y="2362320"/>
                <a:ext cx="304920" cy="3045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Arc 38"/>
              <p:cNvSpPr/>
              <p:nvPr/>
            </p:nvSpPr>
            <p:spPr>
              <a:xfrm flipV="1">
                <a:off x="5257800" y="251388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66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5" name="Text Box 40"/>
            <p:cNvSpPr/>
            <p:nvPr/>
          </p:nvSpPr>
          <p:spPr>
            <a:xfrm>
              <a:off x="5791320" y="22860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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Text Box 41"/>
            <p:cNvSpPr/>
            <p:nvPr/>
          </p:nvSpPr>
          <p:spPr>
            <a:xfrm>
              <a:off x="4572000" y="175248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7" name="Text Box 45"/>
          <p:cNvSpPr/>
          <p:nvPr/>
        </p:nvSpPr>
        <p:spPr>
          <a:xfrm>
            <a:off x="7772400" y="2666880"/>
            <a:ext cx="914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cc"/>
                </a:solidFill>
                <a:latin typeface="Tahoma"/>
              </a:rPr>
              <a:t>R</a:t>
            </a:r>
            <a:r>
              <a:rPr b="0" i="1" lang="en-US" sz="3000" spc="-1" strike="noStrike" baseline="-25000">
                <a:solidFill>
                  <a:srgbClr val="66ffcc"/>
                </a:solidFill>
                <a:latin typeface="Tahoma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Text Box 46"/>
          <p:cNvSpPr/>
          <p:nvPr/>
        </p:nvSpPr>
        <p:spPr>
          <a:xfrm>
            <a:off x="6019920" y="1676520"/>
            <a:ext cx="838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cc"/>
                </a:solidFill>
                <a:latin typeface="Tahoma"/>
              </a:rPr>
              <a:t>R</a:t>
            </a:r>
            <a:r>
              <a:rPr b="0" i="1" lang="en-US" sz="3000" spc="-1" strike="noStrike" baseline="-25000">
                <a:solidFill>
                  <a:srgbClr val="66ffcc"/>
                </a:solidFill>
                <a:latin typeface="Tahoma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9" name="Group 68"/>
          <p:cNvGrpSpPr/>
          <p:nvPr/>
        </p:nvGrpSpPr>
        <p:grpSpPr>
          <a:xfrm>
            <a:off x="914400" y="4647960"/>
            <a:ext cx="2895480" cy="551160"/>
            <a:chOff x="914400" y="4647960"/>
            <a:chExt cx="2895480" cy="551160"/>
          </a:xfrm>
        </p:grpSpPr>
        <p:sp>
          <p:nvSpPr>
            <p:cNvPr id="3060" name="Text Box 48"/>
            <p:cNvSpPr/>
            <p:nvPr/>
          </p:nvSpPr>
          <p:spPr>
            <a:xfrm>
              <a:off x="914400" y="4648320"/>
              <a:ext cx="2895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 =     x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 + y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1" name="Group 49"/>
            <p:cNvGrpSpPr/>
            <p:nvPr/>
          </p:nvGrpSpPr>
          <p:grpSpPr>
            <a:xfrm>
              <a:off x="1752480" y="4647960"/>
              <a:ext cx="1752480" cy="533520"/>
              <a:chOff x="1752480" y="4647960"/>
              <a:chExt cx="1752480" cy="533520"/>
            </a:xfrm>
          </p:grpSpPr>
          <p:sp>
            <p:nvSpPr>
              <p:cNvPr id="3062" name="Line 50"/>
              <p:cNvSpPr/>
              <p:nvPr/>
            </p:nvSpPr>
            <p:spPr>
              <a:xfrm>
                <a:off x="1752480" y="4876920"/>
                <a:ext cx="228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Line 51"/>
              <p:cNvSpPr/>
              <p:nvPr/>
            </p:nvSpPr>
            <p:spPr>
              <a:xfrm>
                <a:off x="1981080" y="4876920"/>
                <a:ext cx="759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Line 52"/>
              <p:cNvSpPr/>
              <p:nvPr/>
            </p:nvSpPr>
            <p:spPr>
              <a:xfrm flipV="1">
                <a:off x="2057040" y="4647960"/>
                <a:ext cx="7632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Line 53"/>
              <p:cNvSpPr/>
              <p:nvPr/>
            </p:nvSpPr>
            <p:spPr>
              <a:xfrm>
                <a:off x="2133360" y="4648320"/>
                <a:ext cx="1371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6" name="Group 61"/>
          <p:cNvGrpSpPr/>
          <p:nvPr/>
        </p:nvGrpSpPr>
        <p:grpSpPr>
          <a:xfrm>
            <a:off x="3962520" y="4572000"/>
            <a:ext cx="5181480" cy="550800"/>
            <a:chOff x="3962520" y="4572000"/>
            <a:chExt cx="5181480" cy="550800"/>
          </a:xfrm>
        </p:grpSpPr>
        <p:sp>
          <p:nvSpPr>
            <p:cNvPr id="3067" name="Text Box 54"/>
            <p:cNvSpPr/>
            <p:nvPr/>
          </p:nvSpPr>
          <p:spPr>
            <a:xfrm>
              <a:off x="3962520" y="457200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ahoma"/>
                </a:rPr>
                <a:t>R </a:t>
              </a: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=    (40)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 + (30)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 = </a:t>
              </a:r>
              <a:r>
                <a:rPr b="0" lang="en-US" sz="3000" spc="-1" strike="noStrike">
                  <a:solidFill>
                    <a:srgbClr val="ffff00"/>
                  </a:solidFill>
                  <a:latin typeface="Tahoma"/>
                </a:rPr>
                <a:t>5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Line 56"/>
            <p:cNvSpPr/>
            <p:nvPr/>
          </p:nvSpPr>
          <p:spPr>
            <a:xfrm>
              <a:off x="4724280" y="480060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Line 57"/>
            <p:cNvSpPr/>
            <p:nvPr/>
          </p:nvSpPr>
          <p:spPr>
            <a:xfrm>
              <a:off x="4952880" y="4800600"/>
              <a:ext cx="7632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Line 58"/>
            <p:cNvSpPr/>
            <p:nvPr/>
          </p:nvSpPr>
          <p:spPr>
            <a:xfrm flipV="1">
              <a:off x="5029200" y="4572000"/>
              <a:ext cx="7632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Line 59"/>
            <p:cNvSpPr/>
            <p:nvPr/>
          </p:nvSpPr>
          <p:spPr>
            <a:xfrm>
              <a:off x="5105520" y="4572000"/>
              <a:ext cx="2286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2" name="Group 67"/>
          <p:cNvGrpSpPr/>
          <p:nvPr/>
        </p:nvGrpSpPr>
        <p:grpSpPr>
          <a:xfrm>
            <a:off x="838080" y="5410080"/>
            <a:ext cx="2895840" cy="1245600"/>
            <a:chOff x="838080" y="5410080"/>
            <a:chExt cx="2895840" cy="1245600"/>
          </a:xfrm>
        </p:grpSpPr>
        <p:sp>
          <p:nvSpPr>
            <p:cNvPr id="3073" name="Text Box 62"/>
            <p:cNvSpPr/>
            <p:nvPr/>
          </p:nvSpPr>
          <p:spPr>
            <a:xfrm>
              <a:off x="838080" y="5715000"/>
              <a:ext cx="2895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tan </a:t>
              </a:r>
              <a:r>
                <a:rPr b="0" lang="en-US" sz="3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</a:t>
              </a: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=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Line 63"/>
            <p:cNvSpPr/>
            <p:nvPr/>
          </p:nvSpPr>
          <p:spPr>
            <a:xfrm>
              <a:off x="2362320" y="6019920"/>
              <a:ext cx="99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Text Box 64"/>
            <p:cNvSpPr/>
            <p:nvPr/>
          </p:nvSpPr>
          <p:spPr>
            <a:xfrm>
              <a:off x="2362320" y="5410080"/>
              <a:ext cx="99036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-3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40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6" name="Text Box 65"/>
          <p:cNvSpPr/>
          <p:nvPr/>
        </p:nvSpPr>
        <p:spPr>
          <a:xfrm>
            <a:off x="4038480" y="571500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= -36.9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Text Box 66"/>
          <p:cNvSpPr/>
          <p:nvPr/>
        </p:nvSpPr>
        <p:spPr>
          <a:xfrm>
            <a:off x="6477120" y="5562720"/>
            <a:ext cx="2286000" cy="731520"/>
          </a:xfrm>
          <a:prstGeom prst="rect">
            <a:avLst/>
          </a:prstGeom>
          <a:solidFill>
            <a:srgbClr val="ffffcc"/>
          </a:solidFill>
          <a:ln w="4140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= 323.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0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1" dur="500"/>
                                        <p:tgtEl>
                                          <p:spTgt spid="3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0" dur="500"/>
                                        <p:tgtEl>
                                          <p:spTgt spid="3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5" dur="500"/>
                                        <p:tgtEl>
                                          <p:spTgt spid="3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3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3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Four Quadrants: (Cont.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grpSp>
        <p:nvGrpSpPr>
          <p:cNvPr id="3079" name="Group 178"/>
          <p:cNvGrpSpPr/>
          <p:nvPr/>
        </p:nvGrpSpPr>
        <p:grpSpPr>
          <a:xfrm>
            <a:off x="4859280" y="3581280"/>
            <a:ext cx="4284720" cy="2286000"/>
            <a:chOff x="4859280" y="3581280"/>
            <a:chExt cx="4284720" cy="2286000"/>
          </a:xfrm>
        </p:grpSpPr>
        <p:grpSp>
          <p:nvGrpSpPr>
            <p:cNvPr id="3080" name="Group 15"/>
            <p:cNvGrpSpPr/>
            <p:nvPr/>
          </p:nvGrpSpPr>
          <p:grpSpPr>
            <a:xfrm>
              <a:off x="4859280" y="3581280"/>
              <a:ext cx="4284720" cy="2227320"/>
              <a:chOff x="4859280" y="3581280"/>
              <a:chExt cx="4284720" cy="2227320"/>
            </a:xfrm>
          </p:grpSpPr>
          <p:sp>
            <p:nvSpPr>
              <p:cNvPr id="3081" name="Line 16"/>
              <p:cNvSpPr/>
              <p:nvPr/>
            </p:nvSpPr>
            <p:spPr>
              <a:xfrm>
                <a:off x="5521320" y="3733920"/>
                <a:ext cx="0" cy="20574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Line 17"/>
              <p:cNvSpPr/>
              <p:nvPr/>
            </p:nvSpPr>
            <p:spPr>
              <a:xfrm>
                <a:off x="4859280" y="4243320"/>
                <a:ext cx="33418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Line 18"/>
              <p:cNvSpPr/>
              <p:nvPr/>
            </p:nvSpPr>
            <p:spPr>
              <a:xfrm>
                <a:off x="5624640" y="4243320"/>
                <a:ext cx="2368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Line 19"/>
              <p:cNvSpPr/>
              <p:nvPr/>
            </p:nvSpPr>
            <p:spPr>
              <a:xfrm>
                <a:off x="7883640" y="4343400"/>
                <a:ext cx="0" cy="13892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Line 20"/>
              <p:cNvSpPr/>
              <p:nvPr/>
            </p:nvSpPr>
            <p:spPr>
              <a:xfrm>
                <a:off x="6111720" y="4110120"/>
                <a:ext cx="0" cy="199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Line 21"/>
              <p:cNvSpPr/>
              <p:nvPr/>
            </p:nvSpPr>
            <p:spPr>
              <a:xfrm>
                <a:off x="6738840" y="4110120"/>
                <a:ext cx="0" cy="199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Line 22"/>
              <p:cNvSpPr/>
              <p:nvPr/>
            </p:nvSpPr>
            <p:spPr>
              <a:xfrm>
                <a:off x="7365960" y="4110120"/>
                <a:ext cx="0" cy="199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Line 23"/>
              <p:cNvSpPr/>
              <p:nvPr/>
            </p:nvSpPr>
            <p:spPr>
              <a:xfrm>
                <a:off x="7731000" y="4724280"/>
                <a:ext cx="27792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Line 24"/>
              <p:cNvSpPr/>
              <p:nvPr/>
            </p:nvSpPr>
            <p:spPr>
              <a:xfrm>
                <a:off x="7731000" y="5181480"/>
                <a:ext cx="27792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Text Box 25"/>
              <p:cNvSpPr/>
              <p:nvPr/>
            </p:nvSpPr>
            <p:spPr>
              <a:xfrm>
                <a:off x="7156440" y="3581280"/>
                <a:ext cx="1184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ahoma"/>
                  </a:rPr>
                  <a:t>40 lb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Text Box 26"/>
              <p:cNvSpPr/>
              <p:nvPr/>
            </p:nvSpPr>
            <p:spPr>
              <a:xfrm>
                <a:off x="7959600" y="5257800"/>
                <a:ext cx="1184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ahoma"/>
                  </a:rPr>
                  <a:t>30 lb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2" name="Group 28"/>
            <p:cNvGrpSpPr/>
            <p:nvPr/>
          </p:nvGrpSpPr>
          <p:grpSpPr>
            <a:xfrm>
              <a:off x="5562720" y="4191120"/>
              <a:ext cx="2361960" cy="1676160"/>
              <a:chOff x="5562720" y="4191120"/>
              <a:chExt cx="2361960" cy="1676160"/>
            </a:xfrm>
          </p:grpSpPr>
          <p:sp>
            <p:nvSpPr>
              <p:cNvPr id="3093" name="Line 29"/>
              <p:cNvSpPr/>
              <p:nvPr/>
            </p:nvSpPr>
            <p:spPr>
              <a:xfrm>
                <a:off x="5562720" y="4191120"/>
                <a:ext cx="2361960" cy="16761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Text Box 30"/>
              <p:cNvSpPr/>
              <p:nvPr/>
            </p:nvSpPr>
            <p:spPr>
              <a:xfrm>
                <a:off x="6553080" y="5257800"/>
                <a:ext cx="609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ahoma"/>
                  </a:rPr>
                  <a:t>R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5" name="Group 31"/>
            <p:cNvGrpSpPr/>
            <p:nvPr/>
          </p:nvGrpSpPr>
          <p:grpSpPr>
            <a:xfrm>
              <a:off x="4876920" y="3657600"/>
              <a:ext cx="1675800" cy="1083960"/>
              <a:chOff x="4876920" y="3657600"/>
              <a:chExt cx="1675800" cy="1083960"/>
            </a:xfrm>
          </p:grpSpPr>
          <p:grpSp>
            <p:nvGrpSpPr>
              <p:cNvPr id="3096" name="Group 32"/>
              <p:cNvGrpSpPr/>
              <p:nvPr/>
            </p:nvGrpSpPr>
            <p:grpSpPr>
              <a:xfrm>
                <a:off x="5257080" y="3962160"/>
                <a:ext cx="609840" cy="608760"/>
                <a:chOff x="5257080" y="3962160"/>
                <a:chExt cx="609840" cy="608760"/>
              </a:xfrm>
            </p:grpSpPr>
            <p:sp>
              <p:nvSpPr>
                <p:cNvPr id="3097" name="Arc 33"/>
                <p:cNvSpPr/>
                <p:nvPr/>
              </p:nvSpPr>
              <p:spPr>
                <a:xfrm>
                  <a:off x="5562360" y="3962160"/>
                  <a:ext cx="304560" cy="304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8" name="Arc 34"/>
                <p:cNvSpPr/>
                <p:nvPr/>
              </p:nvSpPr>
              <p:spPr>
                <a:xfrm flipH="1">
                  <a:off x="5256720" y="3962160"/>
                  <a:ext cx="304920" cy="304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9" name="Arc 35"/>
                <p:cNvSpPr/>
                <p:nvPr/>
              </p:nvSpPr>
              <p:spPr>
                <a:xfrm flipH="1" flipV="1">
                  <a:off x="5256720" y="4266000"/>
                  <a:ext cx="304920" cy="304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0" name="Arc 36"/>
                <p:cNvSpPr/>
                <p:nvPr/>
              </p:nvSpPr>
              <p:spPr>
                <a:xfrm flipV="1">
                  <a:off x="5562360" y="4419000"/>
                  <a:ext cx="228600" cy="151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66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1" name="Text Box 37"/>
              <p:cNvSpPr/>
              <p:nvPr/>
            </p:nvSpPr>
            <p:spPr>
              <a:xfrm>
                <a:off x="6095880" y="4190760"/>
                <a:ext cx="456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66ffcc"/>
                    </a:solidFill>
                    <a:latin typeface="Symbol"/>
                    <a:ea typeface="Symbol"/>
                  </a:rPr>
                  <a:t>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Text Box 38"/>
              <p:cNvSpPr/>
              <p:nvPr/>
            </p:nvSpPr>
            <p:spPr>
              <a:xfrm>
                <a:off x="4876920" y="3657600"/>
                <a:ext cx="456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66ffcc"/>
                    </a:solidFill>
                    <a:latin typeface="Symbol"/>
                    <a:ea typeface="Symbol"/>
                  </a:rPr>
                  <a:t>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3" name="Text Box 39"/>
            <p:cNvSpPr/>
            <p:nvPr/>
          </p:nvSpPr>
          <p:spPr>
            <a:xfrm>
              <a:off x="8001000" y="4648320"/>
              <a:ext cx="9144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Text Box 40"/>
            <p:cNvSpPr/>
            <p:nvPr/>
          </p:nvSpPr>
          <p:spPr>
            <a:xfrm>
              <a:off x="6248520" y="3581280"/>
              <a:ext cx="8380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5" name="Group 175"/>
          <p:cNvGrpSpPr/>
          <p:nvPr/>
        </p:nvGrpSpPr>
        <p:grpSpPr>
          <a:xfrm>
            <a:off x="339480" y="3581280"/>
            <a:ext cx="4056120" cy="2355840"/>
            <a:chOff x="339480" y="3581280"/>
            <a:chExt cx="4056120" cy="2355840"/>
          </a:xfrm>
        </p:grpSpPr>
        <p:sp>
          <p:nvSpPr>
            <p:cNvPr id="3106" name="Line 61"/>
            <p:cNvSpPr/>
            <p:nvPr/>
          </p:nvSpPr>
          <p:spPr>
            <a:xfrm>
              <a:off x="3733920" y="380988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Line 62"/>
            <p:cNvSpPr/>
            <p:nvPr/>
          </p:nvSpPr>
          <p:spPr>
            <a:xfrm flipH="1">
              <a:off x="1053720" y="4319640"/>
              <a:ext cx="3341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Line 63"/>
            <p:cNvSpPr/>
            <p:nvPr/>
          </p:nvSpPr>
          <p:spPr>
            <a:xfrm flipH="1">
              <a:off x="1261800" y="4319640"/>
              <a:ext cx="2368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Line 64"/>
            <p:cNvSpPr/>
            <p:nvPr/>
          </p:nvSpPr>
          <p:spPr>
            <a:xfrm>
              <a:off x="1371600" y="4419720"/>
              <a:ext cx="0" cy="1388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Line 65"/>
            <p:cNvSpPr/>
            <p:nvPr/>
          </p:nvSpPr>
          <p:spPr>
            <a:xfrm>
              <a:off x="3143160" y="418608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Line 66"/>
            <p:cNvSpPr/>
            <p:nvPr/>
          </p:nvSpPr>
          <p:spPr>
            <a:xfrm>
              <a:off x="2516040" y="418608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Line 67"/>
            <p:cNvSpPr/>
            <p:nvPr/>
          </p:nvSpPr>
          <p:spPr>
            <a:xfrm>
              <a:off x="1889280" y="418608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Line 68"/>
            <p:cNvSpPr/>
            <p:nvPr/>
          </p:nvSpPr>
          <p:spPr>
            <a:xfrm flipH="1">
              <a:off x="1245960" y="4802040"/>
              <a:ext cx="2775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Line 69"/>
            <p:cNvSpPr/>
            <p:nvPr/>
          </p:nvSpPr>
          <p:spPr>
            <a:xfrm flipH="1">
              <a:off x="1245960" y="5257800"/>
              <a:ext cx="2775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Text Box 70"/>
            <p:cNvSpPr/>
            <p:nvPr/>
          </p:nvSpPr>
          <p:spPr>
            <a:xfrm flipH="1">
              <a:off x="914400" y="3657600"/>
              <a:ext cx="118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4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Text Box 71"/>
            <p:cNvSpPr/>
            <p:nvPr/>
          </p:nvSpPr>
          <p:spPr>
            <a:xfrm flipH="1">
              <a:off x="339120" y="5234040"/>
              <a:ext cx="118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3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Line 73"/>
            <p:cNvSpPr/>
            <p:nvPr/>
          </p:nvSpPr>
          <p:spPr>
            <a:xfrm flipH="1">
              <a:off x="1371240" y="4319640"/>
              <a:ext cx="2397240" cy="1547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Text Box 74"/>
            <p:cNvSpPr/>
            <p:nvPr/>
          </p:nvSpPr>
          <p:spPr>
            <a:xfrm flipH="1">
              <a:off x="2320200" y="53863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Text Box 81"/>
            <p:cNvSpPr/>
            <p:nvPr/>
          </p:nvSpPr>
          <p:spPr>
            <a:xfrm flipH="1">
              <a:off x="2778120" y="42433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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Text Box 82"/>
            <p:cNvSpPr/>
            <p:nvPr/>
          </p:nvSpPr>
          <p:spPr>
            <a:xfrm flipH="1">
              <a:off x="2930400" y="363384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Text Box 83"/>
            <p:cNvSpPr/>
            <p:nvPr/>
          </p:nvSpPr>
          <p:spPr>
            <a:xfrm flipH="1">
              <a:off x="644400" y="4624560"/>
              <a:ext cx="9144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lang="en-US" sz="3000" spc="-1" strike="noStrike" baseline="-25000">
                  <a:solidFill>
                    <a:srgbClr val="66ffcc"/>
                  </a:solidFill>
                  <a:latin typeface="Tahoma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Text Box 84"/>
            <p:cNvSpPr/>
            <p:nvPr/>
          </p:nvSpPr>
          <p:spPr>
            <a:xfrm flipH="1">
              <a:off x="2092320" y="3581280"/>
              <a:ext cx="8380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Arc 85"/>
            <p:cNvSpPr/>
            <p:nvPr/>
          </p:nvSpPr>
          <p:spPr>
            <a:xfrm>
              <a:off x="3616200" y="3938760"/>
              <a:ext cx="304920" cy="304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Arc 86"/>
            <p:cNvSpPr/>
            <p:nvPr/>
          </p:nvSpPr>
          <p:spPr>
            <a:xfrm flipH="1">
              <a:off x="3311640" y="3938760"/>
              <a:ext cx="304560" cy="304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Arc 87"/>
            <p:cNvSpPr/>
            <p:nvPr/>
          </p:nvSpPr>
          <p:spPr>
            <a:xfrm flipH="1" flipV="1">
              <a:off x="3311640" y="4241880"/>
              <a:ext cx="304560" cy="255600"/>
            </a:xfrm>
            <a:custGeom>
              <a:avLst/>
              <a:gdLst/>
              <a:ahLst/>
              <a:rect l="l" t="t" r="r" b="b"/>
              <a:pathLst>
                <a:path fill="none" w="21600" h="18068">
                  <a:moveTo>
                    <a:pt x="11836" y="0"/>
                  </a:moveTo>
                  <a:cubicBezTo>
                    <a:pt x="17929" y="3991"/>
                    <a:pt x="21600" y="10784"/>
                    <a:pt x="21600" y="18068"/>
                  </a:cubicBezTo>
                </a:path>
                <a:path stroke="0" w="21600" h="18068">
                  <a:moveTo>
                    <a:pt x="11836" y="0"/>
                  </a:moveTo>
                  <a:cubicBezTo>
                    <a:pt x="17929" y="3991"/>
                    <a:pt x="21600" y="10784"/>
                    <a:pt x="21600" y="18068"/>
                  </a:cubicBezTo>
                  <a:lnTo>
                    <a:pt x="0" y="18068"/>
                  </a:lnTo>
                  <a:lnTo>
                    <a:pt x="11836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6" name="Group 167"/>
          <p:cNvGrpSpPr/>
          <p:nvPr/>
        </p:nvGrpSpPr>
        <p:grpSpPr>
          <a:xfrm>
            <a:off x="4859280" y="1142640"/>
            <a:ext cx="4284720" cy="2303640"/>
            <a:chOff x="4859280" y="1142640"/>
            <a:chExt cx="4284720" cy="2303640"/>
          </a:xfrm>
        </p:grpSpPr>
        <p:sp>
          <p:nvSpPr>
            <p:cNvPr id="3127" name="Line 102"/>
            <p:cNvSpPr/>
            <p:nvPr/>
          </p:nvSpPr>
          <p:spPr>
            <a:xfrm flipV="1">
              <a:off x="5521320" y="123480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Line 103"/>
            <p:cNvSpPr/>
            <p:nvPr/>
          </p:nvSpPr>
          <p:spPr>
            <a:xfrm>
              <a:off x="4859280" y="2782800"/>
              <a:ext cx="3341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Line 104"/>
            <p:cNvSpPr/>
            <p:nvPr/>
          </p:nvSpPr>
          <p:spPr>
            <a:xfrm>
              <a:off x="5624640" y="2782800"/>
              <a:ext cx="2368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Line 105"/>
            <p:cNvSpPr/>
            <p:nvPr/>
          </p:nvSpPr>
          <p:spPr>
            <a:xfrm flipV="1">
              <a:off x="7883640" y="1293840"/>
              <a:ext cx="0" cy="1388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106"/>
            <p:cNvSpPr/>
            <p:nvPr/>
          </p:nvSpPr>
          <p:spPr>
            <a:xfrm flipV="1">
              <a:off x="611172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107"/>
            <p:cNvSpPr/>
            <p:nvPr/>
          </p:nvSpPr>
          <p:spPr>
            <a:xfrm flipV="1">
              <a:off x="673884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108"/>
            <p:cNvSpPr/>
            <p:nvPr/>
          </p:nvSpPr>
          <p:spPr>
            <a:xfrm flipV="1">
              <a:off x="736596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109"/>
            <p:cNvSpPr/>
            <p:nvPr/>
          </p:nvSpPr>
          <p:spPr>
            <a:xfrm>
              <a:off x="7731000" y="230184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110"/>
            <p:cNvSpPr/>
            <p:nvPr/>
          </p:nvSpPr>
          <p:spPr>
            <a:xfrm>
              <a:off x="7731000" y="184464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Text Box 111"/>
            <p:cNvSpPr/>
            <p:nvPr/>
          </p:nvSpPr>
          <p:spPr>
            <a:xfrm>
              <a:off x="7156440" y="2895480"/>
              <a:ext cx="118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4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Text Box 112"/>
            <p:cNvSpPr/>
            <p:nvPr/>
          </p:nvSpPr>
          <p:spPr>
            <a:xfrm>
              <a:off x="7959600" y="1219320"/>
              <a:ext cx="118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3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Line 114"/>
            <p:cNvSpPr/>
            <p:nvPr/>
          </p:nvSpPr>
          <p:spPr>
            <a:xfrm flipV="1">
              <a:off x="5486400" y="1142640"/>
              <a:ext cx="2362320" cy="1676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Text Box 115"/>
            <p:cNvSpPr/>
            <p:nvPr/>
          </p:nvSpPr>
          <p:spPr>
            <a:xfrm>
              <a:off x="6248520" y="13716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Text Box 123"/>
            <p:cNvSpPr/>
            <p:nvPr/>
          </p:nvSpPr>
          <p:spPr>
            <a:xfrm flipV="1">
              <a:off x="6019920" y="2284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Text Box 124"/>
            <p:cNvSpPr/>
            <p:nvPr/>
          </p:nvSpPr>
          <p:spPr>
            <a:xfrm>
              <a:off x="8077320" y="1828800"/>
              <a:ext cx="9144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Text Box 125"/>
            <p:cNvSpPr/>
            <p:nvPr/>
          </p:nvSpPr>
          <p:spPr>
            <a:xfrm>
              <a:off x="6400800" y="2743200"/>
              <a:ext cx="8380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Arc 128"/>
            <p:cNvSpPr/>
            <p:nvPr/>
          </p:nvSpPr>
          <p:spPr>
            <a:xfrm>
              <a:off x="6400800" y="2209680"/>
              <a:ext cx="304920" cy="457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4" name="Group 168"/>
          <p:cNvGrpSpPr/>
          <p:nvPr/>
        </p:nvGrpSpPr>
        <p:grpSpPr>
          <a:xfrm>
            <a:off x="762120" y="762120"/>
            <a:ext cx="3798720" cy="2760480"/>
            <a:chOff x="762120" y="762120"/>
            <a:chExt cx="3798720" cy="2760480"/>
          </a:xfrm>
        </p:grpSpPr>
        <p:sp>
          <p:nvSpPr>
            <p:cNvPr id="3145" name="Arc 77"/>
            <p:cNvSpPr/>
            <p:nvPr/>
          </p:nvSpPr>
          <p:spPr>
            <a:xfrm>
              <a:off x="3429000" y="2362320"/>
              <a:ext cx="304920" cy="304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Arc 78"/>
            <p:cNvSpPr/>
            <p:nvPr/>
          </p:nvSpPr>
          <p:spPr>
            <a:xfrm flipH="1">
              <a:off x="3199680" y="2362320"/>
              <a:ext cx="228600" cy="99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Text Box 122"/>
            <p:cNvSpPr/>
            <p:nvPr/>
          </p:nvSpPr>
          <p:spPr>
            <a:xfrm flipV="1">
              <a:off x="1981080" y="228456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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Line 146"/>
            <p:cNvSpPr/>
            <p:nvPr/>
          </p:nvSpPr>
          <p:spPr>
            <a:xfrm flipV="1">
              <a:off x="3505320" y="121896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Line 147"/>
            <p:cNvSpPr/>
            <p:nvPr/>
          </p:nvSpPr>
          <p:spPr>
            <a:xfrm flipH="1">
              <a:off x="1219320" y="2819520"/>
              <a:ext cx="3341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Line 148"/>
            <p:cNvSpPr/>
            <p:nvPr/>
          </p:nvSpPr>
          <p:spPr>
            <a:xfrm flipH="1">
              <a:off x="1204560" y="2782800"/>
              <a:ext cx="2368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Line 150"/>
            <p:cNvSpPr/>
            <p:nvPr/>
          </p:nvSpPr>
          <p:spPr>
            <a:xfrm flipV="1">
              <a:off x="169236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Line 151"/>
            <p:cNvSpPr/>
            <p:nvPr/>
          </p:nvSpPr>
          <p:spPr>
            <a:xfrm flipV="1">
              <a:off x="231948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52"/>
            <p:cNvSpPr/>
            <p:nvPr/>
          </p:nvSpPr>
          <p:spPr>
            <a:xfrm flipV="1">
              <a:off x="294624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Text Box 155"/>
            <p:cNvSpPr/>
            <p:nvPr/>
          </p:nvSpPr>
          <p:spPr>
            <a:xfrm flipH="1">
              <a:off x="1218600" y="2971800"/>
              <a:ext cx="118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4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Text Box 156"/>
            <p:cNvSpPr/>
            <p:nvPr/>
          </p:nvSpPr>
          <p:spPr>
            <a:xfrm flipH="1">
              <a:off x="1066680" y="762120"/>
              <a:ext cx="118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3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Line 157"/>
            <p:cNvSpPr/>
            <p:nvPr/>
          </p:nvSpPr>
          <p:spPr>
            <a:xfrm flipH="1" flipV="1">
              <a:off x="1294920" y="1295280"/>
              <a:ext cx="2210040" cy="1524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158"/>
            <p:cNvSpPr/>
            <p:nvPr/>
          </p:nvSpPr>
          <p:spPr>
            <a:xfrm flipH="1">
              <a:off x="2056680" y="13716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Text Box 159"/>
            <p:cNvSpPr/>
            <p:nvPr/>
          </p:nvSpPr>
          <p:spPr>
            <a:xfrm flipH="1" flipV="1">
              <a:off x="3048120" y="182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Text Box 160"/>
            <p:cNvSpPr/>
            <p:nvPr/>
          </p:nvSpPr>
          <p:spPr>
            <a:xfrm flipH="1">
              <a:off x="762120" y="1828800"/>
              <a:ext cx="9144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lang="en-US" sz="3000" spc="-1" strike="noStrike" baseline="-25000">
                  <a:solidFill>
                    <a:srgbClr val="66ffcc"/>
                  </a:solidFill>
                  <a:latin typeface="Tahoma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Text Box 161"/>
            <p:cNvSpPr/>
            <p:nvPr/>
          </p:nvSpPr>
          <p:spPr>
            <a:xfrm flipH="1">
              <a:off x="2208960" y="2743200"/>
              <a:ext cx="8384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Line 163"/>
            <p:cNvSpPr/>
            <p:nvPr/>
          </p:nvSpPr>
          <p:spPr>
            <a:xfrm flipV="1">
              <a:off x="1295280" y="1294920"/>
              <a:ext cx="0" cy="1389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Line 165"/>
            <p:cNvSpPr/>
            <p:nvPr/>
          </p:nvSpPr>
          <p:spPr>
            <a:xfrm>
              <a:off x="1143000" y="230364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Line 166"/>
            <p:cNvSpPr/>
            <p:nvPr/>
          </p:nvSpPr>
          <p:spPr>
            <a:xfrm>
              <a:off x="1143000" y="184644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4" name="Text Box 173"/>
          <p:cNvSpPr/>
          <p:nvPr/>
        </p:nvSpPr>
        <p:spPr>
          <a:xfrm>
            <a:off x="1066680" y="6019920"/>
            <a:ext cx="7696440" cy="5508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= 36.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= 36.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; 143.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; 216.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; 323.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5" name="Group 177"/>
          <p:cNvGrpSpPr/>
          <p:nvPr/>
        </p:nvGrpSpPr>
        <p:grpSpPr>
          <a:xfrm>
            <a:off x="3733920" y="1600200"/>
            <a:ext cx="1904760" cy="3979800"/>
            <a:chOff x="3733920" y="1600200"/>
            <a:chExt cx="1904760" cy="3979800"/>
          </a:xfrm>
        </p:grpSpPr>
        <p:sp>
          <p:nvSpPr>
            <p:cNvPr id="3166" name="Text Box 171"/>
            <p:cNvSpPr/>
            <p:nvPr/>
          </p:nvSpPr>
          <p:spPr>
            <a:xfrm>
              <a:off x="3809880" y="5029200"/>
              <a:ext cx="1828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00"/>
                  </a:solidFill>
                  <a:latin typeface="Tahoma"/>
                </a:rPr>
                <a:t>R = 5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Text Box 176"/>
            <p:cNvSpPr/>
            <p:nvPr/>
          </p:nvSpPr>
          <p:spPr>
            <a:xfrm>
              <a:off x="3733920" y="1600200"/>
              <a:ext cx="1828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00"/>
                  </a:solidFill>
                  <a:latin typeface="Tahoma"/>
                </a:rPr>
                <a:t>R = 5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0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5" dur="500"/>
                                        <p:tgtEl>
                                          <p:spTgt spid="3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9" dur="500"/>
                                        <p:tgtEl>
                                          <p:spTgt spid="3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4" dur="500"/>
                                        <p:tgtEl>
                                          <p:spTgt spid="3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9" dur="500"/>
                                        <p:tgtEl>
                                          <p:spTgt spid="3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3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Unit vector notation (</a:t>
            </a: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,j,k</a:t>
            </a: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grpSp>
        <p:nvGrpSpPr>
          <p:cNvPr id="3169" name="Group 10"/>
          <p:cNvGrpSpPr/>
          <p:nvPr/>
        </p:nvGrpSpPr>
        <p:grpSpPr>
          <a:xfrm>
            <a:off x="914400" y="1600200"/>
            <a:ext cx="3048120" cy="2913120"/>
            <a:chOff x="914400" y="1600200"/>
            <a:chExt cx="3048120" cy="2913120"/>
          </a:xfrm>
        </p:grpSpPr>
        <p:sp>
          <p:nvSpPr>
            <p:cNvPr id="3170" name="Line 3"/>
            <p:cNvSpPr/>
            <p:nvPr/>
          </p:nvSpPr>
          <p:spPr>
            <a:xfrm>
              <a:off x="2057400" y="2057400"/>
              <a:ext cx="0" cy="2438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Line 4"/>
            <p:cNvSpPr/>
            <p:nvPr/>
          </p:nvSpPr>
          <p:spPr>
            <a:xfrm>
              <a:off x="914400" y="3200400"/>
              <a:ext cx="2362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Text Box 5"/>
            <p:cNvSpPr/>
            <p:nvPr/>
          </p:nvSpPr>
          <p:spPr>
            <a:xfrm>
              <a:off x="3429000" y="28195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Text Box 6"/>
            <p:cNvSpPr/>
            <p:nvPr/>
          </p:nvSpPr>
          <p:spPr>
            <a:xfrm>
              <a:off x="990720" y="396252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Text Box 7"/>
            <p:cNvSpPr/>
            <p:nvPr/>
          </p:nvSpPr>
          <p:spPr>
            <a:xfrm>
              <a:off x="1600200" y="16002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Line 8"/>
            <p:cNvSpPr/>
            <p:nvPr/>
          </p:nvSpPr>
          <p:spPr>
            <a:xfrm flipH="1">
              <a:off x="1447560" y="2438280"/>
              <a:ext cx="1143000" cy="1600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6" name="Text Box 9"/>
          <p:cNvSpPr/>
          <p:nvPr/>
        </p:nvSpPr>
        <p:spPr>
          <a:xfrm>
            <a:off x="4267080" y="1752480"/>
            <a:ext cx="457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nsider 3D axes (x, y, 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Text Box 11"/>
          <p:cNvSpPr/>
          <p:nvPr/>
        </p:nvSpPr>
        <p:spPr>
          <a:xfrm>
            <a:off x="4267080" y="2514600"/>
            <a:ext cx="487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fine unit vectors, 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, j, 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8" name="Group 14"/>
          <p:cNvGrpSpPr/>
          <p:nvPr/>
        </p:nvGrpSpPr>
        <p:grpSpPr>
          <a:xfrm>
            <a:off x="2057400" y="2666880"/>
            <a:ext cx="914400" cy="550800"/>
            <a:chOff x="2057400" y="2666880"/>
            <a:chExt cx="914400" cy="550800"/>
          </a:xfrm>
        </p:grpSpPr>
        <p:sp>
          <p:nvSpPr>
            <p:cNvPr id="3179" name="Line 12"/>
            <p:cNvSpPr/>
            <p:nvPr/>
          </p:nvSpPr>
          <p:spPr>
            <a:xfrm>
              <a:off x="2057400" y="320040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Text Box 13"/>
            <p:cNvSpPr/>
            <p:nvPr/>
          </p:nvSpPr>
          <p:spPr>
            <a:xfrm>
              <a:off x="2438280" y="2666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00"/>
                  </a:solidFill>
                  <a:latin typeface="Tahoma"/>
                </a:rPr>
                <a:t>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1" name="Group 17"/>
          <p:cNvGrpSpPr/>
          <p:nvPr/>
        </p:nvGrpSpPr>
        <p:grpSpPr>
          <a:xfrm>
            <a:off x="1676520" y="2438280"/>
            <a:ext cx="533160" cy="762120"/>
            <a:chOff x="1676520" y="2438280"/>
            <a:chExt cx="533160" cy="762120"/>
          </a:xfrm>
        </p:grpSpPr>
        <p:sp>
          <p:nvSpPr>
            <p:cNvPr id="3182" name="Line 15"/>
            <p:cNvSpPr/>
            <p:nvPr/>
          </p:nvSpPr>
          <p:spPr>
            <a:xfrm flipV="1">
              <a:off x="2057400" y="27432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Text Box 16"/>
            <p:cNvSpPr/>
            <p:nvPr/>
          </p:nvSpPr>
          <p:spPr>
            <a:xfrm>
              <a:off x="1676520" y="24382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00"/>
                  </a:solidFill>
                  <a:latin typeface="Tahoma"/>
                </a:rPr>
                <a:t>j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4" name="Group 20"/>
          <p:cNvGrpSpPr/>
          <p:nvPr/>
        </p:nvGrpSpPr>
        <p:grpSpPr>
          <a:xfrm>
            <a:off x="1295280" y="3200400"/>
            <a:ext cx="761760" cy="703080"/>
            <a:chOff x="1295280" y="3200400"/>
            <a:chExt cx="761760" cy="703080"/>
          </a:xfrm>
        </p:grpSpPr>
        <p:sp>
          <p:nvSpPr>
            <p:cNvPr id="3185" name="Line 18"/>
            <p:cNvSpPr/>
            <p:nvPr/>
          </p:nvSpPr>
          <p:spPr>
            <a:xfrm flipH="1">
              <a:off x="1828440" y="3200400"/>
              <a:ext cx="22860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Text Box 19"/>
            <p:cNvSpPr/>
            <p:nvPr/>
          </p:nvSpPr>
          <p:spPr>
            <a:xfrm>
              <a:off x="1295280" y="3352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00"/>
                  </a:solidFill>
                  <a:latin typeface="Tahoma"/>
                </a:rPr>
                <a:t>k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7" name="Text Box 21"/>
          <p:cNvSpPr/>
          <p:nvPr/>
        </p:nvSpPr>
        <p:spPr>
          <a:xfrm>
            <a:off x="4648320" y="3352680"/>
            <a:ext cx="3200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Examples of U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Text Box 22"/>
          <p:cNvSpPr/>
          <p:nvPr/>
        </p:nvSpPr>
        <p:spPr>
          <a:xfrm>
            <a:off x="2743200" y="4114800"/>
            <a:ext cx="640080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40 m, E = 40 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  40 m, W = -40 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30 m, N = 30 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j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  30 m, S = -30 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20 m, out = 20 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k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20 m, in = -20 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0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7" dur="500"/>
                                        <p:tgtEl>
                                          <p:spTgt spid="3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3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0" dur="500"/>
                                        <p:tgtEl>
                                          <p:spTgt spid="3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5" dur="500"/>
                                        <p:tgtEl>
                                          <p:spTgt spid="3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0" dur="500"/>
                                        <p:tgtEl>
                                          <p:spTgt spid="3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5" dur="500"/>
                                        <p:tgtEl>
                                          <p:spTgt spid="3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Tahoma"/>
              </a:rPr>
              <a:t>Example 4: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oman walks 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30 m, 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then 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40 m, 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Write her displacement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,j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ation and in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,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ation.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190" name="Line 3"/>
          <p:cNvSpPr/>
          <p:nvPr/>
        </p:nvSpPr>
        <p:spPr>
          <a:xfrm>
            <a:off x="1143000" y="4114800"/>
            <a:ext cx="2362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Line 4"/>
          <p:cNvSpPr/>
          <p:nvPr/>
        </p:nvSpPr>
        <p:spPr>
          <a:xfrm>
            <a:off x="2971800" y="2286000"/>
            <a:ext cx="0" cy="2209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2" name="Group 5"/>
          <p:cNvGrpSpPr/>
          <p:nvPr/>
        </p:nvGrpSpPr>
        <p:grpSpPr>
          <a:xfrm>
            <a:off x="1523880" y="4114800"/>
            <a:ext cx="1676520" cy="627120"/>
            <a:chOff x="1523880" y="4114800"/>
            <a:chExt cx="1676520" cy="627120"/>
          </a:xfrm>
        </p:grpSpPr>
        <p:sp>
          <p:nvSpPr>
            <p:cNvPr id="3193" name="Line 6"/>
            <p:cNvSpPr/>
            <p:nvPr/>
          </p:nvSpPr>
          <p:spPr>
            <a:xfrm flipH="1">
              <a:off x="1523880" y="4114800"/>
              <a:ext cx="1447920" cy="0"/>
            </a:xfrm>
            <a:prstGeom prst="line">
              <a:avLst/>
            </a:prstGeom>
            <a:ln w="3816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Text Box 7"/>
            <p:cNvSpPr/>
            <p:nvPr/>
          </p:nvSpPr>
          <p:spPr>
            <a:xfrm>
              <a:off x="1752480" y="4191120"/>
              <a:ext cx="144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-30 m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5" name="Group 8"/>
          <p:cNvGrpSpPr/>
          <p:nvPr/>
        </p:nvGrpSpPr>
        <p:grpSpPr>
          <a:xfrm>
            <a:off x="228600" y="2286000"/>
            <a:ext cx="1523880" cy="1828800"/>
            <a:chOff x="228600" y="2286000"/>
            <a:chExt cx="1523880" cy="1828800"/>
          </a:xfrm>
        </p:grpSpPr>
        <p:sp>
          <p:nvSpPr>
            <p:cNvPr id="3196" name="Line 9"/>
            <p:cNvSpPr/>
            <p:nvPr/>
          </p:nvSpPr>
          <p:spPr>
            <a:xfrm flipV="1">
              <a:off x="1523880" y="2286000"/>
              <a:ext cx="0" cy="1828800"/>
            </a:xfrm>
            <a:prstGeom prst="line">
              <a:avLst/>
            </a:prstGeom>
            <a:ln w="3816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Text Box 10"/>
            <p:cNvSpPr/>
            <p:nvPr/>
          </p:nvSpPr>
          <p:spPr>
            <a:xfrm>
              <a:off x="228600" y="266688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+40 m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8" name="Group 11"/>
          <p:cNvGrpSpPr/>
          <p:nvPr/>
        </p:nvGrpSpPr>
        <p:grpSpPr>
          <a:xfrm>
            <a:off x="1523880" y="2286000"/>
            <a:ext cx="1371600" cy="1770120"/>
            <a:chOff x="1523880" y="2286000"/>
            <a:chExt cx="1371600" cy="1770120"/>
          </a:xfrm>
        </p:grpSpPr>
        <p:sp>
          <p:nvSpPr>
            <p:cNvPr id="3199" name="Line 12"/>
            <p:cNvSpPr/>
            <p:nvPr/>
          </p:nvSpPr>
          <p:spPr>
            <a:xfrm flipH="1" flipV="1">
              <a:off x="1523880" y="2286000"/>
              <a:ext cx="1371600" cy="1752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Text Box 13"/>
            <p:cNvSpPr/>
            <p:nvPr/>
          </p:nvSpPr>
          <p:spPr>
            <a:xfrm>
              <a:off x="2057400" y="2590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Text Box 14"/>
            <p:cNvSpPr/>
            <p:nvPr/>
          </p:nvSpPr>
          <p:spPr>
            <a:xfrm>
              <a:off x="2209680" y="3505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2" name="Text Box 15"/>
          <p:cNvSpPr/>
          <p:nvPr/>
        </p:nvSpPr>
        <p:spPr>
          <a:xfrm>
            <a:off x="4343400" y="2743200"/>
            <a:ext cx="25909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 = R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+ R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ahoma"/>
              </a:rPr>
              <a:t>y 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Text Box 16"/>
          <p:cNvSpPr/>
          <p:nvPr/>
        </p:nvSpPr>
        <p:spPr>
          <a:xfrm>
            <a:off x="4343400" y="4343400"/>
            <a:ext cx="3276720" cy="7315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 = -30 i + 40 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Text Box 17"/>
          <p:cNvSpPr/>
          <p:nvPr/>
        </p:nvSpPr>
        <p:spPr>
          <a:xfrm>
            <a:off x="3581280" y="3505320"/>
            <a:ext cx="23623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= - 3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Text Box 18"/>
          <p:cNvSpPr/>
          <p:nvPr/>
        </p:nvSpPr>
        <p:spPr>
          <a:xfrm>
            <a:off x="6248520" y="3505320"/>
            <a:ext cx="23619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= + 4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Text Box 19"/>
          <p:cNvSpPr/>
          <p:nvPr/>
        </p:nvSpPr>
        <p:spPr>
          <a:xfrm>
            <a:off x="3581280" y="205740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 i,j notation, we hav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Text Box 20"/>
          <p:cNvSpPr/>
          <p:nvPr/>
        </p:nvSpPr>
        <p:spPr>
          <a:xfrm>
            <a:off x="1371600" y="5486400"/>
            <a:ext cx="6934320" cy="10076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isplacement is 30 m west and 40 m north of the starting pos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2" dur="500"/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7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5" dur="5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3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Tahoma"/>
              </a:rPr>
              <a:t>Example 4 (Cont.):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we find her displacement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,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ation.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grpSp>
        <p:nvGrpSpPr>
          <p:cNvPr id="3209" name="Group 36"/>
          <p:cNvGrpSpPr/>
          <p:nvPr/>
        </p:nvGrpSpPr>
        <p:grpSpPr>
          <a:xfrm>
            <a:off x="838080" y="1523880"/>
            <a:ext cx="2743200" cy="2514600"/>
            <a:chOff x="838080" y="1523880"/>
            <a:chExt cx="2743200" cy="2514600"/>
          </a:xfrm>
        </p:grpSpPr>
        <p:sp>
          <p:nvSpPr>
            <p:cNvPr id="3210" name="Rectangle 33"/>
            <p:cNvSpPr/>
            <p:nvPr/>
          </p:nvSpPr>
          <p:spPr>
            <a:xfrm>
              <a:off x="914400" y="1523880"/>
              <a:ext cx="2666880" cy="2514600"/>
            </a:xfrm>
            <a:prstGeom prst="rect">
              <a:avLst/>
            </a:prstGeom>
            <a:solidFill>
              <a:srgbClr val="800000"/>
            </a:solidFill>
            <a:ln w="5724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Line 4"/>
            <p:cNvSpPr/>
            <p:nvPr/>
          </p:nvSpPr>
          <p:spPr>
            <a:xfrm>
              <a:off x="1506600" y="3224160"/>
              <a:ext cx="19224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Line 5"/>
            <p:cNvSpPr/>
            <p:nvPr/>
          </p:nvSpPr>
          <p:spPr>
            <a:xfrm>
              <a:off x="2995560" y="1676520"/>
              <a:ext cx="0" cy="1869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Line 7"/>
            <p:cNvSpPr/>
            <p:nvPr/>
          </p:nvSpPr>
          <p:spPr>
            <a:xfrm flipH="1">
              <a:off x="1792440" y="3224160"/>
              <a:ext cx="1179360" cy="0"/>
            </a:xfrm>
            <a:prstGeom prst="line">
              <a:avLst/>
            </a:prstGeom>
            <a:ln w="3816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Text Box 8"/>
            <p:cNvSpPr/>
            <p:nvPr/>
          </p:nvSpPr>
          <p:spPr>
            <a:xfrm>
              <a:off x="1785960" y="3287880"/>
              <a:ext cx="117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-30 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Line 10"/>
            <p:cNvSpPr/>
            <p:nvPr/>
          </p:nvSpPr>
          <p:spPr>
            <a:xfrm flipV="1">
              <a:off x="1816200" y="1676160"/>
              <a:ext cx="0" cy="1547640"/>
            </a:xfrm>
            <a:prstGeom prst="line">
              <a:avLst/>
            </a:prstGeom>
            <a:ln w="3816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Text Box 11"/>
            <p:cNvSpPr/>
            <p:nvPr/>
          </p:nvSpPr>
          <p:spPr>
            <a:xfrm>
              <a:off x="838080" y="1981080"/>
              <a:ext cx="1067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+40 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Line 13"/>
            <p:cNvSpPr/>
            <p:nvPr/>
          </p:nvSpPr>
          <p:spPr>
            <a:xfrm flipH="1" flipV="1">
              <a:off x="1816200" y="1676520"/>
              <a:ext cx="1116000" cy="1482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Text Box 14"/>
            <p:cNvSpPr/>
            <p:nvPr/>
          </p:nvSpPr>
          <p:spPr>
            <a:xfrm>
              <a:off x="2249640" y="1933560"/>
              <a:ext cx="496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Text Box 15"/>
            <p:cNvSpPr/>
            <p:nvPr/>
          </p:nvSpPr>
          <p:spPr>
            <a:xfrm>
              <a:off x="2374920" y="2708280"/>
              <a:ext cx="495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0" name="Text Box 26"/>
          <p:cNvSpPr/>
          <p:nvPr/>
        </p:nvSpPr>
        <p:spPr>
          <a:xfrm>
            <a:off x="4724280" y="3581280"/>
            <a:ext cx="2210040" cy="5814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26.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Text Box 29"/>
          <p:cNvSpPr/>
          <p:nvPr/>
        </p:nvSpPr>
        <p:spPr>
          <a:xfrm>
            <a:off x="2286000" y="5791320"/>
            <a:ext cx="4800600" cy="5814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R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= (50 m, 126.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2" name="Object 31"/>
          <p:cNvGraphicFramePr/>
          <p:nvPr/>
        </p:nvGraphicFramePr>
        <p:xfrm>
          <a:off x="1143000" y="4648320"/>
          <a:ext cx="4191120" cy="91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3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648320"/>
                    <a:ext cx="419112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4" name="Text Box 32"/>
          <p:cNvSpPr/>
          <p:nvPr/>
        </p:nvSpPr>
        <p:spPr>
          <a:xfrm>
            <a:off x="5867280" y="4800600"/>
            <a:ext cx="1981440" cy="5814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5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Text Box 35"/>
          <p:cNvSpPr/>
          <p:nvPr/>
        </p:nvSpPr>
        <p:spPr>
          <a:xfrm>
            <a:off x="4495680" y="2743200"/>
            <a:ext cx="335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= 18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– 53.13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6" name="TextBox 1" descr=""/>
          <p:cNvPicPr/>
          <p:nvPr/>
        </p:nvPicPr>
        <p:blipFill>
          <a:blip r:embed="rId3"/>
          <a:stretch/>
        </p:blipFill>
        <p:spPr>
          <a:xfrm>
            <a:off x="4419720" y="1450800"/>
            <a:ext cx="4346280" cy="6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0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9" dur="500"/>
                                        <p:tgtEl>
                                          <p:spTgt spid="3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BAF6-6335-4D65-999A-587E765403C9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737F-1BDD-4DC3-94DF-E19EA8309679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9" name="Picture 2" descr=""/>
          <p:cNvPicPr/>
          <p:nvPr/>
        </p:nvPicPr>
        <p:blipFill>
          <a:blip r:embed="rId1"/>
          <a:stretch/>
        </p:blipFill>
        <p:spPr>
          <a:xfrm>
            <a:off x="20520" y="609480"/>
            <a:ext cx="912348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0" name="Picture 2" descr=""/>
          <p:cNvPicPr/>
          <p:nvPr/>
        </p:nvPicPr>
        <p:blipFill>
          <a:blip r:embed="rId1"/>
          <a:stretch/>
        </p:blipFill>
        <p:spPr>
          <a:xfrm>
            <a:off x="14400" y="1719360"/>
            <a:ext cx="91152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TextBox 1"/>
          <p:cNvSpPr/>
          <p:nvPr/>
        </p:nvSpPr>
        <p:spPr>
          <a:xfrm>
            <a:off x="2743200" y="380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2" name="Picture 2" descr=""/>
          <p:cNvPicPr/>
          <p:nvPr/>
        </p:nvPicPr>
        <p:blipFill>
          <a:blip r:embed="rId1"/>
          <a:stretch/>
        </p:blipFill>
        <p:spPr>
          <a:xfrm>
            <a:off x="990720" y="1424160"/>
            <a:ext cx="7238880" cy="704520"/>
          </a:xfrm>
          <a:prstGeom prst="rect">
            <a:avLst/>
          </a:prstGeom>
          <a:ln w="0">
            <a:noFill/>
          </a:ln>
        </p:spPr>
      </p:pic>
      <p:sp>
        <p:nvSpPr>
          <p:cNvPr id="3233" name="TextBox 3"/>
          <p:cNvSpPr/>
          <p:nvPr/>
        </p:nvSpPr>
        <p:spPr>
          <a:xfrm>
            <a:off x="5257800" y="3809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itude =4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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D60E-A00C-4BF0-9C36-4EF9C62E22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verting Polar to Rectangul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236" name="Rectangle 3" descr=""/>
          <p:cNvPicPr/>
          <p:nvPr/>
        </p:nvPicPr>
        <p:blipFill>
          <a:blip r:embed="rId1"/>
          <a:stretch/>
        </p:blipFill>
        <p:spPr>
          <a:xfrm>
            <a:off x="407880" y="1523880"/>
            <a:ext cx="8309160" cy="4608720"/>
          </a:xfrm>
          <a:prstGeom prst="rect">
            <a:avLst/>
          </a:prstGeom>
          <a:ln w="0">
            <a:noFill/>
          </a:ln>
        </p:spPr>
      </p:pic>
      <p:sp>
        <p:nvSpPr>
          <p:cNvPr id="3237" name="Line 4"/>
          <p:cNvSpPr/>
          <p:nvPr/>
        </p:nvSpPr>
        <p:spPr>
          <a:xfrm>
            <a:off x="7094520" y="2589120"/>
            <a:ext cx="0" cy="160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Line 5"/>
          <p:cNvSpPr/>
          <p:nvPr/>
        </p:nvSpPr>
        <p:spPr>
          <a:xfrm>
            <a:off x="6377040" y="3726000"/>
            <a:ext cx="238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Text Box 6"/>
          <p:cNvSpPr/>
          <p:nvPr/>
        </p:nvSpPr>
        <p:spPr>
          <a:xfrm>
            <a:off x="7878600" y="2733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Line 7"/>
          <p:cNvSpPr/>
          <p:nvPr/>
        </p:nvSpPr>
        <p:spPr>
          <a:xfrm flipV="1">
            <a:off x="7068960" y="3021120"/>
            <a:ext cx="900360" cy="704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Line 8"/>
          <p:cNvSpPr/>
          <p:nvPr/>
        </p:nvSpPr>
        <p:spPr>
          <a:xfrm>
            <a:off x="8048520" y="3033720"/>
            <a:ext cx="0" cy="692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Text Box 9"/>
          <p:cNvSpPr/>
          <p:nvPr/>
        </p:nvSpPr>
        <p:spPr>
          <a:xfrm>
            <a:off x="7261200" y="343692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Text Box 10"/>
          <p:cNvSpPr/>
          <p:nvPr/>
        </p:nvSpPr>
        <p:spPr>
          <a:xfrm>
            <a:off x="7396200" y="29527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AutoShape 11"/>
          <p:cNvSpPr/>
          <p:nvPr/>
        </p:nvSpPr>
        <p:spPr>
          <a:xfrm rot="5400000">
            <a:off x="7491960" y="3418560"/>
            <a:ext cx="182520" cy="939960"/>
          </a:xfrm>
          <a:custGeom>
            <a:avLst/>
            <a:gdLst>
              <a:gd name="textAreaLeft" fmla="*/ 0 w 182520"/>
              <a:gd name="textAreaRight" fmla="*/ 65880 w 182520"/>
              <a:gd name="textAreaTop" fmla="*/ 24480 h 939960"/>
              <a:gd name="textAreaBottom" fmla="*/ 91548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Text Box 12"/>
          <p:cNvSpPr/>
          <p:nvPr/>
        </p:nvSpPr>
        <p:spPr>
          <a:xfrm>
            <a:off x="7461360" y="398772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AutoShape 13"/>
          <p:cNvSpPr/>
          <p:nvPr/>
        </p:nvSpPr>
        <p:spPr>
          <a:xfrm>
            <a:off x="8153280" y="3006720"/>
            <a:ext cx="142920" cy="692280"/>
          </a:xfrm>
          <a:custGeom>
            <a:avLst/>
            <a:gdLst>
              <a:gd name="textAreaLeft" fmla="*/ 0 w 142920"/>
              <a:gd name="textAreaRight" fmla="*/ 51480 w 142920"/>
              <a:gd name="textAreaTop" fmla="*/ 18000 h 692280"/>
              <a:gd name="textAreaBottom" fmla="*/ 67428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Text Box 14"/>
          <p:cNvSpPr/>
          <p:nvPr/>
        </p:nvSpPr>
        <p:spPr>
          <a:xfrm>
            <a:off x="8298000" y="3149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VECT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NY quantity in physics that has BOTH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AGNITU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IR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0" name=""/>
          <p:cNvGraphicFramePr/>
          <p:nvPr/>
        </p:nvGraphicFramePr>
        <p:xfrm>
          <a:off x="4648320" y="1600200"/>
          <a:ext cx="4038480" cy="25257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884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ct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gnitude &amp; Dire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/s, 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/s/s, 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N, We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741" name="Object 21"/>
              <p:cNvSpPr txBox="1"/>
              <p:nvPr/>
            </p:nvSpPr>
            <p:spPr>
              <a:xfrm>
                <a:off x="762120" y="4419720"/>
                <a:ext cx="328428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742" name="Text Box 22"/>
          <p:cNvSpPr/>
          <p:nvPr/>
        </p:nvSpPr>
        <p:spPr>
          <a:xfrm>
            <a:off x="4403880" y="4456080"/>
            <a:ext cx="420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s are typically illustrated by drawing an ARROW above the symbol. The arrow is used to convey direction and magnit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s of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VECTOR ADDI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If 2 similar vectors point in the SAME direction, add the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ample: A man walks 54.5 meters east, then another 30 meters east. Calculate his displacement relative to where he starte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Line 4"/>
          <p:cNvSpPr/>
          <p:nvPr/>
        </p:nvSpPr>
        <p:spPr>
          <a:xfrm>
            <a:off x="1066680" y="4038480"/>
            <a:ext cx="24386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Line 5"/>
          <p:cNvSpPr/>
          <p:nvPr/>
        </p:nvSpPr>
        <p:spPr>
          <a:xfrm>
            <a:off x="3505320" y="40384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6"/>
          <p:cNvSpPr/>
          <p:nvPr/>
        </p:nvSpPr>
        <p:spPr>
          <a:xfrm>
            <a:off x="1661760" y="35416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.5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Text Box 7"/>
          <p:cNvSpPr/>
          <p:nvPr/>
        </p:nvSpPr>
        <p:spPr>
          <a:xfrm>
            <a:off x="3795480" y="35416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8"/>
          <p:cNvSpPr/>
          <p:nvPr/>
        </p:nvSpPr>
        <p:spPr>
          <a:xfrm>
            <a:off x="3261960" y="3465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Line 9"/>
          <p:cNvSpPr/>
          <p:nvPr/>
        </p:nvSpPr>
        <p:spPr>
          <a:xfrm>
            <a:off x="914400" y="4952880"/>
            <a:ext cx="4419720" cy="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Text Box 10"/>
          <p:cNvSpPr/>
          <p:nvPr/>
        </p:nvSpPr>
        <p:spPr>
          <a:xfrm>
            <a:off x="2576160" y="45324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.5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Text Box 11"/>
          <p:cNvSpPr/>
          <p:nvPr/>
        </p:nvSpPr>
        <p:spPr>
          <a:xfrm>
            <a:off x="6080040" y="3618000"/>
            <a:ext cx="260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SIZE of the arrow convey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GNITU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 way it was drawn convey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s of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ECTOR SUBT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f 2 vectors are going in opposite directions, you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TR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A man walks 54.5 meters east, then 30 meters west. Calculate his displacement relative to where he sta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Line 4"/>
          <p:cNvSpPr/>
          <p:nvPr/>
        </p:nvSpPr>
        <p:spPr>
          <a:xfrm>
            <a:off x="1066680" y="4495680"/>
            <a:ext cx="24386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5"/>
          <p:cNvSpPr/>
          <p:nvPr/>
        </p:nvSpPr>
        <p:spPr>
          <a:xfrm>
            <a:off x="1677960" y="40384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.5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Line 6"/>
          <p:cNvSpPr/>
          <p:nvPr/>
        </p:nvSpPr>
        <p:spPr>
          <a:xfrm flipH="1">
            <a:off x="1981080" y="4572000"/>
            <a:ext cx="1447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Text Box 7"/>
          <p:cNvSpPr/>
          <p:nvPr/>
        </p:nvSpPr>
        <p:spPr>
          <a:xfrm>
            <a:off x="2423520" y="45324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m,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Text Box 8"/>
          <p:cNvSpPr/>
          <p:nvPr/>
        </p:nvSpPr>
        <p:spPr>
          <a:xfrm>
            <a:off x="3566880" y="4227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Line 9"/>
          <p:cNvSpPr/>
          <p:nvPr/>
        </p:nvSpPr>
        <p:spPr>
          <a:xfrm>
            <a:off x="1066680" y="5105520"/>
            <a:ext cx="914400" cy="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Text Box 10"/>
          <p:cNvSpPr/>
          <p:nvPr/>
        </p:nvSpPr>
        <p:spPr>
          <a:xfrm>
            <a:off x="1068120" y="51055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.5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n-Collinear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2 vectors ar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erpendicul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you must use 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ythagorean theore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Line 4"/>
          <p:cNvSpPr/>
          <p:nvPr/>
        </p:nvSpPr>
        <p:spPr>
          <a:xfrm>
            <a:off x="838080" y="4800600"/>
            <a:ext cx="2819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Text Box 5"/>
          <p:cNvSpPr/>
          <p:nvPr/>
        </p:nvSpPr>
        <p:spPr>
          <a:xfrm>
            <a:off x="1678320" y="48769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 km,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Line 6"/>
          <p:cNvSpPr/>
          <p:nvPr/>
        </p:nvSpPr>
        <p:spPr>
          <a:xfrm flipV="1">
            <a:off x="3657600" y="3200040"/>
            <a:ext cx="0" cy="1523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Text Box 7"/>
          <p:cNvSpPr/>
          <p:nvPr/>
        </p:nvSpPr>
        <p:spPr>
          <a:xfrm>
            <a:off x="3795840" y="36180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 km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AutoShape 8"/>
          <p:cNvSpPr/>
          <p:nvPr/>
        </p:nvSpPr>
        <p:spPr>
          <a:xfrm>
            <a:off x="533520" y="4876920"/>
            <a:ext cx="609480" cy="914400"/>
          </a:xfrm>
          <a:prstGeom prst="upArrowCallout">
            <a:avLst>
              <a:gd name="adj1" fmla="val 25002"/>
              <a:gd name="adj2" fmla="val 25000"/>
              <a:gd name="adj3" fmla="val 25005"/>
              <a:gd name="adj4" fmla="val 666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AutoShape 9"/>
          <p:cNvSpPr/>
          <p:nvPr/>
        </p:nvSpPr>
        <p:spPr>
          <a:xfrm>
            <a:off x="3352680" y="2286000"/>
            <a:ext cx="609840" cy="914400"/>
          </a:xfrm>
          <a:prstGeom prst="downArrowCallout">
            <a:avLst>
              <a:gd name="adj1" fmla="val 25002"/>
              <a:gd name="adj2" fmla="val 25000"/>
              <a:gd name="adj3" fmla="val 24990"/>
              <a:gd name="adj4" fmla="val 6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Text Box 10"/>
          <p:cNvSpPr/>
          <p:nvPr/>
        </p:nvSpPr>
        <p:spPr>
          <a:xfrm>
            <a:off x="4876920" y="19051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n walks 95 km, East then 55 km, north. Calculate his RESULTANT DISPLAC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Line 11"/>
          <p:cNvSpPr/>
          <p:nvPr/>
        </p:nvSpPr>
        <p:spPr>
          <a:xfrm flipV="1">
            <a:off x="838080" y="3200040"/>
            <a:ext cx="2743200" cy="1523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Text Box 12"/>
          <p:cNvSpPr/>
          <p:nvPr/>
        </p:nvSpPr>
        <p:spPr>
          <a:xfrm>
            <a:off x="304920" y="2438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ypotenuse in Physics is called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SUL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Line 13"/>
          <p:cNvSpPr/>
          <p:nvPr/>
        </p:nvSpPr>
        <p:spPr>
          <a:xfrm>
            <a:off x="1676520" y="3048120"/>
            <a:ext cx="60948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Text Box 14"/>
          <p:cNvSpPr/>
          <p:nvPr/>
        </p:nvSpPr>
        <p:spPr>
          <a:xfrm>
            <a:off x="1374840" y="5562720"/>
            <a:ext cx="58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GS of the triangle are called th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Line 15"/>
          <p:cNvSpPr/>
          <p:nvPr/>
        </p:nvSpPr>
        <p:spPr>
          <a:xfrm flipH="1" flipV="1">
            <a:off x="3123720" y="495288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Text Box 16"/>
          <p:cNvSpPr/>
          <p:nvPr/>
        </p:nvSpPr>
        <p:spPr>
          <a:xfrm>
            <a:off x="1220760" y="4419720"/>
            <a:ext cx="21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izontal 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Line 17"/>
          <p:cNvSpPr/>
          <p:nvPr/>
        </p:nvSpPr>
        <p:spPr>
          <a:xfrm flipH="1" flipV="1">
            <a:off x="3733560" y="4267080"/>
            <a:ext cx="53316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Text Box 18"/>
          <p:cNvSpPr/>
          <p:nvPr/>
        </p:nvSpPr>
        <p:spPr>
          <a:xfrm>
            <a:off x="3962520" y="40384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tical 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9" name="Object 19"/>
              <p:cNvSpPr txBox="1"/>
              <p:nvPr/>
            </p:nvSpPr>
            <p:spPr>
              <a:xfrm>
                <a:off x="5234040" y="2971800"/>
                <a:ext cx="339876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Resultant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05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5" dur="5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2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2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T……what about the direct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revious example, DISPLACEMENT was asked for and since it is a VECTOR we should include a DIRECTION on our final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Line 4"/>
          <p:cNvSpPr/>
          <p:nvPr/>
        </p:nvSpPr>
        <p:spPr>
          <a:xfrm>
            <a:off x="838080" y="4800600"/>
            <a:ext cx="2819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Line 5"/>
          <p:cNvSpPr/>
          <p:nvPr/>
        </p:nvSpPr>
        <p:spPr>
          <a:xfrm flipV="1">
            <a:off x="3657600" y="3200040"/>
            <a:ext cx="0" cy="1523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Line 6"/>
          <p:cNvSpPr/>
          <p:nvPr/>
        </p:nvSpPr>
        <p:spPr>
          <a:xfrm flipV="1">
            <a:off x="838080" y="3200040"/>
            <a:ext cx="2743200" cy="1523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Text Box 7"/>
          <p:cNvSpPr/>
          <p:nvPr/>
        </p:nvSpPr>
        <p:spPr>
          <a:xfrm>
            <a:off x="669960" y="5065560"/>
            <a:ext cx="474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drawing a right triangle that conveys some type of motion, you MUST draw your component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AD TO TO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Oval 8"/>
          <p:cNvSpPr/>
          <p:nvPr/>
        </p:nvSpPr>
        <p:spPr>
          <a:xfrm>
            <a:off x="3200400" y="4343400"/>
            <a:ext cx="83808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Line 9"/>
          <p:cNvSpPr/>
          <p:nvPr/>
        </p:nvSpPr>
        <p:spPr>
          <a:xfrm flipH="1" flipV="1">
            <a:off x="3657240" y="4724280"/>
            <a:ext cx="1522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Line 10"/>
          <p:cNvSpPr/>
          <p:nvPr/>
        </p:nvSpPr>
        <p:spPr>
          <a:xfrm>
            <a:off x="6629400" y="3124080"/>
            <a:ext cx="0" cy="2590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Line 11"/>
          <p:cNvSpPr/>
          <p:nvPr/>
        </p:nvSpPr>
        <p:spPr>
          <a:xfrm>
            <a:off x="5181480" y="4419720"/>
            <a:ext cx="2971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Text Box 12"/>
          <p:cNvSpPr/>
          <p:nvPr/>
        </p:nvSpPr>
        <p:spPr>
          <a:xfrm>
            <a:off x="6463080" y="2703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Text Box 13"/>
          <p:cNvSpPr/>
          <p:nvPr/>
        </p:nvSpPr>
        <p:spPr>
          <a:xfrm>
            <a:off x="647892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Text Box 14"/>
          <p:cNvSpPr/>
          <p:nvPr/>
        </p:nvSpPr>
        <p:spPr>
          <a:xfrm>
            <a:off x="8139240" y="4227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Text Box 15"/>
          <p:cNvSpPr/>
          <p:nvPr/>
        </p:nvSpPr>
        <p:spPr>
          <a:xfrm>
            <a:off x="4649760" y="4267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16"/>
          <p:cNvSpPr/>
          <p:nvPr/>
        </p:nvSpPr>
        <p:spPr>
          <a:xfrm flipV="1">
            <a:off x="6705720" y="3276360"/>
            <a:ext cx="12189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Arc 17"/>
          <p:cNvSpPr/>
          <p:nvPr/>
        </p:nvSpPr>
        <p:spPr>
          <a:xfrm>
            <a:off x="7162920" y="3962520"/>
            <a:ext cx="7596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Text Box 18"/>
          <p:cNvSpPr/>
          <p:nvPr/>
        </p:nvSpPr>
        <p:spPr>
          <a:xfrm>
            <a:off x="7377120" y="36939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of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Text Box 19"/>
          <p:cNvSpPr/>
          <p:nvPr/>
        </p:nvSpPr>
        <p:spPr>
          <a:xfrm>
            <a:off x="6615000" y="33130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of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Line 20"/>
          <p:cNvSpPr/>
          <p:nvPr/>
        </p:nvSpPr>
        <p:spPr>
          <a:xfrm flipH="1">
            <a:off x="5409720" y="4495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Text Box 21"/>
          <p:cNvSpPr/>
          <p:nvPr/>
        </p:nvSpPr>
        <p:spPr>
          <a:xfrm>
            <a:off x="5395320" y="4532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f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Text Box 22"/>
          <p:cNvSpPr/>
          <p:nvPr/>
        </p:nvSpPr>
        <p:spPr>
          <a:xfrm>
            <a:off x="5699880" y="52941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of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Line 23"/>
          <p:cNvSpPr/>
          <p:nvPr/>
        </p:nvSpPr>
        <p:spPr>
          <a:xfrm flipH="1" flipV="1">
            <a:off x="5105160" y="3352680"/>
            <a:ext cx="1447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Text Box 24"/>
          <p:cNvSpPr/>
          <p:nvPr/>
        </p:nvSpPr>
        <p:spPr>
          <a:xfrm>
            <a:off x="5243040" y="392256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of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Text Box 25"/>
          <p:cNvSpPr/>
          <p:nvPr/>
        </p:nvSpPr>
        <p:spPr>
          <a:xfrm>
            <a:off x="5547960" y="323676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of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Line 26"/>
          <p:cNvSpPr/>
          <p:nvPr/>
        </p:nvSpPr>
        <p:spPr>
          <a:xfrm>
            <a:off x="6705720" y="4495680"/>
            <a:ext cx="12189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Text Box 27"/>
          <p:cNvSpPr/>
          <p:nvPr/>
        </p:nvSpPr>
        <p:spPr>
          <a:xfrm>
            <a:off x="7300440" y="45324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f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Text Box 28"/>
          <p:cNvSpPr/>
          <p:nvPr/>
        </p:nvSpPr>
        <p:spPr>
          <a:xfrm>
            <a:off x="6690960" y="52941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of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Text Box 29"/>
          <p:cNvSpPr/>
          <p:nvPr/>
        </p:nvSpPr>
        <p:spPr>
          <a:xfrm>
            <a:off x="1449360" y="4419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of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5" dur="5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0" dur="20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2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BUT…..what about the VALUE of the angle??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putting North of East on the answer is NOT specific enough for the direction. We MUST find the VALUE of the ang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Line 4"/>
          <p:cNvSpPr/>
          <p:nvPr/>
        </p:nvSpPr>
        <p:spPr>
          <a:xfrm>
            <a:off x="838080" y="4800600"/>
            <a:ext cx="2819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Line 5"/>
          <p:cNvSpPr/>
          <p:nvPr/>
        </p:nvSpPr>
        <p:spPr>
          <a:xfrm flipV="1">
            <a:off x="3657600" y="3200040"/>
            <a:ext cx="0" cy="1523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Line 6"/>
          <p:cNvSpPr/>
          <p:nvPr/>
        </p:nvSpPr>
        <p:spPr>
          <a:xfrm flipV="1">
            <a:off x="838080" y="3200040"/>
            <a:ext cx="2743200" cy="1523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Text Box 7"/>
          <p:cNvSpPr/>
          <p:nvPr/>
        </p:nvSpPr>
        <p:spPr>
          <a:xfrm>
            <a:off x="1449360" y="4419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of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Text Box 8"/>
          <p:cNvSpPr/>
          <p:nvPr/>
        </p:nvSpPr>
        <p:spPr>
          <a:xfrm>
            <a:off x="3795840" y="36180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 km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Text Box 9"/>
          <p:cNvSpPr/>
          <p:nvPr/>
        </p:nvSpPr>
        <p:spPr>
          <a:xfrm>
            <a:off x="1678320" y="48769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 km,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Text Box 10"/>
          <p:cNvSpPr/>
          <p:nvPr/>
        </p:nvSpPr>
        <p:spPr>
          <a:xfrm>
            <a:off x="5105520" y="266688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nd the value of the angle we use a Trig function called TANG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7" name="Object 11"/>
              <p:cNvSpPr txBox="1"/>
              <p:nvPr/>
            </p:nvSpPr>
            <p:spPr>
              <a:xfrm>
                <a:off x="4495680" y="4038480"/>
                <a:ext cx="40388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osit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djace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89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89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8" name="Text Box 12"/>
          <p:cNvSpPr/>
          <p:nvPr/>
        </p:nvSpPr>
        <p:spPr>
          <a:xfrm>
            <a:off x="1144800" y="44197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Text Box 13"/>
          <p:cNvSpPr/>
          <p:nvPr/>
        </p:nvSpPr>
        <p:spPr>
          <a:xfrm>
            <a:off x="1510200" y="33894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9.8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Text Box 14"/>
          <p:cNvSpPr/>
          <p:nvPr/>
        </p:nvSpPr>
        <p:spPr>
          <a:xfrm>
            <a:off x="444240" y="5675400"/>
            <a:ext cx="77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COMPLETE final answer is :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9.8 km, 30 degrees North of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f you are missing a component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se a person walked 65 m, 25 degrees East of North. What were his horizontal and vertical componen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Line 4"/>
          <p:cNvSpPr/>
          <p:nvPr/>
        </p:nvSpPr>
        <p:spPr>
          <a:xfrm>
            <a:off x="1219320" y="2209680"/>
            <a:ext cx="0" cy="2514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Line 5"/>
          <p:cNvSpPr/>
          <p:nvPr/>
        </p:nvSpPr>
        <p:spPr>
          <a:xfrm>
            <a:off x="380880" y="3505320"/>
            <a:ext cx="2057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Line 6"/>
          <p:cNvSpPr/>
          <p:nvPr/>
        </p:nvSpPr>
        <p:spPr>
          <a:xfrm flipV="1">
            <a:off x="1219320" y="2209320"/>
            <a:ext cx="91440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7"/>
          <p:cNvSpPr/>
          <p:nvPr/>
        </p:nvSpPr>
        <p:spPr>
          <a:xfrm>
            <a:off x="1679040" y="28432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Text Box 8"/>
          <p:cNvSpPr/>
          <p:nvPr/>
        </p:nvSpPr>
        <p:spPr>
          <a:xfrm>
            <a:off x="1144440" y="27669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Line 9"/>
          <p:cNvSpPr/>
          <p:nvPr/>
        </p:nvSpPr>
        <p:spPr>
          <a:xfrm>
            <a:off x="1219320" y="2209680"/>
            <a:ext cx="8380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Text Box 10"/>
          <p:cNvSpPr/>
          <p:nvPr/>
        </p:nvSpPr>
        <p:spPr>
          <a:xfrm>
            <a:off x="1143000" y="1828800"/>
            <a:ext cx="10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C. =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11"/>
          <p:cNvSpPr/>
          <p:nvPr/>
        </p:nvSpPr>
        <p:spPr>
          <a:xfrm flipV="1">
            <a:off x="1219320" y="2209320"/>
            <a:ext cx="0" cy="1295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Text Box 12"/>
          <p:cNvSpPr/>
          <p:nvPr/>
        </p:nvSpPr>
        <p:spPr>
          <a:xfrm>
            <a:off x="380880" y="251460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.C =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Text Box 13"/>
          <p:cNvSpPr/>
          <p:nvPr/>
        </p:nvSpPr>
        <p:spPr>
          <a:xfrm>
            <a:off x="3581280" y="1600200"/>
            <a:ext cx="4587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WAYS MAKE A RIGHT TRIANG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olve for components, we often use the trig functions since and cos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3" name="Object 14"/>
              <p:cNvSpPr txBox="1"/>
              <p:nvPr/>
            </p:nvSpPr>
            <p:spPr>
              <a:xfrm>
                <a:off x="3124080" y="3048120"/>
                <a:ext cx="5486400" cy="24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ine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djace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otenuse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e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osit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otenus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5:56:29Z</dcterms:created>
  <dc:creator>Kenneth Bowles</dc:creator>
  <dc:description/>
  <dc:language>en-US</dc:language>
  <cp:lastModifiedBy>User</cp:lastModifiedBy>
  <dcterms:modified xsi:type="dcterms:W3CDTF">2015-02-10T06:11:18Z</dcterms:modified>
  <cp:revision>15</cp:revision>
  <dc:subject/>
  <dc:title>Vectors and Scalars</dc:title>
</cp:coreProperties>
</file>