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1.wmf" ContentType="image/x-wmf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ABF628-44CF-4062-8F42-0ED19B420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0BCAFF-572C-4D82-B8F3-904456A7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FEFD-1B22-4031-B629-0280798A2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7CE9-14EB-49A4-A5E1-8AC43E54A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9FC6-7E51-474C-94F9-25226F305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B434-21AD-430F-A38B-8E33709BD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796D0-57F8-4F4C-A4E6-2D8EA6914D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ACC52-1EF0-4E79-BDBC-9D6D1C433E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EBA65-5C87-4950-9EBE-9CA1FA5A18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E67A-FF97-4A30-A393-3F21C9BB81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5380B-9049-4CF3-A220-7A5A126D86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5EBCA-42AD-4541-B4A9-D603B3802F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0A3E7-1226-4782-9C99-2C5A7E13D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EC2C-8758-4501-BB4F-7A17DD8BD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16386-4974-4BC5-8B01-ABBA841687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193CA-EB20-41BF-BACC-7B57EF3459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4CEAA-4E9B-4B10-8779-2D97EBC906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6A6F2-CAE8-472A-95C7-BD0AFDDD7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EC2D7-B765-490B-8C65-17AA2ED5B6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5F42-8E3A-4FB8-B03F-882247C449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6B10-18D4-4380-882A-FC4D931F8C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21A1-6A57-42EB-AB53-E9AEB5475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4D67-5F4A-40EE-8B43-8E304C48B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3876-639C-4034-8E8E-EC31FC52A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403B-CC05-4C18-8134-314362445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E51B-C8D0-4AEE-9552-0A1C9374E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80A8-3A69-496A-8CCD-C965A4D2ADD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B33-9B69-4A6B-96BE-B4DCFD761DD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5040" y="512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Building a Creativ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7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8016A355-D246-40CA-8A65-6D9348EF850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65040" y="1708200"/>
            <a:ext cx="822960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oming market- and customer-driven requi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a company-wide passion for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ing around customer segments instead of produ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ing customers through qualitative and quantitative resear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"/>
          <p:cNvPicPr/>
          <p:nvPr/>
        </p:nvPicPr>
        <p:blipFill>
          <a:blip r:embed="rId1"/>
          <a:srcRect l="0" t="0" r="0" b="17560"/>
          <a:stretch/>
        </p:blipFill>
        <p:spPr>
          <a:xfrm>
            <a:off x="5275440" y="1301760"/>
            <a:ext cx="3392280" cy="14619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5040" y="331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Building a Creativ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45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46" name="TextBox 5" descr=""/>
            <p:cNvPicPr/>
            <p:nvPr/>
          </p:nvPicPr>
          <p:blipFill>
            <a:blip r:embed="rId2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44323B74-6FE2-4941-8826-6137CBCF772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304120" y="1004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334800" y="1254240"/>
            <a:ext cx="82296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eps can a CEO take to cre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ustomer-focused compan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65040" y="2120760"/>
            <a:ext cx="41068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ince senior management of the need to become customer focu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oint a senior marketing officer and marketing task for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t outside guid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 the company’s reward measurement and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re strong marketing tal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 strong in-house marketing training program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762440" y="3005280"/>
            <a:ext cx="3832200" cy="30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ll a modern marketing planning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 an annual marketing excellence recognition progr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ift from a department focus to a process-outcome foc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ower the employ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5040" y="512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Building a Creativ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5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56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2AB5A47C-E421-43FA-ABF0-B115539FD8A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65040" y="1708200"/>
            <a:ext cx="822960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ng customer-oriented isn’t enough on its 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any must also be crea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8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7772400" cy="96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924680" y="384804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4520" y="1630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ocially Responsible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4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65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383C643E-BF89-4606-B60D-B3FC0A544E8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365040" y="140652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ly responsible marketing relies on prop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gal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thical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 responsibility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Corporate Social Responsi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72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D30150DB-B2F6-4F52-9D5D-A2AC36258C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Cause-Related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use-related marke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inks the firm’s contributions to a designated cause to customers engaging directly or indirectly in revenue-producing transactions with the fi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79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02089B2C-E02A-41A2-882B-B3619FDC93D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Cause-Related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55680" y="1235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Cause-Marketing Benefits and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umers may develop a strong, unique bond with the firm that transcends normal marketplace trans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use marketing c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ild brand awarenes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hance brand imag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ablish brand credibilit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oke brand feeling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eate a sense of brand community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licit brand engag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4753080" y="557676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(RED) was a highly publicized effort to raise money for AIDS relief in Africa through partnerships with iconic bra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773680" y="2352600"/>
            <a:ext cx="273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88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4570480A-ECCC-4F12-9F98-F4F532412EE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Social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55680" y="1235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at is social market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use-related marketing supports a cau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ocial marketing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y nonprofit or government organizations furthers a cause, such as ‘exercise more and eat better.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cial marketing campaigns may have objectives related to changing people’s cognition, values, actions or behavio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95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6A585843-949F-42A4-B2D5-45C71B7488C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Social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success factors in developing a social marketing progr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the literature and previous campaig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e target markets that are ready to respo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 a single, do-able behavior in clear, simple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in the benefits in compelling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it easy to adopt the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attention-grabbing messages and me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an education-entertainment approa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302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D3EAE510-5C6D-4F82-9912-73C8D6840E8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Social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2009880" y="5896080"/>
            <a:ext cx="5114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2.4: Social Marketing Planning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117880" y="1297080"/>
            <a:ext cx="51289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Marketing Implement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0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31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a company improve its marketing skil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EA794B82-4A37-4685-A37F-B123671958E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365040" y="140652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rketing implementa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e process that turns marketing plans into action assignments and ensures they accomplish the plan’s stated obj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4189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ing a Holistic  Marketing Organization for the Long Ru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9920" y="2719440"/>
            <a:ext cx="42800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Marketing Implement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7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318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a company improve its marketing skil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8E40CBAE-32A2-4F9E-A5B3-DA552CB09A5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5397480" y="2265480"/>
            <a:ext cx="33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2.5: Characteristics of a Great Marketing Compan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19240" y="1401840"/>
            <a:ext cx="5221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valuation and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5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26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5FBE7C24-9C64-4F29-AF95-DF9E2015326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 types of marketing contro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ual-plan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tabilit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icienc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valuation and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2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3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F77F5419-E130-4563-B1CE-BADB37D4D2E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572160" y="2909880"/>
            <a:ext cx="2571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22.1: Types of Marketing Contro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57040" y="1282680"/>
            <a:ext cx="62978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40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4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2787AD22-B773-4BDA-9E98-D163AEE70A1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459240" y="5135400"/>
            <a:ext cx="289404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5: The Control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422280" y="1501920"/>
            <a:ext cx="4910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 we want to achie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happe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is it happe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we do about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075360" y="1522440"/>
            <a:ext cx="2552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49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5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DE7EEA85-1AC9-4317-AB6E-4B042FCACEC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304920" y="1395360"/>
            <a:ext cx="8145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heck on plan performance, marketers u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le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share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expense-to-sale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6880" y="20952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6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57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B6778A91-AE38-47CD-B516-111A68EDF84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5832360" y="1778040"/>
            <a:ext cx="3311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2.5: Marketing Metric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03120" y="934920"/>
            <a:ext cx="56134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4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65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C45E0DEF-EE66-487B-A76D-4E4668CA067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097760" y="5000760"/>
            <a:ext cx="1851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6: The Control-Chart Model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51000" y="1170000"/>
            <a:ext cx="8145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ing Expense-to-Sale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82520" y="1544760"/>
            <a:ext cx="69310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7040" y="19980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3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74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1B19D2D4-D806-4385-87F2-84E07692027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7505640" y="3220920"/>
            <a:ext cx="121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7: Financial Model of Return on Net Worth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304920" y="723960"/>
            <a:ext cx="814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Financi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62000" y="1292400"/>
            <a:ext cx="71928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rofitability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2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8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DFFCC97E-2DCC-49D5-80B7-907EAE940E9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304920" y="1395360"/>
            <a:ext cx="81453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ing Profitability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 1: Identify functional exp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 2: Assign functional expenses to marketing ent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 3: Prepare a profit-and-loss statement for each marketing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this analysis, the company can form further questions to determine corrective a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rofitability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9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9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54A5D158-F69C-4ABD-A134-73ACC52DDE3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304920" y="1395360"/>
            <a:ext cx="81453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Direct Versus Full Co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using profitability analysis, managers need to decide what types of costs to include, to give an accurate picture of performan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ceable common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traceable common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22-</a:t>
            </a:r>
            <a:fld id="{06A1808F-DAA9-4A2C-9276-E6636BEB7A2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3040" y="1596600"/>
            <a:ext cx="7943760" cy="4956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important trends in marketing practic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keys to effective internal marke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be responsible social market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a company improve its marketing skil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ools are available to help companies monitor and improve their marketing activit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Efficiency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6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97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36EA95D7-CBA1-4FE0-8A40-7A9A42946EB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422280" y="1395360"/>
            <a:ext cx="8028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mpanies have a marketing controller role, to specialize in improving marketing efficienc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track measures such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istics costs as a percentage of s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centage of orders filled cor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centage of on-time delive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 of billing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Strategic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03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404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B8BC7BA8-8E1B-4C0D-86DE-487FBE607AC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401760" y="1395360"/>
            <a:ext cx="8048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company should periodically reassess its strategic approach to the marketplace with a goo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rketing aud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udit examines the company’s marketing environment, objectives, strategies and activi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rketing audit should b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hen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a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od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0440" y="18072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Strategic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10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41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0C949C88-050F-4CD0-B957-995144EA6DB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825480" y="5913360"/>
            <a:ext cx="7445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2.8: The Marketing Excellence Review: Best Practic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319040" y="1308240"/>
            <a:ext cx="613260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he Future of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1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6D38AAAB-8F95-4D4B-BCD0-C362C315A5E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3348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ture trends are likely to result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the marketing department and the rise of holistic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free-spending marketing and the rise of ROI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marketing intuition and the rise of marketing scie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manual marketing and the rise of automated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mass marketing and the rise of precision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he Future of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74D32B7D-4151-4E90-9CF6-9BEA21C261C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344520" y="117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ers need skills and competencies in areas such 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stomer relationship management (CRM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tner relationship management (PRM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base marketing and datamin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act center management and tele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ublic relations marketing (including event and sponsorship marketing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rand-building and brand-asset manag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eriential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grated marketing communic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fitability analysis by segment, customer, and chann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ony Nett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6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x Feature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chard J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4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ss Association Image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. Spencer Green / 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rends in Marketing Practic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27720" y="12600"/>
            <a:ext cx="2835360" cy="846360"/>
            <a:chOff x="6327720" y="12600"/>
            <a:chExt cx="2835360" cy="84636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353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important trends in marketing pract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8349ED77-EBA8-433A-9426-8875A4E9DD6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65040" y="1406520"/>
            <a:ext cx="8136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respond to the changing environment, companies can restructure their business and marketing practices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62120" y="2622600"/>
            <a:ext cx="37782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Outsour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Supplier partn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Customer partn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Mer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680000" y="2622600"/>
            <a:ext cx="37782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Globaliz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Flatte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Focu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Acceler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Empow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579600" y="3987720"/>
            <a:ext cx="7772400" cy="971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512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Internal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2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193" name="TextBox 5" descr=""/>
            <p:cNvPicPr/>
            <p:nvPr/>
          </p:nvPicPr>
          <p:blipFill>
            <a:blip r:embed="rId2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3A7D9FA9-3320-4932-AF2F-A1A65C2DC13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65040" y="140652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marketing requires that everyone in the organization buys into the concepts and goals of marke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can succeed at marketing only when all employees see their own job is to create, serve and satisfy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985160" y="396864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512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ing th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Depart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0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0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BB3D9CB1-47AA-490C-9055-F229B990AEB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65040" y="1406520"/>
            <a:ext cx="82296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departments can be organized in different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Functional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2. Geographic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rganizes sales force on geographic l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May include area marketing specialists to support s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45960" y="4454640"/>
            <a:ext cx="80758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1: Functional Organization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565280" y="2135160"/>
            <a:ext cx="59450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5040" y="2919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ing th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Depart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9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1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E6B0E349-05BE-4452-B373-54470616663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65040" y="1185840"/>
            <a:ext cx="82296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ist cont’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Product- or brand-managemen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560520" y="5400720"/>
            <a:ext cx="34891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2: The Product Manager’s Interaction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616720" y="5084640"/>
            <a:ext cx="30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Kraft has category managers for its different cereals: nutritional, presweetened, family, and so 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092560" y="2490840"/>
            <a:ext cx="3630600" cy="2522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33520" y="1954080"/>
            <a:ext cx="359568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5040" y="2919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ing th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Depart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0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2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4DEEC6D1-B6C8-4181-8E48-7259FDEB395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65040" y="1185840"/>
            <a:ext cx="82296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ist cont’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Product- or brand-managemen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533520" y="2260440"/>
            <a:ext cx="807696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sks performed by product or brand manag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 long-range and competitive strategy for the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pare annual marketing plan and sales foreca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k with advertising and merchandising agencies to develop campaig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 support of the product among channel memb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ther continuous intelligence on product performance, customer attitu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tiate product improv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5440" y="142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ing th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Depart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8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29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937B6753-AD23-46DA-BB27-2DD7376FCAD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53880" y="930240"/>
            <a:ext cx="82296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ist cont’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-managemen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ctivities can be organized according to different markets or customer segmen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trix-managemen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ompanies producing many products for many markets may adopt matrix organiz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5845320" y="3992400"/>
            <a:ext cx="149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4: Product-Market-Management Matrix System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95200" y="3441600"/>
            <a:ext cx="509112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jamebene</cp:lastModifiedBy>
  <dcterms:modified xsi:type="dcterms:W3CDTF">2012-11-12T09:21:05Z</dcterms:modified>
  <cp:revision>82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