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26.jpeg" ContentType="image/jpeg"/>
  <Override PartName="/ppt/media/image19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7.jpeg" ContentType="image/jpeg"/>
  <Override PartName="/ppt/media/image14.png" ContentType="image/png"/>
  <Override PartName="/ppt/media/image24.jpeg" ContentType="image/jpeg"/>
  <Override PartName="/ppt/media/image15.png" ContentType="image/png"/>
  <Override PartName="/ppt/media/image1.wmf" ContentType="image/x-wmf"/>
  <Override PartName="/ppt/media/image3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5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6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7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1FF6646-0153-4884-AEC9-3412D76DBD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4892D74-85B9-4D78-9794-67460D113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820DA-AD07-49F0-9CFC-340E330ED8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BE6DC-1AB6-4025-A5F9-6EAA1C217F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F6561-C8BE-4196-8942-EF793CA9E3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4017F-65BF-4CC7-8E1B-934F5AECBA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CAE09-4F7B-41B8-958F-521DF7C30C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2872E-BF7B-475A-9017-B34A07181A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E157D-DE0F-47AF-B785-ECB1F76C88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5F4AE-72B8-4060-81AF-F681E7076E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DFB79-DD2E-46DE-A3A0-ABF5A82A73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EF289-958D-4F71-ADD3-6A58AB6DAD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7F9EE-6E32-4C58-825C-51C667859B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3F7E1-9B04-41EF-878D-8D6BECBDEE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A17283-49DA-4F1C-B763-3DD5627AE8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616F7-AFB7-4B1B-A1B9-B61474D094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3CABA-CC4E-43C8-8782-10199129E8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C9A8D-5A6A-4F1E-9259-28B61A41F1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DDAF72-BB38-42E7-B6F5-E3D3E642C3E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CFA03-4297-474B-A209-EE98A8F19EC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49ECF-0F90-40C3-8001-20D26F9AF9F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297A9-9DDD-4E09-8599-60DF8BEB17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F8A94-4AF1-47C2-B9E9-A682403122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EFC09-7DA0-468A-B803-8304A6F4EC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41509-981C-4602-9DFA-2034B11278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3DB05-6553-47FE-8CA2-61C30FE1F3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80520" y="6544800"/>
            <a:ext cx="4984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52280" y="6544800"/>
            <a:ext cx="331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B6C9-795E-41E0-B627-4DC418854E40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2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80520" y="6544800"/>
            <a:ext cx="4984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150840" y="6544800"/>
            <a:ext cx="331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18AE-FC52-4D6A-962A-DFB40DA6CFB8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9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5" descr="Always_Learning_Text_Green_RGB"/>
          <p:cNvPicPr/>
          <p:nvPr/>
        </p:nvPicPr>
        <p:blipFill>
          <a:blip r:embed="rId2"/>
          <a:stretch/>
        </p:blipFill>
        <p:spPr>
          <a:xfrm>
            <a:off x="957240" y="2332080"/>
            <a:ext cx="7211880" cy="17384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10" descr="Pearson_Bound_White"/>
          <p:cNvPicPr/>
          <p:nvPr/>
        </p:nvPicPr>
        <p:blipFill>
          <a:blip r:embed="rId3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10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65040" y="51264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Building a Creative Marketing</a:t>
            </a:r>
            <a:br>
              <a:rPr sz="2400"/>
            </a:b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Organizatio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37" name="TextBox 5"/>
          <p:cNvGrpSpPr/>
          <p:nvPr/>
        </p:nvGrpSpPr>
        <p:grpSpPr>
          <a:xfrm>
            <a:off x="6327720" y="12600"/>
            <a:ext cx="2822760" cy="1060560"/>
            <a:chOff x="6327720" y="12600"/>
            <a:chExt cx="2822760" cy="1060560"/>
          </a:xfrm>
        </p:grpSpPr>
        <p:pic>
          <p:nvPicPr>
            <p:cNvPr id="238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2276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What are the keys to effective internal marketing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0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8DA09058-D16C-4907-8FE0-AC52621F50E0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365040" y="1708200"/>
            <a:ext cx="8229600" cy="43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coming market- and customer-driven requir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loping a company-wide passion for custom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ing around customer segments instead of produc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derstanding customers through qualitative and quantitative researc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7" descr=""/>
          <p:cNvPicPr/>
          <p:nvPr/>
        </p:nvPicPr>
        <p:blipFill>
          <a:blip r:embed="rId1"/>
          <a:srcRect l="0" t="0" r="0" b="17560"/>
          <a:stretch/>
        </p:blipFill>
        <p:spPr>
          <a:xfrm>
            <a:off x="5275440" y="1301760"/>
            <a:ext cx="3392280" cy="14619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65040" y="33192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Building a Creative Marketing</a:t>
            </a:r>
            <a:br>
              <a:rPr sz="2400"/>
            </a:b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Organizatio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45" name="TextBox 5"/>
          <p:cNvGrpSpPr/>
          <p:nvPr/>
        </p:nvGrpSpPr>
        <p:grpSpPr>
          <a:xfrm>
            <a:off x="6327720" y="12600"/>
            <a:ext cx="2822760" cy="1060560"/>
            <a:chOff x="6327720" y="12600"/>
            <a:chExt cx="2822760" cy="1060560"/>
          </a:xfrm>
        </p:grpSpPr>
        <p:pic>
          <p:nvPicPr>
            <p:cNvPr id="246" name="TextBox 5" descr=""/>
            <p:cNvPicPr/>
            <p:nvPr/>
          </p:nvPicPr>
          <p:blipFill>
            <a:blip r:embed="rId2"/>
            <a:stretch/>
          </p:blipFill>
          <p:spPr>
            <a:xfrm>
              <a:off x="6327720" y="12600"/>
              <a:ext cx="282276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What are the keys to effective internal marketing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53C8479B-3FBD-45AC-9B50-6457AFBE311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Picture 3" descr="C:\Users\User\AppData\Local\Microsoft\Windows\Temporary Internet Files\Content.IE5\XHNASMRZ\MC900432586[1].png"/>
          <p:cNvPicPr/>
          <p:nvPr/>
        </p:nvPicPr>
        <p:blipFill>
          <a:blip r:embed="rId3"/>
          <a:stretch/>
        </p:blipFill>
        <p:spPr>
          <a:xfrm>
            <a:off x="8304120" y="100476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3"/>
          <p:cNvSpPr/>
          <p:nvPr/>
        </p:nvSpPr>
        <p:spPr>
          <a:xfrm>
            <a:off x="334800" y="1254240"/>
            <a:ext cx="822960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steps can a CEO take to crea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ustomer-focused company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365040" y="2120760"/>
            <a:ext cx="41068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vince senior management of the need to become customer focus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oint a senior marketing officer and marketing task for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t outside guidan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nge the company’s reward measurement and syst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re strong marketing tal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velop strong in-house marketing training program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4762440" y="3005280"/>
            <a:ext cx="3832200" cy="30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stall a modern marketing planning syst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ablish an annual marketing excellence recognition progra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hift from a department focus to a process-outcome focu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power the employe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65040" y="51264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Building a Creative Marketing</a:t>
            </a:r>
            <a:br>
              <a:rPr sz="2400"/>
            </a:b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Organizatio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55" name="TextBox 5"/>
          <p:cNvGrpSpPr/>
          <p:nvPr/>
        </p:nvGrpSpPr>
        <p:grpSpPr>
          <a:xfrm>
            <a:off x="6327720" y="12600"/>
            <a:ext cx="2822760" cy="1060560"/>
            <a:chOff x="6327720" y="12600"/>
            <a:chExt cx="2822760" cy="1060560"/>
          </a:xfrm>
        </p:grpSpPr>
        <p:pic>
          <p:nvPicPr>
            <p:cNvPr id="256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2276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What are the keys to effective internal marketing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94AC92A4-977E-4B32-AF64-DF02FC13FFE4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365040" y="1708200"/>
            <a:ext cx="8229600" cy="43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ing customer-oriented isn’t enough on its ow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mpany must also be crea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8" descr=""/>
          <p:cNvPicPr/>
          <p:nvPr/>
        </p:nvPicPr>
        <p:blipFill>
          <a:blip r:embed="rId2"/>
          <a:stretch/>
        </p:blipFill>
        <p:spPr>
          <a:xfrm>
            <a:off x="539640" y="3860640"/>
            <a:ext cx="7772400" cy="962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User\AppData\Local\Microsoft\Windows\Temporary Internet Files\Content.IE5\XHNASMRZ\MC900432586[1].png"/>
          <p:cNvPicPr/>
          <p:nvPr/>
        </p:nvPicPr>
        <p:blipFill>
          <a:blip r:embed="rId3"/>
          <a:stretch/>
        </p:blipFill>
        <p:spPr>
          <a:xfrm>
            <a:off x="7924680" y="3848040"/>
            <a:ext cx="619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44520" y="16308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Socially Responsible Marketing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64" name="TextBox 5"/>
          <p:cNvGrpSpPr/>
          <p:nvPr/>
        </p:nvGrpSpPr>
        <p:grpSpPr>
          <a:xfrm>
            <a:off x="6327720" y="12600"/>
            <a:ext cx="2822760" cy="1060560"/>
            <a:chOff x="6327720" y="12600"/>
            <a:chExt cx="2822760" cy="1060560"/>
          </a:xfrm>
        </p:grpSpPr>
        <p:pic>
          <p:nvPicPr>
            <p:cNvPr id="265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2276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How can companies be responsible social marketer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5FEFB4EB-DAB6-482B-ABC6-A64D4D72335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365040" y="1406520"/>
            <a:ext cx="82296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cially responsible marketing relies on prop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egal behavi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thical behavi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cial responsibility behavi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ustaina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itle 1"/>
          <p:cNvSpPr/>
          <p:nvPr/>
        </p:nvSpPr>
        <p:spPr>
          <a:xfrm>
            <a:off x="365040" y="682560"/>
            <a:ext cx="82296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Verdana"/>
              </a:rPr>
              <a:t>Corporate Social Responsibilit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TextBox 5"/>
          <p:cNvGrpSpPr/>
          <p:nvPr/>
        </p:nvGrpSpPr>
        <p:grpSpPr>
          <a:xfrm>
            <a:off x="6327720" y="12600"/>
            <a:ext cx="2822760" cy="1060560"/>
            <a:chOff x="6327720" y="12600"/>
            <a:chExt cx="2822760" cy="1060560"/>
          </a:xfrm>
        </p:grpSpPr>
        <p:pic>
          <p:nvPicPr>
            <p:cNvPr id="272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2276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How can companies be responsible social marketer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948EB846-54AA-4277-80A1-A4F274BEC2F8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Title 1"/>
          <p:cNvSpPr/>
          <p:nvPr/>
        </p:nvSpPr>
        <p:spPr>
          <a:xfrm>
            <a:off x="365040" y="682560"/>
            <a:ext cx="82296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Verdana"/>
              </a:rPr>
              <a:t>Cause-Related Market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ause-related market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inks the firm’s contributions to a designated cause to customers engaging directly or indirectly in revenue-producing transactions with the fir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4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TextBox 5"/>
          <p:cNvGrpSpPr/>
          <p:nvPr/>
        </p:nvGrpSpPr>
        <p:grpSpPr>
          <a:xfrm>
            <a:off x="6327720" y="12600"/>
            <a:ext cx="2822760" cy="1060560"/>
            <a:chOff x="6327720" y="12600"/>
            <a:chExt cx="2822760" cy="1060560"/>
          </a:xfrm>
        </p:grpSpPr>
        <p:pic>
          <p:nvPicPr>
            <p:cNvPr id="279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2276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How can companies be responsible social marketer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E4FC28C8-2584-4F5D-802B-A2551E9F2418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itle 1"/>
          <p:cNvSpPr/>
          <p:nvPr/>
        </p:nvSpPr>
        <p:spPr>
          <a:xfrm>
            <a:off x="365040" y="682560"/>
            <a:ext cx="82296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Verdana"/>
              </a:rPr>
              <a:t>Cause-Related Market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355680" y="12351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Cause-Marketing Benefits and Co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nsumers may develop a strong, unique bond with the firm that transcends normal marketplace transa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ause marketing ca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uild brand awareness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nhance brand image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stablish brand credibility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voke brand feelings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reate a sense of brand community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licit brand engagem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TextBox 8"/>
          <p:cNvSpPr/>
          <p:nvPr/>
        </p:nvSpPr>
        <p:spPr>
          <a:xfrm>
            <a:off x="4753080" y="5576760"/>
            <a:ext cx="4114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Verdana"/>
              </a:rPr>
              <a:t>(RED) was a highly publicized effort to raise money for AIDS relief in Africa through partnerships with iconic bra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5773680" y="2352600"/>
            <a:ext cx="2730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TextBox 5"/>
          <p:cNvGrpSpPr/>
          <p:nvPr/>
        </p:nvGrpSpPr>
        <p:grpSpPr>
          <a:xfrm>
            <a:off x="6327720" y="12600"/>
            <a:ext cx="2822760" cy="1060560"/>
            <a:chOff x="6327720" y="12600"/>
            <a:chExt cx="2822760" cy="1060560"/>
          </a:xfrm>
        </p:grpSpPr>
        <p:pic>
          <p:nvPicPr>
            <p:cNvPr id="288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2276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How can companies be responsible social marketer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0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0550CC64-694F-4178-B8EE-4AAF42F314D8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itle 1"/>
          <p:cNvSpPr/>
          <p:nvPr/>
        </p:nvSpPr>
        <p:spPr>
          <a:xfrm>
            <a:off x="365040" y="682560"/>
            <a:ext cx="82296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Verdana"/>
              </a:rPr>
              <a:t>Social Market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355680" y="12351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What is social marketing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ause-related marketing supports a caus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ocial marketing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y nonprofit or government organizations furthers a cause, such as ‘exercise more and eat better.’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ocial marketing campaigns may have objectives related to changing people’s cognition, values, actions or behavio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TextBox 5"/>
          <p:cNvGrpSpPr/>
          <p:nvPr/>
        </p:nvGrpSpPr>
        <p:grpSpPr>
          <a:xfrm>
            <a:off x="6327720" y="12600"/>
            <a:ext cx="2822760" cy="1060560"/>
            <a:chOff x="6327720" y="12600"/>
            <a:chExt cx="2822760" cy="1060560"/>
          </a:xfrm>
        </p:grpSpPr>
        <p:pic>
          <p:nvPicPr>
            <p:cNvPr id="295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2276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How can companies be responsible social marketer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EA6D71C5-BB07-4E9E-AF7E-D52B2AC441B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itle 1"/>
          <p:cNvSpPr/>
          <p:nvPr/>
        </p:nvSpPr>
        <p:spPr>
          <a:xfrm>
            <a:off x="365040" y="682560"/>
            <a:ext cx="82296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Verdana"/>
              </a:rPr>
              <a:t>Social Market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y success factors in developing a social marketing progr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y the literature and previous campaig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oose target markets that are ready to respon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mote a single, do-able behavior in clear, simple ter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lain the benefits in compelling ter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 it easy to adopt the behavi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lop attention-grabbing messages and med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 an education-entertainment approac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TextBox 5"/>
          <p:cNvGrpSpPr/>
          <p:nvPr/>
        </p:nvGrpSpPr>
        <p:grpSpPr>
          <a:xfrm>
            <a:off x="6327720" y="12600"/>
            <a:ext cx="2822760" cy="1060560"/>
            <a:chOff x="6327720" y="12600"/>
            <a:chExt cx="2822760" cy="1060560"/>
          </a:xfrm>
        </p:grpSpPr>
        <p:pic>
          <p:nvPicPr>
            <p:cNvPr id="302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2276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How can companies be responsible social marketer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56CC5CC2-4507-4548-9D43-E86A157EFDB8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itle 1"/>
          <p:cNvSpPr/>
          <p:nvPr/>
        </p:nvSpPr>
        <p:spPr>
          <a:xfrm>
            <a:off x="365040" y="682560"/>
            <a:ext cx="82296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Verdana"/>
              </a:rPr>
              <a:t>Social Market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Rectangle 2"/>
          <p:cNvSpPr/>
          <p:nvPr/>
        </p:nvSpPr>
        <p:spPr>
          <a:xfrm>
            <a:off x="2009880" y="5896080"/>
            <a:ext cx="5114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ox 22.4: Social Marketing Planning Process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2117880" y="1297080"/>
            <a:ext cx="512892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Marketing Implementatio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10" name="TextBox 5"/>
          <p:cNvGrpSpPr/>
          <p:nvPr/>
        </p:nvGrpSpPr>
        <p:grpSpPr>
          <a:xfrm>
            <a:off x="6327720" y="12600"/>
            <a:ext cx="2822760" cy="1060560"/>
            <a:chOff x="6327720" y="12600"/>
            <a:chExt cx="2822760" cy="1060560"/>
          </a:xfrm>
        </p:grpSpPr>
        <p:pic>
          <p:nvPicPr>
            <p:cNvPr id="311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2276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How can a company improve its marketing skill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91239F26-31E1-4E8D-9E83-CDA0420DEA4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365040" y="1406520"/>
            <a:ext cx="82296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1440" indent="-144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arketing implementation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s the process that turns marketing plans into action assignments and ensures they accomplish the plan’s stated objectiv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44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b5d"/>
                </a:solidFill>
                <a:latin typeface="Verdana"/>
              </a:rPr>
              <a:t>Marketing Management</a:t>
            </a:r>
            <a:br>
              <a:rPr sz="3600"/>
            </a:br>
            <a:endParaRPr b="1" lang="en-US" sz="36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344520" y="1019160"/>
            <a:ext cx="8407440" cy="1752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Arab World Ed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otler, Keller, Hassan, Baalbaki and Sham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422280" y="2752560"/>
            <a:ext cx="418932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Chapter 2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ing a Holistic  Marketing Organization for the Long Ru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9920" y="2719440"/>
            <a:ext cx="428004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Marketing Implementatio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17" name="TextBox 5"/>
          <p:cNvGrpSpPr/>
          <p:nvPr/>
        </p:nvGrpSpPr>
        <p:grpSpPr>
          <a:xfrm>
            <a:off x="6327720" y="12600"/>
            <a:ext cx="2822760" cy="1060560"/>
            <a:chOff x="6327720" y="12600"/>
            <a:chExt cx="2822760" cy="1060560"/>
          </a:xfrm>
        </p:grpSpPr>
        <p:pic>
          <p:nvPicPr>
            <p:cNvPr id="318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2276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How can a company improve its marketing skill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0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686605A3-3968-4A89-8DC8-41B7B72C2BBC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Rectangle 2"/>
          <p:cNvSpPr/>
          <p:nvPr/>
        </p:nvSpPr>
        <p:spPr>
          <a:xfrm>
            <a:off x="5397480" y="2265480"/>
            <a:ext cx="33098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ox 22.5: Characteristics of a Great Marketing Company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219240" y="1401840"/>
            <a:ext cx="52210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Evaluation and Control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25" name="TextBox 5"/>
          <p:cNvGrpSpPr/>
          <p:nvPr/>
        </p:nvGrpSpPr>
        <p:grpSpPr>
          <a:xfrm>
            <a:off x="6327720" y="12600"/>
            <a:ext cx="2828880" cy="1279800"/>
            <a:chOff x="6327720" y="12600"/>
            <a:chExt cx="2828880" cy="1279800"/>
          </a:xfrm>
        </p:grpSpPr>
        <p:pic>
          <p:nvPicPr>
            <p:cNvPr id="326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2888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What tools are available to help companies monitor and improve their marketing activiti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B06FDF38-3666-46BF-8392-116C976C12E8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 types of marketing contro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nual-plan contr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fitability contr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fficiency contr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ategic contr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Evaluation and Control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32" name="TextBox 5"/>
          <p:cNvGrpSpPr/>
          <p:nvPr/>
        </p:nvGrpSpPr>
        <p:grpSpPr>
          <a:xfrm>
            <a:off x="6327720" y="12600"/>
            <a:ext cx="2828880" cy="1279800"/>
            <a:chOff x="6327720" y="12600"/>
            <a:chExt cx="2828880" cy="1279800"/>
          </a:xfrm>
        </p:grpSpPr>
        <p:pic>
          <p:nvPicPr>
            <p:cNvPr id="333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2888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What tools are available to help companies monitor and improve their marketing activiti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E2A45860-6F10-4265-A644-4C7DCED513A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6572160" y="2909880"/>
            <a:ext cx="25718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able 22.1: Types of Marketing Control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257040" y="1282680"/>
            <a:ext cx="629784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65040" y="753840"/>
            <a:ext cx="8229600" cy="541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Annual-Plan Control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40" name="TextBox 5"/>
          <p:cNvGrpSpPr/>
          <p:nvPr/>
        </p:nvGrpSpPr>
        <p:grpSpPr>
          <a:xfrm>
            <a:off x="6327720" y="12600"/>
            <a:ext cx="2828880" cy="1279800"/>
            <a:chOff x="6327720" y="12600"/>
            <a:chExt cx="2828880" cy="1279800"/>
          </a:xfrm>
        </p:grpSpPr>
        <p:pic>
          <p:nvPicPr>
            <p:cNvPr id="341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2888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What tools are available to help companies monitor and improve their marketing activiti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DEDA578D-12E4-45DD-927F-D01B25BF07B4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3459240" y="5135400"/>
            <a:ext cx="2894040" cy="7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22.5: The Control Process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Rectangle 11"/>
          <p:cNvSpPr/>
          <p:nvPr/>
        </p:nvSpPr>
        <p:spPr>
          <a:xfrm>
            <a:off x="422280" y="1501920"/>
            <a:ext cx="49100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do we want to achiev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happen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y is it happen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should we do about i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6075360" y="1522440"/>
            <a:ext cx="255276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65040" y="753840"/>
            <a:ext cx="8229600" cy="541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Annual-Plan Control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49" name="TextBox 5"/>
          <p:cNvGrpSpPr/>
          <p:nvPr/>
        </p:nvGrpSpPr>
        <p:grpSpPr>
          <a:xfrm>
            <a:off x="6327720" y="12600"/>
            <a:ext cx="2828880" cy="1279800"/>
            <a:chOff x="6327720" y="12600"/>
            <a:chExt cx="2828880" cy="1279800"/>
          </a:xfrm>
        </p:grpSpPr>
        <p:pic>
          <p:nvPicPr>
            <p:cNvPr id="350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2888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What tools are available to help companies monitor and improve their marketing activiti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D73A2CCF-1ADF-47BF-9F2E-DD9D13BE5E6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11"/>
          <p:cNvSpPr/>
          <p:nvPr/>
        </p:nvSpPr>
        <p:spPr>
          <a:xfrm>
            <a:off x="304920" y="1395360"/>
            <a:ext cx="8145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check on plan performance, marketers us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les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ket share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keting expense-to-sales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ancia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26880" y="20952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Annual-Plan Control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56" name="TextBox 5"/>
          <p:cNvGrpSpPr/>
          <p:nvPr/>
        </p:nvGrpSpPr>
        <p:grpSpPr>
          <a:xfrm>
            <a:off x="6327720" y="12600"/>
            <a:ext cx="2828880" cy="1279800"/>
            <a:chOff x="6327720" y="12600"/>
            <a:chExt cx="2828880" cy="1279800"/>
          </a:xfrm>
        </p:grpSpPr>
        <p:pic>
          <p:nvPicPr>
            <p:cNvPr id="357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2888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What tools are available to help companies monitor and improve their marketing activiti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35C61067-3772-415A-B496-A4AA5F82416B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5832360" y="1778040"/>
            <a:ext cx="33116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ox 22.5: Marketing Metrics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303120" y="934920"/>
            <a:ext cx="561348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65040" y="753840"/>
            <a:ext cx="8229600" cy="541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Annual-Plan Control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64" name="TextBox 5"/>
          <p:cNvGrpSpPr/>
          <p:nvPr/>
        </p:nvGrpSpPr>
        <p:grpSpPr>
          <a:xfrm>
            <a:off x="6327720" y="12600"/>
            <a:ext cx="2828880" cy="1279800"/>
            <a:chOff x="6327720" y="12600"/>
            <a:chExt cx="2828880" cy="1279800"/>
          </a:xfrm>
        </p:grpSpPr>
        <p:pic>
          <p:nvPicPr>
            <p:cNvPr id="365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2888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What tools are available to help companies monitor and improve their marketing activiti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1EFD9B69-B6A9-47C5-9F87-F6EB4AF29BA2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7097760" y="5000760"/>
            <a:ext cx="185112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22.6: The Control-Chart Model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Rectangle 11"/>
          <p:cNvSpPr/>
          <p:nvPr/>
        </p:nvSpPr>
        <p:spPr>
          <a:xfrm>
            <a:off x="351000" y="1170000"/>
            <a:ext cx="8145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Marketing Expense-to-Sales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182520" y="1544760"/>
            <a:ext cx="693108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7040" y="199800"/>
            <a:ext cx="8229600" cy="541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Annual-Plan Control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73" name="TextBox 5"/>
          <p:cNvGrpSpPr/>
          <p:nvPr/>
        </p:nvGrpSpPr>
        <p:grpSpPr>
          <a:xfrm>
            <a:off x="6327720" y="12600"/>
            <a:ext cx="2828880" cy="1279800"/>
            <a:chOff x="6327720" y="12600"/>
            <a:chExt cx="2828880" cy="1279800"/>
          </a:xfrm>
        </p:grpSpPr>
        <p:pic>
          <p:nvPicPr>
            <p:cNvPr id="374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2888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What tools are available to help companies monitor and improve their marketing activiti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6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23BAFB8A-5BB5-4CC8-AE56-E55924F77A2E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Rectangle 2"/>
          <p:cNvSpPr/>
          <p:nvPr/>
        </p:nvSpPr>
        <p:spPr>
          <a:xfrm>
            <a:off x="7505640" y="3220920"/>
            <a:ext cx="12114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22.7: Financial Model of Return on Net Worth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Rectangle 11"/>
          <p:cNvSpPr/>
          <p:nvPr/>
        </p:nvSpPr>
        <p:spPr>
          <a:xfrm>
            <a:off x="304920" y="723960"/>
            <a:ext cx="8145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Financia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162000" y="1292400"/>
            <a:ext cx="719280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65040" y="753840"/>
            <a:ext cx="8229600" cy="541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Profitability Control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82" name="TextBox 5"/>
          <p:cNvGrpSpPr/>
          <p:nvPr/>
        </p:nvGrpSpPr>
        <p:grpSpPr>
          <a:xfrm>
            <a:off x="6327720" y="12600"/>
            <a:ext cx="2828880" cy="1279800"/>
            <a:chOff x="6327720" y="12600"/>
            <a:chExt cx="2828880" cy="1279800"/>
          </a:xfrm>
        </p:grpSpPr>
        <p:pic>
          <p:nvPicPr>
            <p:cNvPr id="383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2888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What tools are available to help companies monitor and improve their marketing activiti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8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F90F739D-644C-4E43-9F42-962DFC9DA133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304920" y="1395360"/>
            <a:ext cx="814536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Marketing Profitability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ep 1: Identify functional expen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ep 2: Assign functional expenses to marketing ent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ep 3: Prepare a profit-and-loss statement for each marketing ent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om this analysis, the company can form further questions to determine corrective ac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65040" y="753840"/>
            <a:ext cx="8229600" cy="541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Profitability Control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89" name="TextBox 5"/>
          <p:cNvGrpSpPr/>
          <p:nvPr/>
        </p:nvGrpSpPr>
        <p:grpSpPr>
          <a:xfrm>
            <a:off x="6327720" y="12600"/>
            <a:ext cx="2828880" cy="1279800"/>
            <a:chOff x="6327720" y="12600"/>
            <a:chExt cx="2828880" cy="1279800"/>
          </a:xfrm>
        </p:grpSpPr>
        <p:pic>
          <p:nvPicPr>
            <p:cNvPr id="390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2888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What tools are available to help companies monitor and improve their marketing activiti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E9480DB3-07CA-4515-B1BF-2BCFFABDF14C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Rectangle 11"/>
          <p:cNvSpPr/>
          <p:nvPr/>
        </p:nvSpPr>
        <p:spPr>
          <a:xfrm>
            <a:off x="304920" y="1395360"/>
            <a:ext cx="814536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Direct Versus Full Cos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using profitability analysis, managers need to decide what types of costs to include, to give an accurate picture of performanc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rect co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ceable common co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traceable common co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22-</a:t>
            </a:r>
            <a:fld id="{2F3138E4-EC7B-4AFC-8767-6A5644FDB21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hapter Question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43040" y="1596600"/>
            <a:ext cx="7943760" cy="49561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re important trends in marketing practic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re the keys to effective internal market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can companies be responsible social marketer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can a company improve its marketing skill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tools are available to help companies monitor and improve their marketing activiti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65040" y="753840"/>
            <a:ext cx="8229600" cy="541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Efficiency Control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96" name="TextBox 5"/>
          <p:cNvGrpSpPr/>
          <p:nvPr/>
        </p:nvGrpSpPr>
        <p:grpSpPr>
          <a:xfrm>
            <a:off x="6327720" y="12600"/>
            <a:ext cx="2828880" cy="1279800"/>
            <a:chOff x="6327720" y="12600"/>
            <a:chExt cx="2828880" cy="1279800"/>
          </a:xfrm>
        </p:grpSpPr>
        <p:pic>
          <p:nvPicPr>
            <p:cNvPr id="397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2888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What tools are available to help companies monitor and improve their marketing activiti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3BB3D268-B3E8-4051-BB16-B7F088D0A36C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422280" y="1395360"/>
            <a:ext cx="802800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companies have a marketing controller role, to specialize in improving marketing efficienc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uld track measures such 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istics costs as a percentage of s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centage of orders filled correct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centage of on-time delive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mber of billing err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65040" y="753840"/>
            <a:ext cx="8229600" cy="541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Strategic Control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403" name="TextBox 5"/>
          <p:cNvGrpSpPr/>
          <p:nvPr/>
        </p:nvGrpSpPr>
        <p:grpSpPr>
          <a:xfrm>
            <a:off x="6327720" y="12600"/>
            <a:ext cx="2828880" cy="1279800"/>
            <a:chOff x="6327720" y="12600"/>
            <a:chExt cx="2828880" cy="1279800"/>
          </a:xfrm>
        </p:grpSpPr>
        <p:pic>
          <p:nvPicPr>
            <p:cNvPr id="404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2888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What tools are available to help companies monitor and improve their marketing activiti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6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5012CCCE-9C83-4EE1-9920-3FCF1EDE6B55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Rectangle 11"/>
          <p:cNvSpPr/>
          <p:nvPr/>
        </p:nvSpPr>
        <p:spPr>
          <a:xfrm>
            <a:off x="401760" y="1395360"/>
            <a:ext cx="804852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ach company should periodically reassess its strategic approach to the marketplace with a good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arketing audi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audit examines the company’s marketing environment, objectives, strategies and activiti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arketing audit should b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rehens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stemat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epend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iod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90440" y="180720"/>
            <a:ext cx="8229600" cy="541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Strategic Control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410" name="TextBox 5"/>
          <p:cNvGrpSpPr/>
          <p:nvPr/>
        </p:nvGrpSpPr>
        <p:grpSpPr>
          <a:xfrm>
            <a:off x="6327720" y="12600"/>
            <a:ext cx="2828880" cy="1279800"/>
            <a:chOff x="6327720" y="12600"/>
            <a:chExt cx="2828880" cy="1279800"/>
          </a:xfrm>
        </p:grpSpPr>
        <p:pic>
          <p:nvPicPr>
            <p:cNvPr id="411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2888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What tools are available to help companies monitor and improve their marketing activiti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D7E995B1-E2D8-4FE9-BE1F-561D30AE8E72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825480" y="5913360"/>
            <a:ext cx="74455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ox 22.8: The Marketing Excellence Review: Best Practices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1319040" y="1308240"/>
            <a:ext cx="6132600" cy="44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The Future of Marketing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1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5407768D-8BF0-4FA7-83FE-8CA549B65EF4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Rectangle 9"/>
          <p:cNvSpPr/>
          <p:nvPr/>
        </p:nvSpPr>
        <p:spPr>
          <a:xfrm>
            <a:off x="334800" y="15368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uture trends are likely to result i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demise of the marketing department and the rise of holistic market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demise of free-spending marketing and the rise of ROI market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demise of marketing intuition and the rise of marketing scien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demise of manual marketing and the rise of automated market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demise of mass marketing and the rise of precision market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The Future of Marketing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2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8514D54D-8FA5-4EBB-AC2F-BA6A7D6E8F10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Rectangle 9"/>
          <p:cNvSpPr/>
          <p:nvPr/>
        </p:nvSpPr>
        <p:spPr>
          <a:xfrm>
            <a:off x="344520" y="1174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arketers need skills and competencies in areas such a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ustomer relationship management (CRM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artner relationship management (PRM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atabase marketing and datamin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ntact center management and telemarket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ublic relations marketing (including event and sponsorship marketing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rand-building and brand-asset managem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xperiential market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tegrated marketing communica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fitability analysis by segment, customer, and channe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redit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lide 1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lamy Images: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ony Nett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lide 6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x Features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chard J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lide 14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ess Association Images: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. Spencer Green / A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Trends in Marketing Practice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182" name="TextBox 5"/>
          <p:cNvGrpSpPr/>
          <p:nvPr/>
        </p:nvGrpSpPr>
        <p:grpSpPr>
          <a:xfrm>
            <a:off x="6327720" y="12600"/>
            <a:ext cx="2835360" cy="846360"/>
            <a:chOff x="6327720" y="12600"/>
            <a:chExt cx="2835360" cy="846360"/>
          </a:xfrm>
        </p:grpSpPr>
        <p:pic>
          <p:nvPicPr>
            <p:cNvPr id="183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3536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What are important trends in marketing practic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8E2EE6B5-B523-4693-9507-E2FDD409219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365040" y="1406520"/>
            <a:ext cx="81360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 respond to the changing environment, companies can restructure their business and marketing practices by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762120" y="2622600"/>
            <a:ext cx="3778200" cy="35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Reenginee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Outsourc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Benchmark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Supplier partne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Customer partne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Merg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4680000" y="2622600"/>
            <a:ext cx="3778200" cy="35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Globaliz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Flatte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Focus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Accelera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Empowe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6" descr=""/>
          <p:cNvPicPr/>
          <p:nvPr/>
        </p:nvPicPr>
        <p:blipFill>
          <a:blip r:embed="rId1"/>
          <a:stretch/>
        </p:blipFill>
        <p:spPr>
          <a:xfrm>
            <a:off x="579600" y="3987720"/>
            <a:ext cx="7772400" cy="9716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65040" y="51264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Internal Marketing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192" name="TextBox 5"/>
          <p:cNvGrpSpPr/>
          <p:nvPr/>
        </p:nvGrpSpPr>
        <p:grpSpPr>
          <a:xfrm>
            <a:off x="6327720" y="12600"/>
            <a:ext cx="2822760" cy="1060560"/>
            <a:chOff x="6327720" y="12600"/>
            <a:chExt cx="2822760" cy="1060560"/>
          </a:xfrm>
        </p:grpSpPr>
        <p:pic>
          <p:nvPicPr>
            <p:cNvPr id="193" name="TextBox 5" descr=""/>
            <p:cNvPicPr/>
            <p:nvPr/>
          </p:nvPicPr>
          <p:blipFill>
            <a:blip r:embed="rId2"/>
            <a:stretch/>
          </p:blipFill>
          <p:spPr>
            <a:xfrm>
              <a:off x="6327720" y="12600"/>
              <a:ext cx="282276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What are the keys to effective internal marketing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44D762DD-5788-46FA-A657-5917F8F84C0C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365040" y="1406520"/>
            <a:ext cx="82296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rnal marketing requires that everyone in the organization buys into the concepts and goals of market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nies can succeed at marketing only when all employees see their own job is to create, serve and satisfy custom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3" descr="C:\Users\User\AppData\Local\Microsoft\Windows\Temporary Internet Files\Content.IE5\XHNASMRZ\MC900432586[1].png"/>
          <p:cNvPicPr/>
          <p:nvPr/>
        </p:nvPicPr>
        <p:blipFill>
          <a:blip r:embed="rId3"/>
          <a:stretch/>
        </p:blipFill>
        <p:spPr>
          <a:xfrm>
            <a:off x="7985160" y="3968640"/>
            <a:ext cx="619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65040" y="51264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Organizing the Marketing</a:t>
            </a:r>
            <a:br>
              <a:rPr sz="2400"/>
            </a:b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Departmen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00" name="TextBox 5"/>
          <p:cNvGrpSpPr/>
          <p:nvPr/>
        </p:nvGrpSpPr>
        <p:grpSpPr>
          <a:xfrm>
            <a:off x="6327720" y="12600"/>
            <a:ext cx="2822760" cy="1060560"/>
            <a:chOff x="6327720" y="12600"/>
            <a:chExt cx="2822760" cy="1060560"/>
          </a:xfrm>
        </p:grpSpPr>
        <p:pic>
          <p:nvPicPr>
            <p:cNvPr id="201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2276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What are the keys to effective internal marketing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560B362D-A50E-445F-8572-FC3DD4A0CA3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365040" y="1406520"/>
            <a:ext cx="8229600" cy="27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keting departments can be organized in different way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206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Functional organ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2. Geographic organ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Organizes sales force on geographic lin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May include area marketing specialists to support sal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345960" y="4454640"/>
            <a:ext cx="807588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22.1: Functional Organization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565280" y="2135160"/>
            <a:ext cx="594504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65040" y="2919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Organizing the Marketing</a:t>
            </a:r>
            <a:br>
              <a:rPr sz="2400"/>
            </a:b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Departmen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09" name="TextBox 5"/>
          <p:cNvGrpSpPr/>
          <p:nvPr/>
        </p:nvGrpSpPr>
        <p:grpSpPr>
          <a:xfrm>
            <a:off x="6327720" y="12600"/>
            <a:ext cx="2822760" cy="1060560"/>
            <a:chOff x="6327720" y="12600"/>
            <a:chExt cx="2822760" cy="1060560"/>
          </a:xfrm>
        </p:grpSpPr>
        <p:pic>
          <p:nvPicPr>
            <p:cNvPr id="210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2276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What are the keys to effective internal marketing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25A16A97-FD03-48E2-998F-9FEBA5CD19D5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365040" y="1185840"/>
            <a:ext cx="8229600" cy="27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list cont’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206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Product- or brand-management organ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560520" y="5400720"/>
            <a:ext cx="348912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22.2: The Product Manager’s Interactions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Box 8"/>
          <p:cNvSpPr/>
          <p:nvPr/>
        </p:nvSpPr>
        <p:spPr>
          <a:xfrm>
            <a:off x="5616720" y="5084640"/>
            <a:ext cx="3014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Verdana"/>
              </a:rPr>
              <a:t>Kraft has category managers for its different cereals: nutritional, presweetened, family, and so 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5092560" y="2490840"/>
            <a:ext cx="3630600" cy="25225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533520" y="1954080"/>
            <a:ext cx="3595680" cy="34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65040" y="2919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Organizing the Marketing</a:t>
            </a:r>
            <a:br>
              <a:rPr sz="2400"/>
            </a:b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Departmen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20" name="TextBox 5"/>
          <p:cNvGrpSpPr/>
          <p:nvPr/>
        </p:nvGrpSpPr>
        <p:grpSpPr>
          <a:xfrm>
            <a:off x="6327720" y="12600"/>
            <a:ext cx="2822760" cy="1060560"/>
            <a:chOff x="6327720" y="12600"/>
            <a:chExt cx="2822760" cy="1060560"/>
          </a:xfrm>
        </p:grpSpPr>
        <p:pic>
          <p:nvPicPr>
            <p:cNvPr id="221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2276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What are the keys to effective internal marketing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BE4BA642-11F3-4A95-80EE-8DB461C24382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365040" y="1185840"/>
            <a:ext cx="8229600" cy="27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list cont’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206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Product- or brand-management organ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533520" y="2260440"/>
            <a:ext cx="8076960" cy="41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sks performed by product or brand manager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velop long-range and competitive strategy for the produ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pare annual marketing plan and sales foreca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ork with advertising and merchandising agencies to develop campaig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rease support of the product among channel memb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ther continuous intelligence on product performance, customer attitud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itiate product improve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5440" y="14292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Organizing the Marketing</a:t>
            </a:r>
            <a:br>
              <a:rPr sz="2400"/>
            </a:b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Departmen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28" name="TextBox 5"/>
          <p:cNvGrpSpPr/>
          <p:nvPr/>
        </p:nvGrpSpPr>
        <p:grpSpPr>
          <a:xfrm>
            <a:off x="6327720" y="12600"/>
            <a:ext cx="2822760" cy="1060560"/>
            <a:chOff x="6327720" y="12600"/>
            <a:chExt cx="2822760" cy="1060560"/>
          </a:xfrm>
        </p:grpSpPr>
        <p:pic>
          <p:nvPicPr>
            <p:cNvPr id="229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82276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What are the keys to effective internal marketing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22-</a:t>
            </a:r>
            <a:fld id="{3CFDD8A8-7732-443F-919C-13997BA044CB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353880" y="930240"/>
            <a:ext cx="8229600" cy="27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list cont’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206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Market-management organ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ctivities can be organized according to different markets or customer segment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206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Matrix-management organ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Companies producing many products for many markets may adopt matrix organiz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5845320" y="3992400"/>
            <a:ext cx="149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22.4: Product-Market-Management Matrix System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95200" y="3441600"/>
            <a:ext cx="5091120" cy="29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0:33:38Z</dcterms:created>
  <dc:creator>fay gibbons</dc:creator>
  <dc:description>www.showcase-online.co.uk
0207 484 8080</dc:description>
  <dc:language>en-US</dc:language>
  <cp:lastModifiedBy>jamebene</cp:lastModifiedBy>
  <dcterms:modified xsi:type="dcterms:W3CDTF">2012-11-12T09:21:05Z</dcterms:modified>
  <cp:revision>82</cp:revision>
  <dc:subject/>
  <dc:title>Slide 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_version">
    <vt:lpwstr>v1.0.1</vt:lpwstr>
  </property>
</Properties>
</file>