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.jpeg" ContentType="image/jpeg"/>
  <Override PartName="/ppt/media/image25.jpeg" ContentType="image/jpeg"/>
  <Override PartName="/ppt/media/image2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27.jpeg" ContentType="image/jpe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3.wmf" ContentType="image/x-wmf"/>
  <Override PartName="/ppt/media/image28.png" ContentType="image/png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5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6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7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1A74F95-15CE-49F7-953C-7C0D670858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80CF5B4-8F22-4EC6-AEAB-0B53831D201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The holistic marketing framework is designed to address three key management questions, as follow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1. Value exploration. How can a company identify new value opportunitie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2. Value creation. How can a company efficiently create more promising new value offering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3. Value delivery. How can a company use its capabilities and infrastructure to deliver the new value offerings more efficiently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03ED944-D8CE-48C4-BD8D-7CBF807FCA0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222868B-33FA-4980-999F-638E874C6E1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9E7D3B6-DA12-4BE5-A554-0F934980EFA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B08B5C3-120A-4D9A-BAFF-688F133758B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AF75767-D193-4133-AEE2-2D97BEC8F5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98DB03E-C70D-4D55-A418-71C0449837D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D48F166-0B07-4179-B77C-9366FE4DA2A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8ED2CA1-C0FC-41F4-BF63-0E086CF2BD0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939EC-6568-4D82-B226-01596F509D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C7E46-496A-43EF-9D71-CA949D26D9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CD77D-35DA-4258-AE1C-9ADAD612C6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0756D-EE36-4F3D-937F-6AA399282A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5EC1BD-3A7B-4CE8-9F67-1CC0D03698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055D76-3C7F-4A6F-9347-131B836086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6BFF0-B96D-40F9-8259-FFE3EA30AE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5C0330-6D5B-468B-9F7F-A10EE4942A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396463-40A8-4F61-BD2E-8010D02B77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9BC0B3-F97E-4FB6-89CC-D0C11EFE87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9C57AD-BD3C-4FCC-A997-48621B3D06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F5243-3572-4952-8E55-46C1B5980E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4E054D-2781-4D80-BB6B-BA621FB449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8BD43-D5C9-4D9B-A303-37BF4E1F50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0277E4-517B-4D8D-AE08-3D5249DE3F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66D03-FBB6-4C45-B1EB-0E350EC7E3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3D4CE6-B712-4F5F-A33E-5551279FA5B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7E377-D0CB-43B0-9840-43C95FB85F2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3779B-DA3B-4E72-856F-9A06E7E2B6C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1E967-9FCC-4698-88D5-19492ABA69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7F28F-E7F1-4D88-BE92-340B9059A7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3DD38-3B5C-4ADA-9113-B3244A6ADA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660F2-3DB2-4C08-AA03-ADD8059A2D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85E79-36BB-402D-A224-51A71441F5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80520" y="6544800"/>
            <a:ext cx="4984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52280" y="6544800"/>
            <a:ext cx="331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79AA-2B3A-405B-8CC2-CBD964FDBD1A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2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80520" y="6544800"/>
            <a:ext cx="4984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150840" y="6544800"/>
            <a:ext cx="331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0E0D-35F5-436B-B499-D6198CFF2A96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9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5" descr="Always_Learning_Text_Green_RGB"/>
          <p:cNvPicPr/>
          <p:nvPr/>
        </p:nvPicPr>
        <p:blipFill>
          <a:blip r:embed="rId2"/>
          <a:stretch/>
        </p:blipFill>
        <p:spPr>
          <a:xfrm>
            <a:off x="957240" y="2332080"/>
            <a:ext cx="7211880" cy="17384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10" descr="Pearson_Bound_White"/>
          <p:cNvPicPr/>
          <p:nvPr/>
        </p:nvPicPr>
        <p:blipFill>
          <a:blip r:embed="rId3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Pearson_Strap_Bound_White"/>
          <p:cNvPicPr/>
          <p:nvPr/>
        </p:nvPicPr>
        <p:blipFill>
          <a:blip r:embed="rId4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9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10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396720" y="1214280"/>
            <a:ext cx="82296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ox 2.1: Becoming a Vigilant Organization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0" name="TextBox 6"/>
          <p:cNvGrpSpPr/>
          <p:nvPr/>
        </p:nvGrpSpPr>
        <p:grpSpPr>
          <a:xfrm>
            <a:off x="6334200" y="12600"/>
            <a:ext cx="2840040" cy="1005120"/>
            <a:chOff x="6334200" y="12600"/>
            <a:chExt cx="2840040" cy="1005120"/>
          </a:xfrm>
        </p:grpSpPr>
        <p:pic>
          <p:nvPicPr>
            <p:cNvPr id="221" name="TextBox 6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4004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es marketing affect customer value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50686102-7C6C-491D-AE4D-06F026348A60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8" descr="Untitled"/>
          <p:cNvPicPr/>
          <p:nvPr/>
        </p:nvPicPr>
        <p:blipFill>
          <a:blip r:embed="rId2"/>
          <a:stretch/>
        </p:blipFill>
        <p:spPr>
          <a:xfrm>
            <a:off x="1209600" y="1565280"/>
            <a:ext cx="704556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The Holistic Marketing Concept</a:t>
            </a:r>
            <a:br>
              <a:rPr sz="2400"/>
            </a:b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4600" y="1526760"/>
            <a:ext cx="8089920" cy="44751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7" name="TextBox 5"/>
          <p:cNvGrpSpPr/>
          <p:nvPr/>
        </p:nvGrpSpPr>
        <p:grpSpPr>
          <a:xfrm>
            <a:off x="6334200" y="12600"/>
            <a:ext cx="2816280" cy="1005120"/>
            <a:chOff x="6334200" y="12600"/>
            <a:chExt cx="2816280" cy="1005120"/>
          </a:xfrm>
        </p:grpSpPr>
        <p:pic>
          <p:nvPicPr>
            <p:cNvPr id="228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has marketing management changed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0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-</a:t>
            </a:r>
            <a:fld id="{9D92BF04-85CE-4A93-AF04-421914859E59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Picture 9" descr="Untitled"/>
          <p:cNvPicPr/>
          <p:nvPr/>
        </p:nvPicPr>
        <p:blipFill>
          <a:blip r:embed="rId2"/>
          <a:stretch/>
        </p:blipFill>
        <p:spPr>
          <a:xfrm>
            <a:off x="1351080" y="1960560"/>
            <a:ext cx="628632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65040" y="773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A Holistic Marketing Orientation</a:t>
            </a:r>
            <a:br>
              <a:rPr sz="2400"/>
            </a:b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and Customer Value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65040" y="1923840"/>
            <a:ext cx="8229600" cy="26161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76000"/>
          </a:bodyPr>
          <a:p>
            <a:pPr marL="260640" indent="0" algn="ctr">
              <a:lnSpc>
                <a:spcPct val="1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olistic market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ees itself as integrat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0640" indent="0" algn="ctr">
              <a:lnSpc>
                <a:spcPct val="1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value explor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0640" indent="0" algn="ctr">
              <a:lnSpc>
                <a:spcPct val="1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value cre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0640" indent="0" algn="ctr">
              <a:lnSpc>
                <a:spcPct val="1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value delive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ctiviti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0640" indent="0" algn="ctr">
              <a:lnSpc>
                <a:spcPct val="1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the purpose of building long-term, mutually satisfying relationships and prosperity among key stakehold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4" name="TextBox 4"/>
          <p:cNvGrpSpPr/>
          <p:nvPr/>
        </p:nvGrpSpPr>
        <p:grpSpPr>
          <a:xfrm>
            <a:off x="6334200" y="12600"/>
            <a:ext cx="2840040" cy="1005120"/>
            <a:chOff x="6334200" y="12600"/>
            <a:chExt cx="2840040" cy="1005120"/>
          </a:xfrm>
        </p:grpSpPr>
        <p:pic>
          <p:nvPicPr>
            <p:cNvPr id="235" name="TextBox 4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4004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es marketing affect customer value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7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5697F436-8847-4651-BDEE-48625CE03673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TextBox 4"/>
          <p:cNvGrpSpPr/>
          <p:nvPr/>
        </p:nvGrpSpPr>
        <p:grpSpPr>
          <a:xfrm>
            <a:off x="6334200" y="12600"/>
            <a:ext cx="2840040" cy="1005120"/>
            <a:chOff x="6334200" y="12600"/>
            <a:chExt cx="2840040" cy="1005120"/>
          </a:xfrm>
        </p:grpSpPr>
        <p:pic>
          <p:nvPicPr>
            <p:cNvPr id="239" name="TextBox 4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4004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es marketing affect customer value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1" name="Rectangle 2"/>
          <p:cNvSpPr/>
          <p:nvPr/>
        </p:nvSpPr>
        <p:spPr>
          <a:xfrm>
            <a:off x="396720" y="1214280"/>
            <a:ext cx="82296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 2.2: A Holistic Marketing Framework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8133710E-B134-45A7-B0E3-6DA2288192FD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Picture 8" descr="Untitled"/>
          <p:cNvPicPr/>
          <p:nvPr/>
        </p:nvPicPr>
        <p:blipFill>
          <a:blip r:embed="rId2"/>
          <a:stretch/>
        </p:blipFill>
        <p:spPr>
          <a:xfrm>
            <a:off x="1366920" y="1628640"/>
            <a:ext cx="62895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TextBox 4"/>
          <p:cNvGrpSpPr/>
          <p:nvPr/>
        </p:nvGrpSpPr>
        <p:grpSpPr>
          <a:xfrm>
            <a:off x="6334200" y="12600"/>
            <a:ext cx="2840040" cy="1005120"/>
            <a:chOff x="6334200" y="12600"/>
            <a:chExt cx="2840040" cy="1005120"/>
          </a:xfrm>
        </p:grpSpPr>
        <p:pic>
          <p:nvPicPr>
            <p:cNvPr id="245" name="TextBox 4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4004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es marketing affect customer value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7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AE8792C1-0E8B-46D0-9095-C69C72872470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1"/>
          <p:cNvSpPr/>
          <p:nvPr/>
        </p:nvSpPr>
        <p:spPr>
          <a:xfrm>
            <a:off x="2815560" y="2754360"/>
            <a:ext cx="34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Verdana"/>
              </a:rPr>
              <a:t>Strategic Plan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76200" y="9457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The Central Role of Strategic Planning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50" name="TextBox 4"/>
          <p:cNvGrpSpPr/>
          <p:nvPr/>
        </p:nvGrpSpPr>
        <p:grpSpPr>
          <a:xfrm>
            <a:off x="6334200" y="12600"/>
            <a:ext cx="2840040" cy="1005120"/>
            <a:chOff x="6334200" y="12600"/>
            <a:chExt cx="2840040" cy="1005120"/>
          </a:xfrm>
        </p:grpSpPr>
        <p:pic>
          <p:nvPicPr>
            <p:cNvPr id="251" name="TextBox 4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4004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es marketing affect customer value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3" name="Rectangle 2"/>
          <p:cNvSpPr/>
          <p:nvPr/>
        </p:nvSpPr>
        <p:spPr>
          <a:xfrm>
            <a:off x="396720" y="1919160"/>
            <a:ext cx="82296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 2.3: The Strategic Planning, Implementation, and Control Process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7C54DD0F-E289-41D4-B2BD-51350FA1B923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Picture 9" descr="image"/>
          <p:cNvPicPr/>
          <p:nvPr/>
        </p:nvPicPr>
        <p:blipFill>
          <a:blip r:embed="rId2"/>
          <a:stretch/>
        </p:blipFill>
        <p:spPr>
          <a:xfrm>
            <a:off x="487440" y="2209680"/>
            <a:ext cx="8043840" cy="40561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Corporate and Division Strategic</a:t>
            </a:r>
            <a:br>
              <a:rPr sz="2400"/>
            </a:b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Planning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ll corporate headquarters undertake four planning activiti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. Defining the corporate miss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. Establishing strategic business units (SBU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3. Assigning resources to each SBU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4. Assessing growth opportuniti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e’ll look at each proc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8" name="TextBox 5"/>
          <p:cNvGrpSpPr/>
          <p:nvPr/>
        </p:nvGrpSpPr>
        <p:grpSpPr>
          <a:xfrm>
            <a:off x="6334200" y="12600"/>
            <a:ext cx="2816280" cy="1219320"/>
            <a:chOff x="6334200" y="12600"/>
            <a:chExt cx="2816280" cy="1219320"/>
          </a:xfrm>
        </p:grpSpPr>
        <p:pic>
          <p:nvPicPr>
            <p:cNvPr id="259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6391440" y="47520"/>
              <a:ext cx="270504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is strategic planning done at different levels of the organization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1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348952E1-59A2-478F-B189-D431A21BED51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65040" y="7351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Defining the Corporate Mission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od mission statement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cus on a limited number of goa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ess major policies and val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ine major competitive sphe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ke a long-term 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e short, memorable and meaningfu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4" name="TextBox 5"/>
          <p:cNvGrpSpPr/>
          <p:nvPr/>
        </p:nvGrpSpPr>
        <p:grpSpPr>
          <a:xfrm>
            <a:off x="6334200" y="12600"/>
            <a:ext cx="2816280" cy="1219320"/>
            <a:chOff x="6334200" y="12600"/>
            <a:chExt cx="2816280" cy="1219320"/>
          </a:xfrm>
        </p:grpSpPr>
        <p:pic>
          <p:nvPicPr>
            <p:cNvPr id="265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6391440" y="47520"/>
              <a:ext cx="270504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is strategic planning done at different levels of the organization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7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EB1265F1-1316-49CD-9A7C-309CC588022C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65040" y="7351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Defining the Corporate Mission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65040" y="1546200"/>
            <a:ext cx="441792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ssion statements define the major competitive spheres in which the company will operat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dust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ket seg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du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ograph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et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rtical chann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0" name="TextBox 5"/>
          <p:cNvGrpSpPr/>
          <p:nvPr/>
        </p:nvGrpSpPr>
        <p:grpSpPr>
          <a:xfrm>
            <a:off x="6334200" y="12600"/>
            <a:ext cx="2816280" cy="1219320"/>
            <a:chOff x="6334200" y="12600"/>
            <a:chExt cx="2816280" cy="1219320"/>
          </a:xfrm>
        </p:grpSpPr>
        <p:pic>
          <p:nvPicPr>
            <p:cNvPr id="271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6391440" y="47520"/>
              <a:ext cx="270504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is strategic planning done at different levels of the organization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1C81B9E2-98E4-45A3-B842-754D70817F16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Diagram 1" descr=""/>
          <p:cNvPicPr/>
          <p:nvPr/>
        </p:nvPicPr>
        <p:blipFill>
          <a:blip r:embed="rId2"/>
          <a:stretch/>
        </p:blipFill>
        <p:spPr>
          <a:xfrm>
            <a:off x="4541760" y="2266920"/>
            <a:ext cx="409572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65040" y="7351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Example Mission Statemen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76" name="TextBox 5"/>
          <p:cNvGrpSpPr/>
          <p:nvPr/>
        </p:nvGrpSpPr>
        <p:grpSpPr>
          <a:xfrm>
            <a:off x="6334200" y="12600"/>
            <a:ext cx="2816280" cy="1219320"/>
            <a:chOff x="6334200" y="12600"/>
            <a:chExt cx="2816280" cy="1219320"/>
          </a:xfrm>
        </p:grpSpPr>
        <p:pic>
          <p:nvPicPr>
            <p:cNvPr id="277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6391440" y="47520"/>
              <a:ext cx="270504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is strategic planning done at different levels of the organization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9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DD3EB90E-AF14-4193-9C7E-FF27F5023635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1"/>
          <p:cNvSpPr/>
          <p:nvPr/>
        </p:nvSpPr>
        <p:spPr>
          <a:xfrm>
            <a:off x="816120" y="1857240"/>
            <a:ext cx="7089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o Clini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To inspire hope and contribute to health and well-being by providing the best care to every patient through integrated clinical practice, education and research. (24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851040" y="4076640"/>
            <a:ext cx="7054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abic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ur mission is to responsibly provide quality products and services through innovation, learning and operational excellence while sustaining maximum value for our stakehold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44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8b5d"/>
                </a:solidFill>
                <a:latin typeface="Verdana"/>
              </a:rPr>
              <a:t>Marketing Management</a:t>
            </a:r>
            <a:br>
              <a:rPr sz="3600"/>
            </a:br>
            <a:endParaRPr b="1" lang="en-US" sz="36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344520" y="1019160"/>
            <a:ext cx="8407440" cy="1752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Arab World Ed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otler, Keller, Hassan, Baalbaki, and Sham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285840" y="2973240"/>
            <a:ext cx="8196120" cy="14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Chapter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veloping Market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rategies and Pl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7" descr="Untitled"/>
          <p:cNvPicPr/>
          <p:nvPr/>
        </p:nvPicPr>
        <p:blipFill>
          <a:blip r:embed="rId1"/>
          <a:stretch/>
        </p:blipFill>
        <p:spPr>
          <a:xfrm>
            <a:off x="4255920" y="2619360"/>
            <a:ext cx="438156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TextBox 5"/>
          <p:cNvGrpSpPr/>
          <p:nvPr/>
        </p:nvGrpSpPr>
        <p:grpSpPr>
          <a:xfrm>
            <a:off x="6334200" y="12600"/>
            <a:ext cx="2816280" cy="1219320"/>
            <a:chOff x="6334200" y="12600"/>
            <a:chExt cx="2816280" cy="1219320"/>
          </a:xfrm>
        </p:grpSpPr>
        <p:pic>
          <p:nvPicPr>
            <p:cNvPr id="283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6391440" y="47520"/>
              <a:ext cx="270504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is strategic planning done at different levels of the organization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5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4E92B718-C591-4CA7-AB5D-8CFBF1C85A68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65040" y="38052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5d"/>
                </a:solidFill>
                <a:latin typeface="Verdana"/>
              </a:rPr>
              <a:t>Vision vs. Mission</a:t>
            </a:r>
            <a:br>
              <a:rPr sz="2800"/>
            </a:br>
            <a:endParaRPr b="1" lang="en-US" sz="2800" spc="-1" strike="noStrike">
              <a:solidFill>
                <a:srgbClr val="008b5d"/>
              </a:solidFill>
              <a:latin typeface="Verdana"/>
            </a:endParaRPr>
          </a:p>
        </p:txBody>
      </p:sp>
      <p:pic>
        <p:nvPicPr>
          <p:cNvPr id="287" name="Diagram 10" descr=""/>
          <p:cNvPicPr/>
          <p:nvPr/>
        </p:nvPicPr>
        <p:blipFill>
          <a:blip r:embed="rId2"/>
          <a:stretch/>
        </p:blipFill>
        <p:spPr>
          <a:xfrm>
            <a:off x="390600" y="1262160"/>
            <a:ext cx="4138560" cy="718920"/>
          </a:xfrm>
          <a:prstGeom prst="rect">
            <a:avLst/>
          </a:prstGeom>
          <a:ln w="0">
            <a:noFill/>
          </a:ln>
        </p:spPr>
      </p:pic>
      <p:sp>
        <p:nvSpPr>
          <p:cNvPr id="288" name="Content Placeholder 5"/>
          <p:cNvSpPr/>
          <p:nvPr/>
        </p:nvSpPr>
        <p:spPr>
          <a:xfrm>
            <a:off x="457200" y="1900080"/>
            <a:ext cx="4040280" cy="42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municates the organization’s reason for being, and how it aims to serve its key stakehold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ften integrates a summation of the firm’s val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ission statements tend to be longer than vision stat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" name="Diagram 12" descr=""/>
          <p:cNvPicPr/>
          <p:nvPr/>
        </p:nvPicPr>
        <p:blipFill>
          <a:blip r:embed="rId3"/>
          <a:stretch/>
        </p:blipFill>
        <p:spPr>
          <a:xfrm>
            <a:off x="4565520" y="1255680"/>
            <a:ext cx="4170600" cy="762120"/>
          </a:xfrm>
          <a:prstGeom prst="rect">
            <a:avLst/>
          </a:prstGeom>
          <a:ln w="0">
            <a:noFill/>
          </a:ln>
        </p:spPr>
      </p:pic>
      <p:sp>
        <p:nvSpPr>
          <p:cNvPr id="290" name="Content Placeholder 7"/>
          <p:cNvSpPr/>
          <p:nvPr/>
        </p:nvSpPr>
        <p:spPr>
          <a:xfrm>
            <a:off x="4645080" y="1900080"/>
            <a:ext cx="4041720" cy="42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uture-oriente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declaration of the organization’s purpose and aspirations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ddresse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ha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a firm wants to beco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Vision statements tend to be relatively brie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TextBox 5"/>
          <p:cNvGrpSpPr/>
          <p:nvPr/>
        </p:nvGrpSpPr>
        <p:grpSpPr>
          <a:xfrm>
            <a:off x="6334200" y="12600"/>
            <a:ext cx="2816280" cy="1219320"/>
            <a:chOff x="6334200" y="12600"/>
            <a:chExt cx="2816280" cy="1219320"/>
          </a:xfrm>
        </p:grpSpPr>
        <p:pic>
          <p:nvPicPr>
            <p:cNvPr id="292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6391440" y="47520"/>
              <a:ext cx="270504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is strategic planning done at different levels of the organization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4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835486B0-0D90-49DD-BE66-A08794CCF553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380880" y="31104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Business Vis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Sta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533520" y="1657440"/>
            <a:ext cx="8229600" cy="43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statement that clearly defines the firm’s “reason” for being in busi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Shoul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significantly stretch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the resources and capabilities of the fa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Shoul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inspir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people in the organization to achieve things they never thought pos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Shoul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unit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people in the organization toward the pursuit of one common go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TextBox 5"/>
          <p:cNvGrpSpPr/>
          <p:nvPr/>
        </p:nvGrpSpPr>
        <p:grpSpPr>
          <a:xfrm>
            <a:off x="6334200" y="12600"/>
            <a:ext cx="2816280" cy="1219320"/>
            <a:chOff x="6334200" y="12600"/>
            <a:chExt cx="2816280" cy="1219320"/>
          </a:xfrm>
        </p:grpSpPr>
        <p:pic>
          <p:nvPicPr>
            <p:cNvPr id="298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6391440" y="47520"/>
              <a:ext cx="270504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is strategic planning done at different levels of the organization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0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601B0C4D-00DA-4010-A2C8-2474D911A97C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380880" y="31104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Business Vis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Sta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571680" y="189216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guiding philosoph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stent with organizational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luenced by the strengths and weaknesses of the busin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396720" y="1424160"/>
            <a:ext cx="82296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able 2.1: 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roduct-Oriented versus Market-Oriented Definitions of a Business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4" name="TextBox 5"/>
          <p:cNvGrpSpPr/>
          <p:nvPr/>
        </p:nvGrpSpPr>
        <p:grpSpPr>
          <a:xfrm>
            <a:off x="6334200" y="12600"/>
            <a:ext cx="2816280" cy="1219320"/>
            <a:chOff x="6334200" y="12600"/>
            <a:chExt cx="2816280" cy="1219320"/>
          </a:xfrm>
        </p:grpSpPr>
        <p:pic>
          <p:nvPicPr>
            <p:cNvPr id="305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6391440" y="47520"/>
              <a:ext cx="270504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is strategic planning done at different levels of the organization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7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D6D8B1A7-179E-4E01-AB03-13B603E86589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Picture 8" descr="image"/>
          <p:cNvPicPr/>
          <p:nvPr/>
        </p:nvPicPr>
        <p:blipFill>
          <a:blip r:embed="rId2"/>
          <a:stretch/>
        </p:blipFill>
        <p:spPr>
          <a:xfrm>
            <a:off x="349200" y="2201760"/>
            <a:ext cx="854064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65040" y="7351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Establishing Strategic Business </a:t>
            </a:r>
            <a:br>
              <a:rPr sz="2400"/>
            </a:b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Unit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49280" y="2511360"/>
            <a:ext cx="8229600" cy="43070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single business or collection of related businesses that can be planned separately from the rest of the company, with its own set of competitors and a manager who is responsible for strategic planning and profit performance.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1" name="TextBox 5"/>
          <p:cNvGrpSpPr/>
          <p:nvPr/>
        </p:nvGrpSpPr>
        <p:grpSpPr>
          <a:xfrm>
            <a:off x="6334200" y="12600"/>
            <a:ext cx="2816280" cy="1219320"/>
            <a:chOff x="6334200" y="12600"/>
            <a:chExt cx="2816280" cy="1219320"/>
          </a:xfrm>
        </p:grpSpPr>
        <p:pic>
          <p:nvPicPr>
            <p:cNvPr id="312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6391440" y="47520"/>
              <a:ext cx="270504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is strategic planning done at different levels of the organization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4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1D04EAD4-6AB1-4EFC-8525-5C6E7E450812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65040" y="7351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Establishing Strategic Business </a:t>
            </a:r>
            <a:br>
              <a:rPr sz="2400"/>
            </a:b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Unit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65040" y="176508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SBU has three characteristics, as follow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. It is a single business, or related businesses, that can be planned separately from the rest of the compan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. It has its own set of competito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3. It has a manager responsible for strategic planning and profit performa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7" name="TextBox 5"/>
          <p:cNvGrpSpPr/>
          <p:nvPr/>
        </p:nvGrpSpPr>
        <p:grpSpPr>
          <a:xfrm>
            <a:off x="6334200" y="12600"/>
            <a:ext cx="2816280" cy="1219320"/>
            <a:chOff x="6334200" y="12600"/>
            <a:chExt cx="2816280" cy="1219320"/>
          </a:xfrm>
        </p:grpSpPr>
        <p:pic>
          <p:nvPicPr>
            <p:cNvPr id="318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6391440" y="47520"/>
              <a:ext cx="270504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is strategic planning done at different levels of the organization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0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DA59384D-D48E-4C4D-B1C6-610BE6595AA8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65040" y="7351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Assigning Resources to Each SBU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24000" y="1244520"/>
            <a:ext cx="4093920" cy="51991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oston Consulting Group’s Growth-Share Matrix can be used to make investment decisions. Defines four types of SBU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571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571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1. Stars: high-growth market, high-share produc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571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2. Cash cows: low-growth market, high-share produc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571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3. Question marks: low-share product, high-growth marke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571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4. Dogs: low-share product, low-growth marke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3" name="TextBox 5"/>
          <p:cNvGrpSpPr/>
          <p:nvPr/>
        </p:nvGrpSpPr>
        <p:grpSpPr>
          <a:xfrm>
            <a:off x="6334200" y="12600"/>
            <a:ext cx="2816280" cy="1219320"/>
            <a:chOff x="6334200" y="12600"/>
            <a:chExt cx="2816280" cy="1219320"/>
          </a:xfrm>
        </p:grpSpPr>
        <p:pic>
          <p:nvPicPr>
            <p:cNvPr id="324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6391440" y="47520"/>
              <a:ext cx="270504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is strategic planning done at different levels of the organization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6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FBDF19AA-1688-444C-81A6-BC8BF00EBC6B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" name="Picture 15" descr="نتيجة بحث الصور عن ‪boston matrix‬‏"/>
          <p:cNvPicPr/>
          <p:nvPr/>
        </p:nvPicPr>
        <p:blipFill>
          <a:blip r:embed="rId2"/>
          <a:stretch/>
        </p:blipFill>
        <p:spPr>
          <a:xfrm>
            <a:off x="4529160" y="2428920"/>
            <a:ext cx="4492440" cy="37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65040" y="7351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Assessing Growth Opportunitie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29" name="TextBox 5"/>
          <p:cNvGrpSpPr/>
          <p:nvPr/>
        </p:nvGrpSpPr>
        <p:grpSpPr>
          <a:xfrm>
            <a:off x="6334200" y="12600"/>
            <a:ext cx="2816280" cy="1219320"/>
            <a:chOff x="6334200" y="12600"/>
            <a:chExt cx="2816280" cy="1219320"/>
          </a:xfrm>
        </p:grpSpPr>
        <p:pic>
          <p:nvPicPr>
            <p:cNvPr id="330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6391440" y="47520"/>
              <a:ext cx="270504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is strategic planning done at different levels of the organization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2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1A537711-73B2-419F-A36E-77409046A024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Rectangle 2"/>
          <p:cNvSpPr/>
          <p:nvPr/>
        </p:nvSpPr>
        <p:spPr>
          <a:xfrm>
            <a:off x="396720" y="1655640"/>
            <a:ext cx="82296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 2.5: 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hree Intensive Growth Strategie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Ansoff’s Product–Market Expansion Grid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" name="Picture 9" descr="image"/>
          <p:cNvPicPr/>
          <p:nvPr/>
        </p:nvPicPr>
        <p:blipFill>
          <a:blip r:embed="rId2"/>
          <a:stretch/>
        </p:blipFill>
        <p:spPr>
          <a:xfrm>
            <a:off x="763560" y="2468520"/>
            <a:ext cx="712620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65040" y="7351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Assessing Growth Opportunitie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36" name="TextBox 5"/>
          <p:cNvGrpSpPr/>
          <p:nvPr/>
        </p:nvGrpSpPr>
        <p:grpSpPr>
          <a:xfrm>
            <a:off x="6334200" y="12600"/>
            <a:ext cx="2816280" cy="1219320"/>
            <a:chOff x="6334200" y="12600"/>
            <a:chExt cx="2816280" cy="1219320"/>
          </a:xfrm>
        </p:grpSpPr>
        <p:pic>
          <p:nvPicPr>
            <p:cNvPr id="337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6391440" y="47520"/>
              <a:ext cx="270504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is strategic planning done at different levels of the organization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9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A36F547A-6D15-4A1C-854F-5412A9789979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Rectangle 2"/>
          <p:cNvSpPr/>
          <p:nvPr/>
        </p:nvSpPr>
        <p:spPr>
          <a:xfrm>
            <a:off x="396720" y="1655640"/>
            <a:ext cx="82296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 2.5: 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hree Intensive Growth Strategie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Ansoff’s Product–Market Expansion Grid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Rectangle 1"/>
          <p:cNvSpPr/>
          <p:nvPr/>
        </p:nvSpPr>
        <p:spPr>
          <a:xfrm>
            <a:off x="787320" y="2652840"/>
            <a:ext cx="749772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centric Diversification – leveraging a company’s core technical know-how to diversify its current products into new marke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rizontal Diversification – the introduction of products that are unrelated to a company’s core products to existing marke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glomerate Diversification – the purchasing of another company in order to diversif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Business Unit Strategic Planning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4" name="TextBox 5"/>
          <p:cNvGrpSpPr/>
          <p:nvPr/>
        </p:nvGrpSpPr>
        <p:grpSpPr>
          <a:xfrm>
            <a:off x="6334200" y="12600"/>
            <a:ext cx="2816280" cy="1005120"/>
            <a:chOff x="6334200" y="12600"/>
            <a:chExt cx="2816280" cy="1005120"/>
          </a:xfrm>
        </p:grpSpPr>
        <p:pic>
          <p:nvPicPr>
            <p:cNvPr id="345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does a marketing plan include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7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4C623330-7370-4B80-89FB-70967DD4A908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8" name="TextBox 6"/>
          <p:cNvGrpSpPr/>
          <p:nvPr/>
        </p:nvGrpSpPr>
        <p:grpSpPr>
          <a:xfrm>
            <a:off x="6334200" y="12600"/>
            <a:ext cx="2816280" cy="1219320"/>
            <a:chOff x="6334200" y="12600"/>
            <a:chExt cx="2816280" cy="1219320"/>
          </a:xfrm>
        </p:grpSpPr>
        <p:pic>
          <p:nvPicPr>
            <p:cNvPr id="349" name="TextBox 6" descr=""/>
            <p:cNvPicPr/>
            <p:nvPr/>
          </p:nvPicPr>
          <p:blipFill>
            <a:blip r:embed="rId2"/>
            <a:stretch/>
          </p:blipFill>
          <p:spPr>
            <a:xfrm>
              <a:off x="6334200" y="12600"/>
              <a:ext cx="28162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6391440" y="47520"/>
              <a:ext cx="270504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is strategic planning done at different levels of the organization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1" name="Rectangle 2"/>
          <p:cNvSpPr/>
          <p:nvPr/>
        </p:nvSpPr>
        <p:spPr>
          <a:xfrm>
            <a:off x="396720" y="2170080"/>
            <a:ext cx="82296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 2.6: 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he Business Unit Strategic-Planning Process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Content Placeholder 2"/>
          <p:cNvSpPr/>
          <p:nvPr/>
        </p:nvSpPr>
        <p:spPr>
          <a:xfrm>
            <a:off x="365040" y="1282680"/>
            <a:ext cx="8229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usiness unit strategic-planning involves the steps shown in Fig 2.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Picture 14" descr="image"/>
          <p:cNvPicPr/>
          <p:nvPr/>
        </p:nvPicPr>
        <p:blipFill>
          <a:blip r:embed="rId3"/>
          <a:stretch/>
        </p:blipFill>
        <p:spPr>
          <a:xfrm>
            <a:off x="241200" y="3024360"/>
            <a:ext cx="86709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 2-</a:t>
            </a:r>
            <a:fld id="{F6EED162-4095-43F6-8653-4BE03AF08091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hapter Question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56720" y="1546200"/>
            <a:ext cx="783756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does marketing affect customer valu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is strategic planning carried out at different levels of the organizatio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does a marketing plan includ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65040" y="7351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Step 1: The Business Mission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55" name="TextBox 5"/>
          <p:cNvGrpSpPr/>
          <p:nvPr/>
        </p:nvGrpSpPr>
        <p:grpSpPr>
          <a:xfrm>
            <a:off x="6334200" y="12600"/>
            <a:ext cx="2816280" cy="1219320"/>
            <a:chOff x="6334200" y="12600"/>
            <a:chExt cx="2816280" cy="1219320"/>
          </a:xfrm>
        </p:grpSpPr>
        <p:pic>
          <p:nvPicPr>
            <p:cNvPr id="356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6391440" y="47520"/>
              <a:ext cx="270504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is strategic planning done at different levels of the organization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812E1A26-405D-4615-BA34-59AA055D0DEC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53880" y="1407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ach business unit needs to define its specific mission within the broader company miss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Title 1"/>
          <p:cNvSpPr/>
          <p:nvPr/>
        </p:nvSpPr>
        <p:spPr>
          <a:xfrm>
            <a:off x="360360" y="3000240"/>
            <a:ext cx="8229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Step 2: SWOT Analy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Content Placeholder 2"/>
          <p:cNvSpPr/>
          <p:nvPr/>
        </p:nvSpPr>
        <p:spPr>
          <a:xfrm>
            <a:off x="369720" y="3757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engths, Weaknesses, Opportunities, Threa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For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onitoring the external and internal marketing enviro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TextBox 5"/>
          <p:cNvGrpSpPr/>
          <p:nvPr/>
        </p:nvGrpSpPr>
        <p:grpSpPr>
          <a:xfrm>
            <a:off x="6334200" y="12600"/>
            <a:ext cx="2816280" cy="1219320"/>
            <a:chOff x="6334200" y="12600"/>
            <a:chExt cx="2816280" cy="1219320"/>
          </a:xfrm>
        </p:grpSpPr>
        <p:pic>
          <p:nvPicPr>
            <p:cNvPr id="363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6391440" y="47520"/>
              <a:ext cx="270504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is strategic planning done at different levels of the organization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5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8F596321-AD72-493E-944F-82C1E10EF72B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SWOT Analysi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pic>
        <p:nvPicPr>
          <p:cNvPr id="367" name="Picture 2" descr="نتيجة بحث الصور عن ‪swot analysis‬‏"/>
          <p:cNvPicPr/>
          <p:nvPr/>
        </p:nvPicPr>
        <p:blipFill>
          <a:blip r:embed="rId2"/>
          <a:stretch/>
        </p:blipFill>
        <p:spPr>
          <a:xfrm>
            <a:off x="1420920" y="1914480"/>
            <a:ext cx="6269040" cy="350208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3"/>
          <p:cNvSpPr/>
          <p:nvPr/>
        </p:nvSpPr>
        <p:spPr>
          <a:xfrm>
            <a:off x="3132720" y="6075360"/>
            <a:ext cx="287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bert S. Humphrey in the 1960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65040" y="7351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Step 1: The Business Mission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70" name="TextBox 5"/>
          <p:cNvGrpSpPr/>
          <p:nvPr/>
        </p:nvGrpSpPr>
        <p:grpSpPr>
          <a:xfrm>
            <a:off x="6334200" y="12600"/>
            <a:ext cx="2816280" cy="1219320"/>
            <a:chOff x="6334200" y="12600"/>
            <a:chExt cx="2816280" cy="1219320"/>
          </a:xfrm>
        </p:grpSpPr>
        <p:pic>
          <p:nvPicPr>
            <p:cNvPr id="371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6391440" y="47520"/>
              <a:ext cx="270504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is strategic planning done at different levels of the organization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ED908AF4-D5DB-4063-A90E-3B672EA01208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4" name="Picture 2" descr="http://pas-wordpress-media.s3.amazonaws.com/wp-content/uploads/2013/09/tows_small.jpg"/>
          <p:cNvPicPr/>
          <p:nvPr/>
        </p:nvPicPr>
        <p:blipFill>
          <a:blip r:embed="rId2"/>
          <a:stretch/>
        </p:blipFill>
        <p:spPr>
          <a:xfrm>
            <a:off x="357120" y="2293920"/>
            <a:ext cx="828036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65040" y="7351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Step 3: Goal Formulation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76" name="TextBox 5"/>
          <p:cNvGrpSpPr/>
          <p:nvPr/>
        </p:nvGrpSpPr>
        <p:grpSpPr>
          <a:xfrm>
            <a:off x="6334200" y="12600"/>
            <a:ext cx="2816280" cy="1219320"/>
            <a:chOff x="6334200" y="12600"/>
            <a:chExt cx="2816280" cy="1219320"/>
          </a:xfrm>
        </p:grpSpPr>
        <p:pic>
          <p:nvPicPr>
            <p:cNvPr id="377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6391440" y="47520"/>
              <a:ext cx="270504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is strategic planning done at different levels of the organization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9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83087FBE-95A5-497C-A394-3765B3700F6C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it’s objectives must be hierarchic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jectives should be quantita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als should be realist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jectives must be consist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1" name="Picture 9" descr="صورة ذات صلة"/>
          <p:cNvPicPr/>
          <p:nvPr/>
        </p:nvPicPr>
        <p:blipFill>
          <a:blip r:embed="rId2"/>
          <a:srcRect l="0" t="0" r="0" b="4948"/>
          <a:stretch/>
        </p:blipFill>
        <p:spPr>
          <a:xfrm>
            <a:off x="6566040" y="2786040"/>
            <a:ext cx="204624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65040" y="7351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Step 4: Strategic Formulation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83" name="TextBox 5"/>
          <p:cNvGrpSpPr/>
          <p:nvPr/>
        </p:nvGrpSpPr>
        <p:grpSpPr>
          <a:xfrm>
            <a:off x="6334200" y="12600"/>
            <a:ext cx="2816280" cy="1219320"/>
            <a:chOff x="6334200" y="12600"/>
            <a:chExt cx="2816280" cy="1219320"/>
          </a:xfrm>
        </p:grpSpPr>
        <p:pic>
          <p:nvPicPr>
            <p:cNvPr id="384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6391440" y="47520"/>
              <a:ext cx="270504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is strategic planning done at different levels of the organization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86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41F73EC0-184A-458D-BEAD-0E58F656F835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365040" y="1546200"/>
            <a:ext cx="35942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Verdana"/>
              </a:rPr>
              <a:t>Porter’s Generic Strateg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8" name="Picture 9" descr="Porter's Generic Strategies Diagram"/>
          <p:cNvPicPr/>
          <p:nvPr/>
        </p:nvPicPr>
        <p:blipFill>
          <a:blip r:embed="rId2"/>
          <a:stretch/>
        </p:blipFill>
        <p:spPr>
          <a:xfrm>
            <a:off x="3122640" y="1279440"/>
            <a:ext cx="560232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65040" y="7351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(Step 4: Strategic Formulation)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90" name="TextBox 5"/>
          <p:cNvGrpSpPr/>
          <p:nvPr/>
        </p:nvGrpSpPr>
        <p:grpSpPr>
          <a:xfrm>
            <a:off x="6334200" y="12600"/>
            <a:ext cx="2816280" cy="1219320"/>
            <a:chOff x="6334200" y="12600"/>
            <a:chExt cx="2816280" cy="1219320"/>
          </a:xfrm>
        </p:grpSpPr>
        <p:pic>
          <p:nvPicPr>
            <p:cNvPr id="391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6391440" y="47520"/>
              <a:ext cx="270504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is strategic planning done at different levels of the organization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34ECFFBD-B72B-468C-8D47-092D496FCAB7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Verdana"/>
              </a:rPr>
              <a:t>Strategic Allia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re are four major categories of marketing allianc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duct or service allia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motional allia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istics allia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cing collabor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65040" y="7351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Step 5: Program Formulation and</a:t>
            </a:r>
            <a:br>
              <a:rPr sz="2400"/>
            </a:b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Implementation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96" name="TextBox 5"/>
          <p:cNvGrpSpPr/>
          <p:nvPr/>
        </p:nvGrpSpPr>
        <p:grpSpPr>
          <a:xfrm>
            <a:off x="6334200" y="12600"/>
            <a:ext cx="2816280" cy="1219320"/>
            <a:chOff x="6334200" y="12600"/>
            <a:chExt cx="2816280" cy="1219320"/>
          </a:xfrm>
        </p:grpSpPr>
        <p:pic>
          <p:nvPicPr>
            <p:cNvPr id="397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6391440" y="47520"/>
              <a:ext cx="270504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is strategic planning done at different levels of the organization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9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AEE4DCD7-6FCD-4355-BB6F-29532EE1655B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365040" y="1671480"/>
            <a:ext cx="822960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pends 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ear formulation of marketing progr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curate cost plan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etent implemen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itle 1"/>
          <p:cNvSpPr/>
          <p:nvPr/>
        </p:nvSpPr>
        <p:spPr>
          <a:xfrm>
            <a:off x="392040" y="4094280"/>
            <a:ext cx="822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Step 6: Feedback and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392040" y="4703760"/>
            <a:ext cx="82296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key to organizational health is willingness to examine the changing environment and adopt new goals and behavio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5884920" y="2495520"/>
            <a:ext cx="2828880" cy="14083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C:\Users\User\AppData\Local\Microsoft\Windows\Temporary Internet Files\Content.IE5\XHNASMRZ\MC900432586[1].png"/>
          <p:cNvPicPr/>
          <p:nvPr/>
        </p:nvPicPr>
        <p:blipFill>
          <a:blip r:embed="rId3"/>
          <a:stretch/>
        </p:blipFill>
        <p:spPr>
          <a:xfrm>
            <a:off x="8334360" y="2133720"/>
            <a:ext cx="62064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Marketing Plan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7" name="TextBox 5"/>
          <p:cNvGrpSpPr/>
          <p:nvPr/>
        </p:nvGrpSpPr>
        <p:grpSpPr>
          <a:xfrm>
            <a:off x="6334200" y="12600"/>
            <a:ext cx="2816280" cy="1005120"/>
            <a:chOff x="6334200" y="12600"/>
            <a:chExt cx="2816280" cy="1005120"/>
          </a:xfrm>
        </p:grpSpPr>
        <p:pic>
          <p:nvPicPr>
            <p:cNvPr id="408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does a marketing plan include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0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3346EBEE-9857-49D1-8D8E-4526DD5B7045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Rectangle 3"/>
          <p:cNvSpPr/>
          <p:nvPr/>
        </p:nvSpPr>
        <p:spPr>
          <a:xfrm>
            <a:off x="517680" y="169848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rketing pl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the central instrument for direc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46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coordinating the marketing effort. It operates at 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46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ategic and tactical level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46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002060"/>
                </a:solidFill>
                <a:latin typeface="Verdana"/>
              </a:rPr>
              <a:t>Levels of a Marketing Plan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61760" y="1881000"/>
            <a:ext cx="3778200" cy="4290840"/>
          </a:xfrm>
          <a:prstGeom prst="rect">
            <a:avLst/>
          </a:prstGeom>
          <a:noFill/>
          <a:ln w="57240">
            <a:solidFill>
              <a:srgbClr val="007d53"/>
            </a:solidFill>
            <a:miter/>
          </a:ln>
        </p:spPr>
        <p:txBody>
          <a:bodyPr lIns="0" tIns="0" anchor="t">
            <a:normAutofit/>
          </a:bodyPr>
          <a:p>
            <a:pPr marL="23184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rateg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marketing deci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lue proposi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sis of marketing opportun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9640" y="1881000"/>
            <a:ext cx="3778200" cy="4290840"/>
          </a:xfrm>
          <a:prstGeom prst="rect">
            <a:avLst/>
          </a:prstGeom>
          <a:noFill/>
          <a:ln w="57240">
            <a:solidFill>
              <a:srgbClr val="007d53"/>
            </a:solidFill>
            <a:miter/>
          </a:ln>
        </p:spPr>
        <p:txBody>
          <a:bodyPr lIns="0" tIns="0" anchor="t">
            <a:normAutofit/>
          </a:bodyPr>
          <a:p>
            <a:pPr marL="17784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actic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duct feat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mo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rchandis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c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les chann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5" name="TextBox 5"/>
          <p:cNvGrpSpPr/>
          <p:nvPr/>
        </p:nvGrpSpPr>
        <p:grpSpPr>
          <a:xfrm>
            <a:off x="6334200" y="12600"/>
            <a:ext cx="2816280" cy="1005120"/>
            <a:chOff x="6334200" y="12600"/>
            <a:chExt cx="2816280" cy="1005120"/>
          </a:xfrm>
        </p:grpSpPr>
        <p:pic>
          <p:nvPicPr>
            <p:cNvPr id="416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does a marketing plan include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5B8A9680-D972-49B4-9E23-B2C5E2FA352F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002060"/>
                </a:solidFill>
                <a:latin typeface="Verdana"/>
              </a:rPr>
              <a:t>Marketing Plan Content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20" name="AutoShape 3"/>
          <p:cNvSpPr/>
          <p:nvPr/>
        </p:nvSpPr>
        <p:spPr>
          <a:xfrm>
            <a:off x="838080" y="1905120"/>
            <a:ext cx="7391520" cy="342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d4f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61840">
              <a:spcBef>
                <a:spcPts val="125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Executive summ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861840">
              <a:spcBef>
                <a:spcPts val="125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Table of cont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861840">
              <a:spcBef>
                <a:spcPts val="125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ituation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861840">
              <a:spcBef>
                <a:spcPts val="125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Marketing strate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861840">
              <a:spcBef>
                <a:spcPts val="125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inancial proj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861840">
              <a:spcBef>
                <a:spcPts val="125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Implementation contr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21" name="TextBox 5"/>
          <p:cNvGrpSpPr/>
          <p:nvPr/>
        </p:nvGrpSpPr>
        <p:grpSpPr>
          <a:xfrm>
            <a:off x="6334200" y="12600"/>
            <a:ext cx="2816280" cy="1005120"/>
            <a:chOff x="6334200" y="12600"/>
            <a:chExt cx="2816280" cy="1005120"/>
          </a:xfrm>
        </p:grpSpPr>
        <p:pic>
          <p:nvPicPr>
            <p:cNvPr id="422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does a marketing plan include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4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C16A45A3-5ABB-439C-A51D-5C1C2054657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Marketing and Customer Value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task of any business is to deliver customer value at a profi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 a competitive market, a company can win only by fine-tuning the value delivery process and choosing, providing, and communicating superior val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3" name="TextBox 5"/>
          <p:cNvGrpSpPr/>
          <p:nvPr/>
        </p:nvGrpSpPr>
        <p:grpSpPr>
          <a:xfrm>
            <a:off x="6334200" y="12600"/>
            <a:ext cx="2840040" cy="1005120"/>
            <a:chOff x="6334200" y="12600"/>
            <a:chExt cx="2840040" cy="1005120"/>
          </a:xfrm>
        </p:grpSpPr>
        <p:pic>
          <p:nvPicPr>
            <p:cNvPr id="184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4004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es marketing affect customer value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6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DA656E28-2E6B-45D9-B294-055801A826C6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75760" y="3218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002060"/>
                </a:solidFill>
                <a:latin typeface="Verdana"/>
              </a:rPr>
              <a:t>Evaluating a Marketing Plan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426" name="TextBox 4"/>
          <p:cNvGrpSpPr/>
          <p:nvPr/>
        </p:nvGrpSpPr>
        <p:grpSpPr>
          <a:xfrm>
            <a:off x="6334200" y="12600"/>
            <a:ext cx="2816280" cy="1005120"/>
            <a:chOff x="6334200" y="12600"/>
            <a:chExt cx="2816280" cy="1005120"/>
          </a:xfrm>
        </p:grpSpPr>
        <p:pic>
          <p:nvPicPr>
            <p:cNvPr id="427" name="TextBox 4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does a marketing plan include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9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57389D68-90D8-4B98-AE47-7CEB04A006DE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0" name="Picture 9" descr="صورة ذات صلة"/>
          <p:cNvPicPr/>
          <p:nvPr/>
        </p:nvPicPr>
        <p:blipFill>
          <a:blip r:embed="rId2"/>
          <a:srcRect l="0" t="0" r="0" b="4948"/>
          <a:stretch/>
        </p:blipFill>
        <p:spPr>
          <a:xfrm>
            <a:off x="2847960" y="1341360"/>
            <a:ext cx="3289320" cy="49323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Credit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lide 1 Corbis: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li Haider / epa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lide 6 Alamy Images: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Barry Iverso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lide 8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George S. Day and Paul J. H. Schoemaker, </a:t>
            </a: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Peripheral Vision: Detecting the Weak Signals That Will Make or Break Your Company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(Boston: Harvard Business School Press, 2006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lide 10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. Kotler, D. C. Jain, and S. Maesincee, “Formulating a Market Renewal Strategy,” in Marketing Moves (Part 1), Fig. 1-1 (Boston: Harvard Business School Press, 2002), p. 29. Copyright © 2002 by President and Fellows of Harvard College. All rights reserv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lide 15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Orbit Company website, www.orbit-iq.com; Mobily Saudi Arabia company website, www.mobily.com.sa; eBay company website, www.ebay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lide 20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alem Alforaih Photography, photographersdirect.com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lide 21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dapted and reprinted by permission, Harvard Business Review. From “Strategies for Diversification,” by Igor Ansoff, September–October 1957. Copyright © 1957 by the President and Fellows of Harvard College. All rights reserv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lide 23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Getty Images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Justin Sulliva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65040" y="798480"/>
            <a:ext cx="8229600" cy="4968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The Value Delivery Proces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value creation and delivery sequence can be divided into three pha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hoosing the val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viding the val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mmunicating the val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9" name="TextBox 5"/>
          <p:cNvGrpSpPr/>
          <p:nvPr/>
        </p:nvGrpSpPr>
        <p:grpSpPr>
          <a:xfrm>
            <a:off x="6334200" y="12600"/>
            <a:ext cx="2840040" cy="1005120"/>
            <a:chOff x="6334200" y="12600"/>
            <a:chExt cx="2840040" cy="1005120"/>
          </a:xfrm>
        </p:grpSpPr>
        <p:pic>
          <p:nvPicPr>
            <p:cNvPr id="190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4004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es marketing affect customer value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2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A3081472-093D-414F-A0DC-F4896F0EBDC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65040" y="798480"/>
            <a:ext cx="8229600" cy="4968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The Value Chain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 cha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a tool for identifying ways to create more customer valu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the value chain model, every firm is a synthesis of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rimary and support activiti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5" name="TextBox 5"/>
          <p:cNvGrpSpPr/>
          <p:nvPr/>
        </p:nvGrpSpPr>
        <p:grpSpPr>
          <a:xfrm>
            <a:off x="6334200" y="12600"/>
            <a:ext cx="2840040" cy="1005120"/>
            <a:chOff x="6334200" y="12600"/>
            <a:chExt cx="2840040" cy="1005120"/>
          </a:xfrm>
        </p:grpSpPr>
        <p:pic>
          <p:nvPicPr>
            <p:cNvPr id="196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4004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es marketing affect customer value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4EB3A502-DFEC-47ED-B7BD-62C0850640A7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65040" y="798480"/>
            <a:ext cx="8229600" cy="4968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The Value Chain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00" name="TextBox 5"/>
          <p:cNvGrpSpPr/>
          <p:nvPr/>
        </p:nvGrpSpPr>
        <p:grpSpPr>
          <a:xfrm>
            <a:off x="6334200" y="12600"/>
            <a:ext cx="2840040" cy="1005120"/>
            <a:chOff x="6334200" y="12600"/>
            <a:chExt cx="2840040" cy="1005120"/>
          </a:xfrm>
        </p:grpSpPr>
        <p:pic>
          <p:nvPicPr>
            <p:cNvPr id="201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4004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es marketing affect customer value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DA235F19-0AAE-4428-877A-ECB5F5249D72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Picture 2" descr="نتيجة بحث الصور عن ‪value chain analysis‬‏"/>
          <p:cNvPicPr/>
          <p:nvPr/>
        </p:nvPicPr>
        <p:blipFill>
          <a:blip r:embed="rId2"/>
          <a:stretch/>
        </p:blipFill>
        <p:spPr>
          <a:xfrm>
            <a:off x="990720" y="1700280"/>
            <a:ext cx="715644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725040" y="1293840"/>
            <a:ext cx="786924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ket-sensing pro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-offering realization pro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stomer acquisition pro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stomer relationship management pro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fillment management pro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6" name="TextBox 4"/>
          <p:cNvGrpSpPr/>
          <p:nvPr/>
        </p:nvGrpSpPr>
        <p:grpSpPr>
          <a:xfrm>
            <a:off x="6334200" y="12600"/>
            <a:ext cx="2840040" cy="1005120"/>
            <a:chOff x="6334200" y="12600"/>
            <a:chExt cx="2840040" cy="1005120"/>
          </a:xfrm>
        </p:grpSpPr>
        <p:pic>
          <p:nvPicPr>
            <p:cNvPr id="207" name="TextBox 4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4004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es marketing affect customer value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9" name="Rectangle 2"/>
          <p:cNvSpPr/>
          <p:nvPr/>
        </p:nvSpPr>
        <p:spPr>
          <a:xfrm>
            <a:off x="650880" y="384120"/>
            <a:ext cx="79437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en-US" sz="2000" spc="-1" strike="noStrike">
                <a:solidFill>
                  <a:srgbClr val="002060"/>
                </a:solidFill>
                <a:latin typeface="Verdana"/>
              </a:rPr>
              <a:t>Core business proce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extBox 8"/>
          <p:cNvSpPr/>
          <p:nvPr/>
        </p:nvSpPr>
        <p:spPr>
          <a:xfrm>
            <a:off x="4708440" y="5802480"/>
            <a:ext cx="405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0c0"/>
                </a:solidFill>
                <a:latin typeface="Verdana"/>
              </a:rPr>
              <a:t>Saudi Aramco manages business operations through cross-functional team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BDC5E63B-5F0E-495E-AB0C-994EFF014542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Picture 11" descr="Untitled"/>
          <p:cNvPicPr/>
          <p:nvPr/>
        </p:nvPicPr>
        <p:blipFill>
          <a:blip r:embed="rId2"/>
          <a:stretch/>
        </p:blipFill>
        <p:spPr>
          <a:xfrm>
            <a:off x="5253120" y="3529080"/>
            <a:ext cx="3263760" cy="21574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1520" y="468360"/>
            <a:ext cx="813276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Core Competencie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ree characteristics of core competenci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ource of competitive advantag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lications in a wide variety of marke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icult for competitors to imita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etitive advantag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5" name="TextBox 4"/>
          <p:cNvGrpSpPr/>
          <p:nvPr/>
        </p:nvGrpSpPr>
        <p:grpSpPr>
          <a:xfrm>
            <a:off x="6334200" y="12600"/>
            <a:ext cx="2840040" cy="1005120"/>
            <a:chOff x="6334200" y="12600"/>
            <a:chExt cx="2840040" cy="1005120"/>
          </a:xfrm>
        </p:grpSpPr>
        <p:pic>
          <p:nvPicPr>
            <p:cNvPr id="216" name="TextBox 4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4004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es marketing affect customer value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B27A8BC6-2AE9-420D-80E2-24D6B673FB2C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10:33:38Z</dcterms:created>
  <dc:creator>fay gibbons</dc:creator>
  <dc:description>www.showcase-online.co.uk
0207 484 8080</dc:description>
  <dc:language>en-US</dc:language>
  <cp:lastModifiedBy>Sony</cp:lastModifiedBy>
  <dcterms:modified xsi:type="dcterms:W3CDTF">2017-10-03T14:56:24Z</dcterms:modified>
  <cp:revision>75</cp:revision>
  <dc:subject/>
  <dc:title>Slide 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S_version">
    <vt:lpwstr>v1.0.1</vt:lpwstr>
  </property>
</Properties>
</file>