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3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8D16F3-8178-4D7C-A1B6-7BA33C465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C0ED25-B08C-429F-91AB-5CA06070F7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holistic marketing framework is designed to address three key management questions, as follow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1. Value exploration. How can a company identify new value opportunitie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2. Value creation. How can a company efficiently create more promising new value offering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3. Value delivery. How can a company use its capabilities and infrastructure to deliver the new value offerings more efficientl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D000B4-77F2-4A93-90E6-5960E3FE79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F5FED2-B8B4-4BD1-894A-64DBCD8ED1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6B3E42-CA74-4BC0-B794-1A62B5C27F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070D0E-DD8A-46F4-8FB2-90A3BA9988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71B753-9D95-4A1D-A88D-28613CBBE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2C1573C-2111-474F-989B-C3330BB3EC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206504-0ED2-4E74-82BF-8793F4AA81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B5BF6A-2E9F-4EA2-B3D6-407BB794C4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0BB4-2246-4A00-B664-C70C3B950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1FE3-0B5F-4063-AFCF-81D2F1D92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AEAF-E6A2-4452-A880-409B7A394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1CEF-E7B8-41A6-936C-F702C1D08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91230-E3DA-4723-BF12-B26B98FB5F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4BC7C-C1E9-458B-8C26-4F2BDBE71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EA77C-DF81-4356-B1D5-06FE31F504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035E6-E087-4480-9A3F-29166151A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69D28-DAA7-467B-972B-F56CF57F87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9B7C8-FC4D-43D4-B576-F44CE605F2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D300-1564-4E43-924F-04C6DEBB8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4FF2-1EF8-4286-B540-B8FF94C49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8CB84-58B2-4EEB-8AB7-BC28FCD53F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2B96-E17F-49A7-A3A8-2B3E505A6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9F8F8-93D2-4FFD-B15D-12A27EF89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992B5-25B2-4125-BEA4-02F1D76C7D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80651-748E-4557-A952-DCEF52E916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9031-580D-4F2C-B501-6815BD8D8E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209D-FF79-4ED8-80A7-A2019F0A6C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8301-3186-4F72-8BEA-95A23A024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0561-E9D3-4EBA-8C1D-4DCBC8864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B588-9C1E-45D1-A717-1F85A243D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14C8-C1F6-413F-923A-656BBD110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8A62-AC43-4A27-B845-311F6CA61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EF45-C44E-471D-A5BE-33AB6C9D605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4B79-7C86-46DE-8799-A3A20074995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.1: Becoming a Vigilant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TextBox 6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21" name="TextBox 6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9EB7EEB5-EB64-4C50-B766-A36D684CC6C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8" descr="Untitled"/>
          <p:cNvPicPr/>
          <p:nvPr/>
        </p:nvPicPr>
        <p:blipFill>
          <a:blip r:embed="rId2"/>
          <a:stretch/>
        </p:blipFill>
        <p:spPr>
          <a:xfrm>
            <a:off x="1209600" y="1565280"/>
            <a:ext cx="7045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he Holistic Marketing Concept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4600" y="1526760"/>
            <a:ext cx="8089920" cy="4475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22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has marketing management chan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-</a:t>
            </a:r>
            <a:fld id="{988E7750-6AEA-41B7-AD68-D66C1D24E86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9" descr="Untitled"/>
          <p:cNvPicPr/>
          <p:nvPr/>
        </p:nvPicPr>
        <p:blipFill>
          <a:blip r:embed="rId2"/>
          <a:stretch/>
        </p:blipFill>
        <p:spPr>
          <a:xfrm>
            <a:off x="1351080" y="1960560"/>
            <a:ext cx="6286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773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 Holistic Marketing Orientation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d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5040" y="1923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76000"/>
          </a:bodyPr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listic 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es itself as integrat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explo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cre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 delive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ctiv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0640" indent="0" algn="ctr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the purpose of building long-term, mutually satisfying relationships and prosperity among key stakeho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35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2F88846A-D9CF-4788-8A01-2E8BA1A0CCC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39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Rectangle 2"/>
          <p:cNvSpPr/>
          <p:nvPr/>
        </p:nvSpPr>
        <p:spPr>
          <a:xfrm>
            <a:off x="396720" y="1214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2: A Holistic Marketing Framework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73A052F-6AA0-461D-B010-73E1FF9C558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8" descr="Untitled"/>
          <p:cNvPicPr/>
          <p:nvPr/>
        </p:nvPicPr>
        <p:blipFill>
          <a:blip r:embed="rId2"/>
          <a:stretch/>
        </p:blipFill>
        <p:spPr>
          <a:xfrm>
            <a:off x="1366920" y="1628640"/>
            <a:ext cx="6289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45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0A79BC6-FB3F-4667-9D89-2E541F2CEC2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2815560" y="275436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Verdana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6200" y="9457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The Central Role of Strategic 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0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51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3" name="Rectangle 2"/>
          <p:cNvSpPr/>
          <p:nvPr/>
        </p:nvSpPr>
        <p:spPr>
          <a:xfrm>
            <a:off x="396720" y="19191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3: The Strategic Planning, Implementation, and Control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6E14F0A-616E-4159-8B3F-8695153FC5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9" descr="image"/>
          <p:cNvPicPr/>
          <p:nvPr/>
        </p:nvPicPr>
        <p:blipFill>
          <a:blip r:embed="rId2"/>
          <a:stretch/>
        </p:blipFill>
        <p:spPr>
          <a:xfrm>
            <a:off x="487440" y="2209680"/>
            <a:ext cx="8043840" cy="4056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rporate and Division Strategic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corporate headquarters undertake four planning activi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Defining the corporate 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Establishing strategic business units (SBU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Assigning resources to each SB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Assessing growth opportun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’ll look at each proc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5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11443BE-4728-4F9B-AA1A-571C7A0845F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the Corporate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mission statem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a limited number of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major policies and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ajor competitive sphe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 long-term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short, memorable and meaning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CF249458-1177-4EBE-A060-EA06AA4CCF4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the Corporate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040" y="1546200"/>
            <a:ext cx="441792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 statements define the major competitive spheres in which the company will oper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tical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3AA1ED28-41AD-4B45-967B-884276BB094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Diagram 1" descr=""/>
          <p:cNvPicPr/>
          <p:nvPr/>
        </p:nvPicPr>
        <p:blipFill>
          <a:blip r:embed="rId2"/>
          <a:stretch/>
        </p:blipFill>
        <p:spPr>
          <a:xfrm>
            <a:off x="4541760" y="2266920"/>
            <a:ext cx="4095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xample Mission State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77A99BB3-9974-4DBA-8D80-CA9194DBFB4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816120" y="1857240"/>
            <a:ext cx="70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o Clin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o inspire hope and contribute to health and well-being by providing the best care to every patient through integrated clinical practice, education and research. (2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851040" y="4076640"/>
            <a:ext cx="705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bic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r mission is to responsibly provide quality products and services through innovation, learning and operational excellence while sustaining maximum value for our stakehol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,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85840" y="2973240"/>
            <a:ext cx="819612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es an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Untitled"/>
          <p:cNvPicPr/>
          <p:nvPr/>
        </p:nvPicPr>
        <p:blipFill>
          <a:blip r:embed="rId1"/>
          <a:stretch/>
        </p:blipFill>
        <p:spPr>
          <a:xfrm>
            <a:off x="4255920" y="2619360"/>
            <a:ext cx="438156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087571D-39A6-46DE-94ED-4F143039250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504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5d"/>
                </a:solidFill>
                <a:latin typeface="Verdana"/>
              </a:rPr>
              <a:t>Vision vs. Mission</a:t>
            </a:r>
            <a:br>
              <a:rPr sz="2800"/>
            </a:br>
            <a:endParaRPr b="1" lang="en-US" sz="28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87" name="Diagram 10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4138560" cy="7189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5"/>
          <p:cNvSpPr/>
          <p:nvPr/>
        </p:nvSpPr>
        <p:spPr>
          <a:xfrm>
            <a:off x="457200" y="1900080"/>
            <a:ext cx="404028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es the organization’s reason for being, and how it aims to serve its key stake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ten integrates a summation of the firm’s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ission statements tend to be longer than vision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Diagram 12" descr=""/>
          <p:cNvPicPr/>
          <p:nvPr/>
        </p:nvPicPr>
        <p:blipFill>
          <a:blip r:embed="rId3"/>
          <a:stretch/>
        </p:blipFill>
        <p:spPr>
          <a:xfrm>
            <a:off x="4565520" y="1255680"/>
            <a:ext cx="4170600" cy="762120"/>
          </a:xfrm>
          <a:prstGeom prst="rect">
            <a:avLst/>
          </a:prstGeom>
          <a:ln w="0">
            <a:noFill/>
          </a:ln>
        </p:spPr>
      </p:pic>
      <p:sp>
        <p:nvSpPr>
          <p:cNvPr id="290" name="Content Placeholder 7"/>
          <p:cNvSpPr/>
          <p:nvPr/>
        </p:nvSpPr>
        <p:spPr>
          <a:xfrm>
            <a:off x="4645080" y="1900080"/>
            <a:ext cx="404172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uture-orien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claration of the organization’s purpose and aspiration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dres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a firm wants to be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sion statements tend to be relatively br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9D3F5D8-D9DA-4C47-BB8B-2B9ACF571BD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80880" y="31104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siness Vi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33520" y="1657440"/>
            <a:ext cx="822960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tatement that clearly defines the firm’s “reason” for being in busi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gnificantly stretc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the resources and capabilities of the 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insp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ople in the organization to achieve things they never thought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ni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people in the organization toward the pursuit of one common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29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ECE4D666-DAA8-4F55-8976-F30938F7EE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80880" y="31104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usiness Vi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571680" y="1892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uiding philoso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stent with organizational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ed by the strengths and weaknesses of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6720" y="1424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2.1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roduct-Oriented versus Market-Oriented Definitions of a Business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0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72239253-6CFB-40EB-AAAE-937D5B39CE6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8" descr="image"/>
          <p:cNvPicPr/>
          <p:nvPr/>
        </p:nvPicPr>
        <p:blipFill>
          <a:blip r:embed="rId2"/>
          <a:stretch/>
        </p:blipFill>
        <p:spPr>
          <a:xfrm>
            <a:off x="349200" y="2201760"/>
            <a:ext cx="8540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stablishing Strategic Busines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9280" y="25113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ingle business or collection of related businesses that can be planned separately from the rest of the company, with its own set of competitors and a manager who is responsible for strategic planning and profit performance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1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112A22F-6768-48D0-AC4F-5C2270468FE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stablishing Strategic Busines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65040" y="17650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SBU has three characteristics, as foll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t is a single business, or related businesses, that can be planned separately from the rest of the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It has its own set of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It has a manager responsible for strategic planning and profit perform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C5653605-327B-4870-BCD8-9A866C62BA0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igning Resources to Each SBU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1244520"/>
            <a:ext cx="4093920" cy="5199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ston Consulting Group’s Growth-Share Matrix can be used to make investment decisions. Defines four types of SBU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 Stars: high-growth market, high-share produ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Cash cows: low-growth market, high-share produ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Question marks: low-share product, high-growth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7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Dogs: low-share product, low-growth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7D7D0284-359E-4A4A-8A37-7BFC3435E69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15" descr="نتيجة بحث الصور عن ‪boston matrix‬‏"/>
          <p:cNvPicPr/>
          <p:nvPr/>
        </p:nvPicPr>
        <p:blipFill>
          <a:blip r:embed="rId2"/>
          <a:stretch/>
        </p:blipFill>
        <p:spPr>
          <a:xfrm>
            <a:off x="4529160" y="2428920"/>
            <a:ext cx="44924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essing Growth Opportun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9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3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34B3AFE1-248D-4053-8FD1-54EDF1C7570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396720" y="165564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5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ree Intensive Growth Strategi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nsoff’s Product–Market Expansion Grid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9" descr="image"/>
          <p:cNvPicPr/>
          <p:nvPr/>
        </p:nvPicPr>
        <p:blipFill>
          <a:blip r:embed="rId2"/>
          <a:stretch/>
        </p:blipFill>
        <p:spPr>
          <a:xfrm>
            <a:off x="763560" y="2468520"/>
            <a:ext cx="7126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essing Growth Opportunit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4E0167FB-F9B5-4F43-928D-78176C088A3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396720" y="165564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5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ree Intensive Growth Strategi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nsoff’s Product–Market Expansion Grid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787320" y="2652840"/>
            <a:ext cx="7497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ntric Diversification – leveraging a company’s core technical know-how to diversify its current products into new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rizontal Diversification – the introduction of products that are unrelated to a company’s core products to existing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glomerate Diversification – the purchasing of another company in order to diversif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siness Unit Strategic Plann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2374FBAF-8FF4-4C43-8163-E2325DA7C73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8" name="TextBox 6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49" name="TextBox 6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Rectangle 2"/>
          <p:cNvSpPr/>
          <p:nvPr/>
        </p:nvSpPr>
        <p:spPr>
          <a:xfrm>
            <a:off x="396720" y="217008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 2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Business Unit Strategic-Plann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Content Placeholder 2"/>
          <p:cNvSpPr/>
          <p:nvPr/>
        </p:nvSpPr>
        <p:spPr>
          <a:xfrm>
            <a:off x="365040" y="128268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siness unit strategic-planning involves the steps shown in Fig 2.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14" descr="image"/>
          <p:cNvPicPr/>
          <p:nvPr/>
        </p:nvPicPr>
        <p:blipFill>
          <a:blip r:embed="rId3"/>
          <a:stretch/>
        </p:blipFill>
        <p:spPr>
          <a:xfrm>
            <a:off x="241200" y="3024360"/>
            <a:ext cx="8670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 2-</a:t>
            </a:r>
            <a:fld id="{94B55BF9-4564-4110-A1AF-66A48DDFC22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6720" y="1546200"/>
            <a:ext cx="783756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marketing affect customer val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strategic planning carried out at different levels of the organiz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a marketing plan incl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The Business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5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111AD695-141A-4F91-84C6-D6EEF68C587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3880" y="1407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business unit needs to define its specific mission within the broader company mi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360360" y="3000240"/>
            <a:ext cx="8229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SWOT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369720" y="3757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, Weaknesses, Opportunities,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Fo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ing the external and internal market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6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F091065A-1947-4BBA-8F33-F638B3B214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WOT Analysi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367" name="Picture 2" descr="نتيجة بحث الصور عن ‪swot analysis‬‏"/>
          <p:cNvPicPr/>
          <p:nvPr/>
        </p:nvPicPr>
        <p:blipFill>
          <a:blip r:embed="rId2"/>
          <a:stretch/>
        </p:blipFill>
        <p:spPr>
          <a:xfrm>
            <a:off x="1420920" y="1914480"/>
            <a:ext cx="6269040" cy="35020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3132720" y="607536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bert S. Humphrey in the 1960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The Business Miss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7FA7B21-3354-457D-B9E6-C4DE189AB15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http://pas-wordpress-media.s3.amazonaws.com/wp-content/uploads/2013/09/tows_small.jpg"/>
          <p:cNvPicPr/>
          <p:nvPr/>
        </p:nvPicPr>
        <p:blipFill>
          <a:blip r:embed="rId2"/>
          <a:stretch/>
        </p:blipFill>
        <p:spPr>
          <a:xfrm>
            <a:off x="357120" y="2293920"/>
            <a:ext cx="82803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Goal Formul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6B02E3D-1E39-46C0-9A05-66112157DE2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’s objectives must be hierarch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should be quantit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 should be realis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must be consis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9" descr="صورة ذات صلة"/>
          <p:cNvPicPr/>
          <p:nvPr/>
        </p:nvPicPr>
        <p:blipFill>
          <a:blip r:embed="rId2"/>
          <a:srcRect l="0" t="0" r="0" b="4948"/>
          <a:stretch/>
        </p:blipFill>
        <p:spPr>
          <a:xfrm>
            <a:off x="6566040" y="2786040"/>
            <a:ext cx="2046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4: Strategic Formul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3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DF8A18B-D6D0-47D8-8589-61881DE545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65040" y="1546200"/>
            <a:ext cx="35942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orter’s Generic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9" descr="Porter's Generic Strategies Diagram"/>
          <p:cNvPicPr/>
          <p:nvPr/>
        </p:nvPicPr>
        <p:blipFill>
          <a:blip r:embed="rId2"/>
          <a:stretch/>
        </p:blipFill>
        <p:spPr>
          <a:xfrm>
            <a:off x="3122640" y="1279440"/>
            <a:ext cx="56023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(Step 4: Strategic Formulation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0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61082B5-FFC8-472D-BE9A-5CC03A7BECE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Strategic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four major categories of marketing allianc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or service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al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stics alli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ing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7351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Program Formulation and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6" name="TextBox 5"/>
          <p:cNvGrpSpPr/>
          <p:nvPr/>
        </p:nvGrpSpPr>
        <p:grpSpPr>
          <a:xfrm>
            <a:off x="6334200" y="12600"/>
            <a:ext cx="2816280" cy="1219320"/>
            <a:chOff x="6334200" y="12600"/>
            <a:chExt cx="2816280" cy="1219320"/>
          </a:xfrm>
        </p:grpSpPr>
        <p:pic>
          <p:nvPicPr>
            <p:cNvPr id="39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391440" y="47520"/>
              <a:ext cx="2705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strategic planning done at different levels of the organization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E5FE6679-1A4D-4D7E-BFDC-E3D4546CFA6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65040" y="1671480"/>
            <a:ext cx="82296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formulation of marketing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cost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t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itle 1"/>
          <p:cNvSpPr/>
          <p:nvPr/>
        </p:nvSpPr>
        <p:spPr>
          <a:xfrm>
            <a:off x="392040" y="4094280"/>
            <a:ext cx="822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6: Feedback and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2040" y="47037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key to organizational health is willingness to examine the changing environment and adopt new goals and behavi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884920" y="2495520"/>
            <a:ext cx="2828880" cy="1408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34360" y="2133720"/>
            <a:ext cx="6206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7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BBC65B3B-862A-45A0-B4BB-A5179E04D36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517680" y="1698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pl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central instrument for direc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ordinating the marketing effort. It operates at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and tactical leve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Levels of a 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1881000"/>
            <a:ext cx="3778200" cy="4290840"/>
          </a:xfrm>
          <a:prstGeom prst="rect">
            <a:avLst/>
          </a:prstGeom>
          <a:noFill/>
          <a:ln w="57240">
            <a:solidFill>
              <a:srgbClr val="007d53"/>
            </a:solidFill>
            <a:miter/>
          </a:ln>
        </p:spPr>
        <p:txBody>
          <a:bodyPr lIns="0" tIns="0" anchor="t">
            <a:normAutofit/>
          </a:bodyPr>
          <a:p>
            <a:pPr marL="231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marketing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pro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marketing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9640" y="1881000"/>
            <a:ext cx="3778200" cy="4290840"/>
          </a:xfrm>
          <a:prstGeom prst="rect">
            <a:avLst/>
          </a:prstGeom>
          <a:noFill/>
          <a:ln w="57240">
            <a:solidFill>
              <a:srgbClr val="007d53"/>
            </a:solidFill>
            <a:miter/>
          </a:ln>
        </p:spPr>
        <p:txBody>
          <a:bodyPr lIns="0" tIns="0" anchor="t">
            <a:normAutofit/>
          </a:bodyPr>
          <a:p>
            <a:pPr marL="17784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c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cha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1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E90CD81-2874-4ED6-8A47-CFFB85F57EB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Marketing Plan Conten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0" name="AutoShape 3"/>
          <p:cNvSpPr/>
          <p:nvPr/>
        </p:nvSpPr>
        <p:spPr>
          <a:xfrm>
            <a:off x="838080" y="1905120"/>
            <a:ext cx="739152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d4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nancial proj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61840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mplementation contr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TextBox 5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0537510-FE56-4451-B9C9-8C13D57B92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and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ask of any business is to deliver customer value at a prof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competitive market, a company can win only by fine-tuning the value delivery process and choosing, providing, and communicating superior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AE5D35C2-E877-47D1-B0F2-AD1ED3B5832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321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Verdana"/>
              </a:rPr>
              <a:t>Evaluating a Marketing Pla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26" name="TextBox 4"/>
          <p:cNvGrpSpPr/>
          <p:nvPr/>
        </p:nvGrpSpPr>
        <p:grpSpPr>
          <a:xfrm>
            <a:off x="6334200" y="12600"/>
            <a:ext cx="2816280" cy="1005120"/>
            <a:chOff x="6334200" y="12600"/>
            <a:chExt cx="2816280" cy="1005120"/>
          </a:xfrm>
        </p:grpSpPr>
        <p:pic>
          <p:nvPicPr>
            <p:cNvPr id="42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oes a marketing plan includ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E7F41AFA-ADF4-4F78-8EBC-644CCD78353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9" descr="صورة ذات صلة"/>
          <p:cNvPicPr/>
          <p:nvPr/>
        </p:nvPicPr>
        <p:blipFill>
          <a:blip r:embed="rId2"/>
          <a:srcRect l="0" t="0" r="0" b="4948"/>
          <a:stretch/>
        </p:blipFill>
        <p:spPr>
          <a:xfrm>
            <a:off x="2847960" y="1341360"/>
            <a:ext cx="3289320" cy="493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Corbi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i Haider / ep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6 Alamy Image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arry Ivers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8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orge S. Day and Paul J. H. Schoemaker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eripheral Vision: Detecting the Weak Signals That Will Make or Break Your Company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Boston: Harvard Business School Press, 2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. Kotler, D. C. Jain, and S. Maesincee, “Formulating a Market Renewal Strategy,” in Marketing Moves (Part 1), Fig. 1-1 (Boston: Harvard Business School Press, 2002), p. 29. Copyright © 2002 by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5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rbit Company website, www.orbit-iq.com; Mobily Saudi Arabia company website, www.mobily.com.sa; eBay company website, www.ebay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alem Alforaih Photography, photographersdirect.com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apted and reprinted by permission, Harvard Business Review. From “Strategies for Diversification,” by Igor Ansoff, September–October 1957. Copyright © 1957 by the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tt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ustin Sulliv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Delivery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creation and delivery sequence can be divided into three ph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unicating th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FC27F24D-6AEE-4A2F-94ED-202623F1F5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Chai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 ch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tool for identifying ways to create more customer val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value chain model, every firm is a synthesis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imary and support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1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D9D3BE7E-69F3-4F4D-AA55-F4160EB0776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79848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Value Chai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0" name="TextBox 5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06548CB1-4A8B-44D3-9484-B3959C7E80D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نتيجة بحث الصور عن ‪value chain analysis‬‏"/>
          <p:cNvPicPr/>
          <p:nvPr/>
        </p:nvPicPr>
        <p:blipFill>
          <a:blip r:embed="rId2"/>
          <a:stretch/>
        </p:blipFill>
        <p:spPr>
          <a:xfrm>
            <a:off x="990720" y="1700280"/>
            <a:ext cx="71564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5040" y="129384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-sens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-offering realiza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acquisi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relationship 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fillment management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07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Rectangle 2"/>
          <p:cNvSpPr/>
          <p:nvPr/>
        </p:nvSpPr>
        <p:spPr>
          <a:xfrm>
            <a:off x="650880" y="384120"/>
            <a:ext cx="7943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Core business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4708440" y="5802480"/>
            <a:ext cx="405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Saudi Aramco manages business operations through cross-functional tea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2C5E1F3E-4F58-4697-889A-B9B1A572B59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1" descr="Untitled"/>
          <p:cNvPicPr/>
          <p:nvPr/>
        </p:nvPicPr>
        <p:blipFill>
          <a:blip r:embed="rId2"/>
          <a:stretch/>
        </p:blipFill>
        <p:spPr>
          <a:xfrm>
            <a:off x="5253120" y="3529080"/>
            <a:ext cx="3263760" cy="21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1520" y="468360"/>
            <a:ext cx="813276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Core Competenci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characteristics of core competen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competitive advant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s in a wide variety of mar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for competitors to imi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 advant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TextBox 4"/>
          <p:cNvGrpSpPr/>
          <p:nvPr/>
        </p:nvGrpSpPr>
        <p:grpSpPr>
          <a:xfrm>
            <a:off x="6334200" y="12600"/>
            <a:ext cx="2840040" cy="1005120"/>
            <a:chOff x="6334200" y="12600"/>
            <a:chExt cx="2840040" cy="1005120"/>
          </a:xfrm>
        </p:grpSpPr>
        <p:pic>
          <p:nvPicPr>
            <p:cNvPr id="216" name="TextBox 4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391440" y="47520"/>
              <a:ext cx="2705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es marketing affect customer valu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-</a:t>
            </a:r>
            <a:fld id="{83EC5F94-4A70-438E-AC2D-51DA3EE6BA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03T14:56:24Z</dcterms:modified>
  <cp:revision>75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