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4F7181-4831-4BD2-84EA-56304861E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F7BC91-AB53-4409-95A6-EDA10DBE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CF70-5050-4DA2-B495-39E63A71C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742D-A5C0-473D-BE8E-909162D26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DF7B-A2BE-445F-A58D-715EF5E4A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5392A-B91E-49FC-BF3E-C8E594428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504DB-FE49-48B6-8E69-33C9178AD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D822-1F21-4214-AAE0-834A1E7C12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1B41E-4553-417D-8386-6C82C5DEBB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67CE-466D-4718-B822-DAF852851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D09BF-937E-4D00-A4BD-8F83DE7C26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76FC-7789-4EE4-9CC1-755D85996E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1E8D4-0ED4-40F4-8C94-9983DC03C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02F6-6F91-419C-B54C-BAF2E41E4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43370-A820-46BF-B3A4-AEF6E6D76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0FD9-5083-457B-9988-EBDEE1FD6A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364FE-1238-44A1-B690-C180D586A6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01E98-4BF4-4D4B-A842-DC3588C137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7F28-625C-487C-BECC-BA07BA6337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C332-DF59-46AB-B9D9-FA2B42AD63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389C-3CA1-4C18-9213-6F7491AE4D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FC39-CBE7-4CFC-A59B-EA26C1DE9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B76B-3069-46CA-B839-7D5F264DD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E059-CCD8-41D5-9188-CB7E2EA2E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608C-AC94-4F59-8BEF-484E3CF5E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9519-DFEE-42D0-BDC4-97F638AB5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CF1-99F8-4D14-AAFC-0C4C3542138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CDB-8815-44EE-A8B0-CCFB0061E1F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www.youtube.com/watch?v=779KwjAYTeQ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otal Customer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8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74376F95-F8B5-4B59-A493-CCE8B1C6CA2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71520" y="2009880"/>
            <a:ext cx="428616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ustomer’s decision to be loyal or to defect is the sum of many small encounters with the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ectation Vs Performan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5052960" y="5267160"/>
            <a:ext cx="33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Joie de Vivre’s boutique hotels offer personal touches that exceed customer expect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2" descr="image"/>
          <p:cNvPicPr/>
          <p:nvPr/>
        </p:nvPicPr>
        <p:blipFill>
          <a:blip r:embed="rId2"/>
          <a:stretch/>
        </p:blipFill>
        <p:spPr>
          <a:xfrm>
            <a:off x="4695840" y="2133720"/>
            <a:ext cx="413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DCE58AD-951F-46FB-8FA9-47F5888890B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65040" y="1955880"/>
            <a:ext cx="82296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 techniqu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odic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loss rate (Stop to bu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stery shopp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 competitive performance   80/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5040" y="11584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4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4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919FF732-6F82-4B07-B171-346B5582685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5040" y="203004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compl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about 5 percent from dissatisfied complain. The other 95 they just stop buy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90520" y="78552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nitoring Satisfaction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1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5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A7184B5-4FB0-466D-9F27-0F82B0BBFDB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65040" y="150948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ings go wrong, how to recover customer goodwil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Set up a 7-day, 24-hour free ‘hotline’ (by phone, fax, or e-mail) to receive and act on customer compla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Contact the complaining customer as quickly as possible. Slow responses cause growing dissatisfaction, and lead to negative word of mou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Accept responsibility for the customer’s disappointment; don’t blame the custom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Use customer-service people who are empathi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Resolve the complaint swiftly and to the customer’s satisf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ximizing Customer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Lifetime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8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59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EC68A593-5ADE-435B-80FC-378DDB82CE6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572160" y="1249200"/>
            <a:ext cx="2062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3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he 150/20 Rule: “The 20% most profitable customers generate as much as 150% of the profits of a company; the 20% least profitable lose 100% of the profits.”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0" descr="image"/>
          <p:cNvPicPr/>
          <p:nvPr/>
        </p:nvPicPr>
        <p:blipFill>
          <a:blip r:embed="rId2"/>
          <a:stretch/>
        </p:blipFill>
        <p:spPr>
          <a:xfrm>
            <a:off x="193680" y="1909800"/>
            <a:ext cx="6315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66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86F2D6A9-2E4F-47E3-A1C2-E74F6A1D356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65040" y="2222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fitable custom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 person, household, or company that over time yields a revenue stream that exceeds by an acceptable amount the company’s cost stream of attracting, selling, and servicing that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ters can assess customer profitability individually, by market segment, or by chann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rof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73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4DC62E97-207C-4745-B0ED-62688635309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43000" y="106380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profitability analysis (CPA) can be conducted using a grid, as shown in Fig. 5.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272880" y="21276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rofi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590400" y="5518080"/>
            <a:ext cx="8229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4: Customer-Product Profitability Analy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Activity-based costing ABC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11" descr="image"/>
          <p:cNvPicPr/>
          <p:nvPr/>
        </p:nvPicPr>
        <p:blipFill>
          <a:blip r:embed="rId2"/>
          <a:stretch/>
        </p:blipFill>
        <p:spPr>
          <a:xfrm>
            <a:off x="1031760" y="1674720"/>
            <a:ext cx="69836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TextBox 5"/>
          <p:cNvGrpSpPr/>
          <p:nvPr/>
        </p:nvGrpSpPr>
        <p:grpSpPr>
          <a:xfrm>
            <a:off x="6321600" y="12600"/>
            <a:ext cx="2908080" cy="1114560"/>
            <a:chOff x="6321600" y="12600"/>
            <a:chExt cx="2908080" cy="1114560"/>
          </a:xfrm>
        </p:grpSpPr>
        <p:pic>
          <p:nvPicPr>
            <p:cNvPr id="282" name="TextBox 5" descr=""/>
            <p:cNvPicPr/>
            <p:nvPr/>
          </p:nvPicPr>
          <p:blipFill>
            <a:blip r:embed="rId1"/>
            <a:stretch/>
          </p:blipFill>
          <p:spPr>
            <a:xfrm>
              <a:off x="6321600" y="12600"/>
              <a:ext cx="29080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lifetime value of customers and how can marketers maximize i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AF466925-D34F-46EE-9397-A67589E9795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easuring Customer Lifetime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65040" y="19782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24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stomer lifetime value (CLV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net present value of the stream of future profits expected over the customer’s lifetime purch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 customer revenue: $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 number of loyal years: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y profit margin: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lifetime value: $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40" indent="-32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8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F30F6D49-0616-4CE9-816B-EEB2D1C9A86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1343160" y="4965840"/>
            <a:ext cx="5873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s://www.youtube.com/watch?v=779KwjAYTeQ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3600" y="1871640"/>
            <a:ext cx="7205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29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86E31D64-9544-4BBB-85F9-BC88029192F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ocess of carefully managing detailed information about individual customers and all customer touch points to maximize customer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ng Custom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ue, Satisfacti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3900600" y="2205000"/>
            <a:ext cx="49575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E37829DF-0EAF-4CCA-93A7-8CACBBA3989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mework for CRM marke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prospects and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iate customers by their needs and their value to compan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act with customers to improve knowledge of their individual needs and build stronger relationshi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e products, services and messages to each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cultivate strong customer relationship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DD062A4-278C-44CC-9BC7-4C6EE825865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2041560"/>
            <a:ext cx="82296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es for increasing the value of the customer ba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ing the rate of customer def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the longevity of the customer relationsh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ing the growth potential of each customer through ‘share of wallet’, cross-selling and up-sell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low-profit customers more profitable or terminating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ing disproportionate effort on high-profit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itle 1"/>
          <p:cNvSpPr/>
          <p:nvPr/>
        </p:nvSpPr>
        <p:spPr>
          <a:xfrm>
            <a:off x="365040" y="115884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2860B6BC-7F50-4E78-A534-1CEBE0F4718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560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acting new customers can be expen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03040" y="5605560"/>
            <a:ext cx="8229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 5.3: Customer Acquisition Costs by Marketing Activ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10" descr="image"/>
          <p:cNvPicPr/>
          <p:nvPr/>
        </p:nvPicPr>
        <p:blipFill>
          <a:blip r:embed="rId2"/>
          <a:stretch/>
        </p:blipFill>
        <p:spPr>
          <a:xfrm>
            <a:off x="1362240" y="2182680"/>
            <a:ext cx="61531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5040" y="104256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2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62D9C08E-218E-4634-938F-6720E6329AD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ention dynam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verage company loses 10% of its customers each ye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5% reduction to the customer defection rate can increase profits by 25% to 85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stomer profit rate increases over the life of a retained custo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4320" y="13824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ttracting and Retaining Customer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28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9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3AD10910-AA3D-43C9-BE37-08269F8B2E1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200240" y="273384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5: The Customer Development Proces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9" descr="image"/>
          <p:cNvPicPr/>
          <p:nvPr/>
        </p:nvPicPr>
        <p:blipFill>
          <a:blip r:embed="rId2"/>
          <a:stretch/>
        </p:blipFill>
        <p:spPr>
          <a:xfrm>
            <a:off x="291960" y="566640"/>
            <a:ext cx="231012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1D072126-FD56-4A19-9D41-11374126720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uilding Loyalty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0320" y="563076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x 5.2: Forming Strong Customer Bon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Picture 9" descr="image"/>
          <p:cNvPicPr/>
          <p:nvPr/>
        </p:nvPicPr>
        <p:blipFill>
          <a:blip r:embed="rId2"/>
          <a:stretch/>
        </p:blipFill>
        <p:spPr>
          <a:xfrm>
            <a:off x="1119240" y="1604880"/>
            <a:ext cx="73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2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can companies both attract and retain customer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D31BE1E1-10FE-4A27-BAD7-83EA8E3D66D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5920" y="56304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uilding Loyalty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517680" y="1114560"/>
            <a:ext cx="7724520" cy="971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886880" y="110340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669960" y="2328840"/>
            <a:ext cx="7924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plus-del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psterize your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the buz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commun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bite-size chun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ustomer Databases and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atabase Marketing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50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6D7EF4F6-3472-4413-BD1C-D5E0E5308AB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8892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stomer databa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n organized collection of comprehensive information about individual customers or prospects that is current, accessible, and actionable for marketing purpo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301C41FB-E5B5-4E5F-9FD9-9CB7F24285F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65040" y="172260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88920" indent="-32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base key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Database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750960" y="2730600"/>
            <a:ext cx="39178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ling 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738680" y="2730600"/>
            <a:ext cx="370836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6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581541FD-5A50-43B9-9319-D265731FA16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ata Warehouses and Datamining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701640" y="1701720"/>
            <a:ext cx="7893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nies can use their databases in five key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dentify prosp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arget off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epen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activate custom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avoid mistak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5-</a:t>
            </a:r>
            <a:fld id="{7CA377A2-9D76-4C60-BD07-FBA263DE28E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0480" y="1934640"/>
            <a:ext cx="7996320" cy="44658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customer value, satisfaction, and loyalty, and how can companies deliver th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lifetime value of customers and how can marketers maximize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companies cultivate strong customer relationshi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7A1BCA24-A8A3-45DF-8E62-B56328AF568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Downside of Database Marketing and CRM 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701640" y="1701720"/>
            <a:ext cx="78930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build a customer database w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duct is a once-in-a-lifetime purch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s do not show loyal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nit sale is very sm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st of gathering information is too hig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376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391440" y="47520"/>
              <a:ext cx="270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database marketing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8456DD18-14C4-4EE6-BC25-E736024F69C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5040" y="1031400"/>
            <a:ext cx="8229600" cy="412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Downside of Database Marketing and CRM 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3840" y="1701720"/>
            <a:ext cx="82008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ils of CR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ing CRM before creating a customer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ing out CRM before changing the organization to mat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ing more CRM technology is be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lking, not wooing, custom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. O’Ka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age courtesy of The Advertising Arch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8 ‘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10 Brand Keys Customer Loyalty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aders List’, http://www.brandkeys.com/awards/leaders.cfm. Reproduced with per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9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oie De Vivre Hot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14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rry Selden and Yoko S. Seldon, “Profitable Customer: The Key to Great Brands,” Point, July–August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5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ustomer Loyalty: How to Earn It, How to Keep It, John Wiley and Sons (Griffin, J., 2002), p.36, copyright © 2002, John Wiley and S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lide 27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n McConnell and Jackie Huba, “Learning to Leverage the Lunatic Fringe,” Point, July–August 2006, pp. 14–15; Michael Krauss, “Work to Convert Customers into Evangelists,” Marketing News, December 15, 2006, p. 6; Ben McConnell and Jackie Huba, Creating Customer Evangelists: How Loyal Customers Become a Loyal Sales Force (New York: Kaplan Business, 2003); Lauren Indvik, “Google Launches Voice-to-Twitter Service to Help Protesters in Egypt,” Mashable Social Media, January 31, 2011, http://mashable.com/2011/01/31/google-twitter-egypt-call-service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Building Customer Value,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Satisfaction, and Loyalty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F1B82330-454F-490F-8B6C-A7ED0C505E8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96720" y="5448240"/>
            <a:ext cx="8229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1: Traditional Organization versu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rn Customer-Oriented Company Organization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1" descr="image"/>
          <p:cNvPicPr/>
          <p:nvPr/>
        </p:nvPicPr>
        <p:blipFill>
          <a:blip r:embed="rId2"/>
          <a:stretch/>
        </p:blipFill>
        <p:spPr>
          <a:xfrm>
            <a:off x="1081080" y="1235160"/>
            <a:ext cx="69073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erceived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0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191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B69247AD-D204-45AB-8508-BC56DB6D31C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4760" y="5635800"/>
            <a:ext cx="317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5.2: Determinants of Customer-Perceived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040" y="1860480"/>
            <a:ext cx="396252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stomer perceived val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difference between the prospective customer’s evaluation of all the benefits and all the costs of an offering and the perceived alterna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1" descr="image"/>
          <p:cNvPicPr/>
          <p:nvPr/>
        </p:nvPicPr>
        <p:blipFill>
          <a:blip r:embed="rId2"/>
          <a:stretch/>
        </p:blipFill>
        <p:spPr>
          <a:xfrm>
            <a:off x="6796080" y="1344600"/>
            <a:ext cx="192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5040" y="9028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ustomer Perceived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99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0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BA125EAA-362C-48B7-A231-783A02E2180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71520" y="1447920"/>
            <a:ext cx="8086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managers conduct  customer value analysis . (S&amp;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s in this analysis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major attributes and benefits that customers val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 the qualitative importance of different attributes and benef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 the company’s and competitor’s performances on the different customer values against rated import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ine ratings of specific segm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customer values over t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11476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06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0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E6DBFA13-B910-4FA1-AEBD-A33A7A1AEEB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71520" y="1797120"/>
            <a:ext cx="80866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yal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deeply held commitment to re-buy or re-patronize a preferred product or service in the future despite situational influences and marketing efforts having the potential to cause switching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62352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3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1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A8E81E46-41EA-4305-BB4A-A9C8D221D6C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12" descr="http://www.marketingcharts.com/wp-content/uploads/2016/10/BrandKeys-Brand-Customer-Loyalty-Leaders-Oct2016.png"/>
          <p:cNvPicPr/>
          <p:nvPr/>
        </p:nvPicPr>
        <p:blipFill>
          <a:blip r:embed="rId2"/>
          <a:stretch/>
        </p:blipFill>
        <p:spPr>
          <a:xfrm>
            <a:off x="236520" y="1406520"/>
            <a:ext cx="85280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113652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Delivering High Customer Valu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19" name="TextBox 5"/>
          <p:cNvGrpSpPr/>
          <p:nvPr/>
        </p:nvGrpSpPr>
        <p:grpSpPr>
          <a:xfrm>
            <a:off x="6334200" y="12600"/>
            <a:ext cx="2816280" cy="1328760"/>
            <a:chOff x="6334200" y="12600"/>
            <a:chExt cx="2816280" cy="1328760"/>
          </a:xfrm>
        </p:grpSpPr>
        <p:pic>
          <p:nvPicPr>
            <p:cNvPr id="220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391440" y="47520"/>
              <a:ext cx="270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customer value, satisfaction, and loyalty, and how can companies deliver the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5-</a:t>
            </a:r>
            <a:fld id="{B2CE9921-B14A-4DDB-984C-73C8726866B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27200" y="1776240"/>
            <a:ext cx="428616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alue proposi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e whole cluster of benefits the company promises to del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 VS V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5327640" y="56530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Volvo’s value proposition is not just in the saf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image"/>
          <p:cNvPicPr/>
          <p:nvPr/>
        </p:nvPicPr>
        <p:blipFill>
          <a:blip r:embed="rId2"/>
          <a:stretch/>
        </p:blipFill>
        <p:spPr>
          <a:xfrm>
            <a:off x="5300640" y="1638360"/>
            <a:ext cx="3316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0-10T14:36:33Z</dcterms:modified>
  <cp:revision>50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