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DC6A92-1DA5-4E4C-BE09-37D4877DE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AD0522B-4672-454A-B295-B1126C01D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5EECF-CB8D-44C8-930E-009A9EC32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7057-2DD6-460E-8EFD-9122BB6F2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74CD-765E-4555-8F65-5097BDC91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7E0C-11EA-42BC-A0BE-C9E53767D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DF775-2F58-44B4-9024-AFA81FAA44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5954D-AB13-4A96-BCD3-841106D5CF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DC775-6B10-4F49-8796-47227591A4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88F01-E3AE-4C94-9C07-E178DE6331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B5A62-C731-4A52-A243-21D0999ED6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E2E8E-1125-4D31-9379-F95009ED95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F5EDB-AEF0-4811-87A9-345B3E66F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7952C-0651-409C-9E7B-B8DB0A761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5FDCD-2ED8-4B77-AEC7-28BFB58037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98D0E-14AD-4273-9179-BE8B937CF9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81766-E887-4E4B-86EF-515B197073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1938C-6DB5-4A91-B51E-E8D94769F4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F8B9C-F2A1-4C91-AFC2-495CB5B1BA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2139-BFAB-46C5-8ECE-7FA2EFE26D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DBA0-7F92-428B-A155-98D7865AB5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1660-A1B4-4252-A6FD-6C3E16EB0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67F1-9BEA-4D24-B5EB-EE9154D87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F98C-9A4C-4985-A110-4EAAF2A5C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5FCB5-F948-4351-84D6-9DCBD9A05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3227-211E-4E67-9CCF-171378BE6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8AF1-6562-4952-9976-49ADA7FA67B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70B6-F5A7-4AB0-9743-39F6F721A38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s://www.youtube.com/watch?v=779KwjAYTeQ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11584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otal Customer Satisfac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8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B718B831-80D0-4920-9D47-299A2DF711B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71520" y="2009880"/>
            <a:ext cx="4286160" cy="35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customer’s decision to be loyal or to defect is the sum of many small encounters with the compan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ectation Vs Performanc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5052960" y="5267160"/>
            <a:ext cx="33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Joie de Vivre’s boutique hotels offer personal touches that exceed customer expect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2" descr="image"/>
          <p:cNvPicPr/>
          <p:nvPr/>
        </p:nvPicPr>
        <p:blipFill>
          <a:blip r:embed="rId2"/>
          <a:stretch/>
        </p:blipFill>
        <p:spPr>
          <a:xfrm>
            <a:off x="4695840" y="2133720"/>
            <a:ext cx="413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5040" y="11584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nitoring Satisfac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37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F0B80761-4569-4CB3-86C8-1812A24AFDB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65040" y="1955880"/>
            <a:ext cx="82296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ment techniques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iodic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loss rate (Stop to bu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stery shopp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 competitive performance   80/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5040" y="11584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nitoring Satisfac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44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4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48A79C38-A0B7-4C55-B25B-A8F9705324F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65040" y="203004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compl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about 5 percent from dissatisfied complain. The other 95 they just stop buy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90520" y="78552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nitoring Satisfac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1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5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8F5FAAF9-5D27-42EE-BF10-C9230BFB4E3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65040" y="150948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ings go wrong, how to recover customer goodwil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Set up a 7-day, 24-hour free ‘hotline’ (by phone, fax, or e-mail) to receive and act on customer complai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Contact the complaining customer as quickly as possible. Slow responses cause growing dissatisfaction, and lead to negative word of mou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Accept responsibility for the customer’s disappointment; don’t blame the custom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Use customer-service people who are empathi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Resolve the complaint swiftly and to the customer’s satisf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ximizing Customer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Lifetime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8" name="TextBox 5"/>
          <p:cNvGrpSpPr/>
          <p:nvPr/>
        </p:nvGrpSpPr>
        <p:grpSpPr>
          <a:xfrm>
            <a:off x="6321600" y="12600"/>
            <a:ext cx="2908080" cy="1114560"/>
            <a:chOff x="6321600" y="12600"/>
            <a:chExt cx="2908080" cy="1114560"/>
          </a:xfrm>
        </p:grpSpPr>
        <p:pic>
          <p:nvPicPr>
            <p:cNvPr id="259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80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lifetime value of customers and how can marketers maximize i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5A341802-E7EA-47D4-BE51-52EC0FF3CA6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6572160" y="1249200"/>
            <a:ext cx="2062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5.3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150/20 Rule: “The 20% most profitable customers generate as much as 150% of the profits of a company; the 20% least profitable lose 100% of the profits.”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10" descr="image"/>
          <p:cNvPicPr/>
          <p:nvPr/>
        </p:nvPicPr>
        <p:blipFill>
          <a:blip r:embed="rId2"/>
          <a:stretch/>
        </p:blipFill>
        <p:spPr>
          <a:xfrm>
            <a:off x="193680" y="1909800"/>
            <a:ext cx="63151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TextBox 5"/>
          <p:cNvGrpSpPr/>
          <p:nvPr/>
        </p:nvGrpSpPr>
        <p:grpSpPr>
          <a:xfrm>
            <a:off x="6321600" y="12600"/>
            <a:ext cx="2908080" cy="1114560"/>
            <a:chOff x="6321600" y="12600"/>
            <a:chExt cx="2908080" cy="1114560"/>
          </a:xfrm>
        </p:grpSpPr>
        <p:pic>
          <p:nvPicPr>
            <p:cNvPr id="266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80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lifetime value of customers and how can marketers maximize i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70D544FA-519F-47AD-AD82-FF7A596C5A6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65040" y="2222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fitable custom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a person, household, or company that over time yields a revenue stream that exceeds by an acceptable amount the company’s cost stream of attracting, selling, and servicing that custo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ers can assess customer profitability individually, by market segment, or by chann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Profi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TextBox 5"/>
          <p:cNvGrpSpPr/>
          <p:nvPr/>
        </p:nvGrpSpPr>
        <p:grpSpPr>
          <a:xfrm>
            <a:off x="6321600" y="12600"/>
            <a:ext cx="2908080" cy="1114560"/>
            <a:chOff x="6321600" y="12600"/>
            <a:chExt cx="2908080" cy="1114560"/>
          </a:xfrm>
        </p:grpSpPr>
        <p:pic>
          <p:nvPicPr>
            <p:cNvPr id="273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80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lifetime value of customers and how can marketers maximize i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1CE9EB6A-0212-4BF7-8A1C-BB47AC9812B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43000" y="1063800"/>
            <a:ext cx="822960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profitability analysis (CPA) can be conducted using a grid, as shown in Fig. 5.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272880" y="21276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Profi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590400" y="5518080"/>
            <a:ext cx="8229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5.4: Customer-Product Profitability Analy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Verdana"/>
              </a:rPr>
              <a:t>Activity-based costing ABC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11" descr="image"/>
          <p:cNvPicPr/>
          <p:nvPr/>
        </p:nvPicPr>
        <p:blipFill>
          <a:blip r:embed="rId2"/>
          <a:stretch/>
        </p:blipFill>
        <p:spPr>
          <a:xfrm>
            <a:off x="1031760" y="1674720"/>
            <a:ext cx="69836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TextBox 5"/>
          <p:cNvGrpSpPr/>
          <p:nvPr/>
        </p:nvGrpSpPr>
        <p:grpSpPr>
          <a:xfrm>
            <a:off x="6321600" y="12600"/>
            <a:ext cx="2908080" cy="1114560"/>
            <a:chOff x="6321600" y="12600"/>
            <a:chExt cx="2908080" cy="1114560"/>
          </a:xfrm>
        </p:grpSpPr>
        <p:pic>
          <p:nvPicPr>
            <p:cNvPr id="282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80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lifetime value of customers and how can marketers maximize i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F28F35C0-3E3F-4E0F-8DAE-3856D631681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easuring Customer Lifetime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365040" y="1978200"/>
            <a:ext cx="82296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240" indent="-32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ustomer lifetime value (CLV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the net present value of the stream of future profits expected over the customer’s lifetime purch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ual customer revenue: $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erage number of loyal years: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y profit margin: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lifetime value: $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8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ultivate strong customer relationship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A57354B3-E5E8-491B-B7CB-67DA733AC80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1343160" y="4965840"/>
            <a:ext cx="5873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s://www.youtube.com/watch?v=779KwjAYTeQ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1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3600" y="1871640"/>
            <a:ext cx="72057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9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ultivate strong customer relationship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52F7B1C1-1DA9-4E3F-B8F2-CDB7384C7F6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65040" y="2041560"/>
            <a:ext cx="82296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rocess of carefully managing detailed information about individual customers and all customer touch points to maximize customer loyal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Relationship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ating Custom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lue, Satisfaction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3900600" y="2205000"/>
            <a:ext cx="49575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0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ultivate strong customer relationship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DA08F0EB-24D3-49C6-881F-82384702ABD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65040" y="2041560"/>
            <a:ext cx="82296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amework for CRM market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prospects and custo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iate customers by their needs and their value to compan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act with customers to improve knowledge of their individual needs and build stronger relationshi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ize products, services and messages to each custo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Relationship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0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ultivate strong customer relationship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3222A4D8-370F-4870-A044-D6AE1293B3F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65040" y="2041560"/>
            <a:ext cx="82296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es for increasing the value of the customer ba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ing the rate of customer def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ing the longevity of the customer relationsh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ing the growth potential of each customer through ‘share of wallet’, cross-selling and up-sell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low-profit customers more profitable or terminating th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ing disproportionate effort on high-profit custo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Relationship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ttracting and Retaining Customer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1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both attract and retain custom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D03286C8-4794-405C-A4EE-9E2A5D89D7D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65040" y="1560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acting new customers can be expens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03040" y="5605560"/>
            <a:ext cx="8229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5.3: Customer Acquisition Costs by Marketing Activity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10" descr="image"/>
          <p:cNvPicPr/>
          <p:nvPr/>
        </p:nvPicPr>
        <p:blipFill>
          <a:blip r:embed="rId2"/>
          <a:stretch/>
        </p:blipFill>
        <p:spPr>
          <a:xfrm>
            <a:off x="1362240" y="2182680"/>
            <a:ext cx="61531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5040" y="104256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ttracting and Retaining Customer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2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2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both attract and retain custom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9399FDEB-9021-416E-9B04-F99C52F4B8C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ention dynamic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verage company loses 10% of its customers each ye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5% reduction to the customer defection rate can increase profits by 25% to 85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ustomer profit rate increases over the life of a retained custo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4320" y="13824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ttracting and Retaining Customer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both attract and retain custom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4A49EBDA-E277-4B12-87EA-A5E49987944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1200240" y="273384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5.5: The Customer Development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9" descr="image"/>
          <p:cNvPicPr/>
          <p:nvPr/>
        </p:nvPicPr>
        <p:blipFill>
          <a:blip r:embed="rId2"/>
          <a:stretch/>
        </p:blipFill>
        <p:spPr>
          <a:xfrm>
            <a:off x="291960" y="566640"/>
            <a:ext cx="231012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3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both attract and retain custom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02B555B4-5541-4369-8034-5A5E14A949B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uilding Loyalty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760320" y="563076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5.2: Forming Strong Customer Bond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Picture 9" descr="image"/>
          <p:cNvPicPr/>
          <p:nvPr/>
        </p:nvPicPr>
        <p:blipFill>
          <a:blip r:embed="rId2"/>
          <a:stretch/>
        </p:blipFill>
        <p:spPr>
          <a:xfrm>
            <a:off x="1119240" y="1604880"/>
            <a:ext cx="73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4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both attract and retain custom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CA2D6287-36EF-4606-AA93-69C489D3664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5920" y="56304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uilding Loyalty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517680" y="1114560"/>
            <a:ext cx="7724520" cy="971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886880" y="110340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669960" y="2328840"/>
            <a:ext cx="79246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plus-del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psterize your 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 the buz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commun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bite-size chun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c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ustomer Databases and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atabase Marketing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5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database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9B9A7764-1AC7-4906-871E-65FA84A7349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88920" indent="-32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ustomer databas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an organized collection of comprehensive information about individual customers or prospects that is current, accessible, and actionable for marketing purpo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5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database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8B6B2FD9-8E0F-4804-9B82-491216A78AD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65040" y="1722600"/>
            <a:ext cx="82296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88920" indent="-32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base key conce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Database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750960" y="2730600"/>
            <a:ext cx="39178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base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ling 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738680" y="2730600"/>
            <a:ext cx="370836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siness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wareho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6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database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6798B6FB-2188-4972-A435-791B0198511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ata Warehouses and Datamining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701640" y="1701720"/>
            <a:ext cx="78930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 can use their databases in five key way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dentify prosp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arget off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epen loyal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activate custo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avoid mistak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5-</a:t>
            </a:r>
            <a:fld id="{65FAB72C-75F0-4D25-9340-DD5FD4BDCAC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0480" y="1934640"/>
            <a:ext cx="7996320" cy="4465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customer value, satisfaction, and loyalty, and how can companies deliver th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lifetime value of customers and how can marketers maximize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companies cultivate strong customer relationship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7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database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4BD97FE1-D317-4660-AF21-EE1E3387EA7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Downside of Database Marketing and CRM 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701640" y="1701720"/>
            <a:ext cx="78930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build a customer database wh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duct is a once-in-a-lifetime purch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s do not show loyal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nit sale is very sm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st of gathering information is too hig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7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database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5A6B0C3A-5AF7-4AFE-81AC-59FB95185ED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Downside of Database Marketing and CRM 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393840" y="1701720"/>
            <a:ext cx="82008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ils of CR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ing CRM before creating a customer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ling out CRM before changing the organization to mat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ing more CRM technology is bet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lking, not wooing, custom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amy Images: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. O’Ka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7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mage courtesy of The Advertising Archiv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8 ‘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10 Brand Keys Customer Loyalty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aders List’, http://www.brandkeys.com/awards/leaders.cfm. Reproduced with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9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oie De Vivre Hot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4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arry Selden and Yoko S. Seldon, “Profitable Customer: The Key to Great Brands,” Point, July–August 200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5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ustomer Loyalty: How to Earn It, How to Keep It, John Wiley and Sons (Griffin, J., 2002), p.36, copyright © 2002, John Wiley and S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7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en McConnell and Jackie Huba, “Learning to Leverage the Lunatic Fringe,” Point, July–August 2006, pp. 14–15; Michael Krauss, “Work to Convert Customers into Evangelists,” Marketing News, December 15, 2006, p. 6; Ben McConnell and Jackie Huba, Creating Customer Evangelists: How Loyal Customers Become a Loyal Sales Force (New York: Kaplan Business, 2003); Lauren Indvik, “Google Launches Voice-to-Twitter Service to Help Protesters in Egypt,” Mashable Social Media, January 31, 2011, http://mashable.com/2011/01/31/google-twitter-egypt-call-service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Building Customer Value,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Satisfaction, and Loyalt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9F8A5D11-A9BF-40EA-9CC7-CE5CE992703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96720" y="5448240"/>
            <a:ext cx="82296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5.1: Traditional Organization versu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dern Customer-Oriented Company Organization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1" descr="image"/>
          <p:cNvPicPr/>
          <p:nvPr/>
        </p:nvPicPr>
        <p:blipFill>
          <a:blip r:embed="rId2"/>
          <a:stretch/>
        </p:blipFill>
        <p:spPr>
          <a:xfrm>
            <a:off x="1081080" y="1235160"/>
            <a:ext cx="690732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Perceived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90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19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14DF09EF-7F0E-4BA7-B529-426DC80E793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884760" y="5635800"/>
            <a:ext cx="3178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5.2: Determinants of Customer-Perceived 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65040" y="1860480"/>
            <a:ext cx="396252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ustomer perceived val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he difference between the prospective customer’s evaluation of all the benefits and all the costs of an offering and the perceived alternativ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1" descr="image"/>
          <p:cNvPicPr/>
          <p:nvPr/>
        </p:nvPicPr>
        <p:blipFill>
          <a:blip r:embed="rId2"/>
          <a:stretch/>
        </p:blipFill>
        <p:spPr>
          <a:xfrm>
            <a:off x="6796080" y="1344600"/>
            <a:ext cx="1925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Perceived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99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0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13CCFC98-ADCB-4B6E-854F-7EB882803FE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71520" y="1447920"/>
            <a:ext cx="8086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managers conduct  customer value analysis . (S&amp;W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s in this analysis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 major attributes and benefits that customers val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ss the qualitative importance of different attributes and benefi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ss the company’s and competitor’s performances on the different customer values against rated import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ine ratings of specific segm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 customer values over ti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5040" y="114768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livering High Customer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6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0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19CEF9D8-755B-4E94-A202-B0471C0C6E8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71520" y="1797120"/>
            <a:ext cx="80866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yal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deeply held commitment to re-buy or re-patronize a preferred product or service in the future despite situational influences and marketing efforts having the potential to cause switching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62352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livering High Customer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13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1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6CE56FFC-2612-4A73-A301-4CEA548E208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12" descr="http://www.marketingcharts.com/wp-content/uploads/2016/10/BrandKeys-Brand-Customer-Loyalty-Leaders-Oct2016.png"/>
          <p:cNvPicPr/>
          <p:nvPr/>
        </p:nvPicPr>
        <p:blipFill>
          <a:blip r:embed="rId2"/>
          <a:stretch/>
        </p:blipFill>
        <p:spPr>
          <a:xfrm>
            <a:off x="236520" y="1406520"/>
            <a:ext cx="85280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113652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livering High Customer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19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2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51D3D222-E747-4EB5-941A-A4C806EDFF0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27200" y="1776240"/>
            <a:ext cx="428616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alue proposit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e whole cluster of benefits the company promises to deli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 VS V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5327640" y="56530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Volvo’s value proposition is not just in the saf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12" descr="image"/>
          <p:cNvPicPr/>
          <p:nvPr/>
        </p:nvPicPr>
        <p:blipFill>
          <a:blip r:embed="rId2"/>
          <a:stretch/>
        </p:blipFill>
        <p:spPr>
          <a:xfrm>
            <a:off x="5300640" y="1638360"/>
            <a:ext cx="3316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0-10T14:36:33Z</dcterms:modified>
  <cp:revision>50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