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7.jpeg" ContentType="image/jpeg"/>
  <Override PartName="/ppt/media/image1.wmf" ContentType="image/x-wmf"/>
  <Override PartName="/ppt/media/image15.jpeg" ContentType="image/jpeg"/>
  <Override PartName="/ppt/media/image3.wmf" ContentType="image/x-wmf"/>
  <Override PartName="/ppt/media/image2.png" ContentType="image/png"/>
  <Override PartName="/ppt/media/image25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8C18392-9261-45A9-A915-51858BE742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D6A0BE2-1AD5-41D8-8EAA-B3B05AB0C4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9107605-AEB4-4891-8F10-D955EE404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A6EB464-E85E-472C-A4B2-433D6C1F9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8B4C-ED43-4C15-B52E-84DE1B647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2A13-9B24-404A-A574-31A0AA02C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FD98-BA87-42B7-AFFA-4EB328F58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F057-3F26-4F7F-8451-C49CFC917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E15D0-865D-4A22-9D4A-995E7F3750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F5536-77B0-4A26-8070-FFE089CFD5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86762-4D1F-4DA8-AF3A-B1E9CEAF78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89C4D-FEE3-4541-AFA5-CA07D50F16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7E476-BA82-4086-AECE-21977D124D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8637F-8D92-4A21-A2ED-E736FB0AA0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1F4FC-4C96-4B98-A05E-8782E6D213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6BCC5-0F20-4291-88A1-7D17C36DE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C3468-066F-4559-BA91-A7F64F1058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91D7E-4C21-479E-8239-5655EFB22A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5603C-FFAA-4B58-B94B-471866A651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CCD57-3940-4E78-B54A-8EE333176D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1D7FB-272F-46E9-94AA-78C24FB0DD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5EB1-8F86-4490-92D0-C56C879C8F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D04D-F7E4-4FF6-A424-25C761C2E2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9CFF-E67A-4AA7-8570-91701DBF7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7E42-3024-4280-BFD8-1CA921BE5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43DC-1DE6-4D19-A02C-91266FC7A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07DF-7BF1-4C80-9143-0FD6D1CFE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E1CD7-AC61-4419-8794-5C3A920AA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D5FA-6518-4D53-A519-CB512AAFEA1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0639-F0A1-4F9D-A894-6367DF093C8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s://www.youtube.com/watch?v=H4oZlwvvcMM" TargetMode="External"/><Relationship Id="rId3" Type="http://schemas.openxmlformats.org/officeDocument/2006/relationships/hyperlink" Target="https://www.youtube.com/watch?v=H4oZlwvvcMM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2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CD7873EB-6A07-45A1-B212-E6429254141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oci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ference group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re all the groups that have a direct (face-to-face) or indirect influence on an individual’s attitudes or behavi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se inclu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mbership groups : direct influence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4320" indent="-3571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rimary groups : interact continuously &amp; informally  (famil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4320" indent="-3571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econdary groups : vs professiona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pirational groups : hope to jo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associative groups : V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3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384BD6D6-0D95-4C80-B5FD-B74898078FE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oci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amil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distinctions affecting buying decision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mily of Ori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mily of Procre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3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5931083D-B014-41C7-B0B2-FDAB3A2D49F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3- Person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365040" y="15462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buyer’s decisions are influenced by personal characteristic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396720" y="2386080"/>
            <a:ext cx="4038840" cy="36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fe cycle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ccup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al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4570560" y="2160720"/>
            <a:ext cx="4038480" cy="36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ity 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 of distinguishing psychological trai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s 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belief systems underline consumer attitudes and behavio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festy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person’s pattern of living in the world as expressed in activities, interests, and opini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4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DB2C9BA7-0EDF-4A4C-8094-70F74B0C434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erson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365040" y="15462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57120" indent="-3571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lifestyl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s a person’s pattern of living in the world as expressed in activities, interests, and opinion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keters search for relationships between their products and life style grou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3973680" y="5349960"/>
            <a:ext cx="4781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The “convenience involvement segment” of the food market is receptive to time-saver products such as Indomie noodles, which allow them to easily and quickly prepare a hot mea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12" descr="image"/>
          <p:cNvPicPr/>
          <p:nvPr/>
        </p:nvPicPr>
        <p:blipFill>
          <a:blip r:embed="rId2"/>
          <a:stretch/>
        </p:blipFill>
        <p:spPr>
          <a:xfrm>
            <a:off x="5170320" y="2973240"/>
            <a:ext cx="30481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5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7E8EC2F0-3F07-41B9-8195-3286ADAD5E8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erson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365040" y="15462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rand personality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the specific mix of human traits that we can attribute to a particular bran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ollowing traits have been identified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7030a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Sincerity (down-to-earth, honest, wholesome, and cheerful). Quak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7030a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Excitement (daring, spirited, imaginative, and up-to-date). MT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7030a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Competence (reliable, intelligent, and successful). CN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7030a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Sophistication (upper-class and charming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7030a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Ruggedness (outdoorsy and tough). Levi’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Key Psychological Process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63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26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48C85735-2389-45E1-87A0-2F01E72FD0C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500040" y="546732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6.1: Model of Consumer Behavior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10" descr="image"/>
          <p:cNvPicPr/>
          <p:nvPr/>
        </p:nvPicPr>
        <p:blipFill>
          <a:blip r:embed="rId2"/>
          <a:stretch/>
        </p:blipFill>
        <p:spPr>
          <a:xfrm>
            <a:off x="392040" y="1549440"/>
            <a:ext cx="830412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Key Psychological Process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71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27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75FDE07A-E865-4951-B283-38759768C06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27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06C73C68-DEE6-4EFC-973D-82A8CA95B84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otivation: Freud, Maslow,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Herzber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380880" y="1752480"/>
            <a:ext cx="2667240" cy="4343400"/>
          </a:xfrm>
          <a:custGeom>
            <a:avLst/>
            <a:gdLst>
              <a:gd name="textAreaLeft" fmla="*/ 129960 w 2667240"/>
              <a:gd name="textAreaRight" fmla="*/ 2537280 w 2667240"/>
              <a:gd name="textAreaTop" fmla="*/ 129960 h 4343400"/>
              <a:gd name="textAreaBottom" fmla="*/ 4213440 h 4343400"/>
            </a:gdLst>
            <a:ahLst/>
            <a:rect l="textAreaLeft" t="textAreaTop" r="textAreaRight" b="textAreaBottom"/>
            <a:pathLst>
              <a:path w="21600" h="35172">
                <a:moveTo>
                  <a:pt x="3600" y="0"/>
                </a:moveTo>
                <a:arcTo wR="3600" hR="3600" stAng="16200000" swAng="-5400000"/>
                <a:lnTo>
                  <a:pt x="0" y="31572"/>
                </a:lnTo>
                <a:arcTo wR="3600" hR="3600" stAng="10800000" swAng="-5400000"/>
                <a:lnTo>
                  <a:pt x="18000" y="351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b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reud’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guided b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conscio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tiv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3276720" y="1752480"/>
            <a:ext cx="2666880" cy="434340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4343400"/>
              <a:gd name="textAreaBottom" fmla="*/ 4213440 h 4343400"/>
            </a:gdLst>
            <a:ahLst/>
            <a:rect l="textAreaLeft" t="textAreaTop" r="textAreaRight" b="textAreaBottom"/>
            <a:pathLst>
              <a:path w="21600" h="35177">
                <a:moveTo>
                  <a:pt x="3600" y="0"/>
                </a:moveTo>
                <a:arcTo wR="3600" hR="3600" stAng="16200000" swAng="-5400000"/>
                <a:lnTo>
                  <a:pt x="0" y="31577"/>
                </a:lnTo>
                <a:arcTo wR="3600" hR="3600" stAng="10800000" swAng="-5400000"/>
                <a:lnTo>
                  <a:pt x="18000" y="351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b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slow’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ierarc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driven b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st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met n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6095880" y="1752480"/>
            <a:ext cx="2667240" cy="4343400"/>
          </a:xfrm>
          <a:custGeom>
            <a:avLst/>
            <a:gdLst>
              <a:gd name="textAreaLeft" fmla="*/ 129960 w 2667240"/>
              <a:gd name="textAreaRight" fmla="*/ 2537280 w 2667240"/>
              <a:gd name="textAreaTop" fmla="*/ 129960 h 4343400"/>
              <a:gd name="textAreaBottom" fmla="*/ 4213440 h 4343400"/>
            </a:gdLst>
            <a:ahLst/>
            <a:rect l="textAreaLeft" t="textAreaTop" r="textAreaRight" b="textAreaBottom"/>
            <a:pathLst>
              <a:path w="21600" h="35172">
                <a:moveTo>
                  <a:pt x="3600" y="0"/>
                </a:moveTo>
                <a:arcTo wR="3600" hR="3600" stAng="16200000" swAng="-5400000"/>
                <a:lnTo>
                  <a:pt x="0" y="31572"/>
                </a:lnTo>
                <a:arcTo wR="3600" hR="3600" stAng="10800000" swAng="-5400000"/>
                <a:lnTo>
                  <a:pt x="18000" y="351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db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erzberg’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wo-F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ded b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tivat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hygie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Key Psychological Process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88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28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1AF955D1-DC5E-477D-A8ED-21FCC2C33EE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AutoShape 2"/>
          <p:cNvSpPr/>
          <p:nvPr/>
        </p:nvSpPr>
        <p:spPr>
          <a:xfrm>
            <a:off x="619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6" descr="نتيجة بحث الصور عن نظارات ميسي"/>
          <p:cNvPicPr/>
          <p:nvPr/>
        </p:nvPicPr>
        <p:blipFill>
          <a:blip r:embed="rId2"/>
          <a:stretch/>
        </p:blipFill>
        <p:spPr>
          <a:xfrm>
            <a:off x="4994280" y="2817720"/>
            <a:ext cx="3422520" cy="2332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صورة ذات صلة"/>
          <p:cNvPicPr/>
          <p:nvPr/>
        </p:nvPicPr>
        <p:blipFill>
          <a:blip r:embed="rId3"/>
          <a:stretch/>
        </p:blipFill>
        <p:spPr>
          <a:xfrm>
            <a:off x="689040" y="2762280"/>
            <a:ext cx="36162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29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AB6EA88E-1FCC-4DB5-920D-207A52B90CF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otivation: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aslow’s Hierarchy of Need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517680" y="169848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siological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fety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al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eem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actualization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4900680" y="5730840"/>
            <a:ext cx="424332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6.2: Maslow’s Hierarchy of Need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13" descr="image"/>
          <p:cNvPicPr/>
          <p:nvPr/>
        </p:nvPicPr>
        <p:blipFill>
          <a:blip r:embed="rId2"/>
          <a:stretch/>
        </p:blipFill>
        <p:spPr>
          <a:xfrm>
            <a:off x="4519440" y="1577880"/>
            <a:ext cx="46245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,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527508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alyz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umer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" descr="image"/>
          <p:cNvPicPr/>
          <p:nvPr/>
        </p:nvPicPr>
        <p:blipFill>
          <a:blip r:embed="rId1"/>
          <a:stretch/>
        </p:blipFill>
        <p:spPr>
          <a:xfrm>
            <a:off x="3924360" y="2324160"/>
            <a:ext cx="44035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30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6D88B936-FB93-41E3-8AFD-63D879D6290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ercep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401760" y="1541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ception : the process by which an individual selects, organizes, interprets information to create a meaningful picture of the world.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ople can emerge with different perceptions of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bject because of three perceptual process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ive attention: screening out with noticing ot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ive retention: recall good points for product you like V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ive distortion : fits consumer per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31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347651AF-9DC4-43B9-93A8-1766D8B3E6F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025720" y="2419200"/>
            <a:ext cx="49086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d6b06"/>
                </a:solidFill>
                <a:uFillTx/>
                <a:latin typeface="Verdana"/>
                <a:hlinkClick r:id="rId2"/>
              </a:rPr>
              <a:t>https://</a:t>
            </a:r>
            <a:r>
              <a:rPr b="0" lang="en-US" sz="2000" spc="-1" strike="noStrike" u="sng">
                <a:solidFill>
                  <a:srgbClr val="ed6b06"/>
                </a:solidFill>
                <a:uFillTx/>
                <a:latin typeface="Verdana"/>
                <a:hlinkClick r:id="rId3"/>
              </a:rPr>
              <a:t>www.youtube.com/watch?v=H4oZlwvvc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itle 1"/>
          <p:cNvSpPr/>
          <p:nvPr/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32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3A47A058-B267-438B-BBB6-2401BCFCA88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Learn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401760" y="1541520"/>
            <a:ext cx="8405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we act, we lear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arning causes changes in behavior, arising from exper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arning theory can be used by marketers to understand consumer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TextBox 5"/>
          <p:cNvGrpSpPr/>
          <p:nvPr/>
        </p:nvGrpSpPr>
        <p:grpSpPr>
          <a:xfrm>
            <a:off x="6334200" y="12600"/>
            <a:ext cx="2859120" cy="1328760"/>
            <a:chOff x="6334200" y="12600"/>
            <a:chExt cx="2859120" cy="1328760"/>
          </a:xfrm>
        </p:grpSpPr>
        <p:pic>
          <p:nvPicPr>
            <p:cNvPr id="32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major psychological processes influence consumer responses to the marketing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C56D8F53-CF5F-49A1-ADD3-4773AD26F9C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emor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401760" y="1314360"/>
            <a:ext cx="8405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hort-term memory (STM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—a temporary and limited repository of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ong-term memory (LTM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—a more permanent, essentially unlimited reposit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emory encod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—how and where information gets into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emory retrieval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—how and from where information gets out of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xample of Chipsy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3440160" y="5033880"/>
            <a:ext cx="15876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6.3: Hypothetical Mental Map for Chipsy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Picture 12" descr="image"/>
          <p:cNvPicPr/>
          <p:nvPr/>
        </p:nvPicPr>
        <p:blipFill>
          <a:blip r:embed="rId2"/>
          <a:stretch/>
        </p:blipFill>
        <p:spPr>
          <a:xfrm>
            <a:off x="5087880" y="3200400"/>
            <a:ext cx="38638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14280" y="162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Buying-Decision Process: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Five-Stage Mode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39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4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49EA2AC4-0E7B-48D9-BA02-509D473DEA9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5464080" y="2811600"/>
            <a:ext cx="317016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6.4: Five-Stage Model of the Consumer Buying Proces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10" descr="image"/>
          <p:cNvPicPr/>
          <p:nvPr/>
        </p:nvPicPr>
        <p:blipFill>
          <a:blip r:embed="rId2"/>
          <a:stretch/>
        </p:blipFill>
        <p:spPr>
          <a:xfrm>
            <a:off x="3470400" y="1073160"/>
            <a:ext cx="1476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4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2E5B8942-C09B-4FFE-B6CF-42586BF2306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blem Recogni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393840" y="1703520"/>
            <a:ext cx="769608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uying process starts when the buyer recognizes a problem or n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5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5D3E7F7F-580C-4F08-98E0-60F93F10C6C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formation Search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393840" y="1476360"/>
            <a:ext cx="769608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urc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l: Fami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ercial : 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: Mass 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eriential U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dynamic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2725560" y="4343400"/>
            <a:ext cx="460404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6.5: Successive Sets Involved in Consumer Decision Making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Picture 11" descr="image"/>
          <p:cNvPicPr/>
          <p:nvPr/>
        </p:nvPicPr>
        <p:blipFill>
          <a:blip r:embed="rId2"/>
          <a:stretch/>
        </p:blipFill>
        <p:spPr>
          <a:xfrm>
            <a:off x="2603520" y="1322280"/>
            <a:ext cx="65404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6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A6E593E1-BA20-4702-A0D8-168D429F6BF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Evaluation of Alternativ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393840" y="1335240"/>
            <a:ext cx="769608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 can often segment the market for a product according to attributes important to different consumer group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3973680" y="5349960"/>
            <a:ext cx="478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Tetra Pak changed consumers’ attitudes towards dairy products with it’s Tasbeera snack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2" descr="image"/>
          <p:cNvPicPr/>
          <p:nvPr/>
        </p:nvPicPr>
        <p:blipFill>
          <a:blip r:embed="rId2"/>
          <a:stretch/>
        </p:blipFill>
        <p:spPr>
          <a:xfrm>
            <a:off x="3873600" y="2131920"/>
            <a:ext cx="44560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7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91E1A7C1-5CE2-4BB8-9229-C6B7125CE55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2060"/>
                </a:solidFill>
                <a:latin typeface="Verdana"/>
              </a:rPr>
              <a:t>Expectancy-Value Mode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393840" y="1335240"/>
            <a:ext cx="769608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umers evaluate products and services by combining their brand beliefs, positive and negative, according to their weighted import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2201760" y="5435640"/>
            <a:ext cx="46036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 6.2: A Consumer’s Brand Beliefs about Laptop Computer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11" descr="image"/>
          <p:cNvPicPr/>
          <p:nvPr/>
        </p:nvPicPr>
        <p:blipFill>
          <a:blip r:embed="rId2"/>
          <a:stretch/>
        </p:blipFill>
        <p:spPr>
          <a:xfrm>
            <a:off x="2506680" y="2400480"/>
            <a:ext cx="56005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8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EBC78D81-65C0-4415-9153-ACB8A477506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urchase Decis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393840" y="1335240"/>
            <a:ext cx="564984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n-compensatory models of choic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junctive  set of minimum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graphic  most important attribute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imination-by-aspects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vening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wo general factors can intervene between the purchase intention and the purchase decis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ttitudes of ot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nanticipated situational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6589800" y="5191200"/>
            <a:ext cx="255420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6.6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teps Between Evaluation of Alternatives and a Purchase Decision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11" descr="image"/>
          <p:cNvPicPr/>
          <p:nvPr/>
        </p:nvPicPr>
        <p:blipFill>
          <a:blip r:embed="rId2"/>
          <a:stretch/>
        </p:blipFill>
        <p:spPr>
          <a:xfrm>
            <a:off x="6184800" y="825480"/>
            <a:ext cx="29592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0480" y="1935000"/>
            <a:ext cx="7996320" cy="2060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 do consumer characteristics influence buying behavior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at major psychological processes influence consumer responses to the marketing program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 do consumers make purchasing decis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4D2D8386-BB76-4E64-8850-0E4FFA09B59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9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DF1B982B-C92E-4347-B423-E79366FBA13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urchase Decis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1177920" y="1387440"/>
            <a:ext cx="48657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rceived risk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       perform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cal           thre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ancial          pr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cial              embarrass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sychological    men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opportunity cos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Other Theories of Consumer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Decision Mak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C5215836-2004-4A7F-8FCE-1D1285F679A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9" name="TextBox 7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00" name="TextBox 7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Rectangle 3"/>
          <p:cNvSpPr/>
          <p:nvPr/>
        </p:nvSpPr>
        <p:spPr>
          <a:xfrm>
            <a:off x="406440" y="1444680"/>
            <a:ext cx="73087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Verdana"/>
              </a:rPr>
              <a:t>Level of Consumer Involv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aboration Likelihood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-involvement marketing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ety-seeking buying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399960" y="3457440"/>
            <a:ext cx="802656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Verdana"/>
              </a:rPr>
              <a:t>Decision Heuristics and Bi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tiv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choring and adjust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4781520" y="4038480"/>
            <a:ext cx="4135320" cy="2067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8524800" y="370692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2C990244-149B-44CF-BA4D-AD12396B59B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8" name="TextBox 7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09" name="TextBox 7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make purchasing decis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65040" y="71424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ental Account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299880" y="1338120"/>
            <a:ext cx="76964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s tend to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egregate ga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tegrate lo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tegrate smaller losses with larger ga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egregate small gains from large lo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TextBox 5"/>
          <p:cNvGrpSpPr/>
          <p:nvPr/>
        </p:nvGrpSpPr>
        <p:grpSpPr>
          <a:xfrm>
            <a:off x="6334200" y="12600"/>
            <a:ext cx="2870280" cy="901800"/>
            <a:chOff x="6334200" y="12600"/>
            <a:chExt cx="2870280" cy="901800"/>
          </a:xfrm>
        </p:grpSpPr>
        <p:pic>
          <p:nvPicPr>
            <p:cNvPr id="41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70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marketers analyze consumer decision mak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A1A0F850-6F6E-4272-BB38-E9C4742E009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372960" y="1828800"/>
            <a:ext cx="7696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can marketers learn about the stages in the buying process for their produc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trospective method – how would they act themselv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trospective method – ask buyers to recall the events leading to their purch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spective method – ask consumers who plan to buy a product about the steps in their buying proc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escriptive method – the ideal way to bu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ying to understand the customer’s behavior in connection with a product has been called mapping the customer’s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nsumption system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filing the Customer Buying-Decision Proces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ristian Short Photography, photographersdirec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3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Directors and TRIP Photo Library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lene Rog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4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HAS Market Segments, www.lohas.com. Reproduced with per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8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tivation and Personality, 3rd edition, Prentice Hall (Maslow, A.H., and Frager, R.D., Fadiman, J. (eds), 198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2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go courtesy TetraPak. Reproduced with per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14D83549-DFC7-4F18-B4CD-813FA371E61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behavi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udy of how individuals, groups and organization select, buy, use, and dispose of goods, services, ideas, or experiences to satisfy their needs and wants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What Influences Consumer 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Behavior?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5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18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762120" y="182880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ltural f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al f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 f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97C1647A-E058-4E4B-BF09-78ECE2360E0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19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5FF5C99B-1180-4B0D-96B0-463A21E61C8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1- Cultur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cultur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468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ltu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fundamental determinant of a person’s wants and behaviors acquired through socialization processes with family and other key institu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46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19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1A832445-3CDF-4F61-882A-584BA143A05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ltur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iona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cial grou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graphic reg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5157720" y="1789200"/>
            <a:ext cx="3200400" cy="1619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5111640" y="4003560"/>
            <a:ext cx="3252960" cy="1408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User\AppData\Local\Microsoft\Windows\Temporary Internet Files\Content.IE5\XHNASMRZ\MC900432586[1].png"/>
          <p:cNvPicPr/>
          <p:nvPr/>
        </p:nvPicPr>
        <p:blipFill>
          <a:blip r:embed="rId4"/>
          <a:stretch/>
        </p:blipFill>
        <p:spPr>
          <a:xfrm>
            <a:off x="8013600" y="144792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Users\User\AppData\Local\Microsoft\Windows\Temporary Internet Files\Content.IE5\XHNASMRZ\MC900432586[1].png"/>
          <p:cNvPicPr/>
          <p:nvPr/>
        </p:nvPicPr>
        <p:blipFill>
          <a:blip r:embed="rId5"/>
          <a:stretch/>
        </p:blipFill>
        <p:spPr>
          <a:xfrm>
            <a:off x="8024760" y="370692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1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FBAE76D0-0AC1-470D-919B-961E537FAA5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2- Soci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cial class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in a class, people tend to behave alik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al class conveys perceptions of inferior or superior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may be indicated by a cluster of variables (occupation, income, wealth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viduals can move up or down the social-class ladder over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1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 characteristics influence buying behavior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6-</a:t>
            </a:r>
            <a:fld id="{D0E7A600-0480-409A-9C0B-EC9FDC30BE0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ocial Facto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cial factors affect our buying behavior, includ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ference grou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cial role and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4320" indent="-35712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Role ; the activities someone excepted to perfor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4320" indent="-35712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tatus ; one’s position within his own cult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10-24T14:49:23Z</dcterms:modified>
  <cp:revision>54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