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2397C5-2A7D-4C0A-B731-E834E14FF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C35422-B5BE-40CA-A91F-1738615A5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E36D73-B357-4C03-A10B-161E112E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9D6490-88AA-4D48-9CFE-392695A3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1DA5-7478-4CB8-BB30-FD3B73DFD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F16B-9942-4756-AD6E-201F5F285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D2B6-FBFE-40E1-A065-45F5E65BF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77A4-0EA7-4B70-9DDE-F605A846E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ED593-8260-4D32-ACFE-6B239904B8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8E409-4587-4A06-9CCE-6F0B25558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6E661-96AA-43A0-AC80-69322F38CC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E0635-E339-46C8-83AD-A1BE5898D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E4CF-0A46-4EBF-9C55-41B184E5E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0E96A-A4B1-4CDC-96A5-E2F12FE96F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AA18C-DC24-4132-BD58-5590DDE7C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016B-10D2-4E1A-9DF7-4910595A8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B2C09-8B94-4E2B-8F78-9E3B46D7E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C9F86-24C9-4045-9DAD-BE3FD1D82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46FC7-DF63-474D-B488-4A46F834BA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4E3C-A4BB-4997-8F44-994D34229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7AF7D-F549-44FA-9A4B-27B5A968F0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97B4-ED62-40FC-9123-AF2DBE48F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7417-E2CE-4245-A007-65122D6EDC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54CC-14D8-4FE4-A80C-84676A51A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824E-0310-4D57-976F-53F90C429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2122-CB90-47DF-A3FD-E67D1B93E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6C8F-2790-426C-89C2-3074DC27F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4908-DFE8-44E5-B842-98E6E0B00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79E-BBBE-49CD-B5CC-FE79F66EB3F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945-7E09-46CD-8429-9D2C5C7F522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www.youtube.com/watch?v=H4oZlwvvcMM" TargetMode="External"/><Relationship Id="rId3" Type="http://schemas.openxmlformats.org/officeDocument/2006/relationships/hyperlink" Target="https://www.youtube.com/watch?v=H4oZlwvvcM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AD52C47A-A117-4AAB-BD8D-8B0F208A417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ference group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all the groups that have a direct (face-to-face) or indirect influence on an individual’s attitudes or behavi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se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bership groups : direct influence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imary groups : interact continuously &amp; informally  (fami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condary groups : vs profession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pirational groups : hope to jo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associative groups : 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798A8561-F3FF-43F0-8D34-DF6307EAF87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amil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distinctions affecting buying decis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mily of Ori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mily of Procre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A33A4448-8183-4888-913E-5DD3687011F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- 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buyer’s decisions are influenced by personal characterist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96720" y="2386080"/>
            <a:ext cx="403884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 cycle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cup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4570560" y="2160720"/>
            <a:ext cx="403848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ty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of distinguishing psychological trai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lief systems underline consumer attitudes and behavi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st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erson’s pattern of living in the world as expressed in activities, interests, and opin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2634754-A867-4F8A-868E-75566E3C7ED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571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festy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a person’s pattern of living in the world as expressed in activities, interests, and opinio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search for relationships between their products and life style grou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973680" y="5349960"/>
            <a:ext cx="478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The “convenience involvement segment” of the food market is receptive to time-saver products such as Indomie noodles, which allow them to easily and quickly prepare a hot me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12" descr="image"/>
          <p:cNvPicPr/>
          <p:nvPr/>
        </p:nvPicPr>
        <p:blipFill>
          <a:blip r:embed="rId2"/>
          <a:stretch/>
        </p:blipFill>
        <p:spPr>
          <a:xfrm>
            <a:off x="5170320" y="2973240"/>
            <a:ext cx="30481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87148F1-9961-4F24-B144-B42AF246CAD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rand personality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specific mix of human traits that we can attribute to a particular bran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llowing traits have been identified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incerity (down-to-earth, honest, wholesome, and cheerful). Qua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Excitement (daring, spirited, imaginative, and up-to-date). MT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Competence (reliable, intelligent, and successful). CN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ophistication (upper-class and charmin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Ruggedness (outdoorsy and tough). Levi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6B6F7D1E-A620-4022-BE6A-DA0CCCEB50D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00040" y="546732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1: Model of Consumer Behavior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10" descr="image"/>
          <p:cNvPicPr/>
          <p:nvPr/>
        </p:nvPicPr>
        <p:blipFill>
          <a:blip r:embed="rId2"/>
          <a:stretch/>
        </p:blipFill>
        <p:spPr>
          <a:xfrm>
            <a:off x="392040" y="1549440"/>
            <a:ext cx="8304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1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7426A1C6-D4DF-4C37-960E-995641F9F2B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7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B176358F-D000-4A90-B399-F1B5BD4F850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tivation: Freud, Maslow,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erzber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752480"/>
            <a:ext cx="2667240" cy="4343400"/>
          </a:xfrm>
          <a:custGeom>
            <a:avLst/>
            <a:gdLst>
              <a:gd name="textAreaLeft" fmla="*/ 129960 w 2667240"/>
              <a:gd name="textAreaRight" fmla="*/ 2537280 w 266724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2">
                <a:moveTo>
                  <a:pt x="3600" y="0"/>
                </a:moveTo>
                <a:arcTo wR="3600" hR="3600" stAng="16200000" swAng="-5400000"/>
                <a:lnTo>
                  <a:pt x="0" y="31572"/>
                </a:lnTo>
                <a:arcTo wR="3600" hR="3600" stAng="10800000" swAng="-5400000"/>
                <a:lnTo>
                  <a:pt x="18000" y="35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eud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guid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nsci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276720" y="1752480"/>
            <a:ext cx="2666880" cy="43434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7">
                <a:moveTo>
                  <a:pt x="3600" y="0"/>
                </a:moveTo>
                <a:arcTo wR="3600" hR="3600" stAng="16200000" swAng="-5400000"/>
                <a:lnTo>
                  <a:pt x="0" y="31577"/>
                </a:lnTo>
                <a:arcTo wR="3600" hR="3600" stAng="10800000" swAng="-5400000"/>
                <a:lnTo>
                  <a:pt x="18000" y="35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low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driven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st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met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6095880" y="1752480"/>
            <a:ext cx="2667240" cy="4343400"/>
          </a:xfrm>
          <a:custGeom>
            <a:avLst/>
            <a:gdLst>
              <a:gd name="textAreaLeft" fmla="*/ 129960 w 2667240"/>
              <a:gd name="textAreaRight" fmla="*/ 2537280 w 266724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2">
                <a:moveTo>
                  <a:pt x="3600" y="0"/>
                </a:moveTo>
                <a:arcTo wR="3600" hR="3600" stAng="16200000" swAng="-5400000"/>
                <a:lnTo>
                  <a:pt x="0" y="31572"/>
                </a:lnTo>
                <a:arcTo wR="3600" hR="3600" stAng="10800000" swAng="-5400000"/>
                <a:lnTo>
                  <a:pt x="18000" y="35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rzberg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-F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hygi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88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11D3B15-12B7-41C9-80EB-07D36DCF7D3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AutoShape 2"/>
          <p:cNvSpPr/>
          <p:nvPr/>
        </p:nvSpPr>
        <p:spPr>
          <a:xfrm>
            <a:off x="61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6" descr="نتيجة بحث الصور عن نظارات ميسي"/>
          <p:cNvPicPr/>
          <p:nvPr/>
        </p:nvPicPr>
        <p:blipFill>
          <a:blip r:embed="rId2"/>
          <a:stretch/>
        </p:blipFill>
        <p:spPr>
          <a:xfrm>
            <a:off x="4994280" y="2817720"/>
            <a:ext cx="3422520" cy="2332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صورة ذات صلة"/>
          <p:cNvPicPr/>
          <p:nvPr/>
        </p:nvPicPr>
        <p:blipFill>
          <a:blip r:embed="rId3"/>
          <a:stretch/>
        </p:blipFill>
        <p:spPr>
          <a:xfrm>
            <a:off x="689040" y="2762280"/>
            <a:ext cx="361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1711F191-11F9-48C6-AE7C-655DAD7C931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tivation: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slow’s Hierarchy of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17680" y="1698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ctualization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4900680" y="5730840"/>
            <a:ext cx="4243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2: Maslow’s Hierarchy of Nee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13" descr="image"/>
          <p:cNvPicPr/>
          <p:nvPr/>
        </p:nvPicPr>
        <p:blipFill>
          <a:blip r:embed="rId2"/>
          <a:stretch/>
        </p:blipFill>
        <p:spPr>
          <a:xfrm>
            <a:off x="4519440" y="1577880"/>
            <a:ext cx="46245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,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yz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umer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24360" y="2324160"/>
            <a:ext cx="4403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0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436B2D1-D8A9-4821-9CCC-F51B257211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cep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01760" y="1541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ception : the process by which an individual selects, organizes, interprets information to create a meaningful picture of the world.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ople can emerge with different perceptions of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bject because of three perceptual proces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attention: screening out with noticing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retention: recall good points for product you like V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distortion : fits consumer 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E70EACEB-0CD3-4240-8E3D-194CBE0C2EA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025720" y="2419200"/>
            <a:ext cx="4908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d6b06"/>
                </a:solidFill>
                <a:uFillTx/>
                <a:latin typeface="Verdana"/>
                <a:hlinkClick r:id="rId2"/>
              </a:rPr>
              <a:t>https://</a:t>
            </a:r>
            <a:r>
              <a:rPr b="0" lang="en-US" sz="2000" spc="-1" strike="noStrike" u="sng">
                <a:solidFill>
                  <a:srgbClr val="ed6b06"/>
                </a:solidFill>
                <a:uFillTx/>
                <a:latin typeface="Verdana"/>
                <a:hlinkClick r:id="rId3"/>
              </a:rPr>
              <a:t>www.youtube.com/watch?v=H4oZlwvvc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BE8C46CB-E8D9-4A23-AB8A-E303C0AC5B9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Lear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01760" y="1541520"/>
            <a:ext cx="840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we act, we lear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arning causes changes in behavior, arising from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arning theory can be used by marketers to understand consumer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BCD7C78E-C745-4DD4-86DA-EB0AD1FD536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mor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01760" y="1314360"/>
            <a:ext cx="840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hort-term memory (STM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a temporary and limited repository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ong-term memory (LTM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a more permanent, essentially unlimited reposi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mory enco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how and where information gets into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mory retrieval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how and from where information gets out of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ample of Chips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3440160" y="5033880"/>
            <a:ext cx="15876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3: Hypothetical Mental Map for Chips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12" descr="image"/>
          <p:cNvPicPr/>
          <p:nvPr/>
        </p:nvPicPr>
        <p:blipFill>
          <a:blip r:embed="rId2"/>
          <a:stretch/>
        </p:blipFill>
        <p:spPr>
          <a:xfrm>
            <a:off x="5087880" y="3200400"/>
            <a:ext cx="38638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162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Buying-Decision Process: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Five-Stage Mode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4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0188704D-97A2-4302-AE54-D255B85DB6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464080" y="2811600"/>
            <a:ext cx="31701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4: Five-Stage Model of the Consumer Buy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10" descr="image"/>
          <p:cNvPicPr/>
          <p:nvPr/>
        </p:nvPicPr>
        <p:blipFill>
          <a:blip r:embed="rId2"/>
          <a:stretch/>
        </p:blipFill>
        <p:spPr>
          <a:xfrm>
            <a:off x="3470400" y="1073160"/>
            <a:ext cx="147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09DE451-75FD-4B7D-B54E-5DF1E50600C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blem Recogni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93840" y="1703520"/>
            <a:ext cx="769608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ying process starts when the buyer recognizes a problem or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9509EC28-0F3F-4E7C-888E-C253164E49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formation Search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393840" y="147636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urc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: Fam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ercial : 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: Mass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ential 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dynamic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725560" y="4343400"/>
            <a:ext cx="46040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5: Successive Sets Involved in Consumer Decision Mak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1" descr="image"/>
          <p:cNvPicPr/>
          <p:nvPr/>
        </p:nvPicPr>
        <p:blipFill>
          <a:blip r:embed="rId2"/>
          <a:stretch/>
        </p:blipFill>
        <p:spPr>
          <a:xfrm>
            <a:off x="2603520" y="1322280"/>
            <a:ext cx="6540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6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29252D5-5C80-436A-B71D-7C9AFA65593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valuation of Alternativ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93840" y="133524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can often segment the market for a product according to attributes important to different consumer group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3973680" y="5349960"/>
            <a:ext cx="478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Tetra Pak changed consumers’ attitudes towards dairy products with it’s Tasbeera snack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2" descr="image"/>
          <p:cNvPicPr/>
          <p:nvPr/>
        </p:nvPicPr>
        <p:blipFill>
          <a:blip r:embed="rId2"/>
          <a:stretch/>
        </p:blipFill>
        <p:spPr>
          <a:xfrm>
            <a:off x="3873600" y="2131920"/>
            <a:ext cx="4456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AF0C1CD-02E1-42E5-AB2C-C9A5461BBF3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Verdana"/>
              </a:rPr>
              <a:t>Expectancy-Value Mode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393840" y="133524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evaluate products and services by combining their brand beliefs, positive and negative, according to their weighted import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201760" y="5435640"/>
            <a:ext cx="46036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6.2: A Consumer’s Brand Beliefs about Laptop Computer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11" descr="image"/>
          <p:cNvPicPr/>
          <p:nvPr/>
        </p:nvPicPr>
        <p:blipFill>
          <a:blip r:embed="rId2"/>
          <a:stretch/>
        </p:blipFill>
        <p:spPr>
          <a:xfrm>
            <a:off x="2506680" y="2400480"/>
            <a:ext cx="56005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8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D6D5FF0E-392B-49DC-8302-425AFB6E2B5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urchase Deci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93840" y="1335240"/>
            <a:ext cx="56498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-compensatory models of cho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ctive  set of minimu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graphic  most important attribute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imination-by-aspect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ven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general factors can intervene between the purchase intention and the purchase decis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ttitudes of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anticipated situational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589800" y="5191200"/>
            <a:ext cx="25542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eps Between Evaluation of Alternatives and a Purchase Decision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11" descr="image"/>
          <p:cNvPicPr/>
          <p:nvPr/>
        </p:nvPicPr>
        <p:blipFill>
          <a:blip r:embed="rId2"/>
          <a:stretch/>
        </p:blipFill>
        <p:spPr>
          <a:xfrm>
            <a:off x="6184800" y="825480"/>
            <a:ext cx="29592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0480" y="1935000"/>
            <a:ext cx="7996320" cy="2060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do consumer characteristics influence buying behavi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major psychological processes influence consumer responses to the marketing progra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do consumers make purchasing decis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25F7CCA-E6E3-4A30-B426-D5F94C597AA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B35DA116-593A-48A0-96DF-D2F84123099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urchase Deci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177920" y="1387440"/>
            <a:ext cx="48657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ceived ris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      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cal           thre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cial         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al              embarrass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cal    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opportunity co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Other Theories of Consumer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cision Mak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72C11B5D-9D27-4207-9040-A499C0DD833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9" name="TextBox 7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0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Rectangle 3"/>
          <p:cNvSpPr/>
          <p:nvPr/>
        </p:nvSpPr>
        <p:spPr>
          <a:xfrm>
            <a:off x="406440" y="1444680"/>
            <a:ext cx="73087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Level of Consumer Invol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aboration Likelihood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involvement marke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ety-seeking buying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99960" y="3457440"/>
            <a:ext cx="802656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Decision Heuristics and Bi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choring and adjus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781520" y="4038480"/>
            <a:ext cx="4135320" cy="2067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524800" y="37069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8B3FA834-58A0-4980-A9D2-91DCCF79C25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TextBox 7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9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ntal Accoun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9880" y="1338120"/>
            <a:ext cx="7696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s tend 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gregate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e lo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e smaller losses with larger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gregate small gains from large lo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TextBox 5"/>
          <p:cNvGrpSpPr/>
          <p:nvPr/>
        </p:nvGrpSpPr>
        <p:grpSpPr>
          <a:xfrm>
            <a:off x="6334200" y="12600"/>
            <a:ext cx="2870280" cy="901800"/>
            <a:chOff x="6334200" y="12600"/>
            <a:chExt cx="2870280" cy="901800"/>
          </a:xfrm>
        </p:grpSpPr>
        <p:pic>
          <p:nvPicPr>
            <p:cNvPr id="4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0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ers analyze consumer decision mak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1CBB5FCA-7C9E-4F2E-B305-2400A6C3449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372960" y="1828800"/>
            <a:ext cx="7696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can marketers learn about the stages in the buying process for their produc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rospective method – how would they act themselv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rospective method – ask buyers to recall the events leading to their purc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spective method – ask consumers who plan to buy a product about the steps in their buying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scriptive method – the ideal way to bu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ying to understand the customer’s behavior in connection with a product has been called mapping the customer’s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sumption syste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filing the Customer Buying-Decision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ristian Short Photography, photographersdirec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3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Directors and TRIP Photo Library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lene Ro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HAS Market Segments, www.lohas.com. Reproduced with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8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tivation and Personality, 3rd edition, Prentice Hall (Maslow, A.H., and Frager, R.D., Fadiman, J. (eds), 198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go courtesy TetraPak. Reproduced with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94F27819-3FCA-4F5D-8F88-393677B0316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behav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udy of how individuals, groups and organization select, buy, use, and dispose of goods, services, ideas, or experiences to satisfy their needs and want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What Influences Consumer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ehavior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8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62120" y="182880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8012AF2C-1864-4E2D-8352-4A771ADF63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050628F-AFF7-40AD-A00E-2E5CE4573AC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1- Cultur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l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fundamental determinant of a person’s wants and behaviors acquired through socialization processes with family and other key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92E54A25-F46B-4513-A4D5-1C5818E6278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ltur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cia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157720" y="1789200"/>
            <a:ext cx="3200400" cy="16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5111640" y="4003560"/>
            <a:ext cx="3252960" cy="140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User\AppData\Local\Microsoft\Windows\Temporary Internet Files\Content.IE5\XHNASMRZ\MC900432586[1].png"/>
          <p:cNvPicPr/>
          <p:nvPr/>
        </p:nvPicPr>
        <p:blipFill>
          <a:blip r:embed="rId4"/>
          <a:stretch/>
        </p:blipFill>
        <p:spPr>
          <a:xfrm>
            <a:off x="8013600" y="144792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User\AppData\Local\Microsoft\Windows\Temporary Internet Files\Content.IE5\XHNASMRZ\MC900432586[1].png"/>
          <p:cNvPicPr/>
          <p:nvPr/>
        </p:nvPicPr>
        <p:blipFill>
          <a:blip r:embed="rId5"/>
          <a:stretch/>
        </p:blipFill>
        <p:spPr>
          <a:xfrm>
            <a:off x="8024760" y="37069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70E21FD-403B-4D3C-B61F-7F97B9F760A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- 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clas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in a class, people tend to behave ali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class conveys perceptions of inferior or superior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may be indicated by a cluster of variables (occupation, income, wealt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s can move up or down the social-class ladder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2D89C14F-FC02-4AC9-BB46-3A369292661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factors affect our buying behavior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ference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role and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le ; the activities someone excepted to perfor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atus ; one’s position within his own cul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24T14:49:23Z</dcterms:modified>
  <cp:revision>54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