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21.png" ContentType="image/png"/>
  <Override PartName="/ppt/media/image3.wmf" ContentType="image/x-wmf"/>
  <Override PartName="/ppt/media/image20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4.jpeg" ContentType="image/jpeg"/>
  <Override PartName="/ppt/media/image2.png" ContentType="image/png"/>
  <Override PartName="/ppt/media/image13.jpeg" ContentType="image/jpeg"/>
  <Override PartName="/ppt/media/image2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5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6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7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3AC308B-C83C-4F60-A39D-D118291FAF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FB092F8-C5F1-407F-96F9-12760368A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68D69-CB1E-4879-8513-81664FB7EA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9C0C4-5241-4204-B35B-C88DB65D4B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80001-5CAF-428A-A959-0BC2C5B796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E964D-C4D8-4B07-B4AA-E3F7EF705A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CDC223-1DA4-4346-8866-4BB2EB183C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0E8BF7-2BB7-464B-BAFC-0C182E1F36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29BF6-60F5-426D-89A8-4BB89E3622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47485-16C4-4571-A34A-440F6CD595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819E7-579E-4807-8FB7-25FA9E57D0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BBB1B-4000-43FF-87EB-5EEE4D9C5C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7837FE-C753-43D5-ADF6-78CBC9A4E0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8AFDE-9E35-4EB7-9FA4-53194C7212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5A7A5-F630-4DA5-BEE8-7A2A59BFA4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02A6C3-861A-49AC-AB35-23CB5F5813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6AB3F-3AD5-4DAC-AB52-12BE4B6B1A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CBD9BA-59EF-4AD2-AADB-873BCDA89E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36AAE-9954-4D15-8388-D3181937927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19DD1-83F8-4973-B4FD-4FAD64A5686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EBDCF-67A0-449A-92D8-243948CA9F1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4CA1D-C0F5-4180-995D-1553DABE2A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27AC2-59BE-483F-9BBE-3252EFF7BE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EFDFF-A75E-4E13-A4AB-593A124B55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B1990-E5B1-46A1-8CBA-684CC47AC7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A4C5F-AD0D-4CC8-ADE5-C8E294292B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80520" y="6544800"/>
            <a:ext cx="4984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52280" y="6544800"/>
            <a:ext cx="331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757D-EB7F-4CE8-A70A-F8B34332065A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2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80520" y="6544800"/>
            <a:ext cx="4984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150840" y="6544800"/>
            <a:ext cx="331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BF99-318C-470C-B503-9C30520D2DD6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9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5" descr="Always_Learning_Text_Green_RGB"/>
          <p:cNvPicPr/>
          <p:nvPr/>
        </p:nvPicPr>
        <p:blipFill>
          <a:blip r:embed="rId2"/>
          <a:stretch/>
        </p:blipFill>
        <p:spPr>
          <a:xfrm>
            <a:off x="957240" y="2332080"/>
            <a:ext cx="7211880" cy="17384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10" descr="Pearson_Bound_White"/>
          <p:cNvPicPr/>
          <p:nvPr/>
        </p:nvPicPr>
        <p:blipFill>
          <a:blip r:embed="rId3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Pearson_Strap_Bound_White"/>
          <p:cNvPicPr/>
          <p:nvPr/>
        </p:nvPicPr>
        <p:blipFill>
          <a:blip r:embed="rId4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10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TextBox 5"/>
          <p:cNvGrpSpPr/>
          <p:nvPr/>
        </p:nvGrpSpPr>
        <p:grpSpPr>
          <a:xfrm>
            <a:off x="6334200" y="12600"/>
            <a:ext cx="2816280" cy="689040"/>
            <a:chOff x="6334200" y="12600"/>
            <a:chExt cx="2816280" cy="689040"/>
          </a:xfrm>
        </p:grpSpPr>
        <p:pic>
          <p:nvPicPr>
            <p:cNvPr id="223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6391440" y="47520"/>
              <a:ext cx="270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brand equity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8451C6CC-318A-4182-B899-A2A478A91796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itle 1"/>
          <p:cNvSpPr/>
          <p:nvPr/>
        </p:nvSpPr>
        <p:spPr>
          <a:xfrm>
            <a:off x="382680" y="774720"/>
            <a:ext cx="8229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Brand Equity as a Brid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382680" y="1854360"/>
            <a:ext cx="822960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rand equit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n be thought of as providing marketers with a vital strategic ‘bridge’ from their past to their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rand promise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s the marketer’s vision of what the brand must be and do for consum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TextBox 5"/>
          <p:cNvGrpSpPr/>
          <p:nvPr/>
        </p:nvGrpSpPr>
        <p:grpSpPr>
          <a:xfrm>
            <a:off x="6334200" y="12600"/>
            <a:ext cx="2816280" cy="689040"/>
            <a:chOff x="6334200" y="12600"/>
            <a:chExt cx="2816280" cy="689040"/>
          </a:xfrm>
        </p:grpSpPr>
        <p:pic>
          <p:nvPicPr>
            <p:cNvPr id="230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6391440" y="47520"/>
              <a:ext cx="270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brand equity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2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B8FD2E1A-6BFD-43D1-B6B5-7146D774A918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itle 1"/>
          <p:cNvSpPr/>
          <p:nvPr/>
        </p:nvSpPr>
        <p:spPr>
          <a:xfrm>
            <a:off x="382680" y="774720"/>
            <a:ext cx="8229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Brand Equity Mod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382680" y="1854360"/>
            <a:ext cx="822960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 established brand equity model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and Asset Valuator (BAV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AND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aker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and Reso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TextBox 5"/>
          <p:cNvGrpSpPr/>
          <p:nvPr/>
        </p:nvGrpSpPr>
        <p:grpSpPr>
          <a:xfrm>
            <a:off x="6334200" y="12600"/>
            <a:ext cx="2816280" cy="689040"/>
            <a:chOff x="6334200" y="12600"/>
            <a:chExt cx="2816280" cy="689040"/>
          </a:xfrm>
        </p:grpSpPr>
        <p:pic>
          <p:nvPicPr>
            <p:cNvPr id="237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6391440" y="47520"/>
              <a:ext cx="270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brand equity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FF19F87E-1E69-4079-8967-DA3F382642BC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365040" y="1709640"/>
            <a:ext cx="822960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Title 1"/>
          <p:cNvSpPr/>
          <p:nvPr/>
        </p:nvSpPr>
        <p:spPr>
          <a:xfrm>
            <a:off x="382680" y="774720"/>
            <a:ext cx="8229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Brand Equity Mod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385920" y="1254240"/>
            <a:ext cx="822960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Brand Asset Valuator (BAV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2060"/>
                </a:solidFill>
                <a:latin typeface="Verdana"/>
              </a:rPr>
              <a:t>(Y&amp;R) = 500.000 X 44 Count X 1000s Br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y Components (D.E.R.E.K.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i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ergy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nse of momentum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evance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rand’s Appe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eem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spected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miliar &amp; intim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5208480" y="2139840"/>
            <a:ext cx="360072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D.E.R.E.K.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 + E + R = energized brand strength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ture valu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 + K = Brand Stature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st Performanc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TextBox 5"/>
          <p:cNvGrpSpPr/>
          <p:nvPr/>
        </p:nvGrpSpPr>
        <p:grpSpPr>
          <a:xfrm>
            <a:off x="6334200" y="12600"/>
            <a:ext cx="2816280" cy="689040"/>
            <a:chOff x="6334200" y="12600"/>
            <a:chExt cx="2816280" cy="689040"/>
          </a:xfrm>
        </p:grpSpPr>
        <p:pic>
          <p:nvPicPr>
            <p:cNvPr id="245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6391440" y="47520"/>
              <a:ext cx="270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brand equity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577EC3F4-8E99-45ED-AB8E-4B8EBE4FFCBE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Title 1"/>
          <p:cNvSpPr/>
          <p:nvPr/>
        </p:nvSpPr>
        <p:spPr>
          <a:xfrm>
            <a:off x="382680" y="774720"/>
            <a:ext cx="8229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Brand Equity Mod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371520" y="1531800"/>
            <a:ext cx="822960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BRANDZ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2343240" y="5765760"/>
            <a:ext cx="4013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9.2: BrandDynamics Pyramid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Picture 11" descr="image"/>
          <p:cNvPicPr/>
          <p:nvPr/>
        </p:nvPicPr>
        <p:blipFill>
          <a:blip r:embed="rId2"/>
          <a:stretch/>
        </p:blipFill>
        <p:spPr>
          <a:xfrm>
            <a:off x="890640" y="1965240"/>
            <a:ext cx="76737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TextBox 5"/>
          <p:cNvGrpSpPr/>
          <p:nvPr/>
        </p:nvGrpSpPr>
        <p:grpSpPr>
          <a:xfrm>
            <a:off x="6334200" y="12600"/>
            <a:ext cx="2816280" cy="689040"/>
            <a:chOff x="6334200" y="12600"/>
            <a:chExt cx="2816280" cy="689040"/>
          </a:xfrm>
        </p:grpSpPr>
        <p:pic>
          <p:nvPicPr>
            <p:cNvPr id="254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6391440" y="47520"/>
              <a:ext cx="270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brand equity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6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09AA629A-D886-4A78-911C-6EF7B70D890E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Title 1"/>
          <p:cNvSpPr/>
          <p:nvPr/>
        </p:nvSpPr>
        <p:spPr>
          <a:xfrm>
            <a:off x="382680" y="774720"/>
            <a:ext cx="8229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Brand Equity Mod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371520" y="1531800"/>
            <a:ext cx="82296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Aaker Mode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y Components: Brand Management start with 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and identity  8-12 ele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re identity elements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ope/attributes/value/qual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ed identity elements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rganizational attributes/ band personality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and essence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spiring communic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TextBox 5"/>
          <p:cNvGrpSpPr/>
          <p:nvPr/>
        </p:nvGrpSpPr>
        <p:grpSpPr>
          <a:xfrm>
            <a:off x="6334200" y="12600"/>
            <a:ext cx="2816280" cy="689040"/>
            <a:chOff x="6334200" y="12600"/>
            <a:chExt cx="2816280" cy="689040"/>
          </a:xfrm>
        </p:grpSpPr>
        <p:pic>
          <p:nvPicPr>
            <p:cNvPr id="261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391440" y="47520"/>
              <a:ext cx="270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brand equity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FA045CF6-CAC1-404B-BD95-A23143F7D51C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Title 1"/>
          <p:cNvSpPr/>
          <p:nvPr/>
        </p:nvSpPr>
        <p:spPr>
          <a:xfrm>
            <a:off x="301680" y="414360"/>
            <a:ext cx="8229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Brand Equity Mod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330120" y="988920"/>
            <a:ext cx="82296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63600" indent="-363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Brand Resonance Model</a:t>
            </a: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1" i="1" lang="ar-SA" sz="1400" spc="-1" strike="noStrike">
                <a:solidFill>
                  <a:srgbClr val="002060"/>
                </a:solidFill>
                <a:latin typeface="Verdana"/>
              </a:rPr>
              <a:t>صدى</a:t>
            </a:r>
            <a:r>
              <a:rPr b="1" i="1" lang="en-US" sz="14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2181240" y="5945040"/>
            <a:ext cx="40132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9.3: Brand Resonance Pyramid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8" name="Picture 11" descr="image"/>
          <p:cNvPicPr/>
          <p:nvPr/>
        </p:nvPicPr>
        <p:blipFill>
          <a:blip r:embed="rId2"/>
          <a:stretch/>
        </p:blipFill>
        <p:spPr>
          <a:xfrm>
            <a:off x="811080" y="1314360"/>
            <a:ext cx="775332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Building Brand Equity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70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271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brand equity built, measured and managed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E5326EAF-A464-4C0A-B23E-E3275F166F61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382680" y="13510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ree ways to build brand equity (“drivers”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8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Brand element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20800" indent="-3636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The initial choices for the brand elements or identities making up the brand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20800" indent="-3636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Brand names, URLs, logos, symbols, characters, spokespeople, slogans, jingles, packages, and signage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8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Marketing activitie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20800" indent="-3636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The product and service and all accompanying marketing activities and supporting marketing program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20800" indent="-3636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Leveraging secondary associ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820800" indent="-363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Linking the brand to other information meaningful to consum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277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brand equity built, measured and managed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B71EFCB2-9216-4F74-80FF-237D55A3FDE4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Title 1"/>
          <p:cNvSpPr/>
          <p:nvPr/>
        </p:nvSpPr>
        <p:spPr>
          <a:xfrm>
            <a:off x="382680" y="774720"/>
            <a:ext cx="8229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hoosing Brand El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560520" y="1486080"/>
            <a:ext cx="8535960" cy="42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and element choice criteri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morable:   easy to reca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aningful: suggest something relate to the produc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keability: Appea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ferable: Wide to new products (Amazon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aptable: Updatable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tectable: How legally protectable (Apple Vs Generic Fiberglass-Xerox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284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brand equity built, measured and managed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6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55AC8B57-F20B-4036-9458-BCDE04A552DC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itle 1"/>
          <p:cNvSpPr/>
          <p:nvPr/>
        </p:nvSpPr>
        <p:spPr>
          <a:xfrm>
            <a:off x="382680" y="774720"/>
            <a:ext cx="8229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Designing Holistic Market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365040" y="1795320"/>
            <a:ext cx="8229600" cy="35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olistic marketers emphasize three themes in designing brand-building marketing program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sonalization: Mass MkT 50s- Permission Mk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ration:  from brand identity to brand Im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nalization 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Internal branding : Activities inspire employees (Disne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291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brand equity built, measured and managed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B4776A4A-772D-4A2B-ABF2-9D75CD1BBA67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Title 1"/>
          <p:cNvSpPr/>
          <p:nvPr/>
        </p:nvSpPr>
        <p:spPr>
          <a:xfrm>
            <a:off x="371520" y="431640"/>
            <a:ext cx="822960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Leveraging Secondar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Assoc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365040" y="1662120"/>
            <a:ext cx="348948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third way to build brand equity is to ‘borrow’ 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inking the brand to other information meaningful to consum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4878360" y="5654520"/>
            <a:ext cx="40132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9.4: Secondary Sources of Brand Knowledge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7" name="Picture 10" descr="image"/>
          <p:cNvPicPr/>
          <p:nvPr/>
        </p:nvPicPr>
        <p:blipFill>
          <a:blip r:embed="rId2"/>
          <a:stretch/>
        </p:blipFill>
        <p:spPr>
          <a:xfrm>
            <a:off x="4287960" y="884160"/>
            <a:ext cx="485604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44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8b5d"/>
                </a:solidFill>
                <a:latin typeface="Verdana"/>
              </a:rPr>
              <a:t>Marketing Management</a:t>
            </a:r>
            <a:br>
              <a:rPr sz="3600"/>
            </a:br>
            <a:endParaRPr b="1" lang="en-US" sz="36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344520" y="1019160"/>
            <a:ext cx="8407440" cy="1752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Arab World Ed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otler, Keller, Hassan, Baalbaki and Sham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422280" y="2752560"/>
            <a:ext cx="527508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Chapter 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eati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rand Equ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7" descr="image"/>
          <p:cNvPicPr/>
          <p:nvPr/>
        </p:nvPicPr>
        <p:blipFill>
          <a:blip r:embed="rId1"/>
          <a:stretch/>
        </p:blipFill>
        <p:spPr>
          <a:xfrm>
            <a:off x="3927600" y="2112840"/>
            <a:ext cx="469584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299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brand equity built, measured and managed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48A7758B-118C-4CDA-937C-1645EE35D30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itle 1"/>
          <p:cNvSpPr/>
          <p:nvPr/>
        </p:nvSpPr>
        <p:spPr>
          <a:xfrm>
            <a:off x="371520" y="785880"/>
            <a:ext cx="8229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Measuring Brand Equ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wo basic approaches to measuring brand equity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irect approach: 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ssesses potential sources of brand equity by identifying and tracking consumer brand knowledge structur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rect approach: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ssesses the actual impact of brand knowledge on consumer response to different aspects of the marke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2"/>
          <a:stretch/>
        </p:blipFill>
        <p:spPr>
          <a:xfrm>
            <a:off x="4092480" y="4229280"/>
            <a:ext cx="4457880" cy="19810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C:\Users\User\AppData\Local\Microsoft\Windows\Temporary Internet Files\Content.IE5\XHNASMRZ\MC900432586[1].png"/>
          <p:cNvPicPr/>
          <p:nvPr/>
        </p:nvPicPr>
        <p:blipFill>
          <a:blip r:embed="rId3"/>
          <a:stretch/>
        </p:blipFill>
        <p:spPr>
          <a:xfrm>
            <a:off x="8139240" y="3965400"/>
            <a:ext cx="6188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307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brand equity built, measured and managed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EAB7DDE2-347C-412C-85B0-175898CA628F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Title 1"/>
          <p:cNvSpPr/>
          <p:nvPr/>
        </p:nvSpPr>
        <p:spPr>
          <a:xfrm>
            <a:off x="371520" y="785880"/>
            <a:ext cx="8229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Measuring Brand Equ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and audit: 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 consumer-focused exercise to assess the health of the brand, uncover its sources of brand equity, and suggest ways to improve and leverage its equity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and-tracking studies: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ollect quantitative data from consumers to provide baseline information about how brands and marketing programs are performing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313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brand equity built, measured and managed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DF4DAF46-6597-490B-8786-884C1E285E7E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itle 1"/>
          <p:cNvSpPr/>
          <p:nvPr/>
        </p:nvSpPr>
        <p:spPr>
          <a:xfrm>
            <a:off x="371520" y="785880"/>
            <a:ext cx="8229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Brand Val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65040" y="154620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nd valuation: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n estimate of the total financial value of the bran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Picture 3" descr=""/>
          <p:cNvPicPr/>
          <p:nvPr/>
        </p:nvPicPr>
        <p:blipFill>
          <a:blip r:embed="rId2"/>
          <a:stretch/>
        </p:blipFill>
        <p:spPr>
          <a:xfrm>
            <a:off x="2151000" y="2887560"/>
            <a:ext cx="4514760" cy="20098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3" descr="C:\Users\User\AppData\Local\Microsoft\Windows\Temporary Internet Files\Content.IE5\XHNASMRZ\MC900432586[1].png"/>
          <p:cNvPicPr/>
          <p:nvPr/>
        </p:nvPicPr>
        <p:blipFill>
          <a:blip r:embed="rId3"/>
          <a:stretch/>
        </p:blipFill>
        <p:spPr>
          <a:xfrm>
            <a:off x="6269040" y="2635200"/>
            <a:ext cx="6192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321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brand equity built, measured and managed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C6095C97-3364-4DD4-BC2C-B3C8DE8B9A9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Title 1"/>
          <p:cNvSpPr/>
          <p:nvPr/>
        </p:nvSpPr>
        <p:spPr>
          <a:xfrm>
            <a:off x="220680" y="142920"/>
            <a:ext cx="8229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Brand Val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747720" y="5892840"/>
            <a:ext cx="74106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able 9.2: The World’s 10 Most Valuable Brands in 2010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Picture 9" descr="image"/>
          <p:cNvPicPr/>
          <p:nvPr/>
        </p:nvPicPr>
        <p:blipFill>
          <a:blip r:embed="rId2"/>
          <a:stretch/>
        </p:blipFill>
        <p:spPr>
          <a:xfrm>
            <a:off x="1077840" y="822240"/>
            <a:ext cx="661824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14280" y="135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28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329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brand equity built, measured and managed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7209284E-1156-4FE3-91EC-072082CE9807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Rectangle 2"/>
          <p:cNvSpPr/>
          <p:nvPr/>
        </p:nvSpPr>
        <p:spPr>
          <a:xfrm flipV="1" rot="10800000">
            <a:off x="5236920" y="1417680"/>
            <a:ext cx="217620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9.6: Interbrand Brand Valuation Method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" name="Picture 10" descr="image"/>
          <p:cNvPicPr/>
          <p:nvPr/>
        </p:nvPicPr>
        <p:blipFill>
          <a:blip r:embed="rId2"/>
          <a:stretch/>
        </p:blipFill>
        <p:spPr>
          <a:xfrm>
            <a:off x="181080" y="663480"/>
            <a:ext cx="4760640" cy="57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65040" y="75888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Brand Revitalization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36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337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is brand equity built, measured and managed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ED26CCA8-B883-4E42-81C4-372190BFBCD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365040" y="1546200"/>
            <a:ext cx="4810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rands can be affected by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anges in consumer tastes and prefere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mergence of new competi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ew technolog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ew developments in the marketing enviro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TextBox 8"/>
          <p:cNvSpPr/>
          <p:nvPr/>
        </p:nvSpPr>
        <p:spPr>
          <a:xfrm>
            <a:off x="3413160" y="5235480"/>
            <a:ext cx="5311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Verdana"/>
              </a:rPr>
              <a:t>Harley recovered from near bankruptcy and revitalized its brand with a renewed commitment to quality and to grass-roots marketing efforts that appeal to its image-conscious custom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3" name="Picture 12" descr="image"/>
          <p:cNvPicPr/>
          <p:nvPr/>
        </p:nvPicPr>
        <p:blipFill>
          <a:blip r:embed="rId2"/>
          <a:stretch/>
        </p:blipFill>
        <p:spPr>
          <a:xfrm>
            <a:off x="4799160" y="2406600"/>
            <a:ext cx="393192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Devising a Branding Strategy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45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46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the important decisions in developing a branding strategy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E4FACEA8-D556-47DC-B0B6-863752FCECAB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en a firm introduces a new product, it has 3 main choic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can develop new brand elements for the new produc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can apply some of its existing brand elem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can use a combination of new and existing brand elem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Devising a Branding Strategy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52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53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the important decisions in developing a branding strategy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DD2AAD72-B7D1-4FA4-B655-44EA03978241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344520" y="1535040"/>
            <a:ext cx="82296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randing term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365040" y="166860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and 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and mi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and exten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-br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ent br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mily br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4556160" y="162072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ne exten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y exten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anded varia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censed produ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and dil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and portfol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5920" y="790200"/>
            <a:ext cx="8229600" cy="4986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Branding Decision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61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62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the important decisions in developing a branding strategy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4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B992BD4C-E935-4993-9C83-FD850BDDB365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our general strategies for choosing brand nam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ividual n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lanket family n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parate family n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rporate name/individual name comb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5920" y="790200"/>
            <a:ext cx="8229600" cy="4986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Brand Extension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68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69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the important decisions in developing a branding strategy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F76C23A1-1E4C-44C3-9A53-88E2F2E1A238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dvantages of brand extens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ed odds of new-product suc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sitive feedback effe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dvantages of brand exten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and dil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nibaliz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9-</a:t>
            </a:r>
            <a:fld id="{0A6C4042-2D83-4829-9E6B-D3FF3B7B6BA6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hapter Question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a brand and how does branding work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brand equity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is brand equity built, measured, and manage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ercise to build a br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5920" y="790200"/>
            <a:ext cx="8229600" cy="4986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Brand Portfolio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75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76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the important decisions in developing a branding strategy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EB3454B6-9F1E-45F1-8DE6-8405DB4E2230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sons for introducing multiple brands in a category includ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reasing shelf presence and retailer dependence in the sto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racting consumers seeking variety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reasing internal competition within the fir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ielding economies of scale in advertising, sales, merchandising, and distribu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5920" y="790200"/>
            <a:ext cx="8229600" cy="4986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Brand Portfolio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82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83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the important decisions in developing a branding strategy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8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D1F84865-B9F3-48EB-A43C-B8B340F87C4D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rand roles in a brand portfoli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nk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sh cow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w-end, entry-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gh-end presti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TextBox 8"/>
          <p:cNvSpPr/>
          <p:nvPr/>
        </p:nvSpPr>
        <p:spPr>
          <a:xfrm>
            <a:off x="3303720" y="5246640"/>
            <a:ext cx="5311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Verdana"/>
              </a:rPr>
              <a:t>Armani’s line of luxury clothing is differentiated to appeal to three distinct price tiers, each with different styles and levels of luxury and customiza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9" name="Picture 12" descr="image"/>
          <p:cNvPicPr/>
          <p:nvPr/>
        </p:nvPicPr>
        <p:blipFill>
          <a:blip r:embed="rId2"/>
          <a:stretch/>
        </p:blipFill>
        <p:spPr>
          <a:xfrm>
            <a:off x="6029280" y="1481040"/>
            <a:ext cx="24894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5920" y="790200"/>
            <a:ext cx="8229600" cy="4986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d53"/>
                </a:solidFill>
                <a:latin typeface="Verdana"/>
              </a:rPr>
              <a:t>Customer Equity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91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92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the important decisions in developing a branding strategy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4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E210D4BA-E351-4586-9B72-1D6EFB4A6BC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>
            <a:off x="276120" y="1571760"/>
            <a:ext cx="8629920" cy="39877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" descr="C:\Users\User\AppData\Local\Microsoft\Windows\Temporary Internet Files\Content.IE5\XHNASMRZ\MC900432586[1].png"/>
          <p:cNvPicPr/>
          <p:nvPr/>
        </p:nvPicPr>
        <p:blipFill>
          <a:blip r:embed="rId3"/>
          <a:stretch/>
        </p:blipFill>
        <p:spPr>
          <a:xfrm>
            <a:off x="8367840" y="1565280"/>
            <a:ext cx="6188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99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the important decisions in developing a branding strategy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950839B0-08E6-4E34-9232-C5359D8BBC3E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2" name="Picture 3" descr="C:\Users\User\AppData\Local\Microsoft\Windows\Temporary Internet Files\Content.IE5\XHNASMRZ\MC900432586[1].png"/>
          <p:cNvPicPr/>
          <p:nvPr/>
        </p:nvPicPr>
        <p:blipFill>
          <a:blip r:embed="rId2"/>
          <a:stretch/>
        </p:blipFill>
        <p:spPr>
          <a:xfrm>
            <a:off x="8367840" y="1565280"/>
            <a:ext cx="618840" cy="61920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Exercise 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304920" y="1177920"/>
            <a:ext cx="779940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uilding A creative Br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uild a creative Brand to your compan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clude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Associated Wo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log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ol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Desig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- allocated time is 20-30 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- 2 Min for present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- 1 Min for evalu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redits 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1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mage courtesy of MyDiamond. Reproduced with permiss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13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BrandDynamics™ Pyramid. Reprinted by permission of MillwardBrown Optimor; Figure 9.5 from </a:t>
            </a: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Strategic Brand Management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3rd edition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, Prentice Hall (Keller, K.L., 2008), copyright © 2008. Printed and electronically reproduced by permission of Pearson Education, Inc., Upper Saddle River, New Jerse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22 </a:t>
            </a: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Strategic Brand Management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3rd edition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, Prentice Hall (Keller, K.L., 2008), copyright © 2008. Printed and electronically reproduced by permission of Pearson Education, Inc., Upper Saddle River, New Jerse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24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“The World’s Most Valuable Brands”, </a:t>
            </a: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Forbes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, 28 July 2010, (Badenhausen, K.). Reprinted by permission of Forbes Media LLC, copyright © 201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27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Getty Images: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Justin Sulliva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33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orbis: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WD / Condé Na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34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cott Bedbury, </a:t>
            </a: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A New Brand World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(New York: Viking Press, 2002). Copyright © 2001 by Scott Bedbury. Used by permission of Viking Penguin, a division of Penguin Group (USA) In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What is a Brand and How Does </a:t>
            </a:r>
            <a:br>
              <a:rPr sz="2400"/>
            </a:b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Branding Work?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182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183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a brand and how does branding work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B0979FD6-747E-451E-9DE1-DAAA3181233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What is a bran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ran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a name, term, sign, symbol or design, or a combination of them, intended to identify the goods or services of one seller or group of sellers and to differentiate them from those of competito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46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189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a brand and how does branding work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375A935D-695D-4944-9724-D08CE53CAC70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65040" y="902880"/>
            <a:ext cx="8229600" cy="477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The Role of Brand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the mak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y product handl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e accoun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fer legal prot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y qua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 barriers to ent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rve as a competitive advant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ure price premiu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196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a brand and how does branding work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09C814E1-269F-4378-A139-523569DF854D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65040" y="472680"/>
            <a:ext cx="8229600" cy="477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Top brands 2015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2"/>
          <a:srcRect l="2725" t="7785" r="3741" b="5369"/>
          <a:stretch/>
        </p:blipFill>
        <p:spPr>
          <a:xfrm>
            <a:off x="258840" y="1344600"/>
            <a:ext cx="865008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203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a brand and how does branding work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3BAEB6E9-F50D-489D-994A-6AC137D7E85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38040" y="348840"/>
            <a:ext cx="8229600" cy="477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Top Saudi Brands 2017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2"/>
          <a:srcRect l="26335" t="10492" r="26587" b="6565"/>
          <a:stretch/>
        </p:blipFill>
        <p:spPr>
          <a:xfrm>
            <a:off x="1538280" y="1111320"/>
            <a:ext cx="621972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209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a brand and how does branding work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8D450B31-9034-43B9-AF71-D8A5E102784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65040" y="902880"/>
            <a:ext cx="8229600" cy="477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The Scope of Branding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365040" y="1900080"/>
            <a:ext cx="8229600" cy="15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brandi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randing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endowing products and services with the power of the bran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TextBox 5"/>
          <p:cNvGrpSpPr/>
          <p:nvPr/>
        </p:nvGrpSpPr>
        <p:grpSpPr>
          <a:xfrm>
            <a:off x="6334200" y="12600"/>
            <a:ext cx="2816280" cy="689040"/>
            <a:chOff x="6334200" y="12600"/>
            <a:chExt cx="2816280" cy="689040"/>
          </a:xfrm>
        </p:grpSpPr>
        <p:pic>
          <p:nvPicPr>
            <p:cNvPr id="216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391440" y="47520"/>
              <a:ext cx="270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brand equity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9-</a:t>
            </a:r>
            <a:fld id="{7A9034D8-5355-4A84-8D1C-CDD6519EDEC4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itle 1"/>
          <p:cNvSpPr/>
          <p:nvPr/>
        </p:nvSpPr>
        <p:spPr>
          <a:xfrm>
            <a:off x="382680" y="774720"/>
            <a:ext cx="8229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Defining Brand Equ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382680" y="1854360"/>
            <a:ext cx="822960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rand equit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the added value endowed on products and servic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may be reflected in the way consumers think, feel and act towards the bran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10:33:38Z</dcterms:created>
  <dc:creator>fay gibbons</dc:creator>
  <dc:description>www.showcase-online.co.uk
0207 484 8080</dc:description>
  <dc:language>en-US</dc:language>
  <cp:lastModifiedBy>Sony</cp:lastModifiedBy>
  <dcterms:modified xsi:type="dcterms:W3CDTF">2017-11-07T14:19:54Z</dcterms:modified>
  <cp:revision>58</cp:revision>
  <dc:subject/>
  <dc:title>Slide 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S_version">
    <vt:lpwstr>v1.0.1</vt:lpwstr>
  </property>
</Properties>
</file>