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1.png" ContentType="image/png"/>
  <Override PartName="/ppt/media/image3.wmf" ContentType="image/x-wmf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13.jpeg" ContentType="image/jpe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9A3D0A4-B692-4C79-8504-F4C56957EC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F536CCE-2CB9-4AFB-B756-542FB27C5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DFC6F-4D0B-4722-88DD-FBA25F002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D5CE-FA03-45FC-B7E9-18858D0F8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7A50-97D8-40B1-B9B6-AF0F49CC6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D9C2D-FED2-4E86-8270-0290C70F0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CB3BB-6A9A-4432-89A1-25BDB13A12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B2066-4CA0-4852-B630-364710E510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0B565-5583-4F38-9D82-8A30002CD2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300C8-19A4-4F9F-A2D6-E8BDDFC190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EF24E-3DB0-4A4E-959E-7E8A77D324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94F07-0130-4AF5-AEA2-372DA3EAC8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1BC8D-19E1-4765-9F1B-D6AD64CDD3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B9036-5204-4B57-ABD0-E33C9D69B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575B9-2C52-4CAD-A0A7-2C095A7EE2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FE094-AE48-4B06-8B5F-AE03E2171F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3128C-1ED3-406B-89FB-3645D23F00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020F5-ACCC-41F2-973D-2D622BBC04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32C3F-17EF-4607-A94A-8FCCC9E8A9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F958D-C834-4092-90C1-1B341F42FA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B635B-48A3-4CAC-A426-4065E2AC2BF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0C35F-218E-48A7-8CCB-8DEFCA603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F7CFD-7C56-47F9-B6D2-33FDA8D1F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FA79-7CEE-46AB-8F4C-AF849B6B9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39613-ABAB-4002-ABE6-D7A874E7C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40C3A-17DC-417C-9620-9C51754F8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6B84-899F-43C9-A6EA-FCA793484D3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749A-FFD0-40BA-8E0C-2F41E568CF96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Always_Learning_Text_Green_RGB"/>
          <p:cNvPicPr/>
          <p:nvPr/>
        </p:nvPicPr>
        <p:blipFill>
          <a:blip r:embed="rId2"/>
          <a:stretch/>
        </p:blipFill>
        <p:spPr>
          <a:xfrm>
            <a:off x="957240" y="23320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0" descr="Pearson_Bound_White"/>
          <p:cNvPicPr/>
          <p:nvPr/>
        </p:nvPicPr>
        <p:blipFill>
          <a:blip r:embed="rId3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TextBox 5"/>
          <p:cNvGrpSpPr/>
          <p:nvPr/>
        </p:nvGrpSpPr>
        <p:grpSpPr>
          <a:xfrm>
            <a:off x="6334200" y="12600"/>
            <a:ext cx="2816280" cy="689040"/>
            <a:chOff x="6334200" y="12600"/>
            <a:chExt cx="2816280" cy="689040"/>
          </a:xfrm>
        </p:grpSpPr>
        <p:pic>
          <p:nvPicPr>
            <p:cNvPr id="22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brand equit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F44EED3A-4B7D-426F-9D7E-810173F7DBC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itle 1"/>
          <p:cNvSpPr/>
          <p:nvPr/>
        </p:nvSpPr>
        <p:spPr>
          <a:xfrm>
            <a:off x="382680" y="7747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Equity as a Brid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382680" y="1854360"/>
            <a:ext cx="82296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rand equ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 be thought of as providing marketers with a vital strategic ‘bridge’ from their past to their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rand promis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s the marketer’s vision of what the brand must be and do for consum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TextBox 5"/>
          <p:cNvGrpSpPr/>
          <p:nvPr/>
        </p:nvGrpSpPr>
        <p:grpSpPr>
          <a:xfrm>
            <a:off x="6334200" y="12600"/>
            <a:ext cx="2816280" cy="689040"/>
            <a:chOff x="6334200" y="12600"/>
            <a:chExt cx="2816280" cy="689040"/>
          </a:xfrm>
        </p:grpSpPr>
        <p:pic>
          <p:nvPicPr>
            <p:cNvPr id="23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brand equit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3909D274-56A3-41C0-835A-DE16CEA5E6C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tle 1"/>
          <p:cNvSpPr/>
          <p:nvPr/>
        </p:nvSpPr>
        <p:spPr>
          <a:xfrm>
            <a:off x="382680" y="7747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Equity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382680" y="1854360"/>
            <a:ext cx="82296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 established brand equity model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 Asset Valuator (BAV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aker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 Reso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TextBox 5"/>
          <p:cNvGrpSpPr/>
          <p:nvPr/>
        </p:nvGrpSpPr>
        <p:grpSpPr>
          <a:xfrm>
            <a:off x="6334200" y="12600"/>
            <a:ext cx="2816280" cy="689040"/>
            <a:chOff x="6334200" y="12600"/>
            <a:chExt cx="2816280" cy="689040"/>
          </a:xfrm>
        </p:grpSpPr>
        <p:pic>
          <p:nvPicPr>
            <p:cNvPr id="23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brand equit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D0561EEB-4557-4D16-B2FB-AACF559FA2B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65040" y="170964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itle 1"/>
          <p:cNvSpPr/>
          <p:nvPr/>
        </p:nvSpPr>
        <p:spPr>
          <a:xfrm>
            <a:off x="382680" y="7747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Equity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85920" y="1254240"/>
            <a:ext cx="82296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Brand Asset Valuator (BAV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2060"/>
                </a:solidFill>
                <a:latin typeface="Verdana"/>
              </a:rPr>
              <a:t>(Y&amp;R) = 500.000 X 44 Count X 1000s Br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y Components (D.E.R.E.K.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i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ergy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nse of momentum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evance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and’s Appe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eem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spect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miliar &amp; intim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5208480" y="2139840"/>
            <a:ext cx="36007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D.E.R.E.K.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 + E + R = energized brand strength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ture val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 + K = Brand Stature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st Performa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TextBox 5"/>
          <p:cNvGrpSpPr/>
          <p:nvPr/>
        </p:nvGrpSpPr>
        <p:grpSpPr>
          <a:xfrm>
            <a:off x="6334200" y="12600"/>
            <a:ext cx="2816280" cy="689040"/>
            <a:chOff x="6334200" y="12600"/>
            <a:chExt cx="2816280" cy="689040"/>
          </a:xfrm>
        </p:grpSpPr>
        <p:pic>
          <p:nvPicPr>
            <p:cNvPr id="24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brand equit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F7E6A7BB-E059-411D-AB4D-2F659A149C0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itle 1"/>
          <p:cNvSpPr/>
          <p:nvPr/>
        </p:nvSpPr>
        <p:spPr>
          <a:xfrm>
            <a:off x="382680" y="7747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Equity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371520" y="1531800"/>
            <a:ext cx="82296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BRANDZ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2343240" y="5765760"/>
            <a:ext cx="401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9.2: BrandDynamics Pyramid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11" descr="image"/>
          <p:cNvPicPr/>
          <p:nvPr/>
        </p:nvPicPr>
        <p:blipFill>
          <a:blip r:embed="rId2"/>
          <a:stretch/>
        </p:blipFill>
        <p:spPr>
          <a:xfrm>
            <a:off x="890640" y="1965240"/>
            <a:ext cx="76737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TextBox 5"/>
          <p:cNvGrpSpPr/>
          <p:nvPr/>
        </p:nvGrpSpPr>
        <p:grpSpPr>
          <a:xfrm>
            <a:off x="6334200" y="12600"/>
            <a:ext cx="2816280" cy="689040"/>
            <a:chOff x="6334200" y="12600"/>
            <a:chExt cx="2816280" cy="689040"/>
          </a:xfrm>
        </p:grpSpPr>
        <p:pic>
          <p:nvPicPr>
            <p:cNvPr id="25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brand equit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41786635-0D5D-419B-947B-1CBD39BAB8F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itle 1"/>
          <p:cNvSpPr/>
          <p:nvPr/>
        </p:nvSpPr>
        <p:spPr>
          <a:xfrm>
            <a:off x="382680" y="7747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Equity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371520" y="153180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Aaker Mode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y Components: Brand Management start with 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nd identity  8-12 ele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e identity elements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/attributes/value/qua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ed identity elements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ganizational attributes/ band personalit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 essence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spiring communi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TextBox 5"/>
          <p:cNvGrpSpPr/>
          <p:nvPr/>
        </p:nvGrpSpPr>
        <p:grpSpPr>
          <a:xfrm>
            <a:off x="6334200" y="12600"/>
            <a:ext cx="2816280" cy="689040"/>
            <a:chOff x="6334200" y="12600"/>
            <a:chExt cx="2816280" cy="689040"/>
          </a:xfrm>
        </p:grpSpPr>
        <p:pic>
          <p:nvPicPr>
            <p:cNvPr id="26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brand equit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2BAE2DE8-3C12-4C31-BB56-24923C3CE91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301680" y="41436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Equity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330120" y="988920"/>
            <a:ext cx="8229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Brand Resonance Model</a:t>
            </a: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i="1" lang="ar-SA" sz="1400" spc="-1" strike="noStrike">
                <a:solidFill>
                  <a:srgbClr val="002060"/>
                </a:solidFill>
                <a:latin typeface="Verdana"/>
              </a:rPr>
              <a:t>صدى</a:t>
            </a:r>
            <a:r>
              <a:rPr b="1" i="1" lang="en-US" sz="1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2181240" y="5945040"/>
            <a:ext cx="40132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9.3: Brand Resonance Pyramid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11" descr="image"/>
          <p:cNvPicPr/>
          <p:nvPr/>
        </p:nvPicPr>
        <p:blipFill>
          <a:blip r:embed="rId2"/>
          <a:stretch/>
        </p:blipFill>
        <p:spPr>
          <a:xfrm>
            <a:off x="811080" y="1314360"/>
            <a:ext cx="77533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Building Brand Equity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70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7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brand equity built, measured and mana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16B927B3-0ACA-40C0-AED4-5DC2BE5D012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382680" y="13510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e ways to build brand equity (“drivers”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8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rand element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20800" indent="-363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The initial choices for the brand elements or identities making up the brand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20800" indent="-363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Brand names, URLs, logos, symbols, characters, spokespeople, slogans, jingles, packages, and signage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8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arketing activitie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20800" indent="-363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The product and service and all accompanying marketing activities and supporting marketing program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20800" indent="-363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Leveraging secondary associ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820800" indent="-363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Linking the brand to other information meaningful to consum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7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brand equity built, measured and mana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8F745414-FC14-4C3F-AE82-B7C36704851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itle 1"/>
          <p:cNvSpPr/>
          <p:nvPr/>
        </p:nvSpPr>
        <p:spPr>
          <a:xfrm>
            <a:off x="382680" y="7747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hoosing Brand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560520" y="1486080"/>
            <a:ext cx="853596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 element choice criteri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morable:   easy to rec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ningful: suggest something relate to the produ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ability: Appea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ferable: Wide to new products (Amazon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ptable: Updatable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ectable: How legally protectable (Apple Vs Generic Fiberglass-Xero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8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brand equity built, measured and mana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4FEFE978-1777-493A-856A-33F03DBEBB9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itle 1"/>
          <p:cNvSpPr/>
          <p:nvPr/>
        </p:nvSpPr>
        <p:spPr>
          <a:xfrm>
            <a:off x="382680" y="7747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Designing Holistic Market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365040" y="1795320"/>
            <a:ext cx="8229600" cy="35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listic marketers emphasize three themes in designing brand-building marketing program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alization: Mass MkT 50s- Permission Mk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ion:  from brand identity to brand Im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lization 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ternal branding : Activities inspire employees (Disne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9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brand equity built, measured and mana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0F9E1A67-7F47-4293-ABE9-DFEA0F9E60B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itle 1"/>
          <p:cNvSpPr/>
          <p:nvPr/>
        </p:nvSpPr>
        <p:spPr>
          <a:xfrm>
            <a:off x="371520" y="431640"/>
            <a:ext cx="82296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Leveraging Secondar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ssoc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65040" y="1662120"/>
            <a:ext cx="348948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hird way to build brand equity is to ‘borrow’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inking the brand to other information meaningful to consum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4878360" y="5654520"/>
            <a:ext cx="40132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9.4: Secondary Sources of Brand Knowledge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10" descr="image"/>
          <p:cNvPicPr/>
          <p:nvPr/>
        </p:nvPicPr>
        <p:blipFill>
          <a:blip r:embed="rId2"/>
          <a:stretch/>
        </p:blipFill>
        <p:spPr>
          <a:xfrm>
            <a:off x="4287960" y="884160"/>
            <a:ext cx="485604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4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b5d"/>
                </a:solidFill>
                <a:latin typeface="Verdana"/>
              </a:rPr>
              <a:t>Marketing Management</a:t>
            </a:r>
            <a:br>
              <a:rPr sz="3600"/>
            </a:b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4520" y="1019160"/>
            <a:ext cx="8407440" cy="1752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otler, Keller, Hassan, Baalbaki and Sham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22280" y="2752560"/>
            <a:ext cx="527508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eat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rand Equ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7" descr="image"/>
          <p:cNvPicPr/>
          <p:nvPr/>
        </p:nvPicPr>
        <p:blipFill>
          <a:blip r:embed="rId1"/>
          <a:stretch/>
        </p:blipFill>
        <p:spPr>
          <a:xfrm>
            <a:off x="3927600" y="2112840"/>
            <a:ext cx="469584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9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brand equity built, measured and mana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417AD2D3-BDEF-44D8-B9C5-68010F8FA74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tle 1"/>
          <p:cNvSpPr/>
          <p:nvPr/>
        </p:nvSpPr>
        <p:spPr>
          <a:xfrm>
            <a:off x="371520" y="78588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easuring Brand Equ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basic approaches to measuring brand equit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rect approach: 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ssesses potential sources of brand equity by identifying and tracking consumer brand knowledge structu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 approach: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ssesses the actual impact of brand knowledge on consumer response to different aspects of the marke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4092480" y="4229280"/>
            <a:ext cx="4457880" cy="1981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8139240" y="396540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0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brand equity built, measured and mana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C1D056CA-DC77-4347-9C66-35A5A2F5738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371520" y="78588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easuring Brand Equ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 audit: 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 consumer-focused exercise to assess the health of the brand, uncover its sources of brand equity, and suggest ways to improve and leverage its equit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-tracking studies: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llect quantitative data from consumers to provide baseline information about how brands and marketing programs are performing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1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brand equity built, measured and mana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2E970E52-9854-41BA-B6E2-BF0CA4D5552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itle 1"/>
          <p:cNvSpPr/>
          <p:nvPr/>
        </p:nvSpPr>
        <p:spPr>
          <a:xfrm>
            <a:off x="371520" y="78588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65040" y="154620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nd valuation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 estimate of the total financial value of the bra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Picture 3" descr=""/>
          <p:cNvPicPr/>
          <p:nvPr/>
        </p:nvPicPr>
        <p:blipFill>
          <a:blip r:embed="rId2"/>
          <a:stretch/>
        </p:blipFill>
        <p:spPr>
          <a:xfrm>
            <a:off x="2151000" y="2887560"/>
            <a:ext cx="4514760" cy="20098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6269040" y="263520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2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brand equity built, measured and mana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76F7428F-6C40-4B5C-839F-00BE47E2B29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220680" y="1429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747720" y="5892840"/>
            <a:ext cx="74106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 9.2: The World’s 10 Most Valuable Brands in 2010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9" descr="image"/>
          <p:cNvPicPr/>
          <p:nvPr/>
        </p:nvPicPr>
        <p:blipFill>
          <a:blip r:embed="rId2"/>
          <a:stretch/>
        </p:blipFill>
        <p:spPr>
          <a:xfrm>
            <a:off x="1077840" y="822240"/>
            <a:ext cx="661824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14280" y="135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28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2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brand equity built, measured and mana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1E265004-C1C0-449A-A8E6-3E14602C470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2"/>
          <p:cNvSpPr/>
          <p:nvPr/>
        </p:nvSpPr>
        <p:spPr>
          <a:xfrm flipV="1" rot="10800000">
            <a:off x="5236920" y="1417680"/>
            <a:ext cx="21762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9.6: Interbrand Brand Valuation Method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10" descr="image"/>
          <p:cNvPicPr/>
          <p:nvPr/>
        </p:nvPicPr>
        <p:blipFill>
          <a:blip r:embed="rId2"/>
          <a:stretch/>
        </p:blipFill>
        <p:spPr>
          <a:xfrm>
            <a:off x="181080" y="663480"/>
            <a:ext cx="476064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5040" y="75888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Revitaliza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36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3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brand equity built, measured and mana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72276A69-3280-4C3D-91D0-AD824D30568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65040" y="1546200"/>
            <a:ext cx="4810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rands can be affected b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nges in consumer tastes and prefer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mergence of new competi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w technolo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w developments in the marketing enviro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TextBox 8"/>
          <p:cNvSpPr/>
          <p:nvPr/>
        </p:nvSpPr>
        <p:spPr>
          <a:xfrm>
            <a:off x="3413160" y="5235480"/>
            <a:ext cx="531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Harley recovered from near bankruptcy and revitalized its brand with a renewed commitment to quality and to grass-roots marketing efforts that appeal to its image-conscious custom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" name="Picture 12" descr="image"/>
          <p:cNvPicPr/>
          <p:nvPr/>
        </p:nvPicPr>
        <p:blipFill>
          <a:blip r:embed="rId2"/>
          <a:stretch/>
        </p:blipFill>
        <p:spPr>
          <a:xfrm>
            <a:off x="4799160" y="2406600"/>
            <a:ext cx="393192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Devising a Branding Strategy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45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4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important decisions in developing a branding strateg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5D47D4B8-2E14-4CF8-A099-CD7A89F7E43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n a firm introduces a new product, it has 3 main choic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can develop new brand elements for the new produ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can apply some of its existing brand el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can use a combination of new and existing brand el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Devising a Branding Strategy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52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5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important decisions in developing a branding strateg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B9DCDC16-0156-473E-B458-98D8A8DD7F0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44520" y="1535040"/>
            <a:ext cx="8229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randing term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65040" y="16686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 m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 ext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-br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ent br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mily br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4556160" y="1620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ne ext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y ext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ed vari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censed pro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 di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 portfol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5920" y="790200"/>
            <a:ext cx="8229600" cy="4986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ing Decis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61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6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important decisions in developing a branding strateg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F899668D-ECE5-46E5-B05D-45D5708BF29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ur general strategies for choosing brand nam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vidual n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anket family n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parate family n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porate name/individual name com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5920" y="790200"/>
            <a:ext cx="8229600" cy="4986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Extens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68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6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important decisions in developing a branding strateg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DC683A47-0FAB-4F34-9F16-83E7255CF1D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dvantages of brand extens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d odds of new-product su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itive feedback eff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dvantages of brand exten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 di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nibaliz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9-</a:t>
            </a:r>
            <a:fld id="{FFEFBF68-D47B-4881-86A5-89321A654BF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apter Ques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a brand and how does branding wor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brand equit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is brand equity built, measured, and manag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 to build a br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5920" y="790200"/>
            <a:ext cx="8229600" cy="4986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Portfolio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75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7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important decisions in developing a branding strateg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43CA1A75-8A93-4F2A-A535-B621A31DF10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sons for introducing multiple brands in a category inclu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reasing shelf presence and retailer dependence in the sto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racting consumers seeking variet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reasing internal competition within the fi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ielding economies of scale in advertising, sales, merchandising, and distrib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5920" y="790200"/>
            <a:ext cx="8229600" cy="4986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Portfolio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82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8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important decisions in developing a branding strateg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CFF07AAC-8845-4B8B-A4D6-0698FB45FD7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rand roles in a brand portfoli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nk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h cow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w-end, entry-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gh-end presti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3303720" y="5246640"/>
            <a:ext cx="531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Armani’s line of luxury clothing is differentiated to appeal to three distinct price tiers, each with different styles and levels of luxury and customiz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Picture 12" descr="image"/>
          <p:cNvPicPr/>
          <p:nvPr/>
        </p:nvPicPr>
        <p:blipFill>
          <a:blip r:embed="rId2"/>
          <a:stretch/>
        </p:blipFill>
        <p:spPr>
          <a:xfrm>
            <a:off x="6029280" y="1481040"/>
            <a:ext cx="24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5920" y="790200"/>
            <a:ext cx="8229600" cy="4986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d53"/>
                </a:solidFill>
                <a:latin typeface="Verdana"/>
              </a:rPr>
              <a:t>Customer Equity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91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9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important decisions in developing a branding strateg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D33172CE-AE54-487B-A329-DAE9689123D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276120" y="1571760"/>
            <a:ext cx="8629920" cy="39877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8367840" y="15652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9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important decisions in developing a branding strateg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F8E378FA-2DD6-4D67-A2D5-50EA513400A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2" name="Picture 3" descr="C:\Users\User\AppData\Local\Microsoft\Windows\Temporary Internet Files\Content.IE5\XHNASMRZ\MC900432586[1].png"/>
          <p:cNvPicPr/>
          <p:nvPr/>
        </p:nvPicPr>
        <p:blipFill>
          <a:blip r:embed="rId2"/>
          <a:stretch/>
        </p:blipFill>
        <p:spPr>
          <a:xfrm>
            <a:off x="8367840" y="1565280"/>
            <a:ext cx="618840" cy="6192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Exercise 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304920" y="1177920"/>
            <a:ext cx="77994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uilding A creative Br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uild a creative Brand to your compa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clud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ssociated 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log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o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esig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- allocated time is 20-30 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- 2 Min for present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- 1 Min for evalu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redits 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1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mage courtesy of MyDiamond. Reproduced with permi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13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randDynamics™ Pyramid. Reprinted by permission of MillwardBrown Optimor; Figure 9.5 from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Strategic Brand Managemen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3rd edit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Prentice Hall (Keller, K.L., 2008), copyright © 2008. Printed and electronically reproduced by permission of Pearson Education, Inc., Upper Saddle River, New Jerse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22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Strategic Brand Managemen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3rd edit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Prentice Hall (Keller, K.L., 2008), copyright © 2008. Printed and electronically reproduced by permission of Pearson Education, Inc., Upper Saddle River, New Jerse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24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“The World’s Most Valuable Brands”,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Forb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28 July 2010, (Badenhausen, K.). Reprinted by permission of Forbes Media LLC, copyright © 20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27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etty Images: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Justin Sulliva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33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rbis: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WD / Condé Na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34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cott Bedbury,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A New Brand Worl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New York: Viking Press, 2002). Copyright © 2001 by Scott Bedbury. Used by permission of Viking Penguin, a division of Penguin Group (USA) In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What is a Brand and How Does 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Branding Work?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82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18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a brand and how does branding 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B0CCB91F-5D98-4331-8903-3D4A46CCBA8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What is a bran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ra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name, term, sign, symbol or design, or a combination of them, intended to identify the goods or services of one seller or group of sellers and to differentiate them from those of competi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46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18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a brand and how does branding 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376E1CB4-9A5C-4BFB-9EC3-BAE5DE49A9A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he Role of Brand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the mak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y product hand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e accoun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fer legal prot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y qu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barriers to en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e as a competitive advan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ure price premi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19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a brand and how does branding 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4B445B66-DE7F-4DA8-B95C-C27161CE8A2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5040" y="4726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op brands 2015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2"/>
          <a:srcRect l="2725" t="7785" r="3741" b="5369"/>
          <a:stretch/>
        </p:blipFill>
        <p:spPr>
          <a:xfrm>
            <a:off x="258840" y="1344600"/>
            <a:ext cx="865008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0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a brand and how does branding 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14BD6DB1-DF46-4E12-AB52-B9B5E74AB1C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38040" y="34884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op Saudi Brands 2017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2"/>
          <a:srcRect l="26335" t="10492" r="26587" b="6565"/>
          <a:stretch/>
        </p:blipFill>
        <p:spPr>
          <a:xfrm>
            <a:off x="1538280" y="1111320"/>
            <a:ext cx="621972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0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a brand and how does branding 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6D6DE578-7DB5-4D2A-9F5E-DA05B89DFAF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he Scope of Brand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365040" y="1900080"/>
            <a:ext cx="8229600" cy="15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brand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randing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endowing products and services with the power of the bra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TextBox 5"/>
          <p:cNvGrpSpPr/>
          <p:nvPr/>
        </p:nvGrpSpPr>
        <p:grpSpPr>
          <a:xfrm>
            <a:off x="6334200" y="12600"/>
            <a:ext cx="2816280" cy="689040"/>
            <a:chOff x="6334200" y="12600"/>
            <a:chExt cx="2816280" cy="689040"/>
          </a:xfrm>
        </p:grpSpPr>
        <p:pic>
          <p:nvPicPr>
            <p:cNvPr id="21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brand equit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2E5686EA-358F-481C-94F9-4C4B3BEDC7F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itle 1"/>
          <p:cNvSpPr/>
          <p:nvPr/>
        </p:nvSpPr>
        <p:spPr>
          <a:xfrm>
            <a:off x="382680" y="7747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Defining Brand Equ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382680" y="1854360"/>
            <a:ext cx="82296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rand equ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added value endowed on products and servi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may be reflected in the way consumers think, feel and act towards the bra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0:33:38Z</dcterms:created>
  <dc:creator>fay gibbons</dc:creator>
  <dc:description>www.showcase-online.co.uk
0207 484 8080</dc:description>
  <dc:language>en-US</dc:language>
  <cp:lastModifiedBy>Sony</cp:lastModifiedBy>
  <dcterms:modified xsi:type="dcterms:W3CDTF">2017-11-07T14:19:54Z</dcterms:modified>
  <cp:revision>58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