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6.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AA80-C8EC-409E-9A13-EBD474217093}"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2"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7E00-86B0-49DC-80D8-A5332213FEE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msnbc.msn.com/id/33890453/ns/business-local_business/"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3CE9-D119-4427-923A-A30CC68CF1A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ncept Tes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cept testing</a:t>
            </a:r>
            <a:r>
              <a:rPr b="0" lang="en-US" sz="1200" spc="-1" strike="noStrike">
                <a:solidFill>
                  <a:srgbClr val="000000"/>
                </a:solidFill>
                <a:latin typeface="Calibri"/>
              </a:rPr>
              <a:t> calls for testing new-product concepts with groups of target consumers. The concepts may be presented to consumers symbolically or physically. Here, in more detail, is concep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fficient, fun-to-drive, battery-powered compact car that seats four. This 100 percent electric wonder provides practical and reliable transportation with no pollution. It goes 300 miles on a single charge and costs pennies per mile to operate. It’s a sensible, responsible alternative to today’s pollution-producing gas-guzzlers. Its fully equipped price is $25,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firms routinely test new-product concepts with consumers before attempting to turn them into actual new products. For some concept tests, a word or picture description might be sufficient. However, a more concrete and physical presentation of the concept will increase the reliability of the concept test. After being exposed to the concept, consumers then may be asked to react to it by answering questions similar to those in Table 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s to such questions will help the company decide which concept has the strongest appeal. For example, the last question asks about the consumer’s intention to buy. Suppose 2 percent of consumers say they “definitely” would buy, and another 5 percent say “probably.” The company could project these figures to the full population in this target group to estimate sales volume. Even then, however, the estimate is uncertain because people do not always carry out their stated intentions.</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1D16-6277-4C3D-AD4B-94D9B69349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keting Strategy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e carmaker finds that concept 3 for the electric car tests best. The next step is </a:t>
            </a:r>
            <a:r>
              <a:rPr b="1" lang="en-US" sz="1200" spc="-1" strike="noStrike">
                <a:solidFill>
                  <a:srgbClr val="000000"/>
                </a:solidFill>
                <a:latin typeface="Calibri"/>
              </a:rPr>
              <a:t>marketing strategy development</a:t>
            </a:r>
            <a:r>
              <a:rPr b="0" lang="en-US" sz="1200" spc="-1" strike="noStrike">
                <a:solidFill>
                  <a:srgbClr val="000000"/>
                </a:solidFill>
                <a:latin typeface="Calibri"/>
              </a:rPr>
              <a:t>, designing an initial marketing strategy for introducing this car to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marketing strategy statement</a:t>
            </a:r>
            <a:r>
              <a:rPr b="0" lang="en-US" sz="1200" spc="-1" strike="noStrike">
                <a:solidFill>
                  <a:srgbClr val="000000"/>
                </a:solidFill>
                <a:latin typeface="Calibri"/>
              </a:rPr>
              <a:t> consists of three parts. The first part describes the target market; the planned value proposition; and the sales, market share, and profit goals for the first few years. The second part of the marketing strategy statement outlines the product’s planned price, distribution, and marketing budget for the fir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the marketing strategy statement describes the planned long-run sales, profit goals, and marketing mix strategy:.</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1D52-379C-4E91-A40D-F09B6FA546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siness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management has decided on its product concept and marketing strategy, it can evaluate the business attractiveness of the proposal. </a:t>
            </a:r>
            <a:r>
              <a:rPr b="1" lang="en-US" sz="1200" spc="-1" strike="noStrike">
                <a:solidFill>
                  <a:srgbClr val="000000"/>
                </a:solidFill>
                <a:latin typeface="Calibri"/>
              </a:rPr>
              <a:t>Business analysis</a:t>
            </a:r>
            <a:r>
              <a:rPr b="0" lang="en-US" sz="1200" spc="-1" strike="noStrike">
                <a:solidFill>
                  <a:srgbClr val="000000"/>
                </a:solidFill>
                <a:latin typeface="Calibri"/>
              </a:rPr>
              <a:t> involves a review of the sales, costs, and profit projections for a new product to find out whether they satisfy the company’s objectives. If they do, the product can move to the product development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stimate sales, the company might look at the sales history of similar products and conduct market surveys. It can then estimate minimum and maximum sales to assess the range of risk. After preparing the sales forecast, management can estimate the expected costs and profits for the product, including marketing, R&amp;D, operations, accounting, and finance costs. The company then uses the sales and costs figures to analyze the new product’s financial attractive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1B63-1E16-4C85-A17B-BB2442E512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new-product concepts, a product may exist only as a word description, a drawing, or perhaps a crude mock-up. If the product concept passes the business test, it moves into </a:t>
            </a:r>
            <a:r>
              <a:rPr b="1" lang="en-US" sz="1200" spc="-1" strike="noStrike">
                <a:solidFill>
                  <a:srgbClr val="000000"/>
                </a:solidFill>
                <a:latin typeface="Calibri"/>
              </a:rPr>
              <a:t>product development</a:t>
            </a:r>
            <a:r>
              <a:rPr b="0" lang="en-US" sz="1200" spc="-1" strike="noStrike">
                <a:solidFill>
                  <a:srgbClr val="000000"/>
                </a:solidFill>
                <a:latin typeface="Calibri"/>
              </a:rPr>
              <a:t>. Here, R&amp;D or engineering develops the product concept into a physical product. The product development step, however, now calls for a huge jump in investment. It will show whether the product idea can be turned into a workabl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mp;D department will develop and test one or more physical versions of the product concept. R&amp;D hopes to design a prototype that will satisfy and excite consumers and that can be produced quickly and at budgeted costs. Developing a successful prototype can take days, weeks, months, or even years depending on the product and prototype meth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products undergo rigorous tests to make sure that they perform safely and effectively, or that consumers will find value in them. Companies can do their own product testing or outsource testing to other firms that specialize in tes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w product must have the required functional features and also convey the intended psychological characteristics. The all-electric car, for example, should strike consumers as being well built, comfortable, and safe. Management must learn what makes consumers decide that a car is well built. To some consumers, this means that the car has “solid-sounding” doors. To others, it means that the car is able to withstand a heavy impact in crash tests. Consumer tests are conducted in which consumers test-drive the car and rate its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BA09-8F60-40CD-B562-85CD540FBF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19112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st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roduct passes both the concept test and the product test, the next step is </a:t>
            </a:r>
            <a:r>
              <a:rPr b="1" lang="en-US" sz="1200" spc="-1" strike="noStrike">
                <a:solidFill>
                  <a:srgbClr val="000000"/>
                </a:solidFill>
                <a:latin typeface="Calibri"/>
              </a:rPr>
              <a:t>test marketing</a:t>
            </a:r>
            <a:r>
              <a:rPr b="0" lang="en-US" sz="1200" spc="-1" strike="noStrike">
                <a:solidFill>
                  <a:srgbClr val="000000"/>
                </a:solidFill>
                <a:latin typeface="Calibri"/>
              </a:rPr>
              <a:t>, the stage at which the product and its proposed marketing program are introduced into realistic market settings. Test marketing gives the marketer experience with marketing a product before going to the great expense of full introduction. It lets the company test the product and its entire marketing program—targeting and positioning strategy, advertising, distribution, pricing, branding and packaging, and budget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675E-F91B-4BA3-B9EF-57EBC0AFCE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test marketing needed varies with each new product. Test marketing costs can be high, and it takes time that may allow competitors to gain advantages. When the costs of developing and introducing the product are low, or when management is already confident about the new product, the company may do little or no test marketing. In fact, test marketing by consumer-goods firms has been declining in recent years. Companies often do not test-market simple line extensions or copies of competitors’ successful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when introducing a new product requires a big investment, when the risks are high, or when management is not sure of the product or its marketing program, a company may do a lot of test marketing. For instance, </a:t>
            </a:r>
            <a:r>
              <a:rPr b="0" lang="en-US" sz="1200" spc="-1" strike="noStrike" u="sng">
                <a:solidFill>
                  <a:srgbClr val="0000ff"/>
                </a:solidFill>
                <a:uFillTx/>
                <a:latin typeface="Calibri"/>
                <a:hlinkClick r:id="rId1"/>
              </a:rPr>
              <a:t>Starbucks</a:t>
            </a:r>
            <a:r>
              <a:rPr b="0" lang="en-US" sz="1200" spc="-1" strike="noStrike">
                <a:solidFill>
                  <a:srgbClr val="000000"/>
                </a:solidFill>
                <a:latin typeface="Calibri"/>
              </a:rPr>
              <a:t> VIA instant coffee was one of the company’s biggest, most risky product rollouts ever.  The company spent 20 years developing the coffee and several months testing the product in Starbucks shops in Chicago and Seattle before releasing the product nationally. In the spring and summer of 2009, Starbucks patrons in the two test markets were offered recession-friendly $1.00 cups of coffee as well as coupons and free samples of VIA to take home with them. In addition, a Taste Challenge was created in Chicago to help drum up interest and induce trial. Performance of VIA exceeded expectations in all three cities and the promotional efforts were applied to the national rollout as well. Last year, the new brand generated more than $250 million in sales and Starbucks hopes to build it into a billion-dollar brand. Said CEO Howard Schultz, “We took a lot of time with it because we knew it could undermine the company if we didn’t do it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B484-8DDB-4B5D-9642-A812652FD6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test markets</a:t>
            </a:r>
            <a:r>
              <a:rPr b="0" lang="en-US" sz="1200" spc="-1" strike="noStrike">
                <a:solidFill>
                  <a:srgbClr val="000000"/>
                </a:solidFill>
                <a:latin typeface="Calibri"/>
              </a:rPr>
              <a:t> are small representative markets where the firm conducts a full marketing campaign and uses store audits, consumer and distributor surveys, and other measures to gauge product performance. Results are used to forecast national sales and profits, discover product problems, and fine-tune the marketing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rolled test markets</a:t>
            </a:r>
            <a:r>
              <a:rPr b="0" lang="en-US" sz="1200" spc="-1" strike="noStrike">
                <a:solidFill>
                  <a:srgbClr val="000000"/>
                </a:solidFill>
                <a:latin typeface="Calibri"/>
              </a:rPr>
              <a:t> are panels of stores that have agreed to carry new products for a fee. In general they are less expensive than standard test market, faster than standard test markets, but competitors gain access to the new produ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mulated test markets</a:t>
            </a:r>
            <a:r>
              <a:rPr b="0" lang="en-US" sz="1200" spc="-1" strike="noStrike">
                <a:solidFill>
                  <a:srgbClr val="000000"/>
                </a:solidFill>
                <a:latin typeface="Calibri"/>
              </a:rPr>
              <a:t> are events where the firm will create a shopping environment and note how many consumers buy the new product and competing products. Provides measure of trial and the effectiveness of promotion. Researchers can interview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4452-3FEF-4AF7-939B-27F159685F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alternative to extensive and costly standard test markets, companies can use controlled test markets or simulated test markets. In </a:t>
            </a:r>
            <a:r>
              <a:rPr b="0" i="1" lang="en-US" sz="1200" spc="-1" strike="noStrike">
                <a:solidFill>
                  <a:srgbClr val="000000"/>
                </a:solidFill>
                <a:latin typeface="Calibri"/>
              </a:rPr>
              <a:t>controlled test markets</a:t>
            </a:r>
            <a:r>
              <a:rPr b="0" lang="en-US" sz="1200" spc="-1" strike="noStrike">
                <a:solidFill>
                  <a:srgbClr val="000000"/>
                </a:solidFill>
                <a:latin typeface="Calibri"/>
              </a:rPr>
              <a:t>, such as SymphonyIRI’s BehaviorScan, new products and tactics are tested among controlled panels of shoppers and stores. By combining information on each test consumer’s purchases with consumer demographic and TV viewing information, BehaviorScan can provide store-by-store, week-by-week reports on the sales of tested products and the impact of in-store and in-home marketing efforts. Using </a:t>
            </a:r>
            <a:r>
              <a:rPr b="0" i="1" lang="en-US" sz="1200" spc="-1" strike="noStrike">
                <a:solidFill>
                  <a:srgbClr val="000000"/>
                </a:solidFill>
                <a:latin typeface="Calibri"/>
              </a:rPr>
              <a:t>simulated test markets</a:t>
            </a:r>
            <a:r>
              <a:rPr b="0" lang="en-US" sz="1200" spc="-1" strike="noStrike">
                <a:solidFill>
                  <a:srgbClr val="000000"/>
                </a:solidFill>
                <a:latin typeface="Calibri"/>
              </a:rPr>
              <a:t>, researchers measure consumer responses to new products and marketing tactics in laboratory stores or simulated online shopping environments. Both controlled test markets and simulated test markets reduce the costs of test marketing and speed up the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formation on BehaviorScan Rx, http://www.iriworldwide.com/default.aspx?TabId=159&amp;productid=75 accessed October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A574-3382-41AB-966A-8B7D347BA3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erci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marketing gives management the information needed to make a final decision about whether to launch the new product. If the company goes ahead with </a:t>
            </a:r>
            <a:r>
              <a:rPr b="1" lang="en-US" sz="1200" spc="-1" strike="noStrike">
                <a:solidFill>
                  <a:srgbClr val="000000"/>
                </a:solidFill>
                <a:latin typeface="Calibri"/>
              </a:rPr>
              <a:t>commercialization</a:t>
            </a:r>
            <a:r>
              <a:rPr b="0" lang="en-US" sz="1200" spc="-1" strike="noStrike">
                <a:solidFill>
                  <a:srgbClr val="000000"/>
                </a:solidFill>
                <a:latin typeface="Calibri"/>
              </a:rPr>
              <a:t>—introducing the new product into the market—it will face high costs. For example, the company may need to build or rent a manufacturing facility. And, in the case of a major new consumer product, it may spend hundreds of millions of dollars for advertising, sales promotion, and other marketing efforts in the first year. For instance, to introduce its McCafé coffee in the United States, McDonald’s spent $100 million on an advertising blitz that spanned TV, print, radio, outdoor, the Internet, events, public relations, and sampling. Similarly, Nokia spent $100 million on a campaign to launch its Ace smartphone in the highly competitive U.S. mobil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launching a new product must first decide on introduction </a:t>
            </a:r>
            <a:r>
              <a:rPr b="0" i="1" lang="en-US" sz="1200" spc="-1" strike="noStrike">
                <a:solidFill>
                  <a:srgbClr val="000000"/>
                </a:solidFill>
                <a:latin typeface="Calibri"/>
              </a:rPr>
              <a:t>timing</a:t>
            </a:r>
            <a:r>
              <a:rPr b="0" lang="en-US" sz="1200" spc="-1" strike="noStrike">
                <a:solidFill>
                  <a:srgbClr val="000000"/>
                </a:solidFill>
                <a:latin typeface="Calibri"/>
              </a:rPr>
              <a:t>. If the new product will eat into the sales of other company products, the introduction may be delayed. If the product can be improved further, or if the economy is down, the company may wait until the following year to launch it. However, if competitors are ready to introduce their own competing products, the company may push to introduce its new product soo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he company must decide </a:t>
            </a:r>
            <a:r>
              <a:rPr b="0" i="1" lang="en-US" sz="1200" spc="-1" strike="noStrike">
                <a:solidFill>
                  <a:srgbClr val="000000"/>
                </a:solidFill>
                <a:latin typeface="Calibri"/>
              </a:rPr>
              <a:t>where</a:t>
            </a:r>
            <a:r>
              <a:rPr b="0" lang="en-US" sz="1200" spc="-1" strike="noStrike">
                <a:solidFill>
                  <a:srgbClr val="000000"/>
                </a:solidFill>
                <a:latin typeface="Calibri"/>
              </a:rPr>
              <a:t> to launch the new product—in a single location, a region, the national market, or the international market. Some companies may quickly introduce new models into the full national market. Companies with international distribution systems may introduce new products through swift global rollouts. General Motors did this with its global car, the new Malibu, which will be sold in 100 countries on six continents. The global Malibu launch was back by live, high-definition video run on Facebook and various mobile media, timed to coincide with major auto shows in both Shanghai and New York. The car’s designers and marketers were available in a live Web session to field consumer questions posted on Twitter or Chevrolet’s Facebook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0DA5-BD4B-4807-BA51-4C4EEB870E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product development process shown in Figure 9.1 highlights the important activities needed to find, develop, and introduce new products. However, new-product development involves more than just going through a set of steps. Companies must take a holistic approach to managing this process. Successful new-product development requires a customer-centered, team-based, and systematic eff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39F8-159A-40AD-BE64-5B93B5CA7A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50CA-6F0B-4A3A-97D6-88B863957C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Centered New-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all else, new-product development must be customer centered. When looking for and developing new products, companies often rely too heavily on technical research in their R&amp;D laboratories. But like everything else in marketing, successful new-product development begins with a thorough understanding of what consumers need and value. </a:t>
            </a:r>
            <a:r>
              <a:rPr b="1" lang="en-US" sz="1200" spc="-1" strike="noStrike">
                <a:solidFill>
                  <a:srgbClr val="000000"/>
                </a:solidFill>
                <a:latin typeface="Calibri"/>
              </a:rPr>
              <a:t>Customer-centered new-product development</a:t>
            </a:r>
            <a:r>
              <a:rPr b="0" lang="en-US" sz="1200" spc="-1" strike="noStrike">
                <a:solidFill>
                  <a:srgbClr val="000000"/>
                </a:solidFill>
                <a:latin typeface="Calibri"/>
              </a:rPr>
              <a:t> focuses on finding new ways to solve customer problems and create more customer-satisfying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tudy found that the most successful new products are ones that are differentiated, solve major customer problems, and offer a compelling customer value proposition. Another study showed that companies that directly engage their customers in the new-product innovation process had twice the return on assets and triple the growth in operating income of firms that did not. Thus, customer involvement has a positive effect on the new-product development process and product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ereas the consumer package goods industry’s new-product success rate is only about 15 to 20 percent, P&amp;G’s success rate is over 50 percent. According to former P&amp;G CEO A. G. Lafley, the most important factor in this success is understanding what consumers want. In the past, says Lafley, P&amp;G tried to push new products down to consumers rather than first understanding their needs. But now, P&amp;G employs an immersion process it calls “Living It,” in which researchers go so far as to live with shoppers for several days at a time to envision product ideas based directly on consumer needs. P&amp;Gers also hang out in stores for similar insights, a process they call “Working It.” No other company in the world has invested more in consumer research than P&amp;G. Each year, the company interacts with more than five million customers in 100 countries. It conducts more than 20,000 research studies every year and invests more than $400 million annually in what it calls “consumer understanding.” “We figured out how to keep the consumer at the center of all our decisions,” concludes Lafley. “As a result, we don’t go far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oday’s innovative companies get out of the research lab and connect with customers in search of fresh ways to meet customer needs. Customer-centered new-product development begins and ends with understanding customers and involving them in the process. </a:t>
            </a: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FD7C-A9DC-45FD-B5DD-B77245A813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Based New-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new-product development also requires a total-company, cross-functional effort. Some companies organize their new-product development process into the orderly sequence of steps shown in Figure 9.1, starting with idea generation and ending with commercialization. Under this </a:t>
            </a:r>
            <a:r>
              <a:rPr b="0" i="1" lang="en-US" sz="1200" spc="-1" strike="noStrike">
                <a:solidFill>
                  <a:srgbClr val="000000"/>
                </a:solidFill>
                <a:latin typeface="Calibri"/>
              </a:rPr>
              <a:t>sequential product development</a:t>
            </a:r>
            <a:r>
              <a:rPr b="0" lang="en-US" sz="1200" spc="-1" strike="noStrike">
                <a:solidFill>
                  <a:srgbClr val="000000"/>
                </a:solidFill>
                <a:latin typeface="Calibri"/>
              </a:rPr>
              <a:t> approach, one company department works individually to complete its stage of the process before passing the new product along to the next department and stage. This orderly, step-by-step process can help bring control to complex and risky projects. But it can also be dangerously slow. In fast-changing, highly competitive markets, such slow-but-sure product development can result in product failures, lost sales and profits, and crumbling market pos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et their new products to market more quickly, many companies use a </a:t>
            </a:r>
            <a:r>
              <a:rPr b="1" lang="en-US" sz="1200" spc="-1" strike="noStrike">
                <a:solidFill>
                  <a:srgbClr val="000000"/>
                </a:solidFill>
                <a:latin typeface="Calibri"/>
              </a:rPr>
              <a:t>team-based new-product development</a:t>
            </a:r>
            <a:r>
              <a:rPr b="0" lang="en-US" sz="1200" spc="-1" strike="noStrike">
                <a:solidFill>
                  <a:srgbClr val="000000"/>
                </a:solidFill>
                <a:latin typeface="Calibri"/>
              </a:rPr>
              <a:t> approach. Under this approach, company departments work closely together in cross-functional teams, overlapping the steps in the product development process to save time and increase effectiveness. Instead of passing the new product from department to department, the company assembles a team of people from various departments that stays with the new product from start to finish. Such teams usually include people from the marketing, finance, design, manufacturing, and legal departments and even supplier and customer companies. In the sequential process, a bottleneck at one phase can seriously slow an entire project. In the team-based approach, however, if one area hits snags, it works to resolve them while the team mov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m-based approach does have some limitations, however. For example, it sometimes creates more organizational tension and confusion than the more orderly sequential approach. However, in rapidly changing industries facing increasingly shorter product life cycles, the rewards of fast and flexible product development far exceed the risks. Companies that combine a customer-centered approach with team-based new-product development gain a big competitive edge by getting the right new products to market faster.</a:t>
            </a: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3501-1E1B-49A1-9315-11B91F8052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ystematic New-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new-product development process should be holistic and systematic rather than compartmentalized and haphazard. Otherwise, few new ideas will surface, and many good ideas will sputter and die. To avoid these problems, a company can install an </a:t>
            </a:r>
            <a:r>
              <a:rPr b="0" i="1" lang="en-US" sz="1200" spc="-1" strike="noStrike">
                <a:solidFill>
                  <a:srgbClr val="000000"/>
                </a:solidFill>
                <a:latin typeface="Calibri"/>
              </a:rPr>
              <a:t>innovation management system</a:t>
            </a:r>
            <a:r>
              <a:rPr b="0" lang="en-US" sz="1200" spc="-1" strike="noStrike">
                <a:solidFill>
                  <a:srgbClr val="000000"/>
                </a:solidFill>
                <a:latin typeface="Calibri"/>
              </a:rPr>
              <a:t> to collect, review, evaluate, and manage new-product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can appoint a respected senior person to be its innovation manager. It can set up Web-based idea management software and encourage all company stakeholders—employees, suppliers, distributors, dealers—to become involved in finding and developing new products. It can assign a cross-functional innovation management committee to evaluate proposed new-product ideas and help bring good ideas to market. It can also create recognition programs to reward those who contribute the best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ovation management system approach yields two favorable outcomes. First, it helps create an innovation-oriented company culture. It shows that top management supports, encourages, and rewards innovation. Second, it will yield a larger number of new-product ideas, among which will be found some especially good ones. The good new ideas will be more systematically developed, producing more new-product successes. No longer will good ideas wither for the lack of a sounding board or a senior product advoc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new-product success requires more than simply thinking up a few good ideas, turning them into products, and finding customers for them. It requires a holistic approach for finding new ways to create valued customer experiences, from generating and screening new-product ideas to creating and rolling out want-satisfying products to cust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this, successful new-product development requires a whole-company commitment. At companies known for their new-product prowess, such as Google, Apple, 3M, P&amp;G, and GE, the entire culture encourages, supports, and rewards innov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ough economic times hit, or when a company faces financial difficulties, management may be tempted to reduce spending on new-product development. However, such thinking is usually shortsighted. By cutting back on new products, the company may make itself less competitive during or after the downturn. In fact, tough times might call for even greater new-product development, as the company struggles to better align its market offerings with changing consumer needs and tastes. In difficult times, innovation more often helps than hurts in making the company more competitive and positioning it better for the future. Summarizes one analy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ion is a messy process—hard to measure and hard to manage. When revenues and earnings decline, executives often conclude that their innovation efforts just aren’t worth it. Better to focus on the tried and true than to risk money on untested ideas. The contrary view, of course, is that innovation is both a vaccine against market downturns and an elixir that rejuvenates growth. For example, imagine how much worse off Apple would be had it not—in the midst of very difficult times for the company a decade ago—created the iPod, iTunes, and iPh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us, rain or shine, good times or bad, a company must continue to innovate and develop new products if it wants to grow and prosper. Adapted from </a:t>
            </a:r>
            <a:r>
              <a:rPr b="0" lang="en-US" sz="1200" spc="-1" strike="noStrike">
                <a:solidFill>
                  <a:srgbClr val="000000"/>
                </a:solidFill>
                <a:latin typeface="Calibri"/>
              </a:rPr>
              <a:t>Marketing: An Introduction, Eleventh Edition Gary Armstrong, Philip Kotler</a:t>
            </a: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EBD4-F2B8-4D72-97E6-B6D621CB5AD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life cycle (PLC), Figure 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of a product’s sales and profits over its lifetime. It involves five distinct stages: product development, introduction, growth, maturity, and dec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e a product at each stage of the PL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97DE-765B-4F96-B295-B625C936E8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duct development</a:t>
            </a:r>
            <a:r>
              <a:rPr b="0" lang="en-US" sz="1200" spc="-1" strike="noStrike">
                <a:solidFill>
                  <a:srgbClr val="000000"/>
                </a:solidFill>
                <a:latin typeface="Calibri"/>
              </a:rPr>
              <a:t> begins when the company finds and develops a new-product idea. During product development, sales are zero, and the company’s investment costs m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troduction</a:t>
            </a:r>
            <a:r>
              <a:rPr b="0" lang="en-US" sz="1200" spc="-1" strike="noStrike">
                <a:solidFill>
                  <a:srgbClr val="000000"/>
                </a:solidFill>
                <a:latin typeface="Calibri"/>
              </a:rPr>
              <a:t> is a period of slow sales growth as the product is introduced in the market. Profits are nonexistent in this stage because of the heavy expenses of product 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rowth</a:t>
            </a:r>
            <a:r>
              <a:rPr b="0" lang="en-US" sz="1200" spc="-1" strike="noStrike">
                <a:solidFill>
                  <a:srgbClr val="000000"/>
                </a:solidFill>
                <a:latin typeface="Calibri"/>
              </a:rPr>
              <a:t> is a period of rapid market acceptance and increasing pro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turity</a:t>
            </a:r>
            <a:r>
              <a:rPr b="0" lang="en-US" sz="1200" spc="-1" strike="noStrike">
                <a:solidFill>
                  <a:srgbClr val="000000"/>
                </a:solidFill>
                <a:latin typeface="Calibri"/>
              </a:rPr>
              <a:t> is a period of slowdown in sales growth because the product has achieved acceptance by most potential buyers. Profits level off or decline because of increased marketing outlays to defend the product against compet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cline</a:t>
            </a:r>
            <a:r>
              <a:rPr b="0" lang="en-US" sz="1200" spc="-1" strike="noStrike">
                <a:solidFill>
                  <a:srgbClr val="000000"/>
                </a:solidFill>
                <a:latin typeface="Calibri"/>
              </a:rPr>
              <a:t> is the period when sales fall off and profit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products follow all five stages of the product life cycle. Some products are introduced and die quickly; others stay in the mature stage for a long, long time. Some enter the decline stage and are then cycled back into the growth stage through strong promotion or repositioning. It seems that a well-managed brand could live forever. Venerable brands like Coca-Cola, Gillette, Budweiser, Guinness, American Express, Wells Fargo, Kikkoman, Frye, and TABASCO sauce, for instance, are still going strong after more than 100 years. Guinness beer has been around for more than 250years, Life Savers mints recently celebrated “100 years of keeping your mouth fresh,” and TABASCO sauce brags that it’s “over 140 years old and still able to totally whup your bu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9.09&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C concept can describe a </a:t>
            </a:r>
            <a:r>
              <a:rPr b="0" i="1" lang="en-US" sz="1200" spc="-1" strike="noStrike">
                <a:solidFill>
                  <a:srgbClr val="000000"/>
                </a:solidFill>
                <a:latin typeface="Calibri"/>
              </a:rPr>
              <a:t>product class</a:t>
            </a:r>
            <a:r>
              <a:rPr b="0" lang="en-US" sz="1200" spc="-1" strike="noStrike">
                <a:solidFill>
                  <a:srgbClr val="000000"/>
                </a:solidFill>
                <a:latin typeface="Calibri"/>
              </a:rPr>
              <a:t> (gasoline-powered automobiles), a </a:t>
            </a:r>
            <a:r>
              <a:rPr b="0" i="1" lang="en-US" sz="1200" spc="-1" strike="noStrike">
                <a:solidFill>
                  <a:srgbClr val="000000"/>
                </a:solidFill>
                <a:latin typeface="Calibri"/>
              </a:rPr>
              <a:t>product form</a:t>
            </a:r>
            <a:r>
              <a:rPr b="0" lang="en-US" sz="1200" spc="-1" strike="noStrike">
                <a:solidFill>
                  <a:srgbClr val="000000"/>
                </a:solidFill>
                <a:latin typeface="Calibri"/>
              </a:rPr>
              <a:t> (SUVs), or a </a:t>
            </a:r>
            <a:r>
              <a:rPr b="0" i="1" lang="en-US" sz="1200" spc="-1" strike="noStrike">
                <a:solidFill>
                  <a:srgbClr val="000000"/>
                </a:solidFill>
                <a:latin typeface="Calibri"/>
              </a:rPr>
              <a:t>brand</a:t>
            </a:r>
            <a:r>
              <a:rPr b="0" lang="en-US" sz="1200" spc="-1" strike="noStrike">
                <a:solidFill>
                  <a:srgbClr val="000000"/>
                </a:solidFill>
                <a:latin typeface="Calibri"/>
              </a:rPr>
              <a:t> (the Ford Escape). The PLC concept applies differently in each case. Product classes have the longest life cycles; the sales of many product classes stay in the mature stage for a long time. Product forms, in contrast, tend to have the standard PLC shape. Product forms such as “dial telephones” and “VHS tapes” passed through a regular history of introduction, rapid growth, maturity, and dec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fic brand’s life cycle can change quickly because of changing competitive attacks and responses. For example, although laundry soaps (product class) and powdered detergents (product form) have enjoyed fairly long life cycles, the life cycles of specific brands have tended to be much shorter. Today’s leading brands of powdered laundry soap are Tide and Cheer; the leading brands almost 100 years ago were Fels-Naptha, Octagon, and Kirkman.</a:t>
            </a: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D4D9-9542-45F9-B89C-BC02D661C2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yle </a:t>
            </a:r>
            <a:r>
              <a:rPr b="0" lang="en-US" sz="1200" spc="-1" strike="noStrike">
                <a:solidFill>
                  <a:srgbClr val="000000"/>
                </a:solidFill>
                <a:latin typeface="Calibri"/>
              </a:rPr>
              <a:t>is a basic and distinctive mode of expression.</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shion </a:t>
            </a:r>
            <a:r>
              <a:rPr b="0" lang="en-US" sz="1200" spc="-1" strike="noStrike">
                <a:solidFill>
                  <a:srgbClr val="000000"/>
                </a:solidFill>
                <a:latin typeface="Calibri"/>
              </a:rPr>
              <a:t>is a currently accepted popular style in a given field.</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C concept also can be applied to what are known as styles, fashions, and fads. Their special life cycles are shown in Figure 9.3. A </a:t>
            </a:r>
            <a:r>
              <a:rPr b="1" lang="en-US" sz="1200" spc="-1" strike="noStrike">
                <a:solidFill>
                  <a:srgbClr val="000000"/>
                </a:solidFill>
                <a:latin typeface="Calibri"/>
              </a:rPr>
              <a:t>style</a:t>
            </a:r>
            <a:r>
              <a:rPr b="0" lang="en-US" sz="1200" spc="-1" strike="noStrike">
                <a:solidFill>
                  <a:srgbClr val="000000"/>
                </a:solidFill>
                <a:latin typeface="Calibri"/>
              </a:rPr>
              <a:t> is a basic and distinctive mode of expression. For example, styles appear in homes (colonial, ranch, transitional), clothing (formal, casual), and art (realist, surrealist, abstract). Once a style is invented, it may last for generations, passing in and out of vogue. A style has a cycle showing several periods of renewed interest.</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fashion</a:t>
            </a:r>
            <a:r>
              <a:rPr b="0" lang="en-US" sz="1200" spc="-1" strike="noStrike">
                <a:solidFill>
                  <a:srgbClr val="000000"/>
                </a:solidFill>
                <a:latin typeface="Calibri"/>
              </a:rPr>
              <a:t> is a currently accepted or popular style in a given field. For example, the more formal “business attire” look of corporate dress of the 1980s and 1990s gave way to the “business casual” look of the 2000s. Fashions tend to grow slowly, remain popular for a while, and then decline slowly.</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ds</a:t>
            </a:r>
            <a:r>
              <a:rPr b="0" lang="en-US" sz="1200" spc="-1" strike="noStrike">
                <a:solidFill>
                  <a:srgbClr val="000000"/>
                </a:solidFill>
                <a:latin typeface="Calibri"/>
              </a:rPr>
              <a:t> are temporary periods of unusually high sales driven by consumer enthusiasm and immediate product or brand popularity. A fad may be part of an otherwise normal life cycle, as in the case of recent surges in the sales of poker chips and accessories. Or the fad may comprise a brand’s or product’s entire life cycle. Pet Rocks are a classic example. Upon hearing his friends complain about how expensive it was to care for their dogs, advertising copywriter Gary Dahl joked about his pet rock. He soon wrote a spoof of a dog-training manual for it, titled “The Care and Training of Your Pet Rock.” Soon Dahl was selling some 1.5 million ordinary beach pebbles at $4 a pop. Yet the fad, which broke one October, had sunk like a stone by the next February. Dahl’s advice to those who want to succeed with a fad: “Enjoy it while it lasts.” Other examples of fads include Silly Bandz, Crocs, and Pogs.</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can apply the product life-cycle concept as a useful framework for describing how products and markets work. And when used carefully, the PLC concept can help in developing good marketing strategies for its different stages. However, using the PLC concept for forecasting product performance or developing marketing strategies presents some practical problems. For example, in practice, it is difficult to forecast the sales level at each PLC stage, the length of each stage, and the shape of the PLC curve. Using the PLC concept to develop marketing strategy also can be difficult because strategy is both a cause and a result of the PLC. The product’s current PLC position suggests the best marketing strategies, and the resulting marketing strategies affect product performance in later stages.</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efinition is based on one found in Bryan Lilly and Tammy R. Nelson, “Fads: Segmenting the Fad-Buyer Market,” </a:t>
            </a:r>
            <a:r>
              <a:rPr b="0" i="1" lang="en-US" sz="1200" spc="-1" strike="noStrike">
                <a:solidFill>
                  <a:srgbClr val="000000"/>
                </a:solidFill>
                <a:latin typeface="Calibri"/>
              </a:rPr>
              <a:t>Journal of Consumer Marketing</a:t>
            </a:r>
            <a:r>
              <a:rPr b="0" lang="en-US" sz="1200" spc="-1" strike="noStrike">
                <a:solidFill>
                  <a:srgbClr val="000000"/>
                </a:solidFill>
                <a:latin typeface="Calibri"/>
              </a:rPr>
              <a:t>, Vol. 20, No. 3, 2003, pp. 252–265.</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Katya Kazakina and Robert Johnson, “A Fad’s Father Seeks a Sequel,” </a:t>
            </a:r>
            <a:r>
              <a:rPr b="0" i="1" lang="en-US" sz="1200" spc="-1" strike="noStrike">
                <a:solidFill>
                  <a:srgbClr val="000000"/>
                </a:solidFill>
                <a:latin typeface="Calibri"/>
              </a:rPr>
              <a:t>New York Times</a:t>
            </a:r>
            <a:r>
              <a:rPr b="0" lang="en-US" sz="1200" spc="-1" strike="noStrike">
                <a:solidFill>
                  <a:srgbClr val="000000"/>
                </a:solidFill>
                <a:latin typeface="Calibri"/>
              </a:rPr>
              <a:t>, May 30, 2004, www.nytimes.com; John Schwartz, “The Joy of Silly,” </a:t>
            </a:r>
            <a:r>
              <a:rPr b="0" i="1" lang="en-US" sz="1200" spc="-1" strike="noStrike">
                <a:solidFill>
                  <a:srgbClr val="000000"/>
                </a:solidFill>
                <a:latin typeface="Calibri"/>
              </a:rPr>
              <a:t>New York Times</a:t>
            </a:r>
            <a:r>
              <a:rPr b="0" lang="en-US" sz="1200" spc="-1" strike="noStrike">
                <a:solidFill>
                  <a:srgbClr val="000000"/>
                </a:solidFill>
                <a:latin typeface="Calibri"/>
              </a:rPr>
              <a:t>, January 20, 2008, p. 5; and www.crazyfads.com, accessed May 2012.</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BE32-2AA8-4B37-A3F3-2A6693E374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ook at strategies for each of the other life-cycle st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tion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troduction stage</a:t>
            </a:r>
            <a:r>
              <a:rPr b="0" lang="en-US" sz="1200" spc="-1" strike="noStrike">
                <a:solidFill>
                  <a:srgbClr val="000000"/>
                </a:solidFill>
                <a:latin typeface="Calibri"/>
              </a:rPr>
              <a:t> starts when a new product is first launched. Introduction takes time, and sales growth is apt to be slow. Well-known products such as frozen foods and HDTVs lingered for many years before they entered a stage of more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tage, as compared to other stages, profits are negative or low because of the low sales and high distribution and promotion expenses. Much money is needed to attract distributors and build their inventories. Promotion spending is relatively high to inform consumers of the new product and get them to try it. Because the market is not generally ready for product refinements at this stage, the company and its few competitors produce basic versions of the product. These firms focus their selling on those buyers who are the most ready to bu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especially the </a:t>
            </a:r>
            <a:r>
              <a:rPr b="0" i="1" lang="en-US" sz="1200" spc="-1" strike="noStrike">
                <a:solidFill>
                  <a:srgbClr val="000000"/>
                </a:solidFill>
                <a:latin typeface="Calibri"/>
              </a:rPr>
              <a:t>market pioneer</a:t>
            </a:r>
            <a:r>
              <a:rPr b="0" lang="en-US" sz="1200" spc="-1" strike="noStrike">
                <a:solidFill>
                  <a:srgbClr val="000000"/>
                </a:solidFill>
                <a:latin typeface="Calibri"/>
              </a:rPr>
              <a:t>, must choose a launch strategy that is consistent with the intended product positioning. It should realize that the initial strategy is just the first step in a grander marketing plan for the product’s entire life cycle. If the pioneer chooses its launch strategy to make a “killing,” it may be sacrificing long-run revenue for the sake of short-run gain. The pioneer has the best chance of building and retaining market leadership if it plays its cards correctly from the start.</a:t>
            </a: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225E-44AB-4D49-ADB3-3DE8BF1085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owth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new product satisfies the market, it will enter a </a:t>
            </a:r>
            <a:r>
              <a:rPr b="1" lang="en-US" sz="1200" spc="-1" strike="noStrike">
                <a:solidFill>
                  <a:srgbClr val="000000"/>
                </a:solidFill>
                <a:latin typeface="Calibri"/>
              </a:rPr>
              <a:t>growth stage</a:t>
            </a:r>
            <a:r>
              <a:rPr b="0" lang="en-US" sz="1200" spc="-1" strike="noStrike">
                <a:solidFill>
                  <a:srgbClr val="000000"/>
                </a:solidFill>
                <a:latin typeface="Calibri"/>
              </a:rPr>
              <a:t>, in which sales will start climbing quickly. The early adopters will continue to buy, and later buyers will start following their lead, especially if they hear favorable word of mouth. Attracted by the opportunities for profit, new competitors will enter the market. They will introduce new product features, and the market will expand. The increase in competitors leads to an increase in the number of distribution outlets, and sales jump just to build reseller inventories. Prices remain where they are or decrease only slightly. Companies keep their promotion spending at the same or a slightly higher level. Educating the market remains a goal, but now the company must also meet the compet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its increase during the growth stage as promotion costs are spread over a large volume and as unit manufacturing costs decrease. The firm uses several strategies to sustain rapid market growth as long as possible. It improves product quality and adds new product features and models. It enters new market segments and new distribution channels. It shifts some advertising from building product awareness to building product conviction and purchase, and it lowers prices at the right time to attract more bu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owth stage, the firm faces a trade-off between high market share and high current profit. By spending a lot of money on product improvement, promotion, and distribution, the company can capture a dominant position. In doing so, however, it gives up maximum current profit, which it hopes to make up in the next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7C1F-92DC-43E2-A0C9-19271F05D0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urity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ome point, a product’s sales growth will slow down, and it will enter the </a:t>
            </a:r>
            <a:r>
              <a:rPr b="1" lang="en-US" sz="1200" spc="-1" strike="noStrike">
                <a:solidFill>
                  <a:srgbClr val="000000"/>
                </a:solidFill>
                <a:latin typeface="Calibri"/>
              </a:rPr>
              <a:t>maturity stage</a:t>
            </a:r>
            <a:r>
              <a:rPr b="0" lang="en-US" sz="1200" spc="-1" strike="noStrike">
                <a:solidFill>
                  <a:srgbClr val="000000"/>
                </a:solidFill>
                <a:latin typeface="Calibri"/>
              </a:rPr>
              <a:t>. This maturity stage normally lasts longer than the previous stages, and it poses strong challenges to marketing management. Most products are in the maturity stage of the life cycle, and therefore most of marketing management deals with the matur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lowdown in sales growth results in many producers with many products to sell. In turn, this overcapacity leads to greater competition. Competitors begin marking down prices, increasing their advertising and sales promotions, and upping their product development budgets to find better versions of the product. These steps lead to a drop in profit. Some of the weaker competitors start dropping out, and the industry eventually contains only well-established competi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any products in the mature stage appear to remain unchanged for long periods, most successful ones are actually evolving to meet changing consumer needs. Product managers should do more than simply ride along with or defend their mature products—a good offense is the best defense. They should consider modifying the market, product offering, and marketing m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D84B-BF27-4B3A-807D-DFC95A37CEE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ote to Instructor</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link is for 1000 Uses of Glad website. It is described below, and in the book, as a way to modify the produc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modifying the market, the company tries to increase the consumption of the current product. It may look for new users and new market segments. The manager may also look for ways to increase usage among present customers. The company might also try modifying the product—changing</a:t>
            </a:r>
            <a:r>
              <a:rPr b="1" lang="en-US" sz="1100" spc="-1" strike="noStrike">
                <a:solidFill>
                  <a:srgbClr val="000000"/>
                </a:solidFill>
                <a:latin typeface="Calibri"/>
              </a:rPr>
              <a:t> </a:t>
            </a:r>
            <a:r>
              <a:rPr b="0" lang="en-US" sz="1100" spc="-1" strike="noStrike">
                <a:solidFill>
                  <a:srgbClr val="000000"/>
                </a:solidFill>
                <a:latin typeface="Calibri"/>
              </a:rPr>
              <a:t>characteristics such as quality, features, style, or packaging to attract new users and to inspire more usage. It can improve the product’s styling and attractiveness. It might improve the product’s quality and performance—its durability, reliability, speed, tast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t>
            </a:r>
            <a:r>
              <a:rPr b="0" i="1" lang="en-US" sz="1100" spc="-1" strike="noStrike">
                <a:solidFill>
                  <a:srgbClr val="000000"/>
                </a:solidFill>
                <a:latin typeface="Calibri"/>
              </a:rPr>
              <a:t>modifying the market, the company tries to increase consumption by finding new users </a:t>
            </a:r>
            <a:r>
              <a:rPr b="0" lang="en-US" sz="1100" spc="-1" strike="noStrike">
                <a:solidFill>
                  <a:srgbClr val="000000"/>
                </a:solidFill>
                <a:latin typeface="Calibri"/>
              </a:rPr>
              <a:t>and new market segments for its brand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modifying the product—changing characteristics such as quality, features, </a:t>
            </a:r>
            <a:r>
              <a:rPr b="0" lang="en-US" sz="1100" spc="-1" strike="noStrike">
                <a:solidFill>
                  <a:srgbClr val="000000"/>
                </a:solidFill>
                <a:latin typeface="Calibri"/>
              </a:rPr>
              <a:t>style, or packaging to attract new users and inspire more usage. It can improve the product’s styling and attractiveness. It might improve the product’s quality and performance—its durability, reliability, speed, and tas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modifying the marketing mix—improving sales by changing </a:t>
            </a:r>
            <a:r>
              <a:rPr b="0" lang="en-US" sz="1100" spc="-1" strike="noStrike">
                <a:solidFill>
                  <a:srgbClr val="000000"/>
                </a:solidFill>
                <a:latin typeface="Calibri"/>
              </a:rPr>
              <a:t>one or more marketing mix elements. The company can offer new or improved services to buyers. It can cut prices to attract new users and competitors’ customers. It can launch a better advertising campaign or use aggressive sales promotions—trade deals, cents-off, premiums, and contests. In addition to pricing and promotion, the company can also move into new marketing channels to help serve new users.</a:t>
            </a:r>
            <a:endParaRPr b="0" lang="en-US" sz="11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0235-DAD5-4A92-9471-6A2A0E6F306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products are important—to both customers and the marketers who serve them. For companies, new products are a key source of growth. For customers, they bring new solutions and variety to their lives. Yet, innovation can be very expensive and very risky. New products face tough odds. According to one estimate, 90 percent of all new products in America fail. Each year, companies lose an estimated $20 billion to $30 billion on failed food products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rm can obtain new products in two ways. One is through </a:t>
            </a:r>
            <a:r>
              <a:rPr b="0" i="1" lang="en-US" sz="1200" spc="-1" strike="noStrike">
                <a:solidFill>
                  <a:srgbClr val="000000"/>
                </a:solidFill>
                <a:latin typeface="Calibri"/>
              </a:rPr>
              <a:t>acquisition</a:t>
            </a:r>
            <a:r>
              <a:rPr b="0" lang="en-US" sz="1200" spc="-1" strike="noStrike">
                <a:solidFill>
                  <a:srgbClr val="000000"/>
                </a:solidFill>
                <a:latin typeface="Calibri"/>
              </a:rPr>
              <a:t>—by buying a whole company, a patent, or a license to produce someone else’s product. The other is through the firm’s own </a:t>
            </a:r>
            <a:r>
              <a:rPr b="1" lang="en-US" sz="1200" spc="-1" strike="noStrike">
                <a:solidFill>
                  <a:srgbClr val="000000"/>
                </a:solidFill>
                <a:latin typeface="Calibri"/>
              </a:rPr>
              <a:t>new-product development</a:t>
            </a:r>
            <a:r>
              <a:rPr b="0" lang="en-US" sz="1200" spc="-1" strike="noStrike">
                <a:solidFill>
                  <a:srgbClr val="000000"/>
                </a:solidFill>
                <a:latin typeface="Calibri"/>
              </a:rPr>
              <a:t> efforts. By </a:t>
            </a:r>
            <a:r>
              <a:rPr b="0" i="1" lang="en-US" sz="1200" spc="-1" strike="noStrike">
                <a:solidFill>
                  <a:srgbClr val="000000"/>
                </a:solidFill>
                <a:latin typeface="Calibri"/>
              </a:rPr>
              <a:t>new products</a:t>
            </a:r>
            <a:r>
              <a:rPr b="0" lang="en-US" sz="1200" spc="-1" strike="noStrike">
                <a:solidFill>
                  <a:srgbClr val="000000"/>
                </a:solidFill>
                <a:latin typeface="Calibri"/>
              </a:rPr>
              <a:t> we mean original products, product improvements, product modifications, and new brands that the firm develops through its own R&amp;D efforts. In this chapter, we concentrate on new-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products are important to both customers and the marketers who serve them: They bring new solutions and variety to customers’ lives, and they are a key source of growth for companies. In today’s fast-changing environment, many companies rely on new products for the majority of their growth. For example, new products have almost completely transformed Apple in recent years. Sales of the iPhone and iPad—neither of which was available just six years ago—now bring in 72 percent of the company’s total reven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innovation can be very expensive and very risky. New products face tough odds. By one estimate, 67 percent of all new products introduced by established companies fail. For new companies, the failure rate soars to 90 percent. Each year, U.S. companies lose an estimated $260 billion on failed new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so many new products fail? There are several reasons. Although an idea may be good, the company may overestimate market size. The actual product may be poorly designed. Or it might be incorrectly positioned, launched at the wrong time, priced too high, or poorly advertised. A high-level executive might push a favorite idea despite poor marketing research findings. Sometimes the costs of product development are higher than expected, and sometimes competitors fight back harder than expec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companies face a problem: They must develop new products, but the odds weigh heavily against success. To create successful new products, a company must understand its consumers, markets, and competitors and develop products that deliver superior value to cust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product development starts with good new-product ideas—</a:t>
            </a:r>
            <a:r>
              <a:rPr b="0" i="1" lang="en-US" sz="1200" spc="-1" strike="noStrike">
                <a:solidFill>
                  <a:srgbClr val="000000"/>
                </a:solidFill>
                <a:latin typeface="Calibri"/>
              </a:rPr>
              <a:t>lots of </a:t>
            </a:r>
            <a:r>
              <a:rPr b="0" lang="en-US" sz="1200" spc="-1" strike="noStrike">
                <a:solidFill>
                  <a:srgbClr val="000000"/>
                </a:solidFill>
                <a:latin typeface="Calibri"/>
              </a:rPr>
              <a:t>them. For example, Cisco’s recent I-Prize “crowdsourcing” challenge attracted 1,200 ideas from 2,500 innovators in 104 countries. The remaining steps reduce the number of ideas and develop only the best ones into profitable products. Of the 1,200 ideas from Cisco’s I-Prize challenge, only a handful were develo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1B11-1719-40A0-A072-2C749D87A9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line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les of most product forms and brands eventually dip. The decline may be slow, as in the cases of stamps and oatmeal cereal, or rapid, as in the cases of VHS tapes. Sales may plunge to zero, or they may drop to a low level where they continue for many years. This is the </a:t>
            </a:r>
            <a:r>
              <a:rPr b="1" lang="en-US" sz="1200" spc="-1" strike="noStrike">
                <a:solidFill>
                  <a:srgbClr val="000000"/>
                </a:solidFill>
                <a:latin typeface="Calibri"/>
              </a:rPr>
              <a:t>decline stage</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 decline for many reasons, including technological advances, shifts in consumer tastes, and increased competition. As sales and profits decline, some firms withdraw from the market. Those remaining may prune their product offerings. In addition, they may drop smaller market segments and marginal trade channels, or they may cut the promotion budget and reduce their prices fur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a weak product can be very costly to a firm, and not just in profit terms. There are many hidden costs. A weak product may take up too much of management’s time. It often requires frequent price and inventory adjustments. It requires advertising and sales-force attention that might be better used to make “healthy” products more profitable. A product’s failing reputation can cause customer concerns about the company and its other products. The biggest cost may well lie in the future. Keeping weak products delays the search for replacements, creates a lopsided product mix, hurts current profits, and weakens the company’s foothold on the fu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se reasons, companies must identify products in the decline stage and decide whether to maintain, harvest, or drop them. Management may decide to </a:t>
            </a:r>
            <a:r>
              <a:rPr b="0" i="1" lang="en-US" sz="1200" spc="-1" strike="noStrike">
                <a:solidFill>
                  <a:srgbClr val="000000"/>
                </a:solidFill>
                <a:latin typeface="Calibri"/>
              </a:rPr>
              <a:t>maintain</a:t>
            </a:r>
            <a:r>
              <a:rPr b="0" lang="en-US" sz="1200" spc="-1" strike="noStrike">
                <a:solidFill>
                  <a:srgbClr val="000000"/>
                </a:solidFill>
                <a:latin typeface="Calibri"/>
              </a:rPr>
              <a:t> its brand, repositioning or reinvigorating it in hopes of moving it back into the growth stage of the product life cycle. P&amp;G has done this with several brands, including Mr. Clean and Old Spice. And Converse found fresh strategies for breathing new life into the venerable old Converse All Stars brand Management may decide to </a:t>
            </a:r>
            <a:r>
              <a:rPr b="0" i="1" lang="en-US" sz="1200" spc="-1" strike="noStrike">
                <a:solidFill>
                  <a:srgbClr val="000000"/>
                </a:solidFill>
                <a:latin typeface="Calibri"/>
              </a:rPr>
              <a:t>harvest</a:t>
            </a:r>
            <a:r>
              <a:rPr b="0" lang="en-US" sz="1200" spc="-1" strike="noStrike">
                <a:solidFill>
                  <a:srgbClr val="000000"/>
                </a:solidFill>
                <a:latin typeface="Calibri"/>
              </a:rPr>
              <a:t> the product, which means reducing various costs (plant and equipment, maintenance, R&amp;D, advertising, sales force), hoping that sales hold up. If successful, harvesting will increase the company’s profits in the short run. Finally, management may decide to </a:t>
            </a:r>
            <a:r>
              <a:rPr b="0" i="1" lang="en-US" sz="1200" spc="-1" strike="noStrike">
                <a:solidFill>
                  <a:srgbClr val="000000"/>
                </a:solidFill>
                <a:latin typeface="Calibri"/>
              </a:rPr>
              <a:t>drop</a:t>
            </a:r>
            <a:r>
              <a:rPr b="0" lang="en-US" sz="1200" spc="-1" strike="noStrike">
                <a:solidFill>
                  <a:srgbClr val="000000"/>
                </a:solidFill>
                <a:latin typeface="Calibri"/>
              </a:rPr>
              <a:t> the product from its line. The company can sell the product to another firm or simply liquidate it at salvage value. In recent years, P&amp;G has sold off several lesser or declining brands, such as Folgers coffee, Crisco oil, Comet cleanser, Sure deodorant, Duncan Hines cake mixes, and Jif peanut butter. If the company plans to find a buyer, it will not want to run down the product through harves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9.2 summarizes the key characteristics of each stage of the PLC. The table also lists the marketing objectives and strategies for each stage.</a:t>
            </a: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B452-B643-46F1-9232-26C90BC910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Decisions and Social Responsi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should carefully consider public policy issues and regulations regarding acquiring or dropping products, patent protection, product quality and safety, and product warran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new products, the government may prevent companies from adding products through acquisitions if the effect threatens to lessen competition. Companies dropping products must be aware that they have legal obligations, written or implied, to their suppliers, dealers, and customers who have a stake in the dropped product. Companies must also obey U.S. patent laws when developing new products. A company cannot make its product illegally similar to another company’s established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must comply with specific laws regarding product quality and safety. The Federal Food, Drug, and Cosmetic Act protects consumers from unsafe and adulterated food, drugs, and cosmetics. Various acts provide for the inspection of sanitary conditions in the meat- and poultry-processing industries. Safety legislation has been passed to regulate fabrics, chemical substances, automobiles, toys, and drugs and poisons. The Consumer Product Safety Act of 1972 established the Consumer Product Safety Commission, which has the authority to ban or seize potentially harmful products and set severe penalties for violation of the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onsumers have been injured by a product with a defective design, they can sue manufacturers or dealers. A recent survey of manufacturing companies found that product liability was the second-largest litigation concern, behind only labor and employment matters. Product liability suits are now occurring in U.S. district courts at the rate of over 60,000 per year, up from 19,500 in 1990. Although manufacturers are found to be at fault in only 6 percent of all product liability cases, when they are found guilty, the median jury award is $1.5 million, and individual awards can run into the tens or even hundreds of millions of dollars. Class-action suits can run into the billions. For example, after it recalled some seven million vehicles for acceleration pedal-related issues, Toyota will face more than 100 class-action and individual lawsuits beginning in 2013 that could end up costing the company $3 billion or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tigation phenomenon has resulted in huge increases in product liability insurance premiums, causing big problems in some industries. Some companies pass these higher rates along to consumers by raising prices. Others are forced to discontinue high-risk product lines. Some companies are now appointing </a:t>
            </a:r>
            <a:r>
              <a:rPr b="0" i="1" lang="en-US" sz="1200" spc="-1" strike="noStrike">
                <a:solidFill>
                  <a:srgbClr val="000000"/>
                </a:solidFill>
                <a:latin typeface="Calibri"/>
              </a:rPr>
              <a:t>product stewards</a:t>
            </a:r>
            <a:r>
              <a:rPr b="0" lang="en-US" sz="1200" spc="-1" strike="noStrike">
                <a:solidFill>
                  <a:srgbClr val="000000"/>
                </a:solidFill>
                <a:latin typeface="Calibri"/>
              </a:rPr>
              <a:t>, whose job is to protect consumers from harm and the company from liability by proactively ferreting out potential product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BD31-7C16-4381-8642-9CAF06F765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national Product and Services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product and services marketers face special challenges. First they must figure out what products and services to introduce and in which countries. Then they must decide how much to standardize or adapt their products and services for world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ne hand, companies would like to standardize their offerings. Standardization helps a company develop a consistent worldwide image. It also lowers the product design, manufacturing, and marketing costs of offering a large variety of products. On the other hand, markets and consumers around the world differ widely. Companies must usually respond to these differences by adapting their product offerings. For example, by carefully adapting its menu and operations to local tastes and eating styles, YUM! Brands—parent company of quintessential fast-food restaurants KFC, Pizza Hut, and Taco Bell—has become the largest restaurant company in mainland Chi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marketers also face special challenges when going global. Some service industries have a long history of international operations. For example, the commercial banking industry was one of the first to grow internationally. Banks had to provide global services to meet the foreign exchange and credit needs of their home country clients who wanted to sell overseas. In recent years, many banks have become truly global. Germany’s Deutsche Bank, for example, serves more than 19 million customers through 3,083 branches in 72 countries. For its clients around the world who wish to grow globally, Deutsche Bank can raise money not only in Frankfurt but also in Zurich, London, Paris, Tokyo, and Mosc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and business services industries, such as accounting, management consulting, and advertising, have also globalized. The international growth of these firms followed the globalization of the client companies they serve. For example, as more clients employ worldwide marketing and advertising strategies, advertising agencies have responded by globalizing their own operations. McCann Worldgroup, a large U.S.-based advertising and marketing services agency, operates in more than 130 countries. It serves international clients such as Coca-Cola, GM, ExxonMobil, Microsoft, MasterCard, Johnson &amp; Johnson, and Unilever in markets ranging from the United States and Canada to Korea and Kazakhstan. Moreover, McCann Worldgroup is one company in the Interpublic Group of Companies, an immense, worldwide network of advertising and marketing services compa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re among the latest service businesses to go global. As their home markets become saturated, American retailers such as Walmart, Office Depot, and Saks Fifth Avenue are expanding into faster-growing markets abroad. For example, since 1991, Walmart has entered 27 countries outside the United States; its international division’s sales accounts for 26 percent of total sales. Foreign retailers are making similar moves. Asian shoppers can now buy American products in French-owned Carrefour stores. Carrefour, the world’s second-largest retailer behind Walmart, now operates more than 15,500 stores in more than 35 countries. It is the leading retailer in Europe, Brazil, and Argentina and the largest foreign retailer i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nd toward growth of global service companies will continue, especially in banking, airlines, telecommunications, and professional services. Today, service firms are no longer simply following their manufacturing customers. Instead, they are taking the lead in international expan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118B-3846-4750-AE6E-EA8C6C0176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must carry out strong new-product planning and set up a systematic, customer-driven new –product development process for finding and growing new products.  Figure 9.1 shows the eight major steps in th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B7E4-9D43-4E51-B5C8-EEF7D22178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 groups of four come up with one idea for a new produ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ight be helpful if you assign each group a category including kitchen products, office supplies, laptop accessories, dessert products, bathroom accessories, children’s toys, baby products, etc. Students will realize this is very difficult.</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CEA6-91CC-4F68-9B85-50E9C3E61C6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dea Generatio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product development starts with </a:t>
            </a:r>
            <a:r>
              <a:rPr b="1" lang="en-US" sz="800" spc="-1" strike="noStrike">
                <a:solidFill>
                  <a:srgbClr val="000000"/>
                </a:solidFill>
                <a:latin typeface="Calibri"/>
              </a:rPr>
              <a:t>idea generation</a:t>
            </a:r>
            <a:r>
              <a:rPr b="0" lang="en-US" sz="800" spc="-1" strike="noStrike">
                <a:solidFill>
                  <a:srgbClr val="000000"/>
                </a:solidFill>
                <a:latin typeface="Calibri"/>
              </a:rPr>
              <a:t>—the systematic search for new-product ideas. A company typically generates hundreds—even thousands—of ideas to find a few good ones. Major sources of new-product ideas include internal sources and external sources such as customers, competitors, distributors and suppliers, and other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Internal Idea Sourc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ing </a:t>
            </a:r>
            <a:r>
              <a:rPr b="0" i="1" lang="en-US" sz="800" spc="-1" strike="noStrike">
                <a:solidFill>
                  <a:srgbClr val="000000"/>
                </a:solidFill>
                <a:latin typeface="Calibri"/>
              </a:rPr>
              <a:t>internal sources</a:t>
            </a:r>
            <a:r>
              <a:rPr b="0" lang="en-US" sz="800" spc="-1" strike="noStrike">
                <a:solidFill>
                  <a:srgbClr val="000000"/>
                </a:solidFill>
                <a:latin typeface="Calibri"/>
              </a:rPr>
              <a:t>, the company can find new ideas through formal R&amp;D. However, in a recent study, only 33 percent of companies surveyed rated traditional R&amp;D as a leading source of innovation ideas. In contrast, 41 percent of companies identified customers as a key source, followed by heads of company business units (35 percent), employees (33 percent), and the sales force (17 percen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us, beyond its internal R&amp;D process, a company can pick the brains of its own people—from executives to salespeople to scientists, engineers, and manufacturing staff. Many companies have developed successful internal social networks and </a:t>
            </a:r>
            <a:r>
              <a:rPr b="0" i="1" lang="en-US" sz="800" spc="-1" strike="noStrike">
                <a:solidFill>
                  <a:srgbClr val="000000"/>
                </a:solidFill>
                <a:latin typeface="Calibri"/>
              </a:rPr>
              <a:t>intrapreneurial</a:t>
            </a:r>
            <a:r>
              <a:rPr b="0" lang="en-US" sz="800" spc="-1" strike="noStrike">
                <a:solidFill>
                  <a:srgbClr val="000000"/>
                </a:solidFill>
                <a:latin typeface="Calibri"/>
              </a:rPr>
              <a:t> programs that encourage employees to develop new-product ideas. For example, Twitter hosts an annual “Hack Week: Let’s Hack Together” event, which actively promotes internal innovation through experimentation around the compan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t;ex09.02&g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uring Hack Week, a wide range of Twitter folks take time away from their day-to-day work to collaborate and see what crazy cool new things they can develop. Says one employee, “No meetings for a week. No releases for a week. And almost no rules. Go Hack Week!” This year, employees across the company formed nearly 100 teams to work on a variety of projects. Some developed ways to make Twitter even easier to use; others tested out cool new features or tools. Some projects were technical and strategic; some were simply fun and off the wall, giving people a chance to stretch their creative muscles. It’s still too soon to know exactly what will result from this year’s Hack Week, says Twitter, but “we can’t wait to find out. One thing we do know: We’ll have a bunch of awesome new products, features, and ide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External Idea Sourc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mpanies can also obtain good new-product ideas from any of a number of external sources. For example, </a:t>
            </a:r>
            <a:r>
              <a:rPr b="0" i="1" lang="en-US" sz="800" spc="-1" strike="noStrike">
                <a:solidFill>
                  <a:srgbClr val="000000"/>
                </a:solidFill>
                <a:latin typeface="Calibri"/>
              </a:rPr>
              <a:t>distributors and suppliers</a:t>
            </a:r>
            <a:r>
              <a:rPr b="0" lang="en-US" sz="800" spc="-1" strike="noStrike">
                <a:solidFill>
                  <a:srgbClr val="000000"/>
                </a:solidFill>
                <a:latin typeface="Calibri"/>
              </a:rPr>
              <a:t> can contribute ideas. Distributors are close to the market and can pass along information about consumer problems and new-product possibilities. Suppliers can tell the company about new concepts, techniques, and materials that can be used to develop new products.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Competitors</a:t>
            </a:r>
            <a:r>
              <a:rPr b="0" lang="en-US" sz="800" spc="-1" strike="noStrike">
                <a:solidFill>
                  <a:srgbClr val="000000"/>
                </a:solidFill>
                <a:latin typeface="Calibri"/>
              </a:rPr>
              <a:t> are another important source. Companies watch competitors’ ads to get clues about their new products. They buy competing new products, take them apart to see how they work, analyze their sales, and decide whether they should bring out a new product of their own. Other idea sources include trade magazines, shows, websites, and seminars; government agencies; advertising agencies; marketing research firms; university and commercial laboratories; and inventor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erhaps the most important sources of new-product ideas are </a:t>
            </a:r>
            <a:r>
              <a:rPr b="0" i="1" lang="en-US" sz="800" spc="-1" strike="noStrike">
                <a:solidFill>
                  <a:srgbClr val="000000"/>
                </a:solidFill>
                <a:latin typeface="Calibri"/>
              </a:rPr>
              <a:t>customers</a:t>
            </a:r>
            <a:r>
              <a:rPr b="0" lang="en-US" sz="800" spc="-1" strike="noStrike">
                <a:solidFill>
                  <a:srgbClr val="000000"/>
                </a:solidFill>
                <a:latin typeface="Calibri"/>
              </a:rPr>
              <a:t> themselves. The company can analyze customer questions and complaints to find new products that better solve consumer problems. Or it can invite customers to share suggestions and ideas. For example, the Danish-based LEGO Group, maker of the classic LEGO plastic bricks that have been fixtures in homes around the world for more than 60 years, systematically taps users for new-product ideas and inpu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t;ex09.03&g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the LEGO CUUSOO website, LEGO invites users to submit ideas for new LEGO products and to vote for other users’ ideas. Ideas supported by 10,000 votes get an internal review and a shot at production. Consumers who have their ideas chosen will earn 1 percent of the total net sales of the product. So far, the CUUSOO effort has produced dozens of major product ideas and three new products. The most recent release is LEGO Minecraft Micro World.</a:t>
            </a:r>
            <a:endParaRPr b="0" lang="en-US" sz="8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EAB0-2072-42E6-AE25-65D8D00402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owdsour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roadly, many companies are now developing </a:t>
            </a:r>
            <a:r>
              <a:rPr b="0" i="1" lang="en-US" sz="1200" spc="-1" strike="noStrike">
                <a:solidFill>
                  <a:srgbClr val="000000"/>
                </a:solidFill>
                <a:latin typeface="Calibri"/>
              </a:rPr>
              <a:t>crowdsourcing</a:t>
            </a:r>
            <a:r>
              <a:rPr b="0" lang="en-US" sz="1200" spc="-1" strike="noStrike">
                <a:solidFill>
                  <a:srgbClr val="000000"/>
                </a:solidFill>
                <a:latin typeface="Calibri"/>
              </a:rPr>
              <a:t> or </a:t>
            </a:r>
            <a:r>
              <a:rPr b="0" i="1" lang="en-US" sz="1200" spc="-1" strike="noStrike">
                <a:solidFill>
                  <a:srgbClr val="000000"/>
                </a:solidFill>
                <a:latin typeface="Calibri"/>
              </a:rPr>
              <a:t>open-innovation</a:t>
            </a:r>
            <a:r>
              <a:rPr b="0" lang="en-US" sz="1200" spc="-1" strike="noStrike">
                <a:solidFill>
                  <a:srgbClr val="000000"/>
                </a:solidFill>
                <a:latin typeface="Calibri"/>
              </a:rPr>
              <a:t> new-product idea programs. </a:t>
            </a:r>
            <a:r>
              <a:rPr b="1" lang="en-US" sz="1200" spc="-1" strike="noStrike">
                <a:solidFill>
                  <a:srgbClr val="000000"/>
                </a:solidFill>
                <a:latin typeface="Calibri"/>
              </a:rPr>
              <a:t>Crowdsourcing</a:t>
            </a:r>
            <a:r>
              <a:rPr b="0" lang="en-US" sz="1200" spc="-1" strike="noStrike">
                <a:solidFill>
                  <a:srgbClr val="000000"/>
                </a:solidFill>
                <a:latin typeface="Calibri"/>
              </a:rPr>
              <a:t> throws the innovation doors wide open, inviting broad communities of people—customers, employees, independent scientists and researchers, and even the public at large—into the new-product innovation process. For example, rather than relying only on its own R&amp;D labs to produce all of the new-product innovations needed to support growth, Procter &amp; Gamble developed its Connect + Develop crowdsourcing process. Through Connect + Develop, the company uncovers promising innovations from entrepreneurs, scientists, engineers, and other researchers—even consumers themselves—that will help it meet its goal of improving consumers’ lives (see Real marketing 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irst rule of innovation these days is that the most powerful ideas often come from the most unexpected places—the quiet genius of employees inside your company, the hidden genius of customers,” says one expert. “Tapping into this hidden genius doesn’t require fancy technology or deep pockets—it just requires a leadership mindset that invites outside brainpower into the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creating and managing their own crowdsourcing platforms, companies can use third-party crowdsourcing networks, such as InnoCentive, TopCoder, Hypios, and jovoto. For example, organizations ranging from Facebook and PayPal to ESPN, NASA, and the Salk Institute tap into TopCoder’s network of nearly 400,000 mathematicians, engineers, software developers, and designers for ideas and solutions, offering prizes of $100 to $100,000. PayPal recently posted a challenge to the TopCoder community seeking the development of an innovative Android or iPhone app that would successfully and securely run its check-out process, awarding the winners $5,000 each. After only four weeks of competition and two weeks of review, PayPal had its solutions. The Android app came from a programmer in the United States; the iPhone app from a programmer in Colom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wdsourcing can produce a flood of innovative ideas. In fact, opening the floodgates to anyone and everyone can overwhelm the company with ideas—some good and some bad. For example, when Cisco Systems sponsored an open-innovation effort called I-Prize, soliciting ideas from external sources, it received more than 820 distinct ideas from more than 2,900 innovators from 156 countries. “The evaluation process was far more labor-intensive than we’d anticipated,” says Cisco’s chief technology officer. It required “significant investments of time, energy, patience, and imagination . . . to discern the gems hidden within rough stones.” In the end, a team of six Cisco people worked full-time for three months to carve out 32 semifinalist ideas, as well as nine teams representing 14 countries in six continents for the final phase of the compet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ly innovative companies don’t rely only on one source or another for new-product ideas. Instead, they develop extensive innovation networks that capture ideas and inspiration from every possible source, from employees and customers to outside innovators and multiple points beyo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3726-A97B-4142-BEA2-2A5D740B64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a Scre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idea generation is to create a large number of ideas. The purpose of the succeeding stages is to </a:t>
            </a:r>
            <a:r>
              <a:rPr b="0" i="1" lang="en-US" sz="1200" spc="-1" strike="noStrike">
                <a:solidFill>
                  <a:srgbClr val="000000"/>
                </a:solidFill>
                <a:latin typeface="Calibri"/>
              </a:rPr>
              <a:t>reduce</a:t>
            </a:r>
            <a:r>
              <a:rPr b="0" lang="en-US" sz="1200" spc="-1" strike="noStrike">
                <a:solidFill>
                  <a:srgbClr val="000000"/>
                </a:solidFill>
                <a:latin typeface="Calibri"/>
              </a:rPr>
              <a:t> that number. The first idea-reducing stage is </a:t>
            </a:r>
            <a:r>
              <a:rPr b="1" lang="en-US" sz="1200" spc="-1" strike="noStrike">
                <a:solidFill>
                  <a:srgbClr val="000000"/>
                </a:solidFill>
                <a:latin typeface="Calibri"/>
              </a:rPr>
              <a:t>idea screening</a:t>
            </a:r>
            <a:r>
              <a:rPr b="0" lang="en-US" sz="1200" spc="-1" strike="noStrike">
                <a:solidFill>
                  <a:srgbClr val="000000"/>
                </a:solidFill>
                <a:latin typeface="Calibri"/>
              </a:rPr>
              <a:t>, which helps spot good ideas and drop poor ones as soon as possible. Product development costs rise greatly in later stages, so the company wants to go ahead only with those product ideas that will turn into profitable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require their executives to write up new-product ideas in a standard format that can be reviewed by a new-product committee. The write-up describes the product or the service, the proposed customer value proposition, the target market, and the competition. It makes some rough estimates of market size, product price, development time and costs, manufacturing costs, and rate of return. The committee then evaluates the idea against a set of general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arketing expert proposes an R-W-W (“real, win, worth doing”) new-product screening framework that asks three questions. First, </a:t>
            </a:r>
            <a:r>
              <a:rPr b="0" i="1" lang="en-US" sz="1200" spc="-1" strike="noStrike">
                <a:solidFill>
                  <a:srgbClr val="000000"/>
                </a:solidFill>
                <a:latin typeface="Calibri"/>
              </a:rPr>
              <a:t>Is it real?</a:t>
            </a:r>
            <a:r>
              <a:rPr b="0" lang="en-US" sz="1200" spc="-1" strike="noStrike">
                <a:solidFill>
                  <a:srgbClr val="000000"/>
                </a:solidFill>
                <a:latin typeface="Calibri"/>
              </a:rPr>
              <a:t> Is there a real need and desire for the product and will customers buy it? Is there a clear product concept and will such a product satisfy the market? Second, </a:t>
            </a:r>
            <a:r>
              <a:rPr b="0" i="1" lang="en-US" sz="1200" spc="-1" strike="noStrike">
                <a:solidFill>
                  <a:srgbClr val="000000"/>
                </a:solidFill>
                <a:latin typeface="Calibri"/>
              </a:rPr>
              <a:t>Can we win?</a:t>
            </a:r>
            <a:r>
              <a:rPr b="0" lang="en-US" sz="1200" spc="-1" strike="noStrike">
                <a:solidFill>
                  <a:srgbClr val="000000"/>
                </a:solidFill>
                <a:latin typeface="Calibri"/>
              </a:rPr>
              <a:t> Does the product offer a sustainable competitive advantage? Does the company have the resources to make such a product a success? Finally, </a:t>
            </a:r>
            <a:r>
              <a:rPr b="0" i="1" lang="en-US" sz="1200" spc="-1" strike="noStrike">
                <a:solidFill>
                  <a:srgbClr val="000000"/>
                </a:solidFill>
                <a:latin typeface="Calibri"/>
              </a:rPr>
              <a:t>Is it worth doing?</a:t>
            </a:r>
            <a:r>
              <a:rPr b="0" lang="en-US" sz="1200" spc="-1" strike="noStrike">
                <a:solidFill>
                  <a:srgbClr val="000000"/>
                </a:solidFill>
                <a:latin typeface="Calibri"/>
              </a:rPr>
              <a:t> Does the product fit the company’s overall growth strategy? Does it offer sufficient profit potential? The company should be able to answer yes to all three R-W-W questions before developing the new-product idea further.</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E23E-D893-43DC-A026-2C7407740C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cept Development and Tes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tractive idea must then be developed into a </a:t>
            </a:r>
            <a:r>
              <a:rPr b="1" lang="en-US" sz="1200" spc="-1" strike="noStrike">
                <a:solidFill>
                  <a:srgbClr val="000000"/>
                </a:solidFill>
                <a:latin typeface="Calibri"/>
              </a:rPr>
              <a:t>product concept</a:t>
            </a:r>
            <a:r>
              <a:rPr b="0" lang="en-US" sz="1200" spc="-1" strike="noStrike">
                <a:solidFill>
                  <a:srgbClr val="000000"/>
                </a:solidFill>
                <a:latin typeface="Calibri"/>
              </a:rPr>
              <a:t>. It is important to distinguish between a product idea, a product concept, and a product image. A </a:t>
            </a:r>
            <a:r>
              <a:rPr b="0" i="1" lang="en-US" sz="1200" spc="-1" strike="noStrike">
                <a:solidFill>
                  <a:srgbClr val="000000"/>
                </a:solidFill>
                <a:latin typeface="Calibri"/>
              </a:rPr>
              <a:t>product idea</a:t>
            </a:r>
            <a:r>
              <a:rPr b="0" lang="en-US" sz="1200" spc="-1" strike="noStrike">
                <a:solidFill>
                  <a:srgbClr val="000000"/>
                </a:solidFill>
                <a:latin typeface="Calibri"/>
              </a:rPr>
              <a:t> is an idea for a possible product that the company can see itself offering to the market. A </a:t>
            </a:r>
            <a:r>
              <a:rPr b="0" i="1" lang="en-US" sz="1200" spc="-1" strike="noStrike">
                <a:solidFill>
                  <a:srgbClr val="000000"/>
                </a:solidFill>
                <a:latin typeface="Calibri"/>
              </a:rPr>
              <a:t>product concept</a:t>
            </a:r>
            <a:r>
              <a:rPr b="0" lang="en-US" sz="1200" spc="-1" strike="noStrike">
                <a:solidFill>
                  <a:srgbClr val="000000"/>
                </a:solidFill>
                <a:latin typeface="Calibri"/>
              </a:rPr>
              <a:t> is a detailed version of the idea stated in meaningful consumer terms. A </a:t>
            </a:r>
            <a:r>
              <a:rPr b="0" i="1" lang="en-US" sz="1200" spc="-1" strike="noStrike">
                <a:solidFill>
                  <a:srgbClr val="000000"/>
                </a:solidFill>
                <a:latin typeface="Calibri"/>
              </a:rPr>
              <a:t>product image</a:t>
            </a:r>
            <a:r>
              <a:rPr b="0" lang="en-US" sz="1200" spc="-1" strike="noStrike">
                <a:solidFill>
                  <a:srgbClr val="000000"/>
                </a:solidFill>
                <a:latin typeface="Calibri"/>
              </a:rPr>
              <a:t> is the way consumers perceive an actual or potenti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AF74-B06D-4049-B7D9-87E7A303E3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 </a:t>
            </a:r>
            <a:r>
              <a:rPr b="1" lang="en-US" sz="1600" spc="-1" strike="noStrike">
                <a:solidFill>
                  <a:srgbClr val="ffffff"/>
                </a:solidFill>
                <a:latin typeface="Arial"/>
                <a:ea typeface="Tahoma"/>
              </a:rPr>
              <a:t>9-  </a:t>
            </a:r>
            <a:fld id="{A375AEFF-C2B0-48B8-B40D-1C1C0EA3CE9C}"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9- </a:t>
            </a:r>
            <a:fld id="{57739D69-8810-4614-A192-81378E9A813A}"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decisioninsight.com/content/index.php" TargetMode="External"/><Relationship Id="rId3" Type="http://schemas.openxmlformats.org/officeDocument/2006/relationships/image" Target="../media/image9.jpeg"/><Relationship Id="rId4" Type="http://schemas.openxmlformats.org/officeDocument/2006/relationships/slideLayout" Target="../slideLayouts/slideLayout7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1000uses.com/" TargetMode="External"/><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7.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27968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Nine</a:t>
            </a:r>
            <a:endParaRPr b="1" lang="en-US" sz="3600" spc="-1" strike="noStrike">
              <a:solidFill>
                <a:srgbClr val="ffffff"/>
              </a:solidFill>
              <a:latin typeface="Arial"/>
            </a:endParaRPr>
          </a:p>
        </p:txBody>
      </p:sp>
      <p:sp>
        <p:nvSpPr>
          <p:cNvPr id="364" name="PlaceHolder 2"/>
          <p:cNvSpPr>
            <a:spLocks noGrp="1"/>
          </p:cNvSpPr>
          <p:nvPr>
            <p:ph type="subTitle"/>
          </p:nvPr>
        </p:nvSpPr>
        <p:spPr>
          <a:xfrm>
            <a:off x="1676160" y="4648320"/>
            <a:ext cx="5715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w-Product Development and Product Life-Cycle Strategies</a:t>
            </a:r>
            <a:endParaRPr b="0" lang="en-US" sz="3200" spc="-1" strike="noStrike">
              <a:solidFill>
                <a:srgbClr val="ffffff"/>
              </a:solidFill>
              <a:latin typeface="Calibri"/>
            </a:endParaRPr>
          </a:p>
        </p:txBody>
      </p:sp>
      <p:sp>
        <p:nvSpPr>
          <p:cNvPr id="36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02" name=""/>
          <p:cNvSpPr txBox="1"/>
          <p:nvPr/>
        </p:nvSpPr>
        <p:spPr>
          <a:xfrm>
            <a:off x="685800" y="2286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cept testing refers to testing new-product concepts with groups of target consumers</a:t>
            </a:r>
            <a:endParaRPr b="0" lang="en-US" sz="3200" spc="-1" strike="noStrike">
              <a:solidFill>
                <a:srgbClr val="ffffff"/>
              </a:solidFill>
              <a:latin typeface="Calibri"/>
            </a:endParaRPr>
          </a:p>
        </p:txBody>
      </p:sp>
      <p:sp>
        <p:nvSpPr>
          <p:cNvPr id="40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ncept Development and Test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04" name="Picture 2" descr=""/>
          <p:cNvPicPr/>
          <p:nvPr/>
        </p:nvPicPr>
        <p:blipFill>
          <a:blip r:embed="rId1"/>
          <a:stretch/>
        </p:blipFill>
        <p:spPr>
          <a:xfrm>
            <a:off x="2438280" y="3429000"/>
            <a:ext cx="4200480" cy="2800440"/>
          </a:xfrm>
          <a:prstGeom prst="rect">
            <a:avLst/>
          </a:prstGeom>
          <a:ln w="0">
            <a:noFill/>
          </a:ln>
        </p:spPr>
      </p:pic>
      <p:sp>
        <p:nvSpPr>
          <p:cNvPr id="40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07" name=""/>
          <p:cNvSpPr txBox="1"/>
          <p:nvPr/>
        </p:nvSpPr>
        <p:spPr>
          <a:xfrm>
            <a:off x="685800" y="190512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ing strategy development refers to the initial marketing strategy for introducing the product to the marke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ing strategy statement include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scription of the target market</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alue proposition</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ales and profit goals</a:t>
            </a:r>
            <a:endParaRPr b="0" lang="en-US" sz="2800" spc="-1" strike="noStrike">
              <a:solidFill>
                <a:srgbClr val="ffffff"/>
              </a:solidFill>
              <a:latin typeface="Calibri"/>
            </a:endParaRPr>
          </a:p>
        </p:txBody>
      </p:sp>
      <p:sp>
        <p:nvSpPr>
          <p:cNvPr id="408" name="PlaceHolder 2"/>
          <p:cNvSpPr>
            <a:spLocks noGrp="1"/>
          </p:cNvSpPr>
          <p:nvPr>
            <p:ph/>
          </p:nvPr>
        </p:nvSpPr>
        <p:spPr>
          <a:xfrm>
            <a:off x="0" y="121932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rketing Strategy Develop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11" name=""/>
          <p:cNvSpPr txBox="1"/>
          <p:nvPr/>
        </p:nvSpPr>
        <p:spPr>
          <a:xfrm>
            <a:off x="685800" y="198108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usiness analysis</a:t>
            </a:r>
            <a:r>
              <a:rPr b="0" lang="en-US" sz="3200" spc="-1" strike="noStrike">
                <a:solidFill>
                  <a:srgbClr val="ffffff"/>
                </a:solidFill>
                <a:latin typeface="Calibri"/>
              </a:rPr>
              <a:t> involves a review of the sales, costs, and profit projections to find out whether they satisfy the company’s objectives</a:t>
            </a:r>
            <a:endParaRPr b="0" lang="en-US" sz="3200" spc="-1" strike="noStrike">
              <a:solidFill>
                <a:srgbClr val="ffffff"/>
              </a:solidFill>
              <a:latin typeface="Calibri"/>
            </a:endParaRPr>
          </a:p>
        </p:txBody>
      </p:sp>
      <p:sp>
        <p:nvSpPr>
          <p:cNvPr id="412" name="PlaceHolder 2"/>
          <p:cNvSpPr>
            <a:spLocks noGrp="1"/>
          </p:cNvSpPr>
          <p:nvPr>
            <p:ph/>
          </p:nvPr>
        </p:nvSpPr>
        <p:spPr>
          <a:xfrm>
            <a:off x="914040" y="121896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y Development</a:t>
            </a:r>
            <a:endParaRPr b="0" lang="en-US" sz="2800" spc="-1" strike="noStrike">
              <a:solidFill>
                <a:srgbClr val="ffffff"/>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15" name=""/>
          <p:cNvSpPr txBox="1"/>
          <p:nvPr/>
        </p:nvSpPr>
        <p:spPr>
          <a:xfrm>
            <a:off x="990360" y="2209320"/>
            <a:ext cx="7086600" cy="3124440"/>
          </a:xfrm>
          <a:prstGeom prst="rect">
            <a:avLst/>
          </a:prstGeom>
          <a:noFill/>
          <a:ln w="0">
            <a:noFill/>
          </a:ln>
        </p:spPr>
        <p:txBody>
          <a:bodyPr anchor="t">
            <a:normAutofit/>
          </a:bodyPr>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volves the creation and testing of one or more physical versions by the R&amp;D or engineering department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quires an increase in investment </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hows whether the product idea can be turned into a workable product.</a:t>
            </a:r>
            <a:endParaRPr b="0" lang="en-US" sz="2800" spc="-1" strike="noStrike">
              <a:solidFill>
                <a:srgbClr val="ffffff"/>
              </a:solidFill>
              <a:latin typeface="Calibri"/>
            </a:endParaRPr>
          </a:p>
        </p:txBody>
      </p:sp>
      <p:sp>
        <p:nvSpPr>
          <p:cNvPr id="416" name="PlaceHolder 2"/>
          <p:cNvSpPr>
            <a:spLocks noGrp="1"/>
          </p:cNvSpPr>
          <p:nvPr>
            <p:ph/>
          </p:nvPr>
        </p:nvSpPr>
        <p:spPr>
          <a:xfrm>
            <a:off x="0" y="1218960"/>
            <a:ext cx="9144000" cy="609480"/>
          </a:xfrm>
          <a:prstGeom prst="rect">
            <a:avLst/>
          </a:prstGeom>
          <a:noFill/>
          <a:ln w="0">
            <a:noFill/>
          </a:ln>
        </p:spPr>
        <p:txBody>
          <a:bodyPr anchor="t">
            <a:normAutofit fontScale="55000"/>
          </a:bodyPr>
          <a:p>
            <a:pPr marL="188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y Development</a:t>
            </a:r>
            <a:endParaRPr b="0" lang="en-US" sz="2800" spc="-1" strike="noStrike">
              <a:solidFill>
                <a:srgbClr val="ffffff"/>
              </a:solidFill>
              <a:latin typeface="Calibri"/>
            </a:endParaRPr>
          </a:p>
          <a:p>
            <a:pPr marL="188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development </a:t>
            </a:r>
            <a:endParaRPr b="0" lang="en-US" sz="2800" spc="-1" strike="noStrike">
              <a:solidFill>
                <a:srgbClr val="ffffff"/>
              </a:solidFill>
              <a:latin typeface="Calibri"/>
            </a:endParaRPr>
          </a:p>
          <a:p>
            <a:pPr marL="188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17" name="Picture 2" descr=""/>
          <p:cNvPicPr/>
          <p:nvPr/>
        </p:nvPicPr>
        <p:blipFill>
          <a:blip r:embed="rId1"/>
          <a:stretch/>
        </p:blipFill>
        <p:spPr>
          <a:xfrm>
            <a:off x="6708600" y="4952880"/>
            <a:ext cx="2156040" cy="1428840"/>
          </a:xfrm>
          <a:prstGeom prst="rect">
            <a:avLst/>
          </a:prstGeom>
          <a:ln w="0">
            <a:noFill/>
          </a:ln>
        </p:spPr>
      </p:pic>
      <p:sp>
        <p:nvSpPr>
          <p:cNvPr id="41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20" name=""/>
          <p:cNvSpPr txBox="1"/>
          <p:nvPr/>
        </p:nvSpPr>
        <p:spPr>
          <a:xfrm>
            <a:off x="609120" y="1599840"/>
            <a:ext cx="4876920" cy="487692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est marketing </a:t>
            </a:r>
            <a:r>
              <a:rPr b="0" lang="en-US" sz="2800" spc="-1" strike="noStrike">
                <a:solidFill>
                  <a:srgbClr val="ffffff"/>
                </a:solidFill>
                <a:latin typeface="Calibri"/>
              </a:rPr>
              <a:t>is the stage at which the product and marketing program are introduced into more realistic marketing settings</a:t>
            </a: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vides the marketer with experience in testing the product and entire marketing program before full introduction</a:t>
            </a: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1" name="PlaceHolder 2"/>
          <p:cNvSpPr>
            <a:spLocks noGrp="1"/>
          </p:cNvSpPr>
          <p:nvPr>
            <p:ph/>
          </p:nvPr>
        </p:nvSpPr>
        <p:spPr>
          <a:xfrm>
            <a:off x="990720" y="1143000"/>
            <a:ext cx="716256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rketing Strategy Develop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2" name="Picture 2" descr=""/>
          <p:cNvPicPr/>
          <p:nvPr/>
        </p:nvPicPr>
        <p:blipFill>
          <a:blip r:embed="rId1"/>
          <a:stretch/>
        </p:blipFill>
        <p:spPr>
          <a:xfrm>
            <a:off x="5715000" y="2133720"/>
            <a:ext cx="3009960" cy="3743280"/>
          </a:xfrm>
          <a:prstGeom prst="rect">
            <a:avLst/>
          </a:prstGeom>
          <a:ln w="0">
            <a:noFill/>
          </a:ln>
        </p:spPr>
      </p:pic>
      <p:sp>
        <p:nvSpPr>
          <p:cNvPr id="42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2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2"/>
          <p:cNvSpPr>
            <a:spLocks noGrp="1"/>
          </p:cNvSpPr>
          <p:nvPr>
            <p:ph/>
          </p:nvPr>
        </p:nvSpPr>
        <p:spPr>
          <a:xfrm>
            <a:off x="0" y="121932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rketing Strategy Develop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7" name="Diagram 6" descr=""/>
          <p:cNvPicPr/>
          <p:nvPr/>
        </p:nvPicPr>
        <p:blipFill>
          <a:blip r:embed="rId1"/>
          <a:stretch/>
        </p:blipFill>
        <p:spPr>
          <a:xfrm>
            <a:off x="1468440" y="1871640"/>
            <a:ext cx="6170760" cy="4102200"/>
          </a:xfrm>
          <a:prstGeom prst="rect">
            <a:avLst/>
          </a:prstGeom>
          <a:ln w="0">
            <a:noFill/>
          </a:ln>
        </p:spPr>
      </p:pic>
      <p:sp>
        <p:nvSpPr>
          <p:cNvPr id="42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30" name="PlaceHolder 2"/>
          <p:cNvSpPr>
            <a:spLocks noGrp="1"/>
          </p:cNvSpPr>
          <p:nvPr>
            <p:ph/>
          </p:nvPr>
        </p:nvSpPr>
        <p:spPr>
          <a:xfrm>
            <a:off x="83772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ypes of Test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31" name="Diagram 3" descr=""/>
          <p:cNvPicPr/>
          <p:nvPr/>
        </p:nvPicPr>
        <p:blipFill>
          <a:blip r:embed="rId1"/>
          <a:stretch/>
        </p:blipFill>
        <p:spPr>
          <a:xfrm>
            <a:off x="1822320" y="1852560"/>
            <a:ext cx="5359680" cy="2049480"/>
          </a:xfrm>
          <a:prstGeom prst="rect">
            <a:avLst/>
          </a:prstGeom>
          <a:ln w="0">
            <a:noFill/>
          </a:ln>
        </p:spPr>
      </p:pic>
      <p:pic>
        <p:nvPicPr>
          <p:cNvPr id="432" name="Picture 7" descr="ph09_09">
            <a:hlinkClick r:id="rId2"/>
          </p:cNvPr>
          <p:cNvPicPr/>
          <p:nvPr/>
        </p:nvPicPr>
        <p:blipFill>
          <a:blip r:embed="rId3"/>
          <a:stretch/>
        </p:blipFill>
        <p:spPr>
          <a:xfrm>
            <a:off x="1371600" y="4038480"/>
            <a:ext cx="6172200" cy="2274840"/>
          </a:xfrm>
          <a:prstGeom prst="rect">
            <a:avLst/>
          </a:prstGeom>
          <a:ln w="0">
            <a:noFill/>
          </a:ln>
        </p:spPr>
      </p:pic>
      <p:sp>
        <p:nvSpPr>
          <p:cNvPr id="4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ew-Product Development Process</a:t>
            </a:r>
            <a:endParaRPr b="1" lang="en-US" sz="3600" spc="-1" strike="noStrike">
              <a:solidFill>
                <a:srgbClr val="ffffff"/>
              </a:solidFill>
              <a:latin typeface="Arial"/>
            </a:endParaRPr>
          </a:p>
        </p:txBody>
      </p:sp>
      <p:sp>
        <p:nvSpPr>
          <p:cNvPr id="435" name=""/>
          <p:cNvSpPr txBox="1"/>
          <p:nvPr/>
        </p:nvSpPr>
        <p:spPr>
          <a:xfrm>
            <a:off x="990360" y="2133720"/>
            <a:ext cx="746748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vantages of simulated test market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 expensive than other test methods</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aster</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stricts access by competitors</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advantage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t considered as reliable and accurate due to the controlled setting</a:t>
            </a:r>
            <a:endParaRPr b="0" lang="en-US" sz="2800" spc="-1" strike="noStrike">
              <a:solidFill>
                <a:srgbClr val="ffffff"/>
              </a:solidFill>
              <a:latin typeface="Calibri"/>
            </a:endParaRPr>
          </a:p>
        </p:txBody>
      </p:sp>
      <p:sp>
        <p:nvSpPr>
          <p:cNvPr id="436"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rketing Strategy Develop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39"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mmercialization</a:t>
            </a:r>
            <a:r>
              <a:rPr b="0" lang="en-US" sz="2800" spc="-1" strike="noStrike">
                <a:solidFill>
                  <a:srgbClr val="ffffff"/>
                </a:solidFill>
                <a:latin typeface="Calibri"/>
              </a:rPr>
              <a:t> is the introduction </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f the new product</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en to launch</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ere to launch</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lanned market </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rollout</a:t>
            </a:r>
            <a:endParaRPr b="0" lang="en-US" sz="2800" spc="-1" strike="noStrike">
              <a:solidFill>
                <a:srgbClr val="ffffff"/>
              </a:solidFill>
              <a:latin typeface="Calibri"/>
            </a:endParaRPr>
          </a:p>
        </p:txBody>
      </p:sp>
      <p:sp>
        <p:nvSpPr>
          <p:cNvPr id="44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y Development</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41" name="Picture 2" descr=""/>
          <p:cNvPicPr/>
          <p:nvPr/>
        </p:nvPicPr>
        <p:blipFill>
          <a:blip r:embed="rId1"/>
          <a:stretch/>
        </p:blipFill>
        <p:spPr>
          <a:xfrm>
            <a:off x="4572000" y="2590920"/>
            <a:ext cx="4132440" cy="3628800"/>
          </a:xfrm>
          <a:prstGeom prst="rect">
            <a:avLst/>
          </a:prstGeom>
          <a:ln w="0">
            <a:noFill/>
          </a:ln>
        </p:spPr>
      </p:pic>
      <p:sp>
        <p:nvSpPr>
          <p:cNvPr id="4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ging New-Product Development</a:t>
            </a:r>
            <a:endParaRPr b="1" lang="en-US" sz="3200" spc="-1" strike="noStrike">
              <a:solidFill>
                <a:srgbClr val="ffffff"/>
              </a:solidFill>
              <a:latin typeface="Arial"/>
            </a:endParaRPr>
          </a:p>
        </p:txBody>
      </p:sp>
      <p:sp>
        <p:nvSpPr>
          <p:cNvPr id="444" name=""/>
          <p:cNvSpPr txBox="1"/>
          <p:nvPr/>
        </p:nvSpPr>
        <p:spPr>
          <a:xfrm>
            <a:off x="990720" y="1219320"/>
            <a:ext cx="6781680" cy="487656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ccessful new-product development should be:</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stomer centered</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am-based</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atic</a:t>
            </a:r>
            <a:endParaRPr b="0" lang="en-US" sz="3200" spc="-1" strike="noStrike">
              <a:solidFill>
                <a:srgbClr val="ffffff"/>
              </a:solidFill>
              <a:latin typeface="Calibri"/>
            </a:endParaRPr>
          </a:p>
        </p:txBody>
      </p:sp>
      <p:sp>
        <p:nvSpPr>
          <p:cNvPr id="44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ew-Product Development and Product Life-Cycle Strategies</a:t>
            </a:r>
            <a:endParaRPr b="1" lang="en-US" sz="3600" spc="-1" strike="noStrike">
              <a:solidFill>
                <a:srgbClr val="ffffff"/>
              </a:solidFill>
              <a:latin typeface="Arial"/>
            </a:endParaRPr>
          </a:p>
        </p:txBody>
      </p:sp>
      <p:sp>
        <p:nvSpPr>
          <p:cNvPr id="367" name=""/>
          <p:cNvSpPr txBox="1"/>
          <p:nvPr/>
        </p:nvSpPr>
        <p:spPr>
          <a:xfrm>
            <a:off x="1371600" y="2133360"/>
            <a:ext cx="6477120" cy="3429000"/>
          </a:xfrm>
          <a:prstGeom prst="rect">
            <a:avLst/>
          </a:prstGeom>
          <a:noFill/>
          <a:ln w="0">
            <a:noFill/>
          </a:ln>
        </p:spPr>
        <p:txBody>
          <a:bodyPr anchor="t">
            <a:normAutofit/>
          </a:bodyPr>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New-Product Development Strategy</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New-Product Development Proces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anaging New-Product Development</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roduct Life-Cycle Strategie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Additional Product and Service Considerations</a:t>
            </a:r>
            <a:endParaRPr b="0" lang="en-US" sz="2600" spc="-1" strike="noStrike">
              <a:solidFill>
                <a:srgbClr val="ffffff"/>
              </a:solidFill>
              <a:latin typeface="Calibri"/>
            </a:endParaRPr>
          </a:p>
        </p:txBody>
      </p:sp>
      <p:sp>
        <p:nvSpPr>
          <p:cNvPr id="36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36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ging New-Product Development</a:t>
            </a:r>
            <a:endParaRPr b="1" lang="en-US" sz="3200" spc="-1" strike="noStrike">
              <a:solidFill>
                <a:srgbClr val="ffffff"/>
              </a:solidFill>
              <a:latin typeface="Arial"/>
            </a:endParaRPr>
          </a:p>
        </p:txBody>
      </p:sp>
      <p:sp>
        <p:nvSpPr>
          <p:cNvPr id="447" name=""/>
          <p:cNvSpPr txBox="1"/>
          <p:nvPr/>
        </p:nvSpPr>
        <p:spPr>
          <a:xfrm>
            <a:off x="228240" y="2438280"/>
            <a:ext cx="4343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stomer-centered new product development</a:t>
            </a:r>
            <a:r>
              <a:rPr b="0" lang="en-US" sz="2800" spc="-1" strike="noStrike">
                <a:solidFill>
                  <a:srgbClr val="ffffff"/>
                </a:solidFill>
                <a:latin typeface="Calibri"/>
              </a:rPr>
              <a:t> new ways to solve customer problems and create more customer satisfying experiences</a:t>
            </a:r>
            <a:endParaRPr b="0" lang="en-US" sz="2800" spc="-1" strike="noStrike">
              <a:solidFill>
                <a:srgbClr val="ffffff"/>
              </a:solidFill>
              <a:latin typeface="Calibri"/>
            </a:endParaRPr>
          </a:p>
        </p:txBody>
      </p:sp>
      <p:sp>
        <p:nvSpPr>
          <p:cNvPr id="44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New-Product Development Strategies</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49" name="Picture 7" descr="ph09_11"/>
          <p:cNvPicPr/>
          <p:nvPr/>
        </p:nvPicPr>
        <p:blipFill>
          <a:blip r:embed="rId1"/>
          <a:stretch/>
        </p:blipFill>
        <p:spPr>
          <a:xfrm>
            <a:off x="4724280" y="2590920"/>
            <a:ext cx="3733920" cy="2487600"/>
          </a:xfrm>
          <a:prstGeom prst="rect">
            <a:avLst/>
          </a:prstGeom>
          <a:ln w="0">
            <a:noFill/>
          </a:ln>
        </p:spPr>
      </p:pic>
      <p:sp>
        <p:nvSpPr>
          <p:cNvPr id="45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ging New-Product Development</a:t>
            </a:r>
            <a:endParaRPr b="1" lang="en-US" sz="3200" spc="-1" strike="noStrike">
              <a:solidFill>
                <a:srgbClr val="ffffff"/>
              </a:solidFill>
              <a:latin typeface="Arial"/>
            </a:endParaRPr>
          </a:p>
        </p:txBody>
      </p:sp>
      <p:sp>
        <p:nvSpPr>
          <p:cNvPr id="452" name=""/>
          <p:cNvSpPr txBox="1"/>
          <p:nvPr/>
        </p:nvSpPr>
        <p:spPr>
          <a:xfrm>
            <a:off x="1294920" y="1981080"/>
            <a:ext cx="7162920" cy="4114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eam-based new-product development</a:t>
            </a:r>
            <a:r>
              <a:rPr b="0" lang="en-US" sz="3200" spc="-1" strike="noStrike">
                <a:solidFill>
                  <a:srgbClr val="ffffff"/>
                </a:solidFill>
                <a:latin typeface="Calibri"/>
              </a:rPr>
              <a:t>   Company departments work closely together in cross-functional teams, overlapping in the product-development process to save time and increase effectiveness</a:t>
            </a:r>
            <a:endParaRPr b="0" lang="en-US" sz="3200" spc="-1" strike="noStrike">
              <a:solidFill>
                <a:srgbClr val="ffffff"/>
              </a:solidFill>
              <a:latin typeface="Calibri"/>
            </a:endParaRPr>
          </a:p>
        </p:txBody>
      </p:sp>
      <p:sp>
        <p:nvSpPr>
          <p:cNvPr id="453" name="PlaceHolder 2"/>
          <p:cNvSpPr>
            <a:spLocks noGrp="1"/>
          </p:cNvSpPr>
          <p:nvPr>
            <p:ph/>
          </p:nvPr>
        </p:nvSpPr>
        <p:spPr>
          <a:xfrm>
            <a:off x="1219320" y="1371600"/>
            <a:ext cx="716256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New-Product Development Strategies</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ging New-Product Development</a:t>
            </a:r>
            <a:endParaRPr b="1" lang="en-US" sz="3200" spc="-1" strike="noStrike">
              <a:solidFill>
                <a:srgbClr val="ffffff"/>
              </a:solidFill>
              <a:latin typeface="Arial"/>
            </a:endParaRPr>
          </a:p>
        </p:txBody>
      </p:sp>
      <p:sp>
        <p:nvSpPr>
          <p:cNvPr id="456" name=""/>
          <p:cNvSpPr txBox="1"/>
          <p:nvPr/>
        </p:nvSpPr>
        <p:spPr>
          <a:xfrm>
            <a:off x="914040" y="2133360"/>
            <a:ext cx="7086600" cy="2514600"/>
          </a:xfrm>
          <a:prstGeom prst="rect">
            <a:avLst/>
          </a:prstGeom>
          <a:noFill/>
          <a:ln w="0">
            <a:noFill/>
          </a:ln>
        </p:spPr>
        <p:txBody>
          <a:bodyPr anchor="t">
            <a:normAutofit fontScale="86000"/>
          </a:bodyPr>
          <a:p>
            <a:pPr marL="458640" indent="-458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ystematic new-product development</a:t>
            </a:r>
            <a:r>
              <a:rPr b="0" lang="en-US" sz="2800" spc="-1" strike="noStrike">
                <a:solidFill>
                  <a:srgbClr val="ffffff"/>
                </a:solidFill>
                <a:latin typeface="Calibri"/>
              </a:rPr>
              <a:t> </a:t>
            </a:r>
            <a:endParaRPr b="0" lang="en-US" sz="2800" spc="-1" strike="noStrike">
              <a:solidFill>
                <a:srgbClr val="ffffff"/>
              </a:solidFill>
              <a:latin typeface="Calibri"/>
            </a:endParaRPr>
          </a:p>
          <a:p>
            <a:pPr marL="458640" indent="-458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nnovative development approach that collects, reviews, evaluates, and manages new-product ideas</a:t>
            </a:r>
            <a:endParaRPr b="0" lang="en-US" sz="2800" spc="-1" strike="noStrike">
              <a:solidFill>
                <a:srgbClr val="ffffff"/>
              </a:solidFill>
              <a:latin typeface="Calibri"/>
            </a:endParaRPr>
          </a:p>
          <a:p>
            <a:pPr marL="458640" indent="-4586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reates an innovation-oriented culture</a:t>
            </a:r>
            <a:endParaRPr b="0" lang="en-US" sz="2800" spc="-1" strike="noStrike">
              <a:solidFill>
                <a:srgbClr val="ffffff"/>
              </a:solidFill>
              <a:latin typeface="Calibri"/>
            </a:endParaRPr>
          </a:p>
          <a:p>
            <a:pPr marL="458640" indent="-4586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Yields a large number of new-product ideas</a:t>
            </a:r>
            <a:endParaRPr b="0" lang="en-US" sz="2800" spc="-1" strike="noStrike">
              <a:solidFill>
                <a:srgbClr val="ffffff"/>
              </a:solidFill>
              <a:latin typeface="Calibri"/>
            </a:endParaRPr>
          </a:p>
        </p:txBody>
      </p:sp>
      <p:sp>
        <p:nvSpPr>
          <p:cNvPr id="45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New-Product Development Strategies</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60" name="PlaceHolder 2"/>
          <p:cNvSpPr>
            <a:spLocks noGrp="1"/>
          </p:cNvSpPr>
          <p:nvPr>
            <p:ph/>
          </p:nvPr>
        </p:nvSpPr>
        <p:spPr>
          <a:xfrm>
            <a:off x="11426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Life Cycle</a:t>
            </a:r>
            <a:endParaRPr b="0" lang="en-US" sz="2800" spc="-1" strike="noStrike">
              <a:solidFill>
                <a:srgbClr val="ffffff"/>
              </a:solidFill>
              <a:latin typeface="Calibri"/>
            </a:endParaRPr>
          </a:p>
        </p:txBody>
      </p:sp>
      <p:pic>
        <p:nvPicPr>
          <p:cNvPr id="461" name="Picture 6" descr="fig09_02wo"/>
          <p:cNvPicPr/>
          <p:nvPr/>
        </p:nvPicPr>
        <p:blipFill>
          <a:blip r:embed="rId1"/>
          <a:stretch/>
        </p:blipFill>
        <p:spPr>
          <a:xfrm>
            <a:off x="1676520" y="2057400"/>
            <a:ext cx="6324480" cy="3530520"/>
          </a:xfrm>
          <a:prstGeom prst="rect">
            <a:avLst/>
          </a:prstGeom>
          <a:ln w="0">
            <a:noFill/>
          </a:ln>
        </p:spPr>
      </p:pic>
      <p:sp>
        <p:nvSpPr>
          <p:cNvPr id="46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3" name=""/>
          <p:cNvSpPr txBox="1"/>
          <p:nvPr/>
        </p:nvSpPr>
        <p:spPr>
          <a:xfrm>
            <a:off x="1295280" y="1143000"/>
            <a:ext cx="7467840" cy="5562720"/>
          </a:xfrm>
          <a:prstGeom prst="rect">
            <a:avLst/>
          </a:prstGeom>
          <a:noFill/>
          <a:ln w="0">
            <a:noFill/>
          </a:ln>
        </p:spPr>
        <p:txBody>
          <a:bodyPr anchor="t">
            <a:normAutofit/>
          </a:bodyPr>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duct development </a:t>
            </a:r>
            <a:endParaRPr b="0" lang="en-US" sz="2800" spc="-1" strike="noStrike">
              <a:solidFill>
                <a:srgbClr val="ffffff"/>
              </a:solidFill>
              <a:latin typeface="Calibri"/>
            </a:endParaRPr>
          </a:p>
          <a:p>
            <a:pPr lvl="1" marL="743040" indent="-28584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ales are zero and investment costs mount</a:t>
            </a:r>
            <a:endParaRPr b="0" lang="en-US" sz="26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roduction </a:t>
            </a:r>
            <a:endParaRPr b="0" lang="en-US" sz="28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low sales growth and profits are nonexistent</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rowth</a:t>
            </a:r>
            <a:endParaRPr b="0" lang="en-US" sz="2800" spc="-1" strike="noStrike">
              <a:solidFill>
                <a:srgbClr val="ffffff"/>
              </a:solidFill>
              <a:latin typeface="Calibri"/>
            </a:endParaRPr>
          </a:p>
          <a:p>
            <a:pPr lvl="1" marL="743040" indent="-28584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apid market acceptance and increasing profits</a:t>
            </a:r>
            <a:endParaRPr b="0" lang="en-US" sz="26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turity </a:t>
            </a:r>
            <a:endParaRPr b="0" lang="en-US" sz="2800" spc="-1" strike="noStrike">
              <a:solidFill>
                <a:srgbClr val="ffffff"/>
              </a:solidFill>
              <a:latin typeface="Calibri"/>
            </a:endParaRPr>
          </a:p>
          <a:p>
            <a:pPr lvl="1" marL="743040" indent="-28584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lowdown in sales growth and profits level off or decline</a:t>
            </a:r>
            <a:endParaRPr b="0" lang="en-US" sz="26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cline</a:t>
            </a:r>
            <a:endParaRPr b="0" lang="en-US" sz="2800" spc="-1" strike="noStrike">
              <a:solidFill>
                <a:srgbClr val="ffffff"/>
              </a:solidFill>
              <a:latin typeface="Calibri"/>
            </a:endParaRPr>
          </a:p>
          <a:p>
            <a:pPr lvl="1" marL="743040" indent="-28584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ales fall off and profits drop</a:t>
            </a:r>
            <a:endParaRPr b="0" lang="en-US" sz="2600" spc="-1" strike="noStrike">
              <a:solidFill>
                <a:srgbClr val="ffffff"/>
              </a:solidFill>
              <a:latin typeface="Calibri"/>
            </a:endParaRPr>
          </a:p>
        </p:txBody>
      </p:sp>
      <p:sp>
        <p:nvSpPr>
          <p:cNvPr id="4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6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Life-Cycle Strategies</a:t>
            </a:r>
            <a:endParaRPr b="1" lang="en-US" sz="3200" spc="-1" strike="noStrike">
              <a:solidFill>
                <a:srgbClr val="ffffff"/>
              </a:solidFill>
              <a:latin typeface="Arial"/>
            </a:endParaRPr>
          </a:p>
        </p:txBody>
      </p:sp>
      <p:pic>
        <p:nvPicPr>
          <p:cNvPr id="467" name="Picture 5" descr="fig09_03wo"/>
          <p:cNvPicPr/>
          <p:nvPr/>
        </p:nvPicPr>
        <p:blipFill>
          <a:blip r:embed="rId1"/>
          <a:stretch/>
        </p:blipFill>
        <p:spPr>
          <a:xfrm>
            <a:off x="228600" y="2362320"/>
            <a:ext cx="8153280" cy="2425680"/>
          </a:xfrm>
          <a:prstGeom prst="rect">
            <a:avLst/>
          </a:prstGeom>
          <a:ln w="0">
            <a:noFill/>
          </a:ln>
        </p:spPr>
      </p:pic>
      <p:sp>
        <p:nvSpPr>
          <p:cNvPr id="4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7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low sales growt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ittle or no profi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 distribution and promotion expens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roduction Stage</a:t>
            </a:r>
            <a:endParaRPr b="0" lang="en-US" sz="2800" spc="-1" strike="noStrike">
              <a:solidFill>
                <a:srgbClr val="ffffff"/>
              </a:solidFill>
              <a:latin typeface="Calibri"/>
            </a:endParaRPr>
          </a:p>
        </p:txBody>
      </p:sp>
      <p:sp>
        <p:nvSpPr>
          <p:cNvPr id="4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74" name=""/>
          <p:cNvSpPr txBox="1"/>
          <p:nvPr/>
        </p:nvSpPr>
        <p:spPr>
          <a:xfrm>
            <a:off x="1295280" y="2057400"/>
            <a:ext cx="7467840" cy="4114800"/>
          </a:xfrm>
          <a:prstGeom prst="rect">
            <a:avLst/>
          </a:prstGeom>
          <a:noFill/>
          <a:ln w="0">
            <a:noFill/>
          </a:ln>
        </p:spPr>
        <p:txBody>
          <a:bodyPr anchor="t">
            <a:normAutofit fontScale="95000"/>
          </a:bodyPr>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ales increase</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w competitors enter the market</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ice stability or decline to increase volume</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sumer education </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fits increase</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otion and manufacturing costs gain economies of scale</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Growth Stage</a:t>
            </a:r>
            <a:endParaRPr b="0" lang="en-US" sz="2800" spc="-1" strike="noStrike">
              <a:solidFill>
                <a:srgbClr val="ffffff"/>
              </a:solidFill>
              <a:latin typeface="Calibri"/>
            </a:endParaRPr>
          </a:p>
        </p:txBody>
      </p:sp>
      <p:sp>
        <p:nvSpPr>
          <p:cNvPr id="47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78" name=""/>
          <p:cNvSpPr txBox="1"/>
          <p:nvPr/>
        </p:nvSpPr>
        <p:spPr>
          <a:xfrm>
            <a:off x="1066680" y="1981080"/>
            <a:ext cx="701064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lowdown in sal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supplier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bstitute product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vercapacity leads to compet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creased promotion and R&amp;D to support sales and profit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turity Stage</a:t>
            </a:r>
            <a:endParaRPr b="0" lang="en-US" sz="2800" spc="-1" strike="noStrike">
              <a:solidFill>
                <a:srgbClr val="ffffff"/>
              </a:solidFill>
              <a:latin typeface="Calibri"/>
            </a:endParaRPr>
          </a:p>
        </p:txBody>
      </p:sp>
      <p:sp>
        <p:nvSpPr>
          <p:cNvPr id="48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82" name=""/>
          <p:cNvSpPr txBox="1"/>
          <p:nvPr/>
        </p:nvSpPr>
        <p:spPr>
          <a:xfrm>
            <a:off x="685440" y="2209680"/>
            <a:ext cx="3505320" cy="36576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modify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modify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ing mix modify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turity Stage Modifying Strategies</a:t>
            </a:r>
            <a:endParaRPr b="0" lang="en-US" sz="2800" spc="-1" strike="noStrike">
              <a:solidFill>
                <a:srgbClr val="ffffff"/>
              </a:solidFill>
              <a:latin typeface="Calibri"/>
            </a:endParaRPr>
          </a:p>
        </p:txBody>
      </p:sp>
      <p:pic>
        <p:nvPicPr>
          <p:cNvPr id="484" name="Picture 2" descr="http://upload.wikimedia.org/wikipedia/commons/thumb/f/fa/Globe.svg/600px-Globe.svg.png">
            <a:hlinkClick r:id="rId1"/>
          </p:cNvPr>
          <p:cNvPicPr/>
          <p:nvPr/>
        </p:nvPicPr>
        <p:blipFill>
          <a:blip r:embed="rId2"/>
          <a:stretch/>
        </p:blipFill>
        <p:spPr>
          <a:xfrm>
            <a:off x="7620120" y="5943600"/>
            <a:ext cx="484200" cy="484200"/>
          </a:xfrm>
          <a:prstGeom prst="rect">
            <a:avLst/>
          </a:prstGeom>
          <a:ln w="0">
            <a:noFill/>
          </a:ln>
        </p:spPr>
      </p:pic>
      <p:pic>
        <p:nvPicPr>
          <p:cNvPr id="485" name="Picture 8" descr="ph09_15"/>
          <p:cNvPicPr/>
          <p:nvPr/>
        </p:nvPicPr>
        <p:blipFill>
          <a:blip r:embed="rId3"/>
          <a:stretch/>
        </p:blipFill>
        <p:spPr>
          <a:xfrm>
            <a:off x="4267080" y="2209680"/>
            <a:ext cx="4191120" cy="3399120"/>
          </a:xfrm>
          <a:prstGeom prst="rect">
            <a:avLst/>
          </a:prstGeom>
          <a:ln w="0">
            <a:noFill/>
          </a:ln>
        </p:spPr>
      </p:pic>
      <p:sp>
        <p:nvSpPr>
          <p:cNvPr id="48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Strategy</a:t>
            </a:r>
            <a:endParaRPr b="1" lang="en-US" sz="3200" spc="-1" strike="noStrike">
              <a:solidFill>
                <a:srgbClr val="ffffff"/>
              </a:solidFill>
              <a:latin typeface="Arial"/>
            </a:endParaRPr>
          </a:p>
        </p:txBody>
      </p:sp>
      <p:sp>
        <p:nvSpPr>
          <p:cNvPr id="371" name=""/>
          <p:cNvSpPr txBox="1"/>
          <p:nvPr/>
        </p:nvSpPr>
        <p:spPr>
          <a:xfrm>
            <a:off x="1371240" y="1981080"/>
            <a:ext cx="70866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cquisition</a:t>
            </a:r>
            <a:r>
              <a:rPr b="0" lang="en-US" sz="2800" spc="-1" strike="noStrike">
                <a:solidFill>
                  <a:srgbClr val="ffffff"/>
                </a:solidFill>
                <a:latin typeface="Calibri"/>
              </a:rPr>
              <a:t> refers to the buying of a whole company, a patent, or a license to produce someone else’s product</a:t>
            </a:r>
            <a:endParaRPr b="0" lang="en-US" sz="2800" spc="-1" strike="noStrike">
              <a:solidFill>
                <a:srgbClr val="ffffff"/>
              </a:solidFill>
              <a:latin typeface="Calibri"/>
            </a:endParaRPr>
          </a:p>
          <a:p>
            <a:pPr marL="533520" indent="-533520">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w product development</a:t>
            </a:r>
            <a:r>
              <a:rPr b="0" lang="en-US" sz="2800" spc="-1" strike="noStrike">
                <a:solidFill>
                  <a:srgbClr val="ffffff"/>
                </a:solidFill>
                <a:latin typeface="Calibri"/>
              </a:rPr>
              <a:t> refers to original products, product improvements, product modifications, and new brands developed from the firm’s own research and development</a:t>
            </a:r>
            <a:endParaRPr b="0" lang="en-US" sz="2800" spc="-1" strike="noStrike">
              <a:solidFill>
                <a:srgbClr val="ffffff"/>
              </a:solidFill>
              <a:latin typeface="Calibri"/>
            </a:endParaRPr>
          </a:p>
        </p:txBody>
      </p:sp>
      <p:sp>
        <p:nvSpPr>
          <p:cNvPr id="372" name="PlaceHolder 2"/>
          <p:cNvSpPr>
            <a:spLocks noGrp="1"/>
          </p:cNvSpPr>
          <p:nvPr>
            <p:ph/>
          </p:nvPr>
        </p:nvSpPr>
        <p:spPr>
          <a:xfrm>
            <a:off x="914040" y="1447920"/>
            <a:ext cx="7162920" cy="38088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Two ways to obtain new products</a:t>
            </a:r>
            <a:endParaRPr b="0" lang="en-US" sz="2400" spc="-1" strike="noStrike">
              <a:solidFill>
                <a:srgbClr val="ffffff"/>
              </a:solidFill>
              <a:latin typeface="Calibri"/>
            </a:endParaRPr>
          </a:p>
        </p:txBody>
      </p:sp>
      <p:sp>
        <p:nvSpPr>
          <p:cNvPr id="37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88" name=""/>
          <p:cNvSpPr txBox="1"/>
          <p:nvPr/>
        </p:nvSpPr>
        <p:spPr>
          <a:xfrm>
            <a:off x="2362320" y="1981080"/>
            <a:ext cx="441936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intain the produc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rvest the produc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op the produc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2"/>
          <p:cNvSpPr>
            <a:spLocks noGrp="1"/>
          </p:cNvSpPr>
          <p:nvPr>
            <p:ph/>
          </p:nvPr>
        </p:nvSpPr>
        <p:spPr>
          <a:xfrm>
            <a:off x="0" y="144792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Decline Stag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Product and Service Considerations</a:t>
            </a:r>
            <a:endParaRPr b="1" lang="en-US" sz="3200" spc="-1" strike="noStrike">
              <a:solidFill>
                <a:srgbClr val="ffffff"/>
              </a:solidFill>
              <a:latin typeface="Arial"/>
            </a:endParaRPr>
          </a:p>
        </p:txBody>
      </p:sp>
      <p:sp>
        <p:nvSpPr>
          <p:cNvPr id="492" name=""/>
          <p:cNvSpPr txBox="1"/>
          <p:nvPr/>
        </p:nvSpPr>
        <p:spPr>
          <a:xfrm>
            <a:off x="914400" y="1981080"/>
            <a:ext cx="7315200" cy="4114800"/>
          </a:xfrm>
          <a:prstGeom prst="rect">
            <a:avLst/>
          </a:prstGeom>
          <a:noFill/>
          <a:ln w="0">
            <a:noFill/>
          </a:ln>
        </p:spPr>
        <p:txBody>
          <a:bodyPr anchor="t">
            <a:norm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ublic policy and regulations regarding developing and dropping products, patents, quality, and safety</a:t>
            </a:r>
            <a:endParaRPr b="0" lang="en-US" sz="3200" spc="-1" strike="noStrike">
              <a:solidFill>
                <a:srgbClr val="ffffff"/>
              </a:solidFill>
              <a:latin typeface="Calibri"/>
            </a:endParaRPr>
          </a:p>
        </p:txBody>
      </p:sp>
      <p:sp>
        <p:nvSpPr>
          <p:cNvPr id="493" name="PlaceHolder 2"/>
          <p:cNvSpPr>
            <a:spLocks noGrp="1"/>
          </p:cNvSpPr>
          <p:nvPr>
            <p:ph/>
          </p:nvPr>
        </p:nvSpPr>
        <p:spPr>
          <a:xfrm>
            <a:off x="1066320" y="1447920"/>
            <a:ext cx="7162920" cy="380880"/>
          </a:xfrm>
          <a:prstGeom prst="rect">
            <a:avLst/>
          </a:prstGeom>
          <a:noFill/>
          <a:ln w="0">
            <a:noFill/>
          </a:ln>
        </p:spPr>
        <p:txBody>
          <a:bodyPr anchor="t">
            <a:normAutofit fontScale="67000"/>
          </a:bodyPr>
          <a:p>
            <a:pPr marL="229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Product Decisions and Social Responsibility</a:t>
            </a:r>
            <a:endParaRPr b="0" lang="en-US" sz="2800" spc="-1" strike="noStrike">
              <a:solidFill>
                <a:srgbClr val="ffffff"/>
              </a:solidFill>
              <a:latin typeface="Calibri"/>
            </a:endParaRPr>
          </a:p>
          <a:p>
            <a:pPr marL="229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dditional Product and Service Considerations</a:t>
            </a:r>
            <a:endParaRPr b="1" lang="en-US" sz="3600" spc="-1" strike="noStrike">
              <a:solidFill>
                <a:srgbClr val="ffffff"/>
              </a:solidFill>
              <a:latin typeface="Arial"/>
            </a:endParaRPr>
          </a:p>
        </p:txBody>
      </p:sp>
      <p:sp>
        <p:nvSpPr>
          <p:cNvPr id="496" name=""/>
          <p:cNvSpPr txBox="1"/>
          <p:nvPr/>
        </p:nvSpPr>
        <p:spPr>
          <a:xfrm>
            <a:off x="1218960" y="2362320"/>
            <a:ext cx="4724280" cy="4114800"/>
          </a:xfrm>
          <a:prstGeom prst="rect">
            <a:avLst/>
          </a:prstGeom>
          <a:noFill/>
          <a:ln w="0">
            <a:noFill/>
          </a:ln>
        </p:spPr>
        <p:txBody>
          <a:bodyPr anchor="t">
            <a:normAutofit/>
          </a:bodyPr>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termining what products and services to introduce in which countrie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ndardization versus customization</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ckaging and labeling </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ustoms, values, law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7" name="PlaceHolder 2"/>
          <p:cNvSpPr>
            <a:spLocks noGrp="1"/>
          </p:cNvSpPr>
          <p:nvPr>
            <p:ph/>
          </p:nvPr>
        </p:nvSpPr>
        <p:spPr>
          <a:xfrm>
            <a:off x="914040" y="1294920"/>
            <a:ext cx="7162920" cy="381240"/>
          </a:xfrm>
          <a:prstGeom prst="rect">
            <a:avLst/>
          </a:prstGeom>
          <a:noFill/>
          <a:ln w="0">
            <a:noFill/>
          </a:ln>
        </p:spPr>
        <p:txBody>
          <a:bodyPr anchor="t">
            <a:normAutofit fontScale="44000"/>
          </a:bodyPr>
          <a:p>
            <a:pPr marL="1508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International Product and </a:t>
            </a:r>
            <a:endParaRPr b="0" lang="en-US" sz="2400" spc="-1" strike="noStrike">
              <a:solidFill>
                <a:srgbClr val="ffffff"/>
              </a:solidFill>
              <a:latin typeface="Calibri"/>
            </a:endParaRPr>
          </a:p>
          <a:p>
            <a:pPr marL="1508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Service Marketing—Challenges</a:t>
            </a:r>
            <a:endParaRPr b="0" lang="en-US" sz="2400" spc="-1" strike="noStrike">
              <a:solidFill>
                <a:srgbClr val="ffffff"/>
              </a:solidFill>
              <a:latin typeface="Calibri"/>
            </a:endParaRPr>
          </a:p>
          <a:p>
            <a:pPr marL="1508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498" name="Picture 7" descr="ph09_16"/>
          <p:cNvPicPr/>
          <p:nvPr/>
        </p:nvPicPr>
        <p:blipFill>
          <a:blip r:embed="rId1"/>
          <a:stretch/>
        </p:blipFill>
        <p:spPr>
          <a:xfrm>
            <a:off x="5334120" y="3429000"/>
            <a:ext cx="3236760" cy="2286000"/>
          </a:xfrm>
          <a:prstGeom prst="rect">
            <a:avLst/>
          </a:prstGeom>
          <a:ln w="0">
            <a:noFill/>
          </a:ln>
        </p:spPr>
      </p:pic>
      <p:sp>
        <p:nvSpPr>
          <p:cNvPr id="49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75" name="PlaceHolder 2"/>
          <p:cNvSpPr>
            <a:spLocks noGrp="1"/>
          </p:cNvSpPr>
          <p:nvPr>
            <p:ph/>
          </p:nvPr>
        </p:nvSpPr>
        <p:spPr>
          <a:xfrm>
            <a:off x="837720" y="1752120"/>
            <a:ext cx="7162920" cy="381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6" name="Text Box 6"/>
          <p:cNvSpPr/>
          <p:nvPr/>
        </p:nvSpPr>
        <p:spPr>
          <a:xfrm>
            <a:off x="1371600" y="1600200"/>
            <a:ext cx="63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Major Stages in New-Product Development</a:t>
            </a:r>
            <a:endParaRPr b="0" lang="en-US" sz="2400" spc="-1" strike="noStrike">
              <a:solidFill>
                <a:srgbClr val="ffffff"/>
              </a:solidFill>
              <a:latin typeface="Arial"/>
            </a:endParaRPr>
          </a:p>
        </p:txBody>
      </p:sp>
      <p:pic>
        <p:nvPicPr>
          <p:cNvPr id="377" name="Picture 7" descr="fig09_01wo"/>
          <p:cNvPicPr/>
          <p:nvPr/>
        </p:nvPicPr>
        <p:blipFill>
          <a:blip r:embed="rId1"/>
          <a:stretch/>
        </p:blipFill>
        <p:spPr>
          <a:xfrm>
            <a:off x="380880" y="2743200"/>
            <a:ext cx="8305920" cy="2211480"/>
          </a:xfrm>
          <a:prstGeom prst="rect">
            <a:avLst/>
          </a:prstGeom>
          <a:ln w="0">
            <a:noFill/>
          </a:ln>
        </p:spPr>
      </p:pic>
      <p:sp>
        <p:nvSpPr>
          <p:cNvPr id="37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80"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dea generation</a:t>
            </a:r>
            <a:r>
              <a:rPr b="0" lang="en-US" sz="3200" spc="-1" strike="noStrike">
                <a:solidFill>
                  <a:srgbClr val="ffffff"/>
                </a:solidFill>
                <a:latin typeface="Calibri"/>
              </a:rPr>
              <a:t> is the systematic search for new-product ideas</a:t>
            </a:r>
            <a:endParaRPr b="0" lang="en-US" sz="3200" spc="-1" strike="noStrike">
              <a:solidFill>
                <a:srgbClr val="ffffff"/>
              </a:solidFill>
              <a:latin typeface="Calibri"/>
            </a:endParaRPr>
          </a:p>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urces of new-product ideas</a:t>
            </a:r>
            <a:endParaRPr b="0" lang="en-US" sz="3200" spc="-1" strike="noStrike">
              <a:solidFill>
                <a:srgbClr val="ffffff"/>
              </a:solidFill>
              <a:latin typeface="Calibri"/>
            </a:endParaRPr>
          </a:p>
          <a:p>
            <a:pPr marL="533520" indent="-53352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nal </a:t>
            </a:r>
            <a:endParaRPr b="0" lang="en-US" sz="3200" spc="-1" strike="noStrike">
              <a:solidFill>
                <a:srgbClr val="ffffff"/>
              </a:solidFill>
              <a:latin typeface="Calibri"/>
            </a:endParaRPr>
          </a:p>
          <a:p>
            <a:pPr marL="533520" indent="-53352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ternal</a:t>
            </a:r>
            <a:endParaRPr b="0" lang="en-US" sz="3200" spc="-1" strike="noStrike">
              <a:solidFill>
                <a:srgbClr val="ffffff"/>
              </a:solidFill>
              <a:latin typeface="Calibri"/>
            </a:endParaRPr>
          </a:p>
        </p:txBody>
      </p:sp>
      <p:sp>
        <p:nvSpPr>
          <p:cNvPr id="381" name="PlaceHolder 2"/>
          <p:cNvSpPr>
            <a:spLocks noGrp="1"/>
          </p:cNvSpPr>
          <p:nvPr>
            <p:ph/>
          </p:nvPr>
        </p:nvSpPr>
        <p:spPr>
          <a:xfrm>
            <a:off x="914040" y="1295280"/>
            <a:ext cx="7162920" cy="533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dea Generation</a:t>
            </a:r>
            <a:endParaRPr b="0" lang="en-US" sz="2800" spc="-1" strike="noStrike">
              <a:solidFill>
                <a:srgbClr val="ffffff"/>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82" name="Picture 7" descr="ph09_04"/>
          <p:cNvPicPr/>
          <p:nvPr/>
        </p:nvPicPr>
        <p:blipFill>
          <a:blip r:embed="rId1"/>
          <a:stretch/>
        </p:blipFill>
        <p:spPr>
          <a:xfrm>
            <a:off x="4191120" y="3657600"/>
            <a:ext cx="3809880" cy="2538360"/>
          </a:xfrm>
          <a:prstGeom prst="rect">
            <a:avLst/>
          </a:prstGeom>
          <a:ln w="0">
            <a:noFill/>
          </a:ln>
        </p:spPr>
      </p:pic>
      <p:sp>
        <p:nvSpPr>
          <p:cNvPr id="38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85" name=""/>
          <p:cNvSpPr txBox="1"/>
          <p:nvPr/>
        </p:nvSpPr>
        <p:spPr>
          <a:xfrm>
            <a:off x="533160" y="1828800"/>
            <a:ext cx="5715000" cy="45720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rnal sources</a:t>
            </a:r>
            <a:r>
              <a:rPr b="0" lang="en-US" sz="2800" spc="-1" strike="noStrike">
                <a:solidFill>
                  <a:srgbClr val="ffffff"/>
                </a:solidFill>
                <a:latin typeface="Calibri"/>
              </a:rPr>
              <a:t> refer to the company’s own formal research and development, management and staff, and intrapreneurial program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ternal sources</a:t>
            </a:r>
            <a:r>
              <a:rPr b="0" lang="en-US" sz="2800" spc="-1" strike="noStrike">
                <a:solidFill>
                  <a:srgbClr val="ffffff"/>
                </a:solidFill>
                <a:latin typeface="Calibri"/>
              </a:rPr>
              <a:t> refer to sources outside the company such as customers, competitors, distributors, suppliers, and outside design firms</a:t>
            </a:r>
            <a:endParaRPr b="0" lang="en-US" sz="2800" spc="-1" strike="noStrike">
              <a:solidFill>
                <a:srgbClr val="ffffff"/>
              </a:solidFill>
              <a:latin typeface="Calibri"/>
            </a:endParaRPr>
          </a:p>
        </p:txBody>
      </p:sp>
      <p:sp>
        <p:nvSpPr>
          <p:cNvPr id="386" name="PlaceHolder 2"/>
          <p:cNvSpPr>
            <a:spLocks noGrp="1"/>
          </p:cNvSpPr>
          <p:nvPr>
            <p:ph/>
          </p:nvPr>
        </p:nvSpPr>
        <p:spPr>
          <a:xfrm>
            <a:off x="762120" y="1218960"/>
            <a:ext cx="5029200" cy="6094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Idea Generation</a:t>
            </a:r>
            <a:endParaRPr b="0" lang="en-US" sz="3200" spc="-1" strike="noStrike">
              <a:solidFill>
                <a:srgbClr val="ffffff"/>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387" name="Picture 7" descr="ph09_05"/>
          <p:cNvPicPr/>
          <p:nvPr/>
        </p:nvPicPr>
        <p:blipFill>
          <a:blip r:embed="rId1"/>
          <a:stretch/>
        </p:blipFill>
        <p:spPr>
          <a:xfrm>
            <a:off x="5865840" y="3581280"/>
            <a:ext cx="3278160" cy="2181240"/>
          </a:xfrm>
          <a:prstGeom prst="rect">
            <a:avLst/>
          </a:prstGeom>
          <a:ln w="0">
            <a:noFill/>
          </a:ln>
        </p:spPr>
      </p:pic>
      <p:sp>
        <p:nvSpPr>
          <p:cNvPr id="38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90" name=""/>
          <p:cNvSpPr txBox="1"/>
          <p:nvPr/>
        </p:nvSpPr>
        <p:spPr>
          <a:xfrm>
            <a:off x="99072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viting broad communities of peopl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stomers, employees, independen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ientists and researchers, and even th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ublic at large—into the new-produc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novation process.</a:t>
            </a:r>
            <a:endParaRPr b="0" lang="en-US" sz="3200" spc="-1" strike="noStrike">
              <a:solidFill>
                <a:srgbClr val="ffffff"/>
              </a:solidFill>
              <a:latin typeface="Calibri"/>
            </a:endParaRPr>
          </a:p>
        </p:txBody>
      </p:sp>
      <p:sp>
        <p:nvSpPr>
          <p:cNvPr id="391" name="PlaceHolder 2"/>
          <p:cNvSpPr>
            <a:spLocks noGrp="1"/>
          </p:cNvSpPr>
          <p:nvPr>
            <p:ph/>
          </p:nvPr>
        </p:nvSpPr>
        <p:spPr>
          <a:xfrm>
            <a:off x="0" y="1371600"/>
            <a:ext cx="9144000" cy="380880"/>
          </a:xfrm>
          <a:prstGeom prst="rect">
            <a:avLst/>
          </a:prstGeom>
          <a:noFill/>
          <a:ln w="0">
            <a:noFill/>
          </a:ln>
        </p:spPr>
        <p:txBody>
          <a:bodyPr anchor="t">
            <a:normAutofit fontScale="14000"/>
          </a:bodyPr>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rowdsourcing</a:t>
            </a: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	</a:t>
            </a:r>
            <a:endParaRPr b="0" lang="en-US" sz="2800" spc="-1" strike="noStrike">
              <a:solidFill>
                <a:srgbClr val="ffffff"/>
              </a:solidFill>
              <a:latin typeface="Calibri"/>
            </a:endParaRPr>
          </a:p>
        </p:txBody>
      </p:sp>
      <p:sp>
        <p:nvSpPr>
          <p:cNvPr id="39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94"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 good ideas and drop poor ideas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W-W Screening Framework:</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s it </a:t>
            </a:r>
            <a:r>
              <a:rPr b="1" lang="en-US" sz="3200" spc="-1" strike="noStrike">
                <a:solidFill>
                  <a:srgbClr val="ffffff"/>
                </a:solidFill>
                <a:latin typeface="Calibri"/>
              </a:rPr>
              <a:t>real</a:t>
            </a:r>
            <a:r>
              <a:rPr b="0" lang="en-US" sz="2800" spc="-1" strike="noStrike">
                <a:solidFill>
                  <a:srgbClr val="ffffff"/>
                </a:solidFill>
                <a:latin typeface="Calibri"/>
              </a:rPr>
              <a:t>?</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n we </a:t>
            </a:r>
            <a:r>
              <a:rPr b="1" lang="en-US" sz="3200" spc="-1" strike="noStrike">
                <a:solidFill>
                  <a:srgbClr val="ffffff"/>
                </a:solidFill>
                <a:latin typeface="Calibri"/>
              </a:rPr>
              <a:t>win</a:t>
            </a:r>
            <a:r>
              <a:rPr b="0" lang="en-US" sz="2800" spc="-1" strike="noStrike">
                <a:solidFill>
                  <a:srgbClr val="ffffff"/>
                </a:solidFill>
                <a:latin typeface="Calibri"/>
              </a:rPr>
              <a:t>?</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s it </a:t>
            </a:r>
            <a:r>
              <a:rPr b="1" lang="en-US" sz="3200" spc="-1" strike="noStrike">
                <a:solidFill>
                  <a:srgbClr val="ffffff"/>
                </a:solidFill>
                <a:latin typeface="Calibri"/>
              </a:rPr>
              <a:t>worth</a:t>
            </a:r>
            <a:r>
              <a:rPr b="0" lang="en-US" sz="2800" spc="-1" strike="noStrike">
                <a:solidFill>
                  <a:srgbClr val="ffffff"/>
                </a:solidFill>
                <a:latin typeface="Calibri"/>
              </a:rPr>
              <a:t> doing?</a:t>
            </a:r>
            <a:endParaRPr b="0" lang="en-US" sz="2800" spc="-1" strike="noStrike">
              <a:solidFill>
                <a:srgbClr val="ffffff"/>
              </a:solidFill>
              <a:latin typeface="Calibri"/>
            </a:endParaRPr>
          </a:p>
        </p:txBody>
      </p:sp>
      <p:sp>
        <p:nvSpPr>
          <p:cNvPr id="395" name="PlaceHolder 2"/>
          <p:cNvSpPr>
            <a:spLocks noGrp="1"/>
          </p:cNvSpPr>
          <p:nvPr>
            <p:ph/>
          </p:nvPr>
        </p:nvSpPr>
        <p:spPr>
          <a:xfrm>
            <a:off x="914040" y="1447920"/>
            <a:ext cx="7162920" cy="380880"/>
          </a:xfrm>
          <a:prstGeom prst="rect">
            <a:avLst/>
          </a:prstGeom>
          <a:noFill/>
          <a:ln w="0">
            <a:noFill/>
          </a:ln>
        </p:spPr>
        <p:txBody>
          <a:bodyPr anchor="t">
            <a:normAutofit fontScale="14000"/>
          </a:bodyPr>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a Screening</a:t>
            </a: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	</a:t>
            </a:r>
            <a:endParaRPr b="0" lang="en-US" sz="2800" spc="-1" strike="noStrike">
              <a:solidFill>
                <a:srgbClr val="ffffff"/>
              </a:solidFill>
              <a:latin typeface="Calibri"/>
            </a:endParaRPr>
          </a:p>
        </p:txBody>
      </p:sp>
      <p:sp>
        <p:nvSpPr>
          <p:cNvPr id="39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360"/>
            <a:ext cx="861048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98" name=""/>
          <p:cNvSpPr txBox="1"/>
          <p:nvPr/>
        </p:nvSpPr>
        <p:spPr>
          <a:xfrm>
            <a:off x="990720" y="1981080"/>
            <a:ext cx="7696080" cy="4114800"/>
          </a:xfrm>
          <a:prstGeom prst="rect">
            <a:avLst/>
          </a:prstGeom>
          <a:noFill/>
          <a:ln w="0">
            <a:noFill/>
          </a:ln>
        </p:spPr>
        <p:txBody>
          <a:bodyPr anchor="t">
            <a:norm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oduct idea</a:t>
            </a:r>
            <a:r>
              <a:rPr b="0" lang="en-US" sz="3200" spc="-1" strike="noStrike">
                <a:solidFill>
                  <a:srgbClr val="ffffff"/>
                </a:solidFill>
                <a:latin typeface="Calibri"/>
              </a:rPr>
              <a:t> is an idea for a possible product that the company can see itself offering to the market</a:t>
            </a:r>
            <a:endParaRPr b="0" lang="en-US" sz="3200" spc="-1" strike="noStrike">
              <a:solidFill>
                <a:srgbClr val="ffffff"/>
              </a:solidFill>
              <a:latin typeface="Calibri"/>
            </a:endParaRPr>
          </a:p>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oduct concept</a:t>
            </a:r>
            <a:r>
              <a:rPr b="0" lang="en-US" sz="3200" spc="-1" strike="noStrike">
                <a:solidFill>
                  <a:srgbClr val="ffffff"/>
                </a:solidFill>
                <a:latin typeface="Calibri"/>
              </a:rPr>
              <a:t> is a detailed version of the idea stated in meaningful consumer terms</a:t>
            </a:r>
            <a:endParaRPr b="0" lang="en-US" sz="3200" spc="-1" strike="noStrike">
              <a:solidFill>
                <a:srgbClr val="ffffff"/>
              </a:solidFill>
              <a:latin typeface="Calibri"/>
            </a:endParaRPr>
          </a:p>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oduct image</a:t>
            </a:r>
            <a:r>
              <a:rPr b="0" lang="en-US" sz="3200" spc="-1" strike="noStrike">
                <a:solidFill>
                  <a:srgbClr val="ffffff"/>
                </a:solidFill>
                <a:latin typeface="Calibri"/>
              </a:rPr>
              <a:t> is the way consumers perceive an actual or potential product</a:t>
            </a:r>
            <a:endParaRPr b="0" lang="en-US" sz="3200" spc="-1" strike="noStrike">
              <a:solidFill>
                <a:srgbClr val="ffffff"/>
              </a:solidFill>
              <a:latin typeface="Calibri"/>
            </a:endParaRPr>
          </a:p>
        </p:txBody>
      </p:sp>
      <p:sp>
        <p:nvSpPr>
          <p:cNvPr id="399" name="PlaceHolder 2"/>
          <p:cNvSpPr>
            <a:spLocks noGrp="1"/>
          </p:cNvSpPr>
          <p:nvPr>
            <p:ph/>
          </p:nvPr>
        </p:nvSpPr>
        <p:spPr>
          <a:xfrm>
            <a:off x="1371240" y="121896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ncept Development and Testing</a:t>
            </a:r>
            <a:endParaRPr b="0" lang="en-US" sz="2800" spc="-1" strike="noStrike">
              <a:solidFill>
                <a:srgbClr val="ffffff"/>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58:01Z</dcterms:created>
  <dc:creator>utter</dc:creator>
  <dc:description/>
  <dc:language>en-US</dc:language>
  <cp:lastModifiedBy>UKEIMAS</cp:lastModifiedBy>
  <dcterms:modified xsi:type="dcterms:W3CDTF">2013-12-27T20:35:23Z</dcterms:modified>
  <cp:revision>116</cp:revision>
  <dc:subject/>
  <dc:title>Slide 1</dc:title>
</cp:coreProperties>
</file>