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5D01-E066-48DB-96CF-3A8F02499105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20F4-E8C4-4F31-BEC3-E81A33440A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6953-920A-474F-A5B5-3487830CE60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E2A6-1077-423C-9BC6-BBE051F2A68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0B9-ED3F-4893-B8D3-9F713A13E94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9EF0-6B28-49BF-B531-21477F897BF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191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55DC-C024-4437-ADE2-A8E7F87E2FE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FBA-1072-40E1-AF3A-172806B2928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6C9-2A5B-4F3E-8E06-1FA6B8AD0F8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E324-3D30-44E9-A7DE-CF510E12B34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BD6F-EC67-4CD4-B9CC-A0C053E0992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5D77-45B8-4B32-A6D6-16A8AE96171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3922-B502-4DDA-9EAC-6551C0C85CD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C106-E9A3-40DF-BFBB-886DFB2F271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9B81-5327-49B2-A011-E99805C601C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03F6-71DF-49C0-8011-756E17A584E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-  </a:t>
            </a:r>
            <a:fld id="{8ED697B3-BEA1-4C14-BF1A-616F5E2C10F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6248520" y="6477120"/>
            <a:ext cx="19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- </a:t>
            </a:r>
            <a:fld id="{67C28539-2193-40B5-8620-D26A0622D21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76320" y="6400800"/>
            <a:ext cx="449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Copyright © 2012 Pearson Education, Inc.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6a6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0"/>
          </p:nvPr>
        </p:nvSpPr>
        <p:spPr>
          <a:xfrm>
            <a:off x="60958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-Product Development and Product Life-Cycle Strateg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371600" y="21333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Strateg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w-Product Development 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anaging New-Product Developme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oduct Life-Cycle Strateg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dditional Product and Service Considera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Topic Outl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development refers to the initial marketing strategy for introducing the product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ing strategy statement includ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cription of the target mar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les and profit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siness analysi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nvolves a review of the sales, costs, and profit projections to find out whether they satisfy the company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objec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0360" y="2209320"/>
            <a:ext cx="7086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olves the creation and testing of one or more physical versions by the R&amp;D or engineering depart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quires an increase in invest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ows whether the product idea can be turned into a workable produ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Product developmen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88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708600" y="4952880"/>
            <a:ext cx="2156040" cy="14288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0912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st marketing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the stage at which the product and marketing program are introduced into more realistic marketing sett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vides the marketer with experience in testing the product and entire marketing program before full int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009960" cy="37432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Marketing Strategy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4" name="Diagram 6" descr=""/>
          <p:cNvPicPr/>
          <p:nvPr/>
        </p:nvPicPr>
        <p:blipFill>
          <a:blip r:embed="rId1"/>
          <a:stretch/>
        </p:blipFill>
        <p:spPr>
          <a:xfrm>
            <a:off x="1504800" y="1889280"/>
            <a:ext cx="6134400" cy="408456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Strat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quisitio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the buying of a whole company, a patent, or a license to produce someone else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ew product develop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s to original products, product improvements, product modifications, and new brands developed from the firm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own research and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alibri"/>
              </a:rPr>
              <a:t>Two ways to obtain new 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1371600" y="1600200"/>
            <a:ext cx="63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ヒラギノ角ゴ Pro W3"/>
              </a:rPr>
              <a:t>Major Stages in New-Product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7" descr="fig09_01wo"/>
          <p:cNvPicPr/>
          <p:nvPr/>
        </p:nvPicPr>
        <p:blipFill>
          <a:blip r:embed="rId1"/>
          <a:stretch/>
        </p:blipFill>
        <p:spPr>
          <a:xfrm>
            <a:off x="380880" y="2743200"/>
            <a:ext cx="8305920" cy="22114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dea gener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systematic search for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urces of new-product id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al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9" name="Picture 7" descr="ph09_04"/>
          <p:cNvPicPr/>
          <p:nvPr/>
        </p:nvPicPr>
        <p:blipFill>
          <a:blip r:embed="rId1"/>
          <a:stretch/>
        </p:blipFill>
        <p:spPr>
          <a:xfrm>
            <a:off x="4191120" y="3657600"/>
            <a:ext cx="3809880" cy="25383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33160" y="18288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the company</a:t>
            </a: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own formal research and development, management and staff, and intrapreneurial progra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ternal sourc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refer to sources outside the company such as customers, competitors, distributors, suppliers, and outside design fir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dea Gen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4" name="Picture 7" descr="ph09_05"/>
          <p:cNvPicPr/>
          <p:nvPr/>
        </p:nvPicPr>
        <p:blipFill>
          <a:blip r:embed="rId1"/>
          <a:stretch/>
        </p:blipFill>
        <p:spPr>
          <a:xfrm>
            <a:off x="5865840" y="3581280"/>
            <a:ext cx="3278160" cy="21812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iting broad communities of people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stomers, employees, indepen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ientists and researchers, and even t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ublic at large—into the new-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novation proc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rowdsourc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dentify good ideas and drop poor idea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-W-W Screening Framework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w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i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i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ing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Idea Scre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7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dea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dea for a possible product that the company can see itself offering to the mark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concep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 detailed version of the idea stated in meaningful consumer ter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duct ima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way consumers perceive an actual or potential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-Product Development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pt testing refers to testing new-product concepts with groups of target consu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alibri"/>
              </a:rPr>
              <a:t>Concept Development and Tes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200480" cy="280044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457200" y="64771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pyright ©2014 by Pearson Education, Inc. All rights reser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2:58:01Z</dcterms:created>
  <dc:creator>utter</dc:creator>
  <dc:description/>
  <dc:language>en-US</dc:language>
  <cp:lastModifiedBy>Microsoft Office User</cp:lastModifiedBy>
  <dcterms:modified xsi:type="dcterms:W3CDTF">2016-04-04T15:34:05Z</dcterms:modified>
  <cp:revision>121</cp:revision>
  <dc:subject/>
  <dc:title>Slide 1</dc:title>
</cp:coreProperties>
</file>