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4B8A-8A2A-4F4F-907C-284BDCA5715C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31D6-89C8-4F7C-B1B3-8B53618091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DF93-84BA-4BC2-A265-632F084EA90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E955-CFC4-4B8B-97EB-1A0620F2DFE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E28D-CC1E-4883-9268-4F2B9C24514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66AB-B7E3-460E-882F-FE70E434AAD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1890-16CC-427E-811A-857136C0AD5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833C-82FC-4D90-9E5D-A4DDAB32C2F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E247-D2B4-459C-9552-FBFD51B8858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1E0E-A15C-4624-B8B6-4129996D4EA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7DB6-8AD9-4743-A2FC-73D1F9587C8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8F4C-071A-4FB2-A3FF-A1BAFE874D8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CD87-8BF1-4535-9F2C-57C452A2E1C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0CED-193A-4D6D-8189-17BC70BFC40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046B-4F61-423F-B951-CDCFE26592F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E495-0324-430F-BC03-4AA1AC49FB9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-  </a:t>
            </a:r>
            <a:fld id="{3EB7170B-498C-41C9-9809-45EDDBA2D5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- </a:t>
            </a:r>
            <a:fld id="{1A2B041E-AE9B-4213-BC8A-EB023500BB6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and 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371600" y="21333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Strateg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naging New-Product Develop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duct Life-Cycle Strateg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dditional Product and Service Consider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development refers to the initial marketing strategy for introducing the product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statement includ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cription of the target mar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es and profit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siness analysi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volves a review of the sales, costs, and profit projections to find out whether they satisfy the company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0360" y="22093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s the creation and testing of one or more physical versions by the R&amp;D or engineering depart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an increase in invest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whether the product idea can be turned into a workable produ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708600" y="4952880"/>
            <a:ext cx="2156040" cy="14288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0912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st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stage at which the product and marketing program are introduced into more realistic marketing set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s the marketer with experience in testing the product and entire marketing program before full 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9960" cy="37432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4" name="Diagram 6" descr=""/>
          <p:cNvPicPr/>
          <p:nvPr/>
        </p:nvPicPr>
        <p:blipFill>
          <a:blip r:embed="rId1"/>
          <a:stretch/>
        </p:blipFill>
        <p:spPr>
          <a:xfrm>
            <a:off x="1504800" y="1889280"/>
            <a:ext cx="6134400" cy="408456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quisi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the buying of a whole company, a patent, or a license to produce someone else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original products, product improvements, product modifications, and new brands developed from the firm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own research and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Two ways to obtain new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1371600" y="160020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Major Stages in New-Product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7" descr="fig09_01wo"/>
          <p:cNvPicPr/>
          <p:nvPr/>
        </p:nvPicPr>
        <p:blipFill>
          <a:blip r:embed="rId1"/>
          <a:stretch/>
        </p:blipFill>
        <p:spPr>
          <a:xfrm>
            <a:off x="380880" y="2743200"/>
            <a:ext cx="8305920" cy="22114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dea gener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ystematic search for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s of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9" name="Picture 7" descr="ph09_04"/>
          <p:cNvPicPr/>
          <p:nvPr/>
        </p:nvPicPr>
        <p:blipFill>
          <a:blip r:embed="rId1"/>
          <a:stretch/>
        </p:blipFill>
        <p:spPr>
          <a:xfrm>
            <a:off x="4191120" y="3657600"/>
            <a:ext cx="3809880" cy="25383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33160" y="1828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the company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own formal research and development, management and staff, and intrapreneurial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sources outside the company such as customers, competitors, distributors, suppliers, and outside design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4" name="Picture 7" descr="ph09_05"/>
          <p:cNvPicPr/>
          <p:nvPr/>
        </p:nvPicPr>
        <p:blipFill>
          <a:blip r:embed="rId1"/>
          <a:stretch/>
        </p:blipFill>
        <p:spPr>
          <a:xfrm>
            <a:off x="5865840" y="3581280"/>
            <a:ext cx="3278160" cy="21812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iting broad communities of people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s, employees, indepen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s and researchers, and even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at large—into the new-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novation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rowdsour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ntify good ideas and drop poor ide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-W-W Screening Framework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w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i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dea Scre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de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dea for a possible product that the company can see itself offering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concep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detailed version of the idea stated in meaningful consumer ter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ma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way consumers perceive an actual or potential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 testing refers to testing new-product concepts with groups of target consu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200480" cy="280044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58:01Z</dcterms:created>
  <dc:creator>utter</dc:creator>
  <dc:description/>
  <dc:language>en-US</dc:language>
  <cp:lastModifiedBy>Microsoft Office User</cp:lastModifiedBy>
  <dcterms:modified xsi:type="dcterms:W3CDTF">2016-04-04T15:34:05Z</dcterms:modified>
  <cp:revision>121</cp:revision>
  <dc:subject/>
  <dc:title>Slide 1</dc:title>
</cp:coreProperties>
</file>