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8D45-D298-43A4-B57C-F1E970921776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0B1B-285E-490D-8625-4DDE548A877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52CA-4F17-4A31-AAFE-83237634951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C734-840F-426E-81DF-316F986FBD7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F622-E019-4CEF-AE5E-B468B07560D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D9B6-A5AB-4ED8-804F-CF57907194F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E98F-A437-447C-96E6-6985278E39B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C7ED-E370-4A0D-8FB0-FE8E1E0796F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9390-2665-46D7-B9D0-F13AF95BBA3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224E-FFA2-422D-8973-CC678B68304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1911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2B1B-6DB0-4FAE-87C1-7C9AB418122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8A09-D179-426C-A053-79E7CA4AF99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D9B0-ADE1-47EA-A84F-BCAED54EE5C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-  </a:t>
            </a:r>
            <a:fld id="{C569D5FC-8D3F-4B79-8DAC-C7D1DDC4C62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- </a:t>
            </a:r>
            <a:fld id="{F679DE06-18A3-44D1-846A-7B581257AF0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decisioninsight.com/content/index.php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dentify good ideas and drop poor idea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-W-W Screening Framework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it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ea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we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i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it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or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oing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dea Scree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9036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vantages of simulated test marke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expensive than other test metho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s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tricts access by competi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t considered as reliable and accurate due to the controlled set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mercializa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the introduc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f the new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n to laun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re to laun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lanned marke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ollou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4132440" cy="36288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ide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n idea for a possible product that the company can see itself offering to the mark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concep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 detailed version of the idea stated in meaningful consumer ter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imag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way consumers perceive an actual or potential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71240" y="1218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ncept Development and Tes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ept testing refers to testing new-product concepts with groups of target consum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ncept Development and Tes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200480" cy="280044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ing strategy development refers to the initial marketing strategy for introducing the product to the mark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ing strategy statement includ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scription of the target marke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alue propos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ales and profit go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Business analysi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nvolves a review of the sales, costs, and profit projections to find out whether they satisfy the company</a:t>
            </a:r>
            <a:r>
              <a:rPr b="0" lang="ja-JP" sz="32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 object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90360" y="2209320"/>
            <a:ext cx="7086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olves the creation and testing of one or more physical versions by the R&amp;D or engineering depart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quires an increase in invest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ws whether the product idea can be turned into a workable produc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88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develop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88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6708600" y="4952880"/>
            <a:ext cx="2156040" cy="14288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9120" y="15998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est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stage at which the product and marketing program are introduced into more realistic marketing setti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vides the marketer with experience in testing the product and entire marketing program before full introdu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3009960" cy="37432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7" name="Diagram 6" descr=""/>
          <p:cNvPicPr/>
          <p:nvPr/>
        </p:nvPicPr>
        <p:blipFill>
          <a:blip r:embed="rId1"/>
          <a:stretch/>
        </p:blipFill>
        <p:spPr>
          <a:xfrm>
            <a:off x="1504800" y="1889280"/>
            <a:ext cx="6134400" cy="4084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ypes of Test Marke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Diagram 3" descr=""/>
          <p:cNvPicPr/>
          <p:nvPr/>
        </p:nvPicPr>
        <p:blipFill>
          <a:blip r:embed="rId1"/>
          <a:stretch/>
        </p:blipFill>
        <p:spPr>
          <a:xfrm>
            <a:off x="1889280" y="1889280"/>
            <a:ext cx="5292720" cy="2012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ph09_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71600" y="4038480"/>
            <a:ext cx="6172200" cy="227484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2:58:01Z</dcterms:created>
  <dc:creator>utter</dc:creator>
  <dc:description/>
  <dc:language>en-US</dc:language>
  <cp:lastModifiedBy>Microsoft Office User</cp:lastModifiedBy>
  <dcterms:modified xsi:type="dcterms:W3CDTF">2016-04-04T15:35:26Z</dcterms:modified>
  <cp:revision>121</cp:revision>
  <dc:subject/>
  <dc:title>Slide 1</dc:title>
</cp:coreProperties>
</file>