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1648-EC6B-4F0C-ADB2-7CFD5E9D28A7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756A-491C-403A-9F9A-2D652265B81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DF90-A0A9-4998-A9F7-4400164A365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C056-A6DA-458A-9ABF-8E4EEC8ED66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0F8D-2566-42AB-A8CE-F854D338C8E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644C-4516-4835-89F9-DB8722BBA02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F852-9129-4ED5-91E9-22F730183B7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A148-8FE5-4AA4-AE78-11764E4F78A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6287-42B7-4EF9-A1EC-64B4F85989B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A46A-863B-4301-A1BE-9A387C0AFAE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1911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2059-70DC-4D52-81E0-0D259D9F66D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2652-E377-4241-B9C3-EF8D5A04C93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6C87-42CE-4DAE-9294-65F4366E04C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-  </a:t>
            </a:r>
            <a:fld id="{D6128E1E-770E-424A-8E23-1C48812B35C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- </a:t>
            </a:r>
            <a:fld id="{58CF1481-380C-4BB7-AF14-52AD8D7040D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decisioninsight.com/content/index.php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dentify good ideas and drop poor idea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-W-W Screening Framework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it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ea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we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i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it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or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oing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dea Scree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9036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vantages of simulated test marke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expensive than other test metho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s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tricts access by competi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t considered as reliable and accurate due to the controlled set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mercializa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the introduc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f the new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n to laun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re to laun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lanned marke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ollou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4132440" cy="36288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ide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n idea for a possible product that the company can see itself offering to the mark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concep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 detailed version of the idea stated in meaningful consumer ter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imag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way consumers perceive an actual or potential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71240" y="1218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ncept Development and Tes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ept testing refers to testing new-product concepts with groups of target consum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ncept Development and Tes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200480" cy="280044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ing strategy development refers to the initial marketing strategy for introducing the product to the mark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ing strategy statement includ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scription of the target marke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alue propos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ales and profit go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Business analysi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nvolves a review of the sales, costs, and profit projections to find out whether they satisfy the company</a:t>
            </a:r>
            <a:r>
              <a:rPr b="0" lang="ja-JP" sz="32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 object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90360" y="2209320"/>
            <a:ext cx="7086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olves the creation and testing of one or more physical versions by the R&amp;D or engineering depart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quires an increase in invest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ws whether the product idea can be turned into a workable produc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88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develop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88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6708600" y="4952880"/>
            <a:ext cx="2156040" cy="14288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9120" y="15998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est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stage at which the product and marketing program are introduced into more realistic marketing setti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vides the marketer with experience in testing the product and entire marketing program before full introdu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3009960" cy="37432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7" name="Diagram 6" descr=""/>
          <p:cNvPicPr/>
          <p:nvPr/>
        </p:nvPicPr>
        <p:blipFill>
          <a:blip r:embed="rId1"/>
          <a:stretch/>
        </p:blipFill>
        <p:spPr>
          <a:xfrm>
            <a:off x="1504800" y="1889280"/>
            <a:ext cx="6134400" cy="4084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ypes of Test Marke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Diagram 3" descr=""/>
          <p:cNvPicPr/>
          <p:nvPr/>
        </p:nvPicPr>
        <p:blipFill>
          <a:blip r:embed="rId1"/>
          <a:stretch/>
        </p:blipFill>
        <p:spPr>
          <a:xfrm>
            <a:off x="1889280" y="1889280"/>
            <a:ext cx="5292720" cy="2012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ph09_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71600" y="4038480"/>
            <a:ext cx="6172200" cy="227484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2:58:01Z</dcterms:created>
  <dc:creator>utter</dc:creator>
  <dc:description/>
  <dc:language>en-US</dc:language>
  <cp:lastModifiedBy>Microsoft Office User</cp:lastModifiedBy>
  <dcterms:modified xsi:type="dcterms:W3CDTF">2016-04-04T15:35:26Z</dcterms:modified>
  <cp:revision>121</cp:revision>
  <dc:subject/>
  <dc:title>Slide 1</dc:title>
</cp:coreProperties>
</file>