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215-5B4A-40E4-A9E8-C8077DC1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CB94-B348-42CA-A689-1323FF18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C397-AC7E-4BAC-B9B8-523CFCAE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BC2-8F85-4F10-943F-7E4BF94D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314-B74E-4404-B752-E2E10766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1F33-6BA0-4F00-988E-E0858D24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EDE-E653-44C8-A937-301DBC78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D771-8681-4C0B-A8C9-6B668DF7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F9BA-2C06-4AFE-A10C-D43895F4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DD3E-0542-45F4-AA71-565BE052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642A-FFA5-4024-A2A8-5C52C189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05F9-82D5-4135-BE23-42D79CE4B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0FB6-1932-45A0-8C25-DD84A3E9F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5832-84F3-4FEF-8F76-DD8F4316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0C4-CE92-4AB5-BAC5-44EC3A62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278-1CDA-4930-9655-5B5C11526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3037-BF8D-449D-A974-0D831234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C3B-9031-4957-9F5F-C452DE74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357E-61A2-4C64-9A85-12DC6BA7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1324-05D9-45A4-A8CC-01001CFD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70E-CB19-4F95-A32E-3A3FD3BE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9542-0E14-4113-85AC-F6293492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880B-87ED-45FA-8BCB-E2453A18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734F-C102-4F56-B913-A428A9921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EBB-7CAB-4784-965C-1F5DEB9EE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i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must buy it back, or go to prison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65F-F8CC-45F2-9E35-AF01EF01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357A-1BBC-47A3-B37E-36DADBAC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D973-5BBB-4690-919B-30125F1E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3BFB-E04E-44D2-939F-66721430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227-351E-403C-86A5-054F76A7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B854-AE3F-4877-95D3-D63AFDFE2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347-E33E-4FC8-9194-28DE220A7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7CB-764C-4DDA-87C9-90DF1CB1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2701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D11A409D-38B7-460E-BB17-94A31A99FC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other important change is the rapid growth of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online 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, also known as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nline investing has really changed the brokerage industry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lashing brokerage commission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oviding investment informat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ustomers place buy and sell orders over the Interne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Many full-service brokers offer an advisory-based relationship for client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ather than charging commissions on every transaction, the investment advisor charges an annual fee, say 1-2%, based on the account balance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fee covers all services associated with advice and trading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 advisory-based relationship can align the interests of the client and the advisor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dvisor-Customer Rela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several important things to remember  when you deal with any broker/advisor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y advice you receive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uarante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broker works as your agent and has a legal duty to act in your best interes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rokerage firms, however, do make profits from brokerage commissions and/or annual fe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ecurities Investor Protection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surance fund covering investors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ening Your Brokerage Accoun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990720" y="1447920"/>
            <a:ext cx="7467480" cy="5029200"/>
            <a:chOff x="990720" y="1447920"/>
            <a:chExt cx="7467480" cy="5029200"/>
          </a:xfrm>
        </p:grpSpPr>
        <p:sp>
          <p:nvSpPr>
            <p:cNvPr id="159" name="Rectangle 5"/>
            <p:cNvSpPr/>
            <p:nvPr/>
          </p:nvSpPr>
          <p:spPr>
            <a:xfrm>
              <a:off x="3657600" y="327672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5943600" y="5410080"/>
              <a:ext cx="25146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"/>
            <p:cNvSpPr/>
            <p:nvPr/>
          </p:nvSpPr>
          <p:spPr>
            <a:xfrm>
              <a:off x="4800600" y="4419720"/>
              <a:ext cx="25146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2362320" y="2286000"/>
              <a:ext cx="2590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990720" y="144792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4" name="Straight Arrow Connector 19"/>
          <p:cNvCxnSpPr/>
          <p:nvPr/>
        </p:nvCxnSpPr>
        <p:spPr>
          <a:xfrm flipV="1">
            <a:off x="1752120" y="2666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21"/>
          <p:cNvCxnSpPr/>
          <p:nvPr/>
        </p:nvCxnSpPr>
        <p:spPr>
          <a:xfrm flipV="1">
            <a:off x="3047760" y="3809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22"/>
          <p:cNvCxnSpPr/>
          <p:nvPr/>
        </p:nvCxnSpPr>
        <p:spPr>
          <a:xfrm flipV="1">
            <a:off x="4190760" y="4800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23"/>
          <p:cNvCxnSpPr/>
          <p:nvPr/>
        </p:nvCxnSpPr>
        <p:spPr>
          <a:xfrm flipV="1">
            <a:off x="5333760" y="5943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Straight Connector 25"/>
          <p:cNvSpPr/>
          <p:nvPr/>
        </p:nvSpPr>
        <p:spPr>
          <a:xfrm>
            <a:off x="1752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6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7"/>
          <p:cNvSpPr/>
          <p:nvPr/>
        </p:nvSpPr>
        <p:spPr>
          <a:xfrm>
            <a:off x="4191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8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wo Types of Brokerage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the value of an investment that is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called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course, the portion that is borrowed incurs an interest charg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is interest is based on the broker</a:t>
            </a:r>
            <a:r>
              <a:rPr b="0" lang="ja-JP" sz="2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all money ra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Margin Accounts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alance She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4051440"/>
          <a:ext cx="8153280" cy="2089080"/>
        </p:xfrm>
        <a:graphic>
          <a:graphicData uri="http://schemas.openxmlformats.org/drawingml/2006/table">
            <a:tbl>
              <a:tblPr/>
              <a:tblGrid>
                <a:gridCol w="2616120"/>
                <a:gridCol w="1228680"/>
                <a:gridCol w="2949840"/>
                <a:gridCol w="1358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(PFE)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8040" y="4051440"/>
          <a:ext cx="7927920" cy="2163600"/>
        </p:xfrm>
        <a:graphic>
          <a:graphicData uri="http://schemas.openxmlformats.org/drawingml/2006/table">
            <a:tbl>
              <a:tblPr/>
              <a:tblGrid>
                <a:gridCol w="2543040"/>
                <a:gridCol w="1195560"/>
                <a:gridCol w="2830320"/>
                <a:gridCol w="1359000"/>
              </a:tblGrid>
              <a:tr h="697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3735360"/>
          <a:ext cx="7772400" cy="254952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35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Gamble! Take all your savings and buy some good stock and hold it till it goes up.  If it don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go up, don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buy it.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call money rate is 5.5% and the spread to your broker is 0.5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is selling for $60 per share?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Suppose you want to buy 300 shares of Pepsico, Inc. (PEP) at $55 per shar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Total cost: $16,50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You have only $9,900—so you must borrow $6,600. 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Your initial margin is $9,900/$16,500 = 60%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 (Answer)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143000" y="2379600"/>
                <a:ext cx="6400800" cy="382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Annualizing Return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n a Margin Purchase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sell Costco (COST) 4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swer: First, you have to repay the 3-month loan, so t = (3/12 = .25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Amount Borrowed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.11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.2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1.02643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= $32,207.1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Profit = Your Sale Proceeds – You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2,207.10 - $30,0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ypothecation and Street Name Regist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act of pledging securities as a collateral against a loa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arrangement under which a broker is the registered owner of a security. (You, as the account holder are the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neficial owner.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Account Issu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1. The importance of an investment policy statement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4. The workings of short sale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5291280"/>
            <a:ext cx="7391520" cy="704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Note that an investor who buys and owns shares of stock is said to be </a:t>
            </a:r>
            <a:r>
              <a:rPr b="1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or to have a </a:t>
            </a:r>
            <a:r>
              <a:rPr b="1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r>
              <a:rPr b="1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19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20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today at $34, and sell later at $57, you profit!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so 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sell today at $83, and buy later at $27, you profi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 short 100 shares of Verizon Communications (VZ) at $30 per share.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3660840"/>
          <a:ext cx="7696080" cy="233208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217160"/>
            <a:ext cx="815328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falls to $2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3735360"/>
          <a:ext cx="8001000" cy="246852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88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rises to $4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He who sells what isn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 his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n, must buy it back—or go to prison.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3660840"/>
          <a:ext cx="7848360" cy="246996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on Short Sal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ort Sellers face Constrain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ptick Rule : short sale requires that before a short sale can be executed, the last price change must be an uptick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Example, if the last two trades executed at 55.5 and then 55.63. then the last price change was an uptick of 0.13 and the short sale can be executed at a price of 55.63 or higher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there might not be enough shares available to borrow to short sell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ing Overview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831600"/>
            <a:ext cx="8305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invest today to have more tomorrow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estment is simply deferred consum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choose to wait because we want more to spend late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vestors have their own investment objectives and strategies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 Investment Policy Statement (IPS)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signed to reflect your objectives and strateg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wo par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bjectives: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risk and retur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how much risk they can handl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risk tolerance is affected by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ability to take risk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willingness to tak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or Constrai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at is the minimum sum needed? Different investments have different requirement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Commission levels, account fees associated with buying and selling securiti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 long is your investment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. Are you saving for a retirement or saving to buy a hous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How high is the possibility that you need to sell the asset quickly? Some investors might have to sell it quick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axes impact every step in the investment process, from the type of account you choose to the nature and length of investmen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ment Strategies and Polic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Should you manage your investments yourself? Or hire a money manager?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-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move money into the stock market when you think stock prices will rise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 or, move money out of the market if you think the stock prices will fall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ome investors target short time market movement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d some target long time market movement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How should you distribute your investment funds across the different classes of assets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- rule of thump. (100- age= stocks, the rest in bond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Allocation or Security Selection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b2c0e"/>
                </a:solidFill>
                <a:uFillTx/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2b2c0e"/>
                </a:solidFill>
                <a:uFillTx/>
                <a:latin typeface="Arial"/>
              </a:rPr>
              <a:t>Active strategy: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when the investor try to identify the securities that perform the best and invest In them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2b2c0e"/>
                </a:solidFill>
                <a:uFillTx/>
                <a:latin typeface="Arial"/>
              </a:rPr>
              <a:t>Passive strategy: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cquire a group of securities like a mutual fund, for example, that holds a hundred of securitie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Is asset allocation or security selection more important to the success of a portfolio? 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Most people are inclined to think security selection is the more important element for successful investing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Research shows, however, that asset allocation is the more important determinant of portfolio returns. Many experts suggest: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bout 90 percent of portfolio performance stems from asset alloca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o, 10 percent of portfolio performance comes from security selection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160" y="1290240"/>
            <a:ext cx="83055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do you do after carefully crafting your Investment Policy Statement (IPS)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so, you need to choose the type of brokerage account and your broker/advisor from: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ull-service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iscount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ep-discount brokers</a:t>
            </a:r>
            <a:br>
              <a:rPr sz="1600"/>
            </a:b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Nouf Alabdulkarim</cp:lastModifiedBy>
  <dcterms:modified xsi:type="dcterms:W3CDTF">2015-10-03T23:39:06Z</dcterms:modified>
  <cp:revision>93</cp:revision>
  <dc:subject/>
  <dc:title>Slide 1</dc:title>
</cp:coreProperties>
</file>