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55A8-1A70-4A5C-9DD2-C77712346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E9DF-5F9B-4A1A-9534-3CC3C69A1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7F63-EB8B-467C-BFAC-42E23D265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5D74-ED07-4138-8B23-76D43DBF0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C63A-E265-44BE-8814-5E96BB919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F1ED-77E2-48A4-8B15-A0307EC29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89DF-BA9D-48CC-9D21-F432AB5A9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1CC4-EB6E-476E-9AA6-740661874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B31A-9673-4F34-982C-01BF891C5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74C9-C66D-49EA-B263-31F1C7959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5C80-A1F8-40D0-AAEE-8D044BEFA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D5AD-8C55-4468-80C1-868FCDAFC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041F-9F00-44ED-B8DD-BD2E8C8D3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664A-25AF-45E7-8EDE-92BA96AD3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C89A-7D62-4FF1-B53C-FFE51A0D5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C669-8BE2-4A79-B01B-F60690C51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6B66-8B9A-4FD9-8FCF-573EAEE7A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63AB-8594-46D1-9034-178ED5234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44BC-38AE-4918-9433-E8ABF306C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ED47-FE53-45AC-B5FF-E102FA097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BA5F-916A-4B37-BD7E-8618DE12D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0512-DC27-46C6-BF83-AFFDAFD8C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8731-BC7C-4DDC-AD74-9D419C429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383C-23CD-4F12-938F-8E261E849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B83A-1176-46B7-9F5E-ABA4D66A6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ho sells wha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hi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, must buy it back, or go to prison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F212-BF6F-40A1-8BAB-DF13E5D99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2D1B-E6CF-4100-BCF1-DCD5ABDD9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AEC0-E7B2-4DEA-9E1E-B3CEBF77D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2124-5A0C-47FF-8F02-2A9FF585D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6E61-008E-4F18-B153-CD2F1F7AF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0A14-B07D-4F2B-BDC0-482635215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EE10-6AEE-4919-86F6-FC84D820F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1526-2F16-4AC4-AE09-1684F06EC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" name="Text Box 23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24"/>
          <p:cNvSpPr/>
          <p:nvPr/>
        </p:nvSpPr>
        <p:spPr>
          <a:xfrm>
            <a:off x="3809880" y="2270160"/>
            <a:ext cx="457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The Investment Proces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/>
            <a:ahLst/>
            <a:rect l="l" t="t" r="r" b="b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/>
            <a:ahLst/>
            <a:rect l="l" t="t" r="r" b="b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/>
            <a:ahLst/>
            <a:rect l="l" t="t" r="r" b="b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1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54EE53C6-4126-4498-B3C7-65433A86D1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2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oosing a Broker/Advisor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s the brokerage industry becomes more competitive, the differences among broker types continues to blur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nother important change is the rapid growth of </a:t>
            </a: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online broker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, also known as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-broker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cyberbroker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Online investing has really changed the brokerage industry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lashing brokerage commission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roviding investment information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ustomers place buy and sell orders over the Internet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Many full-service brokers offer an advisory-based relationship for clients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Rather than charging commissions on every transaction, the investment advisor charges an annual fee, say 1-2%, based on the account balance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is fee covers all services associated with advice and trading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n advisory-based relationship can align the interests of the client and the advisor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dvisor-Customer Relatio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are several important things to remember  when you deal with any broker/advisor: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2b2c0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y advice you receive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guaranteed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2b2c0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r broker works as your agent and has a legal duty to act in your best interest.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2b2c0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rokerage firms, however, do make profits from brokerage commissions and/or annual fee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b2c0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r account agreement will probably specify that any disputes will be settled by arbitration and that the arbitration is final and binding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ecurities Investor Protection Corpor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ies Investor Protection Corporation (SIPC)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surance fund covering investors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brokerage accounts when member firms go bankrupt or experience financial difficultie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ost brokerage firms belong to the SIPC, which insures each account for up to $500,000 in cash and securities, with a $100,000 cash maximum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Important: The SIPC does not guarantee the value of any security (unlike FDIC coverage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ather, SIPC protects whatever amount of cash and securities that were in your account, in the event of fraud or other failu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pening Your Brokerage Accoun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990720" y="1447920"/>
            <a:ext cx="7467480" cy="5029200"/>
            <a:chOff x="990720" y="1447920"/>
            <a:chExt cx="7467480" cy="5029200"/>
          </a:xfrm>
        </p:grpSpPr>
        <p:sp>
          <p:nvSpPr>
            <p:cNvPr id="159" name="Rectangle 5"/>
            <p:cNvSpPr/>
            <p:nvPr/>
          </p:nvSpPr>
          <p:spPr>
            <a:xfrm>
              <a:off x="3657600" y="3276720"/>
              <a:ext cx="2438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Buy 100 Sha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Disn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$33 per sh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6"/>
            <p:cNvSpPr/>
            <p:nvPr/>
          </p:nvSpPr>
          <p:spPr>
            <a:xfrm>
              <a:off x="5943600" y="5410080"/>
              <a:ext cx="25146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 $6,650 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,300 Stoc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7"/>
            <p:cNvSpPr/>
            <p:nvPr/>
          </p:nvSpPr>
          <p:spPr>
            <a:xfrm>
              <a:off x="4800600" y="4419720"/>
              <a:ext cx="25146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) Pay Commiss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 $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8"/>
            <p:cNvSpPr/>
            <p:nvPr/>
          </p:nvSpPr>
          <p:spPr>
            <a:xfrm>
              <a:off x="2362320" y="2286000"/>
              <a:ext cx="25905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Deposit $1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o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990720" y="144792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Open a brok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trading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4" name="Straight Arrow Connector 19"/>
          <p:cNvCxnSpPr/>
          <p:nvPr/>
        </p:nvCxnSpPr>
        <p:spPr>
          <a:xfrm flipV="1">
            <a:off x="1752120" y="2666160"/>
            <a:ext cx="608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Straight Arrow Connector 21"/>
          <p:cNvCxnSpPr/>
          <p:nvPr/>
        </p:nvCxnSpPr>
        <p:spPr>
          <a:xfrm flipV="1">
            <a:off x="3047760" y="3809160"/>
            <a:ext cx="608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Straight Arrow Connector 22"/>
          <p:cNvCxnSpPr/>
          <p:nvPr/>
        </p:nvCxnSpPr>
        <p:spPr>
          <a:xfrm flipV="1">
            <a:off x="4190760" y="4800240"/>
            <a:ext cx="608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7" name="Straight Arrow Connector 23"/>
          <p:cNvCxnSpPr/>
          <p:nvPr/>
        </p:nvCxnSpPr>
        <p:spPr>
          <a:xfrm flipV="1">
            <a:off x="5333760" y="5943240"/>
            <a:ext cx="608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Straight Connector 25"/>
          <p:cNvSpPr/>
          <p:nvPr/>
        </p:nvSpPr>
        <p:spPr>
          <a:xfrm>
            <a:off x="17524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6"/>
          <p:cNvSpPr/>
          <p:nvPr/>
        </p:nvSpPr>
        <p:spPr>
          <a:xfrm>
            <a:off x="3048120" y="3048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7"/>
          <p:cNvSpPr/>
          <p:nvPr/>
        </p:nvSpPr>
        <p:spPr>
          <a:xfrm>
            <a:off x="41911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8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wo Types of Brokerage Accoun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h accou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a brokerage account in which securities are paid for in full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Margin accou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a brokerage account in which, subject to limits, securities can be bought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ld short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on credi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105520" y="4952880"/>
            <a:ext cx="3504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more on selling short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argin Accoun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a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argin purchas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the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portion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f the value of an investment that is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not borrowed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s called the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argi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f course, the portion that is borrowed incurs an interest charg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is interest is based on the broker</a:t>
            </a:r>
            <a:r>
              <a:rPr b="0" lang="ja-JP" sz="28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s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call money rate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call money rate is the rate brokers pay to borrow money to lend to customers in their margin account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Margin Accounts,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Balance Sheet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4051440"/>
          <a:ext cx="8153280" cy="2089080"/>
        </p:xfrm>
        <a:graphic>
          <a:graphicData uri="http://schemas.openxmlformats.org/drawingml/2006/table">
            <a:tbl>
              <a:tblPr/>
              <a:tblGrid>
                <a:gridCol w="2616120"/>
                <a:gridCol w="1228680"/>
                <a:gridCol w="2949840"/>
                <a:gridCol w="135864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1,000 Shares, P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  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7"/>
          <p:cNvSpPr/>
          <p:nvPr/>
        </p:nvSpPr>
        <p:spPr>
          <a:xfrm>
            <a:off x="762120" y="1219320"/>
            <a:ext cx="7924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buy 1,000 Pfizer (PFE) shares at $24 per shar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put up $18,000 and borrow the res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ount borrowed = $24,000 – $18,000 = $6,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gin = $18,000 / $24,000 =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argin Accoun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a margin purchase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inimum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hat must be supplied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alled the initial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intenance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s the margin amount tha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ust be present at all time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n a margin account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drops below the maintenance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, the broker can demand more funds. This is known as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call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The Workings of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 Margin Account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08040" y="4051440"/>
          <a:ext cx="7927920" cy="2163600"/>
        </p:xfrm>
        <a:graphic>
          <a:graphicData uri="http://schemas.openxmlformats.org/drawingml/2006/table">
            <a:tbl>
              <a:tblPr/>
              <a:tblGrid>
                <a:gridCol w="2543040"/>
                <a:gridCol w="1195560"/>
                <a:gridCol w="2830320"/>
                <a:gridCol w="1359000"/>
              </a:tblGrid>
              <a:tr h="6976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800 Shares of WHOA @ $50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533520" y="1143000"/>
            <a:ext cx="83055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margin account requir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itial margin of 50%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aintenance margin of 30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hare in Miller Moore Equine Enterprises (WHOA) is selling for $5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$20,000, and you want to buy as much WHOA as you c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buy up to $20,000 / 0.5 = $40,000 worth of WH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The Workings of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 Margin Account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62120" y="3735360"/>
          <a:ext cx="7772400" cy="2549520"/>
        </p:xfrm>
        <a:graphic>
          <a:graphicData uri="http://schemas.openxmlformats.org/drawingml/2006/table">
            <a:tbl>
              <a:tblPr/>
              <a:tblGrid>
                <a:gridCol w="2493720"/>
                <a:gridCol w="1171800"/>
                <a:gridCol w="2609640"/>
                <a:gridCol w="1497240"/>
              </a:tblGrid>
              <a:tr h="81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800 Shares of WHOA @ $35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  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7"/>
          <p:cNvSpPr/>
          <p:nvPr/>
        </p:nvSpPr>
        <p:spPr>
          <a:xfrm>
            <a:off x="228600" y="129528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762120" y="1447920"/>
            <a:ext cx="769608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your purchase, shares of WHOA fall to $35. (Woe!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argin = $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8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$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8,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28.6%  &lt;  30%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, you are subject to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argin c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Investment Proces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685800" y="1447920"/>
            <a:ext cx="7924680" cy="2110680"/>
            <a:chOff x="685800" y="1447920"/>
            <a:chExt cx="7924680" cy="2110680"/>
          </a:xfrm>
        </p:grpSpPr>
        <p:sp>
          <p:nvSpPr>
            <p:cNvPr id="135" name="Text Box 3"/>
            <p:cNvSpPr/>
            <p:nvPr/>
          </p:nvSpPr>
          <p:spPr>
            <a:xfrm>
              <a:off x="685800" y="1447920"/>
              <a:ext cx="792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</a:t>
              </a:r>
              <a:r>
                <a:rPr b="0" i="1" lang="ja-JP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Gamble! Take all your savings and buy some good stock and hold it till it goes up.  If it don</a:t>
              </a:r>
              <a:r>
                <a:rPr b="0" i="1" lang="ja-JP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go up, don</a:t>
              </a:r>
              <a:r>
                <a:rPr b="0" i="1" lang="ja-JP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’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buy it.</a:t>
              </a:r>
              <a:r>
                <a:rPr b="0" i="1" lang="ja-JP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4"/>
            <p:cNvSpPr/>
            <p:nvPr/>
          </p:nvSpPr>
          <p:spPr>
            <a:xfrm>
              <a:off x="5338080" y="309888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ll Ro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Effects of Margin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have $30,000 in a margin account, 60% initial margin require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can buy $50,000 of stock with this account (why?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r call money rate is 5.5% and the spread to your broker is 0.50%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pose you buy 1,000 shares of Coca-Cola (KO), for $50/sha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ssume no dividends, and that your borrowing rate is still 6.00%, what is your return if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In one year, KO is selling for $60 per share?</a:t>
            </a:r>
            <a:br>
              <a:rPr sz="2400"/>
            </a:b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In one year, KO stock is selling for $60 per share, but you did not borrow money from your broker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Effects of Margin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KO is selling for $60 per sha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r investment is worth $60,000.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 owe 6% on the $20,000 you borrowe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,2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If you pay off the loan with interest, your account balance is: $60,000 – $21,200 = $38,800.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 started with $30,00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herefore, your return is $8,800 / $30,000 = 29.33%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stock was selling for $40 per share instead of $60 per share?  What is your return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Effects of Margin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Coca-Cola stock is selling for $60 per share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t you did not borrow from your broker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 started with $30,000, which means you were able to buy $30,000 / $50 = 600 shares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r investment is now worth $36,00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herefore, your return is $6,000 / $30,000 = 20.00%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is selling for $40 per share instead of $60 per share.  What is your return in this cas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How Low Can it Go?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Suppose you want to buy 300 shares of Pepsico, Inc. (PEP) at $55 per shar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Total cost: $16,500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You have only $9,900—so you must borrow $6,600. </a:t>
            </a:r>
            <a:br>
              <a:rPr sz="2800"/>
            </a:b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Your initial margin is $9,900/$16,500 = 60%.</a:t>
            </a:r>
            <a:br>
              <a:rPr sz="2400"/>
            </a:b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ppose your maintenance margin is 40%. At what price will you receive a margin call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How Low Can it Go? (Answer)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This will happen when the price of Pepsico, Inc. drops to $36.67.  How so? Well,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1143000" y="2379600"/>
                <a:ext cx="6400800" cy="382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intenance Margin Level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umber of Shares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/>
                            </m:sSup>
                          </m:den>
                        </m:f>
                      </m:e>
                      <m:e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lving  for  the  critical  stock  price,  P</m:t>
                            </m:r>
                          </m:e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,  results  in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mount Borrowe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umber of Shares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Maintenance Margin Level 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o here,</m:t>
                        </m:r>
                      </m:e>
                      <m:e/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$6,6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 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- 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$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Annualizing Return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n a Margin Purchase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buy 1,000 shares of Costco (COST) at $60 per share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r initial margin is 50%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borrow at the 9 percent call money rate plus 2 percent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sell Costco (COST) 4 months later for $63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were no dividends paid (and suppose the prices above are net of commissions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What is your holding period percentage return and your EAR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nualizing Returns on a Margin Purchase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nswer: First, you have to repay the 3-month loan, so t = (3/12 = .25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mount Repaid = Amount Borrowed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(1 + interest rate per year)</a:t>
            </a:r>
            <a:r>
              <a:rPr b="0" lang="en-US" sz="2000" spc="-1" strike="noStrike" baseline="30000">
                <a:solidFill>
                  <a:srgbClr val="2b2c0e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mount Repaid = $30,00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(1 + .11)</a:t>
            </a:r>
            <a:r>
              <a:rPr b="0" lang="en-US" sz="2000" spc="-1" strike="noStrike" baseline="30000">
                <a:solidFill>
                  <a:srgbClr val="2b2c0e"/>
                </a:solidFill>
                <a:latin typeface="Arial"/>
                <a:ea typeface="Arial"/>
              </a:rPr>
              <a:t>.25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$30,00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1.02643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$30,792.9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Your Sale Proceeds = Cash from Sale – Amount Repaid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                                 = $63,000 – 30,792.9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= $32,207.1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r Profit = Your Sale Proceeds – Your Investment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$32,207.10 - $30,00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$2,207.10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nualizing Returns on a Margin Purchase, I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208" name="Group 8"/>
          <p:cNvGrpSpPr/>
          <p:nvPr/>
        </p:nvGrpSpPr>
        <p:grpSpPr>
          <a:xfrm>
            <a:off x="838080" y="1676520"/>
            <a:ext cx="7696440" cy="4557600"/>
            <a:chOff x="838080" y="1676520"/>
            <a:chExt cx="7696440" cy="4557600"/>
          </a:xfrm>
        </p:grpSpPr>
        <mc:AlternateContent>
          <mc:Choice xmlns:a14="http://schemas.microsoft.com/office/drawing/2010/main" Requires="a14">
            <p:sp>
              <p:nvSpPr>
                <p:cNvPr id="209" name="Object 4"/>
                <p:cNvSpPr txBox="1"/>
                <p:nvPr/>
              </p:nvSpPr>
              <p:spPr>
                <a:xfrm>
                  <a:off x="838080" y="1676520"/>
                  <a:ext cx="7696440" cy="32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Holding Period Percentage Return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3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 - $30,00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$2,207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$30,000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EAR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Holding Period Percentage Return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 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 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736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 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3285</m:t>
                          </m:r>
                        </m:e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So your EAR is about 3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5%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10" name="Text Box 7"/>
            <p:cNvSpPr/>
            <p:nvPr/>
          </p:nvSpPr>
          <p:spPr>
            <a:xfrm>
              <a:off x="5105520" y="5410080"/>
              <a:ext cx="335268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ote that there are 12/3 = 4 three-month holding periods in a year. Therefore, m = 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Hypothecation and Street Name Registr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ypotheca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s the act of pledging securities as a collateral against a loa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s pledge is needed so that the securities can be sold by the broker if the customer is unwilling or unable to meet a margin call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eet name registra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n arrangement under which a broker is the registered owner of a security. (You, as the account holder are the 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eneficial owner.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ther Account Issu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o invest in financial securities, you do not need an account with a broker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ne alternative is to buy securities directly from the issuer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other alternative is to invest in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utual fu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  </a:t>
            </a:r>
            <a:br>
              <a:rPr sz="28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on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 sell yourself short. Instead, learn about these key investment subjects: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1. The importance of an investment policy statement.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2. The various types of securities brokers and brokerage accounts.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3. How to calculate initial and maintenance margin.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4. The workings of short sales.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hort Sal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5291280"/>
            <a:ext cx="7391520" cy="7048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Note that an investor who buys and owns shares of stock is said to be </a:t>
            </a:r>
            <a:r>
              <a:rPr b="1" lang="ja-JP" sz="20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long the stock</a:t>
            </a:r>
            <a:r>
              <a:rPr b="1" i="1" lang="ja-JP" sz="20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or to have a </a:t>
            </a:r>
            <a:r>
              <a:rPr b="1" lang="ja-JP" sz="20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long position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r>
              <a:rPr b="1" lang="ja-JP" sz="2000" spc="-1" strike="noStrike">
                <a:solidFill>
                  <a:srgbClr val="2b2c0e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83808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rt S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ale in which the seller does not actually own the security that i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6"/>
          <p:cNvGrpSpPr/>
          <p:nvPr/>
        </p:nvGrpSpPr>
        <p:grpSpPr>
          <a:xfrm>
            <a:off x="914400" y="2590920"/>
            <a:ext cx="7543800" cy="2197080"/>
            <a:chOff x="914400" y="2590920"/>
            <a:chExt cx="7543800" cy="2197080"/>
          </a:xfrm>
        </p:grpSpPr>
        <p:grpSp>
          <p:nvGrpSpPr>
            <p:cNvPr id="219" name="Group 15"/>
            <p:cNvGrpSpPr/>
            <p:nvPr/>
          </p:nvGrpSpPr>
          <p:grpSpPr>
            <a:xfrm>
              <a:off x="914400" y="2590920"/>
              <a:ext cx="7543800" cy="1714320"/>
              <a:chOff x="914400" y="2590920"/>
              <a:chExt cx="7543800" cy="1714320"/>
            </a:xfrm>
          </p:grpSpPr>
          <p:sp>
            <p:nvSpPr>
              <p:cNvPr id="220" name="Rectangle 5"/>
              <p:cNvSpPr/>
              <p:nvPr/>
            </p:nvSpPr>
            <p:spPr>
              <a:xfrm>
                <a:off x="9144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e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6"/>
              <p:cNvSpPr/>
              <p:nvPr/>
            </p:nvSpPr>
            <p:spPr>
              <a:xfrm>
                <a:off x="29862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ll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 th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7"/>
              <p:cNvSpPr/>
              <p:nvPr/>
            </p:nvSpPr>
            <p:spPr>
              <a:xfrm>
                <a:off x="2427120" y="344808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9"/>
              <p:cNvSpPr/>
              <p:nvPr/>
            </p:nvSpPr>
            <p:spPr>
              <a:xfrm>
                <a:off x="510552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10"/>
              <p:cNvSpPr/>
              <p:nvPr/>
            </p:nvSpPr>
            <p:spPr>
              <a:xfrm>
                <a:off x="708660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ur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1"/>
              <p:cNvSpPr/>
              <p:nvPr/>
            </p:nvSpPr>
            <p:spPr>
              <a:xfrm>
                <a:off x="6477120" y="3448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Text Box 13"/>
            <p:cNvSpPr/>
            <p:nvPr/>
          </p:nvSpPr>
          <p:spPr>
            <a:xfrm>
              <a:off x="1523880" y="44197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410080" y="441972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hort Sal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9977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n investor with a long position benefits from price increas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sy to understan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buy today at $34, and sell later at $57, you profit!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uy low, sell high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n investor with a short position benefits from price decreas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lso easy to understan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sell today at $83, and buy later at $27, you profi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ll high, buy low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Short Sal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You short 100 shares of Verizon Communications (VZ) at $30 per share.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Your broker has a 50% initial margin and a 40% maintenance margin on short sales. 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The value of stock borrowed that will be sold short is: 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$30 × $100 = $3,000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62120" y="3660840"/>
          <a:ext cx="7696080" cy="2332080"/>
        </p:xfrm>
        <a:graphic>
          <a:graphicData uri="http://schemas.openxmlformats.org/drawingml/2006/table">
            <a:tbl>
              <a:tblPr/>
              <a:tblGrid>
                <a:gridCol w="2612880"/>
                <a:gridCol w="1270080"/>
                <a:gridCol w="2469960"/>
                <a:gridCol w="1343160"/>
              </a:tblGrid>
              <a:tr h="896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Short Sal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217160"/>
            <a:ext cx="815328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Verizon Communications stock price falls to $20 per sha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Sold at $30, value today is $20, so you are "ahead" by $10 per share, or $1,00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Also, new margin: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,5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0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= 125%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3735360"/>
          <a:ext cx="8001000" cy="2468520"/>
        </p:xfrm>
        <a:graphic>
          <a:graphicData uri="http://schemas.openxmlformats.org/drawingml/2006/table">
            <a:tbl>
              <a:tblPr/>
              <a:tblGrid>
                <a:gridCol w="2716200"/>
                <a:gridCol w="1247760"/>
                <a:gridCol w="2716200"/>
                <a:gridCol w="1320840"/>
              </a:tblGrid>
              <a:tr h="881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Initial Margin Deposit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Short Sales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22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Verizon Communications stock price rises to $40 per sha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 sold short at $30, stock price is now $40, you are "behind" by $10 per share, or $1,000.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1" lang="ja-JP" sz="2000" spc="-1" strike="noStrike">
                <a:solidFill>
                  <a:srgbClr val="99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He who sells what isn</a:t>
            </a:r>
            <a:r>
              <a:rPr b="1" lang="ja-JP" sz="2000" spc="-1" strike="noStrike">
                <a:solidFill>
                  <a:srgbClr val="99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 his</a:t>
            </a:r>
            <a:r>
              <a:rPr b="1" lang="ja-JP" sz="2000" spc="-1" strike="noStrike">
                <a:solidFill>
                  <a:srgbClr val="99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n, must buy it back—or go to prison.</a:t>
            </a:r>
            <a:r>
              <a:rPr b="1" lang="ja-JP" sz="2000" spc="-1" strike="noStrike">
                <a:solidFill>
                  <a:srgbClr val="990000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Also: new margin =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,0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= 12.5%  &lt;  40% Therefore, you are subject to a margin call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62120" y="3660840"/>
          <a:ext cx="7848360" cy="2469960"/>
        </p:xfrm>
        <a:graphic>
          <a:graphicData uri="http://schemas.openxmlformats.org/drawingml/2006/table">
            <a:tbl>
              <a:tblPr/>
              <a:tblGrid>
                <a:gridCol w="2663640"/>
                <a:gridCol w="1224000"/>
                <a:gridCol w="2521080"/>
                <a:gridCol w="1439640"/>
              </a:tblGrid>
              <a:tr h="896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  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re on Short Sal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ort interest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the amount of common stock held in short position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e that with a short position, you may lose more than your total investment, as there is no theoretical limit to how high the stock price may ris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hort Sellers face Constraint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ptick Rule : short sale requires that before a short sale can be executed, the last price change must be an uptick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Example, if the last two trades executed at 55.5 and then 55.63. then the last price change was an uptick of 0.13 and the short sale can be executed at a price of 55.63 or higher.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lso, there might not be enough shares available to borrow to short sell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vesting Overview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831600"/>
            <a:ext cx="83055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undamental Question: Why invest at all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We invest today to have more tomorrow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Investment is simply deferred consump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We choose to wait because we want more to spend later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nvestors have their own investment objectives and strategies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he Investment Policy Statement (IPS)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esigned to reflect your objectives and strategi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wo par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028520" indent="-20556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028520" indent="-20556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Constraint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bjectives: Risk and Retur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formulating investment objectives, the individual must balance return objectives with risk toleranc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vestors must think about risk and retur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vestors must think about how much risk they can handl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r risk tolerance is affected by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r ability to take risk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r willingness to take risk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vestor Constrain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Resources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What is the minimum sum needed? Different investments have different requirement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are the associated costs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Commission levels, account fees associated with buying and selling securiti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orizon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do you need the money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How long is your investment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X. Are you saving for a retirement or saving to buy a hous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iquidity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How high is the possibility that you need to sell the asset quickly? Some investors might have to sell it quickly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axes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axes impact every step in the investment process, from the type of account you choose to the nature and length of investment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vestment Strategies and Polici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vestment managem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Should you manage your investments yourself? Or hire a money manager?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rket timing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Should you try to buy and sell in anticipation of the future direction of the market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   -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move money into the stock market when you think stock prices will rise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- or, move money out of the market if you think the stock prices will fall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ome investors target short time market movements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nd some target long time market movement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allocation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How should you distribute your investment funds across the different classes of assets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- rule of thump. (100- age= stocks, the rest in bond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curity selection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Within each class, which specific securities should you buy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sset Allocation or Security Selection?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b2c0e"/>
                </a:solidFill>
                <a:uFillTx/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2b2c0e"/>
                </a:solidFill>
                <a:uFillTx/>
                <a:latin typeface="Arial"/>
              </a:rPr>
              <a:t>Active strategy: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 when the investor try to identify the securities that perform the best and invest In them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2b2c0e"/>
                </a:solidFill>
                <a:uFillTx/>
                <a:latin typeface="Arial"/>
              </a:rPr>
              <a:t>Passive strategy: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cquire a group of securities like a mutual fund, for example, that holds a hundred of securities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Is asset allocation or security selection more important to the success of a portfolio? </a:t>
            </a:r>
            <a:br>
              <a:rPr sz="1900"/>
            </a:b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Most people are inclined to think security selection is the more important element for successful investing.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Research shows, however, that asset allocation is the more important determinant of portfolio returns. Many experts suggest: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bout 90 percent of portfolio performance stems from asset allocation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o, 10 percent of portfolio performance comes from security selection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oosing a Broker/Advisor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160" y="1290240"/>
            <a:ext cx="830556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do you do after carefully crafting your Investment Policy Statement (IPS)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f so, you need to choose the type of brokerage account and your broker/advisor from: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full-service broker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discount broker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deep-discount brokers</a:t>
            </a:r>
            <a:br>
              <a:rPr sz="1600"/>
            </a:b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se three groups can be distinguished by the level of service provided, as well as the level of commissions charge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Nouf Alabdulkarim</cp:lastModifiedBy>
  <dcterms:modified xsi:type="dcterms:W3CDTF">2015-10-03T23:39:06Z</dcterms:modified>
  <cp:revision>93</cp:revision>
  <dc:subject/>
  <dc:title>Slide 1</dc:title>
</cp:coreProperties>
</file>