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17B5523B-D162-4FA5-A9DA-D255EF902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68160"/>
            <a:ext cx="4457520" cy="3343320"/>
          </a:xfrm>
          <a:prstGeom prst="rect">
            <a:avLst/>
          </a:prstGeom>
          <a:ln w="0">
            <a:noFill/>
          </a:ln>
        </p:spPr>
      </p:sp>
      <p:sp>
        <p:nvSpPr>
          <p:cNvPr id="1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668160"/>
            <a:ext cx="4457520" cy="3343320"/>
          </a:xfrm>
          <a:prstGeom prst="rect">
            <a:avLst/>
          </a:prstGeom>
          <a:ln w="0">
            <a:noFill/>
          </a:ln>
        </p:spPr>
      </p:sp>
      <p:sp>
        <p:nvSpPr>
          <p:cNvPr id="1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68160"/>
            <a:ext cx="4457520" cy="3343320"/>
          </a:xfrm>
          <a:prstGeom prst="rect">
            <a:avLst/>
          </a:prstGeom>
          <a:ln w="0">
            <a:noFill/>
          </a:ln>
        </p:spPr>
      </p:sp>
      <p:sp>
        <p:nvSpPr>
          <p:cNvPr id="1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00240" y="668160"/>
            <a:ext cx="4457520" cy="3343320"/>
          </a:xfrm>
          <a:prstGeom prst="rect">
            <a:avLst/>
          </a:prstGeom>
          <a:ln w="0">
            <a:noFill/>
          </a:ln>
        </p:spPr>
      </p:sp>
      <p:sp>
        <p:nvSpPr>
          <p:cNvPr id="2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68160"/>
            <a:ext cx="4457520" cy="3343320"/>
          </a:xfrm>
          <a:prstGeom prst="rect">
            <a:avLst/>
          </a:prstGeom>
          <a:ln w="0">
            <a:noFill/>
          </a:ln>
        </p:spPr>
      </p:sp>
      <p:sp>
        <p:nvSpPr>
          <p:cNvPr id="2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00240" y="668160"/>
            <a:ext cx="4457520" cy="3343320"/>
          </a:xfrm>
          <a:prstGeom prst="rect">
            <a:avLst/>
          </a:prstGeom>
          <a:ln w="0">
            <a:noFill/>
          </a:ln>
        </p:spPr>
      </p:sp>
      <p:sp>
        <p:nvSpPr>
          <p:cNvPr id="2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668160"/>
            <a:ext cx="4457520" cy="3343320"/>
          </a:xfrm>
          <a:prstGeom prst="rect">
            <a:avLst/>
          </a:prstGeom>
          <a:ln w="0">
            <a:noFill/>
          </a:ln>
        </p:spPr>
      </p:sp>
      <p:sp>
        <p:nvSpPr>
          <p:cNvPr id="1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668160"/>
            <a:ext cx="4457520" cy="3343320"/>
          </a:xfrm>
          <a:prstGeom prst="rect">
            <a:avLst/>
          </a:prstGeom>
          <a:ln w="0">
            <a:noFill/>
          </a:ln>
        </p:spPr>
      </p:sp>
      <p:sp>
        <p:nvSpPr>
          <p:cNvPr id="1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668160"/>
            <a:ext cx="4457520" cy="3343320"/>
          </a:xfrm>
          <a:prstGeom prst="rect">
            <a:avLst/>
          </a:prstGeom>
          <a:ln w="0">
            <a:noFill/>
          </a:ln>
        </p:spPr>
      </p:sp>
      <p:sp>
        <p:nvSpPr>
          <p:cNvPr id="1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668160"/>
            <a:ext cx="4457520" cy="3343320"/>
          </a:xfrm>
          <a:prstGeom prst="rect">
            <a:avLst/>
          </a:prstGeom>
          <a:ln w="0">
            <a:noFill/>
          </a:ln>
        </p:spPr>
      </p:sp>
      <p:sp>
        <p:nvSpPr>
          <p:cNvPr id="1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7B840-1D2B-4812-9E37-236300B53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8A1C2-A7FC-4921-80FA-C2459A40A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95683-62B6-4C16-B019-343CFCFC7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3B008-4601-41BB-87E4-447D77F91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0EB52-4AB4-4BEE-8B6D-890BC12E2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756FA-6282-40E0-B336-020A9EE4B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3D64D-8A85-45C2-826A-2F1869A11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BC041-4BA9-45A8-98A4-BE728AC84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1D92B-7BB4-4A82-A97F-BCD021BEF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F7973-A8BA-498A-9376-362D3D095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66B4-EA04-4E98-999A-0ED95E396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B7EFA-D7DB-4B17-A2B0-8E5DB46C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80FD-CC17-4349-9312-42957047B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CB8DB-A592-413B-AECE-8556CBB06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9AA3F-B628-4521-B7A5-DD96B4A5D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3B8ED-A1D5-4EE9-B999-F6670632B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AAE3C-C5E4-4F8A-9680-1ECD35529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132BD-2823-41D2-B60F-E3733CCE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7ADE9-4CA1-4FAE-B021-419D8EF7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1C9D-FB4A-4ADD-A667-58EECB805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FA18-6C1E-4A06-953E-50544B45A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94C6-6023-44ED-8B3B-9E2A3880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739D-9BF7-4656-89B2-C13DCE01D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AD841-5EA4-4C40-8231-7F633FCC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4CC2-4537-49A4-B390-E34B3F35FEE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7565B65-66BE-4373-ABEB-3BFE0AF16D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Times New Roman"/>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42E1EA9-3417-4F31-91F6-1148C3E75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07D8814-3E03-4F93-ACF3-E598E51920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B834D3F-E5C2-4582-9738-EBAAA8848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 descr="">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1523880" y="2286000"/>
            <a:ext cx="7358040" cy="3147840"/>
          </a:xfrm>
          <a:prstGeom prst="rect">
            <a:avLst/>
          </a:prstGeom>
          <a:ln w="0">
            <a:noFill/>
          </a:ln>
        </p:spPr>
      </p:pic>
      <p:sp>
        <p:nvSpPr>
          <p:cNvPr id="134"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FEAEA01-554F-4770-AB9D-735B679F1E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08A968F-119E-4AAF-A1BB-FBD6C239A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 descr=""/>
          <p:cNvPicPr/>
          <p:nvPr/>
        </p:nvPicPr>
        <p:blipFill>
          <a:blip r:embed="rId1"/>
          <a:stretch/>
        </p:blipFill>
        <p:spPr>
          <a:xfrm>
            <a:off x="7543800" y="5486400"/>
            <a:ext cx="584280" cy="793800"/>
          </a:xfrm>
          <a:prstGeom prst="rect">
            <a:avLst/>
          </a:prstGeom>
          <a:ln w="0">
            <a:noFill/>
          </a:ln>
        </p:spPr>
      </p:pic>
      <p:sp>
        <p:nvSpPr>
          <p:cNvPr id="138"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60FCF4B-BB97-41DB-BA48-6206C6B2D6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BEC6EC9-2EBB-44B2-A3BC-C3F0A0F13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 descr=""/>
          <p:cNvPicPr/>
          <p:nvPr/>
        </p:nvPicPr>
        <p:blipFill>
          <a:blip r:embed="rId1"/>
          <a:stretch/>
        </p:blipFill>
        <p:spPr>
          <a:xfrm>
            <a:off x="7696080" y="5029200"/>
            <a:ext cx="630360" cy="890640"/>
          </a:xfrm>
          <a:prstGeom prst="rect">
            <a:avLst/>
          </a:prstGeom>
          <a:ln w="0">
            <a:noFill/>
          </a:ln>
        </p:spPr>
      </p:pic>
      <p:sp>
        <p:nvSpPr>
          <p:cNvPr id="14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CB7B69C-7557-4099-AB94-D0CA1B43EE7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44D131-C526-4DF4-A3CD-49F8F74B36D5}"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s taxable income by $1 million, what tax rate should you use in your analysis?</a:t>
            </a:r>
            <a:endParaRPr b="0" lang="en-US" sz="2800" spc="-1" strike="noStrike">
              <a:solidFill>
                <a:srgbClr val="000000"/>
              </a:solidFill>
              <a:latin typeface="Arial"/>
            </a:endParaRPr>
          </a:p>
        </p:txBody>
      </p:sp>
      <p:sp>
        <p:nvSpPr>
          <p:cNvPr id="14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770F263-2D9C-41A1-8560-ACDAEB0662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5953C53-181B-49B6-BED2-62EEB0873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460DEDF-D85B-4153-8D24-B606C7CFF7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B497D8-26FA-4862-8CB4-AAF11667FF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AFC8F56-BA1D-4111-9B9B-424EBDA5D0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223BA87-1759-41C3-A521-2C7203C9F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2800" spc="-1" strike="noStrike" u="sng">
                <a:solidFill>
                  <a:srgbClr val="009999"/>
                </a:solidFill>
                <a:uFillTx/>
                <a:latin typeface="Arial"/>
                <a:hlinkClick r:id="rId1" action="ppaction://hlinksldjump"/>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D195439-F0BB-4061-B5C9-A2804BCB02F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2DB9C45-F6C5-4FDA-97A1-C4D4B917C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C9685A4-4EC0-40D0-B61F-47D387B893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80FDCD6-5F51-4CD1-A642-B01992FC8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
          <p:cNvGraphicFramePr/>
          <p:nvPr/>
        </p:nvGraphicFramePr>
        <p:xfrm>
          <a:off x="2211480" y="1911240"/>
          <a:ext cx="6094440" cy="4046760"/>
        </p:xfrm>
        <a:graphic>
          <a:graphicData uri="http://schemas.openxmlformats.org/presentationml/2006/ole">
            <p:oleObj r:id="rId1" spid="">
              <p:embed/>
              <p:pic>
                <p:nvPicPr>
                  <p:cNvPr id="160" name=""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F82AB76-C508-48B1-8BED-CCD4EA82A7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9D24EBA-702D-44AC-A013-38A43BBE17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ash flow from its financial statements</a:t>
            </a:r>
            <a:endParaRPr b="0" lang="en-US" sz="3200" spc="-1" strike="noStrike">
              <a:solidFill>
                <a:srgbClr val="000000"/>
              </a:solidFill>
              <a:latin typeface="Arial"/>
            </a:endParaRPr>
          </a:p>
        </p:txBody>
      </p:sp>
      <p:sp>
        <p:nvSpPr>
          <p:cNvPr id="10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658D467-8865-4F40-9F50-9E3266897CD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9A20240-F30F-415D-B482-B278F3A7F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3374870-3E6F-4255-9DB4-E961569BCC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7D69B67-6282-4F48-BA47-F8F39E5B9A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8FD008F-9BB2-4034-B806-5DB9BBDF98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87CC05-4373-46F3-85EA-E19EADE2A7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s cash flows?  What are the equations, and where do we find the information?</a:t>
            </a:r>
            <a:endParaRPr b="0" lang="en-US" sz="2600" spc="-1" strike="noStrike">
              <a:solidFill>
                <a:srgbClr val="000000"/>
              </a:solidFill>
              <a:latin typeface="Arial"/>
            </a:endParaRPr>
          </a:p>
        </p:txBody>
      </p:sp>
      <p:sp>
        <p:nvSpPr>
          <p:cNvPr id="1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5C1CB5A-97A6-4898-87B6-C6BC3B5931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58D5708-5F4D-4631-8DE6-191B40B5B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63DAEA3-D64B-4AC3-B0E3-EBE5CD2E04C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4BB5B2-1F38-4D75-BB3B-E8DA53D07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3885B87-B8F1-4EE6-98FC-DF66AFB539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F1F369E-5041-4CE5-95B3-9DDC868682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DA04CC3-6159-4614-903F-6B7F508FFB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59CC867-6700-4C67-BCCA-602EA1B5FB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6C466F7-7340-49A1-8B81-C1185BFDA9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34AE475-4399-4D33-9041-4EE4A11916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F05A9BC-08BC-4CB5-AAF5-726878B2A8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24BD93-D6EE-4617-9F7F-9AD949DD61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
          <p:cNvGraphicFramePr/>
          <p:nvPr/>
        </p:nvGraphicFramePr>
        <p:xfrm>
          <a:off x="1719360" y="1868400"/>
          <a:ext cx="6029280" cy="3256200"/>
        </p:xfrm>
        <a:graphic>
          <a:graphicData uri="http://schemas.openxmlformats.org/presentationml/2006/ole">
            <p:oleObj r:id="rId1" spid="">
              <p:embed/>
              <p:pic>
                <p:nvPicPr>
                  <p:cNvPr id="109" name=""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
          <p:cNvGraphicFramePr/>
          <p:nvPr/>
        </p:nvGraphicFramePr>
        <p:xfrm>
          <a:off x="7056360" y="2971800"/>
          <a:ext cx="1859040" cy="2833560"/>
        </p:xfrm>
        <a:graphic>
          <a:graphicData uri="http://schemas.openxmlformats.org/presentationml/2006/ole">
            <p:oleObj r:id="rId3" spid="">
              <p:embed/>
              <p:pic>
                <p:nvPicPr>
                  <p:cNvPr id="111" name=""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E4D47B5-ACAD-412C-B3E3-EA8CEF0F1A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F180F57-FF42-4B5D-9678-520919163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3490AE6-4F57-4CAD-9F67-9DC826C8F20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01B07E-4875-4A0D-9FA8-4AC68FD1B2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600200" y="1905120"/>
            <a:ext cx="7315200" cy="4263840"/>
          </a:xfrm>
          <a:prstGeom prst="rect">
            <a:avLst/>
          </a:prstGeom>
          <a:ln w="0">
            <a:noFill/>
          </a:ln>
        </p:spPr>
      </p:pic>
      <p:sp>
        <p:nvSpPr>
          <p:cNvPr id="119"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CCEE770-DE77-4E4D-B8E9-87B47CE4E6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pic>
        <p:nvPicPr>
          <p:cNvPr id="120" name="" descr=""/>
          <p:cNvPicPr/>
          <p:nvPr/>
        </p:nvPicPr>
        <p:blipFill>
          <a:blip r:embed="rId2"/>
          <a:stretch/>
        </p:blipFill>
        <p:spPr>
          <a:xfrm>
            <a:off x="1017720" y="5334120"/>
            <a:ext cx="277560" cy="453960"/>
          </a:xfrm>
          <a:prstGeom prst="rect">
            <a:avLst/>
          </a:prstGeom>
          <a:ln w="0">
            <a:noFill/>
          </a:ln>
        </p:spPr>
      </p:pic>
      <p:sp>
        <p:nvSpPr>
          <p:cNvPr id="3" name="PlaceHolder 2"/>
          <p:cNvSpPr>
            <a:spLocks noGrp="1"/>
          </p:cNvSpPr>
          <p:nvPr>
            <p:ph type="sldNum" idx="3"/>
          </p:nvPr>
        </p:nvSpPr>
        <p:spPr/>
        <p:txBody>
          <a:bodyPr/>
          <a:p>
            <a:fld id="{58AA797C-B3E4-4F28-9DA1-063E367DF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BC37054-89B9-483E-B760-6CE9420E21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9A40B93-2452-4D3E-94A6-7FC0412348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800"/>
                <a:gridCol w="1116360"/>
                <a:gridCol w="1117800"/>
                <a:gridCol w="1117800"/>
                <a:gridCol w="1116360"/>
                <a:gridCol w="1117800"/>
              </a:tblGrid>
              <a:tr h="45540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r>
              <a:tr h="81900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999E285-318A-4B89-ACCC-61E690CBEE7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E218CD4-512B-43CA-B3AA-D75441E955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mageshkumar.s</cp:lastModifiedBy>
  <dcterms:modified xsi:type="dcterms:W3CDTF">2009-02-13T07:22:35Z</dcterms:modified>
  <cp:revision>69</cp:revision>
  <dc:subject/>
  <dc:title>Financial Statements, Taxes and Cash Flow</dc:title>
</cp:coreProperties>
</file>