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1BB2B-47B8-436B-9D5B-59F0D67E1B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FF82-0580-4F01-9B09-16714738D7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7E3A-A22D-47F6-96A7-0EFD055C3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AF38-D947-4966-941A-6619393A6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1C34-AB5E-4B4F-BF22-DC9D4C48A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116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49520" y="106632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33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116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149520" y="385236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5F31-C358-4AD6-B041-18ACA20659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2D77-9DD1-4E36-91AB-2E1A73AFE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DD07C-A384-419D-A894-A5B1952D2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BEB7F-043D-4C80-A658-020FB0C3F1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DCA1-75CF-4769-826F-DFF19BCA2D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789080" y="385236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8743-F529-4C72-B124-CFB560D3F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9080" y="106632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3160" y="385236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DF46-0B00-445F-A45B-5A693E70C7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85880" y="76320"/>
            <a:ext cx="8345520" cy="7920"/>
          </a:xfrm>
          <a:custGeom>
            <a:avLst/>
            <a:gdLst/>
            <a:ahLst/>
            <a:rect l="l" t="t" r="r" b="b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501480" y="-763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31680" y="-701640"/>
            <a:ext cx="865080" cy="2060640"/>
          </a:xfrm>
          <a:custGeom>
            <a:avLst/>
            <a:gdLst/>
            <a:ahLst/>
            <a:rect l="l" t="t" r="r" b="b"/>
            <a:pathLst>
              <a:path w="545" h="1298">
                <a:moveTo>
                  <a:pt x="12" y="1298"/>
                </a:moveTo>
                <a:cubicBezTo>
                  <a:pt x="92" y="1298"/>
                  <a:pt x="116" y="1298"/>
                  <a:pt x="196" y="1298"/>
                </a:cubicBezTo>
                <a:cubicBezTo>
                  <a:pt x="237" y="1174"/>
                  <a:pt x="188" y="1122"/>
                  <a:pt x="248" y="753"/>
                </a:cubicBezTo>
                <a:cubicBezTo>
                  <a:pt x="308" y="384"/>
                  <a:pt x="545" y="28"/>
                  <a:pt x="528" y="8"/>
                </a:cubicBezTo>
                <a:cubicBezTo>
                  <a:pt x="507" y="0"/>
                  <a:pt x="208" y="491"/>
                  <a:pt x="122" y="706"/>
                </a:cubicBezTo>
                <a:cubicBezTo>
                  <a:pt x="42" y="899"/>
                  <a:pt x="0" y="1193"/>
                  <a:pt x="12" y="1298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0" y="1371600"/>
            <a:ext cx="457200" cy="3240"/>
          </a:xfrm>
          <a:custGeom>
            <a:avLst/>
            <a:gdLst/>
            <a:ahLst/>
            <a:rect l="l" t="t" r="r" b="b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279360" y="1371600"/>
            <a:ext cx="9720" cy="5486400"/>
          </a:xfrm>
          <a:custGeom>
            <a:avLst/>
            <a:gdLst/>
            <a:ahLst/>
            <a:rect l="l" t="t" r="r" b="b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-12600" y="-690480"/>
            <a:ext cx="819000" cy="2049480"/>
          </a:xfrm>
          <a:custGeom>
            <a:avLst/>
            <a:gdLst/>
            <a:ahLst/>
            <a:rect l="l" t="t" r="r" b="b"/>
            <a:pathLst>
              <a:path w="516" h="1291">
                <a:moveTo>
                  <a:pt x="0" y="1291"/>
                </a:moveTo>
                <a:cubicBezTo>
                  <a:pt x="19" y="1192"/>
                  <a:pt x="30" y="920"/>
                  <a:pt x="116" y="705"/>
                </a:cubicBezTo>
                <a:cubicBezTo>
                  <a:pt x="248" y="314"/>
                  <a:pt x="432" y="147"/>
                  <a:pt x="516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291960" y="-674640"/>
            <a:ext cx="519120" cy="2033640"/>
          </a:xfrm>
          <a:custGeom>
            <a:avLst/>
            <a:gdLst/>
            <a:ahLst/>
            <a:rect l="l" t="t" r="r" b="b"/>
            <a:pathLst>
              <a:path w="327" h="1281">
                <a:moveTo>
                  <a:pt x="0" y="1281"/>
                </a:moveTo>
                <a:cubicBezTo>
                  <a:pt x="9" y="1188"/>
                  <a:pt x="3" y="941"/>
                  <a:pt x="57" y="728"/>
                </a:cubicBezTo>
                <a:cubicBezTo>
                  <a:pt x="116" y="476"/>
                  <a:pt x="271" y="152"/>
                  <a:pt x="327" y="0"/>
                </a:cubicBez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-25560" y="6629400"/>
            <a:ext cx="8993520" cy="1440"/>
          </a:xfrm>
          <a:custGeom>
            <a:avLst/>
            <a:gdLst/>
            <a:ahLst/>
            <a:rect l="l" t="t" r="r" b="b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"/>
          <p:cNvSpPr/>
          <p:nvPr/>
        </p:nvSpPr>
        <p:spPr>
          <a:xfrm>
            <a:off x="82224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sldNum" idx="1"/>
          </p:nvPr>
        </p:nvSpPr>
        <p:spPr>
          <a:xfrm>
            <a:off x="708624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3-</a:t>
            </a:r>
            <a:fld id="{E9619573-6C41-4A55-AF5F-629E35FAB7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"/>
          <p:cNvSpPr/>
          <p:nvPr/>
        </p:nvSpPr>
        <p:spPr>
          <a:xfrm>
            <a:off x="291960" y="990720"/>
            <a:ext cx="9156960" cy="9360"/>
          </a:xfrm>
          <a:custGeom>
            <a:avLst/>
            <a:gdLst/>
            <a:ahLst/>
            <a:rect l="l" t="t" r="r" b="b"/>
            <a:pathLst>
              <a:path w="5768" h="6">
                <a:moveTo>
                  <a:pt x="0" y="0"/>
                </a:moveTo>
                <a:lnTo>
                  <a:pt x="5768" y="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1295280"/>
            <a:ext cx="228600" cy="38124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838080"/>
            <a:ext cx="2374920" cy="865440"/>
          </a:xfrm>
          <a:custGeom>
            <a:avLst/>
            <a:gdLst/>
            <a:ahLst/>
            <a:rect l="l" t="t" r="r" b="b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1143000"/>
            <a:ext cx="609840" cy="53352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76720" y="1143000"/>
            <a:ext cx="6094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86200" y="1143000"/>
            <a:ext cx="1905120" cy="5335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1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294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0" y="167652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-360" y="114300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8620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767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0773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05920" y="0"/>
            <a:ext cx="0" cy="1676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629400" y="828720"/>
            <a:ext cx="2362320" cy="852480"/>
            <a:chOff x="6629400" y="828720"/>
            <a:chExt cx="2362320" cy="852480"/>
          </a:xfrm>
        </p:grpSpPr>
        <p:sp>
          <p:nvSpPr>
            <p:cNvPr id="89" name=""/>
            <p:cNvSpPr/>
            <p:nvPr/>
          </p:nvSpPr>
          <p:spPr>
            <a:xfrm>
              <a:off x="6629400" y="828720"/>
              <a:ext cx="2362320" cy="847800"/>
            </a:xfrm>
            <a:custGeom>
              <a:avLst/>
              <a:gdLst/>
              <a:ahLst/>
              <a:rect l="l" t="t" r="r" b="b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1152360"/>
              <a:ext cx="2346480" cy="528840"/>
            </a:xfrm>
            <a:custGeom>
              <a:avLst/>
              <a:gdLst/>
              <a:ahLst/>
              <a:rect l="l" t="t" r="r" b="b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07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5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ap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1143000" y="1828800"/>
            <a:ext cx="10058400" cy="48006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379080" y="627696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d8b8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-319320" y="6248160"/>
            <a:ext cx="2374920" cy="865080"/>
          </a:xfrm>
          <a:custGeom>
            <a:avLst/>
            <a:gdLst/>
            <a:ahLst/>
            <a:rect l="l" t="t" r="r" b="b"/>
            <a:pathLst>
              <a:path w="1496" h="545">
                <a:moveTo>
                  <a:pt x="0" y="0"/>
                </a:moveTo>
                <a:cubicBezTo>
                  <a:pt x="0" y="0"/>
                  <a:pt x="0" y="96"/>
                  <a:pt x="0" y="192"/>
                </a:cubicBezTo>
                <a:cubicBezTo>
                  <a:pt x="124" y="233"/>
                  <a:pt x="406" y="161"/>
                  <a:pt x="743" y="247"/>
                </a:cubicBezTo>
                <a:cubicBezTo>
                  <a:pt x="1080" y="333"/>
                  <a:pt x="1468" y="545"/>
                  <a:pt x="1488" y="528"/>
                </a:cubicBezTo>
                <a:cubicBezTo>
                  <a:pt x="1496" y="507"/>
                  <a:pt x="982" y="201"/>
                  <a:pt x="790" y="121"/>
                </a:cubicBezTo>
                <a:cubicBezTo>
                  <a:pt x="598" y="41"/>
                  <a:pt x="165" y="25"/>
                  <a:pt x="0" y="0"/>
                </a:cubicBezTo>
                <a:close/>
              </a:path>
            </a:pathLst>
          </a:custGeom>
          <a:solidFill>
            <a:srgbClr val="367d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5408640" y="6810480"/>
            <a:ext cx="2820960" cy="573120"/>
          </a:xfrm>
          <a:prstGeom prst="rect">
            <a:avLst/>
          </a:prstGeom>
          <a:solidFill>
            <a:srgbClr val="c8b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10800000">
            <a:off x="5408280" y="6629040"/>
            <a:ext cx="609480" cy="1810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0800000">
            <a:off x="2057040" y="6652800"/>
            <a:ext cx="609480" cy="1825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3124080" y="6276960"/>
            <a:ext cx="60984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8229600" y="6629040"/>
            <a:ext cx="990720" cy="30492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2894040" y="6276600"/>
            <a:ext cx="1440" cy="352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6629400"/>
            <a:ext cx="0" cy="5335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58640" y="6276960"/>
            <a:ext cx="9601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5240" y="6784560"/>
            <a:ext cx="6173640" cy="255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731760" y="6276960"/>
            <a:ext cx="180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410080" y="6629040"/>
            <a:ext cx="0" cy="3049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608040" y="6276960"/>
            <a:ext cx="1440" cy="5810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379440" y="6276960"/>
            <a:ext cx="1440" cy="6573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-306360" y="6270480"/>
            <a:ext cx="2362320" cy="852480"/>
            <a:chOff x="-306360" y="6270480"/>
            <a:chExt cx="2362320" cy="852480"/>
          </a:xfrm>
        </p:grpSpPr>
        <p:sp>
          <p:nvSpPr>
            <p:cNvPr id="113" name=""/>
            <p:cNvSpPr/>
            <p:nvPr/>
          </p:nvSpPr>
          <p:spPr>
            <a:xfrm rot="10800000">
              <a:off x="-306360" y="6275160"/>
              <a:ext cx="2362320" cy="847800"/>
            </a:xfrm>
            <a:custGeom>
              <a:avLst/>
              <a:gdLst/>
              <a:ahLst/>
              <a:rect l="l" t="t" r="r" b="b"/>
              <a:pathLst>
                <a:path w="1488" h="534">
                  <a:moveTo>
                    <a:pt x="0" y="6"/>
                  </a:moveTo>
                  <a:cubicBezTo>
                    <a:pt x="130" y="27"/>
                    <a:pt x="392" y="0"/>
                    <a:pt x="783" y="133"/>
                  </a:cubicBezTo>
                  <a:cubicBezTo>
                    <a:pt x="1174" y="266"/>
                    <a:pt x="1341" y="450"/>
                    <a:pt x="1488" y="534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0800000">
              <a:off x="-290520" y="6270480"/>
              <a:ext cx="2346480" cy="528840"/>
            </a:xfrm>
            <a:custGeom>
              <a:avLst/>
              <a:gdLst/>
              <a:ahLst/>
              <a:rect l="l" t="t" r="r" b="b"/>
              <a:pathLst>
                <a:path w="1478" h="333">
                  <a:moveTo>
                    <a:pt x="0" y="0"/>
                  </a:moveTo>
                  <a:cubicBezTo>
                    <a:pt x="125" y="10"/>
                    <a:pt x="498" y="2"/>
                    <a:pt x="750" y="62"/>
                  </a:cubicBezTo>
                  <a:cubicBezTo>
                    <a:pt x="1002" y="122"/>
                    <a:pt x="1326" y="277"/>
                    <a:pt x="1478" y="333"/>
                  </a:cubicBezTo>
                </a:path>
              </a:pathLst>
            </a:custGeom>
            <a:noFill/>
            <a:ln w="38160">
              <a:solidFill>
                <a:srgbClr val="dad07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4191120" y="6629400"/>
            <a:ext cx="49528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6019920" y="6629400"/>
            <a:ext cx="0" cy="4572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124080" y="6248160"/>
            <a:ext cx="0" cy="6094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8229600" y="6629040"/>
            <a:ext cx="0" cy="2286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760" y="6629400"/>
            <a:ext cx="358164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6324480"/>
            <a:ext cx="2667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Copyright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by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inance.yahoo.com/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finance.yahoo.com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nasdbondinfo.com/" TargetMode="External"/><Relationship Id="rId2" Type="http://schemas.openxmlformats.org/officeDocument/2006/relationships/hyperlink" Target="http://www.investinginbonds.com/" TargetMode="External"/><Relationship Id="rId3" Type="http://schemas.openxmlformats.org/officeDocument/2006/relationships/hyperlink" Target="http://www.finra.com/" TargetMode="External"/><Relationship Id="rId4" Type="http://schemas.openxmlformats.org/officeDocument/2006/relationships/hyperlink" Target="http://www.fool.com/" TargetMode="External"/><Relationship Id="rId5" Type="http://schemas.openxmlformats.org/officeDocument/2006/relationships/hyperlink" Target="http://www.stocktickercompany.com/" TargetMode="External"/><Relationship Id="rId6" Type="http://schemas.openxmlformats.org/officeDocument/2006/relationships/hyperlink" Target="http://www.stocktickercompany.com/" TargetMode="External"/><Relationship Id="rId7" Type="http://schemas.openxmlformats.org/officeDocument/2006/relationships/hyperlink" Target="http://www.cmegroup.com/" TargetMode="External"/><Relationship Id="rId8" Type="http://schemas.openxmlformats.org/officeDocument/2006/relationships/hyperlink" Target="http://www.cboe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hyperlink" Target="http://www.wsj.com/" TargetMode="External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127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276720" y="1828440"/>
            <a:ext cx="5410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Overview of </a:t>
            </a:r>
            <a:br>
              <a:rPr sz="3600"/>
            </a:b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80600"/>
            <a:ext cx="830556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BM shares, Microsoft shares, Intel shares, Dell shares, etc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Many companies pay cash dividends to their shareholders. However, neither the timing nor the amount of any dividend is guarant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7FBD-64BE-423F-B8A6-48CD31E6210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ommon Stock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858000" cy="5465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B1E2C-3215-491F-A193-776E9AA6F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ommon Stock Price Quotes Online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finance.yahoo.com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43000" y="1371600"/>
            <a:ext cx="6942240" cy="1978560"/>
            <a:chOff x="1143000" y="1371600"/>
            <a:chExt cx="6942240" cy="1978560"/>
          </a:xfrm>
        </p:grpSpPr>
        <p:sp>
          <p:nvSpPr>
            <p:cNvPr id="206" name=""/>
            <p:cNvSpPr/>
            <p:nvPr/>
          </p:nvSpPr>
          <p:spPr>
            <a:xfrm flipH="1" flipV="1">
              <a:off x="1712520" y="2326680"/>
              <a:ext cx="304920" cy="685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17800" y="3012840"/>
              <a:ext cx="2361960" cy="33732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"/>
                </a:rPr>
                <a:t>First, enter symbol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1143000" y="1371600"/>
              <a:ext cx="6942240" cy="90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"/>
          <p:cNvGrpSpPr/>
          <p:nvPr/>
        </p:nvGrpSpPr>
        <p:grpSpPr>
          <a:xfrm>
            <a:off x="914400" y="4038480"/>
            <a:ext cx="7543800" cy="2104920"/>
            <a:chOff x="914400" y="4038480"/>
            <a:chExt cx="7543800" cy="2104920"/>
          </a:xfrm>
        </p:grpSpPr>
        <p:grpSp>
          <p:nvGrpSpPr>
            <p:cNvPr id="210" name=""/>
            <p:cNvGrpSpPr/>
            <p:nvPr/>
          </p:nvGrpSpPr>
          <p:grpSpPr>
            <a:xfrm>
              <a:off x="6476760" y="4724280"/>
              <a:ext cx="1981440" cy="580680"/>
              <a:chOff x="6476760" y="4724280"/>
              <a:chExt cx="1981440" cy="580680"/>
            </a:xfrm>
          </p:grpSpPr>
          <p:sp>
            <p:nvSpPr>
              <p:cNvPr id="211" name=""/>
              <p:cNvSpPr/>
              <p:nvPr/>
            </p:nvSpPr>
            <p:spPr>
              <a:xfrm>
                <a:off x="7010280" y="4724280"/>
                <a:ext cx="1447920" cy="580680"/>
              </a:xfrm>
              <a:prstGeom prst="rect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ff"/>
                    </a:solidFill>
                    <a:latin typeface="Arial"/>
                  </a:rPr>
                  <a:t>Resulting Scree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6476760" y="5028840"/>
                <a:ext cx="5331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3" name="" descr=""/>
            <p:cNvPicPr/>
            <p:nvPr/>
          </p:nvPicPr>
          <p:blipFill>
            <a:blip r:embed="rId3"/>
            <a:stretch/>
          </p:blipFill>
          <p:spPr>
            <a:xfrm>
              <a:off x="914400" y="4038480"/>
              <a:ext cx="5416560" cy="21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8C267-D9D5-4A50-9F88-CFA18ECB94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Preferred Stock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itigroup preferred stock (Do a Google search for it)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Dividends are “promised.” However, there is no legal requirement that the dividends be paid, as long as no common dividends are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The stock value may rise or fall depending on the prospects for the company and market-wide circum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E8C3-0069-4393-A01A-58E4F4471A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imary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originally sold by a business or government to raise mon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erivative as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inancial asset that i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riv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n existing traded asset, rather than issued by a business or government to raise capital. More generally, any financial asset that is not a primary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23D08-295B-40DB-B365-4F81C45C215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Derivative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utures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made today regarding the terms of a trade that will take place l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on contrac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greement that gives the owner the right, but not the obligation, to buy or sell a specific asset at a specified price for a set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B856E-5232-4A64-9B00-D614A6DFC6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nancial futures (i.e., S&amp;P 500, T-bonds, foreign currencies, and others); Commodity futures (i.e., wheat, crude oil, cattle, and others)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t maturity, you gain if your contracted price is better than the market price of the underlying asset, and vice ver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you sell your contract before its maturity, you may gain or lose depending on the market price for the con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ote that enormous gains and loss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25E85-7AFA-485B-9540-BF11FB2DFC9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Contracts: Online Price Quo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Markets Data Center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38280" y="1467000"/>
            <a:ext cx="7867440" cy="392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7FEDF-C746-47B7-A3B9-3596649205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utures Price Quotes Online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7143840" cy="129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DDB0-6FD9-405A-8528-608E28DC50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call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bu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omething, while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ut op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the owner the right, but not the obligation, to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el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h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“something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an asset, a commodity, or an inde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ice you pay today to buy an option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option premi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pecified price at which the underlying asset can be bought or sold is called t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ike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xercise pri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F6B5-E488-49FE-A795-5EADC94A680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 quotes for all types of investments are easy to find, but what do they mean? Learn the answer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Various types of interest-bearing asse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Equity securiti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Futures contract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Option contra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8054C-A413-43AC-B4AF-1307EDB89A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Americ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ny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 to and including the expiration date, while a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uropean o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exercised only o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piration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s differ from futures in two main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call options have no obligation to buy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Holders of put options have no obligation to sell the underlying ass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67d82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To avoid this obligation, buyers of calls and puts must pay a price today.  Holders of futures contracts do not pay for the contract toda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DE47-DCCF-4335-9775-5156DE621CF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II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call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oretically unlimited profi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call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market price minus the strike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call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oretically unlimited lo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losses are limited, but gains are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276C2-C5A7-4722-8B3D-A4301BBE489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Option Contracts, IV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 and losses from put options: </a:t>
            </a:r>
            <a:br>
              <a:rPr sz="2000"/>
            </a:b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Bu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greater than the option premium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market price (for the underlying) is ze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the put buyer loses the entire premium.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Sell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ofit when the strike price minus the market price is less than the option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Best case, the put seller collects the entire premiu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67d8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Worst case, market price (for the underlying) is z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67d8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, </a:t>
            </a:r>
            <a:r>
              <a:rPr b="1" i="1" lang="en-US" sz="1800" spc="-1" strike="noStrike">
                <a:solidFill>
                  <a:srgbClr val="367d82"/>
                </a:solidFill>
                <a:latin typeface="Arial"/>
              </a:rPr>
              <a:t>for buyers and sellers</a:t>
            </a: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, gains and losses are limi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2B3C0-B887-4428-87F8-BBB23DEEB88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Option Contracts: Online Price Quotes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for Hewlett-Packard (HPQ) option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095880"/>
            <a:ext cx="53341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34290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ance.yahoo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105520" y="1143000"/>
            <a:ext cx="335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BA792-34E2-45FF-BE66-15BCD729446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oc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Suppose you have $10,000 for investments. Macron Technology is selling at $50 per share. 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Number of shares bought = $10,000 / $50 = 200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($5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1,0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4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00)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96DD5-4F8A-4298-99D4-14080B02773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vesting in Stocks versus Options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O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88688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option with a $50 strike price and 3 months to maturity is also available at a premium of $4.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A call contract costs $4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$400, so number of contracts bought = $10,000 / $400 = 25 (for 25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100 = 2500 shares)</a:t>
            </a:r>
            <a:br>
              <a:rPr sz="2000"/>
            </a:b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55 per share 3 months later, gain = {($55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50)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} -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$2,500</a:t>
            </a:r>
            <a:br>
              <a:rPr sz="2000"/>
            </a:b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67d82"/>
              </a:buClr>
              <a:buFont typeface="Arial"/>
              <a:buChar char="•"/>
              <a:tabLst>
                <a:tab algn="l" pos="788688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If Macron is selling for $45 per share 3 months later, gain = ($0 </a:t>
            </a:r>
            <a:r>
              <a:rPr b="1" lang="en-US" sz="2000" spc="-1" strike="noStrike">
                <a:solidFill>
                  <a:srgbClr val="367d82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2500) </a:t>
            </a:r>
            <a:r>
              <a:rPr b="1" lang="en-US" sz="2000" spc="-1" strike="noStrike" baseline="8000">
                <a:solidFill>
                  <a:srgbClr val="367d82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$10,000 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$10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93DE-EFC2-4241-AB61-B0F97C2387B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Useful Internet Sit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67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sdbondinfo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urrent corporate bond pri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investinginbonds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bond bas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finra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learn more about TR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fool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Are you a “Foolish investor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tocktickercompany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reproduction stock tick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cmegroup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ME Grou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cboe.com</a:t>
            </a: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hicago Board Options Exchan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prices for option ch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wsj.co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nline version o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D409-1B47-419B-B86C-E6853531E7F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69320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ifying Securiti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-Bearing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ey Market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xed-Income Securiti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ferred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on and Preferred Stock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3A81-BE2F-4C11-B66A-B3A6A782882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Chapter Review, II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40960" y="1066680"/>
            <a:ext cx="761364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s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Futures Contrac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Termi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s versu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tion Price Qu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ins and Losses on Option Contr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ing in Stocks versus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8A4D-ED2B-4283-93B1-7E92E23F20D4}" type="slidenum">
              <a:t>28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urity Typ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r goal in this chapter is to introduce the different types of securities that investors routinely buy and sell in financial markets around the world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security type, we will exam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distinguishing characteristic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potential gains and loss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ts prices are quoted in the financial 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FA239-7E41-4E33-A942-568C3498AF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assifying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143000" y="1905120"/>
            <a:ext cx="7543800" cy="3352320"/>
            <a:chOff x="1143000" y="1905120"/>
            <a:chExt cx="7543800" cy="3352320"/>
          </a:xfrm>
        </p:grpSpPr>
        <p:sp>
          <p:nvSpPr>
            <p:cNvPr id="167" name=""/>
            <p:cNvSpPr/>
            <p:nvPr/>
          </p:nvSpPr>
          <p:spPr>
            <a:xfrm>
              <a:off x="1143000" y="1905120"/>
              <a:ext cx="301752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asic 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60520" y="1905120"/>
              <a:ext cx="4526280" cy="536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jor Sub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43000" y="244116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est-bea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60520" y="244116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ey market instru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ixed-income secur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43000" y="3380040"/>
              <a:ext cx="301752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60520" y="3380040"/>
              <a:ext cx="4526280" cy="93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on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ferred sto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43000" y="4318920"/>
              <a:ext cx="301752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riva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60520" y="4318920"/>
              <a:ext cx="4526280" cy="93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t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23D4-715E-4B7B-8B87-EA1E1711B1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nterest-Bearing Asse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oney market instru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short-term debt obligations of large corporations and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one future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than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ixed-income securiti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longer-term debt obligations of corporations or gover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securities promise to make fixed payments according to a pre-set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y are issued, thei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s exceed one ye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66020-963A-426A-AC9A-9A245DB867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oney Market Instrument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.S. Treasury bills (T-bills), bank certificates of deposit (CDs), corporate and municipal money market instrument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nown future payment/except when the borrower defaults (i.e., does not pay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ce quot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ually, the instruments are sold on a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discount ba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only the interest rates are quote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, investors must be able to do calculate prices from the quoted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3DFA6-3EDE-424B-94CB-3841C67CDC9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86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xamp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.S. Treasury notes, corporate bonds, car loans, student loans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otential gains/loss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coupon payments and final payment at maturity, except when the borrower defaul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gain (loss) from fall (rise) in interest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ing on the debt issue, illiquidity can be a problem.  (Illiquidity means it is possible that you cannot sell these securities quickl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FFBEF-B51B-448B-A1B3-800FB33C2D4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Quote Example: Fixed-Income Secur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quotations from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the online version o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Wall Street Jour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me columns are self-explanatory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219320" y="2590920"/>
            <a:ext cx="6791040" cy="11048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295280" y="3200400"/>
            <a:ext cx="6553440" cy="108000"/>
          </a:xfrm>
          <a:prstGeom prst="rect">
            <a:avLst/>
          </a:prstGeom>
          <a:solidFill>
            <a:srgbClr val="b2b2b2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9480" y="3276360"/>
            <a:ext cx="3581640" cy="1524240"/>
            <a:chOff x="609480" y="3276360"/>
            <a:chExt cx="3581640" cy="1524240"/>
          </a:xfrm>
        </p:grpSpPr>
        <p:sp>
          <p:nvSpPr>
            <p:cNvPr id="186" name=""/>
            <p:cNvSpPr/>
            <p:nvPr/>
          </p:nvSpPr>
          <p:spPr>
            <a:xfrm flipH="1">
              <a:off x="3123720" y="3352680"/>
              <a:ext cx="304920" cy="914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429000" y="3276360"/>
              <a:ext cx="76320" cy="7596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9480" y="4267080"/>
              <a:ext cx="3581640" cy="533520"/>
            </a:xfrm>
            <a:prstGeom prst="rect">
              <a:avLst/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You will receive 6.875% of the bond’s fa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value each year in 2 semi-annual payment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800600" y="41148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48320" y="3276360"/>
            <a:ext cx="2438280" cy="1373760"/>
            <a:chOff x="4648320" y="3276360"/>
            <a:chExt cx="2438280" cy="1373760"/>
          </a:xfrm>
        </p:grpSpPr>
        <p:sp>
          <p:nvSpPr>
            <p:cNvPr id="191" name=""/>
            <p:cNvSpPr/>
            <p:nvPr/>
          </p:nvSpPr>
          <p:spPr>
            <a:xfrm flipV="1">
              <a:off x="6238800" y="3276360"/>
              <a:ext cx="238320" cy="90468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48320" y="4191120"/>
              <a:ext cx="2438280" cy="45900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price (per $100 face) of the bond when it last trade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334120" y="3276720"/>
            <a:ext cx="3276360" cy="2181240"/>
            <a:chOff x="5334120" y="3276720"/>
            <a:chExt cx="3276360" cy="2181240"/>
          </a:xfrm>
        </p:grpSpPr>
        <p:sp>
          <p:nvSpPr>
            <p:cNvPr id="194" name=""/>
            <p:cNvSpPr/>
            <p:nvPr/>
          </p:nvSpPr>
          <p:spPr>
            <a:xfrm flipH="1">
              <a:off x="7924320" y="3276720"/>
              <a:ext cx="304920" cy="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229600" y="3276720"/>
              <a:ext cx="0" cy="1904760"/>
            </a:xfrm>
            <a:prstGeom prst="line">
              <a:avLst/>
            </a:prstGeom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34120" y="5181480"/>
              <a:ext cx="3276360" cy="2764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Arial"/>
                </a:rPr>
                <a:t>The Yield to Maturity (YTM) of the bo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AC9EE-A185-47D4-B737-BA02BE6E1C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Equit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mmon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ownership in a corporation. A part owner receives a pro rated share of whatever is left over after all obligations have been met in the event of a liquida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Preferred st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vidend is usually fixed and must be paid before any dividends for the common shareholders. In the event of a liquidation, preferred shares have a particular face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87B4A-0573-4C45-A867-047EBC327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selvam.p</cp:lastModifiedBy>
  <dcterms:modified xsi:type="dcterms:W3CDTF">2008-10-17T08:10:16Z</dcterms:modified>
  <cp:revision>40</cp:revision>
  <dc:subject/>
  <dc:title>Slide 1</dc:title>
</cp:coreProperties>
</file>