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07D2-41F9-449D-9BAB-90415C288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19FE-A750-46C1-9C7D-3B5F2A5F3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8207-9D4E-4CDD-8667-741841D40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C982-2347-4800-8964-D6D1B5258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DEE4-DDF7-4CA6-B495-67DC66F5B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F629-82FE-46A2-8A5F-9EC7680D3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7427-C795-4911-9575-D53439E11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516C-8E0E-46F5-91F5-F469801D4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98839-108C-4D84-94B3-A8E5A49C4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7E3D-8AC1-4FA4-966D-A7F6CEC7F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9383-72F9-4DE4-ACC8-00541CFC0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A017-2AC1-41C7-85E3-7B6E12990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85880" y="76320"/>
            <a:ext cx="8345520" cy="7920"/>
          </a:xfrm>
          <a:custGeom>
            <a:avLst/>
            <a:gdLst/>
            <a:ahLst/>
            <a:rect l="l" t="t" r="r" b="b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31680" y="-701640"/>
            <a:ext cx="865080" cy="2060640"/>
          </a:xfrm>
          <a:custGeom>
            <a:avLst/>
            <a:gdLst/>
            <a:ahLst/>
            <a:rect l="l" t="t" r="r" b="b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1371600"/>
            <a:ext cx="457200" cy="3240"/>
          </a:xfrm>
          <a:custGeom>
            <a:avLst/>
            <a:gdLst/>
            <a:ahLst/>
            <a:rect l="l" t="t" r="r" b="b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279360" y="1371600"/>
            <a:ext cx="9720" cy="5486400"/>
          </a:xfrm>
          <a:custGeom>
            <a:avLst/>
            <a:gdLst/>
            <a:ahLst/>
            <a:rect l="l" t="t" r="r" b="b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-12600" y="-690480"/>
            <a:ext cx="819000" cy="2049480"/>
          </a:xfrm>
          <a:custGeom>
            <a:avLst/>
            <a:gdLst/>
            <a:ahLst/>
            <a:rect l="l" t="t" r="r" b="b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91960" y="-674640"/>
            <a:ext cx="519120" cy="2033640"/>
          </a:xfrm>
          <a:custGeom>
            <a:avLst/>
            <a:gdLst/>
            <a:ahLst/>
            <a:rect l="l" t="t" r="r" b="b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-25560" y="6629400"/>
            <a:ext cx="8993520" cy="1440"/>
          </a:xfrm>
          <a:custGeom>
            <a:avLst/>
            <a:gdLst/>
            <a:ahLst/>
            <a:rect l="l" t="t" r="r" b="b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93CFDA95-D606-4678-873A-C76BC8715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291960" y="990720"/>
            <a:ext cx="9156960" cy="9360"/>
          </a:xfrm>
          <a:custGeom>
            <a:avLst/>
            <a:gdLst/>
            <a:ahLst/>
            <a:rect l="l" t="t" r="r" b="b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77320" y="1295280"/>
            <a:ext cx="228600" cy="38124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838080"/>
            <a:ext cx="2374920" cy="865440"/>
          </a:xfrm>
          <a:custGeom>
            <a:avLst/>
            <a:gdLst/>
            <a:ahLst/>
            <a:rect l="l" t="t" r="r" b="b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/>
              <a:ahLst/>
              <a:rect l="l" t="t" r="r" b="b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/>
              <a:ahLst/>
              <a:rect l="l" t="t" r="r" b="b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/>
            <a:ahLst/>
            <a:rect l="l" t="t" r="r" b="b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3" name="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/>
              <a:ahLst/>
              <a:rect l="l" t="t" r="r" b="b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/>
              <a:ahLst/>
              <a:rect l="l" t="t" r="r" b="b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inance.yahoo.com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sj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finance.yahoo.com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asdbondinfo.com/" TargetMode="External"/><Relationship Id="rId2" Type="http://schemas.openxmlformats.org/officeDocument/2006/relationships/hyperlink" Target="http://www.investinginbonds.com/" TargetMode="External"/><Relationship Id="rId3" Type="http://schemas.openxmlformats.org/officeDocument/2006/relationships/hyperlink" Target="http://www.finra.com/" TargetMode="External"/><Relationship Id="rId4" Type="http://schemas.openxmlformats.org/officeDocument/2006/relationships/hyperlink" Target="http://www.fool.com/" TargetMode="External"/><Relationship Id="rId5" Type="http://schemas.openxmlformats.org/officeDocument/2006/relationships/hyperlink" Target="http://www.stocktickercompany.com/" TargetMode="External"/><Relationship Id="rId6" Type="http://schemas.openxmlformats.org/officeDocument/2006/relationships/hyperlink" Target="http://www.stocktickercompany.com/" TargetMode="External"/><Relationship Id="rId7" Type="http://schemas.openxmlformats.org/officeDocument/2006/relationships/hyperlink" Target="http://www.cmegroup.com/" TargetMode="External"/><Relationship Id="rId8" Type="http://schemas.openxmlformats.org/officeDocument/2006/relationships/hyperlink" Target="http://www.cboe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hyperlink" Target="http://www.wsj.com/" TargetMode="External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sj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380600"/>
            <a:ext cx="8305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M shares, Microsoft shares, Intel shares, Dell shares, et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Many companies pay cash dividends to their shareholders. However, neither the timing nor the amount of any dividend is guarant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3DFC-B51A-4A71-ADAC-9C78A8EAE6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6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FC1C-2DE1-4DF3-8FB4-E649A954F4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mon Stock Price Quotes Online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inance.yahoo.co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143000" y="1371600"/>
            <a:ext cx="6942240" cy="1978560"/>
            <a:chOff x="1143000" y="1371600"/>
            <a:chExt cx="6942240" cy="1978560"/>
          </a:xfrm>
        </p:grpSpPr>
        <p:sp>
          <p:nvSpPr>
            <p:cNvPr id="206" name=""/>
            <p:cNvSpPr/>
            <p:nvPr/>
          </p:nvSpPr>
          <p:spPr>
            <a:xfrm flipH="1" flipV="1">
              <a:off x="1712520" y="2326680"/>
              <a:ext cx="30492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17800" y="3012840"/>
              <a:ext cx="236196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st, enter symbo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1143000" y="1371600"/>
              <a:ext cx="6942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914400" y="4038480"/>
            <a:ext cx="7543800" cy="2104920"/>
            <a:chOff x="914400" y="4038480"/>
            <a:chExt cx="7543800" cy="2104920"/>
          </a:xfrm>
        </p:grpSpPr>
        <p:grpSp>
          <p:nvGrpSpPr>
            <p:cNvPr id="210" name=""/>
            <p:cNvGrpSpPr/>
            <p:nvPr/>
          </p:nvGrpSpPr>
          <p:grpSpPr>
            <a:xfrm>
              <a:off x="6476760" y="4724280"/>
              <a:ext cx="1981440" cy="580680"/>
              <a:chOff x="6476760" y="4724280"/>
              <a:chExt cx="1981440" cy="580680"/>
            </a:xfrm>
          </p:grpSpPr>
          <p:sp>
            <p:nvSpPr>
              <p:cNvPr id="211" name=""/>
              <p:cNvSpPr/>
              <p:nvPr/>
            </p:nvSpPr>
            <p:spPr>
              <a:xfrm>
                <a:off x="7010280" y="4724280"/>
                <a:ext cx="1447920" cy="5806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Resulting 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6476760" y="5028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3" name="" descr=""/>
            <p:cNvPicPr/>
            <p:nvPr/>
          </p:nvPicPr>
          <p:blipFill>
            <a:blip r:embed="rId3"/>
            <a:stretch/>
          </p:blipFill>
          <p:spPr>
            <a:xfrm>
              <a:off x="914400" y="4038480"/>
              <a:ext cx="5416560" cy="21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A622-2C3B-403A-B153-E991B488D1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ferred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tigroup preferred stock (Do a Google search for it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Dividends are “promised.” However, there is no legal requirement that the dividends be paid, as long as no common dividends are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DC6F-92B2-4A76-9E32-06E43EC4496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originally sold by a business or government to rais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ivative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asset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 existing traded asset, rather than issued by a business or government to raise capital. More generally, any financial asset that is not a primary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898C-C087-4248-B752-53F0A60201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tures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made today regarding the terms of a trade that will take place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that gives the owner the right, but not the obligation, to buy or sell a specific asset at a specified price for a set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F5AD-6C54-412F-9EA9-9475184C65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cial futures (i.e., S&amp;P 500, T-bonds, foreign currencies, and others); Commodity futures (i.e., wheat, crude oil, cattle, and others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t maturity, you gain if your contracted price is better than the market price of the underlying asset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you sell your contract before its maturity, you may gain or lose depending on the market price for the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te that enormous gains and loss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4D4D-C5C7-43EB-8117-235FA31E1BF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: Online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sj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38280" y="1467000"/>
            <a:ext cx="7867440" cy="39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C5E8-0A32-489A-ACD4-309CADA757F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Price Quotes Onlin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7143840" cy="129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4AA0-2AE8-47AA-80EF-04575F65F6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ll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thing, whil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u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“something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 asset, a commodity, or an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you pay today to buy an option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ified price at which the underlying asset can be bought or sold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E35B-4D9B-4E61-851E-6ABE1201051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quotes for all types of investments are easy to find, but what do they mean? Learn the answ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arious types of interest-bearing asse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quity securiti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utures contra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Option contr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0FB1-4185-4106-8D6B-7CF61BC695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meric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nd including the expiration date, whil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rope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iration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differ from futures in two mai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call options have no obligation to buy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put options have no obligation to sell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 avoid this obligation, buyers of calls and puts must pay a price today.  Holders of futures contracts do not pay for the contract toda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7010-DCEB-42F8-A67D-E0D2365C1CB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call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oretically unlimited pro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call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call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oretically unlimited lo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losses are limited, but gains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9FC3-CA46-4FFA-B9FA-19A574D659D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V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put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market price (for the underlying) i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put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put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market price (for the underlying) is 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 and sell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gains and losses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D700-1B52-49EB-B420-B627E6048F5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tion Contracts: Online Price Quot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 Hewlett-Packard (HPQ) op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5880"/>
            <a:ext cx="533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4290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ance.yahoo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35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F962-35A7-450A-88ED-60E3CE8127B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uppose you have $10,000 for investments. Macron Technology is selling at $50 per share. 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umber of shares bought = $10,000 / $50 = 200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($5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1,0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4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5007-7629-4577-9D2A-A537A148E08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option with a $50 strike price and 3 months to maturity is also available at a premium of $4.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contract costs $4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$400, so number of contracts bought = $10,000 / $400 = 25 (for 2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2500 shares)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{($55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50)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}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2,5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0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)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206F-1229-46F3-8FD5-1A415217202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6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sdbondinfo.com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urrent corporate bond 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vestinginbonds.com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ond ba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inra.com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earn more about TR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ool.com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re you a “Foolish investor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tocktickercompany.com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production stock tic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cmegroup.com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M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cboe.com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ago Board Options Ex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ces for option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wsj.c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nline vers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21C3-7021-47FE-8443-3C5E9B103AA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32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 Secu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-Bear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Market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-Income Securit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and Preferred Stock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A23D-6837-4B0A-97CF-9F9B76AA4E4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40960" y="1066680"/>
            <a:ext cx="76136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Futures Contrac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versu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Op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ng in Stocks vers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B38C-7CEB-412C-9FEF-6F049C951EF5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introduce the different types of securities that investors routinely buy and sell in financial markets around the wor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ecurity type, we will exa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distinguishing character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otential gains and loss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ts prices are quoted in the financial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B6E5-9C13-4FE6-9059-CEA3A6D941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assify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143000" y="1905120"/>
            <a:ext cx="7543800" cy="3352320"/>
            <a:chOff x="1143000" y="1905120"/>
            <a:chExt cx="7543800" cy="3352320"/>
          </a:xfrm>
        </p:grpSpPr>
        <p:sp>
          <p:nvSpPr>
            <p:cNvPr id="167" name=""/>
            <p:cNvSpPr/>
            <p:nvPr/>
          </p:nvSpPr>
          <p:spPr>
            <a:xfrm>
              <a:off x="1143000" y="1905120"/>
              <a:ext cx="301752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ic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60520" y="1905120"/>
              <a:ext cx="452628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 Sub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3000" y="244116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-be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60520" y="244116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y market instru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-income secur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43000" y="3380040"/>
              <a:ext cx="301752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60520" y="3380040"/>
              <a:ext cx="452628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ferred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43000" y="431892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60520" y="431892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7A96-04E9-4BEA-9007-138E6907C0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terest-Bearing Asse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y market instr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-term debt obligations of large corporations and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one future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xed-income secur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onger-term debt obligations of corporations or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fixed payments according to a pre-set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exceed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E27E-B39B-4B4D-878B-11D32E39A1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ey Market Instrume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Treasury bills (T-bills), bank certificates of deposit (CDs), corporate and municipal money market instrument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nown future payment/except when the borrower defaults (i.e., does not pay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ce quo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, the instruments are sold on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iscou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ly the interest rates are quo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nvestors must be able to do calculate prices from the quote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D9E3-F876-427F-B64E-B8301F76B6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.S. Treasury notes, corporate bonds, car loans, student loan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upon payments and final payment at maturity, except when the borrower defa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gain (loss) from fall (rise) in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debt issue, illiquidity can be a problem.  (Illiquidity means it is possible that you cannot sell these securities quick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622B-43A2-435F-8259-A0407406882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Quote Example: 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quotations from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online versio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me columns are self-explanatory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219320" y="2590920"/>
            <a:ext cx="6791040" cy="1104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95280" y="3200400"/>
            <a:ext cx="6553440" cy="108000"/>
          </a:xfrm>
          <a:prstGeom prst="rect">
            <a:avLst/>
          </a:prstGeom>
          <a:solidFill>
            <a:srgbClr val="b2b2b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9480" y="3276360"/>
            <a:ext cx="3581640" cy="1524240"/>
            <a:chOff x="609480" y="3276360"/>
            <a:chExt cx="3581640" cy="1524240"/>
          </a:xfrm>
        </p:grpSpPr>
        <p:sp>
          <p:nvSpPr>
            <p:cNvPr id="186" name=""/>
            <p:cNvSpPr/>
            <p:nvPr/>
          </p:nvSpPr>
          <p:spPr>
            <a:xfrm flipH="1">
              <a:off x="3123720" y="3352680"/>
              <a:ext cx="304920" cy="914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29000" y="3276360"/>
              <a:ext cx="76320" cy="759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480" y="4267080"/>
              <a:ext cx="3581640" cy="53352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ou will receive 6.875% of the bond’s f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alue each year in 2 semi-annual pay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800600" y="4114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648320" y="3276360"/>
            <a:ext cx="2438280" cy="1373760"/>
            <a:chOff x="4648320" y="3276360"/>
            <a:chExt cx="2438280" cy="1373760"/>
          </a:xfrm>
        </p:grpSpPr>
        <p:sp>
          <p:nvSpPr>
            <p:cNvPr id="191" name=""/>
            <p:cNvSpPr/>
            <p:nvPr/>
          </p:nvSpPr>
          <p:spPr>
            <a:xfrm flipV="1">
              <a:off x="6238800" y="3276360"/>
              <a:ext cx="238320" cy="904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48320" y="4191120"/>
              <a:ext cx="2438280" cy="4590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price (per $100 face) of the bond when it last trad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334120" y="3276720"/>
            <a:ext cx="3276360" cy="2181240"/>
            <a:chOff x="5334120" y="3276720"/>
            <a:chExt cx="3276360" cy="2181240"/>
          </a:xfrm>
        </p:grpSpPr>
        <p:sp>
          <p:nvSpPr>
            <p:cNvPr id="194" name=""/>
            <p:cNvSpPr/>
            <p:nvPr/>
          </p:nvSpPr>
          <p:spPr>
            <a:xfrm flipH="1">
              <a:off x="7924320" y="32767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29600" y="3276720"/>
              <a:ext cx="0" cy="190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34120" y="5181480"/>
              <a:ext cx="3276360" cy="276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Yield to Maturity (YTM) of the bo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DFAF-1D09-4EE0-920C-C9ACE5DF1A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qu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on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ownership in a corporation. A part owner receives a pro rated share of whatever is left over after all obligations have been met in the event of a liquid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eferred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dend is usually fixed and must be paid before any dividends for the common shareholders. In the event of a liquidation, preferred shares have a particular fa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1965-BF49-475A-8A0D-CB745E7708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selvam.p</cp:lastModifiedBy>
  <dcterms:modified xsi:type="dcterms:W3CDTF">2008-10-17T08:10:16Z</dcterms:modified>
  <cp:revision>40</cp:revision>
  <dc:subject/>
  <dc:title>Slide 1</dc:title>
</cp:coreProperties>
</file>