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3D37ED4-3AF2-4BA4-B15F-DA3345766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0640" y="681120"/>
            <a:ext cx="4538520" cy="3403440"/>
          </a:xfrm>
          <a:prstGeom prst="rect">
            <a:avLst/>
          </a:prstGeom>
          <a:ln w="0">
            <a:noFill/>
          </a:ln>
        </p:spPr>
      </p:sp>
      <p:sp>
        <p:nvSpPr>
          <p:cNvPr id="17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0640" y="681120"/>
            <a:ext cx="4538520" cy="3403440"/>
          </a:xfrm>
          <a:prstGeom prst="rect">
            <a:avLst/>
          </a:prstGeom>
          <a:ln w="0">
            <a:noFill/>
          </a:ln>
        </p:spPr>
      </p:sp>
      <p:sp>
        <p:nvSpPr>
          <p:cNvPr id="18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0640" y="681120"/>
            <a:ext cx="4538520" cy="3403440"/>
          </a:xfrm>
          <a:prstGeom prst="rect">
            <a:avLst/>
          </a:prstGeom>
          <a:ln w="0">
            <a:noFill/>
          </a:ln>
        </p:spPr>
      </p:sp>
      <p:sp>
        <p:nvSpPr>
          <p:cNvPr id="18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0640" y="681120"/>
            <a:ext cx="4538520" cy="3403440"/>
          </a:xfrm>
          <a:prstGeom prst="rect">
            <a:avLst/>
          </a:prstGeom>
          <a:ln w="0">
            <a:noFill/>
          </a:ln>
        </p:spPr>
      </p:sp>
      <p:sp>
        <p:nvSpPr>
          <p:cNvPr id="19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0640" y="681120"/>
            <a:ext cx="4538520" cy="3403440"/>
          </a:xfrm>
          <a:prstGeom prst="rect">
            <a:avLst/>
          </a:prstGeom>
          <a:ln w="0">
            <a:noFill/>
          </a:ln>
        </p:spPr>
      </p:sp>
      <p:sp>
        <p:nvSpPr>
          <p:cNvPr id="16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0640" y="681120"/>
            <a:ext cx="4538520" cy="3403440"/>
          </a:xfrm>
          <a:prstGeom prst="rect">
            <a:avLst/>
          </a:prstGeom>
          <a:ln w="0">
            <a:noFill/>
          </a:ln>
        </p:spPr>
      </p:sp>
      <p:sp>
        <p:nvSpPr>
          <p:cNvPr id="16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0640" y="681120"/>
            <a:ext cx="4538520" cy="3403440"/>
          </a:xfrm>
          <a:prstGeom prst="rect">
            <a:avLst/>
          </a:prstGeom>
          <a:ln w="0">
            <a:noFill/>
          </a:ln>
        </p:spPr>
      </p:sp>
      <p:sp>
        <p:nvSpPr>
          <p:cNvPr id="17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0640" y="681120"/>
            <a:ext cx="4538520" cy="3403440"/>
          </a:xfrm>
          <a:prstGeom prst="rect">
            <a:avLst/>
          </a:prstGeom>
          <a:ln w="0">
            <a:noFill/>
          </a:ln>
        </p:spPr>
      </p:sp>
      <p:sp>
        <p:nvSpPr>
          <p:cNvPr id="17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D438F-FD39-4FA0-ACED-70E2BC633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F3B2A-FE40-471F-99E6-63476AD7B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3896E-FC24-4ED5-AB6A-4F313EA7C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BDEFB-34D8-4F7F-B9FA-87A1CDC12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E966B-2BD3-4B87-AB55-9479B924D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B30A8-A193-4B49-BB51-A09CB9A7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BA98C-E2F0-49F5-8684-07E3FB032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C1259-0346-4E56-87B1-844633A63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7BCB6-7482-4917-BBC4-CF72EC3B1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D7D8-FB36-4BA5-A31E-1111C366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E78F6-29E5-42F4-8538-EC887D0C5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6730-1076-4BDC-ACE0-4A4D9720E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582B064-D0C3-4887-916B-A23B81024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7A58F03-1298-4244-BFAB-4F8F14CA207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B43E489-3273-491E-B0A7-A13646DF25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FBA736B-EDA1-4BE4-88B0-35F6E8C471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617D179-EB29-4D86-99B4-35C175104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0"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53AD40B-625D-46E1-B792-8B0496F1CF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D44FF56-7084-4F0A-9036-9ACD85A880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90A14BA-E2EA-4547-84EC-795129E0A1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54CFDE1-E5C7-44F6-BF30-5201F0ED7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9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C2243C9-2AD6-4001-AFEB-0856E2CBFC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6FA362D-0694-4848-A9AE-EB32B03212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F19D139-DEC6-4931-93E4-D03804724C5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D3300C1-CAA4-472C-8D34-0EC248133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DDBE26E-1AE4-42B9-BF49-36D5322CA7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28B1DE-810E-48B1-86F4-648601AEDB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D75280F-34A4-4E90-A11D-C7388CE66D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ACC6C6-E68F-4CBF-87C5-EC8A29A631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46BB6B4-C331-496E-89A7-137B7E9FC6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7AE31C-24D2-4FE2-B918-9737E65175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FEC5B4C-676D-4440-9870-B6564E848B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0529D64-81EB-48BB-94A2-FE403050B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2FC3BB7-717B-4FE1-9AEE-02E9234945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96BD250-DC7F-42C3-A546-F0DF707314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1E14CE4-F810-4B66-91D9-449AF3A7FB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90CDBC0-DFE1-4880-8219-7F3F2602A5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s financial leverage</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1CCC473-3CBF-4B5D-85E7-D46A758BDF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F6C0917-E9EE-453B-94DD-3272233DC0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 descr=""/>
          <p:cNvPicPr/>
          <p:nvPr/>
        </p:nvPicPr>
        <p:blipFill>
          <a:blip r:embed="rId1"/>
          <a:stretch/>
        </p:blipFill>
        <p:spPr>
          <a:xfrm>
            <a:off x="1371600" y="2057400"/>
            <a:ext cx="7772400" cy="3629160"/>
          </a:xfrm>
          <a:prstGeom prst="rect">
            <a:avLst/>
          </a:prstGeom>
          <a:ln w="0">
            <a:noFill/>
          </a:ln>
        </p:spPr>
      </p:pic>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4E5D77C-A092-42F3-A376-737132B9CF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B9B7D5D-44C8-492F-B30C-AF4C57731D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2514600" y="1219320"/>
            <a:ext cx="5562720" cy="5435640"/>
          </a:xfrm>
          <a:prstGeom prst="rect">
            <a:avLst/>
          </a:prstGeom>
          <a:ln w="0">
            <a:noFill/>
          </a:ln>
        </p:spPr>
      </p:pic>
      <p:sp>
        <p:nvSpPr>
          <p:cNvPr id="13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7916D76-BAE1-4F97-AC1D-48F57096C0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5C8EC83-5C1D-4C95-A16E-F97A4A0E0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A1590A6-B9C8-4FB0-A873-7E1A12AEB9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BB0502E-52CF-4025-8103-14FA5E3279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 descr=""/>
          <p:cNvPicPr/>
          <p:nvPr/>
        </p:nvPicPr>
        <p:blipFill>
          <a:blip r:embed="rId1"/>
          <a:stretch/>
        </p:blipFill>
        <p:spPr>
          <a:xfrm>
            <a:off x="8001000" y="5181480"/>
            <a:ext cx="630360" cy="890640"/>
          </a:xfrm>
          <a:prstGeom prst="rect">
            <a:avLst/>
          </a:prstGeom>
          <a:ln w="0">
            <a:noFill/>
          </a:ln>
        </p:spPr>
      </p:pic>
      <p:sp>
        <p:nvSpPr>
          <p:cNvPr id="13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E3DE2FC-5904-4260-B646-717F2226AF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5995317-8043-4355-8DBE-77CED0673273}"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 descr=""/>
          <p:cNvPicPr/>
          <p:nvPr/>
        </p:nvPicPr>
        <p:blipFill>
          <a:blip r:embed="rId1"/>
          <a:stretch/>
        </p:blipFill>
        <p:spPr>
          <a:xfrm>
            <a:off x="7696080" y="5334120"/>
            <a:ext cx="630360" cy="890640"/>
          </a:xfrm>
          <a:prstGeom prst="rect">
            <a:avLst/>
          </a:prstGeom>
          <a:ln w="0">
            <a:noFill/>
          </a:ln>
        </p:spPr>
      </p:pic>
      <p:sp>
        <p:nvSpPr>
          <p:cNvPr id="14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15F2914-EC57-48E8-BCAD-417BCAE242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46039D9-B1E6-4530-B1C3-D97B04EB8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358D1EB-56E6-4334-9486-A8810B0A3FF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312A59-3BED-498B-94D1-90B4F9217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E013633-34AC-419F-826B-3D42D9217C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C4441A4-CCC5-44D1-A143-EBABB0BAF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AFE9FD0-3EAE-4248-8494-06F5D44B21E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691FCD-3AD4-424F-93A1-49EC16581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D19829B-6A7B-4A8D-86C9-B07EA6D1D5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1586279-8281-4EA6-88A1-4CFD263166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 descr=""/>
          <p:cNvPicPr/>
          <p:nvPr/>
        </p:nvPicPr>
        <p:blipFill>
          <a:blip r:embed="rId1"/>
          <a:stretch/>
        </p:blipFill>
        <p:spPr>
          <a:xfrm>
            <a:off x="7543800" y="5334120"/>
            <a:ext cx="584280" cy="793800"/>
          </a:xfrm>
          <a:prstGeom prst="rect">
            <a:avLst/>
          </a:prstGeom>
          <a:ln w="0">
            <a:noFill/>
          </a:ln>
        </p:spPr>
      </p:pic>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D8FCCB5-F175-44B2-99BE-2F0B43B24B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6C87E8-1D3D-45E0-9C95-B7E69EEED9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2866F4E-5BDA-4DA9-8025-2D5CAEFB40A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17FE93-21B6-40B8-A856-D2E48C246E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3A78495-4C17-4F3D-A881-975934F9E4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20A6B13-EEF3-4CAF-ADB5-889D44E796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6875870-2FEB-44B3-B43D-33AAC7174F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75ADAB7-9650-4F88-AF3D-08189C044A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D7D5753-F22E-4716-A3D1-A67582FADD0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04F1850-9FFC-4536-864F-F36E3D40A087}"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320"/>
                <a:gridCol w="1139040"/>
                <a:gridCol w="1221480"/>
                <a:gridCol w="1220760"/>
                <a:gridCol w="1221840"/>
                <a:gridCol w="1221840"/>
              </a:tblGrid>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0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63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55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5191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7743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pic>
        <p:nvPicPr>
          <p:cNvPr id="62" name="" descr="">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A85F41F-E2D4-416B-B45B-38CA41BB5F3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16A303E-F712-4C92-AA56-9D841EA497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2760"/>
                <a:gridCol w="2224800"/>
              </a:tblGrid>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7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Times New Roman"/>
            </a:endParaRPr>
          </a:p>
        </p:txBody>
      </p:sp>
      <p:sp>
        <p:nvSpPr>
          <p:cNvPr id="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CCCF982-5EE6-4D94-80DB-7C30CECDC9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F618E7C-B47F-437E-8E41-FD2E6A3BAA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BEDD15E-15E6-47B1-92B2-3462430ABA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AED72AD-5887-4D94-A42B-7798CF7061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9E1ABF2-1334-40BF-9153-3F5FBA3BBD8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B1F577C-A406-40BB-87DD-404FFF8F3E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0920"/>
                <a:gridCol w="774360"/>
                <a:gridCol w="2548080"/>
                <a:gridCol w="1108440"/>
              </a:tblGrid>
              <a:tr h="3060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4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2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sp>
        <p:nvSpPr>
          <p:cNvPr id="7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14392A2-53C8-4FCC-8E1E-D841E9634BE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2C8FB9C-2B4F-4EA7-B42D-DC65D9ED91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356733A-CCE6-4805-9AAF-E9EBDE0CF7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C9B2967-1340-4908-9B43-74FA264BC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mageshkumar.s</cp:lastModifiedBy>
  <dcterms:modified xsi:type="dcterms:W3CDTF">2009-02-13T07:10:14Z</dcterms:modified>
  <cp:revision>80</cp:revision>
  <dc:subject/>
  <dc:title>Working With Financial Statements</dc:title>
</cp:coreProperties>
</file>