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C87262F4-9565-4643-BA8E-73B566E87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real-world”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0640" y="681120"/>
            <a:ext cx="4538520" cy="3403440"/>
          </a:xfrm>
          <a:prstGeom prst="rect">
            <a:avLst/>
          </a:prstGeom>
          <a:ln w="0">
            <a:noFill/>
          </a:ln>
        </p:spPr>
      </p:sp>
      <p:sp>
        <p:nvSpPr>
          <p:cNvPr id="17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0640" y="681120"/>
            <a:ext cx="4538520" cy="3403440"/>
          </a:xfrm>
          <a:prstGeom prst="rect">
            <a:avLst/>
          </a:prstGeom>
          <a:ln w="0">
            <a:noFill/>
          </a:ln>
        </p:spPr>
      </p:sp>
      <p:sp>
        <p:nvSpPr>
          <p:cNvPr id="18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0640" y="681120"/>
            <a:ext cx="4538520" cy="3403440"/>
          </a:xfrm>
          <a:prstGeom prst="rect">
            <a:avLst/>
          </a:prstGeom>
          <a:ln w="0">
            <a:noFill/>
          </a:ln>
        </p:spPr>
      </p:sp>
      <p:sp>
        <p:nvSpPr>
          <p:cNvPr id="18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0640" y="681120"/>
            <a:ext cx="4538520" cy="3403440"/>
          </a:xfrm>
          <a:prstGeom prst="rect">
            <a:avLst/>
          </a:prstGeom>
          <a:ln w="0">
            <a:noFill/>
          </a:ln>
        </p:spPr>
      </p:sp>
      <p:sp>
        <p:nvSpPr>
          <p:cNvPr id="18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0640" y="681120"/>
            <a:ext cx="4538520" cy="3403440"/>
          </a:xfrm>
          <a:prstGeom prst="rect">
            <a:avLst/>
          </a:prstGeom>
          <a:ln w="0">
            <a:noFill/>
          </a:ln>
        </p:spPr>
      </p:sp>
      <p:sp>
        <p:nvSpPr>
          <p:cNvPr id="19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0640" y="681120"/>
            <a:ext cx="4538520" cy="3403440"/>
          </a:xfrm>
          <a:prstGeom prst="rect">
            <a:avLst/>
          </a:prstGeom>
          <a:ln w="0">
            <a:noFill/>
          </a:ln>
        </p:spPr>
      </p:sp>
      <p:sp>
        <p:nvSpPr>
          <p:cNvPr id="19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0640" y="681120"/>
            <a:ext cx="4538520" cy="3403440"/>
          </a:xfrm>
          <a:prstGeom prst="rect">
            <a:avLst/>
          </a:prstGeom>
          <a:ln w="0">
            <a:noFill/>
          </a:ln>
        </p:spPr>
      </p:sp>
      <p:sp>
        <p:nvSpPr>
          <p:cNvPr id="19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does a market-to-book ratio below one indicate a good investmen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0640" y="681120"/>
            <a:ext cx="4538520" cy="3403440"/>
          </a:xfrm>
          <a:prstGeom prst="rect">
            <a:avLst/>
          </a:prstGeom>
          <a:ln w="0">
            <a:noFill/>
          </a:ln>
        </p:spPr>
      </p:sp>
      <p:sp>
        <p:nvSpPr>
          <p:cNvPr id="16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s CEO stated: “Make your numbers or I’m sure your successor wi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0640" y="681120"/>
            <a:ext cx="4538520" cy="3403440"/>
          </a:xfrm>
          <a:prstGeom prst="rect">
            <a:avLst/>
          </a:prstGeom>
          <a:ln w="0">
            <a:noFill/>
          </a:ln>
        </p:spPr>
      </p:sp>
      <p:sp>
        <p:nvSpPr>
          <p:cNvPr id="19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lso, although the annual report is denoted as 2007, the fiscal year actually ends in 2008. I find it helpful to discuss with students why Home Depot has chosen not to use a calendar year (i.e., allow Christmas holiday issues to work through the system prior to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0640" y="681120"/>
            <a:ext cx="4538520" cy="3403440"/>
          </a:xfrm>
          <a:prstGeom prst="rect">
            <a:avLst/>
          </a:prstGeom>
          <a:ln w="0">
            <a:noFill/>
          </a:ln>
        </p:spPr>
      </p:sp>
      <p:sp>
        <p:nvSpPr>
          <p:cNvPr id="20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s well as slightly below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above the industry average, which implies it has relatively more debt than the average company in the industry.  Creditors may not like this; however, the firm may be taking advantage of favorable tax benefits associated with interest payments.  (It is interesting to note that in the prior edition, this relation was reversed, as HD had unused debt capacity. So, it appears they have taken the suggestion to leverage up to capture tax benefits and increase RO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which indicates that the company is able to easily cover the relatively high debt percentage calculated just above. Note, the interest received on investments can be used to pay the interest expense on debt – in fact for the fiscal year ended Feb. 3, 2007, Home Depot had 74MM in interest income and 696MM in interest expens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higher than the industry median and is approaching the upper quartile.  Either the company is very good at managing inventory relative to the industry or they are running short on inventor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so faster than the upper quartile. This may be because the majority of Home Depo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the lower quartile.  The problem is likely related to fixed assets since both inventory and receivables are turning so quickly. In fact, calculating NFA turnover results in a value of 2.8x, relative to industry at 14.2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 This result suggests that the low asset turnover is offset by the higher profit marg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upper quartile. Reviewing this in the context of the Du Pont Identity suggests that the greatest area for potential improvement is in asset turnover (particularly net fixed asse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An interesting discussion revolves around the benefits and disadvantages of the easy availibility of information. The advantages are apparent, but the downside includes an ability for trades to take advantage of efficiency by quickly and widely disseminating false inform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0640" y="681120"/>
            <a:ext cx="4538520" cy="3403440"/>
          </a:xfrm>
          <a:prstGeom prst="rect">
            <a:avLst/>
          </a:prstGeom>
          <a:ln w="0">
            <a:noFill/>
          </a:ln>
        </p:spPr>
      </p:sp>
      <p:sp>
        <p:nvSpPr>
          <p:cNvPr id="21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0640" y="681120"/>
            <a:ext cx="4538520" cy="3403440"/>
          </a:xfrm>
          <a:prstGeom prst="rect">
            <a:avLst/>
          </a:prstGeom>
          <a:ln w="0">
            <a:noFill/>
          </a:ln>
        </p:spPr>
      </p:sp>
      <p:sp>
        <p:nvSpPr>
          <p:cNvPr id="16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0640" y="681120"/>
            <a:ext cx="4538520" cy="3403440"/>
          </a:xfrm>
          <a:prstGeom prst="rect">
            <a:avLst/>
          </a:prstGeom>
          <a:ln w="0">
            <a:noFill/>
          </a:ln>
        </p:spPr>
      </p:sp>
      <p:sp>
        <p:nvSpPr>
          <p:cNvPr id="17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0640" y="681120"/>
            <a:ext cx="4538520" cy="3403440"/>
          </a:xfrm>
          <a:prstGeom prst="rect">
            <a:avLst/>
          </a:prstGeom>
          <a:ln w="0">
            <a:noFill/>
          </a:ln>
        </p:spPr>
      </p:sp>
      <p:sp>
        <p:nvSpPr>
          <p:cNvPr id="17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0640" y="681120"/>
            <a:ext cx="4538520" cy="3403440"/>
          </a:xfrm>
          <a:prstGeom prst="rect">
            <a:avLst/>
          </a:prstGeom>
          <a:ln w="0">
            <a:noFill/>
          </a:ln>
        </p:spPr>
      </p:sp>
      <p:sp>
        <p:nvSpPr>
          <p:cNvPr id="17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7317E-AB2D-4CBC-B9D7-EB257191F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93356-E336-4F3E-B84F-575769862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BC541-DD78-4A7D-BF3C-0AD329946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69753-CB47-4EA7-BA93-DE55A80D6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4964A-79CE-4114-B645-110D54D32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D15A5-0314-43F4-8125-C13CC4FD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ED79-DF15-46D4-BB85-32185E5DD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AC897-7AD8-43D8-AD9B-941273444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1870-85A3-468E-B4E9-ECB04CA88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85528-FB39-4A76-965F-5A29465E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4354-CA6C-4AFE-9A1C-AC74409D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DB3B-3E0D-4C43-A8FF-7C6C38925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905120" y="1523520"/>
            <a:ext cx="495288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Working With Financial Statements</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76320" y="658332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F274EFF-E9F0-4CE2-96EE-4D0237EF78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83"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677DB0B-0A26-4313-8CCA-26965EA020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7448FEB-305A-4F42-96F4-3110F0283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solvency or liquid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or financial leverage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ment or turnover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value ratios</a:t>
            </a:r>
            <a:endParaRPr b="0" lang="en-US" sz="3200" spc="-1" strike="noStrike">
              <a:solidFill>
                <a:srgbClr val="000000"/>
              </a:solidFill>
              <a:latin typeface="Arial"/>
            </a:endParaRPr>
          </a:p>
        </p:txBody>
      </p:sp>
      <p:sp>
        <p:nvSpPr>
          <p:cNvPr id="86"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39BAEFA-9EEF-4E29-B888-04F541593E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50F62A1-3F02-41E3-95C4-88D96FBA51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iquidity Ratios</a:t>
            </a:r>
            <a:endParaRPr b="0" lang="en-US" sz="4400" spc="-1" strike="noStrike">
              <a:solidFill>
                <a:srgbClr val="000000"/>
              </a:solidFill>
              <a:latin typeface="Arial"/>
            </a:endParaRPr>
          </a:p>
        </p:txBody>
      </p:sp>
      <p:sp>
        <p:nvSpPr>
          <p:cNvPr id="88" name="PlaceHolder 2"/>
          <p:cNvSpPr>
            <a:spLocks noGrp="1"/>
          </p:cNvSpPr>
          <p:nvPr>
            <p:ph/>
          </p:nvPr>
        </p:nvSpPr>
        <p:spPr>
          <a:xfrm>
            <a:off x="1676520" y="1676160"/>
            <a:ext cx="715968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8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0"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BB2113B-A9C1-409F-B243-E581CEB144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5649129-8E7C-4CB3-9D1B-245A5A36B8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ong-term Solvency Ratios</a:t>
            </a:r>
            <a:endParaRPr b="0" lang="en-US" sz="4400" spc="-1" strike="noStrike">
              <a:solidFill>
                <a:srgbClr val="000000"/>
              </a:solidFill>
              <a:latin typeface="Arial"/>
            </a:endParaRPr>
          </a:p>
        </p:txBody>
      </p:sp>
      <p:sp>
        <p:nvSpPr>
          <p:cNvPr id="92"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p:txBody>
      </p:sp>
      <p:sp>
        <p:nvSpPr>
          <p:cNvPr id="9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759D72C-4AB0-4D9F-A4F4-637F29516ED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9A4400E-B7DB-4B96-B3CE-B01FD9C979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Coverage Ratios</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Coverage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97"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9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1DDBDE4-DC78-4B5F-9B2E-53B16325B9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6B0832-2A2E-443A-998B-E972DC7987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ventory Ratios</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01"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1558AD3-F037-4A77-8FEB-3D18F345DCC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5DE096-FF87-4371-A52B-D0CF78626C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Receivables Ratio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67AE27A-5917-4863-873E-D9C9A67D98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CFF209-56BD-4D2E-9B78-9F6A7C2324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Total Asset Turnover</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0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A68F93D-3400-423D-A714-783D6A0B97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8645AA-17DE-4016-AB5D-C07D8F676E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rofitability Measures</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1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A8B165D-2EFC-4618-8FE5-E0E336A7A8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A4EBA2E-4526-40B9-A076-5E1DCF8AA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Market Value Measure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1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9B16E56-5E0C-4921-983E-F8B6B76BE8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9D01C64-4F42-406F-B216-C1AFCA926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5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26F506A-E292-46AA-9F7F-9477B1FBAB6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913FA4-34D9-4936-B84D-86D944845D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12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D4865FE-C5DF-422F-B94F-5DE01FC8BE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1BFD8AA-5595-401F-9AAA-C1F1F6B9C7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PM * TAT * 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rgin is a measure of the firm’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is a measure of the firm’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is a measure of the firm’s financial leverage</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75E139D-D49C-4942-A09C-AA8EFE7A6C5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AD2A000-3CC0-4388-84BE-FBB36D94A2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125" name="" descr=""/>
          <p:cNvPicPr/>
          <p:nvPr/>
        </p:nvPicPr>
        <p:blipFill>
          <a:blip r:embed="rId1"/>
          <a:stretch/>
        </p:blipFill>
        <p:spPr>
          <a:xfrm>
            <a:off x="1371600" y="2057400"/>
            <a:ext cx="7772400" cy="3629160"/>
          </a:xfrm>
          <a:prstGeom prst="rect">
            <a:avLst/>
          </a:prstGeom>
          <a:ln w="0">
            <a:noFill/>
          </a:ln>
        </p:spPr>
      </p:pic>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8143FDF-2E4D-425D-859A-B46101DD17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0D72472-87CF-4B6E-96D7-D25BC0C5FA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128" name=""/>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2514600" y="1219320"/>
            <a:ext cx="5562720" cy="5435640"/>
          </a:xfrm>
          <a:prstGeom prst="rect">
            <a:avLst/>
          </a:prstGeom>
          <a:ln w="0">
            <a:noFill/>
          </a:ln>
        </p:spPr>
      </p:pic>
      <p:sp>
        <p:nvSpPr>
          <p:cNvPr id="13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3A1F0A3-011C-4771-A037-D1B07BE36A8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B797E72-0EBD-4E12-8F96-61498A3D08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valuate Financial Statements?</a:t>
            </a:r>
            <a:endParaRPr b="0" lang="en-US" sz="4400" spc="-1" strike="noStrike">
              <a:solidFill>
                <a:srgbClr val="000000"/>
              </a:solidFill>
              <a:latin typeface="Arial"/>
            </a:endParaRPr>
          </a:p>
        </p:txBody>
      </p:sp>
      <p:sp>
        <p:nvSpPr>
          <p:cNvPr id="132" name="PlaceHolder 2"/>
          <p:cNvSpPr>
            <a:spLocks noGrp="1"/>
          </p:cNvSpPr>
          <p:nvPr>
            <p:ph/>
          </p:nvPr>
        </p:nvSpPr>
        <p:spPr>
          <a:xfrm>
            <a:off x="1752120" y="1717560"/>
            <a:ext cx="70837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 compensation and comparison between division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the future – guide in estimating future cash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8F37F4B-B8AC-4829-B2F7-012F944802E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03FD1EF-BB66-4E9C-9167-BC3F057A5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13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 and NAICS codes</a:t>
            </a:r>
            <a:endParaRPr b="0" lang="en-US" sz="2400" spc="-1" strike="noStrike">
              <a:solidFill>
                <a:srgbClr val="000000"/>
              </a:solidFill>
              <a:latin typeface="Arial"/>
            </a:endParaRPr>
          </a:p>
        </p:txBody>
      </p:sp>
      <p:pic>
        <p:nvPicPr>
          <p:cNvPr id="136" name="" descr=""/>
          <p:cNvPicPr/>
          <p:nvPr/>
        </p:nvPicPr>
        <p:blipFill>
          <a:blip r:embed="rId1"/>
          <a:stretch/>
        </p:blipFill>
        <p:spPr>
          <a:xfrm>
            <a:off x="8001000" y="5181480"/>
            <a:ext cx="630360" cy="890640"/>
          </a:xfrm>
          <a:prstGeom prst="rect">
            <a:avLst/>
          </a:prstGeom>
          <a:ln w="0">
            <a:noFill/>
          </a:ln>
        </p:spPr>
      </p:pic>
      <p:sp>
        <p:nvSpPr>
          <p:cNvPr id="13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9FF8519-8D73-485F-8155-3D509CE7F8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7AB741-BAB1-4A54-B286-A896A7156BF4}"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figured using financial data from the 2007 Annual Report for Home Depo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ratios to the industry as they are reported in Tables 3.11 and 3.12 in the book</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s fiscal year ends Feb. 3</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note how the ratios are computed in the table so you can compute comparable numb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 sales = $77,349 MM</a:t>
            </a:r>
            <a:endParaRPr b="0" lang="en-US" sz="2800" spc="-1" strike="noStrike">
              <a:solidFill>
                <a:srgbClr val="000000"/>
              </a:solidFill>
              <a:latin typeface="Arial"/>
            </a:endParaRPr>
          </a:p>
        </p:txBody>
      </p:sp>
      <p:pic>
        <p:nvPicPr>
          <p:cNvPr id="140" name="" descr=""/>
          <p:cNvPicPr/>
          <p:nvPr/>
        </p:nvPicPr>
        <p:blipFill>
          <a:blip r:embed="rId1"/>
          <a:stretch/>
        </p:blipFill>
        <p:spPr>
          <a:xfrm>
            <a:off x="7696080" y="5334120"/>
            <a:ext cx="630360" cy="890640"/>
          </a:xfrm>
          <a:prstGeom prst="rect">
            <a:avLst/>
          </a:prstGeom>
          <a:ln w="0">
            <a:noFill/>
          </a:ln>
        </p:spPr>
      </p:pic>
      <p:sp>
        <p:nvSpPr>
          <p:cNvPr id="14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FD9B1BA-7890-4922-960E-817967AC52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5880E2E-B6F5-493C-9776-4BE852D69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ity ratios</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1.15x; Industry = 1.7x</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23x; Industry = .4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ratio (Debt / Worth) = 1.5x; Industry = 1.1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Interest Earned = 11.6x; Industry = 4.5x</a:t>
            </a:r>
            <a:endParaRPr b="0" lang="en-US" sz="2800" spc="-1" strike="noStrike">
              <a:solidFill>
                <a:srgbClr val="000000"/>
              </a:solidFill>
              <a:latin typeface="Arial"/>
            </a:endParaRPr>
          </a:p>
        </p:txBody>
      </p:sp>
      <p:sp>
        <p:nvSpPr>
          <p:cNvPr id="14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3D1432D-AA07-4EB0-AAAE-401782CF35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FDE44E2-5797-4B4D-B084-D160F40874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I</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 management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ntory turnover = 4.4x; Industry = 3.8x</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ables turnover = 61.4x (6 days); Industry = 26.9x (14 days)</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tal asset turnover = 1.7x; Industry = 2.6x</a:t>
            </a:r>
            <a:endParaRPr b="0" lang="en-US" sz="21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t margin before taxes = 8.6%; Industry = 2.5%</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A (profit before taxes / total assets) = 14.9%; Industry = 6.4%</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E = (profit before taxes / tangible net worth) = 37.4%; Industry = 11.9%</a:t>
            </a:r>
            <a:endParaRPr b="0" lang="en-US" sz="2100" spc="-1" strike="noStrike">
              <a:solidFill>
                <a:srgbClr val="000000"/>
              </a:solidFill>
              <a:latin typeface="Arial"/>
            </a:endParaRPr>
          </a:p>
        </p:txBody>
      </p:sp>
      <p:sp>
        <p:nvSpPr>
          <p:cNvPr id="14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AD38305-69F7-4FD9-9B29-C7DA838B73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43D968-FA56-42A8-897C-3152B546A3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Problems</a:t>
            </a:r>
            <a:endParaRPr b="0" lang="en-US" sz="4400" spc="-1" strike="noStrike">
              <a:solidFill>
                <a:srgbClr val="000000"/>
              </a:solidFill>
              <a:latin typeface="Arial"/>
            </a:endParaRPr>
          </a:p>
        </p:txBody>
      </p:sp>
      <p:sp>
        <p:nvSpPr>
          <p:cNvPr id="14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underlying theory, so there is no way to know which ratios are most relev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is difficult for diversified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 and international competition makes comparison more difficult because of differences in accounting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accounting procedures, i.e. FIFO vs. LI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iscal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ordinary events</a:t>
            </a:r>
            <a:endParaRPr b="0" lang="en-US" sz="2400" spc="-1" strike="noStrike">
              <a:solidFill>
                <a:srgbClr val="000000"/>
              </a:solidFill>
              <a:latin typeface="Arial"/>
            </a:endParaRPr>
          </a:p>
        </p:txBody>
      </p:sp>
      <p:sp>
        <p:nvSpPr>
          <p:cNvPr id="15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A3C99D2-4752-45D8-A691-9D780619CC7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16A05A-9421-4744-96DD-B8A54CD18B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5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BFFF19C-874F-40B2-9BCA-21206F2A1D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A1810C-4902-4046-A754-9AE54BE9B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makes ratio analysis much easier than it has been in the p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www.reuters.com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Stocks, then choose a company and enter its ticker symbo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Ratios to see what information is available</a:t>
            </a:r>
            <a:endParaRPr b="0" lang="en-US" sz="2400" spc="-1" strike="noStrike">
              <a:solidFill>
                <a:srgbClr val="000000"/>
              </a:solidFill>
              <a:latin typeface="Arial"/>
            </a:endParaRPr>
          </a:p>
        </p:txBody>
      </p:sp>
      <p:pic>
        <p:nvPicPr>
          <p:cNvPr id="153" name="" descr=""/>
          <p:cNvPicPr/>
          <p:nvPr/>
        </p:nvPicPr>
        <p:blipFill>
          <a:blip r:embed="rId1"/>
          <a:stretch/>
        </p:blipFill>
        <p:spPr>
          <a:xfrm>
            <a:off x="7543800" y="5334120"/>
            <a:ext cx="584280" cy="793800"/>
          </a:xfrm>
          <a:prstGeom prst="rect">
            <a:avLst/>
          </a:prstGeom>
          <a:ln w="0">
            <a:noFill/>
          </a:ln>
        </p:spPr>
      </p:pic>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A2AA67B-10E3-4F55-AB4F-7FE20DCBFE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4F20528-1762-4275-83B9-F19FE16EA0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ement of Cash Flows and how do you determine sources and uses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standardize balance sheets and income statements and why is standardization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categories of ratios and how do you compute specific ratios within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associated with financial statement analysis?</a:t>
            </a:r>
            <a:endParaRPr b="0" lang="en-US" sz="24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31A3C6C-6DD9-4BC1-9787-45C6CDDDA6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05363C-3424-4442-89B0-8BCC071D7B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financial analysts be held liable for their opinions regarding the financial health of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losely should ratings agencies work with the firms they are reviewing? I.e., what level of independence is appropriate?</a:t>
            </a:r>
            <a:endParaRPr b="0" lang="en-US" sz="2400" spc="-1" strike="noStrike">
              <a:solidFill>
                <a:srgbClr val="000000"/>
              </a:solidFill>
              <a:latin typeface="Arial"/>
            </a:endParaRPr>
          </a:p>
        </p:txBody>
      </p:sp>
      <p:sp>
        <p:nvSpPr>
          <p:cNvPr id="16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978589F-DDF5-43BD-9458-841C98151F2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7AD9ED0-3D4C-4A69-AFBE-F0D56D9646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 Corporation has the following financial information for the previou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8M, PM = 8%, CA = $2M, FA = $6M, NWC = $1M, LTD = $3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ROE using the DuPont Analysis.</a:t>
            </a:r>
            <a:endParaRPr b="0" lang="en-US" sz="3200" spc="-1" strike="noStrike">
              <a:solidFill>
                <a:srgbClr val="000000"/>
              </a:solidFill>
              <a:latin typeface="Arial"/>
            </a:endParaRPr>
          </a:p>
        </p:txBody>
      </p:sp>
      <p:sp>
        <p:nvSpPr>
          <p:cNvPr id="1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9ABD86F-9AF6-46EB-BA44-A5735DCDA1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CBA151-7268-4BA0-A9C5-0BB793DD11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B4EA19B-2F41-44CC-ACF6-0D062AB073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7F9BC84-3502-4E66-8692-6B50FC55D562}"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60" name=""/>
          <p:cNvGraphicFramePr/>
          <p:nvPr/>
        </p:nvGraphicFramePr>
        <p:xfrm>
          <a:off x="1482840" y="1828800"/>
          <a:ext cx="7172280" cy="3825720"/>
        </p:xfrm>
        <a:graphic>
          <a:graphicData uri="http://schemas.openxmlformats.org/drawingml/2006/table">
            <a:tbl>
              <a:tblPr/>
              <a:tblGrid>
                <a:gridCol w="1147320"/>
                <a:gridCol w="1139040"/>
                <a:gridCol w="1221480"/>
                <a:gridCol w="1220760"/>
                <a:gridCol w="1221840"/>
                <a:gridCol w="1221840"/>
              </a:tblGrid>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0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63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55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5191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77436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61" name=""/>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pic>
        <p:nvPicPr>
          <p:cNvPr id="62" name="" descr="">
            <a:hlinkClick r:id="rId1" action="ppaction://hlinksldjump"/>
          </p:cNvPr>
          <p:cNvPicPr/>
          <p:nvPr/>
        </p:nvPicPr>
        <p:blipFill>
          <a:blip r:embed="rId2"/>
          <a:stretch/>
        </p:blipFill>
        <p:spPr>
          <a:xfrm>
            <a:off x="762120" y="6248520"/>
            <a:ext cx="228600" cy="228600"/>
          </a:xfrm>
          <a:prstGeom prst="rect">
            <a:avLst/>
          </a:prstGeom>
          <a:ln w="0">
            <a:noFill/>
          </a:ln>
        </p:spPr>
      </p:pic>
      <p:sp>
        <p:nvSpPr>
          <p:cNvPr id="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405706A-6B27-4644-8054-F6C251D4611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1238C2A-F700-48A7-8CF5-473A015CC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65" name=""/>
          <p:cNvGraphicFramePr/>
          <p:nvPr/>
        </p:nvGraphicFramePr>
        <p:xfrm>
          <a:off x="2514600" y="1879560"/>
          <a:ext cx="5767560" cy="4184640"/>
        </p:xfrm>
        <a:graphic>
          <a:graphicData uri="http://schemas.openxmlformats.org/drawingml/2006/table">
            <a:tbl>
              <a:tblPr/>
              <a:tblGrid>
                <a:gridCol w="3542760"/>
                <a:gridCol w="2224800"/>
              </a:tblGrid>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76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66" name=""/>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Times New Roman"/>
            </a:endParaRPr>
          </a:p>
        </p:txBody>
      </p:sp>
      <p:sp>
        <p:nvSpPr>
          <p:cNvPr id="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4E5DD37-A316-4A90-A39C-E57F49F54B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D503517-E81E-45C5-A357-C2C03923B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69"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sell”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a:t>
            </a:r>
            <a:r>
              <a:rPr b="0" lang="en-US" sz="2000" spc="-1" strike="noStrike" u="sng">
                <a:solidFill>
                  <a:srgbClr val="009999"/>
                </a:solidFill>
                <a:uFillTx/>
                <a:latin typeface="Arial"/>
                <a:hlinkClick r:id="rId1" action="ppaction://hlinksldjump"/>
              </a:rPr>
              <a:t>Sample B/S</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buy”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88C59B7-61CD-4693-82EC-2229A477CA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9606FC-E820-41C3-99BE-D7AA3CE70E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that summarizes the sources and uses of ca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Activity –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Activity –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Activity – includes changes in notes payable, long-term debt, and equity accounts, as well as dividends</a:t>
            </a:r>
            <a:endParaRPr b="0" lang="en-US" sz="2400" spc="-1" strike="noStrike">
              <a:solidFill>
                <a:srgbClr val="000000"/>
              </a:solidFill>
              <a:latin typeface="Arial"/>
            </a:endParaRPr>
          </a:p>
        </p:txBody>
      </p:sp>
      <p:sp>
        <p:nvSpPr>
          <p:cNvPr id="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410440B-D6EF-445C-B341-75D9EE3CDC9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D9B52B5-BC7C-4F74-9205-FB7AE72887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75" name=""/>
          <p:cNvGraphicFramePr/>
          <p:nvPr/>
        </p:nvGraphicFramePr>
        <p:xfrm>
          <a:off x="1819440" y="1828800"/>
          <a:ext cx="6841800" cy="4013280"/>
        </p:xfrm>
        <a:graphic>
          <a:graphicData uri="http://schemas.openxmlformats.org/drawingml/2006/table">
            <a:tbl>
              <a:tblPr/>
              <a:tblGrid>
                <a:gridCol w="2410920"/>
                <a:gridCol w="774360"/>
                <a:gridCol w="2548080"/>
                <a:gridCol w="1108440"/>
              </a:tblGrid>
              <a:tr h="3060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4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2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6" name=""/>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sp>
        <p:nvSpPr>
          <p:cNvPr id="7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C0DA473-4B55-49D3-8FB4-7F16C8CEBE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FEFD2ED-DE7C-4F48-A2F0-4D97DFE158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79"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2509C61-D72F-43B3-BDE8-99701327CDD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7DFB965-1763-472F-8000-B9A3FB110A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mageshkumar.s</cp:lastModifiedBy>
  <dcterms:modified xsi:type="dcterms:W3CDTF">2009-02-13T07:10:14Z</dcterms:modified>
  <cp:revision>80</cp:revision>
  <dc:subject/>
  <dc:title>Working With Financial Statements</dc:title>
</cp:coreProperties>
</file>