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60280" y="681120"/>
            <a:ext cx="4538520" cy="3403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2308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230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CE038100-E7FA-4028-8B5F-FE551FE5B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0640" y="681120"/>
            <a:ext cx="4538520" cy="3403440"/>
          </a:xfrm>
          <a:prstGeom prst="rect">
            <a:avLst/>
          </a:prstGeom>
          <a:ln w="0">
            <a:noFill/>
          </a:ln>
        </p:spPr>
      </p:sp>
      <p:sp>
        <p:nvSpPr>
          <p:cNvPr id="17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hat your students understand that “real-world” financial statements are not as straightforward as the simplified ones presented in the textbook. Actually reviewing some financial statements of companies with which they are familiar may hel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0640" y="681120"/>
            <a:ext cx="4538520" cy="3403440"/>
          </a:xfrm>
          <a:prstGeom prst="rect">
            <a:avLst/>
          </a:prstGeom>
          <a:ln w="0">
            <a:noFill/>
          </a:ln>
        </p:spPr>
      </p:sp>
      <p:sp>
        <p:nvSpPr>
          <p:cNvPr id="17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s in the following slides will be computed using the 2007 information from the Sample Balance Sheet and Incom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the point of the analysis is not simply the ability to compute the ratios, but rather the ability to interpret them.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0640" y="681120"/>
            <a:ext cx="4538520" cy="3403440"/>
          </a:xfrm>
          <a:prstGeom prst="rect">
            <a:avLst/>
          </a:prstGeom>
          <a:ln w="0">
            <a:noFill/>
          </a:ln>
        </p:spPr>
      </p:sp>
      <p:sp>
        <p:nvSpPr>
          <p:cNvPr id="18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is just barely able to cover current liabilities with its current assets.  A short-term creditor might find this a bit disconcerting and may reduce the likelihood that they would lend money to the company.  The ratio should be compared to the industry – it’s possible that this industry has a substantial amount of cash flow and that they can meet their current liabilities out of cash flow instead of relying solely on the liquidation of current assets that are on the books. Also, the CR for 2008 was .94, so the company has improved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ick ratio is quite a bit lower than the current ratio, so inventory seems to be an important component of current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any carries a low cash balance, although the cash ratio has increased substantially from the previous year (.03 in 2008).  This may be an indication that they are aggressively investing in assets that will provide higher returns.  We need to make sure that we have enough cash to meet our obligations, but too much cash reduces the return earned by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WC to TA measure seems relatively low, but is consistent with the curren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val Measure indicates that the company can meet average daily expenses with current assets for almost 220 days.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the importance of this measure for entrepren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a high current ratio may actually be a negative, as current assets generally produce a lower return than fixed assets. To build on this understanding, make students evaluate the interaction among ratios. For example, suggest a scenario in which the current ratio exhibits no change over a two- or three-year period, while the quick ratio experiences a steady decline. How could this occu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0640" y="681120"/>
            <a:ext cx="4538520" cy="3403440"/>
          </a:xfrm>
          <a:prstGeom prst="rect">
            <a:avLst/>
          </a:prstGeom>
          <a:ln w="0">
            <a:noFill/>
          </a:ln>
        </p:spPr>
      </p:sp>
      <p:sp>
        <p:nvSpPr>
          <p:cNvPr id="18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are often called leverage ratios. Following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note that this group of ratios measures two aspects of leverage: level of indebtedness and the ability to service this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 total equity, and TA = total assets. The numerator in the total debt ratio could also be found by adding all of the current and long-term li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finances almost 53% of its assets with debt. This is down from about 57%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compute the D/E ratio if you already have the total deb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 Total debt ratio / (1 – total debt ratio) = .5261 / (1 - .5261) = 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 is one of the ratios that is used in the Du Pont Identity as a measure of the firm’s financial le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term debt ratio is down from 33.49% in 2008.</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0640" y="681120"/>
            <a:ext cx="4538520" cy="3403440"/>
          </a:xfrm>
          <a:prstGeom prst="rect">
            <a:avLst/>
          </a:prstGeom>
          <a:ln w="0">
            <a:noFill/>
          </a:ln>
        </p:spPr>
      </p:sp>
      <p:sp>
        <p:nvSpPr>
          <p:cNvPr id="18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ompany is financed with over 64% debt, they have a substantial amount of operating income available to cover the required interest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depreciation is a non-cash deduction.  A better indication of a firm’s ability to meet interest payments may be to add back the depreciation to get an estimate of cash flow befor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importance of coverage ratios is sometimes overlooked, particularly when one considers their importance to all types of creditor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0640" y="681120"/>
            <a:ext cx="4538520" cy="3403440"/>
          </a:xfrm>
          <a:prstGeom prst="rect">
            <a:avLst/>
          </a:prstGeom>
          <a:ln w="0">
            <a:noFill/>
          </a:ln>
        </p:spPr>
      </p:sp>
      <p:sp>
        <p:nvSpPr>
          <p:cNvPr id="18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turnover can be computed using either ending inventory or average inventory when you have both beginning and ending figures.  It is important to be consistent with whatever benchmark you are using to analyze the company’s strengths or weak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important to consider seasonality in sales.  If the balance sheet is prepared at a time when there is a large inventory build-up to meet seasonal demand, then the inventory turnover will be understated and you might believe that the company is not performing as well as it is.  On the other hand, if the balance sheet is prepared when inventory has been drawn down due to seasonal sales, then the inventory turnover would be overstated and the company may appear to be doing better than it really is.  Averages using annual data may not fix this problem.  If a company has seasonal sales, you may want to look at quarterly averages to get a better indication of turn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mention that there may be significant inconsistencies in the methods used to compute ratios by financial advisory firms. When using ratios supplied by others, it is important to be aware of the exact financial items used. A manufacturer would typically consider inventory at cost, and thus, relate inventory to cost of goods sold. However, a retailer might maintain its inventory level based on retail price. In the latter case, inventory should be related to sales to compute inventory turnover. The markup would cancel in the numerator and denominator and give an accurate indication of turnover based on cost. Furthermore, some analysts use average inventory over some period instead of ending inventory. The same is true for the other assets used in the various turnover ratio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0640" y="681120"/>
            <a:ext cx="4538520" cy="3403440"/>
          </a:xfrm>
          <a:prstGeom prst="rect">
            <a:avLst/>
          </a:prstGeom>
          <a:ln w="0">
            <a:noFill/>
          </a:ln>
        </p:spPr>
      </p:sp>
      <p:sp>
        <p:nvSpPr>
          <p:cNvPr id="18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the sales figure should be credit sales.  This is often difficult to determine from the income statements provided in annual reports.  If you use total sales instead of credit sales, you will overstate your turnover level.  You need to recognize this bias when credit sales are unavailable, particularly if a large portion of the sales are cash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inventory turnover, you can use either ending receivables or an average of beginning and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run into the same seasonal issues as discussed with inven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best benchmark for days’ sales in receivables is the company’s credit terms.  If the company offers a discount (1/10 net 30), then you would like to see days’ sales in receivables less than 30.  If the company does not offer a discount (net 30), then you would like to see days’ sales in receivables close to the net terms.  If days’ sales in receivables is substantially larger than the net terms, then you first need to look for biases, such as seasonality in sales.  If this does not provide an explanation for the difference, then the company may need to take another look at its credit policy (who it grants credit to and its collec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o remind students that ratio analysis is a means to an end, not an end in itself. The results of the analysis provide us with red flags or items for additional investi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also need to realize that comparisons across industries can be problemati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60640" y="681120"/>
            <a:ext cx="4538520" cy="3403440"/>
          </a:xfrm>
          <a:prstGeom prst="rect">
            <a:avLst/>
          </a:prstGeom>
          <a:ln w="0">
            <a:noFill/>
          </a:ln>
        </p:spPr>
      </p:sp>
      <p:sp>
        <p:nvSpPr>
          <p:cNvPr id="19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TAT of less than one is not a problem for most firms.  Fixed assets are expensive and are meant to provide sales over a long period of time.  This is why the matching principle indicates that they should be depreciated instead of immediately expen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ratios that will be used in the Du Pont ident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0640" y="681120"/>
            <a:ext cx="4538520" cy="3403440"/>
          </a:xfrm>
          <a:prstGeom prst="rect">
            <a:avLst/>
          </a:prstGeom>
          <a:ln w="0">
            <a:noFill/>
          </a:ln>
        </p:spPr>
      </p:sp>
      <p:sp>
        <p:nvSpPr>
          <p:cNvPr id="19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ompute the gross profit margin and the operating profit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PM = (Sales – COGS) / Sales = (5,000 – 2,006) / 5,000 = 59.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M = EBIT / Sales = 1,138 / 5,000 = 22.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t margin is one of the components of the Du Pont identity and is a measure of operating efficiency.  It measures how well the firm controls the costs required to generate the revenues.  It tells how much the firm earns for every dollar in sales.  In the example, the firm earns almost $0.14 for each dollar in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ROA and ROE are returns on accounting numbers.  As such, they are not directly comparable with returns found in the marketplace.  ROA is sometimes referred to as ROI (return on investment).  As with many of the ratios, there are variations in how they can be computed.  The most important thing is to make sure that you are computing them the same way as the benchmark you are 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will always be higher (in absolute terms) than ROA as long as the firm has debt.  The greater the leverage the larger the difference will be.  ROE is often used as a measure of how well management is attaining the goal of owner wealth maximization.  The Du Pont identity is used to identify factors that affect the R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Economic Value Added and its relevance to ratio analysi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0640" y="681120"/>
            <a:ext cx="4538520" cy="3403440"/>
          </a:xfrm>
          <a:prstGeom prst="rect">
            <a:avLst/>
          </a:prstGeom>
          <a:ln w="0">
            <a:noFill/>
          </a:ln>
        </p:spPr>
      </p:sp>
      <p:sp>
        <p:nvSpPr>
          <p:cNvPr id="19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It is good for students to understand that average is not always best. Further, average levels may vary through time with the economy, and this is particularly relevant for market value measures. Further, comparisons across countries may be difficult due to differences in accounting and reporting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discussion may be asking the question: “does a market-to-book ratio below one indicate a good investment?” It may be an indication of undervaluation; however, such a ratio may also indicate negative consensus regarding the future viability of the fir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0640" y="681120"/>
            <a:ext cx="4538520" cy="3403440"/>
          </a:xfrm>
          <a:prstGeom prst="rect">
            <a:avLst/>
          </a:prstGeom>
          <a:ln w="0">
            <a:noFill/>
          </a:ln>
        </p:spPr>
      </p:sp>
      <p:sp>
        <p:nvSpPr>
          <p:cNvPr id="16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Equipment’s CEO stated: “Make your numbers or I’m sure your successor wil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0640" y="681120"/>
            <a:ext cx="4538520" cy="3403440"/>
          </a:xfrm>
          <a:prstGeom prst="rect">
            <a:avLst/>
          </a:prstGeom>
          <a:ln w="0">
            <a:noFill/>
          </a:ln>
        </p:spPr>
      </p:sp>
      <p:sp>
        <p:nvSpPr>
          <p:cNvPr id="19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our operating efficiency or our asset use efficiency will improve our return on equity.  If the TAT is low compared to our benchmark, then we can break it down into more detail by looking at inventory turnover and receivables turnover.  If those areas are strong, then we can look at fixed asset turnover and cash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improve our ROE by increasing our leverage – up to a point.  Debt affects a lot of other factors, including profit margin, so we have to be a little careful here.  We want to make sure we have enough debt to utilize our interest tax credit effectively, but we don’t want to overdo it.  The choice of leverage is discussed in more detail in chapter 1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0640" y="681120"/>
            <a:ext cx="4538520" cy="3403440"/>
          </a:xfrm>
          <a:prstGeom prst="rect">
            <a:avLst/>
          </a:prstGeom>
          <a:ln w="0">
            <a:noFill/>
          </a:ln>
        </p:spPr>
      </p:sp>
      <p:sp>
        <p:nvSpPr>
          <p:cNvPr id="19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Discuss with students that the ratios that are most important to a firm are those that best represent their business. So, whereas inventory turnover may be relevant for a retailer or manufacturer, it is less important for a service firm. The best ratios may be those that are uniquely developed for the business under revie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0640" y="681120"/>
            <a:ext cx="4538520" cy="3403440"/>
          </a:xfrm>
          <a:prstGeom prst="rect">
            <a:avLst/>
          </a:prstGeom>
          <a:ln w="0">
            <a:noFill/>
          </a:ln>
        </p:spPr>
      </p:sp>
      <p:sp>
        <p:nvSpPr>
          <p:cNvPr id="20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C codes have been used many years to identify industries and allow for comparison with industry average ratios.  The SIC codes are limited, however, and have not kept pace with a rapidly changing environment.  Consequently, the North American Industry Classification System was introduced in 1997 to alleviate some of the problems with SIC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he NAICS home page.  It provides information on the change to the NAICS and conversion between SIC and NAICS co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0640" y="681120"/>
            <a:ext cx="4538520" cy="3403440"/>
          </a:xfrm>
          <a:prstGeom prst="rect">
            <a:avLst/>
          </a:prstGeom>
          <a:ln w="0">
            <a:noFill/>
          </a:ln>
        </p:spPr>
      </p:sp>
      <p:sp>
        <p:nvSpPr>
          <p:cNvPr id="20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Home Depot has an SIC code of 5211, but EDGAR did not list any nationally known companies with the SIC codes listed in Tables 3.11 and 3.12. Also, although the annual report is denoted as 2007, the fiscal year actually ends in 2008. I find it helpful to discuss with students why Home Depot has chosen not to use a calendar year (i.e., allow Christmas holiday issues to work through the system prior to clo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e annual report was downloaded from the company’s web site and that is the hot link that is provided 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a good exercise to have the students print the balance sheet and income statement for the latest year and work through these ratios in class.  They could then compare the ratios to the table in the book.  If you do this, be sure to point out that you should technically use benchmark data for the same time perio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0640" y="681120"/>
            <a:ext cx="4538520" cy="3403440"/>
          </a:xfrm>
          <a:prstGeom prst="rect">
            <a:avLst/>
          </a:prstGeom>
          <a:ln w="0">
            <a:noFill/>
          </a:ln>
        </p:spPr>
      </p:sp>
      <p:sp>
        <p:nvSpPr>
          <p:cNvPr id="20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ustry number reported above is the median from the table. I also used the 25MM and over column to better match siz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quidity ratio: Home Depot has a current ratio below the median, as well as slightly below the lower quartile.  Is this good or bad?  Short-term creditors like high current ratios, so the company may have more difficulty securing short-term financing. However, it could also mean that this company does a better job managing its current assets and is better able to meet short-term liabilities from current cash flo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ick ratio: Home Depot is still below the median, but much clos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bt/Equity ratio: Home Depot is above the industry average, which implies it has relatively more debt than the average company in the industry.  Creditors may not like this; however, the firm may be taking advantage of favorable tax benefits associated with interest payments.  (It is interesting to note that in the prior edition, this relation was reversed, as HD had unused debt capacity. So, it appears they have taken the suggestion to leverage up to capture tax benefits and increase RO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s Interest Earned:  This ratio is substantially higher than the industry median, which indicates that the company is able to easily cover the relatively high debt percentage calculated just above. Note, the interest received on investments can be used to pay the interest expense on debt – in fact for the fiscal year ended Feb. 3, 2007, Home Depot had 74MM in interest income and 696MM in interest expense</a:t>
            </a: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0640" y="681120"/>
            <a:ext cx="4538520" cy="3403440"/>
          </a:xfrm>
          <a:prstGeom prst="rect">
            <a:avLst/>
          </a:prstGeom>
          <a:ln w="0">
            <a:noFill/>
          </a:ln>
        </p:spPr>
      </p:sp>
      <p:sp>
        <p:nvSpPr>
          <p:cNvPr id="20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ventory Turnover: The inventory turnover is higher than the industry median and is approaching the upper quartile.  Either the company is very good at managing inventory relative to the industry or they are running short on inventor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eivables are collected substantially faster than the industry median and also faster than the upper quartile. This may be because the majority of Home Depot’s sales are actually cash sales and the industry may in general sell more on credi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Asset Turnover: The company is below the industry median and the lower quartile.  The problem is likely related to fixed assets since both inventory and receivables are turning so quickly. In fact, calculating NFA turnover results in a value of 2.8x, relative to industry at 14.2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fit margin before taxes (From Table 3.11): Home Depot’s profit margin is substantially higher than the median. This is generally good as long as the company is not foregoing necessary expenses just to increase the bottom lin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A: The ROA is substantially higher than the upper quartile for the industry.  This shows excellent return characteristics relative to the industry. This result suggests that the low asset turnover is offset by the higher profit margi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E: The ROE is higher than the upper quartile. Reviewing this in the context of the Du Pont Identity suggests that the greatest area for potential improvement is in asset turnover (particularly net fixed asse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ROA and ROE are computed using profit before taxes to be consistent with the numbers in the table.</a:t>
            </a: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0640" y="681120"/>
            <a:ext cx="4538520" cy="3403440"/>
          </a:xfrm>
          <a:prstGeom prst="rect">
            <a:avLst/>
          </a:prstGeom>
          <a:ln w="0">
            <a:noFill/>
          </a:ln>
        </p:spPr>
      </p:sp>
      <p:sp>
        <p:nvSpPr>
          <p:cNvPr id="20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An interesting discussion revolves around the benefits and disadvantages of the easy availibility of information. The advantages are apparent, but the downside includes an ability for trades to take advantage of efficiency by quickly and widely disseminating false informa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0640" y="681120"/>
            <a:ext cx="4538520" cy="3403440"/>
          </a:xfrm>
          <a:prstGeom prst="rect">
            <a:avLst/>
          </a:prstGeom>
          <a:ln w="0">
            <a:noFill/>
          </a:ln>
        </p:spPr>
      </p:sp>
      <p:sp>
        <p:nvSpPr>
          <p:cNvPr id="21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assets = CA + FA = $2M + $6M = $8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 Sales / TA = $8M / $8M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C = CA – CL   CL = CA – NWC = $2M - $1M = $1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liabs. = CL + LTD = $1M + $3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equity = total assets – total liabs. = $8M - $4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 = assets / equity = $8M / $4M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 PM X TAT X EM = 8% X 1 X 2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using DuPont, ROE = NI / total equity = PM * sales / total equity = 8% X $8M / 4M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0640" y="681120"/>
            <a:ext cx="4538520" cy="3403440"/>
          </a:xfrm>
          <a:prstGeom prst="rect">
            <a:avLst/>
          </a:prstGeom>
          <a:ln w="0">
            <a:noFill/>
          </a:ln>
        </p:spPr>
      </p:sp>
      <p:sp>
        <p:nvSpPr>
          <p:cNvPr id="16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explains the relevance of accounting data, even given its potential downfalls. The subsequent </a:t>
            </a:r>
            <a:r>
              <a:rPr b="0" i="1" lang="en-US" sz="1200" spc="-1" strike="noStrike">
                <a:solidFill>
                  <a:srgbClr val="000000"/>
                </a:solidFill>
                <a:latin typeface="Times New Roman"/>
              </a:rPr>
              <a:t>Tip</a:t>
            </a:r>
            <a:r>
              <a:rPr b="0" lang="en-US" sz="1200" spc="-1" strike="noStrike">
                <a:solidFill>
                  <a:srgbClr val="000000"/>
                </a:solidFill>
                <a:latin typeface="Times New Roman"/>
              </a:rPr>
              <a:t> is designed to help students understand that in increase in the cash account is a use of fun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0640" y="681120"/>
            <a:ext cx="4538520" cy="3403440"/>
          </a:xfrm>
          <a:prstGeom prst="rect">
            <a:avLst/>
          </a:prstGeom>
          <a:ln w="0">
            <a:noFill/>
          </a:ln>
        </p:spPr>
      </p:sp>
      <p:sp>
        <p:nvSpPr>
          <p:cNvPr id="17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ncome figure and EPS are based on income from continuing operations. There are 190.9 million shares outstand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0640" y="681120"/>
            <a:ext cx="4538520" cy="3403440"/>
          </a:xfrm>
          <a:prstGeom prst="rect">
            <a:avLst/>
          </a:prstGeom>
          <a:ln w="0">
            <a:noFill/>
          </a:ln>
        </p:spPr>
      </p:sp>
      <p:sp>
        <p:nvSpPr>
          <p:cNvPr id="17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Sample B/S to go to the Balance Sheet to illustrate the accounts that are sources and uses, On the B/S Click on the small green arrow to return to thi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0640" y="681120"/>
            <a:ext cx="4538520" cy="3403440"/>
          </a:xfrm>
          <a:prstGeom prst="rect">
            <a:avLst/>
          </a:prstGeom>
          <a:ln w="0">
            <a:noFill/>
          </a:ln>
        </p:spPr>
      </p:sp>
      <p:sp>
        <p:nvSpPr>
          <p:cNvPr id="17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activity: change in net fixed assets + depreciation (have to add back depreciation because it was deducted from the fixed asset account to get the net fixed asset figure). If the number is positive, then we acquired fixed assets; if it’s negative, then we sold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38 – 3358 + 116 = -104 so we sold 104 million worth of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part of the increase in the C/S account shown on the balance sheet is the increase in Retained Earnings. That is already incorporated in the net income under operat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s paid = 190.9*1.08 = 206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s to RE = 689 – 206 = 4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C/S = 2556 – 2167 – 483 = -9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92278-478F-4881-B11F-B456F9F5E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AD87C-203E-40CF-B205-F7BB13CF8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DED0B-07F3-4700-87C5-BC222729A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391E3-9AB6-4D9B-925E-116205D37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BB4EF-663A-46BD-AB71-14A79F8A8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947B6-2543-4918-8F4F-D20A86C73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DE527-BCF4-4B3B-92E1-A3EA96ABA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A4D7A-CFC8-46FC-A462-7102E5191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76356-8AC1-4A42-BAB8-2910B44A5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51D5A-92DB-4A1C-B5CC-75212BE5A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5F710-5CCF-47AA-8631-CE6877CBB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AAFF2-07B8-4091-B905-FB8B152D7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976"/>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905120" y="1523520"/>
            <a:ext cx="4952880" cy="403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3</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Working With Financial Statements</a:t>
            </a:r>
            <a:endParaRPr b="0" lang="en-US" sz="3600" spc="-1" strike="noStrike">
              <a:solidFill>
                <a:srgbClr val="000000"/>
              </a:solidFill>
              <a:latin typeface="Arial"/>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76320" y="658332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64500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46FA6D9-B784-476F-8831-7E2E1E108C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 Analysis</a:t>
            </a:r>
            <a:endParaRPr b="0" lang="en-US" sz="4400" spc="-1" strike="noStrike">
              <a:solidFill>
                <a:srgbClr val="000000"/>
              </a:solidFill>
              <a:latin typeface="Arial"/>
            </a:endParaRPr>
          </a:p>
        </p:txBody>
      </p:sp>
      <p:sp>
        <p:nvSpPr>
          <p:cNvPr id="8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llow for better comparison through time or between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 look at each ratio, ask yourself what the ratio is trying to measure and why that information is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used both internally and externally</a:t>
            </a:r>
            <a:endParaRPr b="0" lang="en-US" sz="2800" spc="-1" strike="noStrike">
              <a:solidFill>
                <a:srgbClr val="000000"/>
              </a:solidFill>
              <a:latin typeface="Arial"/>
            </a:endParaRPr>
          </a:p>
        </p:txBody>
      </p:sp>
      <p:sp>
        <p:nvSpPr>
          <p:cNvPr id="83"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26BE7D9-1AF1-4749-9913-13BEA2CFDE7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5344F1B-BD67-4DB9-8BDD-9149A8E397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Financial Ratios</a:t>
            </a:r>
            <a:endParaRPr b="0" lang="en-US" sz="4400" spc="-1" strike="noStrike">
              <a:solidFill>
                <a:srgbClr val="000000"/>
              </a:solidFill>
              <a:latin typeface="Arial"/>
            </a:endParaRPr>
          </a:p>
        </p:txBody>
      </p:sp>
      <p:sp>
        <p:nvSpPr>
          <p:cNvPr id="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solvency or liquidity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olvency or financial leverage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 management or turnover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ability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value ratios</a:t>
            </a:r>
            <a:endParaRPr b="0" lang="en-US" sz="3200" spc="-1" strike="noStrike">
              <a:solidFill>
                <a:srgbClr val="000000"/>
              </a:solidFill>
              <a:latin typeface="Arial"/>
            </a:endParaRPr>
          </a:p>
        </p:txBody>
      </p:sp>
      <p:sp>
        <p:nvSpPr>
          <p:cNvPr id="86"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7CC18E6-269D-409A-B92A-5C4AD5F6E4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2B20E41-BCAB-4D5B-8ABE-B09C180EFF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Liquidity Ratios</a:t>
            </a:r>
            <a:endParaRPr b="0" lang="en-US" sz="4400" spc="-1" strike="noStrike">
              <a:solidFill>
                <a:srgbClr val="000000"/>
              </a:solidFill>
              <a:latin typeface="Arial"/>
            </a:endParaRPr>
          </a:p>
        </p:txBody>
      </p:sp>
      <p:sp>
        <p:nvSpPr>
          <p:cNvPr id="88" name="PlaceHolder 2"/>
          <p:cNvSpPr>
            <a:spLocks noGrp="1"/>
          </p:cNvSpPr>
          <p:nvPr>
            <p:ph/>
          </p:nvPr>
        </p:nvSpPr>
        <p:spPr>
          <a:xfrm>
            <a:off x="1676520" y="1676160"/>
            <a:ext cx="7159680" cy="453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atio = CA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1.13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atio = (CA – Inventory)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301) / 1,995 = .98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atio = Cash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6 / 1,995 = .35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C to Total Assets = NWC / TA</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5,394 = .05</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 Measure = CA / average daily operating costs</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2,006 + 1,740)/365) = 219.8 days</a:t>
            </a:r>
            <a:endParaRPr b="0" lang="en-US" sz="2400" spc="-1" strike="noStrike">
              <a:solidFill>
                <a:srgbClr val="000000"/>
              </a:solidFill>
              <a:latin typeface="Arial"/>
            </a:endParaRPr>
          </a:p>
        </p:txBody>
      </p:sp>
      <p:sp>
        <p:nvSpPr>
          <p:cNvPr id="89"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I/S</a:t>
            </a:r>
            <a:endParaRPr b="0" lang="en-US" sz="1800" spc="-1" strike="noStrike">
              <a:solidFill>
                <a:srgbClr val="000000"/>
              </a:solidFill>
              <a:latin typeface="Times New Roman"/>
            </a:endParaRPr>
          </a:p>
        </p:txBody>
      </p:sp>
      <p:sp>
        <p:nvSpPr>
          <p:cNvPr id="90"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254F6E0-DBB4-4F87-BCC1-021FDF7F0E5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84DC364-6A2E-4B68-855C-334B06275C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Long-term Solvency Ratios</a:t>
            </a:r>
            <a:endParaRPr b="0" lang="en-US" sz="4400" spc="-1" strike="noStrike">
              <a:solidFill>
                <a:srgbClr val="000000"/>
              </a:solidFill>
              <a:latin typeface="Arial"/>
            </a:endParaRPr>
          </a:p>
        </p:txBody>
      </p:sp>
      <p:sp>
        <p:nvSpPr>
          <p:cNvPr id="92"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Debt Ratio = (TA – TE) / T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5,394 = 52.6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Equity = 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2,556 = 1.11 tim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Multiplier = TA / TE = 1 + D/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11 = 2.1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debt ratio = LTD / (L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3 / (843 + 2,556) = 24.80%</a:t>
            </a:r>
            <a:endParaRPr b="0" lang="en-US" sz="2400" spc="-1" strike="noStrike">
              <a:solidFill>
                <a:srgbClr val="000000"/>
              </a:solidFill>
              <a:latin typeface="Arial"/>
            </a:endParaRPr>
          </a:p>
        </p:txBody>
      </p:sp>
      <p:sp>
        <p:nvSpPr>
          <p:cNvPr id="93"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I/S</a:t>
            </a:r>
            <a:endParaRPr b="0" lang="en-US" sz="1800" spc="-1" strike="noStrike">
              <a:solidFill>
                <a:srgbClr val="000000"/>
              </a:solidFill>
              <a:latin typeface="Times New Roman"/>
            </a:endParaRPr>
          </a:p>
        </p:txBody>
      </p:sp>
      <p:sp>
        <p:nvSpPr>
          <p:cNvPr id="9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37B73CE-8FA8-42AC-B79D-FFF710E23F1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3C29978-F59E-4600-BFA9-6379148045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Coverage Ratios</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s Interest Earned = EBIT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7 = 162.57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Coverage = (EBIT + Depreciation)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116) / 7 = 179.14 times</a:t>
            </a:r>
            <a:endParaRPr b="0" lang="en-US" sz="2800" spc="-1" strike="noStrike">
              <a:solidFill>
                <a:srgbClr val="000000"/>
              </a:solidFill>
              <a:latin typeface="Arial"/>
            </a:endParaRPr>
          </a:p>
        </p:txBody>
      </p:sp>
      <p:sp>
        <p:nvSpPr>
          <p:cNvPr id="97"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9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5CD41E0-6907-4CD0-9EBE-29743BD4977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85DF525-581F-47EC-AE9A-6CD01BC651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nventory Ratios</a:t>
            </a:r>
            <a:endParaRPr b="0" lang="en-US" sz="4400" spc="-1" strike="noStrike">
              <a:solidFill>
                <a:srgbClr val="000000"/>
              </a:solidFill>
              <a:latin typeface="Arial"/>
            </a:endParaRPr>
          </a:p>
        </p:txBody>
      </p:sp>
      <p:sp>
        <p:nvSpPr>
          <p:cNvPr id="10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y Turnover = Cost of Goods Sold / Inventor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 / 301 = 6.66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 Sales in Inventory = 365 / Inventory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6.66 = 55 days</a:t>
            </a:r>
            <a:endParaRPr b="0" lang="en-US" sz="2800" spc="-1" strike="noStrike">
              <a:solidFill>
                <a:srgbClr val="000000"/>
              </a:solidFill>
              <a:latin typeface="Arial"/>
            </a:endParaRPr>
          </a:p>
        </p:txBody>
      </p:sp>
      <p:sp>
        <p:nvSpPr>
          <p:cNvPr id="101"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0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E92D10F-5C0C-45B9-96B8-158EF8C12D4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77C516D-D14B-4DE1-8B7B-9ABBA59B7B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Receivables Ratios</a:t>
            </a:r>
            <a:endParaRPr b="0" lang="en-US" sz="4400" spc="-1" strike="noStrike">
              <a:solidFill>
                <a:srgbClr val="000000"/>
              </a:solidFill>
              <a:latin typeface="Arial"/>
            </a:endParaRPr>
          </a:p>
        </p:txBody>
      </p:sp>
      <p:sp>
        <p:nvSpPr>
          <p:cNvPr id="1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ables Turnover = Sales / Accounts Receivabl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 / 956 = 5.23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 Sales in Receivables = 365 / Receivables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5.23 = 70 day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0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F372261-24B2-4ABA-B02E-F8FC7E52AE9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7649470-F02D-4A79-BFE9-9599681F02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Total Asset Turnover</a:t>
            </a:r>
            <a:endParaRPr b="0" lang="en-US" sz="4400" spc="-1" strike="noStrike">
              <a:solidFill>
                <a:srgbClr val="000000"/>
              </a:solidFill>
              <a:latin typeface="Arial"/>
            </a:endParaRPr>
          </a:p>
        </p:txBody>
      </p:sp>
      <p:sp>
        <p:nvSpPr>
          <p:cNvPr id="10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sset Turnover = Sales / Total Asset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5,394 = .9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unusual for TAT &lt; 1, especially if a firm has a large amount of fixed asse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C Turnover = Sales / NWC</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2,256 – 1,995) = 19.16 tim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Asset Turnover = Sales / NFA</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3,138 = 1.59 times</a:t>
            </a:r>
            <a:endParaRPr b="0" lang="en-US" sz="2400" spc="-1" strike="noStrike">
              <a:solidFill>
                <a:srgbClr val="000000"/>
              </a:solidFill>
              <a:latin typeface="Arial"/>
            </a:endParaRPr>
          </a:p>
        </p:txBody>
      </p:sp>
      <p:sp>
        <p:nvSpPr>
          <p:cNvPr id="109"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1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A76235D-7448-4503-9722-4466791B2CD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F3EC0AB-72FC-4A02-9506-3CE71B0A94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rofitability Measures</a:t>
            </a:r>
            <a:endParaRPr b="0" lang="en-US" sz="4400" spc="-1" strike="noStrike">
              <a:solidFill>
                <a:srgbClr val="000000"/>
              </a:solidFill>
              <a:latin typeface="Arial"/>
            </a:endParaRPr>
          </a:p>
        </p:txBody>
      </p:sp>
      <p:sp>
        <p:nvSpPr>
          <p:cNvPr id="11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 Margin = Net Income / Sa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000 = 13.78%</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Assets (ROA) = Net Income / Total Asset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394 = 12.77%</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Equity (ROE) = Net Income / Total Equit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2,556 = 26.96%</a:t>
            </a:r>
            <a:endParaRPr b="0" lang="en-US" sz="2800" spc="-1" strike="noStrike">
              <a:solidFill>
                <a:srgbClr val="000000"/>
              </a:solidFill>
              <a:latin typeface="Arial"/>
            </a:endParaRPr>
          </a:p>
        </p:txBody>
      </p:sp>
      <p:sp>
        <p:nvSpPr>
          <p:cNvPr id="113"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1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59D0D27-9BF5-45D6-BE0C-E3A3E330E9B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F0E0E78-F395-4613-9CD3-9CE014B75B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Market Value Measures</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Price = $87.65 per sh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s outstanding = 190.9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 Ratio = Price per share / Earnings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3.61 = 24.28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to-book ratio = market value per share / book value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2,556 / 190.9) = 6.55 times</a:t>
            </a:r>
            <a:endParaRPr b="0" lang="en-US" sz="2800" spc="-1" strike="noStrike">
              <a:solidFill>
                <a:srgbClr val="000000"/>
              </a:solidFill>
              <a:latin typeface="Arial"/>
            </a:endParaRPr>
          </a:p>
        </p:txBody>
      </p:sp>
      <p:sp>
        <p:nvSpPr>
          <p:cNvPr id="11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5617591-4EDE-43A0-9370-1397065658E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B607763-A433-4FDE-9891-26A3DB42D0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sources and uses of cash and the Statement of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standardize financial statements for comparison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compute and interpret important financial rat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and interpret the Du Pont Ident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problems and pitfalls in financial statement analysis</a:t>
            </a:r>
            <a:endParaRPr b="0" lang="en-US" sz="2400" spc="-1" strike="noStrike">
              <a:solidFill>
                <a:srgbClr val="000000"/>
              </a:solidFill>
              <a:latin typeface="Arial"/>
            </a:endParaRPr>
          </a:p>
        </p:txBody>
      </p:sp>
      <p:sp>
        <p:nvSpPr>
          <p:cNvPr id="5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7C062D8-B239-4BAE-88CC-E203E8317E8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BC35889-FFB5-4505-833C-3185C43D02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ing the Du Pont Identity</a:t>
            </a:r>
            <a:endParaRPr b="0" lang="en-US" sz="4400" spc="-1" strike="noStrike">
              <a:solidFill>
                <a:srgbClr val="000000"/>
              </a:solidFill>
              <a:latin typeface="Arial"/>
            </a:endParaRPr>
          </a:p>
        </p:txBody>
      </p:sp>
      <p:sp>
        <p:nvSpPr>
          <p:cNvPr id="11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E = NI / 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TA/TA)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E) (TA / TA)</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 ROA * E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Sales/Sales) again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Sales / Sal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Sales) (Sales / TA) (TA / 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PM * TAT * EM</a:t>
            </a:r>
            <a:endParaRPr b="0" lang="en-US" sz="2400" spc="-1" strike="noStrike">
              <a:solidFill>
                <a:srgbClr val="000000"/>
              </a:solidFill>
              <a:latin typeface="Arial"/>
            </a:endParaRPr>
          </a:p>
        </p:txBody>
      </p:sp>
      <p:sp>
        <p:nvSpPr>
          <p:cNvPr id="12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A9A93C2-7193-4744-985E-929FF41D579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4D9D75F-B9A9-4B45-84DA-44E9CB1B49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E = PM * TAT * EM</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 margin is a measure of the firm’s operating efficiency – how well it controls cos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sset turnover is a measure of the firm’s asset use efficiency – how well does it manage its asse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multiplier is a measure of the firm’s financial leverage</a:t>
            </a:r>
            <a:endParaRPr b="0" lang="en-US" sz="2800" spc="-1" strike="noStrike">
              <a:solidFill>
                <a:srgbClr val="000000"/>
              </a:solidFill>
              <a:latin typeface="Arial"/>
            </a:endParaRPr>
          </a:p>
        </p:txBody>
      </p:sp>
      <p:sp>
        <p:nvSpPr>
          <p:cNvPr id="12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23B2DF2-8CD1-4F5E-8622-C06D8D92F98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1D119FB-8B30-4F1D-B9C9-BE2366869B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anded Du Pont Analysis – </a:t>
            </a:r>
            <a:br>
              <a:rPr sz="4000"/>
            </a:br>
            <a:r>
              <a:rPr b="0" lang="en-US" sz="4000" spc="-1" strike="noStrike">
                <a:solidFill>
                  <a:srgbClr val="000000"/>
                </a:solidFill>
                <a:latin typeface="Arial"/>
              </a:rPr>
              <a:t>Du Pont Data</a:t>
            </a:r>
            <a:endParaRPr b="0" lang="en-US" sz="4000" spc="-1" strike="noStrike">
              <a:solidFill>
                <a:srgbClr val="000000"/>
              </a:solidFill>
              <a:latin typeface="Arial"/>
            </a:endParaRPr>
          </a:p>
        </p:txBody>
      </p:sp>
      <p:pic>
        <p:nvPicPr>
          <p:cNvPr id="125" name="" descr=""/>
          <p:cNvPicPr/>
          <p:nvPr/>
        </p:nvPicPr>
        <p:blipFill>
          <a:blip r:embed="rId1"/>
          <a:stretch/>
        </p:blipFill>
        <p:spPr>
          <a:xfrm>
            <a:off x="1371600" y="2057400"/>
            <a:ext cx="7772400" cy="3629160"/>
          </a:xfrm>
          <a:prstGeom prst="rect">
            <a:avLst/>
          </a:prstGeom>
          <a:ln w="0">
            <a:noFill/>
          </a:ln>
        </p:spPr>
      </p:pic>
      <p:sp>
        <p:nvSpPr>
          <p:cNvPr id="12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FE82964-C61D-4474-846E-8A3900286BF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DCD49B16-2673-4322-82BB-29A42D58E9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Du Pont Chart</a:t>
            </a:r>
            <a:endParaRPr b="0" lang="en-US" sz="4400" spc="-1" strike="noStrike">
              <a:solidFill>
                <a:srgbClr val="000000"/>
              </a:solidFill>
              <a:latin typeface="Arial"/>
            </a:endParaRPr>
          </a:p>
        </p:txBody>
      </p:sp>
      <p:sp>
        <p:nvSpPr>
          <p:cNvPr id="128" name=""/>
          <p:cNvSpPr/>
          <p:nvPr/>
        </p:nvSpPr>
        <p:spPr>
          <a:xfrm>
            <a:off x="2895480" y="2743200"/>
            <a:ext cx="4648320" cy="36612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Figure 3.1 (Extended DuPont Chart)</a:t>
            </a:r>
            <a:endParaRPr b="0" lang="en-US" sz="1800" spc="-1" strike="noStrike">
              <a:solidFill>
                <a:srgbClr val="000000"/>
              </a:solidFill>
              <a:latin typeface="Times New Roman"/>
            </a:endParaRPr>
          </a:p>
        </p:txBody>
      </p:sp>
      <p:pic>
        <p:nvPicPr>
          <p:cNvPr id="129" name="" descr=""/>
          <p:cNvPicPr/>
          <p:nvPr/>
        </p:nvPicPr>
        <p:blipFill>
          <a:blip r:embed="rId1"/>
          <a:stretch/>
        </p:blipFill>
        <p:spPr>
          <a:xfrm>
            <a:off x="2514600" y="1219320"/>
            <a:ext cx="5562720" cy="5435640"/>
          </a:xfrm>
          <a:prstGeom prst="rect">
            <a:avLst/>
          </a:prstGeom>
          <a:ln w="0">
            <a:noFill/>
          </a:ln>
        </p:spPr>
      </p:pic>
      <p:sp>
        <p:nvSpPr>
          <p:cNvPr id="13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66B0496-7612-4F0D-BC3B-E911E0207D6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4381728-7A37-4C07-A772-960161D828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valuate Financial Statements?</a:t>
            </a:r>
            <a:endParaRPr b="0" lang="en-US" sz="4400" spc="-1" strike="noStrike">
              <a:solidFill>
                <a:srgbClr val="000000"/>
              </a:solidFill>
              <a:latin typeface="Arial"/>
            </a:endParaRPr>
          </a:p>
        </p:txBody>
      </p:sp>
      <p:sp>
        <p:nvSpPr>
          <p:cNvPr id="132" name="PlaceHolder 2"/>
          <p:cNvSpPr>
            <a:spLocks noGrp="1"/>
          </p:cNvSpPr>
          <p:nvPr>
            <p:ph/>
          </p:nvPr>
        </p:nvSpPr>
        <p:spPr>
          <a:xfrm>
            <a:off x="1752120" y="1717560"/>
            <a:ext cx="708372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evaluation – compensation and comparison between division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for the future – guide in estimating future cash flow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o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holders</a:t>
            </a:r>
            <a:endParaRPr b="0" lang="en-US" sz="2400" spc="-1" strike="noStrike">
              <a:solidFill>
                <a:srgbClr val="000000"/>
              </a:solidFill>
              <a:latin typeface="Arial"/>
            </a:endParaRPr>
          </a:p>
          <a:p>
            <a:pPr lvl="1" marL="744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D92BA4E-AAAC-4ED6-B375-D8092395A11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CA72D7F-22C9-401A-BB2D-E56B379585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chmarking</a:t>
            </a:r>
            <a:endParaRPr b="0" lang="en-US" sz="4400" spc="-1" strike="noStrike">
              <a:solidFill>
                <a:srgbClr val="000000"/>
              </a:solidFill>
              <a:latin typeface="Arial"/>
            </a:endParaRPr>
          </a:p>
        </p:txBody>
      </p:sp>
      <p:sp>
        <p:nvSpPr>
          <p:cNvPr id="13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not very helpful by themselves; they need to be compared to somet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Trend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see how the firm’s performance is changing through tim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and external u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Group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o similar companies or within industri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C and NAICS codes</a:t>
            </a:r>
            <a:endParaRPr b="0" lang="en-US" sz="2400" spc="-1" strike="noStrike">
              <a:solidFill>
                <a:srgbClr val="000000"/>
              </a:solidFill>
              <a:latin typeface="Arial"/>
            </a:endParaRPr>
          </a:p>
        </p:txBody>
      </p:sp>
      <p:pic>
        <p:nvPicPr>
          <p:cNvPr id="136" name="" descr=""/>
          <p:cNvPicPr/>
          <p:nvPr/>
        </p:nvPicPr>
        <p:blipFill>
          <a:blip r:embed="rId1"/>
          <a:stretch/>
        </p:blipFill>
        <p:spPr>
          <a:xfrm>
            <a:off x="8001000" y="5181480"/>
            <a:ext cx="630360" cy="890640"/>
          </a:xfrm>
          <a:prstGeom prst="rect">
            <a:avLst/>
          </a:prstGeom>
          <a:ln w="0">
            <a:noFill/>
          </a:ln>
        </p:spPr>
      </p:pic>
      <p:sp>
        <p:nvSpPr>
          <p:cNvPr id="13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0BD0865-B520-4ED1-868C-5E434001A9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5C43F62-6B15-488D-A04C-FFCCA7B95960}" type="slidenum">
              <a:t>2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3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animClr clrSpc="rgb">
                                <p:cBhvr>
                                  <p:cTn id="9" dur="1" fill="hold"/>
                                  <p:tgtEl>
                                    <p:spTgt spid="136"/>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a:t>
            </a:r>
            <a:endParaRPr b="0" lang="en-US" sz="4400" spc="-1" strike="noStrike">
              <a:solidFill>
                <a:srgbClr val="000000"/>
              </a:solidFill>
              <a:latin typeface="Arial"/>
            </a:endParaRPr>
          </a:p>
        </p:txBody>
      </p:sp>
      <p:sp>
        <p:nvSpPr>
          <p:cNvPr id="139" name="PlaceHolder 2"/>
          <p:cNvSpPr>
            <a:spLocks noGrp="1"/>
          </p:cNvSpPr>
          <p:nvPr>
            <p:ph/>
          </p:nvPr>
        </p:nvSpPr>
        <p:spPr>
          <a:xfrm>
            <a:off x="1415520" y="1600200"/>
            <a:ext cx="7270920" cy="45244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figured using financial data from the 2007 Annual Report for Home Depo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he ratios to the industry as they are reported in Tables 3.11 and 3.12 in the book</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Depot’s fiscal year ends Feb. 3</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note how the ratios are computed in the table so you can compute comparable number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Depot sales = $77,349 MM</a:t>
            </a:r>
            <a:endParaRPr b="0" lang="en-US" sz="2800" spc="-1" strike="noStrike">
              <a:solidFill>
                <a:srgbClr val="000000"/>
              </a:solidFill>
              <a:latin typeface="Arial"/>
            </a:endParaRPr>
          </a:p>
        </p:txBody>
      </p:sp>
      <p:pic>
        <p:nvPicPr>
          <p:cNvPr id="140" name="" descr=""/>
          <p:cNvPicPr/>
          <p:nvPr/>
        </p:nvPicPr>
        <p:blipFill>
          <a:blip r:embed="rId1"/>
          <a:stretch/>
        </p:blipFill>
        <p:spPr>
          <a:xfrm>
            <a:off x="7696080" y="5334120"/>
            <a:ext cx="630360" cy="890640"/>
          </a:xfrm>
          <a:prstGeom prst="rect">
            <a:avLst/>
          </a:prstGeom>
          <a:ln w="0">
            <a:noFill/>
          </a:ln>
        </p:spPr>
      </p:pic>
      <p:sp>
        <p:nvSpPr>
          <p:cNvPr id="14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C3B97EF-C607-4F59-8FDD-5D97D4B6C80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94088DB-BAF4-4188-B67D-56BA24B90E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I</a:t>
            </a:r>
            <a:endParaRPr b="0" lang="en-US" sz="4400" spc="-1" strike="noStrike">
              <a:solidFill>
                <a:srgbClr val="000000"/>
              </a:solidFill>
              <a:latin typeface="Arial"/>
            </a:endParaRPr>
          </a:p>
        </p:txBody>
      </p:sp>
      <p:sp>
        <p:nvSpPr>
          <p:cNvPr id="14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quidity ratios</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atio = 1.15x; Industry = 1.7x</a:t>
            </a:r>
            <a:endParaRPr b="0" lang="en-US" sz="28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atio = .23x; Industry = .4x</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olvency ratio</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Equity ratio (Debt / Worth) = 1.5x; Industry = 1.1x.</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age ratio</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Interest Earned = 11.6x; Industry = 4.5x</a:t>
            </a:r>
            <a:endParaRPr b="0" lang="en-US" sz="2800" spc="-1" strike="noStrike">
              <a:solidFill>
                <a:srgbClr val="000000"/>
              </a:solidFill>
              <a:latin typeface="Arial"/>
            </a:endParaRPr>
          </a:p>
        </p:txBody>
      </p:sp>
      <p:sp>
        <p:nvSpPr>
          <p:cNvPr id="14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0C2BE23-7668-4F70-8CCA-3669D2179FE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BDC26A9-659A-4582-AAD7-127C241A8D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II</a:t>
            </a:r>
            <a:endParaRPr b="0" lang="en-US" sz="4400" spc="-1" strike="noStrike">
              <a:solidFill>
                <a:srgbClr val="000000"/>
              </a:solidFill>
              <a:latin typeface="Arial"/>
            </a:endParaRPr>
          </a:p>
        </p:txBody>
      </p:sp>
      <p:sp>
        <p:nvSpPr>
          <p:cNvPr id="14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 management ratios:</a:t>
            </a:r>
            <a:endParaRPr b="0" lang="en-US" sz="24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ventory turnover = 4.4x; Industry = 3.8x</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ables turnover = 61.4x (6 days); Industry = 26.9x (14 days)</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tal asset turnover = 1.7x; Industry = 2.6x</a:t>
            </a:r>
            <a:endParaRPr b="0" lang="en-US" sz="21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ility ratios</a:t>
            </a:r>
            <a:endParaRPr b="0" lang="en-US" sz="24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fit margin before taxes = 8.6%; Industry = 2.5%</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OA (profit before taxes / total assets) = 14.9%; Industry = 6.4%</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OE = (profit before taxes / tangible net worth) = 37.4%; Industry = 11.9%</a:t>
            </a:r>
            <a:endParaRPr b="0" lang="en-US" sz="2100" spc="-1" strike="noStrike">
              <a:solidFill>
                <a:srgbClr val="000000"/>
              </a:solidFill>
              <a:latin typeface="Arial"/>
            </a:endParaRPr>
          </a:p>
        </p:txBody>
      </p:sp>
      <p:sp>
        <p:nvSpPr>
          <p:cNvPr id="14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BAE71D1-5FE4-4B22-8B04-18903262C1C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BF699B2-62F9-4C15-ACBB-04F1069D61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Problems</a:t>
            </a:r>
            <a:endParaRPr b="0" lang="en-US" sz="4400" spc="-1" strike="noStrike">
              <a:solidFill>
                <a:srgbClr val="000000"/>
              </a:solidFill>
              <a:latin typeface="Arial"/>
            </a:endParaRPr>
          </a:p>
        </p:txBody>
      </p:sp>
      <p:sp>
        <p:nvSpPr>
          <p:cNvPr id="14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underlying theory, so there is no way to know which ratios are most relev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chmarking is difficult for diversified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ization and international competition makes comparison more difficult because of differences in accounting regul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accounting procedures, i.e. FIFO vs. LIF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fiscal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ordinary events</a:t>
            </a:r>
            <a:endParaRPr b="0" lang="en-US" sz="2400" spc="-1" strike="noStrike">
              <a:solidFill>
                <a:srgbClr val="000000"/>
              </a:solidFill>
              <a:latin typeface="Arial"/>
            </a:endParaRPr>
          </a:p>
        </p:txBody>
      </p:sp>
      <p:sp>
        <p:nvSpPr>
          <p:cNvPr id="15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2E1FC26-B367-426B-B12B-5F8808498A4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6B992F9-26AE-4895-ABBA-31DD6826BE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and Financial Statements: A Closer L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Financial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 Pont Ide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Financial Statement Information</a:t>
            </a:r>
            <a:endParaRPr b="0" lang="en-US" sz="3200" spc="-1" strike="noStrike">
              <a:solidFill>
                <a:srgbClr val="000000"/>
              </a:solidFill>
              <a:latin typeface="Arial"/>
            </a:endParaRPr>
          </a:p>
        </p:txBody>
      </p:sp>
      <p:sp>
        <p:nvSpPr>
          <p:cNvPr id="5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94CA730-C087-400C-8600-7FBFBC27EF4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F625CC4-2400-488D-BF7C-2FBB7B2FE8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makes ratio analysis much easier than it has been in the p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www.reuters.com </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Stocks, then choose a company and enter its ticker symbo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Ratios to see what information is available</a:t>
            </a:r>
            <a:endParaRPr b="0" lang="en-US" sz="2400" spc="-1" strike="noStrike">
              <a:solidFill>
                <a:srgbClr val="000000"/>
              </a:solidFill>
              <a:latin typeface="Arial"/>
            </a:endParaRPr>
          </a:p>
        </p:txBody>
      </p:sp>
      <p:pic>
        <p:nvPicPr>
          <p:cNvPr id="153" name="" descr=""/>
          <p:cNvPicPr/>
          <p:nvPr/>
        </p:nvPicPr>
        <p:blipFill>
          <a:blip r:embed="rId1"/>
          <a:stretch/>
        </p:blipFill>
        <p:spPr>
          <a:xfrm>
            <a:off x="7543800" y="5334120"/>
            <a:ext cx="584280" cy="793800"/>
          </a:xfrm>
          <a:prstGeom prst="rect">
            <a:avLst/>
          </a:prstGeom>
          <a:ln w="0">
            <a:noFill/>
          </a:ln>
        </p:spPr>
      </p:pic>
      <p:sp>
        <p:nvSpPr>
          <p:cNvPr id="15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98C58F3-D015-4070-9C5D-00068805737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7CA0358-9D18-4F7F-AE98-5A3067AB1D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5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atement of Cash Flows and how do you determine sources and uses of ca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standardize balance sheets and income statements and why is standardization use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ajor categories of ratios and how do you compute specific ratios within each categ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problems associated with financial statement analysis?</a:t>
            </a:r>
            <a:endParaRPr b="0" lang="en-US" sz="2400" spc="-1" strike="noStrike">
              <a:solidFill>
                <a:srgbClr val="000000"/>
              </a:solidFill>
              <a:latin typeface="Arial"/>
            </a:endParaRPr>
          </a:p>
        </p:txBody>
      </p:sp>
      <p:sp>
        <p:nvSpPr>
          <p:cNvPr id="15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B77545D-3B08-41D2-9C7B-C97F46690D3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2FEB7A1-60EE-4B62-A3C9-DCF5DBAF6E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financial analysts be held liable for their opinions regarding the financial health of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losely should ratings agencies work with the firms they are reviewing? I.e., what level of independence is appropriate?</a:t>
            </a:r>
            <a:endParaRPr b="0" lang="en-US" sz="2400" spc="-1" strike="noStrike">
              <a:solidFill>
                <a:srgbClr val="000000"/>
              </a:solidFill>
              <a:latin typeface="Arial"/>
            </a:endParaRPr>
          </a:p>
        </p:txBody>
      </p:sp>
      <p:sp>
        <p:nvSpPr>
          <p:cNvPr id="16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FDE2DD5-24E1-45FC-89BA-15E6C8074E4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EF2C2DE-1358-41A4-8E9F-10DBB47488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6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YZ Corporation has the following financial information for the previous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8M, PM = 8%, CA = $2M, FA = $6M, NWC = $1M, LTD = $3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ROE using the DuPont Analysis.</a:t>
            </a:r>
            <a:endParaRPr b="0" lang="en-US" sz="3200" spc="-1" strike="noStrike">
              <a:solidFill>
                <a:srgbClr val="000000"/>
              </a:solidFill>
              <a:latin typeface="Arial"/>
            </a:endParaRPr>
          </a:p>
        </p:txBody>
      </p:sp>
      <p:sp>
        <p:nvSpPr>
          <p:cNvPr id="16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71BEA1C-8396-44F9-B1A5-68E4A7CD03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4760650-35D7-442C-B4E3-49F5936877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676520" y="25909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B89E8EE-ACEA-4F09-9D10-BC2EF1F9FA8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E5F1B13F-33BC-4C8F-9DAB-B3ED3F9E1DB2}"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Balance Sheet</a:t>
            </a:r>
            <a:endParaRPr b="0" lang="en-US" sz="4400" spc="-1" strike="noStrike">
              <a:solidFill>
                <a:srgbClr val="000000"/>
              </a:solidFill>
              <a:latin typeface="Arial"/>
            </a:endParaRPr>
          </a:p>
        </p:txBody>
      </p:sp>
      <p:graphicFrame>
        <p:nvGraphicFramePr>
          <p:cNvPr id="60" name=""/>
          <p:cNvGraphicFramePr/>
          <p:nvPr/>
        </p:nvGraphicFramePr>
        <p:xfrm>
          <a:off x="1482840" y="1828800"/>
          <a:ext cx="7172280" cy="3825720"/>
        </p:xfrm>
        <a:graphic>
          <a:graphicData uri="http://schemas.openxmlformats.org/drawingml/2006/table">
            <a:tbl>
              <a:tblPr/>
              <a:tblGrid>
                <a:gridCol w="1147320"/>
                <a:gridCol w="1139040"/>
                <a:gridCol w="1221480"/>
                <a:gridCol w="1220760"/>
                <a:gridCol w="1221840"/>
                <a:gridCol w="1221840"/>
              </a:tblGrid>
              <a:tr h="364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Times New Roman"/>
                      </a:endParaRPr>
                    </a:p>
                  </a:txBody>
                  <a:tcPr anchor="t" marL="91440" marR="91440">
                    <a:lnL>
                      <a:no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Times New Roman"/>
                      </a:endParaRPr>
                    </a:p>
                  </a:txBody>
                  <a:tcPr anchor="t" marL="91440" marR="91440">
                    <a:lnL>
                      <a:noFill/>
                    </a:lnL>
                    <a:lnR>
                      <a:no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Times New Roman"/>
                      </a:endParaRPr>
                    </a:p>
                  </a:txBody>
                  <a:tcPr anchor="t" marL="91440" marR="91440">
                    <a:lnL>
                      <a:noFill/>
                    </a:lnL>
                    <a:lnR w="13680">
                      <a:solidFill>
                        <a:srgbClr val="000000"/>
                      </a:solidFill>
                    </a:lnR>
                    <a:lnT w="13680">
                      <a:solidFill>
                        <a:srgbClr val="000000"/>
                      </a:solidFill>
                    </a:lnT>
                    <a:lnB w="5760">
                      <a:solidFill>
                        <a:srgbClr val="000000"/>
                      </a:solidFill>
                    </a:lnB>
                    <a:solidFill>
                      <a:srgbClr val="bbe0e3"/>
                    </a:solidFill>
                  </a:tcPr>
                </a:tc>
              </a:tr>
              <a:tr h="4060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6</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7</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517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6</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2</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a:t>
                      </a:r>
                      <a:endParaRPr b="0" lang="en-US" sz="1600" spc="-1" strike="noStrike">
                        <a:solidFill>
                          <a:srgbClr val="000000"/>
                        </a:solidFill>
                        <a:latin typeface="Times New Roman"/>
                      </a:endParaRPr>
                    </a:p>
                  </a:txBody>
                  <a:tcPr anchor="t" marL="91440" marR="91440">
                    <a:lnL>
                      <a:no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64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1</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1</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L</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62</a:t>
                      </a:r>
                      <a:endParaRPr b="0" lang="en-US" sz="1600" spc="-1" strike="noStrike">
                        <a:solidFill>
                          <a:srgbClr val="000000"/>
                        </a:solidFill>
                        <a:latin typeface="Times New Roman"/>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53</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6360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L</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75</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51552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6</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75</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Debt</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3</a:t>
                      </a:r>
                      <a:endParaRPr b="0" lang="en-US" sz="1600" spc="-1" strike="noStrike">
                        <a:solidFill>
                          <a:srgbClr val="000000"/>
                        </a:solidFill>
                        <a:latin typeface="Times New Roman"/>
                      </a:endParaRPr>
                    </a:p>
                  </a:txBody>
                  <a:tcPr anchor="t" marL="91440" marR="91440">
                    <a:lnL>
                      <a:no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91</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51912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F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38</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5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56</a:t>
                      </a:r>
                      <a:endParaRPr b="0" lang="en-US" sz="1600" spc="-1" strike="noStrike">
                        <a:solidFill>
                          <a:srgbClr val="000000"/>
                        </a:solidFill>
                        <a:latin typeface="Times New Roman"/>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67</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77436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Liab. &amp; Equity</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61" name=""/>
          <p:cNvSpPr/>
          <p:nvPr/>
        </p:nvSpPr>
        <p:spPr>
          <a:xfrm>
            <a:off x="1371600" y="5715000"/>
            <a:ext cx="4952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Times New Roman"/>
            </a:endParaRPr>
          </a:p>
        </p:txBody>
      </p:sp>
      <p:pic>
        <p:nvPicPr>
          <p:cNvPr id="62" name="" descr="">
            <a:hlinkClick r:id="rId1" action="ppaction://hlinksldjump"/>
          </p:cNvPr>
          <p:cNvPicPr/>
          <p:nvPr/>
        </p:nvPicPr>
        <p:blipFill>
          <a:blip r:embed="rId2"/>
          <a:stretch/>
        </p:blipFill>
        <p:spPr>
          <a:xfrm>
            <a:off x="762120" y="6248520"/>
            <a:ext cx="228600" cy="228600"/>
          </a:xfrm>
          <a:prstGeom prst="rect">
            <a:avLst/>
          </a:prstGeom>
          <a:ln w="0">
            <a:noFill/>
          </a:ln>
        </p:spPr>
      </p:pic>
      <p:sp>
        <p:nvSpPr>
          <p:cNvPr id="6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51F8C3A-F9E2-4919-BEDB-BCBECA0E55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18639729-4D73-481D-AE2E-58C4EB3FEA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Income Statement</a:t>
            </a:r>
            <a:endParaRPr b="0" lang="en-US" sz="4400" spc="-1" strike="noStrike">
              <a:solidFill>
                <a:srgbClr val="000000"/>
              </a:solidFill>
              <a:latin typeface="Arial"/>
            </a:endParaRPr>
          </a:p>
        </p:txBody>
      </p:sp>
      <p:graphicFrame>
        <p:nvGraphicFramePr>
          <p:cNvPr id="65" name=""/>
          <p:cNvGraphicFramePr/>
          <p:nvPr/>
        </p:nvGraphicFramePr>
        <p:xfrm>
          <a:off x="2514600" y="1879560"/>
          <a:ext cx="5767560" cy="4184640"/>
        </p:xfrm>
        <a:graphic>
          <a:graphicData uri="http://schemas.openxmlformats.org/drawingml/2006/table">
            <a:tbl>
              <a:tblPr/>
              <a:tblGrid>
                <a:gridCol w="3542760"/>
                <a:gridCol w="2224800"/>
              </a:tblGrid>
              <a:tr h="3758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Times New Roman"/>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a:t>
                      </a:r>
                      <a:endParaRPr b="0" lang="en-US" sz="1800" spc="-1" strike="noStrike">
                        <a:solidFill>
                          <a:srgbClr val="000000"/>
                        </a:solidFill>
                        <a:latin typeface="Times New Roman"/>
                      </a:endParaRPr>
                    </a:p>
                  </a:txBody>
                  <a:tcPr anchor="t" marL="91440" marR="91440">
                    <a:lnL>
                      <a:noFill/>
                    </a:lnL>
                    <a:lnR w="13680">
                      <a:solidFill>
                        <a:srgbClr val="000000"/>
                      </a:solidFill>
                    </a:lnR>
                    <a:lnT w="13680">
                      <a:solidFill>
                        <a:srgbClr val="000000"/>
                      </a:solidFill>
                    </a:lnT>
                    <a:lnB>
                      <a:noFill/>
                    </a:lnB>
                    <a:solidFill>
                      <a:srgbClr val="bbe0e3"/>
                    </a:solidFill>
                  </a:tcPr>
                </a:tc>
              </a:tr>
              <a:tr h="3762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Goods Sold</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76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se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62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7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8</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376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58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able Incom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1</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376200">
                <a:tc>
                  <a:txBody>
                    <a:bodyPr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2)</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7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9</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4190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1</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6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 per shar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13680">
                      <a:solidFill>
                        <a:srgbClr val="000000"/>
                      </a:solidFill>
                    </a:lnB>
                    <a:solidFill>
                      <a:srgbClr val="bbe0e3"/>
                    </a:solidFill>
                  </a:tcPr>
                </a:tc>
              </a:tr>
            </a:tbl>
          </a:graphicData>
        </a:graphic>
      </p:graphicFrame>
      <p:sp>
        <p:nvSpPr>
          <p:cNvPr id="66" name=""/>
          <p:cNvSpPr/>
          <p:nvPr/>
        </p:nvSpPr>
        <p:spPr>
          <a:xfrm>
            <a:off x="1905120" y="6172200"/>
            <a:ext cx="66294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 except EPS &amp; DPS</a:t>
            </a:r>
            <a:endParaRPr b="0" lang="en-US" sz="2400" spc="-1" strike="noStrike">
              <a:solidFill>
                <a:srgbClr val="000000"/>
              </a:solidFill>
              <a:latin typeface="Times New Roman"/>
            </a:endParaRPr>
          </a:p>
        </p:txBody>
      </p:sp>
      <p:sp>
        <p:nvSpPr>
          <p:cNvPr id="6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D895C1B-A8E6-4958-90CA-BD919351000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E4E2403D-71AF-4FA1-8C55-E2882D6697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and Uses</a:t>
            </a:r>
            <a:endParaRPr b="0" lang="en-US" sz="4400" spc="-1" strike="noStrike">
              <a:solidFill>
                <a:srgbClr val="000000"/>
              </a:solidFill>
              <a:latin typeface="Arial"/>
            </a:endParaRPr>
          </a:p>
        </p:txBody>
      </p:sp>
      <p:sp>
        <p:nvSpPr>
          <p:cNvPr id="69" name="PlaceHolder 2"/>
          <p:cNvSpPr>
            <a:spLocks noGrp="1"/>
          </p:cNvSpPr>
          <p:nvPr>
            <p:ph/>
          </p:nvPr>
        </p:nvSpPr>
        <p:spPr>
          <a:xfrm>
            <a:off x="1415880" y="1599840"/>
            <a:ext cx="72532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inflow – occurs when we “sell”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asset account (</a:t>
            </a:r>
            <a:r>
              <a:rPr b="0" lang="en-US" sz="2000" spc="-1" strike="noStrike" u="sng">
                <a:solidFill>
                  <a:srgbClr val="009999"/>
                </a:solidFill>
                <a:uFillTx/>
                <a:latin typeface="Arial"/>
                <a:hlinkClick r:id="rId1" action="ppaction://hlinksldjump"/>
              </a:rPr>
              <a:t>Sample B/S</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receivable, inventory, and net fixed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payable, other current liabilities, and common stock</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outflow – occurs when we “buy”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asset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and other current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 payable and long-term debt</a:t>
            </a:r>
            <a:endParaRPr b="0" lang="en-US" sz="1800" spc="-1" strike="noStrike">
              <a:solidFill>
                <a:srgbClr val="000000"/>
              </a:solidFill>
              <a:latin typeface="Arial"/>
            </a:endParaRPr>
          </a:p>
        </p:txBody>
      </p:sp>
      <p:sp>
        <p:nvSpPr>
          <p:cNvPr id="7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2D6C707-22CB-4F5C-A829-557D7A12B9D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630E3B3-045A-4E4A-8340-1490CC2D60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Cash Flows</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 that summarizes the sources and uses of cas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divided into three major categori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Activity – includes net income and changes in most current accoun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Activity – includes changes in fixed asse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ng Activity – includes changes in notes payable, long-term debt, and equity accounts, as well as dividends</a:t>
            </a:r>
            <a:endParaRPr b="0" lang="en-US" sz="2400" spc="-1" strike="noStrike">
              <a:solidFill>
                <a:srgbClr val="000000"/>
              </a:solidFill>
              <a:latin typeface="Arial"/>
            </a:endParaRPr>
          </a:p>
        </p:txBody>
      </p:sp>
      <p:sp>
        <p:nvSpPr>
          <p:cNvPr id="7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A1178AA-0719-47BB-9D65-B723149562D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D3133FE-A84B-49AE-9F7A-5ED6CF791B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tatement of Cash Flows</a:t>
            </a:r>
            <a:endParaRPr b="0" lang="en-US" sz="4400" spc="-1" strike="noStrike">
              <a:solidFill>
                <a:srgbClr val="000000"/>
              </a:solidFill>
              <a:latin typeface="Arial"/>
            </a:endParaRPr>
          </a:p>
        </p:txBody>
      </p:sp>
      <p:graphicFrame>
        <p:nvGraphicFramePr>
          <p:cNvPr id="75" name=""/>
          <p:cNvGraphicFramePr/>
          <p:nvPr/>
        </p:nvGraphicFramePr>
        <p:xfrm>
          <a:off x="1819440" y="1828800"/>
          <a:ext cx="6841800" cy="4013280"/>
        </p:xfrm>
        <a:graphic>
          <a:graphicData uri="http://schemas.openxmlformats.org/drawingml/2006/table">
            <a:tbl>
              <a:tblPr/>
              <a:tblGrid>
                <a:gridCol w="2410920"/>
                <a:gridCol w="774360"/>
                <a:gridCol w="2548080"/>
                <a:gridCol w="1108440"/>
              </a:tblGrid>
              <a:tr h="30600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sh, beginning of ye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ncing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63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rating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Notes Payabl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3</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428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om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8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LT Debt</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248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lus: Depreciation</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C/S (minus R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ividends Paid</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Inventor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Financing</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1</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A/P</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Other CL</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rease in Cash</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3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ess: Increase in other CA</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Operation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75</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ash End of Ye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20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ment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ale of Fixed Asset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Investment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gridSpan="2">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6" name=""/>
          <p:cNvSpPr/>
          <p:nvPr/>
        </p:nvSpPr>
        <p:spPr>
          <a:xfrm>
            <a:off x="2819520" y="5943600"/>
            <a:ext cx="51814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Times New Roman"/>
            </a:endParaRPr>
          </a:p>
        </p:txBody>
      </p:sp>
      <p:sp>
        <p:nvSpPr>
          <p:cNvPr id="7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D26F9A1-6253-494F-83F1-6B730F5910D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6DA3CB7-44DB-4D98-89F0-551C0CC976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ized Financial Statements</a:t>
            </a:r>
            <a:endParaRPr b="0" lang="en-US" sz="4400" spc="-1" strike="noStrike">
              <a:solidFill>
                <a:srgbClr val="000000"/>
              </a:solidFill>
              <a:latin typeface="Arial"/>
            </a:endParaRPr>
          </a:p>
        </p:txBody>
      </p:sp>
      <p:sp>
        <p:nvSpPr>
          <p:cNvPr id="79" name="PlaceHolder 2"/>
          <p:cNvSpPr>
            <a:spLocks noGrp="1"/>
          </p:cNvSpPr>
          <p:nvPr>
            <p:ph/>
          </p:nvPr>
        </p:nvSpPr>
        <p:spPr>
          <a:xfrm>
            <a:off x="1599840" y="1752480"/>
            <a:ext cx="74898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Balance Shee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accounts as a percent of total asset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Income Statemen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line items as a percent of sale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statements make it easier to compare financial information, particularly as the company gr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also useful for comparing companies of different sizes, particularly within the same indus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899F051-0BF7-49EE-BF4B-AAB91F699A3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BE84C5D-B8BE-4223-8266-66A8E1C2E5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23:59:09Z</dcterms:created>
  <dc:creator>Kent P. Ragan</dc:creator>
  <dc:description/>
  <dc:language>en-US</dc:language>
  <cp:lastModifiedBy>mageshkumar.s</cp:lastModifiedBy>
  <dcterms:modified xsi:type="dcterms:W3CDTF">2009-02-13T07:10:14Z</dcterms:modified>
  <cp:revision>80</cp:revision>
  <dc:subject/>
  <dc:title>Working With Financial Statements</dc:title>
</cp:coreProperties>
</file>