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CF2CBFE-08E0-4BC7-B0AA-50C61DBF6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0640" y="681120"/>
            <a:ext cx="4538520" cy="3403440"/>
          </a:xfrm>
          <a:prstGeom prst="rect">
            <a:avLst/>
          </a:prstGeom>
          <a:ln w="0">
            <a:noFill/>
          </a:ln>
        </p:spPr>
      </p:sp>
      <p:sp>
        <p:nvSpPr>
          <p:cNvPr id="17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0640" y="681120"/>
            <a:ext cx="4538520" cy="3403440"/>
          </a:xfrm>
          <a:prstGeom prst="rect">
            <a:avLst/>
          </a:prstGeom>
          <a:ln w="0">
            <a:noFill/>
          </a:ln>
        </p:spPr>
      </p:sp>
      <p:sp>
        <p:nvSpPr>
          <p:cNvPr id="18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0640" y="681120"/>
            <a:ext cx="4538520" cy="3403440"/>
          </a:xfrm>
          <a:prstGeom prst="rect">
            <a:avLst/>
          </a:prstGeom>
          <a:ln w="0">
            <a:noFill/>
          </a:ln>
        </p:spPr>
      </p:sp>
      <p:sp>
        <p:nvSpPr>
          <p:cNvPr id="19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0640" y="681120"/>
            <a:ext cx="4538520" cy="3403440"/>
          </a:xfrm>
          <a:prstGeom prst="rect">
            <a:avLst/>
          </a:prstGeom>
          <a:ln w="0">
            <a:noFill/>
          </a:ln>
        </p:spPr>
      </p:sp>
      <p:sp>
        <p:nvSpPr>
          <p:cNvPr id="16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0640" y="681120"/>
            <a:ext cx="4538520" cy="3403440"/>
          </a:xfrm>
          <a:prstGeom prst="rect">
            <a:avLst/>
          </a:prstGeom>
          <a:ln w="0">
            <a:noFill/>
          </a:ln>
        </p:spPr>
      </p:sp>
      <p:sp>
        <p:nvSpPr>
          <p:cNvPr id="17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5B0A9-B116-40C0-BCF6-17DBF5F2D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087F-5874-4ABB-AB4F-2E8C5335A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C368C-5CAC-47C5-A817-31E66DE4A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4B5E8-E8DA-4BB0-A2FD-C6B0FCBFD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E302-CDB1-49F1-B2BE-33E581F82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C3456-C36C-4090-8D1C-84396008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FFFE-0007-42C7-91FF-7ADCF5C53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B50A8-A537-4A8F-AA00-50F6D7365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3C86-9938-400E-A8DF-BF60C090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4B74-A246-4C3A-943C-C3F82041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62FB-8C48-430F-A179-4503BF6A1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91B5C-92CE-4163-AE86-98018A8E2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6F8D038-68B6-47C8-80B5-5BF1170B14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58D8630-C169-4A21-89FD-A04A71396E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F9E2976-E20F-4B18-9BAE-0857A6A82D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3A46802-5F14-4FF8-B6F5-7CCFB1F5D8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1B92C5-F5FF-4C6D-8F90-316AF69A0B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0"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67D3350-CC1F-40A8-895A-8017DF18E3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C0B7E0-021C-4BDD-8BD9-B99F0D209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F61E5EF-82C7-4BC7-8761-58F01FFE4A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E4FFA6-CF6F-4BB9-A0C0-0B635DBF87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9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8FB037D-5E8D-44B2-94C0-75FF4B54CD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E049116-9E2C-47A0-8228-6D3286559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643423E-9754-4BE5-9DE9-ED2644CE59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858442-8A2C-4C93-A09F-31DA2C3632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4246CC8-B8BF-4B68-BC3E-24FE7DB383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97C243-342E-4D48-A435-046A69600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EFB3DAB-5A8C-4953-894A-D2F508FE13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B04A05-2E62-4E11-A298-52A5C6A47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DD7975F-EE2B-4A81-9FA5-1E2D6A19BD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A52A54-0E20-4232-AA63-392552432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6A8E5E8-41E8-41BF-986B-CEC0EDBD7C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A42EFD-761D-48AE-A65F-81E1B2416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D19BDCE-BA4D-4B35-8941-2D1D5502E72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B877DB-CCBB-4841-A815-B31770453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75F7398-C229-42AC-8DFA-BEE2A335A81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1C1890-5B68-4D5B-A73E-25243C9AC0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s financial leverage</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00C8D70-0DD1-4EAA-A1DD-7E735BA78B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31EBCA-5049-4C50-862A-7F223AD0A7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 descr=""/>
          <p:cNvPicPr/>
          <p:nvPr/>
        </p:nvPicPr>
        <p:blipFill>
          <a:blip r:embed="rId1"/>
          <a:stretch/>
        </p:blipFill>
        <p:spPr>
          <a:xfrm>
            <a:off x="1371600" y="2057400"/>
            <a:ext cx="7772400" cy="3629160"/>
          </a:xfrm>
          <a:prstGeom prst="rect">
            <a:avLst/>
          </a:prstGeom>
          <a:ln w="0">
            <a:noFill/>
          </a:ln>
        </p:spPr>
      </p:pic>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07E2389-260E-4513-B4BF-24F1F1B75B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D82AF2F-7CF7-495C-BE7A-44945359BF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2514600" y="1219320"/>
            <a:ext cx="5562720" cy="5435640"/>
          </a:xfrm>
          <a:prstGeom prst="rect">
            <a:avLst/>
          </a:prstGeom>
          <a:ln w="0">
            <a:noFill/>
          </a:ln>
        </p:spPr>
      </p:pic>
      <p:sp>
        <p:nvSpPr>
          <p:cNvPr id="13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16B22C0-CACA-4D3E-80EB-983DA52753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B2AC9CE-91E8-4040-995E-2491D327E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50DE036-F8A0-4A08-8FA7-C35FEC7692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EC5FBE8-A73A-4C26-9E7B-B27F60C22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 descr=""/>
          <p:cNvPicPr/>
          <p:nvPr/>
        </p:nvPicPr>
        <p:blipFill>
          <a:blip r:embed="rId1"/>
          <a:stretch/>
        </p:blipFill>
        <p:spPr>
          <a:xfrm>
            <a:off x="8001000" y="5181480"/>
            <a:ext cx="630360" cy="890640"/>
          </a:xfrm>
          <a:prstGeom prst="rect">
            <a:avLst/>
          </a:prstGeom>
          <a:ln w="0">
            <a:noFill/>
          </a:ln>
        </p:spPr>
      </p:pic>
      <p:sp>
        <p:nvSpPr>
          <p:cNvPr id="13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E3A0799-DBDA-49F0-8F10-0E14DD4FCE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5719CEA-0C31-488C-8356-7A37F3C9E12F}"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 descr=""/>
          <p:cNvPicPr/>
          <p:nvPr/>
        </p:nvPicPr>
        <p:blipFill>
          <a:blip r:embed="rId1"/>
          <a:stretch/>
        </p:blipFill>
        <p:spPr>
          <a:xfrm>
            <a:off x="7696080" y="5334120"/>
            <a:ext cx="630360" cy="890640"/>
          </a:xfrm>
          <a:prstGeom prst="rect">
            <a:avLst/>
          </a:prstGeom>
          <a:ln w="0">
            <a:noFill/>
          </a:ln>
        </p:spPr>
      </p:pic>
      <p:sp>
        <p:nvSpPr>
          <p:cNvPr id="14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2468887-5A22-4CBA-9697-110DD3F97F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792EBB-B56B-490A-9D9B-FBCF2951C1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8C0904B-B336-4710-91C6-57D3EF9E747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DCA64C-7608-471B-A1B0-1B9BBB17A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3A4FEF3-96CE-4A57-8B60-326A51E10C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4777B57-7ACD-44D3-BEC1-7A3E3DBB8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A0C8509-B5ED-4DDC-B4CF-64807057CF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CDDE2E-621A-47B8-8192-ACA4EB4D2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7F404B2-973D-4779-84DE-F346109E66D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EE1BC27-A894-4710-9FA9-13A06C84E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 descr=""/>
          <p:cNvPicPr/>
          <p:nvPr/>
        </p:nvPicPr>
        <p:blipFill>
          <a:blip r:embed="rId1"/>
          <a:stretch/>
        </p:blipFill>
        <p:spPr>
          <a:xfrm>
            <a:off x="7543800" y="5334120"/>
            <a:ext cx="584280" cy="793800"/>
          </a:xfrm>
          <a:prstGeom prst="rect">
            <a:avLst/>
          </a:prstGeom>
          <a:ln w="0">
            <a:noFill/>
          </a:ln>
        </p:spPr>
      </p:pic>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F77AC28-C01B-49D0-A01C-A0F963604E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66CE54A-ADE7-4475-A9B6-BAE541D3F4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3861A82-B7E9-4223-9F87-E39C6BC71C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4D35BE-CFE2-49D3-9F43-8F20FD24ED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C35DE4F-6D85-408D-9ACE-572C8A746C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244A46-7B76-4F6C-BF6C-A1CD342272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3721F52-DDE3-422D-A462-00F13AABEE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95AB869-62B0-4AB2-9FC2-F0E56CD3F0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A05111B-24CE-43FB-82A4-61D424B846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C8DE304-685D-4F39-943B-758E392D2D38}"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320"/>
                <a:gridCol w="1139040"/>
                <a:gridCol w="1221480"/>
                <a:gridCol w="1220760"/>
                <a:gridCol w="1221840"/>
                <a:gridCol w="1221840"/>
              </a:tblGrid>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0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63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55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5191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7743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3D6CF31-7D47-4EBB-90E1-421B6C10BEF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CCAE5BB-ADBB-40F9-9D06-9CB70BC816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2760"/>
                <a:gridCol w="2224800"/>
              </a:tblGrid>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7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Times New Roman"/>
            </a:endParaRPr>
          </a:p>
        </p:txBody>
      </p:sp>
      <p:sp>
        <p:nvSpPr>
          <p:cNvPr id="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4D907BE-1542-4421-8E22-2A1E90B6F65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F9AB5F6-2924-4229-AB0C-4AD3CBD3C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1A1EA8A-A094-42CD-AB29-ADBCA827E9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E10312C-23B2-437F-A498-6B69D02DF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312ECDA-533B-4327-A96F-95FEF255C8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5865B5-3030-43FD-B3CF-42A66A3F6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0920"/>
                <a:gridCol w="774360"/>
                <a:gridCol w="2548080"/>
                <a:gridCol w="1108440"/>
              </a:tblGrid>
              <a:tr h="3060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2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sp>
        <p:nvSpPr>
          <p:cNvPr id="7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ECE06E4-2E27-4188-9CB5-9EE83BA76F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501802B-0CCD-4604-8836-2A0A1FE83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ACE5338-933E-43B9-AB8F-A36C873A7A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55E93A-E05F-46D8-AAD2-640FD6E7E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mageshkumar.s</cp:lastModifiedBy>
  <dcterms:modified xsi:type="dcterms:W3CDTF">2009-02-13T07:10:14Z</dcterms:modified>
  <cp:revision>80</cp:revision>
  <dc:subject/>
  <dc:title>Working With Financial Statements</dc:title>
</cp:coreProperties>
</file>