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DF6A7ED-830E-4592-AD63-C9B80A3A7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it doesn’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1.055)</a:t>
            </a:r>
            <a:r>
              <a:rPr b="0" lang="en-US" sz="1200" spc="-1" strike="noStrike" baseline="30000">
                <a:solidFill>
                  <a:srgbClr val="000000"/>
                </a:solidFill>
                <a:latin typeface="Times New Roman"/>
              </a:rPr>
              <a:t>200</a:t>
            </a:r>
            <a:r>
              <a:rPr b="0" lang="en-US" sz="1200" spc="-1" strike="noStrike">
                <a:solidFill>
                  <a:srgbClr val="000000"/>
                </a:solidFill>
                <a:latin typeface="Times New Roman"/>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3,000,000(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50,000 / (1.08)</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to be reasonable in their answers.  A little common sense should tell them that the original amount was 10,000 and that the calculation doesn’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9,671.51 / (1.07)</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20,000 / 10,000)</a:t>
            </a:r>
            <a:r>
              <a:rPr b="0" lang="en-US" sz="1200" spc="-1" strike="noStrike" baseline="30000">
                <a:solidFill>
                  <a:srgbClr val="000000"/>
                </a:solidFill>
                <a:latin typeface="Times New Roman"/>
              </a:rPr>
              <a:t>1/6</a:t>
            </a:r>
            <a:r>
              <a:rPr b="0" lang="en-US" sz="1200" spc="-1" strike="noStrike">
                <a:solidFill>
                  <a:srgbClr val="000000"/>
                </a:solidFill>
                <a:latin typeface="Times New Roman"/>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75,000 / 5,000)</a:t>
            </a:r>
            <a:r>
              <a:rPr b="0" lang="en-US" sz="1200" spc="-1" strike="noStrike" baseline="30000">
                <a:solidFill>
                  <a:srgbClr val="000000"/>
                </a:solidFill>
                <a:latin typeface="Times New Roman"/>
              </a:rPr>
              <a:t>1/17</a:t>
            </a:r>
            <a:r>
              <a:rPr b="0" lang="en-US" sz="1200" spc="-1" strike="noStrike">
                <a:solidFill>
                  <a:srgbClr val="000000"/>
                </a:solidFill>
                <a:latin typeface="Times New Roman"/>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I/Y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00(1.0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4CE8D-9D55-4CB7-90CC-5E7C44E81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9A9F-09DB-4B31-B94D-6ADBB8C1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40B89-4B92-47BD-A1E2-188A6D77C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96796-6478-479D-95EE-76EFB6420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FEC7-3F16-48D9-A70C-4D531E16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6284-0AEC-4D62-8A17-006521DB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8DCE9-3C6D-4689-8430-30B4D451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06CC-7084-47CF-BA31-4EEC56331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EDF9-83DA-4AF9-A916-B74826B0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5530-E54C-41B5-93B4-4F33DE6A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4DCB-0C0D-4F53-8CA9-CD5E45D5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B936-D59F-4E10-A143-152E57D22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C348EB1-1218-46FD-B3B8-8F278C744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39E9964-B19B-4F19-B0CB-1ECCF4D854A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308299E-AF0C-45EF-9AAC-5A3461B7C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9EBF37A-2048-45BF-9D45-B3629D0DD3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F9E30D-78C0-4FA2-81FF-8D8D87FE9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93773D5-6B28-4E7B-8816-EAF25D97FF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56D373-D4C4-4579-ABBC-1CC56B1FCF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67FCBD6-CBC9-4827-8A00-B68ECAE8BD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840A86-A0BD-4161-B91E-97EAFCB78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55A486E-4704-4B59-BB5E-37BBB749109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18D1B4-BF81-43C6-9A19-A16A643E31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205300B-57F0-4756-BC48-1A98F584F8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06EDC17-213F-48E8-A3EF-2B990DF5E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0859159-F21A-4F91-AC7E-4F12682236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5F60B2-6789-417F-ABD2-6C0C7F9ED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CFCF69E-2F8E-42FB-9486-78375456F0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693D6D-A97A-472B-A3AF-2C1FB5B945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A3870D3-B8E3-4814-9494-BF490F6E1E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272226-1DB3-4C47-9F0D-6A588A639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D29ADE1-2BEB-492A-93FA-5B4A9DAFED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C5F0E2-2767-47C5-84BE-4C7E58EC5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469C7B0-C7CE-4CDB-879A-F28F70CD472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C0DB9B-C21D-4374-B737-5B32BBDE0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99578CD-2599-422D-B3B3-A334F43C6A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22E520-1C8C-4F87-93AD-E94A15BA7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8AF6D11-5E4E-4602-822A-AD9D4BD4F3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7E81DE-F2CF-4051-A8B6-EAC8FC3D2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5CB5037-E535-4E81-ACE3-22AB2360D9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590B73-62A3-49D1-A20D-65F75CBA7B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DB57835-2FBE-4B17-B5F6-CC7EFAD0B7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561609-67B0-45DA-8194-ADDCE01F4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8BD854F-063A-4E78-9412-51D5DD0A9BA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AD80C4-8222-47B5-9980-9CC46F355E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A4C7B70-6B67-442E-98CC-323731A76E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FCE5529-F469-4B5C-9111-6DC0C8375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A8A0DA1-0B3C-4DBF-AB3D-973552CC3A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CE35E4-7586-4A66-921F-7A575EA71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7F39DCE-E878-41B2-A32D-792010B1BA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89DFD1-0DD4-49CD-B2D9-D0116BD62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B986095-FA7E-4D99-A56A-E3C10F5DE9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EE33A3-CDB6-4C8B-91E9-CB755696E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214E317-E742-41DD-8B29-C623F39CAE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CA5FC4-4CA4-4AFF-8F41-81AB9D95B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B455253-236F-4D03-ADEC-7E9ECF43F8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D86732-EA7A-4BD4-98DC-03DD88AF7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01C05B4-2394-4D45-8541-59D10581A0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D50F55-425C-4F91-B851-275B0B9F4B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
          <p:cNvGraphicFramePr/>
          <p:nvPr/>
        </p:nvGraphicFramePr>
        <p:xfrm>
          <a:off x="6324480" y="2743200"/>
          <a:ext cx="1028880" cy="914400"/>
        </p:xfrm>
        <a:graphic>
          <a:graphicData uri="http://schemas.openxmlformats.org/presentationml/2006/ole">
            <p:oleObj progId="Excel.Sheet.12" r:id="rId1" spid="">
              <p:embed/>
              <p:pic>
                <p:nvPicPr>
                  <p:cNvPr id="143" name=""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BD57F3D-2232-46BF-A9B7-2D8BE38036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320A14-75D6-41B5-AB39-0E6E25639EAF}"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0DD5002-2C05-4DA3-A74E-2CC22898B9C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5E54D43-DF2C-47F5-B3FD-92BB3BC3E3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28880" y="1919160"/>
          <a:ext cx="6294240" cy="3856320"/>
        </p:xfrm>
        <a:graphic>
          <a:graphicData uri="http://schemas.openxmlformats.org/presentationml/2006/ole">
            <p:oleObj r:id="rId1" spid="">
              <p:embed/>
              <p:pic>
                <p:nvPicPr>
                  <p:cNvPr id="150" name=""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FCD3C89-5534-4BB1-A199-4D70B9D929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7652F0B-8A4D-4CBA-8B62-F862A11D04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BCB7B2E-E55D-4631-976E-A2E26B1FAC4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D88C36F-4952-4F1F-9545-CE25A960AE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52E5589-15FB-468B-9EB2-CF3701D786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8D16B56-837E-4577-9EE5-57D173C9A460}"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03BC900-077C-421F-9B65-370E1D84BB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1E4584-F8F1-4066-AC77-4A4C2843B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DE230A8-B804-4FC2-A82B-B839793ACE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9CA2DE-F263-4A11-96F0-40CE6A54E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6B24275-A212-4DEB-B551-5A46B2A88E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214EC0-8401-4B92-88CF-A61CB8AD2F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65383AE-2D91-46F5-9F33-21BB31A57F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BE2B32E-4A7F-4CB3-972E-99D5EF708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3DB08DF-8885-49B6-9AE9-A60C90525A1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9B9864-1A55-4EA9-81CE-4E54FFE0A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3C88A4F-F07A-45C1-9076-A9570E4731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5C13F6-AA3D-4D0A-A149-BFBACEED83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37Z</dcterms:modified>
  <cp:revision>59</cp:revision>
  <dc:subject/>
  <dc:title>Introduction to Valuation: The Time Value of Money</dc:title>
</cp:coreProperties>
</file>