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AAF786B-3710-4646-BD83-B84993DA8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want to point out that it doesn’t matter what order you enter the information into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1.055)</a:t>
            </a:r>
            <a:r>
              <a:rPr b="0" lang="en-US" sz="1200" spc="-1" strike="noStrike" baseline="30000">
                <a:solidFill>
                  <a:srgbClr val="000000"/>
                </a:solidFill>
                <a:latin typeface="Times New Roman"/>
              </a:rPr>
              <a:t>200</a:t>
            </a:r>
            <a:r>
              <a:rPr b="0" lang="en-US" sz="1200" spc="-1" strike="noStrike">
                <a:solidFill>
                  <a:srgbClr val="000000"/>
                </a:solidFill>
                <a:latin typeface="Times New Roman"/>
              </a:rPr>
              <a:t> = 10(44,718.9838) = 447,189.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3,000,000(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3,000,000(2.011357187)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calculator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50,000 / (1.08)</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 150,000(.270268951)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to be reasonable in their answers.  A little common sense should tell them that the original amount was 10,000 and that the calculation doesn’t come out exactly because the future value is rounded to the nearest 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9,671.51 / (1.07)</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19,671.51(.508349292) = 9999.998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500(.385543289)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497176735)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20,000 / 10,000)</a:t>
            </a:r>
            <a:r>
              <a:rPr b="0" lang="en-US" sz="1200" spc="-1" strike="noStrike" baseline="30000">
                <a:solidFill>
                  <a:srgbClr val="000000"/>
                </a:solidFill>
                <a:latin typeface="Times New Roman"/>
              </a:rPr>
              <a:t>1/6</a:t>
            </a:r>
            <a:r>
              <a:rPr b="0" lang="en-US" sz="1200" spc="-1" strike="noStrike">
                <a:solidFill>
                  <a:srgbClr val="000000"/>
                </a:solidFill>
                <a:latin typeface="Times New Roman"/>
              </a:rPr>
              <a:t> – 1 = .122462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75,000 / 5,000)</a:t>
            </a:r>
            <a:r>
              <a:rPr b="0" lang="en-US" sz="1200" spc="-1" strike="noStrike" baseline="30000">
                <a:solidFill>
                  <a:srgbClr val="000000"/>
                </a:solidFill>
                <a:latin typeface="Times New Roman"/>
              </a:rPr>
              <a:t>1/17</a:t>
            </a:r>
            <a:r>
              <a:rPr b="0" lang="en-US" sz="1200" spc="-1" strike="noStrike">
                <a:solidFill>
                  <a:srgbClr val="000000"/>
                </a:solidFill>
                <a:latin typeface="Times New Roman"/>
              </a:rPr>
              <a:t> – 1 = .172686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number of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20,000 / 15,000) / ln(1.1)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5, the FV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4.5, the FV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Y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4,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I/Y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show 4 to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notation provided above for calculator keys.  The formulas are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i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s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00(1.0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1,000(1.27628)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69D73-8970-428D-8193-AA1693A8E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47920" y="16002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9B7E-25D0-4047-9F40-BED1669A5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AAAA-5CF2-4DC6-9B11-C478E4618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4792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556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320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4792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556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320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8B327-7704-4ED9-9FBF-D7C5BDE40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47920" y="1600200"/>
            <a:ext cx="723888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0678E-398B-4A75-9AB9-4874F1381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47920" y="1600200"/>
            <a:ext cx="723888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90D6A-73CB-427A-9202-D31350F4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52E60-5D3C-4412-9F55-912C052EE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A16F-9297-4AC2-AD2A-7B223C878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05E72-4020-4FD6-9F9D-31E838B1D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AFF1-0DFD-422F-AB1F-F43DA440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F26A-8625-42B7-ADC5-437D7A16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C4C3D-FE3E-485C-A9C9-DFD62DA54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3120"/>
            <a:ext cx="114300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295280" y="1295280"/>
            <a:ext cx="5251680" cy="4302360"/>
          </a:xfrm>
          <a:prstGeom prst="rect">
            <a:avLst/>
          </a:prstGeom>
          <a:noFill/>
          <a:ln w="0">
            <a:noFill/>
          </a:ln>
        </p:spPr>
        <p:style>
          <a:lnRef idx="0"/>
          <a:fillRef idx="0"/>
          <a:effectRef idx="0"/>
          <a:fontRef idx="minor"/>
        </p:style>
        <p:txBody>
          <a:bodyPr lIns="81000" rIns="81000" tIns="40320" bIns="4032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a:t>
            </a:r>
            <a:r>
              <a:rPr b="1" lang="en-US" sz="2800" spc="-1" strike="noStrike">
                <a:solidFill>
                  <a:srgbClr val="ffffff"/>
                </a:solidFill>
                <a:latin typeface="바탕"/>
              </a:rPr>
              <a:t> </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Times New Roman"/>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248520" y="380880"/>
            <a:ext cx="2138400" cy="2757600"/>
          </a:xfrm>
          <a:prstGeom prst="rect">
            <a:avLst/>
          </a:prstGeom>
          <a:ln w="9360">
            <a:solidFill>
              <a:srgbClr val="9a6700"/>
            </a:solidFill>
            <a:miter/>
          </a:ln>
        </p:spPr>
      </p:pic>
      <p:sp>
        <p:nvSpPr>
          <p:cNvPr id="51" name="Text Box 13"/>
          <p:cNvSpPr/>
          <p:nvPr/>
        </p:nvSpPr>
        <p:spPr>
          <a:xfrm>
            <a:off x="11160" y="659916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530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EB3BB39-F1D3-4202-9F51-7C3A9F8CA0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d a relative deposit $10 at 5.5% interest 200 years ago. How much would the investment be worth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N; 5.5 I/Y; -10 PV</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447,189.84</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ffect of compounding?</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interest = 10 + 200(10)(.055) = 12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ing added $447,069.84 to the value of the investment</a:t>
            </a:r>
            <a:endParaRPr b="0" lang="en-US" sz="2200" spc="-1" strike="noStrike">
              <a:solidFill>
                <a:srgbClr val="000000"/>
              </a:solidFill>
              <a:latin typeface="Arial"/>
            </a:endParaRPr>
          </a:p>
        </p:txBody>
      </p:sp>
      <p:sp>
        <p:nvSpPr>
          <p:cNvPr id="79"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6B9E773-4427-473B-A5FC-416EA0126C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2AB0DC-C06E-41F5-B859-88619C79E8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expects to increase unit sales of widgets by 15% per year for the next 5 years. If you sell 3 million widgets in the current year, how many widgets do you expect to sell in the fifth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15 I/Y; 3,000,000 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6,034,072 units (remember the sign convention) </a:t>
            </a:r>
            <a:endParaRPr b="0" lang="en-US" sz="2400" spc="-1" strike="noStrike">
              <a:solidFill>
                <a:srgbClr val="000000"/>
              </a:solidFill>
              <a:latin typeface="Arial"/>
            </a:endParaRPr>
          </a:p>
        </p:txBody>
      </p:sp>
      <p:sp>
        <p:nvSpPr>
          <p:cNvPr id="82"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C5DD833-45B9-4D07-A662-A1A64715EB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50D72F-E479-4B71-9839-EC7440838B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0590E25-4B33-40A0-8CCB-2ABCEC6F0F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68B089-5510-445D-9F0F-1C13D033B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28F5CE8-F83D-40DA-A5E0-1DB142D685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6D19E8-D4B2-4039-A681-9F68545FA7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371240" y="1905120"/>
            <a:ext cx="74646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 7 I/Y; 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1391595-F366-4FEC-A171-FD696DC248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4C6FAFB-01A6-43E2-B134-30705CF3F1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I/Y = 8; FV = 150,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40,540.34 (remember the sign convention)</a:t>
            </a:r>
            <a:endParaRPr b="0" lang="en-US" sz="2400" spc="-1" strike="noStrike">
              <a:solidFill>
                <a:srgbClr val="000000"/>
              </a:solidFill>
              <a:latin typeface="Arial"/>
            </a:endParaRPr>
          </a:p>
        </p:txBody>
      </p:sp>
      <p:sp>
        <p:nvSpPr>
          <p:cNvPr id="9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011BEF8-BDD0-45CF-93B2-7EEA049B2C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E6E18B-D367-4F9A-9F94-7022A0BF7E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arents set up a trust fund for you 10 years ago that is now worth $19,671.51. If the fund earned 7% per year, how much did your parents inv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0; I/Y = 7; FV = 19,671.5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0,000</a:t>
            </a:r>
            <a:endParaRPr b="0" lang="en-US" sz="2400" spc="-1" strike="noStrike">
              <a:solidFill>
                <a:srgbClr val="000000"/>
              </a:solidFill>
              <a:latin typeface="Arial"/>
            </a:endParaRPr>
          </a:p>
        </p:txBody>
      </p:sp>
      <p:sp>
        <p:nvSpPr>
          <p:cNvPr id="9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23058F6-BCF5-4C8F-B19F-31A6C7D85A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EB0AFF9-1771-46C0-AFBA-3AE98A38AF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interest rate – the longer the time period, the low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to be received in 5 years? 10 years? The discount rate is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N = 5; I/Y = 10; FV = 500</a:t>
            </a:r>
            <a:br>
              <a:rPr sz="2400"/>
            </a:br>
            <a:r>
              <a:rPr b="0" lang="en-US" sz="2400" spc="-1" strike="noStrike">
                <a:solidFill>
                  <a:srgbClr val="000000"/>
                </a:solidFill>
                <a:latin typeface="Arial"/>
              </a:rPr>
              <a:t>CPT PV = -310.4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years: N = 10; I/Y = 10; FV = 500</a:t>
            </a:r>
            <a:br>
              <a:rPr sz="2400"/>
            </a:br>
            <a:r>
              <a:rPr b="0" lang="en-US" sz="2400" spc="-1" strike="noStrike">
                <a:solidFill>
                  <a:srgbClr val="000000"/>
                </a:solidFill>
                <a:latin typeface="Arial"/>
              </a:rPr>
              <a:t>CPT PV = -192.77</a:t>
            </a:r>
            <a:endParaRPr b="0" lang="en-US" sz="2400" spc="-1" strike="noStrike">
              <a:solidFill>
                <a:srgbClr val="000000"/>
              </a:solidFill>
              <a:latin typeface="Arial"/>
            </a:endParaRPr>
          </a:p>
        </p:txBody>
      </p:sp>
      <p:sp>
        <p:nvSpPr>
          <p:cNvPr id="10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858DBC7-760A-4380-9E21-BE1987408A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753352-950C-409D-AF13-FB171F6D0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920" y="1828440"/>
            <a:ext cx="7238880" cy="42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time period – the higher the interest rate, the small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received in 5 years if the interest rate is 10%? 15%?</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0%: N = 5; I/Y = 10; FV = 500</a:t>
            </a:r>
            <a:br>
              <a:rPr sz="2000"/>
            </a:br>
            <a:r>
              <a:rPr b="0" lang="en-US" sz="2000" spc="-1" strike="noStrike">
                <a:solidFill>
                  <a:srgbClr val="000000"/>
                </a:solidFill>
                <a:latin typeface="Arial"/>
              </a:rPr>
              <a:t>CPT PV = -310.4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5%; N = 5; I/Y = 15; FV = 500</a:t>
            </a:r>
            <a:br>
              <a:rPr sz="2000"/>
            </a:br>
            <a:r>
              <a:rPr b="0" lang="en-US" sz="2000" spc="-1" strike="noStrike">
                <a:solidFill>
                  <a:srgbClr val="000000"/>
                </a:solidFill>
                <a:latin typeface="Arial"/>
              </a:rPr>
              <a:t>CPT PV = -248.59</a:t>
            </a:r>
            <a:endParaRPr b="0" lang="en-US" sz="2000" spc="-1" strike="noStrike">
              <a:solidFill>
                <a:srgbClr val="000000"/>
              </a:solidFill>
              <a:latin typeface="Arial"/>
            </a:endParaRPr>
          </a:p>
        </p:txBody>
      </p:sp>
      <p:sp>
        <p:nvSpPr>
          <p:cNvPr id="10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68B4DE8-7524-4972-AEEC-55C8EC48EB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DEC244-8606-42C0-B243-1F656EA2B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5A99A2E-AF7F-415B-A2A4-C1A049ABC8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2E7A73C-DE18-4985-83DE-5E5166F582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653840" y="1599840"/>
            <a:ext cx="7489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future value of an investment made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present value of cash to be received at some future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return on an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number of periods that equates a present value and a future value given an interest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use a financial calculator and a spreadsheet to solve time value of money problems</a:t>
            </a:r>
            <a:endParaRPr b="0" lang="en-US" sz="2400" spc="-1" strike="noStrike">
              <a:solidFill>
                <a:srgbClr val="000000"/>
              </a:solidFill>
              <a:latin typeface="Arial"/>
            </a:endParaRPr>
          </a:p>
        </p:txBody>
      </p:sp>
      <p:sp>
        <p:nvSpPr>
          <p:cNvPr id="5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D254E24-6628-4B9D-8616-DA56D81321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792008-A265-4AE0-BCBD-5456A943A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278BCD4-E6E5-40E6-9F78-86A0016F7C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0A0A27D-3E42-469D-82AA-ACBFC521F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o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C60EABF-A64A-49CF-B22A-A1E94B72606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89E772-7CC4-446F-B5EE-AC6A8206D1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86B09B8-19D6-4551-8E0F-100B0C2C98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1638236-DD4A-46BA-AF1F-EA165A1F6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offered an investment that will allow you to double your money in 6 years.  You have $10,000 to invest.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2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2.25%</a:t>
            </a:r>
            <a:endParaRPr b="0" lang="en-US" sz="2400" spc="-1" strike="noStrike">
              <a:solidFill>
                <a:srgbClr val="000000"/>
              </a:solidFill>
              <a:latin typeface="Arial"/>
            </a:endParaRPr>
          </a:p>
        </p:txBody>
      </p:sp>
      <p:sp>
        <p:nvSpPr>
          <p:cNvPr id="11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BB0B518-ABB8-47A2-8E24-C8CEF67031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9D8178-7C70-4D3B-8166-529B6F6662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447920" y="175248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PV = -5,000; FV = 7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7.27%</a:t>
            </a:r>
            <a:endParaRPr b="0" lang="en-US" sz="2400" spc="-1" strike="noStrike">
              <a:solidFill>
                <a:srgbClr val="000000"/>
              </a:solidFill>
              <a:latin typeface="Arial"/>
            </a:endParaRPr>
          </a:p>
        </p:txBody>
      </p:sp>
      <p:sp>
        <p:nvSpPr>
          <p:cNvPr id="12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98607FB-8D83-455B-955C-7CC0E01935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3C60BE-5FE4-4E0C-9638-A7005C48B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47560" y="1523880"/>
            <a:ext cx="739116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ituations in which you might want to know the implied interes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following investmen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500 today and receive $600 in 5 years. The investment is low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the $500 in a bank account paying 4%.</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implied interest rate for the first choice, and which investment should you choose?</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2239F3D-A7C4-4ECC-B8B6-50ED5EFF3F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CCE1E0-F13F-4287-822F-63C632308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3BB14F5-D140-43D8-A6B5-9B30341DF9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7F8AE04-59BB-4D30-90D6-9DA2A59DD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523520" y="1752480"/>
            <a:ext cx="745020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Y = 10; PV = -15,000; FV = 20,0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3.02 years</a:t>
            </a:r>
            <a:endParaRPr b="0" lang="en-US" sz="2800" spc="-1" strike="noStrike">
              <a:solidFill>
                <a:srgbClr val="000000"/>
              </a:solidFill>
              <a:latin typeface="Arial"/>
            </a:endParaRPr>
          </a:p>
        </p:txBody>
      </p:sp>
      <p:sp>
        <p:nvSpPr>
          <p:cNvPr id="13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C63F219-B51D-4128-A362-6681A13A22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684D32-B946-4B7A-B432-5DAC1F95AB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96321B7-C417-4FE7-A3C7-44A5837F3F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40001A-42CD-4271-A776-24FABD744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 Continued</a:t>
            </a:r>
            <a:endParaRPr b="0" lang="en-US" sz="4400" spc="-1" strike="noStrike">
              <a:solidFill>
                <a:srgbClr val="000000"/>
              </a:solidFill>
              <a:latin typeface="Arial"/>
            </a:endParaRPr>
          </a:p>
        </p:txBody>
      </p:sp>
      <p:sp>
        <p:nvSpPr>
          <p:cNvPr id="135" name="PlaceHolder 2"/>
          <p:cNvSpPr>
            <a:spLocks noGrp="1"/>
          </p:cNvSpPr>
          <p:nvPr>
            <p:ph/>
          </p:nvPr>
        </p:nvSpPr>
        <p:spPr>
          <a:xfrm>
            <a:off x="1980720" y="1828800"/>
            <a:ext cx="6993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payment = .1(150,000) = 1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costs = .05(150,000 – 15,000) = 6,75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eded = 15,000 + 6,750 = 21,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5,000; FV = 21,750; I/Y = 7.5</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N = 5.14 yea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n(21,750 / 15,000) / ln(1.075) = 5.14 years</a:t>
            </a:r>
            <a:endParaRPr b="0" lang="en-US" sz="2000" spc="-1" strike="noStrike">
              <a:solidFill>
                <a:srgbClr val="000000"/>
              </a:solidFill>
              <a:latin typeface="Arial"/>
            </a:endParaRPr>
          </a:p>
        </p:txBody>
      </p:sp>
      <p:sp>
        <p:nvSpPr>
          <p:cNvPr id="13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B3CC318-04E5-4022-B067-4713ECB2320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91DE15C-EE6B-47CD-BD41-FF2E0A38E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317912C-16A9-4229-AFE7-91E59AB56F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1A0B2B-6F0C-453E-8AE2-DA12BD0684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47920" y="1600200"/>
            <a:ext cx="723888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8D7A5B0-4CB4-4245-AFB2-FCCBE01D16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F508D7D-86AC-4BB0-A401-C301C451B4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600200" y="1371240"/>
            <a:ext cx="72388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formulas for TVM calculation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rate,nper,pmt,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rate,nper,pmt,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nper,pmt,pv,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ER(rate,pmt,pv,f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icon is very useful when you can’t remember the exact form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open a spreadsheet containing four different examples.</a:t>
            </a:r>
            <a:endParaRPr b="0" lang="en-US" sz="2800" spc="-1" strike="noStrike">
              <a:solidFill>
                <a:srgbClr val="000000"/>
              </a:solidFill>
              <a:latin typeface="Arial"/>
            </a:endParaRPr>
          </a:p>
        </p:txBody>
      </p:sp>
      <p:graphicFrame>
        <p:nvGraphicFramePr>
          <p:cNvPr id="142" name=""/>
          <p:cNvGraphicFramePr/>
          <p:nvPr/>
        </p:nvGraphicFramePr>
        <p:xfrm>
          <a:off x="6324480" y="2743200"/>
          <a:ext cx="1028880" cy="914400"/>
        </p:xfrm>
        <a:graphic>
          <a:graphicData uri="http://schemas.openxmlformats.org/presentationml/2006/ole">
            <p:oleObj progId="Excel.Sheet.12" r:id="rId1" spid="">
              <p:embed/>
              <p:pic>
                <p:nvPicPr>
                  <p:cNvPr id="143" name="" descr=""/>
                  <p:cNvPicPr/>
                  <p:nvPr/>
                </p:nvPicPr>
                <p:blipFill>
                  <a:blip r:embed="rId2"/>
                  <a:stretch/>
                </p:blipFill>
                <p:spPr>
                  <a:xfrm>
                    <a:off x="6324480" y="2743200"/>
                    <a:ext cx="1028880" cy="914400"/>
                  </a:xfrm>
                  <a:prstGeom prst="rect">
                    <a:avLst/>
                  </a:prstGeom>
                  <a:ln w="0">
                    <a:noFill/>
                  </a:ln>
                </p:spPr>
              </p:pic>
            </p:oleObj>
          </a:graphicData>
        </a:graphic>
      </p:graphicFrame>
      <p:sp>
        <p:nvSpPr>
          <p:cNvPr id="14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38650C4-EB29-4A38-9900-93D178CB4C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D3A77C7-9FAD-4EF5-BD8F-228CF7651F5F}"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BB1CDB0-E1BA-4C70-BECC-1430F895F0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4E6C21-9178-4BE6-8D95-7A2638FE51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
          <p:cNvGraphicFramePr/>
          <p:nvPr/>
        </p:nvGraphicFramePr>
        <p:xfrm>
          <a:off x="1928880" y="1919160"/>
          <a:ext cx="6294240" cy="3856320"/>
        </p:xfrm>
        <a:graphic>
          <a:graphicData uri="http://schemas.openxmlformats.org/presentationml/2006/ole">
            <p:oleObj r:id="rId1" spid="">
              <p:embed/>
              <p:pic>
                <p:nvPicPr>
                  <p:cNvPr id="150" name="" descr=""/>
                  <p:cNvPicPr/>
                  <p:nvPr/>
                </p:nvPicPr>
                <p:blipFill>
                  <a:blip r:embed="rId2"/>
                  <a:stretch/>
                </p:blipFill>
                <p:spPr>
                  <a:xfrm>
                    <a:off x="1928880" y="1919160"/>
                    <a:ext cx="6294240" cy="3856320"/>
                  </a:xfrm>
                  <a:prstGeom prst="rect">
                    <a:avLst/>
                  </a:prstGeom>
                  <a:ln w="0">
                    <a:noFill/>
                  </a:ln>
                </p:spPr>
              </p:pic>
            </p:oleObj>
          </a:graphicData>
        </a:graphic>
      </p:graphicFrame>
      <p:sp>
        <p:nvSpPr>
          <p:cNvPr id="15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38D7233-1DFC-47C6-9F26-AB8E66EA1E7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886D852-F934-4719-A6C9-7807A93C06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E040291-8E95-4032-8AB9-7D490C508A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217E74B-4B05-490E-AE13-F998B2B6E2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44792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 </a:t>
            </a:r>
            <a:endParaRPr b="0" lang="en-US" sz="3200" spc="-1" strike="noStrike">
              <a:solidFill>
                <a:srgbClr val="000000"/>
              </a:solidFill>
              <a:latin typeface="Arial"/>
            </a:endParaRPr>
          </a:p>
        </p:txBody>
      </p:sp>
      <p:sp>
        <p:nvSpPr>
          <p:cNvPr id="15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1CAFFEE-00CD-408B-8772-4F2E2E8BC7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6BD96CB-F4DA-4A01-A0D9-C193DA3AEC96}"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7C61FF6-17FB-432C-887D-A45509E7E1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A652EA-8C78-494A-B0D5-93D643F8EC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B2C22F8-B92F-49C1-9865-96D4EF9381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ECADF38-F9CB-4290-AFC1-7B96C1342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113E0A3-7C32-4622-BE41-22CC9E8A6A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D7359E-606A-4992-9AC0-0A17734F9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523880" y="1371600"/>
            <a:ext cx="7315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0725400-B2CB-4D2A-8B0D-40476DE926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42356EB-7FFD-4386-9077-A4E64126C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599840" y="1523880"/>
            <a:ext cx="73738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C20EA46-2DFC-49AB-9249-E8CAE3F72C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DAE8E4B-BD94-46C2-A6EA-402DD7CA0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371600" y="1523880"/>
            <a:ext cx="760248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the $1,000 from the previous example for 5 years. How much would you hav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 5 I/Y; 1,000 P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1,276.28</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2400" spc="-1" strike="noStrike">
              <a:solidFill>
                <a:srgbClr val="000000"/>
              </a:solidFill>
              <a:latin typeface="Arial"/>
            </a:endParaRPr>
          </a:p>
        </p:txBody>
      </p:sp>
      <p:sp>
        <p:nvSpPr>
          <p:cNvPr id="7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3052E06-776D-456E-9599-7E6A78596F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9F9EE89-24CE-4497-A96F-A5A3FDCAB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mageshkumar.s</cp:lastModifiedBy>
  <dcterms:modified xsi:type="dcterms:W3CDTF">2009-02-13T05:38:37Z</dcterms:modified>
  <cp:revision>59</cp:revision>
  <dc:subject/>
  <dc:title>Introduction to Valuation: The Time Value of Money</dc:title>
</cp:coreProperties>
</file>