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57F07D2-CA8D-47FA-804C-DCBA18DA4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000/1,000)^1/20 – 1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0CC2D-90C7-4694-B365-9FF2EAAEF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15BF9-666C-4C66-8531-42AD35525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1D0CF-3083-4F0D-A3F7-5EA919900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F76D6-AC8E-4C7A-967A-BAC2EB09F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39C9B-EFBA-463F-BECC-71C3A6E0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23DC4-6424-4C9D-83C3-F3A462D4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C5203-6D23-44EC-9C83-CB82F4C99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A6536-08B9-413B-9718-17BBA658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5C852-BE29-4369-AE60-C4CD7EA2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A1A9-7A0F-4E49-9EEE-3F366172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41C1-DC1D-422B-9E58-239DE9113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97B7-8AC9-4BF5-9C3D-365AE4F58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301760" y="1260360"/>
            <a:ext cx="5251320" cy="4302360"/>
          </a:xfrm>
          <a:prstGeom prst="rect">
            <a:avLst/>
          </a:prstGeom>
          <a:noFill/>
          <a:ln w="0">
            <a:noFill/>
          </a:ln>
        </p:spPr>
        <p:style>
          <a:lnRef idx="0"/>
          <a:fillRef idx="0"/>
          <a:effectRef idx="0"/>
          <a:fontRef idx="minor"/>
        </p:style>
        <p:txBody>
          <a:bodyPr lIns="81000" rIns="81000" tIns="40320" bIns="40320" anchor="t">
            <a:normAutofit fontScale="98000"/>
          </a:bodyPr>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 </a:t>
            </a:r>
            <a:endParaRPr b="0" lang="en-US" sz="3800" spc="-1" strike="noStrike">
              <a:solidFill>
                <a:srgbClr val="000000"/>
              </a:solidFill>
              <a:latin typeface="Times New Roman"/>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DDA79C3-5839-48FD-924A-31A7E61FB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9"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81D0185-A4B6-433B-A899-A91383B2DE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564AA3-4DBA-4EBC-B7CB-947C82AF2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2"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075E901-0F2B-42EF-9C56-B49E827584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C2657F1-19BB-4223-8BF8-803A458E4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C4CBB2C-9587-49AE-A5C2-ADF0FD8498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7E8CE8-C378-41C6-852F-441D0D6987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504297B-1E9D-40C9-9BE7-8DA87AB490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FDA434-1DC4-4210-A09C-5C22C1752A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3F11391-29F9-4A7C-BD92-F6261B5C482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4E18EC-A88F-4F8C-848F-C6C02C6A22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B4C4C5C-BD94-4EAA-A053-8A67652E68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BBCA83-C037-4BF9-B222-7CAC1AFA16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E8325F8-45F5-4155-8108-78AE45CA89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29FFB1-3EED-4982-9CD7-679CA2DAD8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10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C035EAC-75E9-40F9-9E86-F7CE301B57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D26E90-B200-4FDA-BF45-7DB6B9E844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66A7110-5242-4A21-BA61-CAA336CCC7F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010516F-7FF8-4CB3-8D4E-C83490573B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B8AA956-B7E3-4B7D-8D18-D6F5E92B5A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FC33D1-7502-43B9-9AC1-5730C42FF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D8D0E25-FF33-43BD-B820-D67788FFE5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53BBC2-A677-439B-9383-ADA46CDEC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0530970-D3EA-4CBF-95C3-A43892A20E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7C824E-41E7-4AD2-8B42-9C9DDD13A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978B6A0-3040-4DEB-B821-953CEA3C2E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BA9E73F-046B-425B-8A1A-E48757A6EA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77C8FC1-FECC-4DDD-8B7F-2E9E23E6C9A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BE268B-4ED5-4469-AF1A-241143A58A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353E882-5619-49BF-8A20-BA38738522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AD7730D-C035-4D46-9FD9-86B7AD067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E2D8B79-5F7C-464B-82BA-6B9C27A3A0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CC76A3B-791D-4029-9B0F-D458BD5F0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ituations in which you might want to know the implied interest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offered the following investme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500 today and receive $600 in 5 years. The investment is considered low risk.</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the $500 in a bank account paying 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lied interest rate for the first choice and which investment should you choose?</a:t>
            </a:r>
            <a:endParaRPr b="0" lang="en-US" sz="2000" spc="-1" strike="noStrike">
              <a:solidFill>
                <a:srgbClr val="000000"/>
              </a:solidFill>
              <a:latin typeface="Arial"/>
            </a:endParaRPr>
          </a:p>
          <a:p>
            <a:pPr lvl="1" marL="74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1EBC3F9-FF5D-4BFF-BCC4-F27A3DB30C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67266B-0A64-4B2F-B89C-65721912C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BD1834E-1695-4639-90FA-7B23D964C2D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D8909A-1D48-47E3-ACC3-AD409EC2B2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3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230FF40-BD3E-49E2-A6CA-E9101D0AF8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A794438-4754-4D4E-986A-DF7BE152C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523520" y="159984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00C1A42-B448-42AF-B157-4E65BC0029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1F8D83B-1DB1-4D1D-81CE-2740F36A71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151920"/>
            <a:ext cx="77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umber of Periods – Example 2 Continued</a:t>
            </a:r>
            <a:endParaRPr b="0" lang="en-US" sz="4200" spc="-1" strike="noStrike">
              <a:solidFill>
                <a:srgbClr val="000000"/>
              </a:solidFill>
              <a:latin typeface="Arial"/>
            </a:endParaRPr>
          </a:p>
        </p:txBody>
      </p:sp>
      <p:sp>
        <p:nvSpPr>
          <p:cNvPr id="135" name="PlaceHolder 2"/>
          <p:cNvSpPr>
            <a:spLocks noGrp="1"/>
          </p:cNvSpPr>
          <p:nvPr>
            <p:ph/>
          </p:nvPr>
        </p:nvSpPr>
        <p:spPr>
          <a:xfrm>
            <a:off x="1482480" y="1739880"/>
            <a:ext cx="7188120" cy="43149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1(150,000) = 15,00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5(150,000 – 15,000) = 6,75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eded = 15,000 + 6,750 = 21,750</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marL="322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 ln(21,750 / 15,000) / ln(1.075) = 5.14 years</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 financial calculator:</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V = -15,000, FV = 21,750, I/Y = 7.5, CPT N = 5.14 years</a:t>
            </a:r>
            <a:endParaRPr b="0" lang="en-US" sz="2200" spc="-1" strike="noStrike">
              <a:solidFill>
                <a:srgbClr val="000000"/>
              </a:solidFill>
              <a:latin typeface="Arial"/>
            </a:endParaRPr>
          </a:p>
          <a:p>
            <a:pPr lvl="1" marL="69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62D77AA-FE93-4296-AEE7-F231E709BF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624E464-E1DF-48F0-8266-BD31310F0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8E3796C-5FE6-4F98-A042-FA8AA042A1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9BBA425-3CC9-4A40-9870-EB1B43148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15520" y="1600200"/>
            <a:ext cx="727092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1CA0B2C-F966-4E86-8995-8027DC18ED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EB82A0A-CD81-4008-BA2A-422057C4C3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llowing formulas for TVM calculation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rate,nper,pmt,p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rate,nper,pmt,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nper,pmt,pv,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ER(rate,pmt,pv,fv)</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ula icon is very useful when you can’t remember the exact form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open a spreadsheet containing four different examples.</a:t>
            </a:r>
            <a:endParaRPr b="0" lang="en-US" sz="2400" spc="-1" strike="noStrike">
              <a:solidFill>
                <a:srgbClr val="000000"/>
              </a:solidFill>
              <a:latin typeface="Arial"/>
            </a:endParaRPr>
          </a:p>
        </p:txBody>
      </p:sp>
      <p:graphicFrame>
        <p:nvGraphicFramePr>
          <p:cNvPr id="142" name=""/>
          <p:cNvGraphicFramePr/>
          <p:nvPr/>
        </p:nvGraphicFramePr>
        <p:xfrm>
          <a:off x="6248520" y="2514600"/>
          <a:ext cx="1104840" cy="920880"/>
        </p:xfrm>
        <a:graphic>
          <a:graphicData uri="http://schemas.openxmlformats.org/presentationml/2006/ole">
            <p:oleObj progId="Excel.Sheet.12" r:id="rId1" spid="">
              <p:embed/>
              <p:pic>
                <p:nvPicPr>
                  <p:cNvPr id="143" name="" descr=""/>
                  <p:cNvPicPr/>
                  <p:nvPr/>
                </p:nvPicPr>
                <p:blipFill>
                  <a:blip r:embed="rId2"/>
                  <a:stretch/>
                </p:blipFill>
                <p:spPr>
                  <a:xfrm>
                    <a:off x="6248520" y="2514600"/>
                    <a:ext cx="1104840" cy="920880"/>
                  </a:xfrm>
                  <a:prstGeom prst="rect">
                    <a:avLst/>
                  </a:prstGeom>
                  <a:ln w="0">
                    <a:noFill/>
                  </a:ln>
                </p:spPr>
              </p:pic>
            </p:oleObj>
          </a:graphicData>
        </a:graphic>
      </p:graphicFrame>
      <p:sp>
        <p:nvSpPr>
          <p:cNvPr id="1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594AA23-D92E-4A0F-979C-68D7C14D8A7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BE6099-EFC9-45D2-9226-D751F1143707}"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7BC0107-502C-4478-BFA2-D2F1846C01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CDE79A6-F3D6-45E2-96EF-7F37751591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
          <p:cNvGraphicFramePr/>
          <p:nvPr/>
        </p:nvGraphicFramePr>
        <p:xfrm>
          <a:off x="1941480" y="1857240"/>
          <a:ext cx="6345360" cy="3849840"/>
        </p:xfrm>
        <a:graphic>
          <a:graphicData uri="http://schemas.openxmlformats.org/presentationml/2006/ole">
            <p:oleObj r:id="rId1" spid="">
              <p:embed/>
              <p:pic>
                <p:nvPicPr>
                  <p:cNvPr id="150" name="" descr=""/>
                  <p:cNvPicPr/>
                  <p:nvPr/>
                </p:nvPicPr>
                <p:blipFill>
                  <a:blip r:embed="rId2"/>
                  <a:stretch/>
                </p:blipFill>
                <p:spPr>
                  <a:xfrm>
                    <a:off x="1941480" y="1857240"/>
                    <a:ext cx="6345360" cy="3849840"/>
                  </a:xfrm>
                  <a:prstGeom prst="rect">
                    <a:avLst/>
                  </a:prstGeom>
                  <a:ln w="0">
                    <a:noFill/>
                  </a:ln>
                </p:spPr>
              </p:pic>
            </p:oleObj>
          </a:graphicData>
        </a:graphic>
      </p:graphicFrame>
      <p:sp>
        <p:nvSpPr>
          <p:cNvPr id="15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6B47610-2F32-4B97-99B3-10293C1DEA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CAC071D-9A28-4A0B-8B93-1C5C0812CF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p:txBody>
      </p:sp>
      <p:sp>
        <p:nvSpPr>
          <p:cNvPr id="15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5EC79E9-C040-4194-A794-D315DF142D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895D16-2DF9-4F0A-88DE-715F6004E3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DBD6B4B-E316-4F58-8945-C63C81EC84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1DF642A-EDDF-42EC-9881-A6CB201FD8B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103DBA6-8B6E-4C23-B53F-C73EAC87EA7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1E34283-3086-4487-80E8-5E7D65B5F2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6D5B205-58AE-43AC-BF6B-F5852F2EE1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FB97C1A-BA89-47CA-A9D0-9908980B66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5754BCA-BF95-4D16-BD8E-410DD6BEBD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BACC10-3588-430F-B3D2-D4F9C6B97D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513515C-3171-419C-AC6B-06F7CB4D9B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B1EBA2-FE4C-4EBC-8A41-BAC2D4376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A24CA7E-7638-47D3-85B9-45B0F8D129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5588E3-6BE0-4E4F-826F-A529820FE8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A9E0652-0F68-4CFC-A5D2-51A11C5850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BD0747C-1D05-4218-93F0-1C78D86692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mageshkumar.s</cp:lastModifiedBy>
  <dcterms:modified xsi:type="dcterms:W3CDTF">2009-02-13T05:38:53Z</dcterms:modified>
  <cp:revision>52</cp:revision>
  <dc:subject/>
  <dc:title>Introduction to Valuation: The Time Value of Money</dc:title>
</cp:coreProperties>
</file>