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092064B9-1894-4726-AD3C-C5D06A378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amount =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 the FV = 10,000 x (1.05)^5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4.5%, the FV = 10,000 x (1.045) ^ 5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n(20,000/10,000) / ln(1.05)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000/1,000)^1/20 – 1 = 7.1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9578B-0DC8-4A78-824F-1BD4822FE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096EF-D744-4650-8BB4-AC0F92B2F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6E7A0-1863-46FB-B97E-263642306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BE6EC-80DD-402D-BF42-A3454C1E0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CCC5-697C-433E-A904-58B3EA6EF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5AFD-F188-44E5-85D7-49EEA600A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FAFFE-7DA3-499E-9989-6E1823B34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C0A2E-DCD4-44A7-9BC5-EBE9724E7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33933-99AC-4718-8BA9-DD34A15D1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8EF20-C03D-4054-9118-E63DB7AA1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1A035-3AD4-46CD-811A-93C156708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CDDB2-7CD0-49C6-83A7-DF684A1E6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301760" y="1260360"/>
            <a:ext cx="5251320" cy="4302360"/>
          </a:xfrm>
          <a:prstGeom prst="rect">
            <a:avLst/>
          </a:prstGeom>
          <a:noFill/>
          <a:ln w="0">
            <a:noFill/>
          </a:ln>
        </p:spPr>
        <p:style>
          <a:lnRef idx="0"/>
          <a:fillRef idx="0"/>
          <a:effectRef idx="0"/>
          <a:fontRef idx="minor"/>
        </p:style>
        <p:txBody>
          <a:bodyPr lIns="81000" rIns="81000" tIns="40320" bIns="40320" anchor="t">
            <a:normAutofit fontScale="98000"/>
          </a:bodyPr>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 </a:t>
            </a:r>
            <a:endParaRPr b="0" lang="en-US" sz="3800" spc="-1" strike="noStrike">
              <a:solidFill>
                <a:srgbClr val="000000"/>
              </a:solidFill>
              <a:latin typeface="Times New Roman"/>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Times New Roman"/>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Times New Roman"/>
            </a:endParaRPr>
          </a:p>
        </p:txBody>
      </p:sp>
      <p:pic>
        <p:nvPicPr>
          <p:cNvPr id="50" name=""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E91FCAD-35AF-4368-966C-51F5DDE929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9"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71815BC-1F53-43D1-B751-3BDC9C5D5F7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28AF631-B03D-44E8-8ABB-281F997B47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2"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A85C99C-7EF4-4E73-8AFE-282715A69A9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C3E3D2C-0573-4868-8684-C858CB0609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6F974A9-3856-4611-875E-FF7F464D0E3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DD37722-3F06-4D59-A59A-258237093E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91C0859-D71E-4DD9-B183-9A2F4687D64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3686073-3622-4593-8082-6CEA801620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8473980-7F01-413B-A8BA-2BDD209C4B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98D1318-11DE-4080-B8EB-5F481D5C0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05BC223-B77F-4A69-836A-A3664BAE9CB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A83974A-CDEC-4CC9-8CD7-2FB2A4A2C5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ECD41E1-5A11-4DAE-8DFA-86651720357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D89A4F-DA3B-4654-A29D-66A421A3D6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10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E3AEB2A-7CB3-4AD6-B530-3464B2BE42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A281527-72DB-4ECF-AAAA-403A94B08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BAEE1B1-B85E-415A-91A1-5FDD04AE28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069C2BB-571A-4A28-B3B5-2BE6542A68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C3E466B-487B-434D-BBE3-FABC3DDF222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135B704-C921-4A1D-93DC-7875BD6C9D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3B958C6-23D0-438C-B6E5-1C41FC6F3DF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30F0437-C748-4742-A876-FF357CB12F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7C4B82C-FB4E-420D-9D66-4631760AA0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56EC77-46AB-4324-8B91-6A62B3571A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4CD201F-1332-4A6C-BBD7-223E60F200E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0629992-4938-4D07-AC59-EA149BC31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700B41E-F28C-4EC6-8DEE-372DA75BDD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8DFBE3E-8B6A-4DCA-8725-9B01C7C97A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C490DD5-49C4-46C9-BAC1-1A579962F15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1F83AC-2C74-4D33-BA18-A3CD8F0419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2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203426E-28E9-4AF3-BEF6-E0813C69449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B0A6D14-488F-4305-B40A-BCFF2B7E70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situations in which you might want to know the implied interest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offered the following investme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500 today and receive $600 in 5 years. The investment is considered low risk.</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the $500 in a bank account paying 4%.</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implied interest rate for the first choice and which investment should you choose?</a:t>
            </a:r>
            <a:endParaRPr b="0" lang="en-US" sz="2000" spc="-1" strike="noStrike">
              <a:solidFill>
                <a:srgbClr val="000000"/>
              </a:solidFill>
              <a:latin typeface="Arial"/>
            </a:endParaRPr>
          </a:p>
          <a:p>
            <a:pPr lvl="1" marL="744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12503C3-2D99-4ED1-B059-EE12928FD8A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05C8A16-672E-41B2-BB28-66AE13A1BA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15CF0B0-2CDD-44A9-8054-A5C06A4E29E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7896AA-5EBE-4B02-B281-5987DFD907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3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2F1F48B-5B5B-4EE1-9A06-2BB6BD2F99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C1B9646-C984-42E3-AB49-2F9FE96BB2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523520" y="159984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D3EACB0-89E2-4443-B5B2-E75D8C542A9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01E904A-39B4-48B3-B7ED-DE59FE40D9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151920"/>
            <a:ext cx="77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umber of Periods – Example 2 Continued</a:t>
            </a:r>
            <a:endParaRPr b="0" lang="en-US" sz="4200" spc="-1" strike="noStrike">
              <a:solidFill>
                <a:srgbClr val="000000"/>
              </a:solidFill>
              <a:latin typeface="Arial"/>
            </a:endParaRPr>
          </a:p>
        </p:txBody>
      </p:sp>
      <p:sp>
        <p:nvSpPr>
          <p:cNvPr id="135" name="PlaceHolder 2"/>
          <p:cNvSpPr>
            <a:spLocks noGrp="1"/>
          </p:cNvSpPr>
          <p:nvPr>
            <p:ph/>
          </p:nvPr>
        </p:nvSpPr>
        <p:spPr>
          <a:xfrm>
            <a:off x="1482480" y="1739880"/>
            <a:ext cx="7188120" cy="431496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1(150,000) = 15,00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5(150,000 – 15,000) = 6,75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eded = 15,000 + 6,750 = 21,750</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marL="322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 = ln(21,750 / 15,000) / ln(1.075) = 5.14 years</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a financial calculator:</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V = -15,000, FV = 21,750, I/Y = 7.5, CPT N = 5.14 years</a:t>
            </a:r>
            <a:endParaRPr b="0" lang="en-US" sz="2200" spc="-1" strike="noStrike">
              <a:solidFill>
                <a:srgbClr val="000000"/>
              </a:solidFill>
              <a:latin typeface="Arial"/>
            </a:endParaRPr>
          </a:p>
          <a:p>
            <a:pPr lvl="1" marL="69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843FADC-A4B1-4274-BD6B-47716CA0C68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E802E68-55A3-4BDA-9398-247EB8C2E5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E640464-67A3-4BC8-B88F-BED4AE1E8F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561A56B-4DC9-4366-89BC-D5E8D8EA41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15520" y="1600200"/>
            <a:ext cx="727092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F3CBE3C-01A8-4489-A008-B3A9005BF7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BFA8E6-A7F7-4634-8290-7E5ECF388C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ollowing formulas for TVM calculation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rate,nper,pmt,p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rate,nper,pmt,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nper,pmt,pv,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ER(rate,pmt,pv,fv)</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ula icon is very useful when you can’t remember the exact form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open a spreadsheet containing four different examples.</a:t>
            </a:r>
            <a:endParaRPr b="0" lang="en-US" sz="2400" spc="-1" strike="noStrike">
              <a:solidFill>
                <a:srgbClr val="000000"/>
              </a:solidFill>
              <a:latin typeface="Arial"/>
            </a:endParaRPr>
          </a:p>
        </p:txBody>
      </p:sp>
      <p:graphicFrame>
        <p:nvGraphicFramePr>
          <p:cNvPr id="142" name=""/>
          <p:cNvGraphicFramePr/>
          <p:nvPr/>
        </p:nvGraphicFramePr>
        <p:xfrm>
          <a:off x="6248520" y="2514600"/>
          <a:ext cx="1104840" cy="920880"/>
        </p:xfrm>
        <a:graphic>
          <a:graphicData uri="http://schemas.openxmlformats.org/presentationml/2006/ole">
            <p:oleObj progId="Excel.Sheet.12" r:id="rId1" spid="">
              <p:embed/>
              <p:pic>
                <p:nvPicPr>
                  <p:cNvPr id="143" name="" descr=""/>
                  <p:cNvPicPr/>
                  <p:nvPr/>
                </p:nvPicPr>
                <p:blipFill>
                  <a:blip r:embed="rId2"/>
                  <a:stretch/>
                </p:blipFill>
                <p:spPr>
                  <a:xfrm>
                    <a:off x="6248520" y="2514600"/>
                    <a:ext cx="1104840" cy="920880"/>
                  </a:xfrm>
                  <a:prstGeom prst="rect">
                    <a:avLst/>
                  </a:prstGeom>
                  <a:ln w="0">
                    <a:noFill/>
                  </a:ln>
                </p:spPr>
              </p:pic>
            </p:oleObj>
          </a:graphicData>
        </a:graphic>
      </p:graphicFrame>
      <p:sp>
        <p:nvSpPr>
          <p:cNvPr id="14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EF19230-AA43-4DB1-9828-97F0A5EFD7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74F0204-7BB5-4FAF-B610-DAA9656C5B5F}" type="slidenum">
              <a:t>3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684EC58-7EB5-4392-8B3C-F4D933B817A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D5D7C74-C52B-4024-8A36-ADC33235C1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
          <p:cNvGraphicFramePr/>
          <p:nvPr/>
        </p:nvGraphicFramePr>
        <p:xfrm>
          <a:off x="1941480" y="1857240"/>
          <a:ext cx="6345360" cy="3849840"/>
        </p:xfrm>
        <a:graphic>
          <a:graphicData uri="http://schemas.openxmlformats.org/presentationml/2006/ole">
            <p:oleObj r:id="rId1" spid="">
              <p:embed/>
              <p:pic>
                <p:nvPicPr>
                  <p:cNvPr id="150" name="" descr=""/>
                  <p:cNvPicPr/>
                  <p:nvPr/>
                </p:nvPicPr>
                <p:blipFill>
                  <a:blip r:embed="rId2"/>
                  <a:stretch/>
                </p:blipFill>
                <p:spPr>
                  <a:xfrm>
                    <a:off x="1941480" y="1857240"/>
                    <a:ext cx="6345360" cy="3849840"/>
                  </a:xfrm>
                  <a:prstGeom prst="rect">
                    <a:avLst/>
                  </a:prstGeom>
                  <a:ln w="0">
                    <a:noFill/>
                  </a:ln>
                </p:spPr>
              </p:pic>
            </p:oleObj>
          </a:graphicData>
        </a:graphic>
      </p:graphicFrame>
      <p:sp>
        <p:nvSpPr>
          <p:cNvPr id="15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21D15D4-B7B9-4EB2-8055-6E20609B8D6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83C6C8E-54E5-451A-A5EA-86D1391DCD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p:txBody>
      </p:sp>
      <p:sp>
        <p:nvSpPr>
          <p:cNvPr id="15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4E58A8D-76EA-44EA-9DF6-60E849396F0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081AC14-60A6-4E58-8243-AD1A87A487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5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8149B2D-F314-48D0-BD97-552AACFFDA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8171281-AEE0-4FCB-84DB-7869F7B60FC7}"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895035C-D8BB-40A6-B236-7037B27921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5BBFD9-6A51-4A77-B39A-66B75C0C34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8E988C0-DCB7-495F-A7C2-588B13118B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657739-746B-4A27-B090-E563F0821C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60963FF-1379-4F9E-9669-DE2B6D566AD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6A269EB-A9F2-4257-A942-A0FF9A2891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E2E2E47-625A-4A65-BD4E-CC1336AC68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0500DC3-BAF9-45C7-814B-1AE20D1E32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AE7A4C3-549F-4E7F-BEEF-DD78B71BE1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118797A-0B33-48BA-8320-6F79D23199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6" name=""/>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C427296-5FDC-4CDE-A746-538D37D6DB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97750C7-1623-4E63-A592-E9ED9A27C4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mageshkumar.s</cp:lastModifiedBy>
  <dcterms:modified xsi:type="dcterms:W3CDTF">2009-02-13T05:38:53Z</dcterms:modified>
  <cp:revision>52</cp:revision>
  <dc:subject/>
  <dc:title>Introduction to Valuation: The Time Value of Money</dc:title>
</cp:coreProperties>
</file>