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D09-B1DF-4123-A924-C819B927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7AFA-1460-4B47-8F97-1E67ABBDE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594A-7D74-46D6-9682-81879D4D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5.75% comes from a rule of thumb for the electric utility industry of adding 2% to the current 20-year U.S. T-bond yield.  At the time of this writing, that yield was about 3.75%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8F57-3E92-486D-864C-83CF91AF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E62-32AD-484A-B3B2-D1E42DAF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33C-3344-41FF-A03B-016150089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D8DD-755B-4937-BD82-B83DC4F7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B8D0-EE9A-4505-944B-9EED7A14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135B-3E56-4F1C-803D-7DD45DA3F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E509-7D87-4408-A8AB-C8CDF53C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721E-0537-4879-B60C-06A00DA3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28CB-77FD-4814-91D7-CBD95448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82E-B5FE-4F8A-9D62-ED27B9F82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64BB-CFFC-49D9-AB5A-99551D2B3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B80-3782-4375-A2C6-F24389AD1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C073-80F8-4819-AB45-B81BCA95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497-719A-4979-8C89-2A7A014B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52A3-C285-44ED-8C82-8528A3BD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7A7-8BB6-43C0-BC95-AF3B3F12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08E3-E1D5-4503-8E2B-D375DCFAF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F9DC-F0EA-48DC-B6D3-70FEA3C81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CF3-4287-4681-8E33-157DEF06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3E9D-0277-4497-B9F3-8DED6A30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413-2535-4BB9-B332-0E6C3A14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BF3-2422-40D7-9D35-9123246A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A6AD-DC56-4E94-895D-EBCE524A7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5902-F180-49E8-AA8B-CF70D27D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5E5-62C4-49AC-886B-67E27585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64B7-706D-4192-9F3A-BF46FAC04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C3A9-0C87-4C63-AA4F-BC4E2C5B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5A08-06F6-458D-8A70-9567C98D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0F2-25D7-4248-B617-A00C3991C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47FA-185E-4685-A5D0-64726824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CEFE-7054-48A5-8F04-E34C257E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F068-E788-44B7-8134-A75E03AA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B01D-89D1-4169-9D5D-26A36F4C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D7EB-6541-4FF9-AD65-CC9E3AB6F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BC02-365F-4FB2-9BFE-1DC98EF4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6FEC-5611-4A6C-993A-581A8A75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B3E8-61D6-498E-ADBC-8C5643DA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353-BCC8-4A1F-A43C-E4D95711E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76A-03BC-4ED2-92DF-9558221B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DB79-A49E-4910-9E3D-541CAECE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7A9D-71F8-4A87-B986-985F2D6E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4CA2-7AE7-4CEA-923F-D0F20BB6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224C-2FF3-4448-9B6E-571D1D76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4987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6-</a:t>
            </a:r>
            <a:fld id="{DE34E684-9D03-41B2-958E-208EF68AD6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ssmolly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nyssa.org/" TargetMode="External"/><Relationship Id="rId2" Type="http://schemas.openxmlformats.org/officeDocument/2006/relationships/hyperlink" Target="http://www.aaii.com/" TargetMode="External"/><Relationship Id="rId3" Type="http://schemas.openxmlformats.org/officeDocument/2006/relationships/hyperlink" Target="http://www.valueline.com/" TargetMode="External"/><Relationship Id="rId4" Type="http://schemas.openxmlformats.org/officeDocument/2006/relationships/hyperlink" Target="http://www.aep.com/" TargetMode="External"/><Relationship Id="rId5" Type="http://schemas.openxmlformats.org/officeDocument/2006/relationships/hyperlink" Target="http://www.intel.com/" TargetMode="External"/><Relationship Id="rId6" Type="http://schemas.openxmlformats.org/officeDocument/2006/relationships/hyperlink" Target="http://www.mcgraw-hill.com/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6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nk about the electric utility industry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9, the dividend paid by the utility company, DTE Energy Co. (DTE), was $2.12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$2.12, k = 5.75%, and g = 2%, calculate an estimated value for D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te: the actual mid-2009 stock price of DTE was $40.29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at are the possible explanations for the differenc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733840" y="3505320"/>
                <a:ext cx="3141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stimating th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n dividends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can be estimated in a number of ways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company</a:t>
            </a:r>
            <a:r>
              <a:rPr b="0" lang="ja-JP" sz="2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 historical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an industry median or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istorical Averag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pose the Broadway Joe Company paid the following dividends: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5: $1.5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8: $1.8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6: $1.7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9: $2.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7: $1.75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10: $2.20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spreadsheet below shows how to estimate historical average growth rates, using arithmetic and geometric averag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809720" y="3757680"/>
          <a:ext cx="586584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3757680"/>
                    <a:ext cx="58658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 on Equity (ROE) = Net Income / Equit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out Ratio = Proportion of earnings paid out as dividend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ention Ratio = Proportion of earnings retained fo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905120" y="1981080"/>
                <a:ext cx="59436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stainable Growth Rat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OE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Retention Ratio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OE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- Payout Rat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2009, American Electric Power (AEP) had an ROE of 10%, projected earnings per share of $2.90, and a per-share dividend of $1.64.  What was AEP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Retention rate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Sustainable growth rate?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yout ratio = $1.64 / $2.90 = .566 or 56.6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retention ratio = 1 – .566 = .434 or 43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EP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sustainable growth rate = .10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.434 = .0434, or 4.34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, Cont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AEP stock using the perpetual growth model and a discount rate of 5.75%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actual late-2009 stock price of AEP was $31.8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is case, using the sustainable growth rate to value the stock gives a reasonably poor estima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 about g and k in this exampl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916360" y="2438280"/>
                <a:ext cx="3543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34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3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1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alyzing RO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estimate a sustainable growth rate, you need the (relatively stable) dividend payout ratio and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nges in sustainable growth rate likely stem from changes in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uPont formula separates ROE into three parts (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profit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sset turnov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equity multiplier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anagers can increase the sustainable growth rate by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reasing the dividend payout ratio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profitability 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Net Income / Sal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asset efficiency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ales / Asse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debt (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Assets / Equit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295280" y="3276720"/>
                <a:ext cx="6197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 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uity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 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sset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se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uit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assumes that a firm will initially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, and thereafter, it will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ing a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erpetua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stage of growth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2287440" y="4343400"/>
                <a:ext cx="5253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68400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though the formula looks complicated, think of it as two par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1 is the present value of the first T dividends (it is the same formula we used for the constant growth mode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2 is the present value of all subsequent dividend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suppos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ssMolly.co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s a current dividend of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$5, which is expec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rin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0%, for 5 years bu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w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4%, forev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ith a discount rate of k = 10%, what is the present value of the stock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total value of $46.03 is the sum of a $14.25 present value of the first five dividends, plus a $31.78 present value of all subsequent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003400" y="1468440"/>
                <a:ext cx="605160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g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$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parate yourself from the commoners by having a goo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derstanding of these security valuation methods: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. The basic dividend discount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2. The two-stage dividend growth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3. The residual income model and free cash flow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4. Price ratio analy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Growth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in Reaction, Inc., has been growing at a phenomenal rate of 3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elieve that this rate will last for only three more yea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n, you think the rate will drop to 1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tal dividends just paid were $5 mill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quired rate of return is 2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total value of Chain Reaction, Inc.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Growth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 calculate the total dividends over the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growth perio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long run growth rate, g, the value of all the shares at Time 3 can be calculated as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x (1 + g)] / (k – g)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$10.985 x 1.10] / (0.20 – 0.10) = $120.83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2286000"/>
          <a:ext cx="6019560" cy="1584360"/>
        </p:xfrm>
        <a:graphic>
          <a:graphicData uri="http://schemas.openxmlformats.org/drawingml/2006/table">
            <a:tbl>
              <a:tblPr/>
              <a:tblGrid>
                <a:gridCol w="2332080"/>
                <a:gridCol w="36874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 Dividend: (in $m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5.00 x 1.30 = $6.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6.50 x 1.30 = $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8.45 x 1.30 = $1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Growth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determine the present value of the firm today, we need the present value of $120.835 and the present value of the dividends paid in the first 3 yea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133720" y="2666880"/>
                <a:ext cx="4957560" cy="29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5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5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$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$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8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 mill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TextBox 5"/>
          <p:cNvSpPr/>
          <p:nvPr/>
        </p:nvSpPr>
        <p:spPr>
          <a:xfrm>
            <a:off x="838080" y="5943600"/>
            <a:ext cx="76201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there are 20 million shares outstanding, the price per share is $4.3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hain Reaction, Inc., we assumed a supernormal growth rate of 30 percent per year for three years, and then growth at a perpetual 10 percen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s more likely to start at a high level and then fall over time until reaching its perpetual leve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ny possible ways to assume how the growth rate decline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popular way is the H-model: which assumes a linear growth rate declin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revisit Chain Reaction, Inc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growth rate begins at 30% and reaches 10% in year 4 and beyond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H-model, we would assume that the company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growth rate would decline by 20% from the end of year 1 to the beginning of year 4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we assume a linear declin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owth rate falls by 6.67% per year (20%/3 years)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Growth estimates would be: 30%, 23.33%, 16.66%, and 10%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se growth estimates, you will find that the firm value is $75.93 million, or $3.80 per share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value is lower than before because of the lower growth rates in years 2 and 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scount Rates for </a:t>
            </a:r>
            <a:br>
              <a:rPr sz="3500"/>
            </a:b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scount rate for a stock can be estimated using 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ital asset pricing model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M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discuss the CAPM in a later chapter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we can estimate the discount rate for a stock using this formula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Discount rate = time value of money + risk premium =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U.S. T-bill Rate + (Stock Beta x Stock Market Risk Premium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5197320"/>
          <a:ext cx="7162920" cy="1433520"/>
        </p:xfrm>
        <a:graphic>
          <a:graphicData uri="http://schemas.openxmlformats.org/drawingml/2006/table">
            <a:tbl>
              <a:tblPr/>
              <a:tblGrid>
                <a:gridCol w="3273480"/>
                <a:gridCol w="38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-bill Rat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90-day U.S. T-b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tock Be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relative to an average 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  <a:ea typeface="ＭＳ Ｐゴシック"/>
                        </a:rPr>
                        <a:t>Stock Market Risk Premiu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premium for an average stock</a:t>
                      </a:r>
                      <a:r>
                        <a:rPr b="0" lang="en-US" sz="1800" spc="-1" strike="noStrike" baseline="-25000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3059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stant Perpetual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mple to comput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nstant perpetual growth is often an unrealistic assump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wo-Stage Dividend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re realistic in that it accounts for two stages of growth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the first stag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have valued only companies that pay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t, there are many companies that do not pay dividend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about them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turns out that there is an elegant way to value these companies, too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model is called the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sidual Income Model (RIM)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method for valuing stock in a company that does not pay dividen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t is also called Economic Value adde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nancial performance measure based on the difference between a firm’s actual earnings and required earning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= EPS – REPS = EPS- B*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puts neede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per share at time 0, 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ok value per share at time 0, 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growth rate, g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, 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equivalent formulas for the Residual Income Model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447920" y="4343400"/>
                <a:ext cx="27050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8"/>
          <p:cNvSpPr/>
          <p:nvPr/>
        </p:nvSpPr>
        <p:spPr>
          <a:xfrm>
            <a:off x="5715000" y="4572000"/>
            <a:ext cx="2819520" cy="119124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TW, it turns out that the RIM is mathematically the same as the constant perpetual growth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examine the methods commonly used by financial analysts to assess the economic value of common stock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se methods are grouped into four categori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esidual Income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ice ratio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ing the Residual Income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ckwall—Alco Stores, Inc. (DUCK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is July 1, 2010—shares are selling in the market for $10.94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RIM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1.2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V = 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5.886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g = 0.09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k = .13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bout the market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ce of DUCK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90880" y="3505320"/>
                <a:ext cx="4295880" cy="24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6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8</m:t>
                            </m:r>
                            <m:r>
                              <m:t xml:space="preserve">−</m:t>
                            </m:r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Growth of DUCK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information from the previous slide, what growth rate results in a DUCK price of $10.94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2743200" y="2550960"/>
                <a:ext cx="4076640" cy="37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6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52</m:t>
                        </m:r>
                      </m:e>
                      <m:e/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7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g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48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2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4g</m:t>
                        </m:r>
                      </m:e>
                      <m:e/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5 or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value companies that do not pay dividends using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We assume positive earnings when we use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t, there are companies that do not pay dividends and have negative earning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egative earnings = little valu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lculate earnings based on accounting rules and tax cod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possible that a company ha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negative earning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positive cash flow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a positive value. 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—the key to understand how a company can have negative earnings and positive cash flow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reduces earnings because it is counted as an expense (more expenses = lower taxes paid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stock analysts, however, use a relatively simple formula to calculate Free Cash Flow, FCF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CF = Net Income + Depreciation – Capital Spending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see that it is possible for: Net Income &lt; 0 and FCF &gt; 0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and Capital Spending matter in FCF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DMs Versus FC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6091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DMs calculate a value of the equity onl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dividends, a cash flow only to equity holde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the CAPM to estimate required retur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an equity beta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sing the FCF model, we calculate a value for the fir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can be paid to debt holders and to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n still calculate the value of equity using FCF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lculate the value of the entire firm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ubtract out the value of debt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need a beta for assets, not the equity,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Beta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sset betas measure the risk of the company</a:t>
            </a:r>
            <a:r>
              <a:rPr b="0" lang="ja-JP" sz="22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 industry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rms in an industry should have about the same asset beta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ir equity betas, however, could be quite differ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Investors can increase portfolio risk by using margin (i.e., borrowing money to buy stock).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A business can increase risk by using debt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o, to value the company, we must </a:t>
            </a:r>
            <a:r>
              <a:rPr b="0" lang="ja-JP" sz="22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onvert</a:t>
            </a:r>
            <a:r>
              <a:rPr b="0" lang="ja-JP" sz="22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reported equity betas into asset betas by adjusting for leverag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following conversion formula is widely used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What happens when a firm has no debt?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6"/>
          <p:cNvGrpSpPr/>
          <p:nvPr/>
        </p:nvGrpSpPr>
        <p:grpSpPr>
          <a:xfrm>
            <a:off x="2666880" y="4800600"/>
            <a:ext cx="5867640" cy="1359000"/>
            <a:chOff x="2666880" y="4800600"/>
            <a:chExt cx="5867640" cy="1359000"/>
          </a:xfrm>
        </p:grpSpPr>
        <mc:AlternateContent>
          <mc:Choice xmlns:a14="http://schemas.microsoft.com/office/drawing/2010/main" Requires="a14">
            <p:sp>
              <p:nvSpPr>
                <p:cNvPr id="225" name="Object 1"/>
                <p:cNvSpPr txBox="1"/>
                <p:nvPr/>
              </p:nvSpPr>
              <p:spPr>
                <a:xfrm>
                  <a:off x="2666880" y="4800600"/>
                  <a:ext cx="4359960" cy="91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uit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set</m:t>
                          </m:r>
                        </m:sub>
                      </m:sSub>
                      <m:r>
                        <m:t xml:space="preserve">×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eb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quity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26" name="Group 15"/>
            <p:cNvGrpSpPr/>
            <p:nvPr/>
          </p:nvGrpSpPr>
          <p:grpSpPr>
            <a:xfrm>
              <a:off x="6781320" y="5410080"/>
              <a:ext cx="1753200" cy="749520"/>
              <a:chOff x="6781320" y="5410080"/>
              <a:chExt cx="1753200" cy="749520"/>
            </a:xfrm>
          </p:grpSpPr>
          <p:sp>
            <p:nvSpPr>
              <p:cNvPr id="227" name="TextBox 6"/>
              <p:cNvSpPr/>
              <p:nvPr/>
            </p:nvSpPr>
            <p:spPr>
              <a:xfrm>
                <a:off x="7467840" y="5791320"/>
                <a:ext cx="10666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x ra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Straight Arrow Connector 14"/>
              <p:cNvCxnSpPr>
                <a:stCxn id="227" idx="1"/>
              </p:cNvCxnSpPr>
              <p:nvPr/>
            </p:nvCxnSpPr>
            <p:spPr>
              <a:xfrm flipH="1" flipV="1">
                <a:off x="6781320" y="5410080"/>
                <a:ext cx="686520" cy="567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FCF Approach, Exampl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estimate of FCF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Net Income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preciation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pital Expenditur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growth rate of FCF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proper discount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culate value using a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mula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ecause we are using FCF, not divide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aluing Landon Air: A New Airlin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estimate of FC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Net Income: $25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preciation: $10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apital Expenditures: $3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Growth rate of FCF: 3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: 35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: .40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: 1.2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et Beta: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[1+.4 x (1-.35)]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1.2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= 0.95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roper discount rate: k = 4.00 + (7.00 × 0.95) = 10.65%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502600" y="1371600"/>
            <a:ext cx="3160080" cy="1191240"/>
          </a:xfrm>
          <a:prstGeom prst="rect">
            <a:avLst/>
          </a:prstGeom>
          <a:solidFill>
            <a:srgbClr val="f5ea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-free rate =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isk premium =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362480" y="3492360"/>
                <a:ext cx="4476600" cy="22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Basic DDM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andon Air Valu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-3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5-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4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millio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f Landon Air has $100 in debt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alue of the equity is $3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mill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Value per shar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3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million / number of shar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earnings ratio (P/E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annual earnings per share (EPS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arnings yiel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verse of the P/E ratio: earnings divided by price (E/P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igh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rowth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while low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value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amental analysi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term for studying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accounting statements and other financial and economic information to estimate the economic value of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stock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asic idea is to identify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dervalued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stocks to buy and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vervalued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stocks to sel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practice however, such stocks may in fact be correctly priced for reasons not immediately apparent to the analys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cash flow ratio (P/CF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current cash flow per shar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 this context, cash flow is usually taken to be net income plu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depreciation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st analysts agree that in examining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financial performance, cash flow can be more informative than net income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and cash flows that are far from each other may be a signal of poor quality earning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sales ratio (P/S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urrent stock price divided by annual sales per sha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high P/S ratio suggests high sales growth, while a low P/S ratio suggests sluggish sales growth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book ratio (P/B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rket value of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common stock divided  by its book (accounting) value of equ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ratio bigger than 1.0 indicates that the firm is creating value for its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Earning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2952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Earnings (P/E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E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8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historical P/E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ed 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20.9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$.9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8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Cash Flow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09480" y="15238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Cash Flow (P/CF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CF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8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F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7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  historical P/CF 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jected CFP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10.8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1.7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066680" y="3962520"/>
            <a:ext cx="7543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Sale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85800" y="1371600"/>
            <a:ext cx="8077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Sales (P/S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S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.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historical P/S rat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projected 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2.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3.1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6.7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143000" y="3809880"/>
            <a:ext cx="754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 Analysis of th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McGraw-Hill Company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676520" y="1676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contain a financial analysis of the McGraw-Hill Company, using data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 Line Investment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2" name="Picture 5" descr="ch6_1"/>
          <p:cNvPicPr/>
          <p:nvPr/>
        </p:nvPicPr>
        <p:blipFill>
          <a:blip r:embed="rId1"/>
          <a:stretch/>
        </p:blipFill>
        <p:spPr>
          <a:xfrm>
            <a:off x="1447920" y="1371600"/>
            <a:ext cx="65959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4" name="Picture 5" descr="ch6_2"/>
          <p:cNvPicPr/>
          <p:nvPr/>
        </p:nvPicPr>
        <p:blipFill>
          <a:blip r:embed="rId1"/>
          <a:stretch/>
        </p:blipFill>
        <p:spPr>
          <a:xfrm>
            <a:off x="1066680" y="1295280"/>
            <a:ext cx="735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ased on the CAPM,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4.0% + (1.2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7%) = 12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ention ratio = 1 – $.90/$2.55 = .65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stainabl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.65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36.5% = 23.73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 Lin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eports a projected ROE of 36.5%)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ecaus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constant growth rate model cannot be used. (We would get a value of -$9.83 per share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1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1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 assume that </a:t>
            </a:r>
            <a:r>
              <a:rPr b="0" lang="ja-JP" sz="18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oday</a:t>
            </a:r>
            <a:r>
              <a:rPr b="0" lang="ja-JP" sz="18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January 1, 2010, g = 8.5%, and k = 12.4%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 Investment Survey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(VL), we can fill in column two (VL) of the table below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e use column one and our growth assumption for column three (CSR) of the table below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66680" y="3505320"/>
          <a:ext cx="7467840" cy="2046240"/>
        </p:xfrm>
        <a:graphic>
          <a:graphicData uri="http://schemas.openxmlformats.org/drawingml/2006/table">
            <a:tbl>
              <a:tblPr/>
              <a:tblGrid>
                <a:gridCol w="2446560"/>
                <a:gridCol w="1832040"/>
                <a:gridCol w="1723680"/>
                <a:gridCol w="14655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 of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V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CS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Beginn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4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1.9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nd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7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6.45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140"/>
          <p:cNvSpPr/>
          <p:nvPr/>
        </p:nvSpPr>
        <p:spPr>
          <a:xfrm>
            <a:off x="533520" y="57150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7"/>
          <p:cNvGrpSpPr/>
          <p:nvPr/>
        </p:nvGrpSpPr>
        <p:grpSpPr>
          <a:xfrm>
            <a:off x="4903920" y="4419360"/>
            <a:ext cx="3935160" cy="2003760"/>
            <a:chOff x="4903920" y="4419360"/>
            <a:chExt cx="3935160" cy="2003760"/>
          </a:xfrm>
        </p:grpSpPr>
        <mc:AlternateContent>
          <mc:Choice xmlns:a14="http://schemas.microsoft.com/office/drawing/2010/main" Requires="a14">
            <p:sp>
              <p:nvSpPr>
                <p:cNvPr id="262" name="Object 142"/>
                <p:cNvSpPr txBox="1"/>
                <p:nvPr/>
              </p:nvSpPr>
              <p:spPr>
                <a:xfrm>
                  <a:off x="5486400" y="5514840"/>
                  <a:ext cx="127944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8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145"/>
                <p:cNvSpPr txBox="1"/>
                <p:nvPr/>
              </p:nvSpPr>
              <p:spPr>
                <a:xfrm>
                  <a:off x="6858000" y="5514840"/>
                  <a:ext cx="126828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8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146"/>
                <p:cNvSpPr txBox="1"/>
                <p:nvPr/>
              </p:nvSpPr>
              <p:spPr>
                <a:xfrm>
                  <a:off x="4903920" y="6095880"/>
                  <a:ext cx="311472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Plug</m:t>
                      </m:r>
                      <m:r>
                        <m:rPr>
                          <m:lit/>
                          <m:nor/>
                        </m:rP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955-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558 -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Line 152"/>
            <p:cNvSpPr/>
            <p:nvPr/>
          </p:nvSpPr>
          <p:spPr>
            <a:xfrm flipV="1">
              <a:off x="7696080" y="5105520"/>
              <a:ext cx="0" cy="3808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53"/>
            <p:cNvSpPr/>
            <p:nvPr/>
          </p:nvSpPr>
          <p:spPr>
            <a:xfrm flipV="1">
              <a:off x="6324480" y="4419360"/>
              <a:ext cx="838440" cy="10666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4"/>
            <p:cNvSpPr/>
            <p:nvPr/>
          </p:nvSpPr>
          <p:spPr>
            <a:xfrm>
              <a:off x="8229600" y="6248520"/>
              <a:ext cx="609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55"/>
            <p:cNvSpPr/>
            <p:nvPr/>
          </p:nvSpPr>
          <p:spPr>
            <a:xfrm flipH="1" flipV="1">
              <a:off x="7924680" y="4647960"/>
              <a:ext cx="914400" cy="160020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vidend Discount Model (DDM)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method to estimate the value of a share of stock by discounting all expected future dividend payments.  The basic DDM equation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DDM equation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present value of all future divide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= the dividend to be paid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 from n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appropriate risk-adjusted discount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259000" y="2806560"/>
                <a:ext cx="5486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4077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CSR assumption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numbers for EPS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2.55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7.05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5.95; and using the actual change in book value instead of an estimate of the new book value, (i.e.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=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x k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5145120" y="1353960"/>
                <a:ext cx="352584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5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5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5248440" y="4032360"/>
                <a:ext cx="31035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-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5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Text Box 8"/>
          <p:cNvSpPr/>
          <p:nvPr/>
        </p:nvSpPr>
        <p:spPr>
          <a:xfrm>
            <a:off x="914400" y="2743200"/>
            <a:ext cx="3276720" cy="58068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ck price at the time = $28.73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an we sa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762120" y="3657600"/>
            <a:ext cx="78483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, IV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733320" y="2590920"/>
            <a:ext cx="7953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220400"/>
            <a:ext cx="8305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yssa.org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 (The New York Society of Security Analyst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aii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American Association of Individual Investor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valueline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home of the Value Line Investment Survey)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ebsites for some companies analyzed in this chapter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aep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nte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cgraw-hil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Dividend Growth Rate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Perpetual Growt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the Constant Perpetual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s for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bservations on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sidual Income Model (RIM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Ratio Analysi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Earning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Cash Flow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Sale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Book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Price Ratio Analysi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nalysis of the McGraw-Hill Compan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that a stock will pay three annual dividends of $200 per year, and the appropriate risk-adjusted discount rate, k, is 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case, what is the value of the stock today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74760" y="3876840"/>
                <a:ext cx="563256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00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that the dividends will grow at a constant growth rate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.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ividend in the next period, (t + 1), is: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constant dividend growth for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years, the DDM formula becom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2013120" y="4638600"/>
                <a:ext cx="38210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g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if k 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 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if 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2209680" y="2286000"/>
                <a:ext cx="4422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,  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current dividend is $10, the dividend growth rate is 10%, there will be 20 yearly dividends, and the appropriate discount rate is 8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the stock, based on the constant growth rate model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2479680" y="3581280"/>
                <a:ext cx="471636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g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0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2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ssuming that the dividends will grow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forever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a constant growth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onstant perpetual dividend growth, the DDM formula becom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492200" y="4255920"/>
                <a:ext cx="59515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mportant:</m:t>
                    </m:r>
                    <m:r>
                      <m:rPr>
                        <m:lit/>
                        <m:nor/>
                      </m:rPr>
                      <m:t xml:space="preserve">  g</m:t>
                    </m:r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Nouf Alabdulkarim</cp:lastModifiedBy>
  <dcterms:modified xsi:type="dcterms:W3CDTF">2015-11-18T17:56:42Z</dcterms:modified>
  <cp:revision>108</cp:revision>
  <dc:subject/>
  <dc:title>Slide 1</dc:title>
</cp:coreProperties>
</file>